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02B8-02FB-498E-90B5-0F9AFEF9173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3844-40F3-4022-BC31-8922E756B6E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BF55-62C6-4D0E-9C89-BEAB37641EB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0EF-3D6B-443C-BD3D-0A4AD4A4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EB0-7E66-422D-9CF0-485BC476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2EA-14E6-4A50-BE19-55A3569D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BC9-E1AC-42F6-ADF2-A8DB4E27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C9A5-2A93-4A93-A574-DD46A023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D913-F173-4E7F-B24F-5D895924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F90E-1CC0-4623-9F0A-028E8E81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F888-B2FB-4983-BA5C-1E3E5AE4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F06A-7C0B-4771-BA5E-56383C95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28AE-B040-4874-8779-4A5C5953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2FD7-692E-4814-93A3-66C32B0E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43B-FF56-411F-9282-032FFF3F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2FDD-AB0A-4063-9140-A0B87EF3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4EE5-4CA6-4A89-82B8-46A902A2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5879-35C1-4B59-8DA3-D583A04D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E6DC-C179-4B03-8A78-B961D98F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CA81-F6DF-466D-BA81-39471037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6A558-590E-4820-9B3A-FC8B7E54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AD74B-0AE1-42DF-87CB-B8F12C56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7EACC-DBBF-492C-B1A1-238F4131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C419-FE27-49FF-954A-957AD6E3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C0CB-602E-42CE-8B93-DAC668B6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10D-952B-41DF-8D01-4E84E96B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868A-3808-4E79-B718-CE8A37D3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47CF-AC82-47EE-A059-3412D65C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6B29F-8D0B-418E-9CA7-8DC4B2FB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F723-C729-4DFC-9E69-55DC945E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EA58-7F05-4242-A3AD-82EFA608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15DCA-6A66-4AFA-B11A-30B4658F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59B49-0870-4A1F-9883-7DB5714E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B1F6-5F9F-4A55-B97B-B62A3951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35B6F-ED90-4EEC-A9A6-2D6479DE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83C4A-64CC-474F-89A3-7D1FF8A9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F76-6317-4739-B862-DE9D2A8A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26ED-57AA-4244-9D43-0F41F294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1DCC-88DF-4DF7-BDF4-803442C8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310F-BE83-433F-B16B-8AD16F73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42A0F-198C-4AB9-9DB6-6BDB5D1D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0ACC5-4A31-4A3C-8213-B9243F16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157F4-EB63-4B03-9F3E-A1A7BF5A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B5E27-A7B5-4036-B2F7-C5BD67A1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1D193-7842-4DA6-BDCD-4B41DEDE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BF99D-DE1B-4B5A-A413-83529B9E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A3434-2448-4E25-A29E-F8D6D642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918-83E4-420A-A651-5EA5A903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5CAE2-DAED-46AA-9CA2-C7E2CC02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DA35A-E53D-457C-9233-C03F54F8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D2C4F-8C17-471B-B678-3B360A89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B0B11-41C0-471A-9BEF-8A9C0307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BD722-905D-4B01-B437-63C1A5A4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07A20-5AD9-4FD8-95BD-A495E9D0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F8DBB-73B9-4E36-88C0-133664E9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2F022-C76A-49ED-889E-A4DD634A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4F108-4030-4B7B-95D7-4F6B04F1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F213C-B014-4A6B-9230-E6A0469F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3A5-F16F-453E-BE00-DDD33857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512A9-43C6-406A-9A2E-2EA786DF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3D6CB-B53A-4B7A-944B-697AB420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CE7C0-A015-40F6-B641-660C6026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EF87E-D4AD-4062-9117-5C39FAD3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7B308-2158-4358-B1DB-3E486B88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E14E5-F36F-44AB-950C-DA329E63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23989-77A5-4FD2-939B-FF0866E6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71FB0-5DD0-4C52-B934-FFE7AF2B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150D9-33D6-46C3-AE89-563563AB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42414-F90E-4F2D-84B3-65E17E22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700-BFA5-4A13-8A43-35BB71E9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7A7A5-E88C-4EB2-9CBB-FD29CA8D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39563-FD86-403A-B041-B91F945F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173FC-8723-4474-9B3F-279BFA62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4098F-122D-4068-8EE4-937E51A3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DA79F-D4FE-41B8-B8BE-B6FDC338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240F4-22A0-4CC9-B69F-2138AEAC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18EB7-BFF1-4C24-87B0-DFB4B4E1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B264B-17A5-4CE3-AC7E-29FE9CAC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E4DF9-A806-4EF8-8BB8-EC26EBCD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660BD-0255-4EDB-8F35-1DB4ECAB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189-4117-401E-A244-BB8DB8B5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1DCFF-C853-4498-A550-1B0D9DEF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C3DEE-A1C6-4EAF-A4E2-A1ADB050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C7E91-5579-49BC-868D-3D679A40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CD0B8-828C-41C5-849A-D3E150D1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EE30D-3749-4B35-B14A-BA4F9043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BC9-214C-4F06-AF2D-9248C1CF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4DC8-B0DD-4880-AFA4-71931EE2B03A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BBC5-B43C-4D20-A7C4-552CCF57E668}" type="slidenum">
              <a:rPr b="0" lang="en-GB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4AC1-063F-4510-A54C-3B47D944D210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A42F-86CD-4EE8-9811-EE8ED0F43BF5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B386-78FE-429B-920E-2DC7F4332B01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EA94-E0DA-4710-9CC9-22BE4C4CFBD6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54F8-5C86-4738-95D3-A687515D3819}" type="slidenum">
              <a:rPr b="0" lang="en-GB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fzticker.de/wp-content/uploads/2009/05/fussgaenger-bussgeld-rote-ampel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3200400"/>
            <a:ext cx="6705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564b3c"/>
                </a:solidFill>
                <a:latin typeface="Century Gothic"/>
              </a:rPr>
              <a:t>Transparencia en el Sector Farmacéutico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34800" y="5715000"/>
            <a:ext cx="766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564b3c"/>
                </a:solidFill>
                <a:latin typeface="Century Gothic"/>
              </a:rPr>
              <a:t>Karen Huss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64b3c"/>
                </a:solidFill>
                <a:latin typeface="Century Gothic"/>
              </a:rPr>
              <a:t>Asesora de FIIAPP – EUROsociAL 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6b7d72"/>
                </a:solidFill>
                <a:latin typeface="Book Antiqua"/>
              </a:rPr>
              <a:t>CORRUPCIÓN - DESAFÍO DEL CONTEXTO 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76320" y="1697040"/>
            <a:ext cx="3666960" cy="4797360"/>
          </a:xfrm>
          <a:prstGeom prst="rect">
            <a:avLst/>
          </a:prstGeom>
          <a:ln w="0">
            <a:noFill/>
          </a:ln>
        </p:spPr>
      </p:pic>
      <p:grpSp>
        <p:nvGrpSpPr>
          <p:cNvPr id="342" name="Gruppieren 1"/>
          <p:cNvGrpSpPr/>
          <p:nvPr/>
        </p:nvGrpSpPr>
        <p:grpSpPr>
          <a:xfrm>
            <a:off x="3962520" y="2868480"/>
            <a:ext cx="4874760" cy="914400"/>
            <a:chOff x="3962520" y="2868480"/>
            <a:chExt cx="4874760" cy="914400"/>
          </a:xfrm>
        </p:grpSpPr>
        <p:sp>
          <p:nvSpPr>
            <p:cNvPr id="343" name="Rectangle 6"/>
            <p:cNvSpPr/>
            <p:nvPr/>
          </p:nvSpPr>
          <p:spPr>
            <a:xfrm>
              <a:off x="3977280" y="3366360"/>
              <a:ext cx="840240" cy="416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gr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bid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4917600" y="3383280"/>
              <a:ext cx="887400" cy="399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Err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6"/>
            <p:cNvSpPr/>
            <p:nvPr/>
          </p:nvSpPr>
          <p:spPr>
            <a:xfrm>
              <a:off x="5905080" y="3378960"/>
              <a:ext cx="887400" cy="4010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alt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é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6"/>
            <p:cNvSpPr/>
            <p:nvPr/>
          </p:nvSpPr>
          <p:spPr>
            <a:xfrm>
              <a:off x="6892560" y="3383280"/>
              <a:ext cx="887400" cy="399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alt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dministr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6"/>
            <p:cNvSpPr/>
            <p:nvPr/>
          </p:nvSpPr>
          <p:spPr>
            <a:xfrm>
              <a:off x="7880040" y="3383280"/>
              <a:ext cx="887400" cy="399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ác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rimi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Pfeil nach links und rechts 12"/>
            <p:cNvSpPr/>
            <p:nvPr/>
          </p:nvSpPr>
          <p:spPr>
            <a:xfrm>
              <a:off x="3977280" y="2901600"/>
              <a:ext cx="4849200" cy="370800"/>
            </a:xfrm>
            <a:prstGeom prst="leftRightArrow">
              <a:avLst>
                <a:gd name="adj1" fmla="val 46065"/>
                <a:gd name="adj2" fmla="val 11122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7f7f7f"/>
                  </a:solidFill>
                  <a:latin typeface="Century Gothic"/>
                </a:rPr>
                <a:t>Líneas borros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Gleichschenkliges Dreieck 13"/>
            <p:cNvSpPr/>
            <p:nvPr/>
          </p:nvSpPr>
          <p:spPr>
            <a:xfrm rot="16200000">
              <a:off x="3974400" y="2856240"/>
              <a:ext cx="405360" cy="4294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Gleichschenkliges Dreieck 14"/>
            <p:cNvSpPr/>
            <p:nvPr/>
          </p:nvSpPr>
          <p:spPr>
            <a:xfrm rot="5400000">
              <a:off x="8419680" y="2885040"/>
              <a:ext cx="405360" cy="42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 txBox="1"/>
          <p:nvPr/>
        </p:nvSpPr>
        <p:spPr>
          <a:xfrm>
            <a:off x="3846600" y="1828800"/>
            <a:ext cx="510696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64b3c"/>
                </a:solidFill>
                <a:latin typeface="Century Gothic"/>
              </a:rPr>
              <a:t>“</a:t>
            </a:r>
            <a:r>
              <a:rPr b="1" lang="en-GB" sz="2000" spc="-1" strike="noStrike">
                <a:solidFill>
                  <a:srgbClr val="564b3c"/>
                </a:solidFill>
                <a:latin typeface="Century Gothic"/>
              </a:rPr>
              <a:t>Corrupción: abuso del poder encomendado para fines privados”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550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476"/>
              </a:spcBef>
              <a:buClr>
                <a:srgbClr val="cf54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476"/>
              </a:spcBef>
              <a:buClr>
                <a:srgbClr val="cf54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564b3c"/>
                </a:solidFill>
                <a:latin typeface="Century Gothic"/>
              </a:rPr>
              <a:t>No todo lo ilegal es ilegítimo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564b3c"/>
                </a:solidFill>
                <a:latin typeface="Century Gothic"/>
              </a:rPr>
              <a:t>No todo lo ilegítimo es ilegal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564b3c"/>
                </a:solidFill>
                <a:latin typeface="Century Gothic"/>
              </a:rPr>
              <a:t>Líneas borrosas entre prácticas socialmente aceptadas y faltas éticas o delitos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476"/>
              </a:spcBef>
              <a:buClr>
                <a:srgbClr val="93a2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6b7d72"/>
                </a:solidFill>
                <a:latin typeface="Book Antiqua"/>
              </a:rPr>
              <a:t>TRANSPARENCIA Y ANTI-CORRUPCIÓN</a:t>
            </a:r>
            <a:br>
              <a:rPr sz="2500"/>
            </a:br>
            <a:r>
              <a:rPr b="1" lang="es-CO" sz="2500" spc="-1" strike="noStrike">
                <a:solidFill>
                  <a:srgbClr val="6b7d72"/>
                </a:solidFill>
                <a:latin typeface="Book Antiqua"/>
              </a:rPr>
              <a:t>COMPROMISOS DE ESTADOS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7521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564b3c"/>
                </a:solidFill>
                <a:latin typeface="Century Gothic"/>
              </a:rPr>
              <a:t>Transparencia y acceso a información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Alianza para Gobierno Abierto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Leyes de acceso a información con garantías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Iniciativas de open data 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Participación y rendición de cuentas continua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564b3c"/>
                </a:solidFill>
                <a:latin typeface="Century Gothic"/>
              </a:rPr>
              <a:t>Política o plan nacional anti-corrupción</a:t>
            </a: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Transparencia activa y acceso a información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Regulación y gestión de conflictos de interés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Iniciativas con el sector privado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564b3c"/>
                </a:solidFill>
                <a:latin typeface="Century Gothic"/>
              </a:rPr>
              <a:t>Auto-regulación, programas de cumplimiento y ética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564b3c"/>
                </a:solidFill>
                <a:latin typeface="Century Gothic"/>
              </a:rPr>
              <a:t>Regulación del lobby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Planes anti-corrupción institucional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476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erade Verbindung 2"/>
          <p:cNvSpPr/>
          <p:nvPr/>
        </p:nvSpPr>
        <p:spPr>
          <a:xfrm>
            <a:off x="228600" y="1066680"/>
            <a:ext cx="8534520" cy="0"/>
          </a:xfrm>
          <a:prstGeom prst="line">
            <a:avLst/>
          </a:prstGeom>
          <a:ln w="19080">
            <a:solidFill>
              <a:srgbClr val="3c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egende mit Pfeil nach unten 5"/>
          <p:cNvSpPr/>
          <p:nvPr/>
        </p:nvSpPr>
        <p:spPr>
          <a:xfrm>
            <a:off x="1125360" y="1738440"/>
            <a:ext cx="2667240" cy="761760"/>
          </a:xfrm>
          <a:prstGeom prst="downArrowCallout">
            <a:avLst>
              <a:gd name="adj1" fmla="val 24998"/>
              <a:gd name="adj2" fmla="val 25012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Manufa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egende mit Pfeil nach unten 6"/>
          <p:cNvSpPr/>
          <p:nvPr/>
        </p:nvSpPr>
        <p:spPr>
          <a:xfrm>
            <a:off x="1125360" y="2576520"/>
            <a:ext cx="2667240" cy="762120"/>
          </a:xfrm>
          <a:prstGeom prst="downArrowCallout">
            <a:avLst>
              <a:gd name="adj1" fmla="val 24987"/>
              <a:gd name="adj2" fmla="val 25001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Reg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egende mit Pfeil nach unten 7"/>
          <p:cNvSpPr/>
          <p:nvPr/>
        </p:nvSpPr>
        <p:spPr>
          <a:xfrm>
            <a:off x="1116000" y="3414600"/>
            <a:ext cx="2666880" cy="762120"/>
          </a:xfrm>
          <a:prstGeom prst="downArrowCallout">
            <a:avLst>
              <a:gd name="adj1" fmla="val 24983"/>
              <a:gd name="adj2" fmla="val 24997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Sele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egende mit Pfeil nach unten 8"/>
          <p:cNvSpPr/>
          <p:nvPr/>
        </p:nvSpPr>
        <p:spPr>
          <a:xfrm>
            <a:off x="1116000" y="4253040"/>
            <a:ext cx="2666880" cy="761760"/>
          </a:xfrm>
          <a:prstGeom prst="downArrowCallout">
            <a:avLst>
              <a:gd name="adj1" fmla="val 24995"/>
              <a:gd name="adj2" fmla="val 25009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Comp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egende mit Pfeil nach unten 9"/>
          <p:cNvSpPr/>
          <p:nvPr/>
        </p:nvSpPr>
        <p:spPr>
          <a:xfrm>
            <a:off x="1116000" y="5091120"/>
            <a:ext cx="2666880" cy="762120"/>
          </a:xfrm>
          <a:prstGeom prst="downArrowCallout">
            <a:avLst>
              <a:gd name="adj1" fmla="val 24983"/>
              <a:gd name="adj2" fmla="val 24997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egende mit Pfeil nach unten 10"/>
          <p:cNvSpPr/>
          <p:nvPr/>
        </p:nvSpPr>
        <p:spPr>
          <a:xfrm>
            <a:off x="1116000" y="5929200"/>
            <a:ext cx="2666880" cy="762120"/>
          </a:xfrm>
          <a:prstGeom prst="downArrowCallout">
            <a:avLst>
              <a:gd name="adj1" fmla="val 24983"/>
              <a:gd name="adj2" fmla="val 24997"/>
              <a:gd name="adj3" fmla="val 25000"/>
              <a:gd name="adj4" fmla="val 64977"/>
            </a:avLst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entury Gothic"/>
              </a:rPr>
              <a:t>Prescripción &amp; Disp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hteck 11"/>
          <p:cNvSpPr/>
          <p:nvPr/>
        </p:nvSpPr>
        <p:spPr>
          <a:xfrm>
            <a:off x="388800" y="6657840"/>
            <a:ext cx="33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daptado de „Many Faces of Corruption“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feld 12"/>
          <p:cNvSpPr/>
          <p:nvPr/>
        </p:nvSpPr>
        <p:spPr>
          <a:xfrm>
            <a:off x="1201320" y="1220760"/>
            <a:ext cx="21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ntos de 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feld 13"/>
          <p:cNvSpPr/>
          <p:nvPr/>
        </p:nvSpPr>
        <p:spPr>
          <a:xfrm>
            <a:off x="5177520" y="12304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Inhaltsplatzhalter 3"/>
          <p:cNvSpPr/>
          <p:nvPr/>
        </p:nvSpPr>
        <p:spPr>
          <a:xfrm>
            <a:off x="4624560" y="1738440"/>
            <a:ext cx="4340160" cy="48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mplimiiento de procesos de manufa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rtificado de análi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id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belling (Etiquet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steo de produ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álisis costo-beneficio de medic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cios y decisiones sobre reembol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isiones sobre lista de medicamentos esenc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rminación de modelo de suministro / distrib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arrollo de criterios para licita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ciones de ofert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itoreo de las ordenes de comp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robación de importa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e y entrega a establecimientos de salu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anecamiento y distribución – manejo de inventar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relaciones con profesionales de salu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os de salud ambulantes y hospitalarios - prescrip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07880" y="15228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6b7d72"/>
                </a:solidFill>
                <a:latin typeface="Book Antiqua"/>
              </a:rPr>
              <a:t>GOBERNANZA Y TRANSPARENCIA 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6b7d72"/>
                </a:solidFill>
                <a:latin typeface="Book Antiqua"/>
              </a:rPr>
              <a:t>CADENA DE VALOR </a:t>
            </a:r>
            <a:r>
              <a:rPr b="1" lang="en-GB" sz="2300" spc="-1" strike="noStrike">
                <a:solidFill>
                  <a:srgbClr val="6b7d72"/>
                </a:solidFill>
                <a:latin typeface="Book Antiqu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6 Rectángulo redondeado"/>
          <p:cNvSpPr/>
          <p:nvPr/>
        </p:nvSpPr>
        <p:spPr>
          <a:xfrm rot="16200000">
            <a:off x="-2115000" y="3556800"/>
            <a:ext cx="5400720" cy="8114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entury Gothic"/>
              </a:rPr>
              <a:t>Formulación de política, desarrollo de regulacion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entury Gothic"/>
              </a:rPr>
              <a:t>Control interno, externo &amp;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500" spc="-1" strike="noStrike">
                <a:solidFill>
                  <a:srgbClr val="6b7d72"/>
                </a:solidFill>
                <a:latin typeface="Book Antiqua"/>
              </a:rPr>
              <a:t>INICIATIVAS EN PAÍSES LAC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04920" y="17521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Colombia: estrategia de transparencia e integridad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Diagnóstico – mapa de riesgos en cadena de valor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Aumentar transparencia en instituciones, procesos y resultados de entidades claves (nacional y territorial) – INFORMACIÓN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Fortalecer gobiernos “corporativos” de instituciones claves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Promover “compliance” del sector privado con estándares de transparencia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64b3c"/>
                </a:solidFill>
                <a:latin typeface="Century Gothic"/>
              </a:rPr>
              <a:t>Fortalecer control social (incidencia, monitoreo, etc.) 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Ecuador: taller sobre transparencia en cadena de medicamentos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564b3c"/>
                </a:solidFill>
                <a:latin typeface="Century Gothic"/>
              </a:rPr>
              <a:t>Especialmente en compras y dispensación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564b3c"/>
                </a:solidFill>
                <a:latin typeface="Century Gothic"/>
              </a:rPr>
              <a:t>Transparencia = principio de política farmaceútica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Bolivia: Good Governance in Medicines (OPS)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6b7d72"/>
                </a:solidFill>
                <a:latin typeface="Book Antiqua"/>
              </a:rPr>
              <a:t>ÁREAS CLAVE PARA TRANSPARENCIA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8240" y="1752480"/>
            <a:ext cx="8534520" cy="3353040"/>
          </a:xfrm>
          <a:prstGeom prst="rect">
            <a:avLst/>
          </a:prstGeom>
          <a:noFill/>
          <a:ln w="9360">
            <a:solidFill>
              <a:srgbClr val="595959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Formulación de política y regulación (lobby, conflictos de interés, declaraciones de interés, etc.)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Precios de medicamentos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Relación industria – médico – paciente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564b3c"/>
                </a:solidFill>
                <a:latin typeface="Century Gothic"/>
              </a:rPr>
              <a:t>Gestión de recursos humanos (clientelismo, puerta giratoria)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1" name="Textfeld 4"/>
          <p:cNvSpPr/>
          <p:nvPr/>
        </p:nvSpPr>
        <p:spPr>
          <a:xfrm>
            <a:off x="152280" y="5943600"/>
            <a:ext cx="8763120" cy="76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04040"/>
                </a:solidFill>
                <a:latin typeface="Arial"/>
              </a:rPr>
              <a:t>Transparencia + acceso a información + gobierno abier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404040"/>
                </a:solidFill>
                <a:latin typeface="Arial"/>
              </a:rPr>
              <a:t>(Info            +                  derecho       +           actitud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2657520" y="5259240"/>
            <a:ext cx="344520" cy="493920"/>
          </a:xfrm>
          <a:prstGeom prst="downArrow">
            <a:avLst>
              <a:gd name="adj1" fmla="val 44444"/>
              <a:gd name="adj2" fmla="val 399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4925880" y="5276880"/>
            <a:ext cx="344520" cy="493560"/>
          </a:xfrm>
          <a:prstGeom prst="downArrow">
            <a:avLst>
              <a:gd name="adj1" fmla="val 44444"/>
              <a:gd name="adj2" fmla="val 428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62880" y="4803840"/>
            <a:ext cx="590760" cy="598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http://t2.gstatic.com/images?q=tbn:ANd9GcT4m3WcT3X_rIF0PuDaso6sGW2kbUywJK_DqkggN0nm0OIP4P5B9A"/>
          <p:cNvPicPr/>
          <p:nvPr/>
        </p:nvPicPr>
        <p:blipFill>
          <a:blip r:embed="rId3"/>
          <a:stretch/>
        </p:blipFill>
        <p:spPr>
          <a:xfrm>
            <a:off x="8467560" y="5416560"/>
            <a:ext cx="579600" cy="598320"/>
          </a:xfrm>
          <a:prstGeom prst="rect">
            <a:avLst/>
          </a:prstGeom>
          <a:ln w="0">
            <a:noFill/>
          </a:ln>
        </p:spPr>
      </p:pic>
      <p:sp>
        <p:nvSpPr>
          <p:cNvPr id="376" name="Rechteck 9"/>
          <p:cNvSpPr/>
          <p:nvPr/>
        </p:nvSpPr>
        <p:spPr>
          <a:xfrm>
            <a:off x="8391600" y="4724280"/>
            <a:ext cx="752400" cy="137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6b7d72"/>
                </a:solidFill>
                <a:latin typeface="Book Antiqua"/>
              </a:rPr>
              <a:t>ÁREAS DE ACCIÓN </a:t>
            </a:r>
            <a:br>
              <a:rPr sz="2500"/>
            </a:br>
            <a:r>
              <a:rPr b="1" lang="es-CO" sz="2500" spc="-1" strike="noStrike">
                <a:solidFill>
                  <a:srgbClr val="6b7d72"/>
                </a:solidFill>
                <a:latin typeface="Book Antiqua"/>
              </a:rPr>
              <a:t>EUROSOCIAL 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560" y="17521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564b3c"/>
                </a:solidFill>
                <a:latin typeface="Century Gothic"/>
              </a:rPr>
              <a:t>Transparencia y acceso a la información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Capacitación en implementación de leyes de acceso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Asesorías técnicas para directrices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564b3c"/>
                </a:solidFill>
                <a:latin typeface="Century Gothic"/>
              </a:rPr>
              <a:t>Rol del sector privado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Mecanismos de auto-regulación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Programas de cumplimiento y ética empresarial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564b3c"/>
                </a:solidFill>
                <a:latin typeface="Century Gothic"/>
              </a:rPr>
              <a:t>Sistemas de denuncia y protección a denunciant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564b3c"/>
                </a:solidFill>
                <a:latin typeface="Century Gothic"/>
              </a:rPr>
              <a:t>Mecanismos de denuncias administrativas – p.e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7:52:10Z</dcterms:created>
  <dc:creator>user</dc:creator>
  <dc:description/>
  <dc:language>en-US</dc:language>
  <cp:lastModifiedBy>Karen Hussmann</cp:lastModifiedBy>
  <cp:lastPrinted>2013-05-10T02:36:26Z</cp:lastPrinted>
  <dcterms:modified xsi:type="dcterms:W3CDTF">2013-05-10T02:36:47Z</dcterms:modified>
  <cp:revision>228</cp:revision>
  <dc:subject/>
  <dc:title>Slide 1</dc:title>
</cp:coreProperties>
</file>