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C54B-157D-442A-B118-41E476C2AB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F01-0662-4B7C-B4DE-C6D85BBD26D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C321-9A30-4BDE-89AB-F277356F81F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BB6-9ADC-4C94-ACDF-98FEF018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48D-BF0F-4A38-A278-D9A0390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6EC-837C-47FD-AB32-15906F84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CC1-73EF-4D97-ABCB-49828E17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51E-1565-4008-8877-526E0523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4DD3-662E-4C44-A11F-A7A46A4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23F6-8451-4B74-8473-F4D0481C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4333-4C97-41F3-AAFE-05C82167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D62D-BB82-4D5F-8BBD-DC8C680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8E93-9D37-49AE-8EF4-0C1EC583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8084-F5F3-47EF-A0A9-43675AC7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7A4-5F42-45AA-A828-76648380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772D-3657-4EDC-AD03-ABB2400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D897-862F-4A9A-86F7-1E5DF95D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E701-7318-4A87-8A97-C861A326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BBCB-7BBC-4031-99FD-F544950B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6500-FBB1-402F-9C29-C8FC47CF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02E2-6F19-4568-A9D8-54E12904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0235-0F88-4F45-9C4B-035E41BB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E58F-CDCC-4015-956F-1F44D880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00DC-6ED8-4CF3-BFB1-C28D08E7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908C-1AF1-49E0-98E8-3C2E1B95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FF9-C265-4EEC-8206-A172B52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5068-79B1-46E2-A2EE-4845DC0E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B701-2DE3-4545-BB93-F972889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C8CF-222D-41B1-91A9-B761CF1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A47D-3CDD-4AFB-8464-86EF10F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96E0-EC5A-487A-8A7B-488DC237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3A8A-969D-4522-955F-E982C93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0583-5BB2-4130-A1DC-9B79E321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2AC7-66F8-4C2C-BBC0-78605482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FD8B-C3A1-4697-9455-4DD8940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769E-247B-4A5F-9F42-51E0143F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846-5273-4418-9746-E0C176F8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E5B5-3478-4327-88EA-D214A711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DC2A-EFF9-4008-AD8B-D2C4E538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953B-1978-4DA9-B6F7-E577CC9C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2E471-5B5E-4A34-A83B-0E19A3A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971A-3FE4-4454-9E44-DC4C428F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FAB7-273B-490D-9F2C-FD1C35F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C6B0-005D-452D-A6BE-1F3B6FDE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9626-55E1-4DBD-950A-02E0FC0F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1F46-F78C-43E6-904F-B70C292B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3A3B-84EA-4A1B-85E0-AAB572A1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D11-655E-4140-8BB3-10D416C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20F7-6A0B-4AE4-9F69-7222D7E7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55EB-EE5C-4E50-BC77-26A32ED4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392F-258D-4312-ABB4-230E68B1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A4D7-34FC-4C6F-BE49-502D5F80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DAF32-5FCA-4F0F-AC26-CC31E505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D8E3-8798-4C63-B6A9-A395A6B7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E21FD-2D9B-457B-92CB-6840E1E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E655-1CA3-4211-93A1-C418FC71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40EE5-0379-46BC-8795-B90398C2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0F93-A863-4D51-A8D6-149C6312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65D-8971-409B-8933-AE20F38A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AE30D-DF5D-4FFD-9A7A-DC63988F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4C72C-A95F-4D33-B680-0B8FCF1F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F9864-9869-410C-A63B-4161E74D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6C600-CBB5-4031-A274-25689A7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AC4C5-A1FA-4760-9D38-9945AAFE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F3C11-C1C6-46FC-9428-20F17707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27736-30C6-4277-BD64-5619D2B1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FC411-1CB1-4E7D-80E3-D6C16CC4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3B505-2468-4E71-A632-EF45E3F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E59E0-F0D3-4A42-B0A5-C4993DE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C75-F333-4EAD-B061-AA7985D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813FA-107E-419B-A46A-950625E2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1AD72-B7C7-4ABC-AE93-77B12F96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61C13-ADA8-4CCF-B4B4-36550035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70B7C-23CF-4367-A70F-E5170523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55FE-8273-427A-930F-E78163D2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8E53D-8641-439C-BB04-271E2CA3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6C11A-AF54-4AA9-AC27-7FE14F9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A5448-6F08-4EE1-A673-0A6D80D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B1EF1-7348-4F65-BF7D-050C29B4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CE023-AC3C-42BA-A72C-5EAD1102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9A3-D9B1-44BE-B171-470FDC45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00DB-9CB7-4C70-942A-1D389B3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A71C-63AF-44E3-BDA5-302C04A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F9120-FDF7-4769-8978-6E4119A4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95BC9-1C2D-44E9-BAC9-46A00C6A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E0DD9-4C43-4FB8-8E53-8722DB60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95B-1775-4187-9707-C1F1C84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0A00-B72C-4612-8C39-58D4979C6298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4EB-C265-43BC-87B9-64F3B14A0343}" type="slidenum">
              <a:rPr b="0" lang="en-GB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D66C-463A-4A2A-9EF0-C94E19DA4DD5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D48-CD48-46A1-9B7F-8BB6BDD9CD83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9A95-243F-4234-8A16-0BB691544DDA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1AAE-E5C0-4C61-B2C3-59796837698B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8A3A-A6E7-46A6-903B-CB5D80E0C142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fzticker.de/wp-content/uploads/2009/05/fussgaenger-bussgeld-rote-ampel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564b3c"/>
                </a:solidFill>
                <a:latin typeface="Century Gothic"/>
              </a:rPr>
              <a:t>Transparencia en el Sector Farmacéutico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34800" y="5715000"/>
            <a:ext cx="766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564b3c"/>
                </a:solidFill>
                <a:latin typeface="Century Gothic"/>
              </a:rPr>
              <a:t>Karen Huss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64b3c"/>
                </a:solidFill>
                <a:latin typeface="Century Gothic"/>
              </a:rPr>
              <a:t>Asesora de FIIAPP – EUROsociAL 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6b7d72"/>
                </a:solidFill>
                <a:latin typeface="Book Antiqua"/>
              </a:rPr>
              <a:t>CORRUPCIÓN - DESAFÍO DEL CONTEXTO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76320" y="1697040"/>
            <a:ext cx="3666960" cy="47973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uppieren 1"/>
          <p:cNvGrpSpPr/>
          <p:nvPr/>
        </p:nvGrpSpPr>
        <p:grpSpPr>
          <a:xfrm>
            <a:off x="3962520" y="2868480"/>
            <a:ext cx="4874760" cy="914400"/>
            <a:chOff x="3962520" y="2868480"/>
            <a:chExt cx="4874760" cy="914400"/>
          </a:xfrm>
        </p:grpSpPr>
        <p:sp>
          <p:nvSpPr>
            <p:cNvPr id="343" name="Rectangle 6"/>
            <p:cNvSpPr/>
            <p:nvPr/>
          </p:nvSpPr>
          <p:spPr>
            <a:xfrm>
              <a:off x="3977280" y="3366360"/>
              <a:ext cx="840240" cy="41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gr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b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917600" y="3383280"/>
              <a:ext cx="887400" cy="399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5905080" y="3378960"/>
              <a:ext cx="887400" cy="4010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alt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6892560" y="3383280"/>
              <a:ext cx="887400" cy="399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alt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dministr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7880040" y="3383280"/>
              <a:ext cx="887400" cy="399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rimi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feil nach links und rechts 12"/>
            <p:cNvSpPr/>
            <p:nvPr/>
          </p:nvSpPr>
          <p:spPr>
            <a:xfrm>
              <a:off x="3977280" y="2901600"/>
              <a:ext cx="4849200" cy="370800"/>
            </a:xfrm>
            <a:prstGeom prst="leftRightArrow">
              <a:avLst>
                <a:gd name="adj1" fmla="val 46065"/>
                <a:gd name="adj2" fmla="val 11122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f7f7f"/>
                  </a:solidFill>
                  <a:latin typeface="Century Gothic"/>
                </a:rPr>
                <a:t>Líneas borros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Gleichschenkliges Dreieck 13"/>
            <p:cNvSpPr/>
            <p:nvPr/>
          </p:nvSpPr>
          <p:spPr>
            <a:xfrm rot="16200000">
              <a:off x="3974400" y="2856240"/>
              <a:ext cx="405360" cy="4294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Gleichschenkliges Dreieck 14"/>
            <p:cNvSpPr/>
            <p:nvPr/>
          </p:nvSpPr>
          <p:spPr>
            <a:xfrm rot="5400000">
              <a:off x="8419680" y="2885040"/>
              <a:ext cx="405360" cy="42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 txBox="1"/>
          <p:nvPr/>
        </p:nvSpPr>
        <p:spPr>
          <a:xfrm>
            <a:off x="3846600" y="1828800"/>
            <a:ext cx="51069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4b3c"/>
                </a:solidFill>
                <a:latin typeface="Century Gothic"/>
              </a:rPr>
              <a:t>“</a:t>
            </a:r>
            <a:r>
              <a:rPr b="1" lang="en-GB" sz="2000" spc="-1" strike="noStrike">
                <a:solidFill>
                  <a:srgbClr val="564b3c"/>
                </a:solidFill>
                <a:latin typeface="Century Gothic"/>
              </a:rPr>
              <a:t>Corrupción: abuso del poder encomendado para fines privados”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buClr>
                <a:srgbClr val="cf54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buClr>
                <a:srgbClr val="cf54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No todo lo ilegal es ilegítimo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No todo lo ilegítimo es ilegal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Líneas borrosas entre prácticas socialmente aceptadas y faltas éticas o delitos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TRANSPARENCIA Y ANTI-CORRUPCIÓN</a:t>
            </a:r>
            <a:br>
              <a:rPr sz="2500"/>
            </a:b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COMPROMISOS DE ESTADOS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564b3c"/>
                </a:solidFill>
                <a:latin typeface="Century Gothic"/>
              </a:rPr>
              <a:t>Transparencia y acceso a información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Alianza para Gobierno Abierto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Leyes de acceso a información con garantía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Iniciativas de open data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articipación y rendición de cuentas continua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564b3c"/>
                </a:solidFill>
                <a:latin typeface="Century Gothic"/>
              </a:rPr>
              <a:t>Política o plan nacional anti-corrupción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Transparencia activa y acceso a información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Regulación y gestión de conflictos de interé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Iniciativas con el sector privado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564b3c"/>
                </a:solidFill>
                <a:latin typeface="Century Gothic"/>
              </a:rPr>
              <a:t>Auto-regulación, programas de cumplimiento y ética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564b3c"/>
                </a:solidFill>
                <a:latin typeface="Century Gothic"/>
              </a:rPr>
              <a:t>Regulación del lobby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lanes anti-corrupción institucional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erade Verbindung 2"/>
          <p:cNvSpPr/>
          <p:nvPr/>
        </p:nvSpPr>
        <p:spPr>
          <a:xfrm>
            <a:off x="228600" y="1066680"/>
            <a:ext cx="8534520" cy="0"/>
          </a:xfrm>
          <a:prstGeom prst="line">
            <a:avLst/>
          </a:prstGeom>
          <a:ln w="19080">
            <a:solidFill>
              <a:srgbClr val="3c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egende mit Pfeil nach unten 5"/>
          <p:cNvSpPr/>
          <p:nvPr/>
        </p:nvSpPr>
        <p:spPr>
          <a:xfrm>
            <a:off x="1125360" y="1738440"/>
            <a:ext cx="2667240" cy="761760"/>
          </a:xfrm>
          <a:prstGeom prst="downArrowCallout">
            <a:avLst>
              <a:gd name="adj1" fmla="val 24998"/>
              <a:gd name="adj2" fmla="val 25012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Manuf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egende mit Pfeil nach unten 6"/>
          <p:cNvSpPr/>
          <p:nvPr/>
        </p:nvSpPr>
        <p:spPr>
          <a:xfrm>
            <a:off x="1125360" y="2576520"/>
            <a:ext cx="2667240" cy="762120"/>
          </a:xfrm>
          <a:prstGeom prst="downArrowCallout">
            <a:avLst>
              <a:gd name="adj1" fmla="val 24987"/>
              <a:gd name="adj2" fmla="val 25001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Reg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egende mit Pfeil nach unten 7"/>
          <p:cNvSpPr/>
          <p:nvPr/>
        </p:nvSpPr>
        <p:spPr>
          <a:xfrm>
            <a:off x="1116000" y="341460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Sel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egende mit Pfeil nach unten 8"/>
          <p:cNvSpPr/>
          <p:nvPr/>
        </p:nvSpPr>
        <p:spPr>
          <a:xfrm>
            <a:off x="1116000" y="4253040"/>
            <a:ext cx="2666880" cy="761760"/>
          </a:xfrm>
          <a:prstGeom prst="downArrowCallout">
            <a:avLst>
              <a:gd name="adj1" fmla="val 24995"/>
              <a:gd name="adj2" fmla="val 25009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Comp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egende mit Pfeil nach unten 9"/>
          <p:cNvSpPr/>
          <p:nvPr/>
        </p:nvSpPr>
        <p:spPr>
          <a:xfrm>
            <a:off x="1116000" y="509112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egende mit Pfeil nach unten 10"/>
          <p:cNvSpPr/>
          <p:nvPr/>
        </p:nvSpPr>
        <p:spPr>
          <a:xfrm>
            <a:off x="1116000" y="592920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Prescripción &amp; Disp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hteck 11"/>
          <p:cNvSpPr/>
          <p:nvPr/>
        </p:nvSpPr>
        <p:spPr>
          <a:xfrm>
            <a:off x="388800" y="6657840"/>
            <a:ext cx="33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aptado de „Many Faces of Corruption“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feld 12"/>
          <p:cNvSpPr/>
          <p:nvPr/>
        </p:nvSpPr>
        <p:spPr>
          <a:xfrm>
            <a:off x="1201320" y="1220760"/>
            <a:ext cx="21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nto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feld 13"/>
          <p:cNvSpPr/>
          <p:nvPr/>
        </p:nvSpPr>
        <p:spPr>
          <a:xfrm>
            <a:off x="5177520" y="12304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haltsplatzhalter 3"/>
          <p:cNvSpPr/>
          <p:nvPr/>
        </p:nvSpPr>
        <p:spPr>
          <a:xfrm>
            <a:off x="4624560" y="1738440"/>
            <a:ext cx="434016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mplimiiento de procesos de manufa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tificado de análi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belling (Etiquet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eo de produ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álisis costo-beneficio de medic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cios y decisiones sobre reembol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isiones sobre lista de medicamentos esenc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rminación de modelo de suministro / distrib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arrollo de criterios para licita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ciones de ofert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itoreo de las ordenes de comp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obación de importa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e y entrega a establecimientos de salu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anecamiento y distribución – manejo de invent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relaciones con profesionales de salu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os de salud ambulantes y hospitalarios - prescrip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07880" y="15228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GOBERNANZA Y TRANSPARENCIA 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CADENA DE VALOR </a:t>
            </a: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6 Rectángulo redondeado"/>
          <p:cNvSpPr/>
          <p:nvPr/>
        </p:nvSpPr>
        <p:spPr>
          <a:xfrm rot="16200000">
            <a:off x="-2115000" y="3556800"/>
            <a:ext cx="5400720" cy="8114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entury Gothic"/>
              </a:rPr>
              <a:t>Formulación de política, desarrollo de regul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entury Gothic"/>
              </a:rPr>
              <a:t>Control interno, externo &amp;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500" spc="-1" strike="noStrike">
                <a:solidFill>
                  <a:srgbClr val="6b7d72"/>
                </a:solidFill>
                <a:latin typeface="Book Antiqua"/>
              </a:rPr>
              <a:t>INICIATIVAS EN PAÍSES LAC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Colombia: estrategia de transparencia e integridad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Diagnóstico – mapa de riesgos en cadena de valor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Aumentar transparencia en instituciones, procesos y resultados de entidades claves (nacional y territorial) – INFORMACIÓN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Fortalecer gobiernos “corporativos” de instituciones claves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Promover “compliance” del sector privado con estándares de transparencia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Fortalecer control social (incidencia, monitoreo, etc.) 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Ecuador: taller sobre transparencia en cadena de medicamentos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64b3c"/>
                </a:solidFill>
                <a:latin typeface="Century Gothic"/>
              </a:rPr>
              <a:t>Especialmente en compras y dispensación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64b3c"/>
                </a:solidFill>
                <a:latin typeface="Century Gothic"/>
              </a:rPr>
              <a:t>Transparencia = principio de política farmaceútica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Bolivia: Good Governance in Medicines (OPS)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6b7d72"/>
                </a:solidFill>
                <a:latin typeface="Book Antiqua"/>
              </a:rPr>
              <a:t>ÁREAS CLAVE PARA TRANSPARENCIA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240" y="1752480"/>
            <a:ext cx="8534520" cy="335304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Formulación de política y regulación (lobby, conflictos de interés, declaraciones de interés, etc.)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recios de medicamento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Relación industria – médico – paciente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Gestión de recursos humanos (clientelismo, puerta giratoria)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1" name="Textfeld 4"/>
          <p:cNvSpPr/>
          <p:nvPr/>
        </p:nvSpPr>
        <p:spPr>
          <a:xfrm>
            <a:off x="152280" y="5943600"/>
            <a:ext cx="8763120" cy="7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040"/>
                </a:solidFill>
                <a:latin typeface="Arial"/>
              </a:rPr>
              <a:t>Transparencia + acceso a información + gobierno abi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04040"/>
                </a:solidFill>
                <a:latin typeface="Arial"/>
              </a:rPr>
              <a:t>(Info            +                  derecho       +           actitud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2657520" y="5259240"/>
            <a:ext cx="344520" cy="493920"/>
          </a:xfrm>
          <a:prstGeom prst="downArrow">
            <a:avLst>
              <a:gd name="adj1" fmla="val 44444"/>
              <a:gd name="adj2" fmla="val 399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4925880" y="5276880"/>
            <a:ext cx="344520" cy="493560"/>
          </a:xfrm>
          <a:prstGeom prst="downArrow">
            <a:avLst>
              <a:gd name="adj1" fmla="val 44444"/>
              <a:gd name="adj2" fmla="val 428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62880" y="4803840"/>
            <a:ext cx="590760" cy="598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http://t2.gstatic.com/images?q=tbn:ANd9GcT4m3WcT3X_rIF0PuDaso6sGW2kbUywJK_DqkggN0nm0OIP4P5B9A"/>
          <p:cNvPicPr/>
          <p:nvPr/>
        </p:nvPicPr>
        <p:blipFill>
          <a:blip r:embed="rId3"/>
          <a:stretch/>
        </p:blipFill>
        <p:spPr>
          <a:xfrm>
            <a:off x="8467560" y="5416560"/>
            <a:ext cx="579600" cy="5983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9"/>
          <p:cNvSpPr/>
          <p:nvPr/>
        </p:nvSpPr>
        <p:spPr>
          <a:xfrm>
            <a:off x="8391600" y="4724280"/>
            <a:ext cx="752400" cy="137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ÁREAS DE ACCIÓN </a:t>
            </a:r>
            <a:br>
              <a:rPr sz="2500"/>
            </a:b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EUROSOCIAL 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56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Transparencia y acceso a la información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Capacitación en implementación de leyes de acceso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Asesorías técnicas para directrices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Rol del sector privado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Mecanismos de auto-regulación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Programas de cumplimiento y ética empresarial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Sistemas de denuncia y protección a denunciant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Mecanismos de denuncias administrativas – p.e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7:52:10Z</dcterms:created>
  <dc:creator>user</dc:creator>
  <dc:description/>
  <dc:language>en-US</dc:language>
  <cp:lastModifiedBy>Karen Hussmann</cp:lastModifiedBy>
  <cp:lastPrinted>2013-05-10T02:36:26Z</cp:lastPrinted>
  <dcterms:modified xsi:type="dcterms:W3CDTF">2013-05-10T02:36:47Z</dcterms:modified>
  <cp:revision>228</cp:revision>
  <dc:subject/>
  <dc:title>Slide 1</dc:title>
</cp:coreProperties>
</file>