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9.wmf" ContentType="image/x-wmf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301-92E4-448E-9B94-DA6A9B51F37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E13-E226-450E-BD7B-7F71EF6C8B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083-D0B9-443D-A529-C0AA3D01FC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3AE-587F-49BE-89CF-B1BCCF1916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516-27F2-477C-B5F3-821D163C17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542-4FC9-4828-9C4C-8C59C67683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5EC-224D-43A6-BC47-C88B38E56E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95B-B49C-4E95-B990-4CDBBDC102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317-1CD6-44C3-9DE8-0C2F042D7B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A3F-3468-4097-B61F-20937B35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E12-0F4E-4C59-8308-4DB4CBEE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B8F-E059-4E2A-912D-4C986450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CC-E219-4680-B21E-410CEF90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DEC-41F7-4B3B-A95F-7C3F9DF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7E6-D189-4193-8434-264FB7F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4DE-14AB-4E62-AA4F-8C0D4A51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162-CC6F-4AFB-A74B-D74FB1F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BB4-D84C-43B9-A120-4137BEA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25E-5474-4DE6-A729-4104123E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C93-B943-415E-BDEE-0B833D0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26E-AA67-4E3C-94F8-4A16DCB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35587" t="20783" r="16311" b="14668"/>
          <a:stretch/>
        </p:blipFill>
        <p:spPr>
          <a:xfrm>
            <a:off x="27000" y="12600"/>
            <a:ext cx="9117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5EE-C0EB-40D1-B995-30FD37B5D1F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9554-5F71-4449-BA82-26CFEECF2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4357800" y="6394320"/>
            <a:ext cx="4800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C" sz="1600" spc="-1" strike="noStrike">
                <a:solidFill>
                  <a:srgbClr val="000000"/>
                </a:solidFill>
                <a:latin typeface="Arial"/>
              </a:rPr>
              <a:t>ECUADOR Dra. Rita Bedoya y Dr. Paulo T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rtada.ai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-143280" y="4500360"/>
            <a:ext cx="92869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afíos y Oportunidades para la Equidad en el Acceso a Servicios de Salud: equidad en la disponibilidad y el uso racional de medicamentos y equidad en la disponibilidad de recursos humano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571840" y="6286680"/>
            <a:ext cx="450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ECUADOR - Dra. Rita Bedoya y Dr. Paulo T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UROsociAL"/>
          <p:cNvPicPr/>
          <p:nvPr/>
        </p:nvPicPr>
        <p:blipFill>
          <a:blip r:embed="rId2"/>
          <a:stretch/>
        </p:blipFill>
        <p:spPr>
          <a:xfrm>
            <a:off x="5000760" y="928800"/>
            <a:ext cx="88236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71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428760" y="44280"/>
            <a:ext cx="79293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MODELO DE ATENC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RED PUBLICA -  RED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Rectángulo redondeado"/>
          <p:cNvSpPr/>
          <p:nvPr/>
        </p:nvSpPr>
        <p:spPr>
          <a:xfrm>
            <a:off x="357120" y="1428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IMER NIVEL DE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25 Grupo"/>
          <p:cNvGrpSpPr/>
          <p:nvPr/>
        </p:nvGrpSpPr>
        <p:grpSpPr>
          <a:xfrm>
            <a:off x="0" y="2071800"/>
            <a:ext cx="4272120" cy="3568680"/>
            <a:chOff x="0" y="2071800"/>
            <a:chExt cx="4272120" cy="3568680"/>
          </a:xfrm>
        </p:grpSpPr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071800"/>
              <a:ext cx="427212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6 Proceso alternativo"/>
            <p:cNvSpPr/>
            <p:nvPr/>
          </p:nvSpPr>
          <p:spPr>
            <a:xfrm>
              <a:off x="285480" y="4429440"/>
              <a:ext cx="1285920" cy="357120"/>
            </a:xfrm>
            <a:prstGeom prst="flowChartAlternate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ur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7 Pentágono"/>
          <p:cNvSpPr/>
          <p:nvPr/>
        </p:nvSpPr>
        <p:spPr>
          <a:xfrm>
            <a:off x="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alibri"/>
              </a:rPr>
              <a:t>PUERTA DE ENTRADA AL SISTEMA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80% DE LOS PROBLEMAS DE SALUD FRECU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8 Cheurón"/>
          <p:cNvSpPr/>
          <p:nvPr/>
        </p:nvSpPr>
        <p:spPr>
          <a:xfrm>
            <a:off x="450072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lnTo>
                  <a:pt x="1662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TENCIÓN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20% DE LAS PATOLOGÍAS  REST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9 Rectángulo redondeado"/>
          <p:cNvSpPr/>
          <p:nvPr/>
        </p:nvSpPr>
        <p:spPr>
          <a:xfrm>
            <a:off x="4357800" y="192888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SEGUNDO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 redondeado"/>
          <p:cNvSpPr/>
          <p:nvPr/>
        </p:nvSpPr>
        <p:spPr>
          <a:xfrm>
            <a:off x="6858000" y="242892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TERCER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n 16" descr="Captura de pantalla 2012-04-10 a las 22.14.35.png"/>
          <p:cNvPicPr/>
          <p:nvPr/>
        </p:nvPicPr>
        <p:blipFill>
          <a:blip r:embed="rId3"/>
          <a:stretch/>
        </p:blipFill>
        <p:spPr>
          <a:xfrm>
            <a:off x="4429080" y="271476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18" descr="Captura de pantalla 2012-04-10 a las 22.15.51.png"/>
          <p:cNvPicPr/>
          <p:nvPr/>
        </p:nvPicPr>
        <p:blipFill>
          <a:blip r:embed="rId4"/>
          <a:stretch/>
        </p:blipFill>
        <p:spPr>
          <a:xfrm>
            <a:off x="7238880" y="3048120"/>
            <a:ext cx="1492200" cy="1923840"/>
          </a:xfrm>
          <a:prstGeom prst="rect">
            <a:avLst/>
          </a:prstGeom>
          <a:ln w="0">
            <a:noFill/>
          </a:ln>
        </p:spPr>
      </p:pic>
      <p:sp>
        <p:nvSpPr>
          <p:cNvPr id="119" name="13 Flecha curvada hacia abajo"/>
          <p:cNvSpPr/>
          <p:nvPr/>
        </p:nvSpPr>
        <p:spPr>
          <a:xfrm rot="1252800">
            <a:off x="3723840" y="134424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4 Flecha curvada hacia abajo"/>
          <p:cNvSpPr/>
          <p:nvPr/>
        </p:nvSpPr>
        <p:spPr>
          <a:xfrm rot="1252800">
            <a:off x="6438600" y="184428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5 Flecha curvada hacia abajo"/>
          <p:cNvSpPr/>
          <p:nvPr/>
        </p:nvSpPr>
        <p:spPr>
          <a:xfrm rot="10180200">
            <a:off x="3357360" y="4571280"/>
            <a:ext cx="2071440" cy="428760"/>
          </a:xfrm>
          <a:custGeom>
            <a:avLst/>
            <a:gdLst>
              <a:gd name="textAreaLeft" fmla="*/ 477720 w 2071440"/>
              <a:gd name="textAreaRight" fmla="*/ 1540440 w 20714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2" hR="21600" stAng="10800000" swAng="5400000"/>
                <a:lnTo>
                  <a:pt x="11080" y="0"/>
                </a:lnTo>
                <a:arcTo wR="9962" hR="21600" stAng="-5400000" swAng="3645497"/>
                <a:lnTo>
                  <a:pt x="21284" y="16200"/>
                </a:lnTo>
                <a:lnTo>
                  <a:pt x="20483" y="21600"/>
                </a:lnTo>
                <a:lnTo>
                  <a:pt x="19050" y="16200"/>
                </a:lnTo>
                <a:lnTo>
                  <a:pt x="19608" y="16200"/>
                </a:lnTo>
                <a:arcTo wR="9962" hR="21600" stAng="-1754503" swAng="-3556409"/>
                <a:lnTo>
                  <a:pt x="10521" y="34"/>
                </a:lnTo>
                <a:arcTo wR="9962" hR="21600" stAng="-5489088" swAng="-5310912"/>
                <a:close/>
              </a:path>
              <a:path fill="darkenLess" w="21600" h="21600">
                <a:moveTo>
                  <a:pt x="0" y="21600"/>
                </a:moveTo>
                <a:arcTo wR="9962" hR="21600" stAng="10800000" swAng="5400000"/>
                <a:lnTo>
                  <a:pt x="9962" y="0"/>
                </a:lnTo>
                <a:arcTo wR="9962" hR="21600" stAng="-5400000" swAng="89088"/>
                <a:lnTo>
                  <a:pt x="10521" y="34"/>
                </a:lnTo>
                <a:arcTo wR="9962" hR="21600" stAng="-5489088" swAng="-5310912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6 Flecha curvada hacia abajo"/>
          <p:cNvSpPr/>
          <p:nvPr/>
        </p:nvSpPr>
        <p:spPr>
          <a:xfrm rot="10800000">
            <a:off x="3071880" y="4857480"/>
            <a:ext cx="4524480" cy="500040"/>
          </a:xfrm>
          <a:custGeom>
            <a:avLst/>
            <a:gdLst>
              <a:gd name="textAreaLeft" fmla="*/ 1084320 w 4524480"/>
              <a:gd name="textAreaRight" fmla="*/ 3377520 w 4524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3" hR="21600" stAng="10800000" swAng="5400000"/>
                <a:lnTo>
                  <a:pt x="10949" y="0"/>
                </a:lnTo>
                <a:arcTo wR="10353" hR="21600" stAng="-5400000" swAng="3701267"/>
                <a:lnTo>
                  <a:pt x="21271" y="16200"/>
                </a:lnTo>
                <a:lnTo>
                  <a:pt x="21003" y="21600"/>
                </a:lnTo>
                <a:lnTo>
                  <a:pt x="20077" y="16200"/>
                </a:lnTo>
                <a:lnTo>
                  <a:pt x="20376" y="16200"/>
                </a:lnTo>
                <a:arcTo wR="10353" hR="21600" stAng="-1698733" swAng="-3653822"/>
                <a:lnTo>
                  <a:pt x="10651" y="9"/>
                </a:lnTo>
                <a:arcTo wR="10353" hR="21600" stAng="-5447445" swAng="-5352555"/>
                <a:close/>
              </a:path>
              <a:path fill="darkenLess" w="21600" h="21600">
                <a:moveTo>
                  <a:pt x="0" y="21600"/>
                </a:moveTo>
                <a:arcTo wR="10353" hR="21600" stAng="10800000" swAng="5400000"/>
                <a:lnTo>
                  <a:pt x="10353" y="0"/>
                </a:lnTo>
                <a:arcTo wR="10353" hR="21600" stAng="-5400000" swAng="47445"/>
                <a:lnTo>
                  <a:pt x="10651" y="9"/>
                </a:lnTo>
                <a:arcTo wR="10353" hR="21600" stAng="-5447445" swAng="-5352555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7 Rectángulo redondeado"/>
          <p:cNvSpPr/>
          <p:nvPr/>
        </p:nvSpPr>
        <p:spPr>
          <a:xfrm>
            <a:off x="4143240" y="47862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rehabilitación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8 Rectángulo redondeado"/>
          <p:cNvSpPr/>
          <p:nvPr/>
        </p:nvSpPr>
        <p:spPr>
          <a:xfrm>
            <a:off x="5500800" y="4786200"/>
            <a:ext cx="11430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diagnóstico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9 CuadroTexto"/>
          <p:cNvGrpSpPr/>
          <p:nvPr/>
        </p:nvGrpSpPr>
        <p:grpSpPr>
          <a:xfrm>
            <a:off x="79200" y="4821120"/>
            <a:ext cx="1548000" cy="573120"/>
            <a:chOff x="79200" y="4821120"/>
            <a:chExt cx="1548000" cy="573120"/>
          </a:xfrm>
        </p:grpSpPr>
        <p:pic>
          <p:nvPicPr>
            <p:cNvPr id="126" name="19 CuadroTexto" descr=""/>
            <p:cNvPicPr/>
            <p:nvPr/>
          </p:nvPicPr>
          <p:blipFill>
            <a:blip r:embed="rId5"/>
            <a:stretch/>
          </p:blipFill>
          <p:spPr>
            <a:xfrm>
              <a:off x="79200" y="4821120"/>
              <a:ext cx="1548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42920" y="485784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Rehabilitación y cuidados palia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20 CuadroTexto"/>
          <p:cNvGrpSpPr/>
          <p:nvPr/>
        </p:nvGrpSpPr>
        <p:grpSpPr>
          <a:xfrm>
            <a:off x="3011400" y="2676600"/>
            <a:ext cx="1328760" cy="755640"/>
            <a:chOff x="3011400" y="2676600"/>
            <a:chExt cx="1328760" cy="755640"/>
          </a:xfrm>
        </p:grpSpPr>
        <p:pic>
          <p:nvPicPr>
            <p:cNvPr id="129" name="20 CuadroTexto" descr=""/>
            <p:cNvPicPr/>
            <p:nvPr/>
          </p:nvPicPr>
          <p:blipFill>
            <a:blip r:embed="rId6"/>
            <a:stretch/>
          </p:blipFill>
          <p:spPr>
            <a:xfrm>
              <a:off x="3011400" y="2676600"/>
              <a:ext cx="1328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71880" y="2714760"/>
              <a:ext cx="1214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Actividades con resultados de Impacto So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21 CuadroTexto"/>
          <p:cNvGrpSpPr/>
          <p:nvPr/>
        </p:nvGrpSpPr>
        <p:grpSpPr>
          <a:xfrm>
            <a:off x="2981160" y="3524400"/>
            <a:ext cx="1285920" cy="706320"/>
            <a:chOff x="2981160" y="3524400"/>
            <a:chExt cx="1285920" cy="706320"/>
          </a:xfrm>
        </p:grpSpPr>
        <p:pic>
          <p:nvPicPr>
            <p:cNvPr id="132" name="21 CuadroTexto" descr=""/>
            <p:cNvPicPr/>
            <p:nvPr/>
          </p:nvPicPr>
          <p:blipFill>
            <a:blip r:embed="rId7"/>
            <a:stretch/>
          </p:blipFill>
          <p:spPr>
            <a:xfrm>
              <a:off x="2981160" y="3524400"/>
              <a:ext cx="1285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71880" y="357192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In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22 CuadroTexto"/>
          <p:cNvGrpSpPr/>
          <p:nvPr/>
        </p:nvGrpSpPr>
        <p:grpSpPr>
          <a:xfrm>
            <a:off x="3054240" y="4309920"/>
            <a:ext cx="1146240" cy="706680"/>
            <a:chOff x="3054240" y="4309920"/>
            <a:chExt cx="1146240" cy="706680"/>
          </a:xfrm>
        </p:grpSpPr>
        <p:pic>
          <p:nvPicPr>
            <p:cNvPr id="135" name="22 CuadroTexto" descr=""/>
            <p:cNvPicPr/>
            <p:nvPr/>
          </p:nvPicPr>
          <p:blipFill>
            <a:blip r:embed="rId8"/>
            <a:stretch/>
          </p:blipFill>
          <p:spPr>
            <a:xfrm>
              <a:off x="3054240" y="4309920"/>
              <a:ext cx="114624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43160" y="435780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Ex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arco Leg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Constitució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008)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ey Orgánica de Salud LOSEP (2011) Reglamento y Normativa, acuerdos Minis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o Salarial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antes un jefe de servicio ganaba 1400 dólares, hoy SP7. 1676, SP12. 2640 a 2940, bono de residencia, bono geográfic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bilidad laboral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: en 10 años no se ha realizado concursos para nombra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olítica de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formación del talento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lan retorno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de profes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eorganización del MSP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tuto Orgánico, Manual de Fun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obierno por resultados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égimen disciplinario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</a:rPr>
              <a:t>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ENESC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S    Comisión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A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UNIVERSIDADES  A y B (AF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Instituto Superior Sectorial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lent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rección Nacional de Normalización del Talento Hu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Rol Rector del MSP frente a la formación  AFEME. La normativa acoge todo el sistema. Publico, privado ,seguridad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 Marcador de contenido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ortalez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Apoyo político, Rol Rector del M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portun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4 anos mas de tiempo, priorización de lo social, apoyo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bil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orrupción, debilidades en formación del talento humano para la gestión, falta accesibilidad cultural,  inequidad campo ciu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menaz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ambio de autoridades, falta de presupu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uesta en 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reación de hospitales DOCENTES  provinciales en sitios considera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La formación de los posgrados esta centralizada en grandes ciudades se propone movilizar R3  a estos hospitales y se necesita profesores de pediatría, ginecología, anestesia. Para venir a estos hospitales por 6 meses o un ano sab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NTECEDENTES Y JUSTIF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7 Rectángulo"/>
          <p:cNvSpPr/>
          <p:nvPr/>
        </p:nvSpPr>
        <p:spPr>
          <a:xfrm>
            <a:off x="468360" y="134136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cuador promulgó su primera PNM en el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in un plan que viabilizara su implementación, sus objetivos y lineamientos no se concretaron en la prác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Las condiciones marco de construcción de la PNM 2006 han cambiado debid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- La declaración de gratuidad de los servicios de salud y los productos farmacéu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compr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regulación de precios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lianzas estratég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lantean nuevos retos y escenarios a ser analizados a través del desarrollo de una Nueva Política Nacional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Reconocer al medicamento como un elemento transversal e  instrumento clave en la generación de indicadores de acceso a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755640" y="1700280"/>
            <a:ext cx="756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dad, universalidad, solidaridad y eficiencia; además de los establecidos en el Plan Nacional del Buen Vivi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a Salud es una responsabil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os medicamentos como un bi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Sostenibilidad, sustentabilidad y optimización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Transparencia y rendición de cu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Rectángulo"/>
          <p:cNvSpPr/>
          <p:nvPr/>
        </p:nvSpPr>
        <p:spPr>
          <a:xfrm>
            <a:off x="611280" y="155736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gurar la disponibilidad equitativa y la asequibilidad de los medicamentos definidos como ese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rantizar la calidad, inocuidad y eficacia de todos los medicamentos que se encuentren en el merc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uso terapéuticamente racional y económicamente eficiente de los medicamentos por parte de los profesionales sanitarios y de los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talecer la rectoría del M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os servicios farmacéut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a gestión de medicamentos al interior de la red pública integr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rschmitt\Pictures\mapa_geografico_ecuador.gif"/>
          <p:cNvPicPr/>
          <p:nvPr/>
        </p:nvPicPr>
        <p:blipFill>
          <a:blip r:embed="rId1"/>
          <a:stretch/>
        </p:blipFill>
        <p:spPr>
          <a:xfrm>
            <a:off x="0" y="0"/>
            <a:ext cx="8238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MBITO DE APL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7 Rectángulo"/>
          <p:cNvSpPr/>
          <p:nvPr/>
        </p:nvSpPr>
        <p:spPr>
          <a:xfrm>
            <a:off x="611280" y="1628640"/>
            <a:ext cx="7561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n todo el territorio na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us lineamientos serán de aplicación obligatoria para el sector público y privado de salud con y sin fines de lucro y contará con criterios de intersectorialidad y elementos de aplicación territorial, de acuerdo a la división jurídica administrativa establecida por el Estado Ecuator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7 CuadroTexto"/>
          <p:cNvSpPr/>
          <p:nvPr/>
        </p:nvSpPr>
        <p:spPr>
          <a:xfrm>
            <a:off x="-71280" y="1552680"/>
            <a:ext cx="262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Block Arc 10"/>
          <p:cNvGrpSpPr/>
          <p:nvPr/>
        </p:nvGrpSpPr>
        <p:grpSpPr>
          <a:xfrm>
            <a:off x="347760" y="1285920"/>
            <a:ext cx="8442360" cy="1725480"/>
            <a:chOff x="347760" y="1285920"/>
            <a:chExt cx="8442360" cy="1725480"/>
          </a:xfrm>
        </p:grpSpPr>
        <p:pic>
          <p:nvPicPr>
            <p:cNvPr id="167" name="Block Arc 10" descr=""/>
            <p:cNvPicPr/>
            <p:nvPr/>
          </p:nvPicPr>
          <p:blipFill>
            <a:blip r:embed="rId1"/>
            <a:stretch/>
          </p:blipFill>
          <p:spPr>
            <a:xfrm>
              <a:off x="347760" y="1285920"/>
              <a:ext cx="844236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1120" y="1324080"/>
              <a:ext cx="83232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TextBox 12" descr=""/>
          <p:cNvPicPr/>
          <p:nvPr/>
        </p:nvPicPr>
        <p:blipFill>
          <a:blip r:embed="rId2"/>
          <a:stretch/>
        </p:blipFill>
        <p:spPr>
          <a:xfrm>
            <a:off x="2298600" y="1590840"/>
            <a:ext cx="4602240" cy="62856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13"/>
          <p:cNvCxnSpPr/>
          <p:nvPr/>
        </p:nvCxnSpPr>
        <p:spPr>
          <a:xfrm flipH="1">
            <a:off x="1294560" y="2896920"/>
            <a:ext cx="2520" cy="608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1" name="TextBox 15"/>
          <p:cNvSpPr/>
          <p:nvPr/>
        </p:nvSpPr>
        <p:spPr>
          <a:xfrm>
            <a:off x="838080" y="3544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ceso Equi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6"/>
          <p:cNvCxnSpPr/>
          <p:nvPr/>
        </p:nvCxnSpPr>
        <p:spPr>
          <a:xfrm flipH="1">
            <a:off x="2464560" y="2473200"/>
            <a:ext cx="2520" cy="1000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73" name="TextBox 17"/>
          <p:cNvGrpSpPr/>
          <p:nvPr/>
        </p:nvGrpSpPr>
        <p:grpSpPr>
          <a:xfrm>
            <a:off x="1749600" y="3505320"/>
            <a:ext cx="1487160" cy="853920"/>
            <a:chOff x="1749600" y="3505320"/>
            <a:chExt cx="1487160" cy="853920"/>
          </a:xfrm>
        </p:grpSpPr>
        <p:pic>
          <p:nvPicPr>
            <p:cNvPr id="174" name="TextBox 17" descr=""/>
            <p:cNvPicPr/>
            <p:nvPr/>
          </p:nvPicPr>
          <p:blipFill>
            <a:blip r:embed="rId3"/>
            <a:stretch/>
          </p:blipFill>
          <p:spPr>
            <a:xfrm>
              <a:off x="1749600" y="3505320"/>
              <a:ext cx="14871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822320" y="3544920"/>
              <a:ext cx="1357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Producción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8"/>
          <p:cNvGrpSpPr/>
          <p:nvPr/>
        </p:nvGrpSpPr>
        <p:grpSpPr>
          <a:xfrm>
            <a:off x="3181320" y="3505320"/>
            <a:ext cx="1482840" cy="853920"/>
            <a:chOff x="3181320" y="3505320"/>
            <a:chExt cx="1482840" cy="853920"/>
          </a:xfrm>
        </p:grpSpPr>
        <p:pic>
          <p:nvPicPr>
            <p:cNvPr id="177" name="TextBox 18" descr=""/>
            <p:cNvPicPr/>
            <p:nvPr/>
          </p:nvPicPr>
          <p:blipFill>
            <a:blip r:embed="rId4"/>
            <a:stretch/>
          </p:blipFill>
          <p:spPr>
            <a:xfrm>
              <a:off x="3181320" y="3505320"/>
              <a:ext cx="14828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251160" y="3544920"/>
              <a:ext cx="135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Funciones del Es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19"/>
          <p:cNvGrpSpPr/>
          <p:nvPr/>
        </p:nvGrpSpPr>
        <p:grpSpPr>
          <a:xfrm>
            <a:off x="4608360" y="3505320"/>
            <a:ext cx="1292400" cy="853920"/>
            <a:chOff x="4608360" y="3505320"/>
            <a:chExt cx="1292400" cy="853920"/>
          </a:xfrm>
        </p:grpSpPr>
        <p:pic>
          <p:nvPicPr>
            <p:cNvPr id="180" name="TextBox 19" descr=""/>
            <p:cNvPicPr/>
            <p:nvPr/>
          </p:nvPicPr>
          <p:blipFill>
            <a:blip r:embed="rId5"/>
            <a:stretch/>
          </p:blipFill>
          <p:spPr>
            <a:xfrm>
              <a:off x="4608360" y="3505320"/>
              <a:ext cx="12924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0000" y="3544920"/>
              <a:ext cx="1143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tección al consumidor riesgos u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0"/>
          <p:cNvGrpSpPr/>
          <p:nvPr/>
        </p:nvGrpSpPr>
        <p:grpSpPr>
          <a:xfrm>
            <a:off x="5821200" y="3505320"/>
            <a:ext cx="1414800" cy="853920"/>
            <a:chOff x="5821200" y="3505320"/>
            <a:chExt cx="1414800" cy="853920"/>
          </a:xfrm>
        </p:grpSpPr>
        <p:pic>
          <p:nvPicPr>
            <p:cNvPr id="183" name="TextBox 20" descr=""/>
            <p:cNvPicPr/>
            <p:nvPr/>
          </p:nvPicPr>
          <p:blipFill>
            <a:blip r:embed="rId6"/>
            <a:stretch/>
          </p:blipFill>
          <p:spPr>
            <a:xfrm>
              <a:off x="5821200" y="3505320"/>
              <a:ext cx="1414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94280" y="3544920"/>
              <a:ext cx="128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talento hum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1"/>
          <p:cNvGrpSpPr/>
          <p:nvPr/>
        </p:nvGrpSpPr>
        <p:grpSpPr>
          <a:xfrm>
            <a:off x="7182000" y="3505320"/>
            <a:ext cx="1358640" cy="853920"/>
            <a:chOff x="7182000" y="3505320"/>
            <a:chExt cx="1358640" cy="853920"/>
          </a:xfrm>
        </p:grpSpPr>
        <p:pic>
          <p:nvPicPr>
            <p:cNvPr id="186" name="TextBox 21" descr=""/>
            <p:cNvPicPr/>
            <p:nvPr/>
          </p:nvPicPr>
          <p:blipFill>
            <a:blip r:embed="rId7"/>
            <a:stretch/>
          </p:blipFill>
          <p:spPr>
            <a:xfrm>
              <a:off x="7182000" y="3505320"/>
              <a:ext cx="1358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51840" y="354492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moción de Investigación y 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Straight Arrow Connector 22"/>
          <p:cNvCxnSpPr/>
          <p:nvPr/>
        </p:nvCxnSpPr>
        <p:spPr>
          <a:xfrm flipH="1">
            <a:off x="38923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9" name="Straight Arrow Connector 23"/>
          <p:cNvCxnSpPr/>
          <p:nvPr/>
        </p:nvCxnSpPr>
        <p:spPr>
          <a:xfrm flipH="1">
            <a:off x="52495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0" name="Straight Arrow Connector 24"/>
          <p:cNvCxnSpPr/>
          <p:nvPr/>
        </p:nvCxnSpPr>
        <p:spPr>
          <a:xfrm flipH="1">
            <a:off x="6536520" y="2474640"/>
            <a:ext cx="1080" cy="999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1" name="Straight Arrow Connector 25"/>
          <p:cNvCxnSpPr/>
          <p:nvPr/>
        </p:nvCxnSpPr>
        <p:spPr>
          <a:xfrm>
            <a:off x="7750800" y="2758680"/>
            <a:ext cx="1080" cy="78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TextBox 26"/>
          <p:cNvSpPr/>
          <p:nvPr/>
        </p:nvSpPr>
        <p:spPr>
          <a:xfrm>
            <a:off x="1965240" y="2759040"/>
            <a:ext cx="535788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TextBox 27"/>
          <p:cNvGrpSpPr/>
          <p:nvPr/>
        </p:nvGrpSpPr>
        <p:grpSpPr>
          <a:xfrm>
            <a:off x="615960" y="5205240"/>
            <a:ext cx="1420920" cy="1079640"/>
            <a:chOff x="615960" y="5205240"/>
            <a:chExt cx="1420920" cy="1079640"/>
          </a:xfrm>
        </p:grpSpPr>
        <p:pic>
          <p:nvPicPr>
            <p:cNvPr id="194" name="TextBox 27" descr=""/>
            <p:cNvPicPr/>
            <p:nvPr/>
          </p:nvPicPr>
          <p:blipFill>
            <a:blip r:embed="rId8"/>
            <a:stretch/>
          </p:blipFill>
          <p:spPr>
            <a:xfrm>
              <a:off x="615960" y="5205240"/>
              <a:ext cx="14209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93720" y="5257800"/>
              <a:ext cx="128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isponi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cencias Obligato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Straight Arrow Connector 28"/>
          <p:cNvCxnSpPr/>
          <p:nvPr/>
        </p:nvCxnSpPr>
        <p:spPr>
          <a:xfrm>
            <a:off x="1294200" y="4343400"/>
            <a:ext cx="27720" cy="84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97" name="TextBox 29"/>
          <p:cNvGrpSpPr/>
          <p:nvPr/>
        </p:nvGrpSpPr>
        <p:grpSpPr>
          <a:xfrm>
            <a:off x="1981080" y="5218200"/>
            <a:ext cx="1195560" cy="1066680"/>
            <a:chOff x="1981080" y="5218200"/>
            <a:chExt cx="1195560" cy="1066680"/>
          </a:xfrm>
        </p:grpSpPr>
        <p:pic>
          <p:nvPicPr>
            <p:cNvPr id="198" name="TextBox 29" descr=""/>
            <p:cNvPicPr/>
            <p:nvPr/>
          </p:nvPicPr>
          <p:blipFill>
            <a:blip r:embed="rId9"/>
            <a:stretch/>
          </p:blipFill>
          <p:spPr>
            <a:xfrm>
              <a:off x="1981080" y="5218200"/>
              <a:ext cx="1195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50920" y="5259240"/>
              <a:ext cx="1071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lítica Industrial MIPRO y ENFAR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30"/>
          <p:cNvGrpSpPr/>
          <p:nvPr/>
        </p:nvGrpSpPr>
        <p:grpSpPr>
          <a:xfrm>
            <a:off x="3279600" y="5218200"/>
            <a:ext cx="1273320" cy="853920"/>
            <a:chOff x="3279600" y="5218200"/>
            <a:chExt cx="1273320" cy="853920"/>
          </a:xfrm>
        </p:grpSpPr>
        <p:pic>
          <p:nvPicPr>
            <p:cNvPr id="201" name="TextBox 30" descr=""/>
            <p:cNvPicPr/>
            <p:nvPr/>
          </p:nvPicPr>
          <p:blipFill>
            <a:blip r:embed="rId10"/>
            <a:stretch/>
          </p:blipFill>
          <p:spPr>
            <a:xfrm>
              <a:off x="3279600" y="5218200"/>
              <a:ext cx="12733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348000" y="5257800"/>
              <a:ext cx="11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ncia de Control y Vigil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TextBox 31"/>
          <p:cNvGrpSpPr/>
          <p:nvPr/>
        </p:nvGrpSpPr>
        <p:grpSpPr>
          <a:xfrm>
            <a:off x="4645080" y="5218200"/>
            <a:ext cx="1268280" cy="986040"/>
            <a:chOff x="4645080" y="5218200"/>
            <a:chExt cx="1268280" cy="986040"/>
          </a:xfrm>
        </p:grpSpPr>
        <p:pic>
          <p:nvPicPr>
            <p:cNvPr id="204" name="TextBox 31" descr=""/>
            <p:cNvPicPr/>
            <p:nvPr/>
          </p:nvPicPr>
          <p:blipFill>
            <a:blip r:embed="rId11"/>
            <a:stretch/>
          </p:blipFill>
          <p:spPr>
            <a:xfrm>
              <a:off x="4645080" y="5218200"/>
              <a:ext cx="1268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716360" y="5257800"/>
              <a:ext cx="1139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Campaña genér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Vademé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TextBox 32"/>
          <p:cNvGrpSpPr/>
          <p:nvPr/>
        </p:nvGrpSpPr>
        <p:grpSpPr>
          <a:xfrm>
            <a:off x="5943600" y="5218200"/>
            <a:ext cx="1341360" cy="853920"/>
            <a:chOff x="5943600" y="5218200"/>
            <a:chExt cx="1341360" cy="853920"/>
          </a:xfrm>
        </p:grpSpPr>
        <p:pic>
          <p:nvPicPr>
            <p:cNvPr id="207" name="TextBox 32" descr=""/>
            <p:cNvPicPr/>
            <p:nvPr/>
          </p:nvPicPr>
          <p:blipFill>
            <a:blip r:embed="rId12"/>
            <a:stretch/>
          </p:blipFill>
          <p:spPr>
            <a:xfrm>
              <a:off x="5943600" y="5218200"/>
              <a:ext cx="1341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12000" y="525780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personal  Dosis Uni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TextBox 33"/>
          <p:cNvGrpSpPr/>
          <p:nvPr/>
        </p:nvGrpSpPr>
        <p:grpSpPr>
          <a:xfrm>
            <a:off x="7236000" y="5218200"/>
            <a:ext cx="1268280" cy="1066680"/>
            <a:chOff x="7236000" y="5218200"/>
            <a:chExt cx="1268280" cy="1066680"/>
          </a:xfrm>
        </p:grpSpPr>
        <p:pic>
          <p:nvPicPr>
            <p:cNvPr id="210" name="TextBox 33" descr=""/>
            <p:cNvPicPr/>
            <p:nvPr/>
          </p:nvPicPr>
          <p:blipFill>
            <a:blip r:embed="rId13"/>
            <a:stretch/>
          </p:blipFill>
          <p:spPr>
            <a:xfrm>
              <a:off x="7236000" y="5218200"/>
              <a:ext cx="126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308720" y="5257800"/>
              <a:ext cx="1140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reación de Unidad especializada en ETS M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" name="Straight Arrow Connector 34"/>
          <p:cNvCxnSpPr/>
          <p:nvPr/>
        </p:nvCxnSpPr>
        <p:spPr>
          <a:xfrm flipH="1">
            <a:off x="2464560" y="4330440"/>
            <a:ext cx="2520" cy="857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3886200" y="4343400"/>
            <a:ext cx="72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Straight Arrow Connector 36"/>
          <p:cNvCxnSpPr/>
          <p:nvPr/>
        </p:nvCxnSpPr>
        <p:spPr>
          <a:xfrm flipH="1">
            <a:off x="5249520" y="4343400"/>
            <a:ext cx="864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5" name="Straight Arrow Connector 37"/>
          <p:cNvCxnSpPr/>
          <p:nvPr/>
        </p:nvCxnSpPr>
        <p:spPr>
          <a:xfrm flipH="1">
            <a:off x="6535440" y="4343400"/>
            <a:ext cx="180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6" name="Straight Arrow Connector 38"/>
          <p:cNvCxnSpPr/>
          <p:nvPr/>
        </p:nvCxnSpPr>
        <p:spPr>
          <a:xfrm flipH="1">
            <a:off x="7822440" y="4331880"/>
            <a:ext cx="1080" cy="785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TextBox 39"/>
          <p:cNvSpPr/>
          <p:nvPr/>
        </p:nvSpPr>
        <p:spPr>
          <a:xfrm>
            <a:off x="1179360" y="4473720"/>
            <a:ext cx="67867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iones en cad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44"/>
          <p:cNvGrpSpPr/>
          <p:nvPr/>
        </p:nvGrpSpPr>
        <p:grpSpPr>
          <a:xfrm>
            <a:off x="768240" y="3535200"/>
            <a:ext cx="1054080" cy="828720"/>
            <a:chOff x="768240" y="3535200"/>
            <a:chExt cx="1054080" cy="828720"/>
          </a:xfrm>
        </p:grpSpPr>
        <p:pic>
          <p:nvPicPr>
            <p:cNvPr id="219" name="Rectangle 44" descr=""/>
            <p:cNvPicPr/>
            <p:nvPr/>
          </p:nvPicPr>
          <p:blipFill>
            <a:blip r:embed="rId14"/>
            <a:stretch/>
          </p:blipFill>
          <p:spPr>
            <a:xfrm>
              <a:off x="768240" y="3535200"/>
              <a:ext cx="1054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38080" y="3573360"/>
              <a:ext cx="914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cceso Equit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40 Rectángulo" descr=""/>
          <p:cNvPicPr/>
          <p:nvPr/>
        </p:nvPicPr>
        <p:blipFill>
          <a:blip r:embed="rId15"/>
          <a:stretch/>
        </p:blipFill>
        <p:spPr>
          <a:xfrm>
            <a:off x="396720" y="390600"/>
            <a:ext cx="98809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6 Diagrama" descr=""/>
          <p:cNvPicPr/>
          <p:nvPr/>
        </p:nvPicPr>
        <p:blipFill>
          <a:blip r:embed="rId1"/>
          <a:stretch/>
        </p:blipFill>
        <p:spPr>
          <a:xfrm>
            <a:off x="554040" y="1487520"/>
            <a:ext cx="8113680" cy="4297320"/>
          </a:xfrm>
          <a:prstGeom prst="rect">
            <a:avLst/>
          </a:prstGeom>
          <a:ln w="0">
            <a:noFill/>
          </a:ln>
        </p:spPr>
      </p:pic>
      <p:pic>
        <p:nvPicPr>
          <p:cNvPr id="223" name="4 Rectángulo" descr=""/>
          <p:cNvPicPr/>
          <p:nvPr/>
        </p:nvPicPr>
        <p:blipFill>
          <a:blip r:embed="rId2"/>
          <a:stretch/>
        </p:blipFill>
        <p:spPr>
          <a:xfrm>
            <a:off x="695160" y="152280"/>
            <a:ext cx="9442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347760" y="146160"/>
            <a:ext cx="8540640" cy="175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4 Rectángulo" descr=""/>
          <p:cNvPicPr/>
          <p:nvPr/>
        </p:nvPicPr>
        <p:blipFill>
          <a:blip r:embed="rId1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6 Diagrama" descr=""/>
          <p:cNvPicPr/>
          <p:nvPr/>
        </p:nvPicPr>
        <p:blipFill>
          <a:blip r:embed="rId2"/>
          <a:stretch/>
        </p:blipFill>
        <p:spPr>
          <a:xfrm>
            <a:off x="646200" y="1182600"/>
            <a:ext cx="79437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6 Diagrama" descr=""/>
          <p:cNvPicPr/>
          <p:nvPr/>
        </p:nvPicPr>
        <p:blipFill>
          <a:blip r:embed="rId1"/>
          <a:stretch/>
        </p:blipFill>
        <p:spPr>
          <a:xfrm>
            <a:off x="549360" y="1109520"/>
            <a:ext cx="8107200" cy="4784760"/>
          </a:xfrm>
          <a:prstGeom prst="rect">
            <a:avLst/>
          </a:prstGeom>
          <a:ln w="0">
            <a:noFill/>
          </a:ln>
        </p:spPr>
      </p:pic>
      <p:pic>
        <p:nvPicPr>
          <p:cNvPr id="229" name="5 Rectángulo" descr=""/>
          <p:cNvPicPr/>
          <p:nvPr/>
        </p:nvPicPr>
        <p:blipFill>
          <a:blip r:embed="rId2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88200" cy="4583160"/>
          </a:xfrm>
          <a:prstGeom prst="rect">
            <a:avLst/>
          </a:prstGeom>
          <a:ln w="0">
            <a:noFill/>
          </a:ln>
        </p:spPr>
      </p:pic>
      <p:sp>
        <p:nvSpPr>
          <p:cNvPr id="23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13067" r="0" b="15103"/>
          <a:stretch/>
        </p:blipFill>
        <p:spPr>
          <a:xfrm>
            <a:off x="771480" y="4191120"/>
            <a:ext cx="776304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1 Título" descr=""/>
          <p:cNvPicPr/>
          <p:nvPr/>
        </p:nvPicPr>
        <p:blipFill>
          <a:blip r:embed="rId2"/>
          <a:stretch/>
        </p:blipFill>
        <p:spPr>
          <a:xfrm>
            <a:off x="353880" y="-158760"/>
            <a:ext cx="84250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28600" y="762120"/>
          <a:ext cx="8610480" cy="3109680"/>
        </p:xfrm>
        <a:graphic>
          <a:graphicData uri="http://schemas.openxmlformats.org/drawingml/2006/table">
            <a:tbl>
              <a:tblPr/>
              <a:tblGrid>
                <a:gridCol w="7251840"/>
                <a:gridCol w="1358640"/>
              </a:tblGrid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ES DE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demográf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a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25.0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en sal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olaridad promedio de personas de 24 años y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5 a 14 años que asisten a educación bá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15 a 17 años que asisten a educación 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cluye a las personas afiliadas o cubiertas por IESS, ISSFA, ISSPOL, seguros privados, Municipales, de Consejos Provinciales, y del Ministerio de Salud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la relación entre las personas menores de 15 años y mayores de 64 años, con respecto a la población de 15 a 64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www.inec.gob.ec/estadistic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1 Título" descr=""/>
          <p:cNvPicPr/>
          <p:nvPr/>
        </p:nvPicPr>
        <p:blipFill>
          <a:blip r:embed="rId3"/>
          <a:stretch/>
        </p:blipFill>
        <p:spPr>
          <a:xfrm>
            <a:off x="450720" y="34988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12 CuadroTexto"/>
          <p:cNvSpPr/>
          <p:nvPr/>
        </p:nvSpPr>
        <p:spPr>
          <a:xfrm>
            <a:off x="914400" y="5867280"/>
            <a:ext cx="472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EC (Encuesta Nacional de Empleo, Desempleo y Subempl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EUROsociAL"/>
          <p:cNvPicPr/>
          <p:nvPr/>
        </p:nvPicPr>
        <p:blipFill>
          <a:blip r:embed="rId2"/>
          <a:stretch/>
        </p:blipFill>
        <p:spPr>
          <a:xfrm>
            <a:off x="8001000" y="5143680"/>
            <a:ext cx="882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mapa por zonas.jpg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 Rectángulo" descr=""/>
          <p:cNvPicPr/>
          <p:nvPr/>
        </p:nvPicPr>
        <p:blipFill>
          <a:blip r:embed="rId1"/>
          <a:stretch/>
        </p:blipFill>
        <p:spPr>
          <a:xfrm>
            <a:off x="828720" y="158760"/>
            <a:ext cx="889488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6 Diagrama" descr=""/>
          <p:cNvPicPr/>
          <p:nvPr/>
        </p:nvPicPr>
        <p:blipFill>
          <a:blip r:embed="rId2"/>
          <a:stretch/>
        </p:blipFill>
        <p:spPr>
          <a:xfrm>
            <a:off x="871560" y="1341360"/>
            <a:ext cx="7473960" cy="360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3 Diagrama" descr=""/>
          <p:cNvPicPr/>
          <p:nvPr/>
        </p:nvPicPr>
        <p:blipFill>
          <a:blip r:embed="rId1"/>
          <a:stretch/>
        </p:blipFill>
        <p:spPr>
          <a:xfrm>
            <a:off x="676440" y="1133640"/>
            <a:ext cx="79866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EUROsociAL"/>
          <p:cNvPicPr/>
          <p:nvPr/>
        </p:nvPicPr>
        <p:blipFill>
          <a:blip r:embed="rId2"/>
          <a:stretch/>
        </p:blipFill>
        <p:spPr>
          <a:xfrm>
            <a:off x="7786800" y="5214960"/>
            <a:ext cx="8823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ower point desarrollo"/>
          <p:cNvPicPr/>
          <p:nvPr/>
        </p:nvPicPr>
        <p:blipFill>
          <a:blip r:embed="rId1"/>
          <a:stretch/>
        </p:blipFill>
        <p:spPr>
          <a:xfrm>
            <a:off x="507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59 Grupo"/>
          <p:cNvGrpSpPr/>
          <p:nvPr/>
        </p:nvGrpSpPr>
        <p:grpSpPr>
          <a:xfrm>
            <a:off x="301680" y="2160720"/>
            <a:ext cx="4052520" cy="3671640"/>
            <a:chOff x="301680" y="2160720"/>
            <a:chExt cx="4052520" cy="3671640"/>
          </a:xfrm>
        </p:grpSpPr>
        <p:sp>
          <p:nvSpPr>
            <p:cNvPr id="74" name="3 Rectángulo"/>
            <p:cNvSpPr/>
            <p:nvPr/>
          </p:nvSpPr>
          <p:spPr>
            <a:xfrm>
              <a:off x="301680" y="2160720"/>
              <a:ext cx="3997440" cy="36716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99 Grupo"/>
            <p:cNvGrpSpPr/>
            <p:nvPr/>
          </p:nvGrpSpPr>
          <p:grpSpPr>
            <a:xfrm>
              <a:off x="404640" y="2237760"/>
              <a:ext cx="3949560" cy="3565440"/>
              <a:chOff x="404640" y="2237760"/>
              <a:chExt cx="3949560" cy="3565440"/>
            </a:xfrm>
          </p:grpSpPr>
          <p:sp>
            <p:nvSpPr>
              <p:cNvPr id="76" name="Puzzle3"/>
              <p:cNvSpPr/>
              <p:nvPr/>
            </p:nvSpPr>
            <p:spPr>
              <a:xfrm rot="501600">
                <a:off x="1902960" y="2760120"/>
                <a:ext cx="9086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4"/>
              <p:cNvSpPr/>
              <p:nvPr/>
            </p:nvSpPr>
            <p:spPr>
              <a:xfrm>
                <a:off x="2023920" y="336060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Puzzle2"/>
              <p:cNvSpPr/>
              <p:nvPr/>
            </p:nvSpPr>
            <p:spPr>
              <a:xfrm>
                <a:off x="1548360" y="4508640"/>
                <a:ext cx="1630440" cy="1187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Puzzle2"/>
              <p:cNvSpPr/>
              <p:nvPr/>
            </p:nvSpPr>
            <p:spPr>
              <a:xfrm rot="21315000">
                <a:off x="1462320" y="3889440"/>
                <a:ext cx="1653120" cy="86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FF.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1647000" y="43311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Puzzle1"/>
              <p:cNvSpPr/>
              <p:nvPr/>
            </p:nvSpPr>
            <p:spPr>
              <a:xfrm>
                <a:off x="1231200" y="3030480"/>
                <a:ext cx="1469160" cy="7819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965520" y="32277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Puzzle4"/>
              <p:cNvSpPr/>
              <p:nvPr/>
            </p:nvSpPr>
            <p:spPr>
              <a:xfrm rot="20567400">
                <a:off x="797760" y="4363920"/>
                <a:ext cx="1063440" cy="13111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ISSP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2"/>
              <p:cNvSpPr/>
              <p:nvPr/>
            </p:nvSpPr>
            <p:spPr>
              <a:xfrm rot="20571600">
                <a:off x="1289160" y="49719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Puzzle4"/>
              <p:cNvSpPr/>
              <p:nvPr/>
            </p:nvSpPr>
            <p:spPr>
              <a:xfrm rot="21210600">
                <a:off x="2121480" y="2450520"/>
                <a:ext cx="1524960" cy="18176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 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M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5"/>
              <p:cNvSpPr/>
              <p:nvPr/>
            </p:nvSpPr>
            <p:spPr>
              <a:xfrm>
                <a:off x="2143440" y="370872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Puzzle1"/>
              <p:cNvSpPr/>
              <p:nvPr/>
            </p:nvSpPr>
            <p:spPr>
              <a:xfrm rot="879600">
                <a:off x="504720" y="3636720"/>
                <a:ext cx="1469160" cy="97956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28"/>
              <p:cNvSpPr/>
              <p:nvPr/>
            </p:nvSpPr>
            <p:spPr>
              <a:xfrm>
                <a:off x="819720" y="399996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 Unicode MS"/>
                  </a:rPr>
                  <a:t>ISFF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Puzzle2"/>
              <p:cNvSpPr/>
              <p:nvPr/>
            </p:nvSpPr>
            <p:spPr>
              <a:xfrm rot="10515000">
                <a:off x="1138680" y="2295720"/>
                <a:ext cx="1451520" cy="1025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1"/>
              <p:cNvSpPr/>
              <p:nvPr/>
            </p:nvSpPr>
            <p:spPr>
              <a:xfrm>
                <a:off x="1501920" y="263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 Unicode MS"/>
                  </a:rPr>
                  <a:t>I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Puzzle3"/>
              <p:cNvSpPr/>
              <p:nvPr/>
            </p:nvSpPr>
            <p:spPr>
              <a:xfrm rot="762000">
                <a:off x="2687040" y="3811680"/>
                <a:ext cx="15620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S PRIVA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Rectangle 61"/>
          <p:cNvSpPr/>
          <p:nvPr/>
        </p:nvSpPr>
        <p:spPr>
          <a:xfrm>
            <a:off x="291960" y="1687680"/>
            <a:ext cx="3816360" cy="33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DESARTICULACIÓN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49 Grupo"/>
          <p:cNvGrpSpPr/>
          <p:nvPr/>
        </p:nvGrpSpPr>
        <p:grpSpPr>
          <a:xfrm>
            <a:off x="2479680" y="1152360"/>
            <a:ext cx="4270320" cy="5616720"/>
            <a:chOff x="2479680" y="1152360"/>
            <a:chExt cx="4270320" cy="5616720"/>
          </a:xfrm>
        </p:grpSpPr>
        <p:sp>
          <p:nvSpPr>
            <p:cNvPr id="94" name="23 CuadroTexto"/>
            <p:cNvSpPr/>
            <p:nvPr/>
          </p:nvSpPr>
          <p:spPr>
            <a:xfrm>
              <a:off x="2606400" y="1152360"/>
              <a:ext cx="4143600" cy="398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MODELO DE G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24 Rectángulo"/>
            <p:cNvSpPr/>
            <p:nvPr/>
          </p:nvSpPr>
          <p:spPr>
            <a:xfrm>
              <a:off x="2479680" y="6336000"/>
              <a:ext cx="4214880" cy="4330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ELO DE SALUD INTEGR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3 Título" descr=""/>
          <p:cNvPicPr/>
          <p:nvPr/>
        </p:nvPicPr>
        <p:blipFill>
          <a:blip r:embed="rId2"/>
          <a:stretch/>
        </p:blipFill>
        <p:spPr>
          <a:xfrm>
            <a:off x="7858080" y="2189160"/>
            <a:ext cx="8780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97" name="26 Flecha a la derecha con bandas"/>
          <p:cNvGrpSpPr/>
          <p:nvPr/>
        </p:nvGrpSpPr>
        <p:grpSpPr>
          <a:xfrm>
            <a:off x="8163000" y="6297480"/>
            <a:ext cx="547560" cy="468360"/>
            <a:chOff x="8163000" y="6297480"/>
            <a:chExt cx="547560" cy="468360"/>
          </a:xfrm>
        </p:grpSpPr>
        <p:pic>
          <p:nvPicPr>
            <p:cNvPr id="98" name="26 Flecha a la derecha con bandas" descr=""/>
            <p:cNvPicPr/>
            <p:nvPr/>
          </p:nvPicPr>
          <p:blipFill>
            <a:blip r:embed="rId3"/>
            <a:stretch/>
          </p:blipFill>
          <p:spPr>
            <a:xfrm>
              <a:off x="8163000" y="6297480"/>
              <a:ext cx="547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312040" y="6426360"/>
              <a:ext cx="2858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3 Título"/>
          <p:cNvSpPr/>
          <p:nvPr/>
        </p:nvSpPr>
        <p:spPr>
          <a:xfrm>
            <a:off x="662040" y="431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404040"/>
                </a:solidFill>
                <a:latin typeface="Calibri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3 Título"/>
          <p:cNvSpPr/>
          <p:nvPr/>
        </p:nvSpPr>
        <p:spPr>
          <a:xfrm>
            <a:off x="446040" y="2700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b050"/>
                </a:solidFill>
                <a:latin typeface="Calibri"/>
                <a:ea typeface="MS PGothic"/>
              </a:rPr>
              <a:t>Cómo estamos y Cómo estaremo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aus14\Escritorio\material-2-dip.jpg"/>
          <p:cNvPicPr/>
          <p:nvPr/>
        </p:nvPicPr>
        <p:blipFill>
          <a:blip r:embed="rId4"/>
          <a:srcRect l="5270" t="3729" r="10463" b="12425"/>
          <a:stretch/>
        </p:blipFill>
        <p:spPr>
          <a:xfrm>
            <a:off x="4479840" y="2063880"/>
            <a:ext cx="4714920" cy="3821040"/>
          </a:xfrm>
          <a:prstGeom prst="rect">
            <a:avLst/>
          </a:prstGeom>
          <a:ln w="0">
            <a:noFill/>
          </a:ln>
        </p:spPr>
      </p:pic>
      <p:sp>
        <p:nvSpPr>
          <p:cNvPr id="103" name="65 Flecha a la derecha con bandas"/>
          <p:cNvSpPr/>
          <p:nvPr/>
        </p:nvSpPr>
        <p:spPr>
          <a:xfrm>
            <a:off x="479520" y="5099040"/>
            <a:ext cx="3887640" cy="576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RATEGIA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uzzle3"/>
          <p:cNvSpPr/>
          <p:nvPr/>
        </p:nvSpPr>
        <p:spPr>
          <a:xfrm rot="20270400">
            <a:off x="155520" y="2317680"/>
            <a:ext cx="1562040" cy="1127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MIN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09640" y="1440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</a:rPr>
              <a:t>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UROsociAL"/>
          <p:cNvPicPr/>
          <p:nvPr/>
        </p:nvPicPr>
        <p:blipFill>
          <a:blip r:embed="rId5"/>
          <a:stretch/>
        </p:blipFill>
        <p:spPr>
          <a:xfrm>
            <a:off x="914400" y="380880"/>
            <a:ext cx="8827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7:49:15Z</dcterms:created>
  <dc:creator>MABEL OCAMPO</dc:creator>
  <dc:description/>
  <dc:language>en-US</dc:language>
  <cp:lastModifiedBy>rschmitt</cp:lastModifiedBy>
  <dcterms:modified xsi:type="dcterms:W3CDTF">2013-05-09T21:13:41Z</dcterms:modified>
  <cp:revision>387</cp:revision>
  <dc:subject/>
  <dc:title>Presentación de PowerPoint</dc:title>
</cp:coreProperties>
</file>