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667-7CF7-42C3-BFE6-5EA43856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79B-EDCB-4DF1-AB14-72FD8C50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2D8-571E-4F9A-B030-3B4A4410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3AF-11CF-45EC-A6D4-38793658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07A-D1B2-4102-AD02-AA66421B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23CE-E594-4200-8BD5-D83E01CD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26E6-89FB-4713-BC1B-6B64597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CFA-1D9A-4B50-B73B-F070B30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36E1-EDD6-4532-AD90-EAC207C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C99F-9C7D-4A4B-91EC-BC210F2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BCD0-0443-4F01-B888-5999D68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EB8-4273-4094-BF32-F95D813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CC6E-F856-4CE7-BC81-7C61E6B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31B3-14DE-429B-A824-4E1B5E56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2622-0DE7-4BC0-9C8B-4A0F69EC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6C7E-2353-4428-8D76-E0E9EFC9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919-5077-4DB8-B399-528082B0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AE59-AE8F-4A92-AE1A-38300553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E516-6FA6-4BD2-961A-5F9E24D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3124-55B6-483A-A378-B5606C1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A714-EE08-44F3-A367-4E01E6C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8470-6EE4-4E00-BACF-A3EBC56A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B83-641B-4CE4-963B-0DF7A27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8A17-5D57-45FB-9AE2-17009C0D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A3F3-7AEF-4692-8E76-2646EA8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9DCE-97FF-4E7C-B204-01EF737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9733-0DB8-4003-A519-0BD5C0F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F444-8DF1-44CC-B01C-21D8A0E7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1657-8DF4-4D56-B092-C5A5891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8C89-8A90-480B-9BE2-7B0D2BC8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5456-C168-439B-911B-FF0B42A9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1839-A003-4FB3-98A5-F1FFC0BB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68A9-30B3-47AB-87B2-21316F9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DFD-89C0-4B3A-82F5-DD26684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75D0-F1D7-4552-843A-B635868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7793-2C4B-4FEA-AFA1-1C36CCD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0265-9543-470F-8E4F-6D1A0AB5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B276-1ED7-4083-AF31-9A6083A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7DA1-CF79-4F7D-860C-2A28D55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9044-DADA-49DB-8C46-43CC6C1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2737-2732-4B82-86E5-BB9E3B50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0090-CAA1-48B1-B92A-A21A575C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CAA9-D3AD-4D12-A753-D50C364F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5FF-42E1-4655-975C-3CC5EDCE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B14-A182-4D75-8F96-C7E3826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FA1-B179-4D34-BE6A-C452BBD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4D4-C19A-4AE5-8BB8-58F824D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B8-F70E-4B02-8016-E0F8459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69BD-296E-406A-8597-BF1C07EEF592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BC9-59C2-4B71-B750-350901F6CFA3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24D9-FAA4-471F-8157-07497ED6C088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5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Retângulo com Único Canto Aparado e Arredondado 8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riângulo retângulo 11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rma livre 9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rma livre 10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2B8E-76D8-47D2-8209-25D417E76682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mailto:machado@ensp.fiocruz.br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914400" y="3041640"/>
            <a:ext cx="8510760" cy="1805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74880" y="4653000"/>
            <a:ext cx="8346960" cy="30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Imagem 5" descr="cast.jpg"/>
          <p:cNvPicPr/>
          <p:nvPr/>
        </p:nvPicPr>
        <p:blipFill>
          <a:blip r:embed="rId2"/>
          <a:stretch/>
        </p:blipFill>
        <p:spPr>
          <a:xfrm>
            <a:off x="0" y="0"/>
            <a:ext cx="2095560" cy="1701720"/>
          </a:xfrm>
          <a:prstGeom prst="rect">
            <a:avLst/>
          </a:prstGeom>
          <a:ln w="0">
            <a:noFill/>
          </a:ln>
        </p:spPr>
      </p:pic>
      <p:sp>
        <p:nvSpPr>
          <p:cNvPr id="207" name="CaixaDeTexto 4"/>
          <p:cNvSpPr/>
          <p:nvPr/>
        </p:nvSpPr>
        <p:spPr>
          <a:xfrm>
            <a:off x="1913040" y="0"/>
            <a:ext cx="7993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9d9d9"/>
                </a:solidFill>
                <a:latin typeface="Arial"/>
              </a:rPr>
              <a:t>Fundação Oswaldo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9d9d9"/>
                </a:solidFill>
                <a:latin typeface="Arial"/>
              </a:rPr>
              <a:t>Escola Nacional de Saúde Pública Sergio Arou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7"/>
          <p:cNvSpPr/>
          <p:nvPr/>
        </p:nvSpPr>
        <p:spPr>
          <a:xfrm>
            <a:off x="2289240" y="515772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Maria Helena Ma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machado@ensp.fiocruz.br</a:t>
            </a: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6194520"/>
          </a:xfrm>
          <a:prstGeom prst="rect">
            <a:avLst/>
          </a:prstGeom>
          <a:ln w="0">
            <a:noFill/>
          </a:ln>
        </p:spPr>
      </p:pic>
      <p:sp>
        <p:nvSpPr>
          <p:cNvPr id="273" name="Retângulo 6"/>
          <p:cNvSpPr/>
          <p:nvPr/>
        </p:nvSpPr>
        <p:spPr>
          <a:xfrm>
            <a:off x="-272880" y="5805360"/>
            <a:ext cx="10647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15964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Evolución de medicos- 1910-2010 –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5"/>
          <p:cNvSpPr/>
          <p:nvPr/>
        </p:nvSpPr>
        <p:spPr>
          <a:xfrm>
            <a:off x="4952880" y="6595920"/>
            <a:ext cx="49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2f2f2"/>
                </a:solidFill>
                <a:latin typeface="Arial"/>
              </a:rPr>
              <a:t>Fonte: CFM/IBGE; Pesquisa Demografia Médica no Brasil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áfico 6" descr=""/>
          <p:cNvPicPr/>
          <p:nvPr/>
        </p:nvPicPr>
        <p:blipFill>
          <a:blip r:embed="rId2"/>
          <a:stretch/>
        </p:blipFill>
        <p:spPr>
          <a:xfrm>
            <a:off x="-6480" y="0"/>
            <a:ext cx="99187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61945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6"/>
          <p:cNvSpPr/>
          <p:nvPr/>
        </p:nvSpPr>
        <p:spPr>
          <a:xfrm>
            <a:off x="-272880" y="5805360"/>
            <a:ext cx="10647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15964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Evolución de medico/habitante, 1980 a 2010 – Brasil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5"/>
          <p:cNvSpPr/>
          <p:nvPr/>
        </p:nvSpPr>
        <p:spPr>
          <a:xfrm>
            <a:off x="4952880" y="6595920"/>
            <a:ext cx="49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2f2f2"/>
                </a:solidFill>
                <a:latin typeface="Arial"/>
              </a:rPr>
              <a:t>Fonte: CFM/IBGE; Pesquisa Demografia Médica no Brasil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-360" y="5950080"/>
            <a:ext cx="9906120" cy="691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la participación de las mujeres en el  medio medico –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Brasil -1910..201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5589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7"/>
          <p:cNvSpPr/>
          <p:nvPr/>
        </p:nvSpPr>
        <p:spPr>
          <a:xfrm>
            <a:off x="4952880" y="55897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2f2f2"/>
                </a:solidFill>
                <a:latin typeface="Arial"/>
              </a:rPr>
              <a:t>Fonte: Demografia Médica no Brasil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6049440"/>
            <a:ext cx="9823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76a3"/>
                </a:solidFill>
                <a:latin typeface="AR JULI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-5373360"/>
            <a:ext cx="9906120" cy="11203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3"/>
          <p:cNvSpPr/>
          <p:nvPr/>
        </p:nvSpPr>
        <p:spPr>
          <a:xfrm>
            <a:off x="2690640" y="6165720"/>
            <a:ext cx="72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15964"/>
                </a:solidFill>
                <a:latin typeface="Trebuchet MS"/>
              </a:rPr>
              <a:t>Obrigada pela atençã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0" y="-171360"/>
            <a:ext cx="11026800" cy="7029360"/>
          </a:xfrm>
          <a:prstGeom prst="rect">
            <a:avLst/>
          </a:prstGeom>
          <a:ln w="0">
            <a:noFill/>
          </a:ln>
        </p:spPr>
      </p:pic>
      <p:sp>
        <p:nvSpPr>
          <p:cNvPr id="286" name="CaixaDeTexto 5"/>
          <p:cNvSpPr/>
          <p:nvPr/>
        </p:nvSpPr>
        <p:spPr>
          <a:xfrm>
            <a:off x="2457360" y="105264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 CENA"/>
              </a:rPr>
              <a:t>OBRIGADA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 CENA"/>
              </a:rPr>
              <a:t>GRACIA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7440" y="1371600"/>
            <a:ext cx="8505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15964"/>
                </a:solidFill>
                <a:latin typeface="Constantia"/>
              </a:rPr>
              <a:t>Onde estão os emprego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1" name="Object 80"/>
          <p:cNvGraphicFramePr/>
          <p:nvPr/>
        </p:nvGraphicFramePr>
        <p:xfrm>
          <a:off x="0" y="0"/>
          <a:ext cx="990612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CaixaDeTexto 4"/>
          <p:cNvSpPr/>
          <p:nvPr/>
        </p:nvSpPr>
        <p:spPr>
          <a:xfrm>
            <a:off x="7832880" y="6550200"/>
            <a:ext cx="24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IBG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, AMS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ângulo 7"/>
          <p:cNvSpPr/>
          <p:nvPr/>
        </p:nvSpPr>
        <p:spPr>
          <a:xfrm>
            <a:off x="2073240" y="6334200"/>
            <a:ext cx="5496120" cy="520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030a0"/>
                </a:solidFill>
                <a:latin typeface="Arial"/>
              </a:rPr>
              <a:t>Onde estão os empre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ço Reservado para Rodapé 2"/>
          <p:cNvSpPr/>
          <p:nvPr/>
        </p:nvSpPr>
        <p:spPr>
          <a:xfrm>
            <a:off x="6273720" y="6308640"/>
            <a:ext cx="363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Fonte:  IBGE, Estimativas Populacionais par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CFM,- situação em dez/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8229600" y="4581360"/>
          <a:ext cx="1403280" cy="1676520"/>
        </p:xfrm>
        <a:graphic>
          <a:graphicData uri="http://schemas.openxmlformats.org/drawingml/2006/table">
            <a:tbl>
              <a:tblPr/>
              <a:tblGrid>
                <a:gridCol w="1403280"/>
              </a:tblGrid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c190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bfff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6c98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17"/>
          <p:cNvSpPr/>
          <p:nvPr/>
        </p:nvSpPr>
        <p:spPr>
          <a:xfrm>
            <a:off x="193680" y="177336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8,3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0,98 med. /1000 h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6746760" y="213372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7,8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,19 méd./1000 h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51000" y="34290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7,4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,99 me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435720" y="3789360"/>
            <a:ext cx="29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42,1% 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,61  me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782880" y="544500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4,4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,03 mé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1442880" y="260280"/>
            <a:ext cx="78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1-Distribuição populacional e dos médicos por grandes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158640" y="364500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4"/>
          <p:cNvSpPr/>
          <p:nvPr/>
        </p:nvSpPr>
        <p:spPr>
          <a:xfrm>
            <a:off x="5654520" y="4005360"/>
            <a:ext cx="7812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5"/>
          <p:cNvSpPr/>
          <p:nvPr/>
        </p:nvSpPr>
        <p:spPr>
          <a:xfrm flipV="1">
            <a:off x="5967360" y="242064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H="1" flipV="1">
            <a:off x="2925720" y="2276280"/>
            <a:ext cx="15588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5030640" y="4797360"/>
            <a:ext cx="79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200160" y="6165720"/>
            <a:ext cx="311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opulação -  190.732.694 h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No. de médicos – 364.7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Rodapé 2"/>
          <p:cNvSpPr/>
          <p:nvPr/>
        </p:nvSpPr>
        <p:spPr>
          <a:xfrm>
            <a:off x="5834160" y="6381720"/>
            <a:ext cx="4071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Fonte:  IBGE, Estimativas Populacionais para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AMS/IBGE,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8337600" y="4508640"/>
          <a:ext cx="1403280" cy="1676160"/>
        </p:xfrm>
        <a:graphic>
          <a:graphicData uri="http://schemas.openxmlformats.org/drawingml/2006/table">
            <a:tbl>
              <a:tblPr/>
              <a:tblGrid>
                <a:gridCol w="1403280"/>
              </a:tblGrid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c190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bfff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6c98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33" name="Text Box 17"/>
          <p:cNvSpPr/>
          <p:nvPr/>
        </p:nvSpPr>
        <p:spPr>
          <a:xfrm>
            <a:off x="193680" y="177336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5,8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03.995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6746760" y="213372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53 milhões 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767.505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51000" y="342900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4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31.350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6435720" y="3789360"/>
            <a:ext cx="29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80,3 milhões 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.434.420 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782880" y="544500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7,3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441.248 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442880" y="260280"/>
            <a:ext cx="78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2- Distribuição populacional e de empregos em saúde segundo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>
            <a:off x="3158640" y="364500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5654520" y="4005360"/>
            <a:ext cx="7812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5967360" y="242064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 flipH="1" flipV="1">
            <a:off x="2925720" y="2276280"/>
            <a:ext cx="15588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5030640" y="4797360"/>
            <a:ext cx="79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0" y="6334200"/>
            <a:ext cx="311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opulação -  190.732.694 h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Empregos - 3.078.51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Rodapé 2"/>
          <p:cNvSpPr/>
          <p:nvPr/>
        </p:nvSpPr>
        <p:spPr>
          <a:xfrm>
            <a:off x="6176880" y="6381720"/>
            <a:ext cx="372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Fonte:  IBGE, Estimativas Populacionais para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AMS/IBGE,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7"/>
          <p:cNvSpPr/>
          <p:nvPr/>
        </p:nvSpPr>
        <p:spPr>
          <a:xfrm>
            <a:off x="662040" y="1773360"/>
            <a:ext cx="2496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203.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 - 55.6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60.1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35.5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52.7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980400" y="3645000"/>
            <a:ext cx="2574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D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1.434.4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567.7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421.9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102.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342.3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734080" y="5084640"/>
            <a:ext cx="2338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441.2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167.44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134.4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38.3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100.9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281240" y="0"/>
            <a:ext cx="78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3- Distribuição de empregos em saúde por escolaridade segundo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 flipH="1">
            <a:off x="3158640" y="3645000"/>
            <a:ext cx="163692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5811840" y="3860640"/>
            <a:ext cx="116856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 flipV="1">
            <a:off x="6435720" y="213336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 flipH="1" flipV="1">
            <a:off x="2535120" y="2205000"/>
            <a:ext cx="13255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264280" y="4653000"/>
            <a:ext cx="46980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272880" y="5589720"/>
            <a:ext cx="351180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 de empregos em saúde - 3.078.5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perior - 1.104.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ec/aux - 889.6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Elementar -  317.0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Administrativos - 767.49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ângulo 16"/>
          <p:cNvSpPr/>
          <p:nvPr/>
        </p:nvSpPr>
        <p:spPr>
          <a:xfrm>
            <a:off x="7137360" y="1700280"/>
            <a:ext cx="2340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NORD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767.5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236.3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207.8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116.9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206.3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ângulo 17"/>
          <p:cNvSpPr/>
          <p:nvPr/>
        </p:nvSpPr>
        <p:spPr>
          <a:xfrm>
            <a:off x="584280" y="3573360"/>
            <a:ext cx="2574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CENTRO-O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231.3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77.1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65.3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23.7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65.1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Gráfico 4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9644040" cy="5572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5788080"/>
            <a:ext cx="9906120" cy="42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 IBGE, Pesquisa Assistência M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tângulo 6"/>
          <p:cNvSpPr/>
          <p:nvPr/>
        </p:nvSpPr>
        <p:spPr>
          <a:xfrm>
            <a:off x="-272880" y="5719680"/>
            <a:ext cx="10179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los establecimientos de salud por tipo administrativo – Brasil,1992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0"/>
          <a:ext cx="9906120" cy="5950080"/>
        </p:xfrm>
        <a:graphic>
          <a:graphicData uri="http://schemas.openxmlformats.org/drawingml/2006/table">
            <a:tbl>
              <a:tblPr/>
              <a:tblGrid>
                <a:gridCol w="3171960"/>
                <a:gridCol w="1306440"/>
                <a:gridCol w="1306440"/>
                <a:gridCol w="1500120"/>
                <a:gridCol w="1120680"/>
                <a:gridCol w="1500480"/>
              </a:tblGrid>
              <a:tr h="12240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Descrição /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Variação % (92-0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stablecimientos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.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7.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7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4.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8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Publ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.0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8.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5.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2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9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Fede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0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-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stadu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.0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6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3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-8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8.6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.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.7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16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Priv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2.5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.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.9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.0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8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ráfico 4" descr=""/>
          <p:cNvPicPr/>
          <p:nvPr/>
        </p:nvPicPr>
        <p:blipFill>
          <a:blip r:embed="rId1"/>
          <a:stretch/>
        </p:blipFill>
        <p:spPr>
          <a:xfrm>
            <a:off x="0" y="-6480"/>
            <a:ext cx="9912240" cy="557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5168880" y="3643560"/>
            <a:ext cx="4737240" cy="163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*)- Não estão incl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s os empregos administrativos Fonte: IBGE, Pesquisa Assistência 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ângulo 6"/>
          <p:cNvSpPr/>
          <p:nvPr/>
        </p:nvSpPr>
        <p:spPr>
          <a:xfrm>
            <a:off x="200160" y="5516640"/>
            <a:ext cx="9705960" cy="7340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de salud -Brasil, 1980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-360" y="5877000"/>
            <a:ext cx="9906120" cy="8078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de salud por sector- Brasil, 1980..200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Gráfico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596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0" y="-5515200"/>
            <a:ext cx="9906120" cy="1163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IBGE, Pesquisa Assistência M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5834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5168880" y="5142240"/>
            <a:ext cx="4737240" cy="596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(*)- Não estão inclu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os os empregos administrativ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 IBGE, Pesquisa Assistência M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ângulo 6"/>
          <p:cNvSpPr/>
          <p:nvPr/>
        </p:nvSpPr>
        <p:spPr>
          <a:xfrm>
            <a:off x="200160" y="5732640"/>
            <a:ext cx="9705960" cy="825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por categorias profesionales-Brasil, 1980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9:15:27Z</dcterms:created>
  <dc:creator>Celia Pierantone</dc:creator>
  <dc:description/>
  <dc:language>en-US</dc:language>
  <cp:lastModifiedBy>Pablo</cp:lastModifiedBy>
  <dcterms:modified xsi:type="dcterms:W3CDTF">2013-05-09T16:54:16Z</dcterms:modified>
  <cp:revision>224</cp:revision>
  <dc:subject/>
  <dc:title>Slide 1</dc:title>
</cp:coreProperties>
</file>