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981-28DE-4A90-A38E-AB65E7AC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D04-CC73-477F-922C-70A55B9C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FD8-EB8F-4FF0-A457-8D3CE524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D5A-CBB2-4232-9283-C5D4C823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C82F-963B-4569-8F72-C2123CC2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FEB3-28DF-48C4-BC8B-3D994E82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6284-3E18-4BFF-AE80-F22A2A07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DBCB-77EB-49CD-A3BD-4020E925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0F40-19A7-4EEE-9174-46685024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019E-96A2-4ABD-AD3F-A995379A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5971-C66C-41B1-AB22-E5C64528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73A-4255-4176-BDCE-E7B1CBF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CC30-454C-4DF9-A4A5-0A1F5CE8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EF3E-1143-47C8-992B-765A60A6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E241-B504-403F-B986-D694D8A0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2B3F-38D2-4D70-9F33-BE403C2C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86DE-026A-4E8A-8744-FD465796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48BB-109E-406A-BE1C-22AA938E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85BE8-B1E3-462D-A276-54709FDD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0C17-1511-4E6F-8722-A2F93A6E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E983-C900-43F4-B9B7-EBE64F0E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C272-2A7B-4E58-A537-62D27F2C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F60-31E8-496A-9F93-92E88BD8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A3EA-FECA-4B60-B64B-861380D9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C360-1ED3-4C23-8DF4-7B6C5CCD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DD1D-7E5E-4710-AC82-35D7E38E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4ADB-C07C-4A6C-AC8B-53C853E6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B4191-F8CD-4923-B87F-DB10F751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7612-99F8-407A-8D30-C8CDAA63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07E4-85AF-41E3-B5AD-D83D17F9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26AE1-2CA9-44F7-9A70-69C64DA6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01DF9-C2DC-4A4E-99CA-BACE1D78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19D4-720F-4546-8E03-B1876C2D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D34-4BE7-49D4-BB6E-60DD8A3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762E-FAB1-41CC-98BD-FE2AE45F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17740-40E7-4916-ABFE-5DA3E9A2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C9723-931B-44AC-9D61-9BFE40D6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6D07C-537B-4BC5-967F-FEAD24BE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6883-204B-4E90-8ADD-4324C51F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82115-1A29-4318-9A44-112EA653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58AB-A7C3-4305-933B-40E0B23D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85DE-839C-45E3-9C7A-3FA5094F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6B135-6300-4B84-B9B5-F437A633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BCA-DA00-4BC9-BF83-4191D49A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ECA-AC36-4219-9BD5-C7BF33C1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BF3-C998-4000-9657-313928C0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207-6359-46C2-B32B-3F4948B3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156-5EF0-46B4-9C66-40F167DF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746600" y="-648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9796-872A-4D41-B21D-09BA26D1A53A}" type="slidenum"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746600" y="-648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5869-5599-443D-BC99-9D86147360D7}" type="slidenum"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746600" y="-648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ABA7-C3E2-4940-AFA7-365791703403}" type="slidenum">
              <a:rPr b="0" lang="pt-B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a livre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rma livre 7"/>
          <p:cNvSpPr/>
          <p:nvPr/>
        </p:nvSpPr>
        <p:spPr>
          <a:xfrm>
            <a:off x="4746600" y="-648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o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53" name="Forma livre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1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orma livre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Retângulo com Único Canto Aparado e Arredondado 8"/>
          <p:cNvSpPr/>
          <p:nvPr/>
        </p:nvSpPr>
        <p:spPr>
          <a:xfrm flipV="1" rot="420000">
            <a:off x="3428640" y="1107360"/>
            <a:ext cx="5695920" cy="4114800"/>
          </a:xfrm>
          <a:custGeom>
            <a:avLst/>
            <a:gdLst>
              <a:gd name="textAreaLeft" fmla="*/ 0 w 5695920"/>
              <a:gd name="textAreaRight" fmla="*/ 5621040 w 569592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695950" h="4114800">
                <a:moveTo>
                  <a:pt x="0" y="0"/>
                </a:moveTo>
                <a:lnTo>
                  <a:pt x="5545924" y="0"/>
                </a:lnTo>
                <a:lnTo>
                  <a:pt x="5695950" y="150026"/>
                </a:lnTo>
                <a:lnTo>
                  <a:pt x="569595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riângulo retângulo 11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rma livre 9"/>
          <p:cNvSpPr/>
          <p:nvPr/>
        </p:nvSpPr>
        <p:spPr>
          <a:xfrm flipV="1">
            <a:off x="-10800" y="581544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rma livre 10"/>
          <p:cNvSpPr/>
          <p:nvPr/>
        </p:nvSpPr>
        <p:spPr>
          <a:xfrm flipV="1">
            <a:off x="4746600" y="621900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231C-DEBB-40F6-A3F0-AA2002F97EC1}" type="slidenum">
              <a:rPr b="0" lang="pt-B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mailto:machado@ensp.fiocruz.br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914400" y="3041640"/>
            <a:ext cx="8510760" cy="1805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74880" y="4653000"/>
            <a:ext cx="8346960" cy="3024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Imagem 5" descr="cast.jpg"/>
          <p:cNvPicPr/>
          <p:nvPr/>
        </p:nvPicPr>
        <p:blipFill>
          <a:blip r:embed="rId2"/>
          <a:stretch/>
        </p:blipFill>
        <p:spPr>
          <a:xfrm>
            <a:off x="0" y="0"/>
            <a:ext cx="2095560" cy="1701720"/>
          </a:xfrm>
          <a:prstGeom prst="rect">
            <a:avLst/>
          </a:prstGeom>
          <a:ln w="0">
            <a:noFill/>
          </a:ln>
        </p:spPr>
      </p:pic>
      <p:sp>
        <p:nvSpPr>
          <p:cNvPr id="207" name="CaixaDeTexto 4"/>
          <p:cNvSpPr/>
          <p:nvPr/>
        </p:nvSpPr>
        <p:spPr>
          <a:xfrm>
            <a:off x="1913040" y="0"/>
            <a:ext cx="7993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d9d9d9"/>
                </a:solidFill>
                <a:latin typeface="Arial"/>
              </a:rPr>
              <a:t>Fundação Oswaldo Cr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d9d9d9"/>
                </a:solidFill>
                <a:latin typeface="Arial"/>
              </a:rPr>
              <a:t>Escola Nacional de Saúde Pública Sergio Arou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ixaDeTexto 7"/>
          <p:cNvSpPr/>
          <p:nvPr/>
        </p:nvSpPr>
        <p:spPr>
          <a:xfrm>
            <a:off x="2289240" y="515772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d9d9d9"/>
                </a:solidFill>
                <a:latin typeface="Arial"/>
              </a:rPr>
              <a:t>Maria Helena Ma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machado@ensp.fiocruz.br</a:t>
            </a:r>
            <a:r>
              <a:rPr b="0" i="1" lang="pt-BR" sz="2400" spc="-1" strike="noStrike">
                <a:solidFill>
                  <a:srgbClr val="d9d9d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d9d9d9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Gráfico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8720" cy="6194520"/>
          </a:xfrm>
          <a:prstGeom prst="rect">
            <a:avLst/>
          </a:prstGeom>
          <a:ln w="0">
            <a:noFill/>
          </a:ln>
        </p:spPr>
      </p:pic>
      <p:sp>
        <p:nvSpPr>
          <p:cNvPr id="273" name="Retângulo 6"/>
          <p:cNvSpPr/>
          <p:nvPr/>
        </p:nvSpPr>
        <p:spPr>
          <a:xfrm>
            <a:off x="-272880" y="5805360"/>
            <a:ext cx="10647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15964"/>
                </a:solidFill>
                <a:latin typeface="Trebuchet MS"/>
              </a:rPr>
              <a:t> </a:t>
            </a:r>
            <a:r>
              <a:rPr b="1" lang="pt-BR" sz="2400" spc="-1" strike="noStrike">
                <a:solidFill>
                  <a:srgbClr val="7030a0"/>
                </a:solidFill>
                <a:latin typeface="Arial"/>
              </a:rPr>
              <a:t>Evolución de medicos- 1910-2010 –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tângulo 5"/>
          <p:cNvSpPr/>
          <p:nvPr/>
        </p:nvSpPr>
        <p:spPr>
          <a:xfrm>
            <a:off x="4952880" y="6595920"/>
            <a:ext cx="495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2f2f2"/>
                </a:solidFill>
                <a:latin typeface="Arial"/>
              </a:rPr>
              <a:t>Fonte: CFM/IBGE; Pesquisa Demografia Médica no Brasil,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Gráfico 6" descr=""/>
          <p:cNvPicPr/>
          <p:nvPr/>
        </p:nvPicPr>
        <p:blipFill>
          <a:blip r:embed="rId2"/>
          <a:stretch/>
        </p:blipFill>
        <p:spPr>
          <a:xfrm>
            <a:off x="-6480" y="0"/>
            <a:ext cx="991872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Gráfico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8720" cy="6194520"/>
          </a:xfrm>
          <a:prstGeom prst="rect">
            <a:avLst/>
          </a:prstGeom>
          <a:ln w="0">
            <a:noFill/>
          </a:ln>
        </p:spPr>
      </p:pic>
      <p:sp>
        <p:nvSpPr>
          <p:cNvPr id="277" name="Retângulo 6"/>
          <p:cNvSpPr/>
          <p:nvPr/>
        </p:nvSpPr>
        <p:spPr>
          <a:xfrm>
            <a:off x="-272880" y="5805360"/>
            <a:ext cx="10647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15964"/>
                </a:solidFill>
                <a:latin typeface="Trebuchet MS"/>
              </a:rPr>
              <a:t> </a:t>
            </a:r>
            <a:r>
              <a:rPr b="1" lang="pt-BR" sz="2400" spc="-1" strike="noStrike">
                <a:solidFill>
                  <a:srgbClr val="7030a0"/>
                </a:solidFill>
                <a:latin typeface="Arial"/>
              </a:rPr>
              <a:t>Evolución de medico/habitante, 1980 a 2010 – Brasil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tângulo 5"/>
          <p:cNvSpPr/>
          <p:nvPr/>
        </p:nvSpPr>
        <p:spPr>
          <a:xfrm>
            <a:off x="4952880" y="6595920"/>
            <a:ext cx="495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2f2f2"/>
                </a:solidFill>
                <a:latin typeface="Arial"/>
              </a:rPr>
              <a:t>Fonte: CFM/IBGE; Pesquisa Demografia Médica no Brasil,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-360" y="5950080"/>
            <a:ext cx="9906120" cy="691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la participación de las mujeres en el  medio medico –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Brasil -1910..201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5589720"/>
          </a:xfrm>
          <a:prstGeom prst="rect">
            <a:avLst/>
          </a:prstGeom>
          <a:ln w="0">
            <a:noFill/>
          </a:ln>
        </p:spPr>
      </p:pic>
      <p:sp>
        <p:nvSpPr>
          <p:cNvPr id="281" name="Retângulo 7"/>
          <p:cNvSpPr/>
          <p:nvPr/>
        </p:nvSpPr>
        <p:spPr>
          <a:xfrm>
            <a:off x="4952880" y="55897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2f2f2"/>
                </a:solidFill>
                <a:latin typeface="Arial"/>
              </a:rPr>
              <a:t>Fonte: Demografia Médica no Brasil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-360" y="6049440"/>
            <a:ext cx="9823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76a3"/>
                </a:solidFill>
                <a:latin typeface="AR JULI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-5373360"/>
            <a:ext cx="9906120" cy="11203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ixaDeTexto 3"/>
          <p:cNvSpPr/>
          <p:nvPr/>
        </p:nvSpPr>
        <p:spPr>
          <a:xfrm>
            <a:off x="2690640" y="6165720"/>
            <a:ext cx="721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15964"/>
                </a:solidFill>
                <a:latin typeface="Trebuchet MS"/>
              </a:rPr>
              <a:t>Obrigada pela atençã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1"/>
          <a:stretch/>
        </p:blipFill>
        <p:spPr>
          <a:xfrm>
            <a:off x="0" y="-171360"/>
            <a:ext cx="11026800" cy="7029360"/>
          </a:xfrm>
          <a:prstGeom prst="rect">
            <a:avLst/>
          </a:prstGeom>
          <a:ln w="0">
            <a:noFill/>
          </a:ln>
        </p:spPr>
      </p:pic>
      <p:sp>
        <p:nvSpPr>
          <p:cNvPr id="286" name="CaixaDeTexto 5"/>
          <p:cNvSpPr/>
          <p:nvPr/>
        </p:nvSpPr>
        <p:spPr>
          <a:xfrm>
            <a:off x="2457360" y="1052640"/>
            <a:ext cx="38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 CENA"/>
              </a:rPr>
              <a:t>OBRIGADA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 CENA"/>
              </a:rPr>
              <a:t>GRACIA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7440" y="1371600"/>
            <a:ext cx="8505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77800" y="3228480"/>
            <a:ext cx="85089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15964"/>
                </a:solidFill>
                <a:latin typeface="Constantia"/>
              </a:rPr>
              <a:t>Onde estão os emprego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11" name="Object 80"/>
          <p:cNvGraphicFramePr/>
          <p:nvPr/>
        </p:nvGraphicFramePr>
        <p:xfrm>
          <a:off x="0" y="0"/>
          <a:ext cx="9906120" cy="58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CaixaDeTexto 4"/>
          <p:cNvSpPr/>
          <p:nvPr/>
        </p:nvSpPr>
        <p:spPr>
          <a:xfrm>
            <a:off x="7832880" y="6550200"/>
            <a:ext cx="24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Fonte:IBG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, AMS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tângulo 7"/>
          <p:cNvSpPr/>
          <p:nvPr/>
        </p:nvSpPr>
        <p:spPr>
          <a:xfrm>
            <a:off x="2073240" y="6334200"/>
            <a:ext cx="5496120" cy="5205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7030a0"/>
                </a:solidFill>
                <a:latin typeface="Arial"/>
              </a:rPr>
              <a:t>Onde estão os empreg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ço Reservado para Rodapé 2"/>
          <p:cNvSpPr/>
          <p:nvPr/>
        </p:nvSpPr>
        <p:spPr>
          <a:xfrm>
            <a:off x="6273720" y="6308640"/>
            <a:ext cx="363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Fonte:  IBGE, Estimativas Populacionais para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CFM,- situação em dez/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brasil_3"/>
          <p:cNvPicPr/>
          <p:nvPr/>
        </p:nvPicPr>
        <p:blipFill>
          <a:blip r:embed="rId1"/>
          <a:stretch/>
        </p:blipFill>
        <p:spPr>
          <a:xfrm>
            <a:off x="2768760" y="1413000"/>
            <a:ext cx="4368600" cy="366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8229600" y="4581360"/>
          <a:ext cx="1403280" cy="1676520"/>
        </p:xfrm>
        <a:graphic>
          <a:graphicData uri="http://schemas.openxmlformats.org/drawingml/2006/table">
            <a:tbl>
              <a:tblPr/>
              <a:tblGrid>
                <a:gridCol w="1403280"/>
              </a:tblGrid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c190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bfff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6c98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tro-O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18" name="Text Box 17"/>
          <p:cNvSpPr/>
          <p:nvPr/>
        </p:nvSpPr>
        <p:spPr>
          <a:xfrm>
            <a:off x="193680" y="1773360"/>
            <a:ext cx="29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8,3%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0,98 med. /1000 h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6746760" y="213372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7,8%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,19 méd./1000 h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51000" y="342900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7,4%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,99 med/1000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435720" y="3789360"/>
            <a:ext cx="29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42,1% 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,61  med/1000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3782880" y="544500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4,4% popul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,03 méd/1000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1442880" y="260280"/>
            <a:ext cx="78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Tahoma"/>
              </a:rPr>
              <a:t>Figura 1-Distribuição populacional e dos médicos por grandes Regiões - Brasil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3"/>
          <p:cNvSpPr/>
          <p:nvPr/>
        </p:nvSpPr>
        <p:spPr>
          <a:xfrm flipH="1">
            <a:off x="3158640" y="3645000"/>
            <a:ext cx="163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4"/>
          <p:cNvSpPr/>
          <p:nvPr/>
        </p:nvSpPr>
        <p:spPr>
          <a:xfrm>
            <a:off x="5654520" y="4005360"/>
            <a:ext cx="78120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5"/>
          <p:cNvSpPr/>
          <p:nvPr/>
        </p:nvSpPr>
        <p:spPr>
          <a:xfrm flipV="1">
            <a:off x="5967360" y="2420640"/>
            <a:ext cx="7794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6"/>
          <p:cNvSpPr/>
          <p:nvPr/>
        </p:nvSpPr>
        <p:spPr>
          <a:xfrm flipH="1" flipV="1">
            <a:off x="2925720" y="2276280"/>
            <a:ext cx="15588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5030640" y="4797360"/>
            <a:ext cx="7956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200160" y="6165720"/>
            <a:ext cx="3119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População -  190.732.694 h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No. de médicos – 364.7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ço Reservado para Rodapé 2"/>
          <p:cNvSpPr/>
          <p:nvPr/>
        </p:nvSpPr>
        <p:spPr>
          <a:xfrm>
            <a:off x="5834160" y="6381720"/>
            <a:ext cx="4071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Arial"/>
              </a:rPr>
              <a:t>Fonte:  IBGE, Estimativas Populacionais para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Arial"/>
              </a:rPr>
              <a:t>AMS/IBGE,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brasil_3"/>
          <p:cNvPicPr/>
          <p:nvPr/>
        </p:nvPicPr>
        <p:blipFill>
          <a:blip r:embed="rId1"/>
          <a:stretch/>
        </p:blipFill>
        <p:spPr>
          <a:xfrm>
            <a:off x="2768760" y="1413000"/>
            <a:ext cx="4368600" cy="366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8337600" y="4508640"/>
          <a:ext cx="1403280" cy="1676160"/>
        </p:xfrm>
        <a:graphic>
          <a:graphicData uri="http://schemas.openxmlformats.org/drawingml/2006/table">
            <a:tbl>
              <a:tblPr/>
              <a:tblGrid>
                <a:gridCol w="1403280"/>
              </a:tblGrid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c190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953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d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fbfff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6c98"/>
                    </a:solidFill>
                  </a:tcPr>
                </a:tc>
              </a:tr>
              <a:tr h="337320">
                <a:tc>
                  <a:txBody>
                    <a:bodyPr lIns="99000" rIns="99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entro-O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33" name="Text Box 17"/>
          <p:cNvSpPr/>
          <p:nvPr/>
        </p:nvSpPr>
        <p:spPr>
          <a:xfrm>
            <a:off x="193680" y="1773360"/>
            <a:ext cx="29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5,8 milhões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03.995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6746760" y="213372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53 milhões 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767.505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51000" y="3429000"/>
            <a:ext cx="29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4 milhões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31.350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6435720" y="3789360"/>
            <a:ext cx="29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80,3 milhões 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1.434.420 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782880" y="5445000"/>
            <a:ext cx="296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27,3 milhões h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441.248  empre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1442880" y="260280"/>
            <a:ext cx="78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Tahoma"/>
              </a:rPr>
              <a:t>Figura 2- Distribuição populacional e de empregos em saúde segundo Regiões - Brasil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 flipH="1">
            <a:off x="3158640" y="3645000"/>
            <a:ext cx="163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5654520" y="4005360"/>
            <a:ext cx="78120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 flipV="1">
            <a:off x="5967360" y="2420640"/>
            <a:ext cx="7794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6"/>
          <p:cNvSpPr/>
          <p:nvPr/>
        </p:nvSpPr>
        <p:spPr>
          <a:xfrm flipH="1" flipV="1">
            <a:off x="2925720" y="2276280"/>
            <a:ext cx="15588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5030640" y="4797360"/>
            <a:ext cx="7956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0" y="6334200"/>
            <a:ext cx="311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População -  190.732.694 h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Empregos - 3.078.518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ço Reservado para Rodapé 2"/>
          <p:cNvSpPr/>
          <p:nvPr/>
        </p:nvSpPr>
        <p:spPr>
          <a:xfrm>
            <a:off x="6176880" y="6381720"/>
            <a:ext cx="372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Arial"/>
              </a:rPr>
              <a:t>Fonte:  IBGE, Estimativas Populacionais para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Arial"/>
              </a:rPr>
              <a:t>AMS/IBGE,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brasil_3"/>
          <p:cNvPicPr/>
          <p:nvPr/>
        </p:nvPicPr>
        <p:blipFill>
          <a:blip r:embed="rId1"/>
          <a:stretch/>
        </p:blipFill>
        <p:spPr>
          <a:xfrm>
            <a:off x="2768760" y="1413000"/>
            <a:ext cx="4368600" cy="36687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7"/>
          <p:cNvSpPr/>
          <p:nvPr/>
        </p:nvSpPr>
        <p:spPr>
          <a:xfrm>
            <a:off x="662040" y="1773360"/>
            <a:ext cx="2496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 203.9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 - 55.6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60.1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35.5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52.7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6980400" y="3645000"/>
            <a:ext cx="2574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SUDES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1.434.4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- 567.7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421.9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102.5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342.3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5734080" y="5084640"/>
            <a:ext cx="2338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SU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 441.2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- 167.44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134.47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38.35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100.97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1281240" y="0"/>
            <a:ext cx="78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Tahoma"/>
              </a:rPr>
              <a:t>Figura 3- Distribuição de empregos em saúde por escolaridade segundo Regiões - Brasil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"/>
          <p:cNvSpPr/>
          <p:nvPr/>
        </p:nvSpPr>
        <p:spPr>
          <a:xfrm flipH="1">
            <a:off x="3158640" y="3645000"/>
            <a:ext cx="163692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4"/>
          <p:cNvSpPr/>
          <p:nvPr/>
        </p:nvSpPr>
        <p:spPr>
          <a:xfrm>
            <a:off x="5811840" y="3860640"/>
            <a:ext cx="1168560" cy="28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5"/>
          <p:cNvSpPr/>
          <p:nvPr/>
        </p:nvSpPr>
        <p:spPr>
          <a:xfrm flipV="1">
            <a:off x="6435720" y="2133360"/>
            <a:ext cx="7794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6"/>
          <p:cNvSpPr/>
          <p:nvPr/>
        </p:nvSpPr>
        <p:spPr>
          <a:xfrm flipH="1" flipV="1">
            <a:off x="2535120" y="2205000"/>
            <a:ext cx="13255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264280" y="4653000"/>
            <a:ext cx="46980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272880" y="5589720"/>
            <a:ext cx="3511800" cy="10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 de empregos em saúde - 3.078.5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Superior - 1.104.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ec/aux - 889.6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Elementar -  317.0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Administrativos - 767.49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tângulo 16"/>
          <p:cNvSpPr/>
          <p:nvPr/>
        </p:nvSpPr>
        <p:spPr>
          <a:xfrm>
            <a:off x="7137360" y="1700280"/>
            <a:ext cx="2340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NORDES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767.5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- 236.39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207.8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116.97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206.3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tângulo 17"/>
          <p:cNvSpPr/>
          <p:nvPr/>
        </p:nvSpPr>
        <p:spPr>
          <a:xfrm>
            <a:off x="584280" y="3573360"/>
            <a:ext cx="2574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CENTRO-OES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100" spc="-1" strike="noStrike">
                <a:solidFill>
                  <a:srgbClr val="000000"/>
                </a:solidFill>
                <a:latin typeface="Arial"/>
              </a:rPr>
              <a:t>Total: 231.3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Superior- 77.1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Téc/auxiliar- 65.3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Elementar- 23.7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Arial"/>
              </a:rPr>
              <a:t>Administrativos- 65.1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Gráfico 4" descr=""/>
          <p:cNvPicPr/>
          <p:nvPr/>
        </p:nvPicPr>
        <p:blipFill>
          <a:blip r:embed="rId1"/>
          <a:stretch/>
        </p:blipFill>
        <p:spPr>
          <a:xfrm>
            <a:off x="268200" y="-6480"/>
            <a:ext cx="9644040" cy="55720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0" y="5788080"/>
            <a:ext cx="9906120" cy="42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Fonte: IBGE, Pesquisa Assistência M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dico Sanit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ia ( v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ios ano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tângulo 6"/>
          <p:cNvSpPr/>
          <p:nvPr/>
        </p:nvSpPr>
        <p:spPr>
          <a:xfrm>
            <a:off x="-272880" y="5719680"/>
            <a:ext cx="10179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los establecimientos de salud por tipo administrativo – Brasil,1992.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0" y="0"/>
          <a:ext cx="9906120" cy="5950080"/>
        </p:xfrm>
        <a:graphic>
          <a:graphicData uri="http://schemas.openxmlformats.org/drawingml/2006/table">
            <a:tbl>
              <a:tblPr/>
              <a:tblGrid>
                <a:gridCol w="3171960"/>
                <a:gridCol w="1306440"/>
                <a:gridCol w="1306440"/>
                <a:gridCol w="1500120"/>
                <a:gridCol w="1120680"/>
                <a:gridCol w="1500480"/>
              </a:tblGrid>
              <a:tr h="122400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Descrição /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19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21b2c9"/>
                          </a:solidFill>
                          <a:latin typeface="Constantia"/>
                          <a:ea typeface="Times New Roman"/>
                        </a:rPr>
                        <a:t>Variação % (92-0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78732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stablecimientos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9.6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7.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7.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4.0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8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Publ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7.0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8.3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5.0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2.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9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Feder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.3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.0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-3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stadu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.0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6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.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.3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-8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unicip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8.6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.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2.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9.7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166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Priva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2.5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9.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1.9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2.0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00"/>
                          </a:solidFill>
                          <a:latin typeface="Constantia"/>
                          <a:ea typeface="Times New Roman"/>
                        </a:rPr>
                        <a:t>8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Gráfico 4" descr=""/>
          <p:cNvPicPr/>
          <p:nvPr/>
        </p:nvPicPr>
        <p:blipFill>
          <a:blip r:embed="rId1"/>
          <a:stretch/>
        </p:blipFill>
        <p:spPr>
          <a:xfrm>
            <a:off x="0" y="-6480"/>
            <a:ext cx="9912240" cy="55720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5168880" y="3643560"/>
            <a:ext cx="4737240" cy="1632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*)- Não estão inclu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s os empregos administrativos Fonte: IBGE, Pesquisa Assistência M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co Sanit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ia ( v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ios a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tângulo 6"/>
          <p:cNvSpPr/>
          <p:nvPr/>
        </p:nvSpPr>
        <p:spPr>
          <a:xfrm>
            <a:off x="200160" y="5516640"/>
            <a:ext cx="9705960" cy="7340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Empleos de salud -Brasil, 1980.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-360" y="5877000"/>
            <a:ext cx="9906120" cy="80784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Empleos de salud por sector- Brasil, 1980..200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Gráfico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8720" cy="59626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0" y="-5515200"/>
            <a:ext cx="9906120" cy="11630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IBGE, Pesquisa Assistência M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dico Sanit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ia ( v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ios ano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Gráfico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918720" cy="58341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5168880" y="5142240"/>
            <a:ext cx="4737240" cy="596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(*)- Não estão inclu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dos os empregos administrativ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Fonte: IBGE, Pesquisa Assistência M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dico Sanit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ia ( v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ios ano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tângulo 6"/>
          <p:cNvSpPr/>
          <p:nvPr/>
        </p:nvSpPr>
        <p:spPr>
          <a:xfrm>
            <a:off x="200160" y="5732640"/>
            <a:ext cx="9705960" cy="8254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pt-BR" sz="2400" spc="-1" strike="noStrike">
                <a:solidFill>
                  <a:srgbClr val="7030a0"/>
                </a:solidFill>
                <a:latin typeface="Trebuchet MS"/>
              </a:rPr>
              <a:t>Evolución de Empleos por categorias profesionales-Brasil, 1980.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09:15:27Z</dcterms:created>
  <dc:creator>Celia Pierantone</dc:creator>
  <dc:description/>
  <dc:language>en-US</dc:language>
  <cp:lastModifiedBy>Pablo</cp:lastModifiedBy>
  <dcterms:modified xsi:type="dcterms:W3CDTF">2013-05-09T16:54:16Z</dcterms:modified>
  <cp:revision>224</cp:revision>
  <dc:subject/>
  <dc:title>Slide 1</dc:title>
</cp:coreProperties>
</file>