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move the slide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C784-3C51-487E-829C-2F09DBE946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BDFC-2C90-48E0-92BF-147310CD0A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3650F-8123-45CE-8587-32CD50BA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3E2F6-467E-4F9C-93FE-8008C0BE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E401-B0F8-49BE-AD88-969697FF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62D6C-9592-4535-8D8D-2D2323E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370D-7955-4191-8F9A-02FFA44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A7C13-0B7D-4E0B-B108-11A1B49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C84C2-EB70-46F6-8EE4-648ABFD8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BBC0-EE84-4362-B74A-FE37C3B7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D1BBB-0956-4EB8-BB19-873C53FE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0FC98-B400-4371-B46A-D6EBD5DC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C7772-49A4-4FBB-838F-6FB25B44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B6683-975E-4288-8482-CE1D1795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FB904-1A59-4BC3-AEE0-407EB67A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4CE7-1F3F-47FD-B8F2-122B4EA4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A4E01-B79A-49DE-8C69-C3003AFA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4480B-8D51-4DEE-A864-3354AAA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4CA0F-F749-42D8-88DF-57FD2CF3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83CE-B0F5-4613-ABA1-41BEAA39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CDF1A-D629-4D1A-8FD3-E2E2D464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4C4F-6368-4B2E-A93F-4E686454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516B-2DD5-4C0D-8F9B-35C2455C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8F654-529C-42BE-AB4C-7CDF59ED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B88FF-CF0A-4F83-AB7E-EBFED28C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B195F-587F-4C29-9E07-11716F2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256C9-262B-47B8-B52A-8ECFDD0B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75116-620C-4DA4-9D7B-972E6713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4D587-375A-488B-BB6C-B90C1039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3336F-E44C-4765-99A3-9B95F6E3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EFFD8-5781-45BC-86F5-290C0824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02187-0164-43C1-894A-188E01A4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5F678-0C96-44C1-9A87-65124CAB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A9D96-00DF-4C4C-8D52-E17460E6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CF56E-59C4-42ED-8DFB-4E7D9E7A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E9B-0565-402B-9FCD-18E83016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C1F-50A0-4592-A5F6-97224B0B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BD8-77A0-4EF5-BDB5-3B5C259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1C8-CE3E-4B40-8238-D4F23A38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602-6C83-4843-BED3-312E4988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893-99CE-49F2-B5AA-F9F80B7C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382-EF16-4784-84AB-B1E9B3F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E11-C83D-4413-9E1F-930F6EFD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D19-DA4F-4249-9617-199C5FB8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D67-23D2-4D77-B26F-34AECFEE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451-6787-4F43-B061-E3D39727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D21-3F9C-4522-A6EF-7180C7C5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6959-FE42-45E0-AB46-C0BF0536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8F04-1E76-4264-BF34-659F93BF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98D4-975E-4EFD-BB71-CB6AB229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40DB-4773-4CE9-8834-1412D5EC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F97D-C950-42AE-A8B8-FE69661E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846-B556-4B3F-B9E1-B628AF0C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E524-1934-40B6-8AD0-6AA4EFB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6F08-630B-460E-8089-BF93E6C9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9FD9-75FB-4CF2-B594-D8E94197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7BC4-0871-4EE2-840C-347D0B1D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AA33-593D-48B9-AD24-11099648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4715-45F4-4924-BAA8-41F1F9D3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84D2-0EF7-4764-977D-73E789A9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794A-1E1D-4A64-B268-D754B04E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87F5-D355-4FEF-B19C-A8A00B68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019B-6838-4BCC-B51F-CD4A4845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FDAE-65E5-4047-848C-4B37C3F2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6E55-FFF9-415A-817C-832FEC2A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FAD4-5A8F-43B0-827B-D33A7E2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666A-C4E7-49EB-A481-FC9C7DB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DD31-D9EA-45FF-8A05-12EF8D57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CA7F-D6EE-4E4B-8FD8-7E9BE854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4525-1E9B-4C5D-BC44-9548E614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15A8-90FD-4489-9BF1-BC7FC9E0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9D856-B29C-482C-AEF2-41CB87BB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2088-205B-4061-9C74-0291C590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A769-B90E-4A8B-8538-AFEAD04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1D83-7ACC-4065-96C9-283B438F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1C7A-C49F-45E4-A07B-17F2331C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C88F-5FE5-427D-A03D-D1FEDB8C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45EAF-2E99-424D-98DB-CFA4C3F0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CFDA-94BF-4569-9790-04307F4F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8BEF-B92A-40B0-9E8E-FF526DAE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5CBA-CAB3-4C25-A15D-6B71EED9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9D6C-04E1-489B-B791-436672CD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74E7-71DA-4AF9-8D3B-E71B51D8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1E22-EA54-43D0-92A8-BF97657B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A9245-299D-4A9D-9326-28440F9D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578C5-DD8A-4217-BFBC-0029F20A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E43A-5B4D-4233-A2F7-2269E53C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B7642-8583-492D-A9A6-3CF0291B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FC8FE-307E-48CD-B777-F0BE8949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077DD-3232-4AFB-B0F1-068539B5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E0C2-E4A0-42A7-A48A-FA86E11C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F7DE-7B58-4B38-9C50-4D83AE1A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0E363-D64E-4E03-A865-0D1FE105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C902-2040-445C-A978-5BF307DE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3003E-94B9-469E-8553-B439E62C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A0353-0938-4FA1-8908-9890EFFF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36238-84E4-4963-8C6A-FF339250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40A20-17B2-4293-A7BA-C36FF2FC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3567-EC43-4436-B3D1-D5A5302C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61966-1374-4879-AE3B-913618FA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780000" y="259920"/>
            <a:ext cx="490680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31A8-1D30-4E64-97F5-E3E5FEAA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327F1-D97A-46D6-885A-393FE60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DF14-D994-4373-9617-B7E9B439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186B-CF56-4EB9-948A-D7FF793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EE96D-2B5F-4DDD-B92E-682BA8DE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7E59D-7179-4870-9276-E120E998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DEDD8-B83C-4349-98A0-7CF2E1BC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08814-5D6F-4A50-8E10-68F81C84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6A89D-012E-4087-A32E-4DC6C592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C675-CB6C-4040-BEF4-AE5778AC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0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0E94-A1AA-483F-84FF-98933F191E1B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5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3961-5F18-4D30-BB6E-8939FB9DFB58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44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13 Grupo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8 Rectángulo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a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11 Imagen" descr=""/>
            <p:cNvPicPr/>
            <p:nvPr/>
          </p:nvPicPr>
          <p:blipFill>
            <a:blip r:embed="rId4"/>
            <a:stretch/>
          </p:blipFill>
          <p:spPr>
            <a:xfrm>
              <a:off x="2843640" y="44280"/>
              <a:ext cx="6046560" cy="65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10 Rectángulo redondeado"/>
          <p:cNvSpPr/>
          <p:nvPr/>
        </p:nvSpPr>
        <p:spPr>
          <a:xfrm>
            <a:off x="-214200" y="115920"/>
            <a:ext cx="608148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5 Grupo"/>
          <p:cNvGrpSpPr/>
          <p:nvPr/>
        </p:nvGrpSpPr>
        <p:grpSpPr>
          <a:xfrm>
            <a:off x="485640" y="285840"/>
            <a:ext cx="5310360" cy="795240"/>
            <a:chOff x="485640" y="285840"/>
            <a:chExt cx="5310360" cy="795240"/>
          </a:xfrm>
        </p:grpSpPr>
        <p:pic>
          <p:nvPicPr>
            <p:cNvPr id="51" name="14 Imagen" descr="Prosperidad RGB.jpg"/>
            <p:cNvPicPr/>
            <p:nvPr/>
          </p:nvPicPr>
          <p:blipFill>
            <a:blip r:embed="rId5"/>
            <a:srcRect l="12297" t="37402" r="11486" b="37402"/>
            <a:stretch/>
          </p:blipFill>
          <p:spPr>
            <a:xfrm>
              <a:off x="3564000" y="404640"/>
              <a:ext cx="2232000" cy="5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15 Imagen" descr="Logo 2012 Invima min.jpg"/>
            <p:cNvPicPr/>
            <p:nvPr/>
          </p:nvPicPr>
          <p:blipFill>
            <a:blip r:embed="rId6"/>
            <a:stretch/>
          </p:blipFill>
          <p:spPr>
            <a:xfrm>
              <a:off x="485640" y="285840"/>
              <a:ext cx="3015000" cy="7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9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B4BB-558B-48C4-8317-B95BDF3C3389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13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DA1B-CB90-455B-B60F-692E330F6ED5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18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A87B-6849-4808-ABE0-0B4679C2B6FB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22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FD66-7B57-4105-8374-E16676BC6A8F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27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7695-A8CE-44B9-99CB-D9A962911F3E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318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E21C-E99A-4236-972A-A54ACD5A15A1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6 Rectángulo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a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8 Grupo"/>
          <p:cNvGrpSpPr/>
          <p:nvPr/>
        </p:nvGrpSpPr>
        <p:grpSpPr>
          <a:xfrm>
            <a:off x="71280" y="571680"/>
            <a:ext cx="3819600" cy="571320"/>
            <a:chOff x="71280" y="571680"/>
            <a:chExt cx="3819600" cy="571320"/>
          </a:xfrm>
        </p:grpSpPr>
        <p:pic>
          <p:nvPicPr>
            <p:cNvPr id="363" name="9 Imagen" descr="Prosperidad RGB.jpg"/>
            <p:cNvPicPr/>
            <p:nvPr/>
          </p:nvPicPr>
          <p:blipFill>
            <a:blip r:embed="rId2"/>
            <a:srcRect l="12299" t="37406" r="11479" b="37406"/>
            <a:stretch/>
          </p:blipFill>
          <p:spPr>
            <a:xfrm>
              <a:off x="2285280" y="657000"/>
              <a:ext cx="16056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10 Imagen" descr="Logo 2012 Invima min.jpg"/>
            <p:cNvPicPr/>
            <p:nvPr/>
          </p:nvPicPr>
          <p:blipFill>
            <a:blip r:embed="rId3"/>
            <a:stretch/>
          </p:blipFill>
          <p:spPr>
            <a:xfrm>
              <a:off x="71280" y="571680"/>
              <a:ext cx="21686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0ba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879B-743E-4533-966B-806DC635A964}" type="slidenum">
              <a:rPr b="0" lang="es-CO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vima.gov.co/" TargetMode="External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5 Rectángulo redondeado"/>
          <p:cNvGrpSpPr/>
          <p:nvPr/>
        </p:nvGrpSpPr>
        <p:grpSpPr>
          <a:xfrm>
            <a:off x="2895480" y="1109520"/>
            <a:ext cx="3316320" cy="3054600"/>
            <a:chOff x="2895480" y="1109520"/>
            <a:chExt cx="3316320" cy="3054600"/>
          </a:xfrm>
        </p:grpSpPr>
        <p:pic>
          <p:nvPicPr>
            <p:cNvPr id="504" name="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895480" y="1109520"/>
              <a:ext cx="3316320" cy="30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 rot="1510200">
              <a:off x="3244320" y="1598760"/>
              <a:ext cx="2622600" cy="20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3 Grupo"/>
          <p:cNvGrpSpPr/>
          <p:nvPr/>
        </p:nvGrpSpPr>
        <p:grpSpPr>
          <a:xfrm>
            <a:off x="536400" y="3933720"/>
            <a:ext cx="8280720" cy="2232000"/>
            <a:chOff x="536400" y="3933720"/>
            <a:chExt cx="8280720" cy="2232000"/>
          </a:xfrm>
        </p:grpSpPr>
        <p:sp>
          <p:nvSpPr>
            <p:cNvPr id="507" name="7 Redondear rectángulo de esquina del mismo lado"/>
            <p:cNvSpPr/>
            <p:nvPr/>
          </p:nvSpPr>
          <p:spPr>
            <a:xfrm rot="10800000">
              <a:off x="536400" y="3933360"/>
              <a:ext cx="8280720" cy="2232000"/>
            </a:xfrm>
            <a:custGeom>
              <a:avLst/>
              <a:gdLst/>
              <a:ahLst/>
              <a:rect l="l" t="t" r="r" b="b"/>
              <a:pathLst>
                <a:path w="6480001" h="1800001">
                  <a:moveTo>
                    <a:pt x="189000" y="0"/>
                  </a:moveTo>
                  <a:lnTo>
                    <a:pt x="6291001" y="0"/>
                  </a:lnTo>
                  <a:cubicBezTo>
                    <a:pt x="6395383" y="0"/>
                    <a:pt x="6480001" y="84618"/>
                    <a:pt x="6480001" y="189000"/>
                  </a:cubicBezTo>
                  <a:lnTo>
                    <a:pt x="6480001" y="1800001"/>
                  </a:lnTo>
                  <a:lnTo>
                    <a:pt x="6480001" y="1800001"/>
                  </a:lnTo>
                  <a:lnTo>
                    <a:pt x="0" y="1800001"/>
                  </a:lnTo>
                  <a:lnTo>
                    <a:pt x="0" y="1800001"/>
                  </a:lnTo>
                  <a:lnTo>
                    <a:pt x="0" y="189000"/>
                  </a:lnTo>
                  <a:cubicBezTo>
                    <a:pt x="0" y="84618"/>
                    <a:pt x="84618" y="0"/>
                    <a:pt x="1890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dondear rectángulo de esquina del mismo lado 5"/>
            <p:cNvSpPr/>
            <p:nvPr/>
          </p:nvSpPr>
          <p:spPr>
            <a:xfrm>
              <a:off x="536400" y="4106520"/>
              <a:ext cx="8280720" cy="20592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O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IMA</a:t>
              </a:r>
              <a:r>
                <a:rPr b="1" lang="es-CO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CO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CIÓN DE MEDICAMENTOS Y PRODUCTOS BIOLÓGIC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Grupos Internos de Trabajo - 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27" name="9 CuadroTexto"/>
          <p:cNvSpPr/>
          <p:nvPr/>
        </p:nvSpPr>
        <p:spPr>
          <a:xfrm>
            <a:off x="285840" y="6000840"/>
            <a:ext cx="8715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onformación de Grupos Internos de Trabajo establecidos en la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Resolución No. 2012033945 del 15 de Noviembre de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94 Grupo"/>
          <p:cNvGrpSpPr/>
          <p:nvPr/>
        </p:nvGrpSpPr>
        <p:grpSpPr>
          <a:xfrm>
            <a:off x="285840" y="1994040"/>
            <a:ext cx="8715240" cy="3811320"/>
            <a:chOff x="285840" y="1994040"/>
            <a:chExt cx="8715240" cy="3811320"/>
          </a:xfrm>
        </p:grpSpPr>
        <p:sp>
          <p:nvSpPr>
            <p:cNvPr id="529" name="7 Rectángulo"/>
            <p:cNvSpPr/>
            <p:nvPr/>
          </p:nvSpPr>
          <p:spPr>
            <a:xfrm>
              <a:off x="3237840" y="1994040"/>
              <a:ext cx="258012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DIRECCIÓN DE MEDICAMENTOS Y PRODUCTOS BIOLÓG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102 Rectángulo"/>
            <p:cNvSpPr/>
            <p:nvPr/>
          </p:nvSpPr>
          <p:spPr>
            <a:xfrm>
              <a:off x="285840" y="471024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</a:rPr>
                <a:t>Grupo  de Apoyo de las Salas Especializadas de la Comisión Reviso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136 Conector recto"/>
            <p:cNvSpPr/>
            <p:nvPr/>
          </p:nvSpPr>
          <p:spPr>
            <a:xfrm>
              <a:off x="988560" y="4351320"/>
              <a:ext cx="7309800" cy="1800"/>
            </a:xfrm>
            <a:prstGeom prst="line">
              <a:avLst/>
            </a:prstGeom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8 Conector recto"/>
            <p:cNvSpPr/>
            <p:nvPr/>
          </p:nvSpPr>
          <p:spPr>
            <a:xfrm>
              <a:off x="4624560" y="3085920"/>
              <a:ext cx="0" cy="130176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9 Conector recto"/>
            <p:cNvSpPr/>
            <p:nvPr/>
          </p:nvSpPr>
          <p:spPr>
            <a:xfrm flipH="1">
              <a:off x="3868920" y="4388040"/>
              <a:ext cx="1440" cy="32544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10 Conector recto"/>
            <p:cNvSpPr/>
            <p:nvPr/>
          </p:nvSpPr>
          <p:spPr>
            <a:xfrm flipH="1">
              <a:off x="5345280" y="4388040"/>
              <a:ext cx="1440" cy="32544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11 Conector recto"/>
            <p:cNvSpPr/>
            <p:nvPr/>
          </p:nvSpPr>
          <p:spPr>
            <a:xfrm flipH="1">
              <a:off x="6751800" y="4388040"/>
              <a:ext cx="1440" cy="32544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102 Rectángulo"/>
            <p:cNvSpPr/>
            <p:nvPr/>
          </p:nvSpPr>
          <p:spPr>
            <a:xfrm>
              <a:off x="1761840" y="471312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Técnico de Medicamentos y Productos Biológ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102 Rectángulo"/>
            <p:cNvSpPr/>
            <p:nvPr/>
          </p:nvSpPr>
          <p:spPr>
            <a:xfrm>
              <a:off x="3237840" y="471312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Programas Especi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102 Rectángulo"/>
            <p:cNvSpPr/>
            <p:nvPr/>
          </p:nvSpPr>
          <p:spPr>
            <a:xfrm>
              <a:off x="4713840" y="4713480"/>
              <a:ext cx="1335240" cy="1091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Registros Sanitarios de Medicamentos y Productos Biológic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102 Rectángulo"/>
            <p:cNvSpPr/>
            <p:nvPr/>
          </p:nvSpPr>
          <p:spPr>
            <a:xfrm>
              <a:off x="6189840" y="4713480"/>
              <a:ext cx="1335240" cy="1091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Registros Sanitarios de Fitoterapéuticos, Homeopáticos y suplement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102 Rectángulo"/>
            <p:cNvSpPr/>
            <p:nvPr/>
          </p:nvSpPr>
          <p:spPr>
            <a:xfrm>
              <a:off x="7665840" y="4713120"/>
              <a:ext cx="13352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Grupo de Publicida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17 Conector recto"/>
            <p:cNvSpPr/>
            <p:nvPr/>
          </p:nvSpPr>
          <p:spPr>
            <a:xfrm flipH="1">
              <a:off x="2392200" y="4351320"/>
              <a:ext cx="1440" cy="36180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18 Conector recto"/>
            <p:cNvSpPr/>
            <p:nvPr/>
          </p:nvSpPr>
          <p:spPr>
            <a:xfrm flipH="1">
              <a:off x="8298000" y="4351320"/>
              <a:ext cx="1440" cy="32688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19 Conector recto"/>
            <p:cNvSpPr/>
            <p:nvPr/>
          </p:nvSpPr>
          <p:spPr>
            <a:xfrm flipH="1">
              <a:off x="988920" y="4351320"/>
              <a:ext cx="1440" cy="326880"/>
            </a:xfrm>
            <a:prstGeom prst="line">
              <a:avLst/>
            </a:prstGeom>
            <a:ln w="28440">
              <a:solidFill>
                <a:srgbClr val="00a0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495360" y="1214280"/>
            <a:ext cx="806616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174680" y="1197000"/>
            <a:ext cx="685332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grpSp>
        <p:nvGrpSpPr>
          <p:cNvPr id="549" name="12 Grupo"/>
          <p:cNvGrpSpPr/>
          <p:nvPr/>
        </p:nvGrpSpPr>
        <p:grpSpPr>
          <a:xfrm>
            <a:off x="468360" y="1268280"/>
            <a:ext cx="8229600" cy="5199480"/>
            <a:chOff x="468360" y="1268280"/>
            <a:chExt cx="8229600" cy="5199480"/>
          </a:xfrm>
        </p:grpSpPr>
        <p:sp>
          <p:nvSpPr>
            <p:cNvPr id="550" name="Rectangle 2"/>
            <p:cNvSpPr/>
            <p:nvPr/>
          </p:nvSpPr>
          <p:spPr>
            <a:xfrm>
              <a:off x="680040" y="1268280"/>
              <a:ext cx="80179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008000"/>
                  </a:solidFill>
                  <a:latin typeface="Calibri"/>
                </a:rPr>
                <a:t>VIGILANCIA EN SALUD PÚB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24 Grupo"/>
            <p:cNvGrpSpPr/>
            <p:nvPr/>
          </p:nvGrpSpPr>
          <p:grpSpPr>
            <a:xfrm>
              <a:off x="468360" y="1708920"/>
              <a:ext cx="8222040" cy="4758840"/>
              <a:chOff x="468360" y="1708920"/>
              <a:chExt cx="8222040" cy="4758840"/>
            </a:xfrm>
          </p:grpSpPr>
          <p:sp>
            <p:nvSpPr>
              <p:cNvPr id="552" name="Oval 4"/>
              <p:cNvSpPr/>
              <p:nvPr/>
            </p:nvSpPr>
            <p:spPr>
              <a:xfrm>
                <a:off x="2093760" y="1708920"/>
                <a:ext cx="5939280" cy="3321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5"/>
              <p:cNvSpPr/>
              <p:nvPr/>
            </p:nvSpPr>
            <p:spPr>
              <a:xfrm>
                <a:off x="2984760" y="2454480"/>
                <a:ext cx="2593800" cy="17481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6"/>
              <p:cNvSpPr/>
              <p:nvPr/>
            </p:nvSpPr>
            <p:spPr>
              <a:xfrm>
                <a:off x="5383800" y="2657880"/>
                <a:ext cx="1671840" cy="13399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7"/>
              <p:cNvSpPr/>
              <p:nvPr/>
            </p:nvSpPr>
            <p:spPr>
              <a:xfrm>
                <a:off x="5368320" y="2971080"/>
                <a:ext cx="244080" cy="6973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697320"/>
                  <a:gd name="textAreaBottom" fmla="*/ 697680 h 697320"/>
                </a:gdLst>
                <a:ahLst/>
                <a:rect l="textAreaLeft" t="textAreaTop" r="textAreaRight" b="textAreaBottom"/>
                <a:pathLst>
                  <a:path w="204" h="574">
                    <a:moveTo>
                      <a:pt x="120" y="0"/>
                    </a:moveTo>
                    <a:cubicBezTo>
                      <a:pt x="112" y="12"/>
                      <a:pt x="99" y="25"/>
                      <a:pt x="88" y="36"/>
                    </a:cubicBezTo>
                    <a:cubicBezTo>
                      <a:pt x="83" y="50"/>
                      <a:pt x="86" y="44"/>
                      <a:pt x="80" y="54"/>
                    </a:cubicBezTo>
                    <a:cubicBezTo>
                      <a:pt x="77" y="67"/>
                      <a:pt x="74" y="84"/>
                      <a:pt x="62" y="92"/>
                    </a:cubicBezTo>
                    <a:cubicBezTo>
                      <a:pt x="57" y="106"/>
                      <a:pt x="64" y="91"/>
                      <a:pt x="54" y="102"/>
                    </a:cubicBezTo>
                    <a:cubicBezTo>
                      <a:pt x="51" y="106"/>
                      <a:pt x="46" y="114"/>
                      <a:pt x="46" y="114"/>
                    </a:cubicBezTo>
                    <a:cubicBezTo>
                      <a:pt x="43" y="136"/>
                      <a:pt x="39" y="163"/>
                      <a:pt x="28" y="182"/>
                    </a:cubicBezTo>
                    <a:cubicBezTo>
                      <a:pt x="24" y="190"/>
                      <a:pt x="16" y="194"/>
                      <a:pt x="12" y="202"/>
                    </a:cubicBezTo>
                    <a:cubicBezTo>
                      <a:pt x="10" y="206"/>
                      <a:pt x="8" y="214"/>
                      <a:pt x="8" y="214"/>
                    </a:cubicBezTo>
                    <a:cubicBezTo>
                      <a:pt x="6" y="251"/>
                      <a:pt x="0" y="319"/>
                      <a:pt x="12" y="354"/>
                    </a:cubicBezTo>
                    <a:cubicBezTo>
                      <a:pt x="17" y="369"/>
                      <a:pt x="25" y="380"/>
                      <a:pt x="28" y="396"/>
                    </a:cubicBezTo>
                    <a:cubicBezTo>
                      <a:pt x="31" y="424"/>
                      <a:pt x="47" y="485"/>
                      <a:pt x="64" y="508"/>
                    </a:cubicBezTo>
                    <a:cubicBezTo>
                      <a:pt x="67" y="516"/>
                      <a:pt x="69" y="519"/>
                      <a:pt x="76" y="524"/>
                    </a:cubicBezTo>
                    <a:cubicBezTo>
                      <a:pt x="82" y="541"/>
                      <a:pt x="91" y="568"/>
                      <a:pt x="110" y="574"/>
                    </a:cubicBezTo>
                    <a:cubicBezTo>
                      <a:pt x="111" y="572"/>
                      <a:pt x="112" y="570"/>
                      <a:pt x="114" y="568"/>
                    </a:cubicBezTo>
                    <a:cubicBezTo>
                      <a:pt x="116" y="566"/>
                      <a:pt x="118" y="566"/>
                      <a:pt x="120" y="564"/>
                    </a:cubicBezTo>
                    <a:cubicBezTo>
                      <a:pt x="127" y="555"/>
                      <a:pt x="130" y="539"/>
                      <a:pt x="134" y="528"/>
                    </a:cubicBezTo>
                    <a:cubicBezTo>
                      <a:pt x="136" y="521"/>
                      <a:pt x="142" y="516"/>
                      <a:pt x="146" y="510"/>
                    </a:cubicBezTo>
                    <a:cubicBezTo>
                      <a:pt x="147" y="508"/>
                      <a:pt x="150" y="504"/>
                      <a:pt x="150" y="504"/>
                    </a:cubicBezTo>
                    <a:cubicBezTo>
                      <a:pt x="154" y="489"/>
                      <a:pt x="159" y="469"/>
                      <a:pt x="168" y="456"/>
                    </a:cubicBezTo>
                    <a:cubicBezTo>
                      <a:pt x="171" y="442"/>
                      <a:pt x="174" y="430"/>
                      <a:pt x="184" y="420"/>
                    </a:cubicBezTo>
                    <a:cubicBezTo>
                      <a:pt x="193" y="382"/>
                      <a:pt x="194" y="342"/>
                      <a:pt x="204" y="304"/>
                    </a:cubicBezTo>
                    <a:cubicBezTo>
                      <a:pt x="203" y="286"/>
                      <a:pt x="203" y="268"/>
                      <a:pt x="202" y="250"/>
                    </a:cubicBezTo>
                    <a:cubicBezTo>
                      <a:pt x="202" y="242"/>
                      <a:pt x="196" y="226"/>
                      <a:pt x="196" y="226"/>
                    </a:cubicBezTo>
                    <a:cubicBezTo>
                      <a:pt x="194" y="210"/>
                      <a:pt x="196" y="204"/>
                      <a:pt x="198" y="188"/>
                    </a:cubicBezTo>
                    <a:cubicBezTo>
                      <a:pt x="196" y="166"/>
                      <a:pt x="197" y="151"/>
                      <a:pt x="184" y="134"/>
                    </a:cubicBezTo>
                    <a:cubicBezTo>
                      <a:pt x="181" y="125"/>
                      <a:pt x="177" y="119"/>
                      <a:pt x="174" y="110"/>
                    </a:cubicBezTo>
                    <a:cubicBezTo>
                      <a:pt x="173" y="108"/>
                      <a:pt x="172" y="104"/>
                      <a:pt x="172" y="104"/>
                    </a:cubicBezTo>
                    <a:cubicBezTo>
                      <a:pt x="169" y="69"/>
                      <a:pt x="160" y="44"/>
                      <a:pt x="130" y="24"/>
                    </a:cubicBezTo>
                    <a:cubicBezTo>
                      <a:pt x="127" y="14"/>
                      <a:pt x="120" y="9"/>
                      <a:pt x="120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8"/>
              <p:cNvSpPr/>
              <p:nvPr/>
            </p:nvSpPr>
            <p:spPr>
              <a:xfrm>
                <a:off x="3903480" y="3132360"/>
                <a:ext cx="74988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9"/>
              <p:cNvSpPr/>
              <p:nvPr/>
            </p:nvSpPr>
            <p:spPr>
              <a:xfrm>
                <a:off x="6126120" y="3132360"/>
                <a:ext cx="74988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2"/>
              <p:cNvSpPr/>
              <p:nvPr/>
            </p:nvSpPr>
            <p:spPr>
              <a:xfrm>
                <a:off x="5516640" y="3335400"/>
                <a:ext cx="0" cy="223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3"/>
              <p:cNvSpPr/>
              <p:nvPr/>
            </p:nvSpPr>
            <p:spPr>
              <a:xfrm>
                <a:off x="4848480" y="5558400"/>
                <a:ext cx="3841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ecnovigilancia y Farmacovigilanci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4"/>
              <p:cNvSpPr/>
              <p:nvPr/>
            </p:nvSpPr>
            <p:spPr>
              <a:xfrm>
                <a:off x="468360" y="5301360"/>
                <a:ext cx="519480" cy="3387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5"/>
              <p:cNvSpPr/>
              <p:nvPr/>
            </p:nvSpPr>
            <p:spPr>
              <a:xfrm>
                <a:off x="468360" y="5707800"/>
                <a:ext cx="519480" cy="3387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6"/>
              <p:cNvSpPr/>
              <p:nvPr/>
            </p:nvSpPr>
            <p:spPr>
              <a:xfrm>
                <a:off x="468360" y="6114600"/>
                <a:ext cx="519480" cy="3387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7"/>
              <p:cNvSpPr/>
              <p:nvPr/>
            </p:nvSpPr>
            <p:spPr>
              <a:xfrm>
                <a:off x="468360" y="4894560"/>
                <a:ext cx="519480" cy="3387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8"/>
              <p:cNvSpPr/>
              <p:nvPr/>
            </p:nvSpPr>
            <p:spPr>
              <a:xfrm>
                <a:off x="987840" y="4943880"/>
                <a:ext cx="2820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igilancia en Salud Públic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19"/>
              <p:cNvSpPr/>
              <p:nvPr/>
            </p:nvSpPr>
            <p:spPr>
              <a:xfrm>
                <a:off x="987840" y="5325480"/>
                <a:ext cx="341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igilancia Epidemiológic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20"/>
              <p:cNvSpPr/>
              <p:nvPr/>
            </p:nvSpPr>
            <p:spPr>
              <a:xfrm>
                <a:off x="987840" y="5770080"/>
                <a:ext cx="341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Vigilancia Sanitari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21"/>
              <p:cNvSpPr/>
              <p:nvPr/>
            </p:nvSpPr>
            <p:spPr>
              <a:xfrm>
                <a:off x="987840" y="6114600"/>
                <a:ext cx="341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unto convergente VE-V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738360" y="1447920"/>
            <a:ext cx="766728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bacc6"/>
                </a:solidFill>
                <a:latin typeface="Arial Black"/>
              </a:rPr>
              <a:t>PROGRAMA NACIONAL DE FARMACOVIGILANCIA</a:t>
            </a: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Programa Nacional de Farmacovigilancia, se encarga del tramite de información sobre la seguridad de los medicamentos comercializados en Colombia, con el fin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r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ón beneficio / ries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los mismos, y realizar la respectiv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uni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s profesionales de la salud y pacientes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icionalmente se llevan a cabo actividades de promoción y fortalecimiento de la Red Nacional de Farmacovigilancia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bacc6"/>
                </a:solidFill>
                <a:latin typeface="Arial Black"/>
              </a:rPr>
              <a:t>ACTIVIDADES FUNDAMENTALES FARMACOVIGILANCIA</a:t>
            </a:r>
            <a:endParaRPr b="1" lang="en-US" sz="2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125000"/>
            <a:ext cx="8229600" cy="523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epción, Ingreso a la base de datos SIVICOS, análisis y respuesta 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portes de RAM y fallos terapéuticos o problemas relacionados con los medicament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ortalecimiento de la Red Nacional de Farmacovigilanci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por medio de visitas de capacitación y asistencia técnica a IPS y Direcciones Territoriales de Salud. Como también visitas de seguimiento a laboratorios farmacéuticos y titulares de R.S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activa d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lertas de seguridad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tramite de las mismas, elaboración de informes de seguridad, comunicados de prensa y alertas nacionales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aboración de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oletines de Farmacovigilanci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otificación periódica de RAM Periódica 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UPPSAL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as (Incentivar en la farmacovigilancia Activa).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a0ba"/>
                </a:solidFill>
                <a:latin typeface="Arial Black"/>
              </a:rPr>
              <a:t>ACTORES QUE ARTICULAN A NIVEL NACIONAL - </a:t>
            </a:r>
            <a:r>
              <a:rPr b="1" lang="es-MX" sz="1800" spc="-1" strike="noStrike">
                <a:solidFill>
                  <a:srgbClr val="4bacc6"/>
                </a:solidFill>
                <a:latin typeface="Arial Black"/>
              </a:rPr>
              <a:t>FARMACOVIGILANCIA</a:t>
            </a:r>
            <a:endParaRPr b="1" lang="en-US" sz="18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75" name="3 Marcador de contenido" descr=""/>
          <p:cNvPicPr/>
          <p:nvPr/>
        </p:nvPicPr>
        <p:blipFill>
          <a:blip r:embed="rId1"/>
          <a:stretch/>
        </p:blipFill>
        <p:spPr>
          <a:xfrm>
            <a:off x="1231920" y="1603440"/>
            <a:ext cx="6656400" cy="3468600"/>
          </a:xfrm>
          <a:prstGeom prst="rect">
            <a:avLst/>
          </a:prstGeom>
          <a:ln w="0">
            <a:noFill/>
          </a:ln>
        </p:spPr>
      </p:pic>
      <p:sp>
        <p:nvSpPr>
          <p:cNvPr id="576" name="4 Rectángulo"/>
          <p:cNvSpPr/>
          <p:nvPr/>
        </p:nvSpPr>
        <p:spPr>
          <a:xfrm>
            <a:off x="428760" y="5000760"/>
            <a:ext cx="77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programa de Farmacovigilancia es liderado por el INVIMA, con apoyo de las DTS; los NRF son las DTS que cuentan con un desarrollo considerable en FV (Antioquia, Atlántico, Cartagena, Barranquilla y Nariño); no es descentralización, es apoyo en ciertas actividades, como visitas, toma de muestr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a0ba"/>
                </a:solidFill>
                <a:latin typeface="Arial Black"/>
              </a:rPr>
              <a:t>ENLACES DE   - </a:t>
            </a:r>
            <a:r>
              <a:rPr b="1" lang="es-MX" sz="2000" spc="-1" strike="noStrike">
                <a:solidFill>
                  <a:srgbClr val="4bacc6"/>
                </a:solidFill>
                <a:latin typeface="Arial Black"/>
              </a:rPr>
              <a:t>FARMACOVIGILANCIA</a:t>
            </a:r>
            <a:r>
              <a:rPr b="1" lang="es-MX" sz="2000" spc="-1" strike="noStrike">
                <a:solidFill>
                  <a:srgbClr val="00a0ba"/>
                </a:solidFill>
                <a:latin typeface="Arial Black"/>
              </a:rPr>
              <a:t>RED</a:t>
            </a:r>
            <a:endParaRPr b="1" lang="en-US" sz="2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78" name="9 Marcador de contenido" descr="Imagen1.png"/>
          <p:cNvPicPr/>
          <p:nvPr/>
        </p:nvPicPr>
        <p:blipFill>
          <a:blip r:embed="rId1"/>
          <a:stretch/>
        </p:blipFill>
        <p:spPr>
          <a:xfrm>
            <a:off x="457200" y="1847880"/>
            <a:ext cx="8229600" cy="4357800"/>
          </a:xfrm>
          <a:prstGeom prst="rect">
            <a:avLst/>
          </a:prstGeom>
          <a:ln w="0">
            <a:noFill/>
          </a:ln>
        </p:spPr>
      </p:pic>
      <p:cxnSp>
        <p:nvCxnSpPr>
          <p:cNvPr id="579" name="AutoShape 13"/>
          <p:cNvCxnSpPr/>
          <p:nvPr/>
        </p:nvCxnSpPr>
        <p:spPr>
          <a:xfrm>
            <a:off x="6428880" y="4142880"/>
            <a:ext cx="79308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a0ba"/>
                </a:solidFill>
                <a:latin typeface="Arial Black"/>
              </a:rPr>
              <a:t>PROGRAMA DEMUESTRA LA CALIDAD</a:t>
            </a: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68360" y="184464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s un programa nacional para </a:t>
            </a:r>
            <a:r>
              <a:rPr b="1" i="1" lang="es-CO" sz="2400" spc="-1" strike="noStrike">
                <a:solidFill>
                  <a:srgbClr val="000000"/>
                </a:solidFill>
                <a:latin typeface="Arial"/>
              </a:rPr>
              <a:t>LA VERIFICACIÓN DE LA CALIDAD DE MUESTRAS DE MEDICAMENTOS QUE SE CONSUMEN EN EL PAÍS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, seleccionados de acuerdo a </a:t>
            </a:r>
            <a:r>
              <a:rPr b="1" i="1" lang="es-CO" sz="2400" spc="-1" strike="noStrike">
                <a:solidFill>
                  <a:srgbClr val="000000"/>
                </a:solidFill>
                <a:latin typeface="Arial"/>
              </a:rPr>
              <a:t>CRITERIOS DE ALTO CONSUMO, RELEVANCIA CLÍNICA E IMPACTO EN SALUD PÚBLICA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, a los cuales se les realizan análisis de control de calidad con el fin de verificar el cumplimien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n sus especificaciones físicas, químicas y microbiológicas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Nació en el año 2004 como una iniciativa de la Dirección INVIMA y EL Ministerio de Protección Social, año desde el cual se ha venido realizando el programa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4 Marcador de texto"/>
          <p:cNvSpPr/>
          <p:nvPr/>
        </p:nvSpPr>
        <p:spPr>
          <a:xfrm>
            <a:off x="755640" y="177336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D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BLANCA ELVIRA CAJIGAS DE ACO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Directora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  <a:ea typeface="Arial"/>
              </a:rPr>
              <a:t>IN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4 Marcador de texto"/>
          <p:cNvSpPr/>
          <p:nvPr/>
        </p:nvSpPr>
        <p:spPr>
          <a:xfrm>
            <a:off x="755640" y="3716280"/>
            <a:ext cx="7772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D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CARLOS AUGUSTO SÁNCHEZ ESTUPIÑÁ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Direc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Dirección de Medicamentos y Productos Biológic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300" spc="-1" strike="noStrike">
                <a:solidFill>
                  <a:srgbClr val="ffffff"/>
                </a:solidFill>
                <a:latin typeface="Arial"/>
                <a:ea typeface="Arial"/>
              </a:rPr>
              <a:t>INVI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a0ba"/>
                </a:solidFill>
                <a:latin typeface="Arial Black"/>
              </a:rPr>
              <a:t>Programa de Trazabilidad</a:t>
            </a: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534960" y="1569960"/>
            <a:ext cx="792000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a trazabilidad es una herramienta eficiente para controlar en TIEMPO REAL las transacciones de los medicamentos, verificar el origen de los mismos, registrar la historia de localizaciones y traslados a lo largo de toda la CADENA DE DISTRIB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9 Grupo"/>
          <p:cNvGrpSpPr/>
          <p:nvPr/>
        </p:nvGrpSpPr>
        <p:grpSpPr>
          <a:xfrm>
            <a:off x="1042920" y="4024440"/>
            <a:ext cx="6669000" cy="2428920"/>
            <a:chOff x="1042920" y="4024440"/>
            <a:chExt cx="6669000" cy="2428920"/>
          </a:xfrm>
        </p:grpSpPr>
        <p:pic>
          <p:nvPicPr>
            <p:cNvPr id="585" name="Picture 39" descr="Diagrama Completo"/>
            <p:cNvPicPr/>
            <p:nvPr/>
          </p:nvPicPr>
          <p:blipFill>
            <a:blip r:embed="rId1"/>
            <a:stretch/>
          </p:blipFill>
          <p:spPr>
            <a:xfrm>
              <a:off x="1042920" y="4024440"/>
              <a:ext cx="6669000" cy="2428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86" name="Text Box 6"/>
            <p:cNvSpPr/>
            <p:nvPr/>
          </p:nvSpPr>
          <p:spPr>
            <a:xfrm>
              <a:off x="7020000" y="4816440"/>
              <a:ext cx="5029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1 Título"/>
          <p:cNvSpPr/>
          <p:nvPr/>
        </p:nvSpPr>
        <p:spPr>
          <a:xfrm>
            <a:off x="3924360" y="331920"/>
            <a:ext cx="511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99ff"/>
                </a:solidFill>
                <a:latin typeface="Arial"/>
                <a:ea typeface="Arial"/>
              </a:rPr>
              <a:t>DESARROLLO DEL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99ff"/>
                </a:solidFill>
                <a:latin typeface="Arial"/>
                <a:ea typeface="Arial"/>
              </a:rPr>
              <a:t>JUNIO 2012 – FEBRERO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0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9001080" cy="4572000"/>
          </a:xfrm>
          <a:prstGeom prst="rect">
            <a:avLst/>
          </a:prstGeom>
          <a:ln w="0">
            <a:noFill/>
          </a:ln>
        </p:spPr>
      </p:pic>
      <p:sp>
        <p:nvSpPr>
          <p:cNvPr id="589" name="1 Marcador de contenido"/>
          <p:cNvSpPr/>
          <p:nvPr/>
        </p:nvSpPr>
        <p:spPr>
          <a:xfrm>
            <a:off x="285840" y="1413000"/>
            <a:ext cx="8246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ETE (7) CIUDADES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2) Fronteri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)De difícil acces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4)Densamente pobla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1 CuadroTexto"/>
          <p:cNvSpPr/>
          <p:nvPr/>
        </p:nvSpPr>
        <p:spPr>
          <a:xfrm>
            <a:off x="2286000" y="281304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a0ba"/>
                </a:solidFill>
                <a:latin typeface="Arial"/>
              </a:rPr>
              <a:t>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1643040" y="4857840"/>
            <a:ext cx="57466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1"/>
              </a:rPr>
              <a:t>www.invima.gov.co</a:t>
            </a:r>
            <a:br>
              <a:rPr sz="1600"/>
            </a:br>
            <a:r>
              <a:rPr b="1" lang="es-ES" sz="1600" spc="-1" strike="noStrike">
                <a:solidFill>
                  <a:srgbClr val="00a0ba"/>
                </a:solidFill>
                <a:latin typeface="Arial"/>
                <a:ea typeface="ＭＳ Ｐゴシック"/>
              </a:rPr>
              <a:t> Carrera 68 D No. 17-11  -   Bogotá, D.C. Colombia.</a:t>
            </a:r>
            <a:br>
              <a:rPr sz="1600"/>
            </a:br>
            <a:r>
              <a:rPr b="1" lang="es-ES" sz="1600" spc="-1" strike="noStrike">
                <a:solidFill>
                  <a:srgbClr val="00a0ba"/>
                </a:solidFill>
                <a:latin typeface="Arial"/>
                <a:ea typeface="ＭＳ Ｐゴシック"/>
              </a:rPr>
              <a:t>Teléfono: (1)2948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440" y="21384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INVIMA</a:t>
            </a:r>
            <a:endParaRPr b="1" lang="en-US" sz="4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8584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Es un establecimiento público del orden nacional, con personería jurídica, autonomía administrativa y patrimonio independiente, adscrito al Ministerio de Salud y Protección Social y perteneciente al SNS, de carácter científico y tecnológico, creado por la ley 100 de 1993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宋体"/>
              </a:rPr>
              <a:t>y precisadas sus funciones mediante el Decreto 2078 de 2012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宋体"/>
              </a:rPr>
              <a:t>Encargado de ejecutar las políticas formuladas por el Ministerio de Salud y Protección Social en materia de vigilancia sanitaria y control de calidad de los productos de su competencia.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INVIMA</a:t>
            </a:r>
            <a:br>
              <a:rPr sz="4000"/>
            </a:b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Misión</a:t>
            </a:r>
            <a:endParaRPr b="1" lang="en-US" sz="4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57120" y="1999800"/>
            <a:ext cx="83296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teger y promover la salud de la población, mediante la gestión del riesgo asociada al consumo y uso de alimentos, medicamentos,  dispositivos médicos y otros productos objeto de vigilancia sanitaria.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57760" y="285840"/>
            <a:ext cx="49068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INVIMA</a:t>
            </a:r>
            <a:br>
              <a:rPr sz="4000"/>
            </a:br>
            <a:r>
              <a:rPr b="1" lang="es-CO" sz="4000" spc="-1" strike="noStrike">
                <a:solidFill>
                  <a:srgbClr val="00a0ba"/>
                </a:solidFill>
                <a:latin typeface="Arial Black"/>
              </a:rPr>
              <a:t>Visión</a:t>
            </a:r>
            <a:endParaRPr b="1" lang="en-US" sz="4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49976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l 2014 el INVIMA  será una institución líder en el Sistema Nacional de Vigilancia Sanitaria, reconocida nacional e internacionalmente por su transparencia, efectividad operacional e idoneidad técnica, generadora permanente de seguridad y confianza en la población.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a0ba"/>
                </a:solidFill>
                <a:latin typeface="Arial Black"/>
              </a:rPr>
              <a:t>INVIMA</a:t>
            </a:r>
            <a:br>
              <a:rPr sz="32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Objetivos Estratégicos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olidar al INVIMA como un líder y articulador de la vigilancia sanitaria bajo un enfoque de gestión de riesgo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r la confianza del ciudadano y la legitimidad de la gestión institucional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namizar y fortalecer los procesos de apoyo a la competitividad, mejoramiento del estatus sanitario del país y su  reconocimiento como agencia sanitaria en el contexto internacional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7f7f7f"/>
              </a:solidFill>
              <a:latin typeface="Arial"/>
            </a:endParaRPr>
          </a:p>
          <a:p>
            <a:pPr marL="514440" indent="-51444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Fortalecimiento IVC </a:t>
            </a:r>
            <a:br>
              <a:rPr sz="3000"/>
            </a:b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D.M.P.B.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229520" cy="5112000"/>
          </a:xfrm>
          <a:prstGeom prst="rect">
            <a:avLst/>
          </a:prstGeom>
          <a:ln w="0">
            <a:noFill/>
          </a:ln>
        </p:spPr>
      </p:pic>
      <p:sp>
        <p:nvSpPr>
          <p:cNvPr id="521" name="1 Rectángulo"/>
          <p:cNvSpPr/>
          <p:nvPr/>
        </p:nvSpPr>
        <p:spPr>
          <a:xfrm>
            <a:off x="6732720" y="1341360"/>
            <a:ext cx="1539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a0ba"/>
                </a:solidFill>
                <a:latin typeface="Arial Black"/>
              </a:rPr>
              <a:t>ASPECTOS INSTITUCIONALES</a:t>
            </a:r>
            <a:br>
              <a:rPr sz="2400"/>
            </a:br>
            <a:endParaRPr b="1" lang="en-US" sz="24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495360" y="1197000"/>
            <a:ext cx="81532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0" y="259920"/>
            <a:ext cx="4906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a0ba"/>
                </a:solidFill>
                <a:latin typeface="Arial Black"/>
              </a:rPr>
              <a:t>Organigrama INVIMA</a:t>
            </a:r>
            <a:endParaRPr b="1" lang="en-US" sz="3000" spc="-1" strike="noStrike">
              <a:solidFill>
                <a:srgbClr val="00a0ba"/>
              </a:solidFill>
              <a:latin typeface="Arial Black"/>
            </a:endParaRPr>
          </a:p>
        </p:txBody>
      </p:sp>
      <p:pic>
        <p:nvPicPr>
          <p:cNvPr id="525" name="Picture 2" descr="http://web.invima.gov.co/portal/documents/portal/images/root/Organigrama%20102012.JPG"/>
          <p:cNvPicPr/>
          <p:nvPr/>
        </p:nvPicPr>
        <p:blipFill>
          <a:blip r:embed="rId1"/>
          <a:stretch/>
        </p:blipFill>
        <p:spPr>
          <a:xfrm>
            <a:off x="609480" y="1484280"/>
            <a:ext cx="79232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4:34:27Z</dcterms:created>
  <dc:creator>lpareja</dc:creator>
  <dc:description/>
  <dc:language>en-US</dc:language>
  <cp:lastModifiedBy>Carlos Enrique Aguilar</cp:lastModifiedBy>
  <cp:lastPrinted>2013-05-08T22:35:09Z</cp:lastPrinted>
  <dcterms:modified xsi:type="dcterms:W3CDTF">2013-05-09T13:29:57Z</dcterms:modified>
  <cp:revision>416</cp:revision>
  <dc:subject/>
  <dc:title>Diapositiva 1</dc:title>
</cp:coreProperties>
</file>