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move the slide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0F0F-1FE9-4A2D-A301-49243D7539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9ED9-4187-46BD-9207-97E81216A4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06D1B-28B4-4252-AAD3-2854549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00B5-88AC-4077-9CDC-8D7BEAC3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B18DE-002D-4111-ADCD-BA76561D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72BC6-92C9-45CD-99FC-BBA85104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E1462-697B-4ECF-A92B-E4C713A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F6098-ABDC-4876-9545-749B9FEA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C232A-AC24-467F-BB8C-4DE22BFF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BFBDA-5C69-46C0-9DA9-1B4AD282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37AB9-3D4C-44DC-A5C9-5FBD3809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8A87F-59FC-4C14-B527-7561CEEF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F1E94-1095-482F-A685-AFCB7B09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F7D70-045E-4CC2-B2C1-35C421A7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C17AF-75BB-4CF7-BA3E-EE28C9A9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4666C-1CCB-4B4D-8BCF-79287422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52868-6763-472E-9809-E8CF937A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57D67-D3D6-495C-BC0D-1BFD56D6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ABEFF-3660-4000-B9F6-4A2C930D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9CF62-4732-4D1F-9D3C-4BAC7584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74DE6-6575-41B7-9383-FD91F705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1CCAD-8CA0-49C0-BA31-FD123F1D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0256-4057-405B-9124-45C27141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FE886-A40C-4377-AC7F-1A0203F6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A2D69-7EDF-4702-99D5-681E4D30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DB28F-2EA2-4078-8B61-0E50A85B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9D74D-8037-48EF-954F-F8104232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818A2-B06B-4E09-80F1-99744219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9D174-5BB1-4303-AC53-A403B16D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C4410-193C-454E-AE8E-F35A56D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D6232-EF33-4906-959D-67B836F1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F46FB-0278-4FAF-BE47-BED36E5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ECEA3-6128-4941-86D6-11F202BA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13C05-5FC6-40EC-BAFE-D6CF48D5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4F1DB-46C3-4638-8DCA-49B5E330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FE6-3359-4BFC-969E-7BCAC00B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1F5-0451-45D6-BE12-E56BD366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A0E-B0A8-4C1D-8262-DEAF4BBD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3F4-6FE0-4185-979F-17FFC195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298-9223-4FCD-A454-A47A1AE1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EED-754C-481E-8DEE-3BF3D308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000-4CE5-47F7-9284-4F16CE4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B93-D364-47FA-BE03-8C1C894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A0C-2C17-4D5F-B179-1D3CABC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5ED-8EFB-44CF-BC77-15D04B87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B64-03AE-46DA-BE8E-CB6DE900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C6C-B5F4-45C6-8497-BB775F84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2710-DE85-46CC-A9A9-740ECD19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730B-6D86-4163-9E43-8D3018BD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D364-8DF1-47B7-9715-7F01C1A9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314C-6FFD-4CB5-A7B4-33548526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7EEB-8C5E-45AA-B0E2-95CF8604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D7E2-AA25-414C-BEC3-6DF646BB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1925-FACD-485C-97A2-66FDBCDC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F5E2-4F61-4286-B0A0-2D764720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A6B7-BCDA-4AEB-85F6-8D3CFE15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1079-C6C3-4A73-B283-D388B91E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448D-2D76-437E-BF62-57131B56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2B19-9E43-4B69-84F3-BF0D3E51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2271-ABFC-45A7-8BF0-D9B9F529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D216B-EACB-4295-B6C5-93E7D6A2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E725-6840-4D51-A34B-4DB727EB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1CB4-F4AD-4AD5-BEEF-85A7B686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D362-E08D-44F8-A99A-C8079B5B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D21B-DD88-4A73-9465-1D0B1236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F88F-E362-499C-8532-172DC83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FC469-FC2B-4DCC-9946-60FA233F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71BE-F11A-411A-BF48-C43A5403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8E81-7515-4F25-95BD-E54AAC4D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C998-4C3E-4EBC-BBF5-D6939476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63A6B-6DA2-4B47-8998-721BFD83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E15FD-130B-436A-A5F2-E6524B02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3E9B2-F3B8-4FE3-8632-6787C143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52C81-1C6B-41EB-89CD-6967BF85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22E47-5219-42D9-910F-41AED9F5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CC906-ED05-4E17-A1B2-873DA08A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F09D-BD58-44D6-B472-78337756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6F2E-37C7-465D-B04B-9558D915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2C3FB-60BB-47DE-BC73-74585B1C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1C624-BC9B-4CC5-8A96-A28E1902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BFACF-C8EC-426B-AE9C-7AE28A16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8FE29-7A2F-48EE-9E1B-D45B7945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67535-2A9F-4117-910F-F5362150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8F3F0-A9F6-4DB1-B8FD-522AE4D1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D30F-A107-4520-A6E4-00D021C6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69563-3C9A-4511-AA6E-2ADFE548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C9738-0482-4477-A901-1C95D47D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A2F82-535D-4AE7-BC6B-FCCBCA5B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0990D-5425-461C-AD6D-66E4C1FB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08DCA-2061-4350-A931-A6982BC4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74AE-808D-4084-B091-36AE233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5444B-49C9-4385-A21E-6773C83D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52627-6250-4C46-9ABE-16D4E68B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6F90C-0D40-445B-B84D-4242A5CA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FDF35-0980-4C5A-879C-E07B8578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2D792-1F6B-41B1-8E66-8C89C2DC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64DF-E682-4DF3-BCB1-B3FB1C72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ABB7D-0786-4869-A316-3F407E22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87286-A624-43AE-85B9-16B64C01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FBB88-DE0D-42BE-9ED4-768CC8EA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EEFBD-8A4E-45E1-A3B7-3176B883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10AE3-1CCA-4525-BACB-30E5397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C2EC4-26F7-4A77-9AE9-39CA0FA8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F9644-673B-4A02-8570-87968E37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92E3-DA52-428D-8967-5C1EB9C0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B7F5-78C3-46CE-8012-AF08EB31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D4D28-7B66-4A0D-880A-D4863C33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E8A0C-9FD0-47AD-A13F-E3BA86DD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2700D-C23F-40FD-AAC5-7B74DAA8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300E8-C28B-4A4A-A794-86893AF1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0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E504-C3BC-4B39-AAA3-66AA0B3046B9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5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72D5-B27D-443B-B186-ED2D1481E966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4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13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8 Rectángulo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a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11 Imagen" descr=""/>
            <p:cNvPicPr/>
            <p:nvPr/>
          </p:nvPicPr>
          <p:blipFill>
            <a:blip r:embed="rId4"/>
            <a:stretch/>
          </p:blipFill>
          <p:spPr>
            <a:xfrm>
              <a:off x="2843640" y="44280"/>
              <a:ext cx="6046560" cy="655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10 Rectángulo redondeado"/>
          <p:cNvSpPr/>
          <p:nvPr/>
        </p:nvSpPr>
        <p:spPr>
          <a:xfrm>
            <a:off x="-214200" y="115920"/>
            <a:ext cx="608148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5 Grupo"/>
          <p:cNvGrpSpPr/>
          <p:nvPr/>
        </p:nvGrpSpPr>
        <p:grpSpPr>
          <a:xfrm>
            <a:off x="485640" y="285840"/>
            <a:ext cx="5310360" cy="795240"/>
            <a:chOff x="485640" y="285840"/>
            <a:chExt cx="5310360" cy="795240"/>
          </a:xfrm>
        </p:grpSpPr>
        <p:pic>
          <p:nvPicPr>
            <p:cNvPr id="51" name="14 Imagen" descr="Prosperidad RGB.jpg"/>
            <p:cNvPicPr/>
            <p:nvPr/>
          </p:nvPicPr>
          <p:blipFill>
            <a:blip r:embed="rId5"/>
            <a:srcRect l="12297" t="37402" r="11486" b="37402"/>
            <a:stretch/>
          </p:blipFill>
          <p:spPr>
            <a:xfrm>
              <a:off x="3564000" y="404640"/>
              <a:ext cx="2232000" cy="5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15 Imagen" descr="Logo 2012 Invima min.jpg"/>
            <p:cNvPicPr/>
            <p:nvPr/>
          </p:nvPicPr>
          <p:blipFill>
            <a:blip r:embed="rId6"/>
            <a:stretch/>
          </p:blipFill>
          <p:spPr>
            <a:xfrm>
              <a:off x="485640" y="285840"/>
              <a:ext cx="30150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9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EC58-BF3A-4FEC-B657-6C09108512DE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13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4E8-3EEC-488F-884F-B14038136315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18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0905-F560-4DE3-9F48-D7251DC416AE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22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6C5B-52E6-45C8-984C-F011F94E17AF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27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6F4D-64E5-4D4D-B3E9-7483BBC296D8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31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4ED6-ADEE-4E5C-8BC7-7E833ADA339B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36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E5F3-DED1-42D2-A8D7-7FD0AF56CD3A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vima.gov.co/" TargetMode="External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5 Rectángulo redondeado"/>
          <p:cNvGrpSpPr/>
          <p:nvPr/>
        </p:nvGrpSpPr>
        <p:grpSpPr>
          <a:xfrm>
            <a:off x="2895480" y="1109520"/>
            <a:ext cx="3316320" cy="3054600"/>
            <a:chOff x="2895480" y="1109520"/>
            <a:chExt cx="3316320" cy="3054600"/>
          </a:xfrm>
        </p:grpSpPr>
        <p:pic>
          <p:nvPicPr>
            <p:cNvPr id="504" name="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895480" y="1109520"/>
              <a:ext cx="3316320" cy="30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 rot="1510200">
              <a:off x="3244320" y="1598760"/>
              <a:ext cx="2622600" cy="20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3 Grupo"/>
          <p:cNvGrpSpPr/>
          <p:nvPr/>
        </p:nvGrpSpPr>
        <p:grpSpPr>
          <a:xfrm>
            <a:off x="536400" y="3933720"/>
            <a:ext cx="8280720" cy="2232000"/>
            <a:chOff x="536400" y="3933720"/>
            <a:chExt cx="8280720" cy="2232000"/>
          </a:xfrm>
        </p:grpSpPr>
        <p:sp>
          <p:nvSpPr>
            <p:cNvPr id="507" name="7 Redondear rectángulo de esquina del mismo lado"/>
            <p:cNvSpPr/>
            <p:nvPr/>
          </p:nvSpPr>
          <p:spPr>
            <a:xfrm rot="10800000">
              <a:off x="536400" y="3933360"/>
              <a:ext cx="8280720" cy="2232000"/>
            </a:xfrm>
            <a:custGeom>
              <a:avLst/>
              <a:gdLst/>
              <a:ahLst/>
              <a:rect l="l" t="t" r="r" b="b"/>
              <a:pathLst>
                <a:path w="6480001" h="1800001">
                  <a:moveTo>
                    <a:pt x="189000" y="0"/>
                  </a:moveTo>
                  <a:lnTo>
                    <a:pt x="6291001" y="0"/>
                  </a:lnTo>
                  <a:cubicBezTo>
                    <a:pt x="6395383" y="0"/>
                    <a:pt x="6480001" y="84618"/>
                    <a:pt x="6480001" y="189000"/>
                  </a:cubicBezTo>
                  <a:lnTo>
                    <a:pt x="6480001" y="1800001"/>
                  </a:lnTo>
                  <a:lnTo>
                    <a:pt x="6480001" y="1800001"/>
                  </a:lnTo>
                  <a:lnTo>
                    <a:pt x="0" y="1800001"/>
                  </a:lnTo>
                  <a:lnTo>
                    <a:pt x="0" y="1800001"/>
                  </a:lnTo>
                  <a:lnTo>
                    <a:pt x="0" y="189000"/>
                  </a:lnTo>
                  <a:cubicBezTo>
                    <a:pt x="0" y="84618"/>
                    <a:pt x="84618" y="0"/>
                    <a:pt x="1890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dondear rectángulo de esquina del mismo lado 5"/>
            <p:cNvSpPr/>
            <p:nvPr/>
          </p:nvSpPr>
          <p:spPr>
            <a:xfrm>
              <a:off x="536400" y="4106520"/>
              <a:ext cx="8280720" cy="20592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O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IMA</a:t>
              </a:r>
              <a:r>
                <a:rPr b="1" lang="es-CO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O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CIÓN DE MEDICAMENTOS Y PRODUCTOS BIOLÓGIC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Grupos Internos de Trabajo - 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27" name="9 CuadroTexto"/>
          <p:cNvSpPr/>
          <p:nvPr/>
        </p:nvSpPr>
        <p:spPr>
          <a:xfrm>
            <a:off x="285840" y="6000840"/>
            <a:ext cx="8715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Conformación de Grupos Internos de Trabajo establecidos en la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Resolución No. 2012033945 del 15 de Noviembre de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94 Grupo"/>
          <p:cNvGrpSpPr/>
          <p:nvPr/>
        </p:nvGrpSpPr>
        <p:grpSpPr>
          <a:xfrm>
            <a:off x="285840" y="1994040"/>
            <a:ext cx="8715240" cy="3811320"/>
            <a:chOff x="285840" y="1994040"/>
            <a:chExt cx="8715240" cy="3811320"/>
          </a:xfrm>
        </p:grpSpPr>
        <p:sp>
          <p:nvSpPr>
            <p:cNvPr id="529" name="7 Rectángulo"/>
            <p:cNvSpPr/>
            <p:nvPr/>
          </p:nvSpPr>
          <p:spPr>
            <a:xfrm>
              <a:off x="3237840" y="1994040"/>
              <a:ext cx="258012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DIRECCIÓN DE MEDICAMENTOS Y PRODUCTOS BIOLÓG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102 Rectángulo"/>
            <p:cNvSpPr/>
            <p:nvPr/>
          </p:nvSpPr>
          <p:spPr>
            <a:xfrm>
              <a:off x="285840" y="471024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</a:rPr>
                <a:t>Grupo  de Apoyo de las Salas Especializadas de la Comisión Reviso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136 Conector recto"/>
            <p:cNvSpPr/>
            <p:nvPr/>
          </p:nvSpPr>
          <p:spPr>
            <a:xfrm>
              <a:off x="988560" y="4351320"/>
              <a:ext cx="7309800" cy="1800"/>
            </a:xfrm>
            <a:prstGeom prst="line">
              <a:avLst/>
            </a:prstGeom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8 Conector recto"/>
            <p:cNvSpPr/>
            <p:nvPr/>
          </p:nvSpPr>
          <p:spPr>
            <a:xfrm>
              <a:off x="4624560" y="3085920"/>
              <a:ext cx="0" cy="130176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9 Conector recto"/>
            <p:cNvSpPr/>
            <p:nvPr/>
          </p:nvSpPr>
          <p:spPr>
            <a:xfrm flipH="1">
              <a:off x="3868920" y="4388040"/>
              <a:ext cx="1440" cy="32544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10 Conector recto"/>
            <p:cNvSpPr/>
            <p:nvPr/>
          </p:nvSpPr>
          <p:spPr>
            <a:xfrm flipH="1">
              <a:off x="5345280" y="4388040"/>
              <a:ext cx="1440" cy="32544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11 Conector recto"/>
            <p:cNvSpPr/>
            <p:nvPr/>
          </p:nvSpPr>
          <p:spPr>
            <a:xfrm flipH="1">
              <a:off x="6751800" y="4388040"/>
              <a:ext cx="1440" cy="32544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102 Rectángulo"/>
            <p:cNvSpPr/>
            <p:nvPr/>
          </p:nvSpPr>
          <p:spPr>
            <a:xfrm>
              <a:off x="1761840" y="471312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Técnico de Medicamentos y Productos Biológ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102 Rectángulo"/>
            <p:cNvSpPr/>
            <p:nvPr/>
          </p:nvSpPr>
          <p:spPr>
            <a:xfrm>
              <a:off x="3237840" y="471312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Programas Especi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102 Rectángulo"/>
            <p:cNvSpPr/>
            <p:nvPr/>
          </p:nvSpPr>
          <p:spPr>
            <a:xfrm>
              <a:off x="4713840" y="4713480"/>
              <a:ext cx="1335240" cy="1091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Registros Sanitarios de Medicamentos y Productos Biológ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102 Rectángulo"/>
            <p:cNvSpPr/>
            <p:nvPr/>
          </p:nvSpPr>
          <p:spPr>
            <a:xfrm>
              <a:off x="6189840" y="4713480"/>
              <a:ext cx="1335240" cy="1091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Registros Sanitarios de Fitoterapéuticos, Homeopáticos y suplement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102 Rectángulo"/>
            <p:cNvSpPr/>
            <p:nvPr/>
          </p:nvSpPr>
          <p:spPr>
            <a:xfrm>
              <a:off x="7665840" y="471312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Publicida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17 Conector recto"/>
            <p:cNvSpPr/>
            <p:nvPr/>
          </p:nvSpPr>
          <p:spPr>
            <a:xfrm flipH="1">
              <a:off x="2392200" y="4351320"/>
              <a:ext cx="1440" cy="36180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18 Conector recto"/>
            <p:cNvSpPr/>
            <p:nvPr/>
          </p:nvSpPr>
          <p:spPr>
            <a:xfrm flipH="1">
              <a:off x="8298000" y="4351320"/>
              <a:ext cx="1440" cy="32688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19 Conector recto"/>
            <p:cNvSpPr/>
            <p:nvPr/>
          </p:nvSpPr>
          <p:spPr>
            <a:xfrm flipH="1">
              <a:off x="988920" y="4351320"/>
              <a:ext cx="1440" cy="32688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495360" y="1214280"/>
            <a:ext cx="806616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174680" y="1197000"/>
            <a:ext cx="685332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grpSp>
        <p:nvGrpSpPr>
          <p:cNvPr id="549" name="12 Grupo"/>
          <p:cNvGrpSpPr/>
          <p:nvPr/>
        </p:nvGrpSpPr>
        <p:grpSpPr>
          <a:xfrm>
            <a:off x="468360" y="1268280"/>
            <a:ext cx="8229600" cy="5199480"/>
            <a:chOff x="468360" y="1268280"/>
            <a:chExt cx="8229600" cy="5199480"/>
          </a:xfrm>
        </p:grpSpPr>
        <p:sp>
          <p:nvSpPr>
            <p:cNvPr id="550" name="Rectangle 2"/>
            <p:cNvSpPr/>
            <p:nvPr/>
          </p:nvSpPr>
          <p:spPr>
            <a:xfrm>
              <a:off x="680040" y="1268280"/>
              <a:ext cx="80179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Calibri"/>
                </a:rPr>
                <a:t> </a:t>
              </a:r>
              <a:r>
                <a:rPr b="1" lang="es-ES" sz="2000" spc="-1" strike="noStrike">
                  <a:solidFill>
                    <a:srgbClr val="008000"/>
                  </a:solidFill>
                  <a:latin typeface="Calibri"/>
                </a:rPr>
                <a:t>VIGILANCIA EN SALUD PÚBL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24 Grupo"/>
            <p:cNvGrpSpPr/>
            <p:nvPr/>
          </p:nvGrpSpPr>
          <p:grpSpPr>
            <a:xfrm>
              <a:off x="468360" y="1708920"/>
              <a:ext cx="8222040" cy="4758840"/>
              <a:chOff x="468360" y="1708920"/>
              <a:chExt cx="8222040" cy="4758840"/>
            </a:xfrm>
          </p:grpSpPr>
          <p:sp>
            <p:nvSpPr>
              <p:cNvPr id="552" name="Oval 4"/>
              <p:cNvSpPr/>
              <p:nvPr/>
            </p:nvSpPr>
            <p:spPr>
              <a:xfrm>
                <a:off x="2093760" y="1708920"/>
                <a:ext cx="5939280" cy="3321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5"/>
              <p:cNvSpPr/>
              <p:nvPr/>
            </p:nvSpPr>
            <p:spPr>
              <a:xfrm>
                <a:off x="2984760" y="2454480"/>
                <a:ext cx="2593800" cy="174816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6"/>
              <p:cNvSpPr/>
              <p:nvPr/>
            </p:nvSpPr>
            <p:spPr>
              <a:xfrm>
                <a:off x="5383800" y="2657880"/>
                <a:ext cx="1671840" cy="133992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7"/>
              <p:cNvSpPr/>
              <p:nvPr/>
            </p:nvSpPr>
            <p:spPr>
              <a:xfrm>
                <a:off x="5368320" y="2971080"/>
                <a:ext cx="244080" cy="6973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697320"/>
                  <a:gd name="textAreaBottom" fmla="*/ 697680 h 697320"/>
                </a:gdLst>
                <a:ahLst/>
                <a:rect l="textAreaLeft" t="textAreaTop" r="textAreaRight" b="textAreaBottom"/>
                <a:pathLst>
                  <a:path w="204" h="574">
                    <a:moveTo>
                      <a:pt x="120" y="0"/>
                    </a:moveTo>
                    <a:cubicBezTo>
                      <a:pt x="112" y="12"/>
                      <a:pt x="99" y="25"/>
                      <a:pt x="88" y="36"/>
                    </a:cubicBezTo>
                    <a:cubicBezTo>
                      <a:pt x="83" y="50"/>
                      <a:pt x="86" y="44"/>
                      <a:pt x="80" y="54"/>
                    </a:cubicBezTo>
                    <a:cubicBezTo>
                      <a:pt x="77" y="67"/>
                      <a:pt x="74" y="84"/>
                      <a:pt x="62" y="92"/>
                    </a:cubicBezTo>
                    <a:cubicBezTo>
                      <a:pt x="57" y="106"/>
                      <a:pt x="64" y="91"/>
                      <a:pt x="54" y="102"/>
                    </a:cubicBezTo>
                    <a:cubicBezTo>
                      <a:pt x="51" y="106"/>
                      <a:pt x="46" y="114"/>
                      <a:pt x="46" y="114"/>
                    </a:cubicBezTo>
                    <a:cubicBezTo>
                      <a:pt x="43" y="136"/>
                      <a:pt x="39" y="163"/>
                      <a:pt x="28" y="182"/>
                    </a:cubicBezTo>
                    <a:cubicBezTo>
                      <a:pt x="24" y="190"/>
                      <a:pt x="16" y="194"/>
                      <a:pt x="12" y="202"/>
                    </a:cubicBezTo>
                    <a:cubicBezTo>
                      <a:pt x="10" y="206"/>
                      <a:pt x="8" y="214"/>
                      <a:pt x="8" y="214"/>
                    </a:cubicBezTo>
                    <a:cubicBezTo>
                      <a:pt x="6" y="251"/>
                      <a:pt x="0" y="319"/>
                      <a:pt x="12" y="354"/>
                    </a:cubicBezTo>
                    <a:cubicBezTo>
                      <a:pt x="17" y="369"/>
                      <a:pt x="25" y="380"/>
                      <a:pt x="28" y="396"/>
                    </a:cubicBezTo>
                    <a:cubicBezTo>
                      <a:pt x="31" y="424"/>
                      <a:pt x="47" y="485"/>
                      <a:pt x="64" y="508"/>
                    </a:cubicBezTo>
                    <a:cubicBezTo>
                      <a:pt x="67" y="516"/>
                      <a:pt x="69" y="519"/>
                      <a:pt x="76" y="524"/>
                    </a:cubicBezTo>
                    <a:cubicBezTo>
                      <a:pt x="82" y="541"/>
                      <a:pt x="91" y="568"/>
                      <a:pt x="110" y="574"/>
                    </a:cubicBezTo>
                    <a:cubicBezTo>
                      <a:pt x="111" y="572"/>
                      <a:pt x="112" y="570"/>
                      <a:pt x="114" y="568"/>
                    </a:cubicBezTo>
                    <a:cubicBezTo>
                      <a:pt x="116" y="566"/>
                      <a:pt x="118" y="566"/>
                      <a:pt x="120" y="564"/>
                    </a:cubicBezTo>
                    <a:cubicBezTo>
                      <a:pt x="127" y="555"/>
                      <a:pt x="130" y="539"/>
                      <a:pt x="134" y="528"/>
                    </a:cubicBezTo>
                    <a:cubicBezTo>
                      <a:pt x="136" y="521"/>
                      <a:pt x="142" y="516"/>
                      <a:pt x="146" y="510"/>
                    </a:cubicBezTo>
                    <a:cubicBezTo>
                      <a:pt x="147" y="508"/>
                      <a:pt x="150" y="504"/>
                      <a:pt x="150" y="504"/>
                    </a:cubicBezTo>
                    <a:cubicBezTo>
                      <a:pt x="154" y="489"/>
                      <a:pt x="159" y="469"/>
                      <a:pt x="168" y="456"/>
                    </a:cubicBezTo>
                    <a:cubicBezTo>
                      <a:pt x="171" y="442"/>
                      <a:pt x="174" y="430"/>
                      <a:pt x="184" y="420"/>
                    </a:cubicBezTo>
                    <a:cubicBezTo>
                      <a:pt x="193" y="382"/>
                      <a:pt x="194" y="342"/>
                      <a:pt x="204" y="304"/>
                    </a:cubicBezTo>
                    <a:cubicBezTo>
                      <a:pt x="203" y="286"/>
                      <a:pt x="203" y="268"/>
                      <a:pt x="202" y="250"/>
                    </a:cubicBezTo>
                    <a:cubicBezTo>
                      <a:pt x="202" y="242"/>
                      <a:pt x="196" y="226"/>
                      <a:pt x="196" y="226"/>
                    </a:cubicBezTo>
                    <a:cubicBezTo>
                      <a:pt x="194" y="210"/>
                      <a:pt x="196" y="204"/>
                      <a:pt x="198" y="188"/>
                    </a:cubicBezTo>
                    <a:cubicBezTo>
                      <a:pt x="196" y="166"/>
                      <a:pt x="197" y="151"/>
                      <a:pt x="184" y="134"/>
                    </a:cubicBezTo>
                    <a:cubicBezTo>
                      <a:pt x="181" y="125"/>
                      <a:pt x="177" y="119"/>
                      <a:pt x="174" y="110"/>
                    </a:cubicBezTo>
                    <a:cubicBezTo>
                      <a:pt x="173" y="108"/>
                      <a:pt x="172" y="104"/>
                      <a:pt x="172" y="104"/>
                    </a:cubicBezTo>
                    <a:cubicBezTo>
                      <a:pt x="169" y="69"/>
                      <a:pt x="160" y="44"/>
                      <a:pt x="130" y="24"/>
                    </a:cubicBezTo>
                    <a:cubicBezTo>
                      <a:pt x="127" y="14"/>
                      <a:pt x="120" y="9"/>
                      <a:pt x="120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8"/>
              <p:cNvSpPr/>
              <p:nvPr/>
            </p:nvSpPr>
            <p:spPr>
              <a:xfrm>
                <a:off x="3903480" y="3132360"/>
                <a:ext cx="74988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9"/>
              <p:cNvSpPr/>
              <p:nvPr/>
            </p:nvSpPr>
            <p:spPr>
              <a:xfrm>
                <a:off x="6126120" y="3132360"/>
                <a:ext cx="74988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2"/>
              <p:cNvSpPr/>
              <p:nvPr/>
            </p:nvSpPr>
            <p:spPr>
              <a:xfrm>
                <a:off x="5516640" y="3335400"/>
                <a:ext cx="0" cy="223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3"/>
              <p:cNvSpPr/>
              <p:nvPr/>
            </p:nvSpPr>
            <p:spPr>
              <a:xfrm>
                <a:off x="4848480" y="5558400"/>
                <a:ext cx="3841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ecnovigilancia y Farmacovigilanci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4"/>
              <p:cNvSpPr/>
              <p:nvPr/>
            </p:nvSpPr>
            <p:spPr>
              <a:xfrm>
                <a:off x="468360" y="5301360"/>
                <a:ext cx="519480" cy="3387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5"/>
              <p:cNvSpPr/>
              <p:nvPr/>
            </p:nvSpPr>
            <p:spPr>
              <a:xfrm>
                <a:off x="468360" y="5707800"/>
                <a:ext cx="519480" cy="3387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6"/>
              <p:cNvSpPr/>
              <p:nvPr/>
            </p:nvSpPr>
            <p:spPr>
              <a:xfrm>
                <a:off x="468360" y="6114600"/>
                <a:ext cx="519480" cy="3387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7"/>
              <p:cNvSpPr/>
              <p:nvPr/>
            </p:nvSpPr>
            <p:spPr>
              <a:xfrm>
                <a:off x="468360" y="4894560"/>
                <a:ext cx="519480" cy="3387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8"/>
              <p:cNvSpPr/>
              <p:nvPr/>
            </p:nvSpPr>
            <p:spPr>
              <a:xfrm>
                <a:off x="987840" y="4943880"/>
                <a:ext cx="2820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igilancia en Salud Públic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19"/>
              <p:cNvSpPr/>
              <p:nvPr/>
            </p:nvSpPr>
            <p:spPr>
              <a:xfrm>
                <a:off x="987840" y="5325480"/>
                <a:ext cx="3414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igilancia Epidemiológic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20"/>
              <p:cNvSpPr/>
              <p:nvPr/>
            </p:nvSpPr>
            <p:spPr>
              <a:xfrm>
                <a:off x="987840" y="5770080"/>
                <a:ext cx="3414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igilancia Sanitari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21"/>
              <p:cNvSpPr/>
              <p:nvPr/>
            </p:nvSpPr>
            <p:spPr>
              <a:xfrm>
                <a:off x="987840" y="6114600"/>
                <a:ext cx="3414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unto convergente VE-V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738360" y="1447920"/>
            <a:ext cx="766728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bacc6"/>
                </a:solidFill>
                <a:latin typeface="Arial Black"/>
              </a:rPr>
              <a:t>PROGRAMA NACIONAL DE FARMACOVIGILANCIA</a:t>
            </a: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Programa Nacional de Farmacovigilancia, se encarga del tramite de información sobre la seguridad de los medicamentos comercializados en Colombia, con el fin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r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ón beneficio / ries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los mismos, y realizar la respectiv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unic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s profesionales de la salud y pacientes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icionalmente se llevan a cabo actividades de promoción y fortalecimiento de la Red Nacional de Farmacovigilancia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bacc6"/>
                </a:solidFill>
                <a:latin typeface="Arial Black"/>
              </a:rPr>
              <a:t>ACTIVIDADES FUNDAMENTALES FARMACOVIGILANCIA</a:t>
            </a:r>
            <a:endParaRPr b="1" lang="en-US" sz="2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125000"/>
            <a:ext cx="8229600" cy="523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cepción, Ingreso a la base de datos SIVICOS, análisis y respuesta 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portes de RAM y fallos terapéuticos o problemas relacionados con los medicament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ortalecimiento de la Red Nacional de Farmacovigilanci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, por medio de visitas de capacitación y asistencia técnica a IPS y Direcciones Territoriales de Salud. Como también visitas de seguimiento a laboratorios farmacéuticos y titulares de R.S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activa de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lertas de seguridad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, tramite de las mismas, elaboración de informes de seguridad, comunicados de prensa y alertas nacionales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aboración de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oletines de Farmacovigilanci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Notificación periódica de RAM Periódica a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UPPSAL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as (Incentivar en la farmacovigilancia Activa)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a0ba"/>
                </a:solidFill>
                <a:latin typeface="Arial Black"/>
              </a:rPr>
              <a:t>ACTORES QUE ARTICULAN A NIVEL NACIONAL - </a:t>
            </a:r>
            <a:r>
              <a:rPr b="1" lang="es-MX" sz="1800" spc="-1" strike="noStrike">
                <a:solidFill>
                  <a:srgbClr val="4bacc6"/>
                </a:solidFill>
                <a:latin typeface="Arial Black"/>
              </a:rPr>
              <a:t>FARMACOVIGILANCIA</a:t>
            </a:r>
            <a:endParaRPr b="1" lang="en-US" sz="18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75" name="3 Marcador de contenido" descr=""/>
          <p:cNvPicPr/>
          <p:nvPr/>
        </p:nvPicPr>
        <p:blipFill>
          <a:blip r:embed="rId1"/>
          <a:stretch/>
        </p:blipFill>
        <p:spPr>
          <a:xfrm>
            <a:off x="1231920" y="1603440"/>
            <a:ext cx="6656400" cy="3468600"/>
          </a:xfrm>
          <a:prstGeom prst="rect">
            <a:avLst/>
          </a:prstGeom>
          <a:ln w="0">
            <a:noFill/>
          </a:ln>
        </p:spPr>
      </p:pic>
      <p:sp>
        <p:nvSpPr>
          <p:cNvPr id="576" name="4 Rectángulo"/>
          <p:cNvSpPr/>
          <p:nvPr/>
        </p:nvSpPr>
        <p:spPr>
          <a:xfrm>
            <a:off x="428760" y="5000760"/>
            <a:ext cx="77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 programa de Farmacovigilancia es liderado por el INVIMA, con apoyo de las DTS; los NRF son las DTS que cuentan con un desarrollo considerable en FV (Antioquia, Atlántico, Cartagena, Barranquilla y Nariño); no es descentralización, es apoyo en ciertas actividades, como visitas, toma de muestr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a0ba"/>
                </a:solidFill>
                <a:latin typeface="Arial Black"/>
              </a:rPr>
              <a:t>ENLACES DE   - </a:t>
            </a:r>
            <a:r>
              <a:rPr b="1" lang="es-MX" sz="2000" spc="-1" strike="noStrike">
                <a:solidFill>
                  <a:srgbClr val="4bacc6"/>
                </a:solidFill>
                <a:latin typeface="Arial Black"/>
              </a:rPr>
              <a:t>FARMACOVIGILANCIA</a:t>
            </a:r>
            <a:r>
              <a:rPr b="1" lang="es-MX" sz="2000" spc="-1" strike="noStrike">
                <a:solidFill>
                  <a:srgbClr val="00a0ba"/>
                </a:solidFill>
                <a:latin typeface="Arial Black"/>
              </a:rPr>
              <a:t>RED</a:t>
            </a:r>
            <a:endParaRPr b="1" lang="en-US" sz="2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78" name="9 Marcador de contenido" descr="Imagen1.png"/>
          <p:cNvPicPr/>
          <p:nvPr/>
        </p:nvPicPr>
        <p:blipFill>
          <a:blip r:embed="rId1"/>
          <a:stretch/>
        </p:blipFill>
        <p:spPr>
          <a:xfrm>
            <a:off x="457200" y="1847880"/>
            <a:ext cx="8229600" cy="4357800"/>
          </a:xfrm>
          <a:prstGeom prst="rect">
            <a:avLst/>
          </a:prstGeom>
          <a:ln w="0">
            <a:noFill/>
          </a:ln>
        </p:spPr>
      </p:pic>
      <p:cxnSp>
        <p:nvCxnSpPr>
          <p:cNvPr id="579" name="AutoShape 13"/>
          <p:cNvCxnSpPr/>
          <p:nvPr/>
        </p:nvCxnSpPr>
        <p:spPr>
          <a:xfrm>
            <a:off x="6428880" y="4142880"/>
            <a:ext cx="793080" cy="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a0ba"/>
                </a:solidFill>
                <a:latin typeface="Arial Black"/>
              </a:rPr>
              <a:t>PROGRAMA DEMUESTRA LA CALIDAD</a:t>
            </a: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68360" y="184464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s un programa nacional para </a:t>
            </a:r>
            <a:r>
              <a:rPr b="1" i="1" lang="es-CO" sz="2400" spc="-1" strike="noStrike">
                <a:solidFill>
                  <a:srgbClr val="000000"/>
                </a:solidFill>
                <a:latin typeface="Arial"/>
              </a:rPr>
              <a:t>LA VERIFICACIÓN DE LA CALIDAD DE MUESTRAS DE MEDICAMENTOS QUE SE CONSUMEN EN EL PAÍS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, seleccionados de acuerdo a </a:t>
            </a:r>
            <a:r>
              <a:rPr b="1" i="1" lang="es-CO" sz="2400" spc="-1" strike="noStrike">
                <a:solidFill>
                  <a:srgbClr val="000000"/>
                </a:solidFill>
                <a:latin typeface="Arial"/>
              </a:rPr>
              <a:t>CRITERIOS DE ALTO CONSUMO, RELEVANCIA CLÍNICA E IMPACTO EN SALUD PÚBLICA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, a los cuales se les realizan análisis de control de calidad con el fin de verificar el cumplimient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n sus especificaciones físicas, químicas y microbiológicas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Nació en el año 2004 como una iniciativa de la Dirección INVIMA y EL Ministerio de Protección Social, año desde el cual se ha venido realizando el programa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4 Marcador de texto"/>
          <p:cNvSpPr/>
          <p:nvPr/>
        </p:nvSpPr>
        <p:spPr>
          <a:xfrm>
            <a:off x="755640" y="177336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D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BLANCA ELVIRA CAJIGAS DE ACO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Directora Gen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IN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4 Marcador de texto"/>
          <p:cNvSpPr/>
          <p:nvPr/>
        </p:nvSpPr>
        <p:spPr>
          <a:xfrm>
            <a:off x="755640" y="3716280"/>
            <a:ext cx="7772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D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CARLOS AUGUSTO SÁNCHEZ ESTUPIÑÁ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Direc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Dirección de Medicamentos y Productos Biológic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INVI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a0ba"/>
                </a:solidFill>
                <a:latin typeface="Arial Black"/>
              </a:rPr>
              <a:t>Programa de Trazabilidad</a:t>
            </a: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534960" y="1569960"/>
            <a:ext cx="792000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La trazabilidad es una herramienta eficiente para controlar en TIEMPO REAL las transacciones de los medicamentos, verificar el origen de los mismos, registrar la historia de localizaciones y traslados a lo largo de toda la CADENA DE DISTRIB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9 Grupo"/>
          <p:cNvGrpSpPr/>
          <p:nvPr/>
        </p:nvGrpSpPr>
        <p:grpSpPr>
          <a:xfrm>
            <a:off x="1042920" y="4024440"/>
            <a:ext cx="6669000" cy="2428920"/>
            <a:chOff x="1042920" y="4024440"/>
            <a:chExt cx="6669000" cy="2428920"/>
          </a:xfrm>
        </p:grpSpPr>
        <p:pic>
          <p:nvPicPr>
            <p:cNvPr id="585" name="Picture 39" descr="Diagrama Completo"/>
            <p:cNvPicPr/>
            <p:nvPr/>
          </p:nvPicPr>
          <p:blipFill>
            <a:blip r:embed="rId1"/>
            <a:stretch/>
          </p:blipFill>
          <p:spPr>
            <a:xfrm>
              <a:off x="1042920" y="4024440"/>
              <a:ext cx="6669000" cy="2428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86" name="Text Box 6"/>
            <p:cNvSpPr/>
            <p:nvPr/>
          </p:nvSpPr>
          <p:spPr>
            <a:xfrm>
              <a:off x="7020000" y="4816440"/>
              <a:ext cx="5029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1 Título"/>
          <p:cNvSpPr/>
          <p:nvPr/>
        </p:nvSpPr>
        <p:spPr>
          <a:xfrm>
            <a:off x="3924360" y="331920"/>
            <a:ext cx="51116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99ff"/>
                </a:solidFill>
                <a:latin typeface="Arial"/>
                <a:ea typeface="Arial"/>
              </a:rPr>
              <a:t>DESARROLLO DEL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99ff"/>
                </a:solidFill>
                <a:latin typeface="Arial"/>
                <a:ea typeface="Arial"/>
              </a:rPr>
              <a:t>JUNIO 2012 – FEBRERO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0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9001080" cy="4572000"/>
          </a:xfrm>
          <a:prstGeom prst="rect">
            <a:avLst/>
          </a:prstGeom>
          <a:ln w="0">
            <a:noFill/>
          </a:ln>
        </p:spPr>
      </p:pic>
      <p:sp>
        <p:nvSpPr>
          <p:cNvPr id="589" name="1 Marcador de contenido"/>
          <p:cNvSpPr/>
          <p:nvPr/>
        </p:nvSpPr>
        <p:spPr>
          <a:xfrm>
            <a:off x="285840" y="1413000"/>
            <a:ext cx="8246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ETE (7) CIUDADES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2) Fronteri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)De difícil acces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4)Densamente pobla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1 CuadroTexto"/>
          <p:cNvSpPr/>
          <p:nvPr/>
        </p:nvSpPr>
        <p:spPr>
          <a:xfrm>
            <a:off x="2286000" y="2813040"/>
            <a:ext cx="43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a0ba"/>
                </a:solidFill>
                <a:latin typeface="Arial"/>
              </a:rPr>
              <a:t>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1643040" y="4857840"/>
            <a:ext cx="57466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1"/>
              </a:rPr>
              <a:t>www.invima.gov.co</a:t>
            </a:r>
            <a:br>
              <a:rPr sz="1600"/>
            </a:br>
            <a:r>
              <a:rPr b="1" lang="es-ES" sz="1600" spc="-1" strike="noStrike">
                <a:solidFill>
                  <a:srgbClr val="00a0ba"/>
                </a:solidFill>
                <a:latin typeface="Arial"/>
                <a:ea typeface="ＭＳ Ｐゴシック"/>
              </a:rPr>
              <a:t> Carrera 68 D No. 17-11  -   Bogotá, D.C. Colombia.</a:t>
            </a:r>
            <a:br>
              <a:rPr sz="1600"/>
            </a:br>
            <a:r>
              <a:rPr b="1" lang="es-ES" sz="1600" spc="-1" strike="noStrike">
                <a:solidFill>
                  <a:srgbClr val="00a0ba"/>
                </a:solidFill>
                <a:latin typeface="Arial"/>
                <a:ea typeface="ＭＳ Ｐゴシック"/>
              </a:rPr>
              <a:t>Teléfono: (1)2948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440" y="21384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INVIMA</a:t>
            </a:r>
            <a:endParaRPr b="1" lang="en-US" sz="4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8584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Es un establecimiento público del orden nacional, con personería jurídica, autonomía administrativa y patrimonio independiente, adscrito al Ministerio de Salud y Protección Social y perteneciente al SNS, de carácter científico y tecnológico, creado por la ley 100 de 1993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宋体"/>
              </a:rPr>
              <a:t>y precisadas sus funciones mediante el Decreto 2078 de 2012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Encargado de ejecutar las políticas formuladas por el Ministerio de Salud y Protección Social en materia de vigilancia sanitaria y control de calidad de los productos de su competencia.</a:t>
            </a: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INVIMA</a:t>
            </a:r>
            <a:br>
              <a:rPr sz="4000"/>
            </a:b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Misión</a:t>
            </a:r>
            <a:endParaRPr b="1" lang="en-US" sz="4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57120" y="1999800"/>
            <a:ext cx="83296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teger y promover la salud de la población, mediante la gestión del riesgo asociada al consumo y uso de alimentos, medicamentos,  dispositivos médicos y otros productos objeto de vigilancia sanitaria.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57760" y="285840"/>
            <a:ext cx="490680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INVIMA</a:t>
            </a:r>
            <a:br>
              <a:rPr sz="4000"/>
            </a:b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Visión</a:t>
            </a:r>
            <a:endParaRPr b="1" lang="en-US" sz="4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49976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l 2014 el INVIMA  será una institución líder en el Sistema Nacional de Vigilancia Sanitaria, reconocida nacional e internacionalmente por su transparencia, efectividad operacional e idoneidad técnica, generadora permanente de seguridad y confianza en la población.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a0ba"/>
                </a:solidFill>
                <a:latin typeface="Arial Black"/>
              </a:rPr>
              <a:t>INVIMA</a:t>
            </a:r>
            <a:br>
              <a:rPr sz="32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Objetivos Estratégicos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olidar al INVIMA como un líder y articulador de la vigilancia sanitaria bajo un enfoque de gestión de riesgo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r la confianza del ciudadano y la legitimidad de la gestión institucional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namizar y fortalecer los procesos de apoyo a la competitividad, mejoramiento del estatus sanitario del país y su  reconocimiento como agencia sanitaria en el contexto internacional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229520" cy="5112000"/>
          </a:xfrm>
          <a:prstGeom prst="rect">
            <a:avLst/>
          </a:prstGeom>
          <a:ln w="0">
            <a:noFill/>
          </a:ln>
        </p:spPr>
      </p:pic>
      <p:sp>
        <p:nvSpPr>
          <p:cNvPr id="521" name="1 Rectángulo"/>
          <p:cNvSpPr/>
          <p:nvPr/>
        </p:nvSpPr>
        <p:spPr>
          <a:xfrm>
            <a:off x="6732720" y="1341360"/>
            <a:ext cx="1539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a0ba"/>
                </a:solidFill>
                <a:latin typeface="Arial Black"/>
              </a:rPr>
              <a:t>ASPECTOS INSTITUCIONALES</a:t>
            </a:r>
            <a:br>
              <a:rPr sz="2400"/>
            </a:b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495360" y="1197000"/>
            <a:ext cx="81532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Organigrama INVIMA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25" name="Picture 2" descr="http://web.invima.gov.co/portal/documents/portal/images/root/Organigrama%20102012.JPG"/>
          <p:cNvPicPr/>
          <p:nvPr/>
        </p:nvPicPr>
        <p:blipFill>
          <a:blip r:embed="rId1"/>
          <a:stretch/>
        </p:blipFill>
        <p:spPr>
          <a:xfrm>
            <a:off x="609480" y="1484280"/>
            <a:ext cx="79232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4:34:27Z</dcterms:created>
  <dc:creator>lpareja</dc:creator>
  <dc:description/>
  <dc:language>en-US</dc:language>
  <cp:lastModifiedBy>Carlos Enrique Aguilar</cp:lastModifiedBy>
  <cp:lastPrinted>2013-05-08T22:35:09Z</cp:lastPrinted>
  <dcterms:modified xsi:type="dcterms:W3CDTF">2013-05-09T13:29:57Z</dcterms:modified>
  <cp:revision>416</cp:revision>
  <dc:subject/>
  <dc:title>Diapositiva 1</dc:title>
</cp:coreProperties>
</file>