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13.wmf" ContentType="image/x-wmf"/>
  <Override PartName="/ppt/media/image9.wmf" ContentType="image/x-wmf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6A69-BA97-4BE0-BB83-5A702D4B0E6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92F6-8F89-45B7-87E2-BCCAB9A665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5242-0158-4950-93E5-6DEAFD1B9BE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6C5E-A51C-4B98-B838-98C2DA317EA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D19C-1045-40BD-BB3D-7982F5B0554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EE4B-5E7E-4DFA-945C-B3416D27439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19CC-C8EA-48A1-83AF-016754321D3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28E4-4A92-4FC7-97FA-09F561C4888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4CD2-24C0-4C26-9F17-835CA130891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EFE3-47D8-4496-8BE8-2FA10614021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595E-B05E-4AC0-910B-C211D4C39BD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4086-4207-437E-9406-8C5A32554AD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41FF-9009-42DE-95E0-DD207DF7254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8DAE-717C-4B5E-99AA-A05257087B3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F45C-4B18-4157-A915-3C9429069ED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E523-BE46-46DB-80E9-FDC3EF07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FF17-6236-47A4-BED5-22E66C5A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220F0-7E28-4EDC-A2E5-5006680C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9E4B5-232C-49FC-A2A3-46F4D33C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9BE2B-290A-44AF-AAD3-C9F30096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45D84-0846-46A8-8573-381F37DC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53B9C-E77E-4444-9FEE-0D1A75B1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C1F4F-B605-4C3E-9E31-6A81B7DD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E75A2-589A-46CE-A69E-A12FBB66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A105C-CCF2-4686-BA12-F01DD4E0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3DB79-6550-407E-A905-3A4C964D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8F926-E450-434A-A580-AB7966D9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4D9-0DF9-4697-8714-2C26F276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7342A-CF9E-4F5A-B7B2-4F985348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0C0D9-CB4C-4D4E-99C8-65A7C437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C46A8-C60F-408E-A6A7-23FFD42A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64DB4-0895-4604-AB42-A0E31EB4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03A7E-7522-4CCC-AA7E-608541BC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5AD7C-84AD-48F2-A98B-E1813E3E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4C40A-FE97-4CCA-9A7D-FE6B66C5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649BA-0E13-4DE5-8E19-963945A1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79E6C-12EA-43C0-9B0D-78C2928A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8D517-877F-4B5A-A460-EE94A2B6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FF2-945A-4B74-9AE2-12D44157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FB19D-277C-4DCE-89EE-534C5A6E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918B1-EB88-4A09-A2BA-331CAE27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61416-7B93-4C14-A5D8-65C26DA1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B8061-6FA2-4C40-AD9E-7501CAF2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34089-79D3-4743-BAC1-B9D22887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07F0B-2960-4AB9-A288-FD010D49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F1C28-19B1-45A8-88E9-AAD33E37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B6BCC-55DC-4160-8416-2CC5C2CC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3B119-8DE1-4D69-93CA-9310B085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5E337-9CE1-48D4-A483-1340260B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0429-5DDC-4D9A-B7E3-59CDEC90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F38C6-46C0-437E-A74D-AA924D53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62C9D-BC02-4603-B647-40449A0E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C6D63-85BA-425D-8897-29B50977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A59FD-2253-4959-95F7-58F43B25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559F6-2EC7-45AA-80CD-9358705A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1D2CB-44D0-4D2F-AFE2-257138EB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45664-01A6-446F-A5E8-A59B5E17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8267E-B9A6-4D4D-A039-38283815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9B97A-BE19-4698-8E69-D87C91FA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E97BD-56ED-4A5A-862D-620CB033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7CED-5D68-4764-BC8F-F0440686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B0531-4750-4B40-8991-5464922E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9B774-ECA4-401F-ACCB-13764532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EFAA0-69F0-4F21-A646-5735CC13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A6028-A15D-4923-AF24-F05EF96E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79177-DFE8-4562-A696-3FFE34FD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0B6D5-02DF-4E2A-A946-814DE433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71321-7A08-40E1-B085-C68716A0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2C046-F29C-45A2-8E30-702BB564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9715C-198B-4552-A727-52E87F7A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A72DF-2B10-461A-894A-A488002C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F6F1-CDCB-4B4F-9D83-0C59E00A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BAC77-78C9-4DEB-8DC1-3EE9493C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1D70D-1EAF-4A09-AF52-42C73716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17D7E9-13BE-4DBD-94D4-21121658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C9C61E-A19A-4253-BB19-A8E02911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00BD5-5AB4-49C4-9B25-6F1589E0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6514E-197E-48BE-97D4-EFBEE152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C5C03-D359-4A72-B992-3082A42E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AD54D1-024D-4409-8158-1CD3EF03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72EA8C-5322-4CC0-8C2F-5C26DDAE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DF302C-CA66-4CD7-B7CE-2E2DA4AB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E66C-4C4F-4AB9-B19E-352B11B1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C4B19-6276-4875-9C6E-32D60C98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43C24F-1FA1-4E33-AAEF-F04E71F3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C6D75E-AA67-47BA-AB64-927472DA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41CBC1-5798-4923-836C-047AF6E8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C753A-753F-4B20-B8BA-29902DF2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820DD5-4DD7-4BC4-A36F-5FC05690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AEE2DB-E292-43F3-8CB2-79C3032B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581D75-EAD2-4A36-B90E-B7F178C6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9C7841-96CC-4E4F-9746-1C0A1C26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2BE8B5-922D-4A9F-902B-60B74FC9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5DC6-9C0B-4374-A55E-DE4B46AC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211E07-3BEA-4E77-B0DB-8752E887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05B444-B39B-4151-9543-C2351B48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9018A7-4CAD-4E67-A038-88FB8E9C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4D8943-25D2-404A-8000-89DE0567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0C74B0-F876-4611-ABF3-B0FA5ABE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6E6B9D-9442-4947-B311-26250BC0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81DF7D-627A-4214-AF47-E94651D0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6F0743-247A-45A1-ABA6-1AC510AA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51DF27-EC32-4D88-AB8B-927CFE29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E723C7-75F7-4A66-95DA-58CD072F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BF5F-011A-4E22-BDFC-547B5A7C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AC3870-5785-4FAF-B53A-10EA7F27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A97930-0E8F-41FF-B037-66E40C86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75BAAB-E1DE-4217-95E9-28887EAF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FAD5EC-7120-4E4B-8C47-85814E5B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E86D01-2590-4E20-A323-6A0733FA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E02D5A-12C5-4FF3-BCBE-3480E5E4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286E51-F7FE-4A76-8AC6-E230B913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69BEBD-B89B-4A77-8C8C-DC1C251E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08A4EF-3DE9-4FFD-80B4-417665D1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E4924B-9BCC-42B8-B1C3-ECA8AD5A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60A9-1F22-4DCC-B08A-F65C7936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20F1FA-4DF9-4FEE-9A22-97BAAB41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05A597-D7F9-4476-A2FF-E07A4D01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C58A94-D246-4677-95BC-98581A64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25B190-6820-4987-9777-4897DC46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76ACAD-0B4F-44A5-835C-55F0BD9E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CEAE39-5022-4AF3-BFB7-FCAB3BEF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50BEE7-3DB3-4242-B021-C0A21043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B6B23B-2357-4CB4-A1D0-87ED8CAA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42D02E-328A-48C2-A2D0-2F6EFBCB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152CC1-AD36-437A-8B8A-561AC4B4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D15-8D34-47CE-8108-26915A20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7AD4-2B3E-4834-B279-88716E05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952A6B-825C-4657-8D7A-1D3E8B78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2527AB-A3CF-4424-8985-75FC852A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753730-F4B4-4998-9DC5-5AFB19A9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208635-1042-4F7B-A3A8-B2F6E7BF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FCB5E2-CA10-4211-B662-9887D102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6C57B5-7B84-479D-969C-29A02FC2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CFE412-0A4C-4486-9338-2D4A439A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7566C8-3C6D-43E3-A11D-1639584A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D9397C-0520-4E0C-BF1D-E6AA503C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0F723D-20A2-4655-9FB8-09647BA7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03C7-3472-4DB8-B8DB-A8AC475F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B9B764-B6BE-4B73-AAC4-E7924D71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6910A2-2380-4D5F-BE23-3478B001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445280-C15A-4CB5-838E-FAFE0BE5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5BBF78-1443-488B-954C-C34C10DF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4286BF-1765-4EA3-BD30-10D33D90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BB314F-2E3E-4206-8AE9-70F84579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306F49-952E-4469-A1D7-4B292F76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8A742B-6C2A-4714-BB60-25B10302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987A20-57B6-4508-9168-5161F13A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14096B-4FFC-4A80-8E2E-66F02DBA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DFED-626C-4E3C-8414-57F5352F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A3A1FB-51C6-4FB3-997D-B8D10AA2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81FA70-8909-4324-B236-E464A098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1D6ED5-0CF4-4BE7-B121-9DC62B1A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999E4B-6580-4BA3-B1D2-27AD3910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D3E385-6FF8-4CD7-AD88-1C8635E6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DB4FEB-67A5-4189-BB1E-0A971665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3754AA-4C57-4F41-B7C0-476CA805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B27D9D-D973-4E7C-9B42-0AA75CF7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7F11F8-98C9-488D-9B50-7881692B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B76BA8-DCC4-4B13-8C89-3B866A37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FFFE-DA3B-4517-828C-FC359D9D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A052BE-5EC0-454C-A984-2E33E13A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7CF1C5-A2D5-4E2D-8846-356340D6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AADFB9-20F7-4B7C-AE67-90EFE187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55D72D-7E12-4E81-95EA-3EB6D128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8F0032-82CD-42C1-A216-821AE9B1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E31455-1BD9-4A16-8789-DD71356F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8C6873-7CD6-4990-B334-2BE64585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2C5E70-C97B-4B16-A0C7-92C0EE97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5B6702-7489-44F4-B78B-736AFA53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82DD42-3E9A-43B7-979E-82BCDB17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5768-A447-4A04-98B5-6A35A23B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3CB0FC-38E3-4398-946C-D19135F1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37742E-3FD1-4AE8-ABA8-CCFA33B9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839DDE-166B-46A9-91AC-EBF01EAF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AD32AA-55A1-4CBE-A9B4-232B70D8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4756F5-CE6F-4288-8989-22ADE3B7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833939-B5FD-4A81-88EA-28D31BFB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A7C7BA-8C54-4D90-AE00-FD18CC56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383022-3E60-4DEA-968E-4BD5C878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C40C0D-C603-4A97-AD1F-7CF009CB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DE494F-7AE4-42B7-9801-A507B904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5B74B-BD9E-407A-9E84-40902618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EC27E3-59F5-4E9B-825D-329B7691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C61D9D-071C-47FC-BD8B-79F97F52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7BBA8E-2DC4-4192-ACCC-7AB76C6F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223C28-1673-4535-8D4B-E94E5BF2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B6527D-B74E-433C-A8C3-0F0D018C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09FAA1-4332-4E93-B853-8613E4F2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6734D1-143F-4084-BEAC-CAD55A14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1566C0-17DB-42A0-8270-E1094DF3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5CFCF8-2AC0-427B-B02A-2A3FBD6B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939E26-DD11-4D39-A5F8-6D2A28DB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965EA-496A-4D04-A5CF-5AED4337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98355D-3059-47FF-8239-6E675B8C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5E3382-7A0C-45EE-9693-8A598CB0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CA8AA4-2690-435C-8B44-F7FD671B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A05005-2EE7-41CD-AB92-E57541ED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3A30BE-6CAA-48E0-A671-F20256B1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77C083-CCBE-47D3-BB97-B81B3194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C72718-79CE-464A-91AF-09861205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675B40-8184-42B0-8BC4-EDC05BA5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65AAA0-368D-42B2-9FB2-639E644B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B15E6F-F23C-418F-914C-553FAA22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97B70-3437-44F6-BE55-A6DC5C36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537C2B-64D6-4A9B-AF48-30BD260D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4F3236-374C-4994-9CA7-2A7F35BA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D3AD8B-6B11-40E0-8CA9-FA139D3B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7900DF-A61E-4153-BB7D-904D4E37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AE35AF-9EC0-4FC8-9330-983CBF44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511361-6A5F-48A0-A47E-AB53542C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702624-335A-4DB3-90F0-7C899856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2D10DE-B8C7-4644-916B-76F61427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9B3598-012F-4646-ADEE-2D3815A1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85BBB1-ABC0-404A-AEF5-45A41454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4545E-10FD-427D-9051-7C6AD227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8340F8-EEBC-4095-9B16-E6E35046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580024-8909-4E69-820B-23580E4B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93835B-111C-4219-B7B4-ACBE2998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94ACBE-02FD-4CE3-ADD2-639636C2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954E1F-B9C9-4BA6-BE48-897C8D09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A2ED1B-C550-446D-B301-5D52B16C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8A114C-DD80-44A8-B716-2607893F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EE6789-14FA-4AF6-979F-81FC94DA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618A1C-FD69-4F74-BD87-AE164BE0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2971C4-1A55-4A3F-BF5F-9B406FAA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B0CBE-F679-43AB-B476-A9BED322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789EEC-E298-4444-B2CF-E785B802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522251-7F52-4775-80BD-D00BD5D5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BBA069-A705-475A-BF95-CB3A5C2F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A68507-BBF1-4B6F-9D42-E9AA0467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A2B3EB-0DFD-43CC-AB0C-99DFE61F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25237B-5ED3-412E-999E-B4F53810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D375CE-B087-4F8A-8C0C-C957A427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E97559-EB62-4EE6-9296-654B2367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4B6095-CCE7-4888-A9B4-3AF6336D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5907B1-AE7F-4E71-84C8-E022A2F2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C183-D497-4BF4-BBEB-0E8291CF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1A578-D47D-46F5-A156-CBF02E37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CEBF1A-7E5F-4125-9BAD-8CD27A87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E485F6-4CDA-47AA-8F28-99363BB6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C91BD7-2A26-4771-BB88-2BC4D80D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F0B5B9-C22D-4C74-8AE7-DB05AD6E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3DEFE4-3999-445F-A434-E9F4FB83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31CDA1-DF1A-4CCA-A408-F2FA74D3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54BD0E-322A-4B60-9465-67E5F31F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198D87-3A15-484B-ADD2-D97ACE0D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F7532B-C563-4BFE-A60A-7EEDB3AF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990ED9-735C-4094-BD04-91674F47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70BA1-3781-4150-8094-67665B4D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621346-F396-4011-A341-D42BB762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D4D603-6D94-4735-B949-ECC56153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A741C6-7060-4CC9-8FD0-0A5D1C20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478DE-11BC-4914-8437-ABAA38BC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1EE6D-35E1-4528-AC24-3986D3FA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39E37-8B03-4405-9BB1-37359EF5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C3792-6B8D-4EC8-9B09-BAC0DC94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491DE-253B-4F6F-92FA-09BAB239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0F1E7-B274-4BFD-902D-C56EA016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220B3-E8CD-4417-8A0C-56DA7BF2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D4698-0A64-4B82-B636-7C6F8484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69E-2E0D-4C2E-BFB9-997B811A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CB5EB-792E-4498-86BC-D835FB88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1A5B4-B72A-4075-9498-B92E9BBA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C846E-0FBE-4B07-B994-DB967298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E7F9C-F2E0-475A-B40F-487C0990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194EA-78D0-4E3F-ACFA-F13EB20B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D0343-FAD2-4FEA-83A8-1DE84FF3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4FE9B-01D9-4A0F-99D7-EC2DE8A2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97277-26E7-4726-808B-75914594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A8442-3E80-458F-B4A9-52F95F0C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BC611-710C-4FA5-BA8F-7B9EE068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5CBF-4398-489C-89E5-3CA737E2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15156-9F4E-429B-BD0A-FFA4E4D5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97857-7CE5-4198-B727-79E0C6B3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A247D-D1DE-4913-88FE-071288F1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5C3A3-9E41-4598-87B8-629C7A5A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EAE22-DF72-447E-A8D9-E1BDF46D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62A10-DECF-4F3C-9269-6C55334B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99F16-94EB-4E02-9DD1-51C7A1D3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3EEF5-9B72-4DE6-AD86-716DF72B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660B3-A846-45C6-BB71-E83FD828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F74A7-D7F0-4473-B0AF-3475DC17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B60-BAF8-4A49-B725-604A6C76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AF10A-450E-4817-A2BF-19C890ED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8FF5C-15C3-46CA-B532-9EE2A249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49939-ADE3-41D1-838B-B6B00734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60FE5-A178-48C8-B51A-71142B7C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514B0-DE14-4C9D-8082-A0DBE593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8F44B-0DCC-419C-9EAA-07D869FC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A7A9F-63D1-4B98-B16F-627ECF42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E0EE6-4985-43A5-BC0A-8BBE935E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E70FC-697A-4D0F-B8FC-664FE591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E49FD-29DD-46D9-9CF0-C21028D1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C4E-C10C-41D8-8D02-B1EA7877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B65ED-FE47-4DAA-B572-94573FCB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B3CE4-BB7D-481E-A384-51509F6E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FFF75-4C97-4DC5-8DD5-F2D2D839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1FC4A-4BA7-4CE5-9129-6266D8CF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0144F-DC76-42D6-86B8-7C114D9B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3602B-B9DD-4E8B-B40E-9899FF0D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F21C9-9324-491C-B8A0-61EE2031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3F859-603B-4ED2-880C-0996C8FD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67144-047E-4670-B12D-F6A5D484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AF8CF-2CD1-4D44-9326-A0DA2FB0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89A-2E36-4E32-A989-82C5BE41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468FC-19AD-44E6-868F-55A91385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32149-214E-4526-BE06-A5E1ADDE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25D33-9AAD-4B97-8354-D3FA7CD7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1D67A-5520-4277-916C-97B339E7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8C1C6-CC77-4026-8062-89A09FC8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5F0FE-93C5-4F90-B2E8-6C4B722F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AC208-0F42-4D2D-B9E2-E7987E99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4705D-D9AB-4033-9B00-DA9E2D18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B9844-BAE6-46E9-BD32-7D7C6BE6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C9215-9F0C-4653-BACF-367D68FF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7AE6-313A-42E8-926B-43CC9B6C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3D995-2B5D-4717-9880-2B144A9B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AFA5C-1FC3-46E4-B7AC-73261853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C4D32-F4A3-419E-81F7-130F5672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2B77B-3D4C-413D-956A-05257CFF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2D98F-7C7A-4DB6-98D4-2F05B6BC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AFA8C-C35D-49A3-9D82-70D15318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51665-E3F9-4ADE-B393-2BD3EA40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2D001-9150-47A9-96A2-22F503D8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4D300-1263-4632-8568-0058FF2D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78C5C-C168-469B-B3BB-D7D6932E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B7E0-58C1-4F10-8439-ECEF783C132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1A49-9753-4AFA-908D-6B412396C32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C366-2BA5-48C2-94B5-905C5026C08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4E36-4630-413B-A573-793762CCB50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EC0E-BB3F-449E-9E0A-DF5FAA2FAA0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EFD7-E6C7-40FA-8832-565E4ED17FA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725F-5E03-4916-A322-4CD1364BE76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580C-B309-4226-8793-0385AECDFB4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C921-0712-4A50-93D3-BF194E3FA1C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7A38-93B1-4F67-8D86-470AC008ADF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FFDE-CC8D-480C-80CF-50B521B8939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38ED-559B-4819-8956-EC77250D2F1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9BC0-915E-4BA6-8D81-17617DD2BEC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84C5-12AA-44C3-AEDD-FC1C17C6746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BC30-9EE5-4915-9D5F-199D92C734D5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BB48-0E3A-44EB-B061-8B084D63766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E5E2-9936-4A63-8CCC-41C1132BD71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EB37-BD88-4F7F-A2C8-E6D5CEAC5AD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2304-36C3-42B2-BCF4-772E9696570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5142-E716-4E45-8F05-3B734247416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D56A-356A-4787-8B5D-7552D3B3006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BF39-2214-4CCF-8936-057F682EB30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D6F5-4C42-4695-A1FF-1988867568C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8B14-DD19-40FF-9CAC-9EB73CBA079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893C-0202-4AC0-8EC2-570FA5372F8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41D1-DE79-4F7D-881F-46461AB044B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www3.sii.cl/ctmPublic/#Default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Oval 2"/>
          <p:cNvSpPr/>
          <p:nvPr/>
        </p:nvSpPr>
        <p:spPr>
          <a:xfrm rot="20203200">
            <a:off x="3618000" y="3425760"/>
            <a:ext cx="2158920" cy="84780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Oval 3"/>
          <p:cNvSpPr/>
          <p:nvPr/>
        </p:nvSpPr>
        <p:spPr>
          <a:xfrm rot="20203200">
            <a:off x="864720" y="3449160"/>
            <a:ext cx="2976840" cy="114624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Group 4"/>
          <p:cNvGrpSpPr/>
          <p:nvPr/>
        </p:nvGrpSpPr>
        <p:grpSpPr>
          <a:xfrm>
            <a:off x="1124280" y="2434680"/>
            <a:ext cx="6186960" cy="4772160"/>
            <a:chOff x="1124280" y="2434680"/>
            <a:chExt cx="6186960" cy="4772160"/>
          </a:xfrm>
        </p:grpSpPr>
        <p:sp>
          <p:nvSpPr>
            <p:cNvPr id="1076" name="Oval 5"/>
            <p:cNvSpPr/>
            <p:nvPr/>
          </p:nvSpPr>
          <p:spPr>
            <a:xfrm rot="20203200">
              <a:off x="5797080" y="347292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6"/>
            <p:cNvSpPr/>
            <p:nvPr/>
          </p:nvSpPr>
          <p:spPr>
            <a:xfrm rot="20203200">
              <a:off x="1172880" y="270144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7"/>
            <p:cNvSpPr/>
            <p:nvPr/>
          </p:nvSpPr>
          <p:spPr>
            <a:xfrm rot="20203200">
              <a:off x="1485720" y="5544720"/>
              <a:ext cx="2991960" cy="111600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Rectangle 8"/>
          <p:cNvSpPr/>
          <p:nvPr/>
        </p:nvSpPr>
        <p:spPr>
          <a:xfrm>
            <a:off x="0" y="2523960"/>
            <a:ext cx="6878520" cy="29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 Black"/>
              </a:rPr>
              <a:t>SISTEMA DE TRIBUTACIÓN SIMPLIFICADA MIPY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9" descr="logo_sii"/>
          <p:cNvPicPr/>
          <p:nvPr/>
        </p:nvPicPr>
        <p:blipFill>
          <a:blip r:embed="rId2"/>
          <a:stretch/>
        </p:blipFill>
        <p:spPr>
          <a:xfrm>
            <a:off x="7229520" y="204840"/>
            <a:ext cx="1299960" cy="658800"/>
          </a:xfrm>
          <a:prstGeom prst="rect">
            <a:avLst/>
          </a:prstGeom>
          <a:ln w="0">
            <a:noFill/>
          </a:ln>
        </p:spPr>
      </p:pic>
      <p:sp>
        <p:nvSpPr>
          <p:cNvPr id="1081" name="Rectangle 10"/>
          <p:cNvSpPr/>
          <p:nvPr/>
        </p:nvSpPr>
        <p:spPr>
          <a:xfrm>
            <a:off x="7051680" y="5997600"/>
            <a:ext cx="18399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10"/>
          <p:cNvSpPr/>
          <p:nvPr/>
        </p:nvSpPr>
        <p:spPr>
          <a:xfrm>
            <a:off x="4397400" y="5997600"/>
            <a:ext cx="44942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8667-94F6-4C8D-97B7-B6F1A221B28D}" type="slidenum">
              <a:rPr b="0" lang="es-CL" sz="1400" spc="-1" strike="noStrike">
                <a:solidFill>
                  <a:srgbClr val="3667c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Picture 3" descr="D:\Doc Claudia\Capacitación 2010\Diseños_2010\_Formato ppt 2010\1°Diapo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85" name="Rectangle 8"/>
          <p:cNvSpPr/>
          <p:nvPr/>
        </p:nvSpPr>
        <p:spPr>
          <a:xfrm>
            <a:off x="804960" y="2309760"/>
            <a:ext cx="687852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Sistema CCM</a:t>
            </a:r>
            <a:br>
              <a:rPr sz="3600"/>
            </a:b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Contabilidad Completa MIPY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resultado del proceso contable se informan mediante al menos dos informes complement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tado de Situación o Balanc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enta las partidas del Activo, Pasivo y Patrimonio; el resultado del ejercicio se muestra sin indicar or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tado d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enta cambios en el Patrimonio como consecuencia de los ingresos, costos y gastos de la ope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dica como se determinó la utilidad neta de un ejercic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41360" y="259920"/>
            <a:ext cx="8229600" cy="27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NSTRUCCIÓN DE LOS ESTADOS FINANCIE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71600" y="1996560"/>
            <a:ext cx="8229600" cy="32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strucción de los estados financieros implica </a:t>
            </a:r>
            <a:r>
              <a:rPr b="0" lang="es-MX" sz="2400" spc="-1" strike="noStrike">
                <a:solidFill>
                  <a:srgbClr val="ff3300"/>
                </a:solidFill>
                <a:latin typeface="Arial"/>
              </a:rPr>
              <a:t>un trabajo ardu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que consiste en efectuar un sinnúmero de operaciones matemáticas calculando las variaciones en los saldos de las partidas en un peri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409680" y="0"/>
            <a:ext cx="8356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IAGRAMA GENERAL DEL SISTEM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3" descr=""/>
          <p:cNvPicPr/>
          <p:nvPr/>
        </p:nvPicPr>
        <p:blipFill>
          <a:blip r:embed="rId1"/>
          <a:stretch/>
        </p:blipFill>
        <p:spPr>
          <a:xfrm>
            <a:off x="0" y="655560"/>
            <a:ext cx="9144000" cy="6202440"/>
          </a:xfrm>
          <a:prstGeom prst="rect">
            <a:avLst/>
          </a:prstGeom>
          <a:ln w="0">
            <a:noFill/>
          </a:ln>
        </p:spPr>
      </p:pic>
      <p:sp>
        <p:nvSpPr>
          <p:cNvPr id="113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44F4-F4C6-4FC5-BD1D-DA1E051F6C5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4"/>
          <p:cNvSpPr/>
          <p:nvPr/>
        </p:nvSpPr>
        <p:spPr>
          <a:xfrm>
            <a:off x="4532400" y="932040"/>
            <a:ext cx="4375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1.- Inicio de Activida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2.- Inscribir en Factura Electrónica MIPY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3.- Inscribir en CC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4.- Ingresar Plan de Cuent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5.- Ingresar Comprobante de Apertu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6.- Ingresar movimientos a Libros Auxilia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mpra, Ventas, Remuneraciones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Honorar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7.- Ingresar otros movimientos y ajus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8.- Centralizar Libros Auxilia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9.- Cerrar Libro Di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0.- Generar Libro May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1.- Generar Estados Financier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2.- Generar Libro de Inventario y Bala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3.- Cierre del Ejercic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4.- Generar Declaraciones 1879 y 18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5.- Propuesta de Renta Liquida Imponi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6.- Propuesta de Códigos F22 y F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7.- Propuesta de Libro F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8.- Enviar Libros Contables Electrón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9.- Cierre por termino de Gi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20.- Desincripción del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/>
          </p:nvPr>
        </p:nvSpPr>
        <p:spPr>
          <a:xfrm>
            <a:off x="1547640" y="111240"/>
            <a:ext cx="694872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TABILIDAD COMPLETA MIP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176720" cy="3854520"/>
          </a:xfrm>
          <a:prstGeom prst="rect">
            <a:avLst/>
          </a:prstGeom>
          <a:ln w="0">
            <a:noFill/>
          </a:ln>
        </p:spPr>
      </p:pic>
      <p:sp>
        <p:nvSpPr>
          <p:cNvPr id="113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DF36-C24D-4601-A1A9-B5433DE6750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Oval 3"/>
          <p:cNvSpPr/>
          <p:nvPr/>
        </p:nvSpPr>
        <p:spPr>
          <a:xfrm>
            <a:off x="1187280" y="1557360"/>
            <a:ext cx="6985080" cy="3846600"/>
          </a:xfrm>
          <a:prstGeom prst="ellipse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6"/>
          <p:cNvSpPr/>
          <p:nvPr/>
        </p:nvSpPr>
        <p:spPr>
          <a:xfrm>
            <a:off x="3527280" y="1874880"/>
            <a:ext cx="201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Auxili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Oval 7">
            <a:hlinkClick r:id="rId1" action="ppaction://hlinksldjump"/>
          </p:cNvPr>
          <p:cNvSpPr/>
          <p:nvPr/>
        </p:nvSpPr>
        <p:spPr>
          <a:xfrm>
            <a:off x="5692680" y="2627280"/>
            <a:ext cx="201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ministr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Configu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Oval 8"/>
          <p:cNvSpPr/>
          <p:nvPr/>
        </p:nvSpPr>
        <p:spPr>
          <a:xfrm>
            <a:off x="3344760" y="4346640"/>
            <a:ext cx="2016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Oval 9"/>
          <p:cNvSpPr/>
          <p:nvPr/>
        </p:nvSpPr>
        <p:spPr>
          <a:xfrm>
            <a:off x="1692360" y="2882880"/>
            <a:ext cx="20192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Con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11"/>
          <p:cNvSpPr/>
          <p:nvPr/>
        </p:nvSpPr>
        <p:spPr>
          <a:xfrm>
            <a:off x="3711600" y="3063960"/>
            <a:ext cx="2016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ncionalidades Tribu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10 Rectángulo"/>
          <p:cNvSpPr/>
          <p:nvPr/>
        </p:nvSpPr>
        <p:spPr>
          <a:xfrm>
            <a:off x="2006640" y="792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NCIONALIDADES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C96E-BC16-4655-88B9-CD99374BE57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17 Flecha curvada hacia la derecha"/>
          <p:cNvSpPr/>
          <p:nvPr/>
        </p:nvSpPr>
        <p:spPr>
          <a:xfrm rot="2902800">
            <a:off x="2669400" y="1920240"/>
            <a:ext cx="388800" cy="981000"/>
          </a:xfrm>
          <a:custGeom>
            <a:avLst/>
            <a:gdLst>
              <a:gd name="textAreaLeft" fmla="*/ 51840 w 388800"/>
              <a:gd name="textAreaRight" fmla="*/ 336960 w 388800"/>
              <a:gd name="textAreaTop" fmla="*/ 208800 h 981000"/>
              <a:gd name="textAreaBottom" fmla="*/ 72360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95" stAng="-5400000" swAng="-5400000"/>
                <a:lnTo>
                  <a:pt x="0" y="11335"/>
                </a:lnTo>
                <a:arcTo wR="21600" hR="9195" stAng="10800000" swAng="-3525619"/>
                <a:lnTo>
                  <a:pt x="16200" y="21308"/>
                </a:lnTo>
                <a:lnTo>
                  <a:pt x="21600" y="19459"/>
                </a:lnTo>
                <a:lnTo>
                  <a:pt x="16200" y="17026"/>
                </a:lnTo>
                <a:lnTo>
                  <a:pt x="16200" y="18097"/>
                </a:lnTo>
                <a:arcTo wR="21600" hR="9195" stAng="7274381" swAng="3354300"/>
                <a:lnTo>
                  <a:pt x="147" y="10265"/>
                </a:lnTo>
                <a:arcTo wR="21600" hR="9195" stAng="-10628681" swAng="5228681"/>
                <a:close/>
              </a:path>
              <a:path fill="darkenLess" w="21600" h="21600">
                <a:moveTo>
                  <a:pt x="21600" y="0"/>
                </a:moveTo>
                <a:arcTo wR="21600" hR="9195" stAng="-5400000" swAng="-5400000"/>
                <a:lnTo>
                  <a:pt x="0" y="9195"/>
                </a:lnTo>
                <a:arcTo wR="21600" hR="9195" stAng="10800000" swAng="-171319"/>
                <a:lnTo>
                  <a:pt x="147" y="10265"/>
                </a:lnTo>
                <a:arcTo wR="21600" hR="9195" stAng="-10628681" swAng="522868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18 Flecha curvada hacia la derecha"/>
          <p:cNvSpPr/>
          <p:nvPr/>
        </p:nvSpPr>
        <p:spPr>
          <a:xfrm rot="19404600">
            <a:off x="2680920" y="3773520"/>
            <a:ext cx="365040" cy="952560"/>
          </a:xfrm>
          <a:custGeom>
            <a:avLst/>
            <a:gdLst>
              <a:gd name="textAreaLeft" fmla="*/ 48600 w 365040"/>
              <a:gd name="textAreaRight" fmla="*/ 316440 w 365040"/>
              <a:gd name="textAreaTop" fmla="*/ 203760 h 952560"/>
              <a:gd name="textAreaBottom" fmla="*/ 7030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8" stAng="-5400000" swAng="-5400000"/>
                <a:lnTo>
                  <a:pt x="0" y="11318"/>
                </a:lnTo>
                <a:arcTo wR="21600" hR="9248" stAng="10800000" swAng="-3534369"/>
                <a:lnTo>
                  <a:pt x="16200" y="21306"/>
                </a:lnTo>
                <a:lnTo>
                  <a:pt x="21600" y="19530"/>
                </a:lnTo>
                <a:lnTo>
                  <a:pt x="16200" y="17166"/>
                </a:lnTo>
                <a:lnTo>
                  <a:pt x="16200" y="18201"/>
                </a:lnTo>
                <a:arcTo wR="21600" hR="9248" stAng="7265631" swAng="3368730"/>
                <a:lnTo>
                  <a:pt x="136" y="10282"/>
                </a:lnTo>
                <a:arcTo wR="21600" hR="9248" stAng="-10634361" swAng="5234361"/>
                <a:close/>
              </a:path>
              <a:path fill="darkenLess" w="21600" h="21600">
                <a:moveTo>
                  <a:pt x="21600" y="0"/>
                </a:moveTo>
                <a:arcTo wR="21600" hR="9248" stAng="-5400000" swAng="-5400000"/>
                <a:lnTo>
                  <a:pt x="0" y="9248"/>
                </a:lnTo>
                <a:arcTo wR="21600" hR="9248" stAng="10800000" swAng="-165639"/>
                <a:lnTo>
                  <a:pt x="136" y="10282"/>
                </a:lnTo>
                <a:arcTo wR="21600" hR="9248" stAng="-10634361" swAng="523436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22 Flecha curvada hacia la derecha"/>
          <p:cNvSpPr/>
          <p:nvPr/>
        </p:nvSpPr>
        <p:spPr>
          <a:xfrm rot="12105600">
            <a:off x="5514480" y="374256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23 Flecha curvada hacia la derecha"/>
          <p:cNvSpPr/>
          <p:nvPr/>
        </p:nvSpPr>
        <p:spPr>
          <a:xfrm rot="7440600">
            <a:off x="5815080" y="174060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Oval 3"/>
          <p:cNvSpPr/>
          <p:nvPr/>
        </p:nvSpPr>
        <p:spPr>
          <a:xfrm>
            <a:off x="1187280" y="1557360"/>
            <a:ext cx="6985080" cy="3846600"/>
          </a:xfrm>
          <a:prstGeom prst="ellipse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Oval 6">
            <a:hlinkClick r:id="rId1" action="ppaction://hlinksldjump"/>
          </p:cNvPr>
          <p:cNvSpPr/>
          <p:nvPr/>
        </p:nvSpPr>
        <p:spPr>
          <a:xfrm>
            <a:off x="3527280" y="1874880"/>
            <a:ext cx="201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Auxili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Oval 7"/>
          <p:cNvSpPr/>
          <p:nvPr/>
        </p:nvSpPr>
        <p:spPr>
          <a:xfrm>
            <a:off x="5692680" y="2627280"/>
            <a:ext cx="201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ministr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Configu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Oval 8"/>
          <p:cNvSpPr/>
          <p:nvPr/>
        </p:nvSpPr>
        <p:spPr>
          <a:xfrm>
            <a:off x="3344760" y="4346640"/>
            <a:ext cx="2016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Oval 9"/>
          <p:cNvSpPr/>
          <p:nvPr/>
        </p:nvSpPr>
        <p:spPr>
          <a:xfrm>
            <a:off x="1692360" y="2882880"/>
            <a:ext cx="20192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Con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11"/>
          <p:cNvSpPr/>
          <p:nvPr/>
        </p:nvSpPr>
        <p:spPr>
          <a:xfrm>
            <a:off x="3711600" y="3063960"/>
            <a:ext cx="2016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ncionalidades Tribu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10 Rectángulo"/>
          <p:cNvSpPr/>
          <p:nvPr/>
        </p:nvSpPr>
        <p:spPr>
          <a:xfrm>
            <a:off x="2006640" y="792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NCIONALIDADES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FFE8-D0CF-4152-96A0-511FBD0790C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17 Flecha curvada hacia la derecha"/>
          <p:cNvSpPr/>
          <p:nvPr/>
        </p:nvSpPr>
        <p:spPr>
          <a:xfrm rot="2902800">
            <a:off x="2669400" y="1920240"/>
            <a:ext cx="388800" cy="981000"/>
          </a:xfrm>
          <a:custGeom>
            <a:avLst/>
            <a:gdLst>
              <a:gd name="textAreaLeft" fmla="*/ 51840 w 388800"/>
              <a:gd name="textAreaRight" fmla="*/ 336960 w 388800"/>
              <a:gd name="textAreaTop" fmla="*/ 208800 h 981000"/>
              <a:gd name="textAreaBottom" fmla="*/ 72360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95" stAng="-5400000" swAng="-5400000"/>
                <a:lnTo>
                  <a:pt x="0" y="11335"/>
                </a:lnTo>
                <a:arcTo wR="21600" hR="9195" stAng="10800000" swAng="-3525619"/>
                <a:lnTo>
                  <a:pt x="16200" y="21308"/>
                </a:lnTo>
                <a:lnTo>
                  <a:pt x="21600" y="19459"/>
                </a:lnTo>
                <a:lnTo>
                  <a:pt x="16200" y="17026"/>
                </a:lnTo>
                <a:lnTo>
                  <a:pt x="16200" y="18097"/>
                </a:lnTo>
                <a:arcTo wR="21600" hR="9195" stAng="7274381" swAng="3354300"/>
                <a:lnTo>
                  <a:pt x="147" y="10265"/>
                </a:lnTo>
                <a:arcTo wR="21600" hR="9195" stAng="-10628681" swAng="5228681"/>
                <a:close/>
              </a:path>
              <a:path fill="darkenLess" w="21600" h="21600">
                <a:moveTo>
                  <a:pt x="21600" y="0"/>
                </a:moveTo>
                <a:arcTo wR="21600" hR="9195" stAng="-5400000" swAng="-5400000"/>
                <a:lnTo>
                  <a:pt x="0" y="9195"/>
                </a:lnTo>
                <a:arcTo wR="21600" hR="9195" stAng="10800000" swAng="-171319"/>
                <a:lnTo>
                  <a:pt x="147" y="10265"/>
                </a:lnTo>
                <a:arcTo wR="21600" hR="9195" stAng="-10628681" swAng="522868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18 Flecha curvada hacia la derecha"/>
          <p:cNvSpPr/>
          <p:nvPr/>
        </p:nvSpPr>
        <p:spPr>
          <a:xfrm rot="19404600">
            <a:off x="2680920" y="3773520"/>
            <a:ext cx="365040" cy="952560"/>
          </a:xfrm>
          <a:custGeom>
            <a:avLst/>
            <a:gdLst>
              <a:gd name="textAreaLeft" fmla="*/ 48600 w 365040"/>
              <a:gd name="textAreaRight" fmla="*/ 316440 w 365040"/>
              <a:gd name="textAreaTop" fmla="*/ 203760 h 952560"/>
              <a:gd name="textAreaBottom" fmla="*/ 7030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8" stAng="-5400000" swAng="-5400000"/>
                <a:lnTo>
                  <a:pt x="0" y="11318"/>
                </a:lnTo>
                <a:arcTo wR="21600" hR="9248" stAng="10800000" swAng="-3534369"/>
                <a:lnTo>
                  <a:pt x="16200" y="21306"/>
                </a:lnTo>
                <a:lnTo>
                  <a:pt x="21600" y="19530"/>
                </a:lnTo>
                <a:lnTo>
                  <a:pt x="16200" y="17166"/>
                </a:lnTo>
                <a:lnTo>
                  <a:pt x="16200" y="18201"/>
                </a:lnTo>
                <a:arcTo wR="21600" hR="9248" stAng="7265631" swAng="3368730"/>
                <a:lnTo>
                  <a:pt x="136" y="10282"/>
                </a:lnTo>
                <a:arcTo wR="21600" hR="9248" stAng="-10634361" swAng="5234361"/>
                <a:close/>
              </a:path>
              <a:path fill="darkenLess" w="21600" h="21600">
                <a:moveTo>
                  <a:pt x="21600" y="0"/>
                </a:moveTo>
                <a:arcTo wR="21600" hR="9248" stAng="-5400000" swAng="-5400000"/>
                <a:lnTo>
                  <a:pt x="0" y="9248"/>
                </a:lnTo>
                <a:arcTo wR="21600" hR="9248" stAng="10800000" swAng="-165639"/>
                <a:lnTo>
                  <a:pt x="136" y="10282"/>
                </a:lnTo>
                <a:arcTo wR="21600" hR="9248" stAng="-10634361" swAng="523436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22 Flecha curvada hacia la derecha"/>
          <p:cNvSpPr/>
          <p:nvPr/>
        </p:nvSpPr>
        <p:spPr>
          <a:xfrm rot="12105600">
            <a:off x="5514480" y="374256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23 Flecha curvada hacia la derecha"/>
          <p:cNvSpPr/>
          <p:nvPr/>
        </p:nvSpPr>
        <p:spPr>
          <a:xfrm rot="7440600">
            <a:off x="5815080" y="174060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2 Grupo"/>
          <p:cNvGrpSpPr/>
          <p:nvPr/>
        </p:nvGrpSpPr>
        <p:grpSpPr>
          <a:xfrm>
            <a:off x="5568840" y="1587600"/>
            <a:ext cx="2264040" cy="2087640"/>
            <a:chOff x="5568840" y="1587600"/>
            <a:chExt cx="2264040" cy="2087640"/>
          </a:xfrm>
        </p:grpSpPr>
        <p:sp>
          <p:nvSpPr>
            <p:cNvPr id="1165" name="1 Rectángulo redondeado"/>
            <p:cNvSpPr/>
            <p:nvPr/>
          </p:nvSpPr>
          <p:spPr>
            <a:xfrm>
              <a:off x="5568840" y="1587600"/>
              <a:ext cx="2264040" cy="208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b8e3e6"/>
                </a:gs>
              </a:gsLst>
              <a:lin ang="5400000"/>
            </a:gra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7320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2 CuadroTexto"/>
            <p:cNvSpPr/>
            <p:nvPr/>
          </p:nvSpPr>
          <p:spPr>
            <a:xfrm>
              <a:off x="5857560" y="2154240"/>
              <a:ext cx="19450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Actualización y personalización de Plan de Cuentas S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Oval 3"/>
          <p:cNvSpPr/>
          <p:nvPr/>
        </p:nvSpPr>
        <p:spPr>
          <a:xfrm>
            <a:off x="1187280" y="1557360"/>
            <a:ext cx="6985080" cy="3846600"/>
          </a:xfrm>
          <a:prstGeom prst="ellipse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Oval 6"/>
          <p:cNvSpPr/>
          <p:nvPr/>
        </p:nvSpPr>
        <p:spPr>
          <a:xfrm>
            <a:off x="3527280" y="1874880"/>
            <a:ext cx="201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Auxili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Oval 7"/>
          <p:cNvSpPr/>
          <p:nvPr/>
        </p:nvSpPr>
        <p:spPr>
          <a:xfrm>
            <a:off x="5692680" y="2627280"/>
            <a:ext cx="201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ministr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Configu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Oval 8"/>
          <p:cNvSpPr/>
          <p:nvPr/>
        </p:nvSpPr>
        <p:spPr>
          <a:xfrm>
            <a:off x="3344760" y="4346640"/>
            <a:ext cx="2016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Oval 9">
            <a:hlinkClick r:id="rId1" action="ppaction://hlinksldjump"/>
          </p:cNvPr>
          <p:cNvSpPr/>
          <p:nvPr/>
        </p:nvSpPr>
        <p:spPr>
          <a:xfrm>
            <a:off x="1692360" y="2882880"/>
            <a:ext cx="20192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Con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Oval 11"/>
          <p:cNvSpPr/>
          <p:nvPr/>
        </p:nvSpPr>
        <p:spPr>
          <a:xfrm>
            <a:off x="3711600" y="3063960"/>
            <a:ext cx="2016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ncionalidades Tribu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10 Rectángulo"/>
          <p:cNvSpPr/>
          <p:nvPr/>
        </p:nvSpPr>
        <p:spPr>
          <a:xfrm>
            <a:off x="2006640" y="792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NCIONALIDADES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B7D6-5947-42BB-BCA1-6A3293ED439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17 Flecha curvada hacia la derecha"/>
          <p:cNvSpPr/>
          <p:nvPr/>
        </p:nvSpPr>
        <p:spPr>
          <a:xfrm rot="2902800">
            <a:off x="2669400" y="1920240"/>
            <a:ext cx="388800" cy="981000"/>
          </a:xfrm>
          <a:custGeom>
            <a:avLst/>
            <a:gdLst>
              <a:gd name="textAreaLeft" fmla="*/ 51840 w 388800"/>
              <a:gd name="textAreaRight" fmla="*/ 336960 w 388800"/>
              <a:gd name="textAreaTop" fmla="*/ 208800 h 981000"/>
              <a:gd name="textAreaBottom" fmla="*/ 72360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95" stAng="-5400000" swAng="-5400000"/>
                <a:lnTo>
                  <a:pt x="0" y="11335"/>
                </a:lnTo>
                <a:arcTo wR="21600" hR="9195" stAng="10800000" swAng="-3525619"/>
                <a:lnTo>
                  <a:pt x="16200" y="21308"/>
                </a:lnTo>
                <a:lnTo>
                  <a:pt x="21600" y="19459"/>
                </a:lnTo>
                <a:lnTo>
                  <a:pt x="16200" y="17026"/>
                </a:lnTo>
                <a:lnTo>
                  <a:pt x="16200" y="18097"/>
                </a:lnTo>
                <a:arcTo wR="21600" hR="9195" stAng="7274381" swAng="3354300"/>
                <a:lnTo>
                  <a:pt x="147" y="10265"/>
                </a:lnTo>
                <a:arcTo wR="21600" hR="9195" stAng="-10628681" swAng="5228681"/>
                <a:close/>
              </a:path>
              <a:path fill="darkenLess" w="21600" h="21600">
                <a:moveTo>
                  <a:pt x="21600" y="0"/>
                </a:moveTo>
                <a:arcTo wR="21600" hR="9195" stAng="-5400000" swAng="-5400000"/>
                <a:lnTo>
                  <a:pt x="0" y="9195"/>
                </a:lnTo>
                <a:arcTo wR="21600" hR="9195" stAng="10800000" swAng="-171319"/>
                <a:lnTo>
                  <a:pt x="147" y="10265"/>
                </a:lnTo>
                <a:arcTo wR="21600" hR="9195" stAng="-10628681" swAng="522868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18 Flecha curvada hacia la derecha"/>
          <p:cNvSpPr/>
          <p:nvPr/>
        </p:nvSpPr>
        <p:spPr>
          <a:xfrm rot="19404600">
            <a:off x="2680920" y="3773520"/>
            <a:ext cx="365040" cy="952560"/>
          </a:xfrm>
          <a:custGeom>
            <a:avLst/>
            <a:gdLst>
              <a:gd name="textAreaLeft" fmla="*/ 48600 w 365040"/>
              <a:gd name="textAreaRight" fmla="*/ 316440 w 365040"/>
              <a:gd name="textAreaTop" fmla="*/ 203760 h 952560"/>
              <a:gd name="textAreaBottom" fmla="*/ 7030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8" stAng="-5400000" swAng="-5400000"/>
                <a:lnTo>
                  <a:pt x="0" y="11318"/>
                </a:lnTo>
                <a:arcTo wR="21600" hR="9248" stAng="10800000" swAng="-3534369"/>
                <a:lnTo>
                  <a:pt x="16200" y="21306"/>
                </a:lnTo>
                <a:lnTo>
                  <a:pt x="21600" y="19530"/>
                </a:lnTo>
                <a:lnTo>
                  <a:pt x="16200" y="17166"/>
                </a:lnTo>
                <a:lnTo>
                  <a:pt x="16200" y="18201"/>
                </a:lnTo>
                <a:arcTo wR="21600" hR="9248" stAng="7265631" swAng="3368730"/>
                <a:lnTo>
                  <a:pt x="136" y="10282"/>
                </a:lnTo>
                <a:arcTo wR="21600" hR="9248" stAng="-10634361" swAng="5234361"/>
                <a:close/>
              </a:path>
              <a:path fill="darkenLess" w="21600" h="21600">
                <a:moveTo>
                  <a:pt x="21600" y="0"/>
                </a:moveTo>
                <a:arcTo wR="21600" hR="9248" stAng="-5400000" swAng="-5400000"/>
                <a:lnTo>
                  <a:pt x="0" y="9248"/>
                </a:lnTo>
                <a:arcTo wR="21600" hR="9248" stAng="10800000" swAng="-165639"/>
                <a:lnTo>
                  <a:pt x="136" y="10282"/>
                </a:lnTo>
                <a:arcTo wR="21600" hR="9248" stAng="-10634361" swAng="523436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22 Flecha curvada hacia la derecha"/>
          <p:cNvSpPr/>
          <p:nvPr/>
        </p:nvSpPr>
        <p:spPr>
          <a:xfrm rot="12105600">
            <a:off x="5514480" y="374256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23 Flecha curvada hacia la derecha"/>
          <p:cNvSpPr/>
          <p:nvPr/>
        </p:nvSpPr>
        <p:spPr>
          <a:xfrm rot="7440600">
            <a:off x="5815080" y="174060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2 Grupo"/>
          <p:cNvGrpSpPr/>
          <p:nvPr/>
        </p:nvGrpSpPr>
        <p:grpSpPr>
          <a:xfrm>
            <a:off x="3438360" y="1163520"/>
            <a:ext cx="2264040" cy="2087640"/>
            <a:chOff x="3438360" y="1163520"/>
            <a:chExt cx="2264040" cy="2087640"/>
          </a:xfrm>
        </p:grpSpPr>
        <p:sp>
          <p:nvSpPr>
            <p:cNvPr id="1180" name="1 Rectángulo redondeado"/>
            <p:cNvSpPr/>
            <p:nvPr/>
          </p:nvSpPr>
          <p:spPr>
            <a:xfrm>
              <a:off x="3438360" y="1163520"/>
              <a:ext cx="2264040" cy="208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b8e3e6"/>
                </a:gs>
              </a:gsLst>
              <a:lin ang="5400000"/>
            </a:gra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7320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2 CuadroTexto"/>
            <p:cNvSpPr/>
            <p:nvPr/>
          </p:nvSpPr>
          <p:spPr>
            <a:xfrm>
              <a:off x="3682800" y="1490400"/>
              <a:ext cx="19450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ibro Compra y Ven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ibro de Honora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ibro de Remuner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Oval 3"/>
          <p:cNvSpPr/>
          <p:nvPr/>
        </p:nvSpPr>
        <p:spPr>
          <a:xfrm>
            <a:off x="1187280" y="1557360"/>
            <a:ext cx="6985080" cy="3846600"/>
          </a:xfrm>
          <a:prstGeom prst="ellipse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6"/>
          <p:cNvSpPr/>
          <p:nvPr/>
        </p:nvSpPr>
        <p:spPr>
          <a:xfrm>
            <a:off x="3527280" y="1874880"/>
            <a:ext cx="201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Auxili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7"/>
          <p:cNvSpPr/>
          <p:nvPr/>
        </p:nvSpPr>
        <p:spPr>
          <a:xfrm>
            <a:off x="5692680" y="2627280"/>
            <a:ext cx="201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ministr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Configu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val 8">
            <a:hlinkClick r:id="rId1" action="ppaction://hlinksldjump"/>
          </p:cNvPr>
          <p:cNvSpPr/>
          <p:nvPr/>
        </p:nvSpPr>
        <p:spPr>
          <a:xfrm>
            <a:off x="3344760" y="4346640"/>
            <a:ext cx="2016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9"/>
          <p:cNvSpPr/>
          <p:nvPr/>
        </p:nvSpPr>
        <p:spPr>
          <a:xfrm>
            <a:off x="1692360" y="2882880"/>
            <a:ext cx="20192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Con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11"/>
          <p:cNvSpPr/>
          <p:nvPr/>
        </p:nvSpPr>
        <p:spPr>
          <a:xfrm>
            <a:off x="3711600" y="3063960"/>
            <a:ext cx="2016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ncionalidades Tribu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10 Rectángulo"/>
          <p:cNvSpPr/>
          <p:nvPr/>
        </p:nvSpPr>
        <p:spPr>
          <a:xfrm>
            <a:off x="2006640" y="792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UNCIONALIDADES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BBA9-2D99-41A1-A028-4462A0B8D35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17 Flecha curvada hacia la derecha"/>
          <p:cNvSpPr/>
          <p:nvPr/>
        </p:nvSpPr>
        <p:spPr>
          <a:xfrm rot="2902800">
            <a:off x="2669400" y="1920240"/>
            <a:ext cx="388800" cy="981000"/>
          </a:xfrm>
          <a:custGeom>
            <a:avLst/>
            <a:gdLst>
              <a:gd name="textAreaLeft" fmla="*/ 51840 w 388800"/>
              <a:gd name="textAreaRight" fmla="*/ 336960 w 388800"/>
              <a:gd name="textAreaTop" fmla="*/ 208800 h 981000"/>
              <a:gd name="textAreaBottom" fmla="*/ 72360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95" stAng="-5400000" swAng="-5400000"/>
                <a:lnTo>
                  <a:pt x="0" y="11335"/>
                </a:lnTo>
                <a:arcTo wR="21600" hR="9195" stAng="10800000" swAng="-3525619"/>
                <a:lnTo>
                  <a:pt x="16200" y="21308"/>
                </a:lnTo>
                <a:lnTo>
                  <a:pt x="21600" y="19459"/>
                </a:lnTo>
                <a:lnTo>
                  <a:pt x="16200" y="17026"/>
                </a:lnTo>
                <a:lnTo>
                  <a:pt x="16200" y="18097"/>
                </a:lnTo>
                <a:arcTo wR="21600" hR="9195" stAng="7274381" swAng="3354300"/>
                <a:lnTo>
                  <a:pt x="147" y="10265"/>
                </a:lnTo>
                <a:arcTo wR="21600" hR="9195" stAng="-10628681" swAng="5228681"/>
                <a:close/>
              </a:path>
              <a:path fill="darkenLess" w="21600" h="21600">
                <a:moveTo>
                  <a:pt x="21600" y="0"/>
                </a:moveTo>
                <a:arcTo wR="21600" hR="9195" stAng="-5400000" swAng="-5400000"/>
                <a:lnTo>
                  <a:pt x="0" y="9195"/>
                </a:lnTo>
                <a:arcTo wR="21600" hR="9195" stAng="10800000" swAng="-171319"/>
                <a:lnTo>
                  <a:pt x="147" y="10265"/>
                </a:lnTo>
                <a:arcTo wR="21600" hR="9195" stAng="-10628681" swAng="522868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18 Flecha curvada hacia la derecha"/>
          <p:cNvSpPr/>
          <p:nvPr/>
        </p:nvSpPr>
        <p:spPr>
          <a:xfrm rot="19404600">
            <a:off x="2680920" y="3773520"/>
            <a:ext cx="365040" cy="952560"/>
          </a:xfrm>
          <a:custGeom>
            <a:avLst/>
            <a:gdLst>
              <a:gd name="textAreaLeft" fmla="*/ 48600 w 365040"/>
              <a:gd name="textAreaRight" fmla="*/ 316440 w 365040"/>
              <a:gd name="textAreaTop" fmla="*/ 203760 h 952560"/>
              <a:gd name="textAreaBottom" fmla="*/ 7030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8" stAng="-5400000" swAng="-5400000"/>
                <a:lnTo>
                  <a:pt x="0" y="11318"/>
                </a:lnTo>
                <a:arcTo wR="21600" hR="9248" stAng="10800000" swAng="-3534369"/>
                <a:lnTo>
                  <a:pt x="16200" y="21306"/>
                </a:lnTo>
                <a:lnTo>
                  <a:pt x="21600" y="19530"/>
                </a:lnTo>
                <a:lnTo>
                  <a:pt x="16200" y="17166"/>
                </a:lnTo>
                <a:lnTo>
                  <a:pt x="16200" y="18201"/>
                </a:lnTo>
                <a:arcTo wR="21600" hR="9248" stAng="7265631" swAng="3368730"/>
                <a:lnTo>
                  <a:pt x="136" y="10282"/>
                </a:lnTo>
                <a:arcTo wR="21600" hR="9248" stAng="-10634361" swAng="5234361"/>
                <a:close/>
              </a:path>
              <a:path fill="darkenLess" w="21600" h="21600">
                <a:moveTo>
                  <a:pt x="21600" y="0"/>
                </a:moveTo>
                <a:arcTo wR="21600" hR="9248" stAng="-5400000" swAng="-5400000"/>
                <a:lnTo>
                  <a:pt x="0" y="9248"/>
                </a:lnTo>
                <a:arcTo wR="21600" hR="9248" stAng="10800000" swAng="-165639"/>
                <a:lnTo>
                  <a:pt x="136" y="10282"/>
                </a:lnTo>
                <a:arcTo wR="21600" hR="9248" stAng="-10634361" swAng="523436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22 Flecha curvada hacia la derecha"/>
          <p:cNvSpPr/>
          <p:nvPr/>
        </p:nvSpPr>
        <p:spPr>
          <a:xfrm rot="12105600">
            <a:off x="5514480" y="374256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23 Flecha curvada hacia la derecha"/>
          <p:cNvSpPr/>
          <p:nvPr/>
        </p:nvSpPr>
        <p:spPr>
          <a:xfrm rot="7440600">
            <a:off x="5815080" y="174060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2 Grupo"/>
          <p:cNvGrpSpPr/>
          <p:nvPr/>
        </p:nvGrpSpPr>
        <p:grpSpPr>
          <a:xfrm>
            <a:off x="1447920" y="2278080"/>
            <a:ext cx="2263680" cy="2089080"/>
            <a:chOff x="1447920" y="2278080"/>
            <a:chExt cx="2263680" cy="2089080"/>
          </a:xfrm>
        </p:grpSpPr>
        <p:sp>
          <p:nvSpPr>
            <p:cNvPr id="1195" name="1 Rectángulo redondeado"/>
            <p:cNvSpPr/>
            <p:nvPr/>
          </p:nvSpPr>
          <p:spPr>
            <a:xfrm>
              <a:off x="1447920" y="2278080"/>
              <a:ext cx="2263680" cy="20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b8e3e6"/>
                </a:gs>
              </a:gsLst>
              <a:lin ang="5400000"/>
            </a:gra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7320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2 CuadroTexto"/>
            <p:cNvSpPr/>
            <p:nvPr/>
          </p:nvSpPr>
          <p:spPr>
            <a:xfrm>
              <a:off x="1606680" y="2941560"/>
              <a:ext cx="1944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ibro Di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ibro May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ibro de Inventario y Ba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Oval 3"/>
          <p:cNvSpPr/>
          <p:nvPr/>
        </p:nvSpPr>
        <p:spPr>
          <a:xfrm>
            <a:off x="1187280" y="1557360"/>
            <a:ext cx="6985080" cy="3846600"/>
          </a:xfrm>
          <a:prstGeom prst="ellipse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val 6"/>
          <p:cNvSpPr/>
          <p:nvPr/>
        </p:nvSpPr>
        <p:spPr>
          <a:xfrm>
            <a:off x="3527280" y="1874880"/>
            <a:ext cx="201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Auxili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7"/>
          <p:cNvSpPr/>
          <p:nvPr/>
        </p:nvSpPr>
        <p:spPr>
          <a:xfrm>
            <a:off x="5692680" y="2627280"/>
            <a:ext cx="201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ministr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Configu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8"/>
          <p:cNvSpPr/>
          <p:nvPr/>
        </p:nvSpPr>
        <p:spPr>
          <a:xfrm>
            <a:off x="3344760" y="4346640"/>
            <a:ext cx="2016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val 9"/>
          <p:cNvSpPr/>
          <p:nvPr/>
        </p:nvSpPr>
        <p:spPr>
          <a:xfrm>
            <a:off x="1692360" y="2882880"/>
            <a:ext cx="20192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Con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Oval 11">
            <a:hlinkClick r:id="rId1" action="ppaction://hlinksldjump"/>
          </p:cNvPr>
          <p:cNvSpPr/>
          <p:nvPr/>
        </p:nvSpPr>
        <p:spPr>
          <a:xfrm>
            <a:off x="3711600" y="3063960"/>
            <a:ext cx="2016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ncionalidades Tribu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10 Rectángulo"/>
          <p:cNvSpPr/>
          <p:nvPr/>
        </p:nvSpPr>
        <p:spPr>
          <a:xfrm>
            <a:off x="2006640" y="792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NCIONALIDADES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6B52-9EBF-4850-9EA6-20D94BCC679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17 Flecha curvada hacia la derecha"/>
          <p:cNvSpPr/>
          <p:nvPr/>
        </p:nvSpPr>
        <p:spPr>
          <a:xfrm rot="2902800">
            <a:off x="2669400" y="1920240"/>
            <a:ext cx="388800" cy="981000"/>
          </a:xfrm>
          <a:custGeom>
            <a:avLst/>
            <a:gdLst>
              <a:gd name="textAreaLeft" fmla="*/ 51840 w 388800"/>
              <a:gd name="textAreaRight" fmla="*/ 336960 w 388800"/>
              <a:gd name="textAreaTop" fmla="*/ 208800 h 981000"/>
              <a:gd name="textAreaBottom" fmla="*/ 72360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95" stAng="-5400000" swAng="-5400000"/>
                <a:lnTo>
                  <a:pt x="0" y="11335"/>
                </a:lnTo>
                <a:arcTo wR="21600" hR="9195" stAng="10800000" swAng="-3525619"/>
                <a:lnTo>
                  <a:pt x="16200" y="21308"/>
                </a:lnTo>
                <a:lnTo>
                  <a:pt x="21600" y="19459"/>
                </a:lnTo>
                <a:lnTo>
                  <a:pt x="16200" y="17026"/>
                </a:lnTo>
                <a:lnTo>
                  <a:pt x="16200" y="18097"/>
                </a:lnTo>
                <a:arcTo wR="21600" hR="9195" stAng="7274381" swAng="3354300"/>
                <a:lnTo>
                  <a:pt x="147" y="10265"/>
                </a:lnTo>
                <a:arcTo wR="21600" hR="9195" stAng="-10628681" swAng="5228681"/>
                <a:close/>
              </a:path>
              <a:path fill="darkenLess" w="21600" h="21600">
                <a:moveTo>
                  <a:pt x="21600" y="0"/>
                </a:moveTo>
                <a:arcTo wR="21600" hR="9195" stAng="-5400000" swAng="-5400000"/>
                <a:lnTo>
                  <a:pt x="0" y="9195"/>
                </a:lnTo>
                <a:arcTo wR="21600" hR="9195" stAng="10800000" swAng="-171319"/>
                <a:lnTo>
                  <a:pt x="147" y="10265"/>
                </a:lnTo>
                <a:arcTo wR="21600" hR="9195" stAng="-10628681" swAng="522868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18 Flecha curvada hacia la derecha"/>
          <p:cNvSpPr/>
          <p:nvPr/>
        </p:nvSpPr>
        <p:spPr>
          <a:xfrm rot="19404600">
            <a:off x="2680920" y="3773520"/>
            <a:ext cx="365040" cy="952560"/>
          </a:xfrm>
          <a:custGeom>
            <a:avLst/>
            <a:gdLst>
              <a:gd name="textAreaLeft" fmla="*/ 48600 w 365040"/>
              <a:gd name="textAreaRight" fmla="*/ 316440 w 365040"/>
              <a:gd name="textAreaTop" fmla="*/ 203760 h 952560"/>
              <a:gd name="textAreaBottom" fmla="*/ 7030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8" stAng="-5400000" swAng="-5400000"/>
                <a:lnTo>
                  <a:pt x="0" y="11318"/>
                </a:lnTo>
                <a:arcTo wR="21600" hR="9248" stAng="10800000" swAng="-3534369"/>
                <a:lnTo>
                  <a:pt x="16200" y="21306"/>
                </a:lnTo>
                <a:lnTo>
                  <a:pt x="21600" y="19530"/>
                </a:lnTo>
                <a:lnTo>
                  <a:pt x="16200" y="17166"/>
                </a:lnTo>
                <a:lnTo>
                  <a:pt x="16200" y="18201"/>
                </a:lnTo>
                <a:arcTo wR="21600" hR="9248" stAng="7265631" swAng="3368730"/>
                <a:lnTo>
                  <a:pt x="136" y="10282"/>
                </a:lnTo>
                <a:arcTo wR="21600" hR="9248" stAng="-10634361" swAng="5234361"/>
                <a:close/>
              </a:path>
              <a:path fill="darkenLess" w="21600" h="21600">
                <a:moveTo>
                  <a:pt x="21600" y="0"/>
                </a:moveTo>
                <a:arcTo wR="21600" hR="9248" stAng="-5400000" swAng="-5400000"/>
                <a:lnTo>
                  <a:pt x="0" y="9248"/>
                </a:lnTo>
                <a:arcTo wR="21600" hR="9248" stAng="10800000" swAng="-165639"/>
                <a:lnTo>
                  <a:pt x="136" y="10282"/>
                </a:lnTo>
                <a:arcTo wR="21600" hR="9248" stAng="-10634361" swAng="523436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22 Flecha curvada hacia la derecha"/>
          <p:cNvSpPr/>
          <p:nvPr/>
        </p:nvSpPr>
        <p:spPr>
          <a:xfrm rot="12105600">
            <a:off x="5514480" y="374256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23 Flecha curvada hacia la derecha"/>
          <p:cNvSpPr/>
          <p:nvPr/>
        </p:nvSpPr>
        <p:spPr>
          <a:xfrm rot="7440600">
            <a:off x="5815080" y="174060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9" name="2 Grupo"/>
          <p:cNvGrpSpPr/>
          <p:nvPr/>
        </p:nvGrpSpPr>
        <p:grpSpPr>
          <a:xfrm>
            <a:off x="3278160" y="3941640"/>
            <a:ext cx="2263680" cy="2087640"/>
            <a:chOff x="3278160" y="3941640"/>
            <a:chExt cx="2263680" cy="2087640"/>
          </a:xfrm>
        </p:grpSpPr>
        <p:sp>
          <p:nvSpPr>
            <p:cNvPr id="1210" name="1 Rectángulo redondeado"/>
            <p:cNvSpPr/>
            <p:nvPr/>
          </p:nvSpPr>
          <p:spPr>
            <a:xfrm>
              <a:off x="3278160" y="3941640"/>
              <a:ext cx="2263680" cy="208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b8e3e6"/>
                </a:gs>
              </a:gsLst>
              <a:lin ang="5400000"/>
            </a:gra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7320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2 CuadroTexto"/>
            <p:cNvSpPr/>
            <p:nvPr/>
          </p:nvSpPr>
          <p:spPr>
            <a:xfrm>
              <a:off x="3438360" y="3941640"/>
              <a:ext cx="19447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Balance de Comprobación y Sal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Balance de 8 Colum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Balance Clasific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Oval 3"/>
          <p:cNvSpPr/>
          <p:nvPr/>
        </p:nvSpPr>
        <p:spPr>
          <a:xfrm>
            <a:off x="1187280" y="1557360"/>
            <a:ext cx="6985080" cy="3846600"/>
          </a:xfrm>
          <a:prstGeom prst="ellipse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Oval 6"/>
          <p:cNvSpPr/>
          <p:nvPr/>
        </p:nvSpPr>
        <p:spPr>
          <a:xfrm>
            <a:off x="3527280" y="1874880"/>
            <a:ext cx="201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Auxili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Oval 7"/>
          <p:cNvSpPr/>
          <p:nvPr/>
        </p:nvSpPr>
        <p:spPr>
          <a:xfrm>
            <a:off x="5692680" y="2627280"/>
            <a:ext cx="201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ministr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Configu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Oval 8"/>
          <p:cNvSpPr/>
          <p:nvPr/>
        </p:nvSpPr>
        <p:spPr>
          <a:xfrm>
            <a:off x="3344760" y="4346640"/>
            <a:ext cx="2016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Oval 9"/>
          <p:cNvSpPr/>
          <p:nvPr/>
        </p:nvSpPr>
        <p:spPr>
          <a:xfrm>
            <a:off x="1692360" y="2882880"/>
            <a:ext cx="20192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bros Con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val 11"/>
          <p:cNvSpPr/>
          <p:nvPr/>
        </p:nvSpPr>
        <p:spPr>
          <a:xfrm>
            <a:off x="3711600" y="3063960"/>
            <a:ext cx="2016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ncionalidades Tribu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10 Rectángulo"/>
          <p:cNvSpPr/>
          <p:nvPr/>
        </p:nvSpPr>
        <p:spPr>
          <a:xfrm>
            <a:off x="2006640" y="792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NCIONALIDADES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AA92-23F1-4A66-87D5-54DEDF79315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17 Flecha curvada hacia la derecha"/>
          <p:cNvSpPr/>
          <p:nvPr/>
        </p:nvSpPr>
        <p:spPr>
          <a:xfrm rot="2902800">
            <a:off x="2669400" y="1920240"/>
            <a:ext cx="388800" cy="981000"/>
          </a:xfrm>
          <a:custGeom>
            <a:avLst/>
            <a:gdLst>
              <a:gd name="textAreaLeft" fmla="*/ 51840 w 388800"/>
              <a:gd name="textAreaRight" fmla="*/ 336960 w 388800"/>
              <a:gd name="textAreaTop" fmla="*/ 208800 h 981000"/>
              <a:gd name="textAreaBottom" fmla="*/ 72360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95" stAng="-5400000" swAng="-5400000"/>
                <a:lnTo>
                  <a:pt x="0" y="11335"/>
                </a:lnTo>
                <a:arcTo wR="21600" hR="9195" stAng="10800000" swAng="-3525619"/>
                <a:lnTo>
                  <a:pt x="16200" y="21308"/>
                </a:lnTo>
                <a:lnTo>
                  <a:pt x="21600" y="19459"/>
                </a:lnTo>
                <a:lnTo>
                  <a:pt x="16200" y="17026"/>
                </a:lnTo>
                <a:lnTo>
                  <a:pt x="16200" y="18097"/>
                </a:lnTo>
                <a:arcTo wR="21600" hR="9195" stAng="7274381" swAng="3354300"/>
                <a:lnTo>
                  <a:pt x="147" y="10265"/>
                </a:lnTo>
                <a:arcTo wR="21600" hR="9195" stAng="-10628681" swAng="5228681"/>
                <a:close/>
              </a:path>
              <a:path fill="darkenLess" w="21600" h="21600">
                <a:moveTo>
                  <a:pt x="21600" y="0"/>
                </a:moveTo>
                <a:arcTo wR="21600" hR="9195" stAng="-5400000" swAng="-5400000"/>
                <a:lnTo>
                  <a:pt x="0" y="9195"/>
                </a:lnTo>
                <a:arcTo wR="21600" hR="9195" stAng="10800000" swAng="-171319"/>
                <a:lnTo>
                  <a:pt x="147" y="10265"/>
                </a:lnTo>
                <a:arcTo wR="21600" hR="9195" stAng="-10628681" swAng="522868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18 Flecha curvada hacia la derecha"/>
          <p:cNvSpPr/>
          <p:nvPr/>
        </p:nvSpPr>
        <p:spPr>
          <a:xfrm rot="19404600">
            <a:off x="2680920" y="3773520"/>
            <a:ext cx="365040" cy="952560"/>
          </a:xfrm>
          <a:custGeom>
            <a:avLst/>
            <a:gdLst>
              <a:gd name="textAreaLeft" fmla="*/ 48600 w 365040"/>
              <a:gd name="textAreaRight" fmla="*/ 316440 w 365040"/>
              <a:gd name="textAreaTop" fmla="*/ 203760 h 952560"/>
              <a:gd name="textAreaBottom" fmla="*/ 70308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8" stAng="-5400000" swAng="-5400000"/>
                <a:lnTo>
                  <a:pt x="0" y="11318"/>
                </a:lnTo>
                <a:arcTo wR="21600" hR="9248" stAng="10800000" swAng="-3534369"/>
                <a:lnTo>
                  <a:pt x="16200" y="21306"/>
                </a:lnTo>
                <a:lnTo>
                  <a:pt x="21600" y="19530"/>
                </a:lnTo>
                <a:lnTo>
                  <a:pt x="16200" y="17166"/>
                </a:lnTo>
                <a:lnTo>
                  <a:pt x="16200" y="18201"/>
                </a:lnTo>
                <a:arcTo wR="21600" hR="9248" stAng="7265631" swAng="3368730"/>
                <a:lnTo>
                  <a:pt x="136" y="10282"/>
                </a:lnTo>
                <a:arcTo wR="21600" hR="9248" stAng="-10634361" swAng="5234361"/>
                <a:close/>
              </a:path>
              <a:path fill="darkenLess" w="21600" h="21600">
                <a:moveTo>
                  <a:pt x="21600" y="0"/>
                </a:moveTo>
                <a:arcTo wR="21600" hR="9248" stAng="-5400000" swAng="-5400000"/>
                <a:lnTo>
                  <a:pt x="0" y="9248"/>
                </a:lnTo>
                <a:arcTo wR="21600" hR="9248" stAng="10800000" swAng="-165639"/>
                <a:lnTo>
                  <a:pt x="136" y="10282"/>
                </a:lnTo>
                <a:arcTo wR="21600" hR="9248" stAng="-10634361" swAng="5234361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22 Flecha curvada hacia la derecha"/>
          <p:cNvSpPr/>
          <p:nvPr/>
        </p:nvSpPr>
        <p:spPr>
          <a:xfrm rot="12105600">
            <a:off x="5514480" y="374256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23 Flecha curvada hacia la derecha"/>
          <p:cNvSpPr/>
          <p:nvPr/>
        </p:nvSpPr>
        <p:spPr>
          <a:xfrm rot="7440600">
            <a:off x="5815080" y="1740600"/>
            <a:ext cx="385920" cy="933480"/>
          </a:xfrm>
          <a:custGeom>
            <a:avLst/>
            <a:gdLst>
              <a:gd name="textAreaLeft" fmla="*/ 51480 w 385920"/>
              <a:gd name="textAreaRight" fmla="*/ 334440 w 385920"/>
              <a:gd name="textAreaTop" fmla="*/ 197280 h 933480"/>
              <a:gd name="textAreaBottom" fmla="*/ 6879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7" stAng="-5400000" swAng="-5400000"/>
                <a:lnTo>
                  <a:pt x="0" y="11358"/>
                </a:lnTo>
                <a:arcTo wR="21600" hR="9127" stAng="10800000" swAng="-3514284"/>
                <a:lnTo>
                  <a:pt x="16200" y="21310"/>
                </a:lnTo>
                <a:lnTo>
                  <a:pt x="21600" y="19369"/>
                </a:lnTo>
                <a:lnTo>
                  <a:pt x="16200" y="16847"/>
                </a:lnTo>
                <a:lnTo>
                  <a:pt x="16200" y="17963"/>
                </a:lnTo>
                <a:arcTo wR="21600" hR="9127" stAng="7285716" swAng="3335566"/>
                <a:lnTo>
                  <a:pt x="162" y="10242"/>
                </a:lnTo>
                <a:arcTo wR="21600" hR="9127" stAng="-10621283" swAng="5221283"/>
                <a:close/>
              </a:path>
              <a:path fill="darkenLess" w="21600" h="21600">
                <a:moveTo>
                  <a:pt x="21600" y="0"/>
                </a:moveTo>
                <a:arcTo wR="21600" hR="9127" stAng="-5400000" swAng="-5400000"/>
                <a:lnTo>
                  <a:pt x="0" y="9127"/>
                </a:lnTo>
                <a:arcTo wR="21600" hR="9127" stAng="10800000" swAng="-178717"/>
                <a:lnTo>
                  <a:pt x="162" y="10242"/>
                </a:lnTo>
                <a:arcTo wR="21600" hR="9127" stAng="-10621283" swAng="5221283"/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73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5 Grupo"/>
          <p:cNvGrpSpPr/>
          <p:nvPr/>
        </p:nvGrpSpPr>
        <p:grpSpPr>
          <a:xfrm>
            <a:off x="3548160" y="2436840"/>
            <a:ext cx="2263680" cy="2089080"/>
            <a:chOff x="3548160" y="2436840"/>
            <a:chExt cx="2263680" cy="2089080"/>
          </a:xfrm>
        </p:grpSpPr>
        <p:sp>
          <p:nvSpPr>
            <p:cNvPr id="1225" name="1 Rectángulo redondeado"/>
            <p:cNvSpPr/>
            <p:nvPr/>
          </p:nvSpPr>
          <p:spPr>
            <a:xfrm>
              <a:off x="3548160" y="2436840"/>
              <a:ext cx="2263680" cy="20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2d050"/>
                </a:gs>
                <a:gs pos="100000">
                  <a:srgbClr val="b8e3e6"/>
                </a:gs>
              </a:gsLst>
              <a:lin ang="5400000"/>
            </a:gra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7320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2 CuadroTexto"/>
            <p:cNvSpPr/>
            <p:nvPr/>
          </p:nvSpPr>
          <p:spPr>
            <a:xfrm>
              <a:off x="3707640" y="2573280"/>
              <a:ext cx="19447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nta Líquida Impon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ibro F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Propuestas de declaraciones F29, F22, DJ 1879, DJ 188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Generación L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74760" y="-36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ORTAL  MIP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73231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 sitio web desarrollado por el SII para las Micro, Pequeñas y Medianas empresas (MIPYMES) del país, donde se encuentran aplicaciones gratuitas para ayudar al cumplimiento tributario de empresas de menor tama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acturación Electró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ributación Simplificada 14 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tabilidad Completa MIPYME: enero d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409680" y="0"/>
            <a:ext cx="8356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IAGRAMA GENERAL DEL SISTEM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4D9B-67BC-491F-A3D0-3797ED80BF6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1 CuadroTexto"/>
          <p:cNvSpPr/>
          <p:nvPr/>
        </p:nvSpPr>
        <p:spPr>
          <a:xfrm>
            <a:off x="3059280" y="8809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Arial"/>
              </a:rPr>
              <a:t>Libros Auxil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1 Grupo"/>
          <p:cNvGrpSpPr/>
          <p:nvPr/>
        </p:nvGrpSpPr>
        <p:grpSpPr>
          <a:xfrm>
            <a:off x="539640" y="1484280"/>
            <a:ext cx="7429680" cy="4487760"/>
            <a:chOff x="539640" y="1484280"/>
            <a:chExt cx="7429680" cy="4487760"/>
          </a:xfrm>
        </p:grpSpPr>
        <p:graphicFrame>
          <p:nvGraphicFramePr>
            <p:cNvPr id="1231" name="32785 Objeto"/>
            <p:cNvGraphicFramePr/>
            <p:nvPr/>
          </p:nvGraphicFramePr>
          <p:xfrm>
            <a:off x="612360" y="1484280"/>
            <a:ext cx="7356960" cy="448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2" name="32785 Objeto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2360" y="1484280"/>
                      <a:ext cx="7356960" cy="448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3" name="2 Rectángulo redondeado"/>
            <p:cNvSpPr/>
            <p:nvPr/>
          </p:nvSpPr>
          <p:spPr>
            <a:xfrm>
              <a:off x="539640" y="1557000"/>
              <a:ext cx="1511280" cy="259236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2592360"/>
                <a:gd name="textAreaBottom" fmla="*/ 2518920 h 2592360"/>
              </a:gdLst>
              <a:ahLst/>
              <a:rect l="textAreaLeft" t="textAreaTop" r="textAreaRight" b="textAreaBottom"/>
              <a:pathLst>
                <a:path w="21600" h="37048">
                  <a:moveTo>
                    <a:pt x="3600" y="0"/>
                  </a:moveTo>
                  <a:arcTo wR="3600" hR="3600" stAng="16200000" swAng="-5400000"/>
                  <a:lnTo>
                    <a:pt x="0" y="33448"/>
                  </a:lnTo>
                  <a:arcTo wR="3600" hR="3600" stAng="10800000" swAng="-5400000"/>
                  <a:lnTo>
                    <a:pt x="18000" y="370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7320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409680" y="0"/>
            <a:ext cx="8356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IAGRAMA GENERAL DEL SISTEM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C7BA-259B-4F55-B4DE-92FEE09DABB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1 Grupo"/>
          <p:cNvGrpSpPr/>
          <p:nvPr/>
        </p:nvGrpSpPr>
        <p:grpSpPr>
          <a:xfrm>
            <a:off x="612720" y="1484280"/>
            <a:ext cx="7230960" cy="4362480"/>
            <a:chOff x="612720" y="1484280"/>
            <a:chExt cx="7230960" cy="4362480"/>
          </a:xfrm>
        </p:grpSpPr>
        <p:graphicFrame>
          <p:nvGraphicFramePr>
            <p:cNvPr id="1237" name="32785 Objeto"/>
            <p:cNvGraphicFramePr/>
            <p:nvPr/>
          </p:nvGraphicFramePr>
          <p:xfrm>
            <a:off x="612720" y="1484280"/>
            <a:ext cx="7230960" cy="436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8" name="32785 Objeto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2720" y="1484280"/>
                      <a:ext cx="7230960" cy="436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9" name="6 Recortar rectángulo de esquina diagonal"/>
            <p:cNvSpPr/>
            <p:nvPr/>
          </p:nvSpPr>
          <p:spPr>
            <a:xfrm>
              <a:off x="2195280" y="1618920"/>
              <a:ext cx="5424480" cy="3394080"/>
            </a:xfrm>
            <a:custGeom>
              <a:avLst/>
              <a:gdLst/>
              <a:ahLst/>
              <a:rect l="l" t="t" r="r" b="b"/>
              <a:pathLst>
                <a:path w="3989598" h="3285625">
                  <a:moveTo>
                    <a:pt x="0" y="9447"/>
                  </a:moveTo>
                  <a:lnTo>
                    <a:pt x="2280244" y="9447"/>
                  </a:lnTo>
                  <a:lnTo>
                    <a:pt x="3983415" y="0"/>
                  </a:lnTo>
                  <a:cubicBezTo>
                    <a:pt x="3999546" y="555616"/>
                    <a:pt x="3978242" y="1243365"/>
                    <a:pt x="3984848" y="1770406"/>
                  </a:cubicBezTo>
                  <a:lnTo>
                    <a:pt x="2479129" y="1790200"/>
                  </a:lnTo>
                  <a:lnTo>
                    <a:pt x="2469604" y="3257050"/>
                  </a:lnTo>
                  <a:lnTo>
                    <a:pt x="922785" y="3285625"/>
                  </a:lnTo>
                  <a:lnTo>
                    <a:pt x="0" y="2505715"/>
                  </a:lnTo>
                  <a:lnTo>
                    <a:pt x="0" y="9447"/>
                  </a:lnTo>
                  <a:close/>
                </a:path>
              </a:pathLst>
            </a:cu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5 CuadroTexto"/>
          <p:cNvSpPr/>
          <p:nvPr/>
        </p:nvSpPr>
        <p:spPr>
          <a:xfrm>
            <a:off x="3059280" y="8809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Arial"/>
              </a:rPr>
              <a:t>Generación de la Cont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409680" y="0"/>
            <a:ext cx="8356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IAGRAMA GENERAL DEL SISTEM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3 Marcador de número de diapositiva"/>
          <p:cNvSpPr/>
          <p:nvPr/>
        </p:nvSpPr>
        <p:spPr>
          <a:xfrm>
            <a:off x="6553080" y="6245280"/>
            <a:ext cx="22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EB40-4FE7-4672-ACA8-F65A1300D94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5 CuadroTexto"/>
          <p:cNvSpPr/>
          <p:nvPr/>
        </p:nvSpPr>
        <p:spPr>
          <a:xfrm>
            <a:off x="2967120" y="98100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Arial"/>
              </a:rPr>
              <a:t>Funcionalidades Tribu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4" name="1 Grupo"/>
          <p:cNvGrpSpPr/>
          <p:nvPr/>
        </p:nvGrpSpPr>
        <p:grpSpPr>
          <a:xfrm>
            <a:off x="604800" y="1487520"/>
            <a:ext cx="8227800" cy="4651200"/>
            <a:chOff x="604800" y="1487520"/>
            <a:chExt cx="8227800" cy="4651200"/>
          </a:xfrm>
        </p:grpSpPr>
        <p:graphicFrame>
          <p:nvGraphicFramePr>
            <p:cNvPr id="1245" name="32785 Objeto"/>
            <p:cNvGraphicFramePr/>
            <p:nvPr/>
          </p:nvGraphicFramePr>
          <p:xfrm>
            <a:off x="604800" y="1487520"/>
            <a:ext cx="8069760" cy="4595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6" name="32785 Objeto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4800" y="1487520"/>
                      <a:ext cx="8069760" cy="459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7" name="6 Recortar rectángulo de esquina diagonal"/>
            <p:cNvSpPr/>
            <p:nvPr/>
          </p:nvSpPr>
          <p:spPr>
            <a:xfrm rot="10800000">
              <a:off x="610560" y="1567800"/>
              <a:ext cx="8222040" cy="4570560"/>
            </a:xfrm>
            <a:custGeom>
              <a:avLst/>
              <a:gdLst/>
              <a:ahLst/>
              <a:rect l="l" t="t" r="r" b="b"/>
              <a:pathLst>
                <a:path w="4022129" h="4423578">
                  <a:moveTo>
                    <a:pt x="27961" y="226"/>
                  </a:moveTo>
                  <a:lnTo>
                    <a:pt x="2284905" y="18667"/>
                  </a:lnTo>
                  <a:lnTo>
                    <a:pt x="4016036" y="0"/>
                  </a:lnTo>
                  <a:cubicBezTo>
                    <a:pt x="4018187" y="555616"/>
                    <a:pt x="4015523" y="966750"/>
                    <a:pt x="4022129" y="1493791"/>
                  </a:cubicBezTo>
                  <a:lnTo>
                    <a:pt x="2507090" y="1467483"/>
                  </a:lnTo>
                  <a:cubicBezTo>
                    <a:pt x="2505468" y="1870375"/>
                    <a:pt x="2508507" y="2051976"/>
                    <a:pt x="2506885" y="2454868"/>
                  </a:cubicBezTo>
                  <a:lnTo>
                    <a:pt x="1216369" y="2465002"/>
                  </a:lnTo>
                  <a:cubicBezTo>
                    <a:pt x="1215888" y="3388934"/>
                    <a:pt x="1210853" y="3421380"/>
                    <a:pt x="714542" y="3434312"/>
                  </a:cubicBezTo>
                  <a:cubicBezTo>
                    <a:pt x="558414" y="3926709"/>
                    <a:pt x="467818" y="4407352"/>
                    <a:pt x="0" y="4423578"/>
                  </a:cubicBezTo>
                  <a:cubicBezTo>
                    <a:pt x="3107" y="3072068"/>
                    <a:pt x="20194" y="1545367"/>
                    <a:pt x="27961" y="226"/>
                  </a:cubicBezTo>
                  <a:close/>
                </a:path>
              </a:pathLst>
            </a:cu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409680" y="0"/>
            <a:ext cx="8356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IAGRAMA GENERAL DEL SISTEM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3 Marcador de número de diapositiva"/>
          <p:cNvSpPr/>
          <p:nvPr/>
        </p:nvSpPr>
        <p:spPr>
          <a:xfrm>
            <a:off x="6553080" y="6245280"/>
            <a:ext cx="22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AE6F-4DE6-466B-BE40-F781EB4F4ED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1 Grupo"/>
          <p:cNvGrpSpPr/>
          <p:nvPr/>
        </p:nvGrpSpPr>
        <p:grpSpPr>
          <a:xfrm>
            <a:off x="500040" y="1571760"/>
            <a:ext cx="8292960" cy="4651200"/>
            <a:chOff x="500040" y="1571760"/>
            <a:chExt cx="8292960" cy="4651200"/>
          </a:xfrm>
        </p:grpSpPr>
        <p:graphicFrame>
          <p:nvGraphicFramePr>
            <p:cNvPr id="1251" name="32785 Objeto"/>
            <p:cNvGraphicFramePr/>
            <p:nvPr/>
          </p:nvGraphicFramePr>
          <p:xfrm>
            <a:off x="564840" y="1571760"/>
            <a:ext cx="8069400" cy="4595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2" name="32785 Objeto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840" y="1571760"/>
                      <a:ext cx="8069400" cy="459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3" name="6 Recortar rectángulo de esquina diagonal"/>
            <p:cNvSpPr/>
            <p:nvPr/>
          </p:nvSpPr>
          <p:spPr>
            <a:xfrm rot="10800000">
              <a:off x="571320" y="1652040"/>
              <a:ext cx="8221680" cy="4570560"/>
            </a:xfrm>
            <a:custGeom>
              <a:avLst/>
              <a:gdLst/>
              <a:ahLst/>
              <a:rect l="l" t="t" r="r" b="b"/>
              <a:pathLst>
                <a:path w="4022129" h="4423578">
                  <a:moveTo>
                    <a:pt x="27961" y="226"/>
                  </a:moveTo>
                  <a:lnTo>
                    <a:pt x="2284905" y="18667"/>
                  </a:lnTo>
                  <a:lnTo>
                    <a:pt x="4016036" y="0"/>
                  </a:lnTo>
                  <a:cubicBezTo>
                    <a:pt x="4018187" y="555616"/>
                    <a:pt x="4015523" y="966750"/>
                    <a:pt x="4022129" y="1493791"/>
                  </a:cubicBezTo>
                  <a:lnTo>
                    <a:pt x="2507090" y="1467483"/>
                  </a:lnTo>
                  <a:cubicBezTo>
                    <a:pt x="2505468" y="1870375"/>
                    <a:pt x="2508507" y="2051976"/>
                    <a:pt x="2506885" y="2454868"/>
                  </a:cubicBezTo>
                  <a:lnTo>
                    <a:pt x="1216369" y="2465002"/>
                  </a:lnTo>
                  <a:cubicBezTo>
                    <a:pt x="1215888" y="3388934"/>
                    <a:pt x="1210853" y="3421380"/>
                    <a:pt x="714542" y="3434312"/>
                  </a:cubicBezTo>
                  <a:cubicBezTo>
                    <a:pt x="558414" y="3926709"/>
                    <a:pt x="467818" y="4407352"/>
                    <a:pt x="0" y="4423578"/>
                  </a:cubicBezTo>
                  <a:cubicBezTo>
                    <a:pt x="3107" y="3072068"/>
                    <a:pt x="20194" y="1545367"/>
                    <a:pt x="27961" y="226"/>
                  </a:cubicBezTo>
                  <a:close/>
                </a:path>
              </a:pathLst>
            </a:custGeom>
            <a:noFill/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6 Rectángulo redondeado"/>
            <p:cNvSpPr/>
            <p:nvPr/>
          </p:nvSpPr>
          <p:spPr>
            <a:xfrm>
              <a:off x="500040" y="1641600"/>
              <a:ext cx="1511280" cy="259236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2592360"/>
                <a:gd name="textAreaBottom" fmla="*/ 2518920 h 2592360"/>
              </a:gdLst>
              <a:ahLst/>
              <a:rect l="textAreaLeft" t="textAreaTop" r="textAreaRight" b="textAreaBottom"/>
              <a:pathLst>
                <a:path w="21600" h="37048">
                  <a:moveTo>
                    <a:pt x="3600" y="0"/>
                  </a:moveTo>
                  <a:arcTo wR="3600" hR="3600" stAng="16200000" swAng="-5400000"/>
                  <a:lnTo>
                    <a:pt x="0" y="33448"/>
                  </a:lnTo>
                  <a:arcTo wR="3600" hR="3600" stAng="10800000" swAng="-5400000"/>
                  <a:lnTo>
                    <a:pt x="18000" y="370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7320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6 Recortar rectángulo de esquina diagonal"/>
            <p:cNvSpPr/>
            <p:nvPr/>
          </p:nvSpPr>
          <p:spPr>
            <a:xfrm>
              <a:off x="2155680" y="1703520"/>
              <a:ext cx="5424480" cy="3394080"/>
            </a:xfrm>
            <a:custGeom>
              <a:avLst/>
              <a:gdLst/>
              <a:ahLst/>
              <a:rect l="l" t="t" r="r" b="b"/>
              <a:pathLst>
                <a:path w="3989598" h="3285625">
                  <a:moveTo>
                    <a:pt x="0" y="9447"/>
                  </a:moveTo>
                  <a:lnTo>
                    <a:pt x="2280244" y="9447"/>
                  </a:lnTo>
                  <a:lnTo>
                    <a:pt x="3983415" y="0"/>
                  </a:lnTo>
                  <a:cubicBezTo>
                    <a:pt x="3999546" y="555616"/>
                    <a:pt x="3978242" y="1243365"/>
                    <a:pt x="3984848" y="1770406"/>
                  </a:cubicBezTo>
                  <a:lnTo>
                    <a:pt x="2479129" y="1790200"/>
                  </a:lnTo>
                  <a:lnTo>
                    <a:pt x="2469604" y="3257050"/>
                  </a:lnTo>
                  <a:lnTo>
                    <a:pt x="922785" y="3285625"/>
                  </a:lnTo>
                  <a:lnTo>
                    <a:pt x="0" y="2505715"/>
                  </a:lnTo>
                  <a:lnTo>
                    <a:pt x="0" y="9447"/>
                  </a:lnTo>
                  <a:close/>
                </a:path>
              </a:pathLst>
            </a:cu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Text Box 9"/>
          <p:cNvSpPr/>
          <p:nvPr/>
        </p:nvSpPr>
        <p:spPr>
          <a:xfrm>
            <a:off x="2357280" y="2071800"/>
            <a:ext cx="928800" cy="428400"/>
          </a:xfrm>
          <a:prstGeom prst="rect">
            <a:avLst/>
          </a:prstGeom>
          <a:solidFill>
            <a:srgbClr val="8db3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ffffff"/>
                </a:solidFill>
                <a:latin typeface="Calibri"/>
              </a:rPr>
              <a:t>Banc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AutoShape 10"/>
          <p:cNvSpPr/>
          <p:nvPr/>
        </p:nvSpPr>
        <p:spPr>
          <a:xfrm rot="5400000">
            <a:off x="2642760" y="264312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b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 C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jora productividad y competitividad a travé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tomatiza tareas y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gra sistemas =&gt; no redig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minuye tiempos de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ce propuestas tribu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stema electrónico gratu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cilita formalización de contribuy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timbraje de libros y documentos es electró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ecológico, no trabaja con papel documentos ni lib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93640" y="349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LO QUE V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593640" y="19267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ibro F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daptar norma IF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erramientas de Fiscalización Electró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s E-Gobierno: desarrollo de canal móvil y otras tecnologías que faciliten la relación electrónica del Estado con la ciudadan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ISTEMA C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39528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ceso ambiente de PRODUCCION:     </a:t>
            </a:r>
            <a:r>
              <a:rPr b="0" lang="es-C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3.sii.cl/ctmPublic/#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Imagen 3" descr=""/>
          <p:cNvPicPr/>
          <p:nvPr/>
        </p:nvPicPr>
        <p:blipFill>
          <a:blip r:embed="rId2"/>
          <a:stretch/>
        </p:blipFill>
        <p:spPr>
          <a:xfrm>
            <a:off x="1908000" y="1989000"/>
            <a:ext cx="5472360" cy="4768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2"/>
          <p:cNvSpPr/>
          <p:nvPr/>
        </p:nvSpPr>
        <p:spPr>
          <a:xfrm>
            <a:off x="611280" y="1197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nsul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6" name="Picture 3" descr="j0195812"/>
          <p:cNvPicPr/>
          <p:nvPr/>
        </p:nvPicPr>
        <p:blipFill>
          <a:blip r:embed="rId1"/>
          <a:stretch/>
        </p:blipFill>
        <p:spPr>
          <a:xfrm>
            <a:off x="3675240" y="3030480"/>
            <a:ext cx="1792080" cy="2014560"/>
          </a:xfrm>
          <a:prstGeom prst="rect">
            <a:avLst/>
          </a:prstGeom>
          <a:ln w="0">
            <a:noFill/>
          </a:ln>
        </p:spPr>
      </p:pic>
      <p:sp>
        <p:nvSpPr>
          <p:cNvPr id="1267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A7E3-2CAE-4A4E-9C9B-B559FA9FB49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941040" y="1927080"/>
            <a:ext cx="7273800" cy="36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istema CCM es una solución computacional qu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oya el cumplimiento tributario de los Contribuyentes inscritos en el Portal Tributario MIPYME que requieren llevar Contabilidad Compl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eneración de la Contabilidad: Plan de cuentas, libros contables, EE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ncionalidades Tributarias: RLI, propuestas de declar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scripción por defecto en modalidad Libros Contables Electrónicos (L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pera desde Enero de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 la fecha hay 2.600 contribuyentes inscr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3"/>
          <p:cNvSpPr/>
          <p:nvPr/>
        </p:nvSpPr>
        <p:spPr>
          <a:xfrm>
            <a:off x="433440" y="0"/>
            <a:ext cx="8229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TABILIDAD  COMPLETA  MIP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2D2D-5BD4-4B49-BB06-FFC8645513F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/>
          </p:nvPr>
        </p:nvSpPr>
        <p:spPr>
          <a:xfrm>
            <a:off x="1285920" y="1428840"/>
            <a:ext cx="68580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Operar en Primera Categorí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No ser S.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scribirse como facturador electrónicos del Portal Tributario MIPYME SI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Buen comportamiento tributa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ff66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scripción en el siste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3 Rectángulo"/>
          <p:cNvSpPr/>
          <p:nvPr/>
        </p:nvSpPr>
        <p:spPr>
          <a:xfrm>
            <a:off x="1951920" y="115920"/>
            <a:ext cx="51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EQUISITOS PARA INSCRIB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244A-C8A5-4357-B6AF-9C4ED6591D6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IAGRAMA SISTEMA 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Picture 4" descr=""/>
          <p:cNvPicPr/>
          <p:nvPr/>
        </p:nvPicPr>
        <p:blipFill>
          <a:blip r:embed="rId1"/>
          <a:stretch/>
        </p:blipFill>
        <p:spPr>
          <a:xfrm>
            <a:off x="1057320" y="1320840"/>
            <a:ext cx="6864480" cy="5048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IAGRAMA C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5" descr=""/>
          <p:cNvPicPr/>
          <p:nvPr/>
        </p:nvPicPr>
        <p:blipFill>
          <a:blip r:embed="rId1"/>
          <a:stretch/>
        </p:blipFill>
        <p:spPr>
          <a:xfrm>
            <a:off x="1038240" y="1166760"/>
            <a:ext cx="7467480" cy="5492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6840" y="1380600"/>
            <a:ext cx="8256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ontabilidad es una técnica que permite registrar hechos económicos cuantificables de una organización o empresa, procesa toda esta información y emite reportes que sirven para tomar decis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.- Que producir o dejar de produc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.- Invertir o repartir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3.- Endeudarse o utilizar recursos pro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.- Planificación tribu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663264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ROCESO CO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28440" y="1181160"/>
            <a:ext cx="72594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TRANS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.- Constitución de la empr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.- Compras de Mercaderías, Maquinarias y otros bie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4.- Ventas de Mercader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5.- Devoluciones de Compra y Ven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6.- Pago de Servicios, Gastos, Impues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7.- Pago de Remuneraciones y Honorar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LIBRO DIARIO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analiza que partidas intervienen y como se afectan si aumentan o disminuy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registra en el Libro Diario, la transacción en forma de asiento cont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LIBRO MAY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traspasan los montos de cada cuenta registrada en el Libro Diario a la misma cuenta del Libro May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suman los cargos y abonos de cada cuenta y se determina el saldo.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ESTADOS FINANCI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uestra los saldos de las cuentas a la fecha de cierre como resultado financiero y el rendimiento de la empresa en el ejercicio (Balance General y Estado de Resultado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B77D-C8F7-43D3-8235-D2A453EAFFBC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/>
          </p:nvPr>
        </p:nvSpPr>
        <p:spPr>
          <a:xfrm>
            <a:off x="813960" y="1488600"/>
            <a:ext cx="7427880" cy="17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leo de libros auxiliares para agrupar transacciones repetitivas y de igual naturale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registro en el Libro Diario se realiza mediante asientos de centraliz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transacciones poco frecuentes se realizan directamente en el libro diario, no siendo necesario libros auxili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3"/>
          <p:cNvSpPr/>
          <p:nvPr/>
        </p:nvSpPr>
        <p:spPr>
          <a:xfrm>
            <a:off x="336600" y="4495680"/>
            <a:ext cx="24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AutoShape 4"/>
          <p:cNvSpPr/>
          <p:nvPr/>
        </p:nvSpPr>
        <p:spPr>
          <a:xfrm>
            <a:off x="6070680" y="4324320"/>
            <a:ext cx="1241280" cy="792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5"/>
          <p:cNvSpPr/>
          <p:nvPr/>
        </p:nvSpPr>
        <p:spPr>
          <a:xfrm>
            <a:off x="7785000" y="4286160"/>
            <a:ext cx="1359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6"/>
          <p:cNvSpPr/>
          <p:nvPr/>
        </p:nvSpPr>
        <p:spPr>
          <a:xfrm>
            <a:off x="7365960" y="4762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7"/>
          <p:cNvSpPr/>
          <p:nvPr/>
        </p:nvSpPr>
        <p:spPr>
          <a:xfrm>
            <a:off x="2717640" y="43243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8"/>
          <p:cNvSpPr/>
          <p:nvPr/>
        </p:nvSpPr>
        <p:spPr>
          <a:xfrm>
            <a:off x="2698920" y="48006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9"/>
          <p:cNvSpPr/>
          <p:nvPr/>
        </p:nvSpPr>
        <p:spPr>
          <a:xfrm>
            <a:off x="3855960" y="3657600"/>
            <a:ext cx="151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bro Comp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0"/>
          <p:cNvSpPr/>
          <p:nvPr/>
        </p:nvSpPr>
        <p:spPr>
          <a:xfrm>
            <a:off x="3875040" y="4122720"/>
            <a:ext cx="151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bro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1"/>
          <p:cNvSpPr/>
          <p:nvPr/>
        </p:nvSpPr>
        <p:spPr>
          <a:xfrm>
            <a:off x="3836880" y="5580000"/>
            <a:ext cx="151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3"/>
          <p:cNvSpPr/>
          <p:nvPr/>
        </p:nvSpPr>
        <p:spPr>
          <a:xfrm>
            <a:off x="579600" y="17640"/>
            <a:ext cx="7645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A CONTABLE CENTRALIZAD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4"/>
          <p:cNvSpPr/>
          <p:nvPr/>
        </p:nvSpPr>
        <p:spPr>
          <a:xfrm>
            <a:off x="2679840" y="3790800"/>
            <a:ext cx="0" cy="196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"/>
          <p:cNvSpPr/>
          <p:nvPr/>
        </p:nvSpPr>
        <p:spPr>
          <a:xfrm>
            <a:off x="2679840" y="3772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6"/>
          <p:cNvSpPr/>
          <p:nvPr/>
        </p:nvSpPr>
        <p:spPr>
          <a:xfrm>
            <a:off x="5575320" y="382896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8"/>
          <p:cNvSpPr/>
          <p:nvPr/>
        </p:nvSpPr>
        <p:spPr>
          <a:xfrm>
            <a:off x="5575320" y="3809880"/>
            <a:ext cx="31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9"/>
          <p:cNvSpPr/>
          <p:nvPr/>
        </p:nvSpPr>
        <p:spPr>
          <a:xfrm>
            <a:off x="3444840" y="4618080"/>
            <a:ext cx="19130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bro Honor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9"/>
          <p:cNvSpPr/>
          <p:nvPr/>
        </p:nvSpPr>
        <p:spPr>
          <a:xfrm>
            <a:off x="3159000" y="5113440"/>
            <a:ext cx="2198880" cy="34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bro Remuner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8"/>
          <p:cNvSpPr/>
          <p:nvPr/>
        </p:nvSpPr>
        <p:spPr>
          <a:xfrm>
            <a:off x="2706840" y="5303880"/>
            <a:ext cx="36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8"/>
          <p:cNvSpPr/>
          <p:nvPr/>
        </p:nvSpPr>
        <p:spPr>
          <a:xfrm>
            <a:off x="2687760" y="5761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8"/>
          <p:cNvSpPr/>
          <p:nvPr/>
        </p:nvSpPr>
        <p:spPr>
          <a:xfrm>
            <a:off x="5583240" y="427500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8"/>
          <p:cNvSpPr/>
          <p:nvPr/>
        </p:nvSpPr>
        <p:spPr>
          <a:xfrm>
            <a:off x="5572080" y="477828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8"/>
          <p:cNvSpPr/>
          <p:nvPr/>
        </p:nvSpPr>
        <p:spPr>
          <a:xfrm>
            <a:off x="5580000" y="528156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8"/>
          <p:cNvSpPr/>
          <p:nvPr/>
        </p:nvSpPr>
        <p:spPr>
          <a:xfrm>
            <a:off x="5583240" y="574200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2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BA3C-A51C-46B4-9A76-9D105E2F760E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20:04:57Z</dcterms:created>
  <dc:creator>jvilchez</dc:creator>
  <dc:description/>
  <dc:language>en-US</dc:language>
  <cp:lastModifiedBy>María S.. López</cp:lastModifiedBy>
  <dcterms:modified xsi:type="dcterms:W3CDTF">2013-07-25T21:31:16Z</dcterms:modified>
  <cp:revision>136</cp:revision>
  <dc:subject/>
  <dc:title>Presentación de PowerPoint</dc:title>
</cp:coreProperties>
</file>