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C71-E2B7-476B-9EFF-74FCDF5F403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5C6-1DF8-49A8-AD1E-7ABB7C7471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09C-2E3B-4271-B52E-27C0127D6E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41F-AD23-40BB-8E40-9643EFCB0B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4DE-115F-47EA-B0FD-8B48212D26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3B8-2EB4-41DA-A056-18662DD020F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42B-A1C1-41DF-B6FB-876C2AF2AA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51F-29B7-4A4A-9AB8-5AC5000EA7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621-7FB7-4BD8-A47E-C3787520F4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7D3-7FE2-4713-99F6-AE71EE2A82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44D-D022-44EA-985E-5FB270D73BC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F7D0-D6DD-4851-B449-B910F3C2B6A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7017-F253-4E56-8F3C-88A6302D3A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A9C-9661-480C-A2E0-7B695A5BC3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A59-D604-43EF-88EA-683C6B114D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41A-8B7D-4622-B0C1-83EE5ABD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AEA-5BFF-4651-9AF8-C5EBC05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A602-3C8C-4C35-8C8B-9CC790D9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EDECB-4DB0-4BDE-B35C-3AF9DAE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B4611-350F-4809-B537-1D27B14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84A12-F59A-4B52-8DA8-2F757E5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F400-C68A-4B1C-9E56-0EAAD90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4357E-FAFF-44B6-B86B-2C7EFB0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00E33-0631-4B6B-8878-2E0A2174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B11EA-F31F-4FA4-BECC-C6E27C54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09A1-2D83-4F09-84E9-CE89FA6B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06EEF-23A2-4AFF-BB1C-4F5FE3D9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68A-2D77-4E00-973B-714684CF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CC5E2-EC08-46DC-B8B5-3849069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DF213-D78E-4129-A59C-B1EDE2EC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33561-F978-4B73-9265-706695E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3CA70-6495-4FCF-81B0-BEF385E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AD949-2C40-436E-8345-AFC2FB8A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76112-4977-4729-9ECC-30D95C8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6E49D-1788-4160-B4D8-18C1570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9420-F3BF-4FFA-B79F-5F4E949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438CA-3656-4599-AD65-0408583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7A12C-FB5B-4F0B-9387-701C9680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CEE-90B0-4DDB-9440-256DEE6D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6E9F-685D-48EC-88B3-62F8C2B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539E0-0F34-42E8-9836-0E3A819D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3E478-5B8E-4DE3-8845-93E569A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F95F2-0E3F-4934-B39E-86B96A3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E4FC4-0618-4262-865D-44D10AD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6D55F-18D7-46D2-ADE8-8040C6C4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ED45D-B606-44F5-8B21-104B818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0C9DE-36FF-4AF9-B381-B1E6624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1A905-C35D-4FCF-8645-D35D3E4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B6748-127A-4ACE-8383-0F72090B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F24E-E45E-4B31-8A1D-FC5B0A9C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8FD53-A9A2-4469-9432-30D003A1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A9C4-BDB1-49B7-AD39-3695A7A1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FFA5C-EDE9-4AA2-BEF4-20FE1C19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62FAD-36D1-459D-9B6F-D7A6A83E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84A30-CF46-4D35-9B3B-4FAD6A6E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C58F7-BB3B-4648-ADA2-C9921AD0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5A3DB-EA02-4F0F-AD94-EB8BA89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3E3DC-B57E-4955-B03C-1228A49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9086-976D-4BE9-86FB-D9B2CF7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B76DF-BF8A-435E-BE7A-D49ACA00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7CF-C269-4FF9-8D11-8C3D59CA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A22E-4B01-420B-B8AD-FF4DE52D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F0DFA-A41E-479B-A5D2-1E662D6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17619-7CED-4E0A-A8F6-357FD02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999F6-0900-489A-8AF3-5028A13D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A8C9D-341F-48B6-954A-3D43E839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CB460-6B4B-4586-A860-2105628E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D5111-F67F-4D4D-AA4A-2A31F49E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41AF1-D26A-47AD-B712-056CEF54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200E4-E3E6-4F61-836A-EFC78DE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EEFF5-9699-46EC-9F74-0AA18C79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99C-5545-4AAC-859C-B138F5A4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CFB0F-1AE7-4CF0-992E-508656C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AAA28-CEF5-430D-86DB-8AAB642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777E8-F805-4F76-B2ED-FA6E735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94383-8F03-46EA-9E52-45BDF2B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F6789-E798-4154-B63A-E1B5AA5E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B3A5C-213E-482E-BFE0-67929065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8A0A-7087-4A7C-89A6-794862ED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A0B55-45AC-40AD-B263-2DD8B8EC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91AC6-8C4B-4087-8028-099D3FA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E8175-2B69-4D37-8A7D-CE0BC8D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EF9-310F-45AF-8FFA-520C8374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D3356-BFEA-49EC-B383-6105C71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1AC95-F2EA-46F9-B428-ED4F91D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5D2BB-1A28-4896-AB4B-CBA7D6E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47328-38B2-4A0C-9686-3001CA3A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976F0-BE1D-45CF-825A-EDD3C8D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72265-A83E-48AE-9BC7-C39A146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97ADF-93DC-4F73-ADB0-CB6C48C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D7311-B419-4A2A-A77D-D46BF229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B5249-CF4E-48BD-8BF4-BC85C723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B9FD8-45AA-4279-927E-1FCA945F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869-2605-480A-B108-FB3E72A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84FC6-03DD-43A9-8012-71DA2F41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3C181-B13A-4E55-82A7-E4B4ABD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C7C97-94E7-4BB4-B6ED-F458FF9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F8056-6ADD-4048-87E0-371DA23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365C3-3107-492B-A2F9-C69D2D9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C3414-BF20-4807-8B41-495C7C2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95EEA-A17F-41D9-9151-C09DA86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89F61-BC9B-40CB-8DD2-58F4A42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D02DD-606E-4175-A113-A598C83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62BE0-DA55-4A81-9F51-10A8CCB6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413-55E5-4EFB-9979-EEA54407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24A94-95DD-4090-BF81-8BB2F96A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C1C64-76B5-4177-8756-20FF23D9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64908-621E-4A2F-9116-F1D3810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65A65-871B-425C-AD82-D8DD3722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AB995-6FF8-49B1-AF65-B4AD865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01506-5325-4A20-9144-E91A98A1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67A67-A7BC-4FA2-BA29-FC50BA00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A5D4B-88FB-4BC9-B713-6F0BCFF5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11826-23F8-4EEC-9C78-1FDC893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30228-9119-40B6-96A6-CD92882D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4C81-BD51-438E-808F-C67C6B7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ED071-7DE3-4FF9-95AE-E935406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5DD27-3F28-4219-98DB-FA3457DD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CE5E5-23C8-426B-9488-CF3DFE4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04CCA-FAAA-419D-A571-B2011836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6525B-8426-4DC1-9F46-DB2AAD95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17AD1-818F-4762-9578-134BF3C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826FD-1CDA-4A13-B1EF-2EE4E54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43F7F-F64C-4611-A8BF-C3AFA2D3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A390C-270E-4C7C-A681-93E960D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F6247-7D13-44F8-B7FC-09E1E71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B79-2BC4-471C-8273-1A94839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F73B-EDB0-455F-A16F-5B150E9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9EAE4-6D8B-4B78-BC77-33B7548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6CE47-0407-488F-AA33-8C4E29D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B401D-9F06-4D18-A196-2A200C8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17536-5B78-4FF4-B5EB-8617157B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A4DCF-56C9-4D4C-9496-F670C830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421DE-CA60-4B06-8FBB-21F62AEE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C2658-F3FA-4F3A-BE0E-A4CA9A3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F9293-E83E-4E75-8703-998ABF86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726B7-091D-4E0E-B45D-56E20EE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BDE00-2262-4B00-8608-1224375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732B-4266-4059-8737-1F957F3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17A26-18AB-4A8B-8980-6B9472F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C0EF5-F03B-44C7-ACD0-7F82FD2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008E4-1B9D-4B96-8421-8937DF9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EAFD0-2227-43FD-8F6D-514C060B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91485-BBAA-4DDA-A149-B44C825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C43EF-324F-46EF-8A83-462A1D41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CD3B5-B1EE-423C-91C8-5BDEF052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5F974-D63C-4494-9EF9-8CA09E46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7EF8D-B8FF-4425-863B-4756914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F6E22-DD17-44C1-BC7A-7FA0F26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242-5771-44B7-8656-E851D3E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ADDCB-23A7-42FC-9659-4431CEE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25DF0-8DCE-4100-AED6-A9C93586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11516-B414-42BF-B46C-CF5E321E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87DF9-4EF8-49AA-A7D2-752D9A4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9BC41-4A67-46EF-862A-10182B9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E0EB3-396B-4165-A599-8589EDE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D7527-3AFE-4093-8FD5-520D4D7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61A8E-CC0F-4116-88E3-4BFCDB13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9B187-6B42-4AF9-A4B3-EE5F858C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B15A2-6009-4053-ACF9-F6BF7BCA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07AD-B0C1-4A14-B9FD-8C3C1BAF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6778B-E6B3-4DA6-B2E5-B326D8B5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CE067-03E7-47BA-9102-8549B7D3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9FE97-E710-4A1D-B17B-4B7A937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A22FD-B78C-42FA-BCB2-55DDB49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EB07C-E1BD-4033-80D9-8C98927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95DB9-2222-4BFA-AD42-D4349A3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B59B0-3E65-4458-A884-0527061A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8B825-4BF4-4EA4-BE13-FB0B2DA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4B15D-5A87-4128-BF6F-6AB0CF67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4F017-3D19-4DC3-95D7-34E40878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BE51-D34B-4D0E-A292-06ACBDC4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6054E-4A9F-4DFA-BA14-1F89BD9B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485BF-1F48-4A51-9A3F-A45A003E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73E05-8F26-491C-A1C9-827F3ABC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F3B1DF-6132-490C-8545-9FE6E0C2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23EAA-02F7-4AF3-9DA2-B6FD040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7F758-E67E-40A3-985C-03D27B6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C97B4-6AFD-4DA6-B89A-86064C5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73CCB-E08D-4F1D-8258-F94FE43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284A7-EA28-4292-B2B6-E4E1720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6EB13-CD48-42DE-AF90-62D0E9EA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84AF-25FD-49DA-8639-B5926AF0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3B15D-6AA4-402E-8E2E-FFC4D745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FDF53-903B-47F2-9E5C-25594D7A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25392-5D08-4B46-B53D-64FF51DD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CFD5F-FBC6-4EA6-82E9-DCC1C113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9B3ABC-9BC1-423F-8783-246D0B63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E2A99-F851-48F1-8969-C3FE8AE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26E14-56E8-4B94-83C1-31096D8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903BA-D881-419B-AC0B-F4F0753E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606DF8-3F7F-43B6-82DD-70B67B1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0B0CF-E1DF-4A4F-815B-9E2B80B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29FF-0B1C-4161-B8E0-FBFB2BF7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5BA53-E2B5-4FD7-96AF-DEB52F7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1917B-223D-4EE7-AD92-F744EFE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FC736-0BFA-4086-9162-D70A4398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B73A4-77B6-448A-BC06-6B060C09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B7FBF-05EE-40E6-8FF3-2B1D15C7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36DBC-6AF4-4EAC-AF8F-8ED1ECA7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327A9-445D-4226-B597-D60BE861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88853-0255-49EC-97E2-4904BEF5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483321-7C10-4196-8B95-E60A0D7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25A7C-A05C-4CFC-B9C9-0B2991BE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1C92-F08E-485B-B9EE-E659A9A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F25B76-59E8-4EBA-8959-1A3BBDB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04AAC9-DC1D-4364-BAFD-F80DAC7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378C7-044A-478B-A039-839E553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8918E-7285-4055-946F-D144DCC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D4291-4E0F-42B6-A2CB-3390AAD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EFAD1-E0C0-450C-B9E2-A692DD9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31F16F-A6DE-4D42-BF50-99F8D337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435593-20B6-4D40-ACA5-CCD085A3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647D6-B34F-4D8C-B528-C20222E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3250CC-772D-477B-AC92-7DF270BD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77FD-030F-4480-A518-C1B5642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8339AA-4E92-4D02-AC09-2DC838B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C989A6-4194-4DC1-A58D-AAC31DE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29117-36B9-4698-88A7-534B794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4A1535-AD3A-41B6-B0F1-05EAE048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CC1478-E672-442E-BD33-CF254E3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B7CAC1-52C5-4878-815A-0389876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75D566-B083-4CB3-8908-47301CC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1D46C1-7078-4C33-BC62-D35E2479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0A293F-3E72-43AC-973B-C4E7F81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92A71F-FB5B-4D5B-8393-00CCA8F7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8015-6D89-41CF-8956-AE6543B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38867F-3615-44F1-93D6-8BFA81F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32E970-6935-433B-9A40-C8A4989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008A02-B60F-4B97-90C8-D3ECE91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43A1C-5FAF-40D2-A588-D4ADD7C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6294D1-919F-4E65-80EA-3817E77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5B14CB-8C94-422F-B0FD-BCB16B0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651E63-F1DC-4FDF-9EE4-6921FF1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E3240B-EBAF-4331-A4E8-442B5CC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B82E72-7137-41FC-B606-718BD52A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CCBD2-1670-41AE-B772-201117B4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B75-21F6-4D91-8EF1-5665D5A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5A80-C995-4195-9490-B76C0F1B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22CCB-C057-4A3D-8AC3-725F03AA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BCCC7-517A-454E-ABCB-FE546D0B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08367-110C-4C24-AB68-677BFA3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03FB8D-2CD1-4684-9190-CFB087E4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9C082D-7C5B-4FC9-962D-29549C83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4BB001-AA2A-46E7-8E0B-5C381513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4534EE-45A8-45EC-8754-0E4ACB4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4C4224-0324-48A5-ACEE-BF90049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FA776C-2E3D-47B7-8838-A9B72C06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61F0B4-5729-47ED-B787-B06022D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178A-3AA7-4506-A3AA-1F81FEF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E915F7-427C-4088-9B98-1DB52C09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A538D5-882D-4E8F-932F-22E5DFB8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AA9554-E125-40AD-AE3E-4D86A5FB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674B-F5B8-4B30-B554-E38C8EC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78E2-7C99-450F-BEF5-0C72F82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3C93-81E8-4873-BC50-7E30D8F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E2DE-3663-42B5-8F48-AAA5C1FC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C079-F986-494A-A114-86250118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021E-ABBD-4932-A81B-CC2F200D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021A-1AA5-4D9D-B740-1F8B3E4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A1F7-BB87-43D0-BB17-F1ECAC9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16D-1162-42D5-A40F-CE322C7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3E3A-D37C-4BA5-87F0-DA8C5E4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E155-400C-46B6-B1F3-6CBEFF6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415A-D6F8-4039-B30C-F55637C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B372-1D49-433A-866B-9CD202BA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9CEE-1CA8-4D12-BB57-341297D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B213-89EA-48AD-9DD1-DB8B6F4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E679-2B38-49BC-826D-EBFCBB2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9B09-F64C-40FA-A9A2-DA856310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4EC4-CB2B-46D1-8BF5-13539531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D4B6-89EB-46D6-9DB5-A566126F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ADE-DDE9-4D0C-8E9B-B029B9A3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D7B5-7F91-41D5-A6E2-F3F3381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6074-6899-4C44-B679-20FED9DA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773C-9E91-467A-ACE9-A1C4AC14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EDCE-C235-4412-9E85-1B21B49F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7AB0-9839-484D-99CE-8B6AA07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DB25-5CDE-47A4-8E9A-45FE50C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E25A8-5878-4AF1-BF99-8F77557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3575-849C-40A8-8B01-00D18AF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916C-0E4D-4C62-8D92-B5996EBB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7941-BB55-41DE-97EF-31B32DBE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7DA-7ED0-484E-8586-8AC9E9A8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5966-7470-4E97-8123-D0B62075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6D3D-BF30-4D5A-86C1-59460C9C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7A59-6194-49D8-8DB8-1C7C177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768B-9DCD-4BBE-990E-57FE587C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D5D2-44A4-4583-A333-C5002E0D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396F-BED8-49BD-A367-4AB9B4C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4E40-9420-4379-BE03-CFBE938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39C0-5187-4669-951B-AA6D14F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5EA4-FEC4-4A9A-82A5-2D545BC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35EF-4AEE-4C01-873D-FF5E70E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971-C3FF-48C0-88E6-F8918A9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913CF-1F47-420F-BEBB-984166B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9791-3C8F-4FB3-A40B-81594542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B40E-B66A-41DC-B54F-C0187C10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BDF38-5182-45B5-8204-E7EF1B95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20A85-086C-430F-80A9-DFEEF8F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AAE24-CEA5-44E1-93FA-448D794F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63DD-21BF-46F1-92B8-AB24761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DF81-EA23-48BD-B6BB-8E87C64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15AC-F261-4567-AEE5-8BD81019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E718-2E25-4CED-9664-D6779C2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263-2F3F-4A7D-8B44-B720FF8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529F-E325-44DB-99EB-7C0A8AE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86DE-9C0F-4266-9499-C6653D8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25CA-37E7-4EB7-B30A-96CE366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9D5D-33F6-4D05-8284-B013E757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738B-A39D-4EE0-8041-FB2BB3A1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87AF9-5BDC-4428-A52E-3B677CDF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6A39-2C25-4F1F-B50F-FBA4843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CE2AC-3DB0-4FBA-8D2E-C51400B9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97C2-1B93-48FB-88D7-C6E65D6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BB776-824E-4681-BE59-5DC81D5C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032-4D95-4A54-B1FB-99D9CD7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CF38-845D-428D-ADA0-ADB6C32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3BD1E-690A-4FD7-ACEA-3874EB4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863E-503C-4AB1-ADB1-8841BDA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94DFE-0C14-4F06-82AE-59CA0CE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A976-ACF5-4E7D-A933-05E0D23F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66B9-A5DB-4D05-B6E3-ED79C27F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3046-15EA-4995-B547-C2B5B44B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C6F0A-2D23-42ED-B578-D822716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DF8FA-04F1-464A-9F85-58EEE8F9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15B35-4D54-454B-B04D-205C541A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F9B-1FEC-43E2-BBB2-4CC04598D59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692E-5348-4D6B-972A-91FC37792F3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5F6-77C5-44A7-8487-28B0DDA28CD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C73E-C1BE-4B32-9A31-206CE7B6543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1CBA-028B-48A2-BB9A-E255D394938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E21-95FB-487A-A2A6-57E902ECE47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428A-370F-497A-A8F0-821D022C2F0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A45-6D53-4499-84AC-21EED9561DE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7948-310A-4836-B8B8-91AA4D5644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E083-ADF6-451A-842D-8DA9EE23CF8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749-DCA8-4E43-A5D5-17E76A33D8A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141-7898-4436-9C07-1A9E75EDAFB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CA9-3E81-4E01-A49C-7263EBA7865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A1C-BD5C-4397-A303-DD6F711C462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77DD-D8F5-432A-BF35-D75FDD0D6B2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C1BB-FB7C-44AC-A0C1-7083FE3FEFF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A19-8ED0-4385-BDEE-1E8D68D363F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A4AA-B904-438A-9BA2-6B068C28BCB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F38-8465-4C6E-A4B3-1B5773AB3E4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B7B7-B8B1-4B33-A934-210D79B6907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755-1E7F-406A-97B4-6B8A9AF7D5F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16D-C972-49D2-9ECA-5574A8BDAA8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8C2-2C08-445B-8ADA-D387D894866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9D1B-AA95-4752-8A57-9D5D3744645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BE3-F6F8-413B-B586-3AF9ECD2AE4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1BD-B5A3-4800-B113-C3F7E2B99DC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3.sii.cl/ctmPublic/#Defaul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107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Rectangle 8"/>
          <p:cNvSpPr/>
          <p:nvPr/>
        </p:nvSpPr>
        <p:spPr>
          <a:xfrm>
            <a:off x="0" y="2523960"/>
            <a:ext cx="68785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Black"/>
              </a:rPr>
              <a:t>SISTEMA DE TRIBUTACIÓN SIMPLIFICAD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9" descr="logo_sii"/>
          <p:cNvPicPr/>
          <p:nvPr/>
        </p:nvPicPr>
        <p:blipFill>
          <a:blip r:embed="rId2"/>
          <a:stretch/>
        </p:blipFill>
        <p:spPr>
          <a:xfrm>
            <a:off x="7229520" y="20484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79B1-392B-4101-813A-128B1A932FDF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3" descr="D:\Doc Claudia\Capacitación 2010\Diseños_2010\_Formato ppt 2010\1°Diap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8"/>
          <p:cNvSpPr/>
          <p:nvPr/>
        </p:nvSpPr>
        <p:spPr>
          <a:xfrm>
            <a:off x="804960" y="2309760"/>
            <a:ext cx="68785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istema CCM</a:t>
            </a:r>
            <a:br>
              <a:rPr sz="3600"/>
            </a:b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resultado del proceso contable se informan mediante al menos dos informes complement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Situación o 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las partidas del Activo, Pasivo y Patrimonio; el resultado del ejercicio se muestra sin indicar or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cambios en el Patrimonio como consecuencia de los ingresos, costos y gastos de la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dica como se determinó la utilidad neta de un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41360" y="2599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STRUCCIÓN DE LOS ESTADOS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71600" y="199656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rucción de los estados financieros implica </a:t>
            </a: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un trabajo ardu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que consiste en efectuar un sinnúmero de operaciones matemáticas calculando las variaciones en los saldos de las partidas en un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3" descr="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6202440"/>
          </a:xfrm>
          <a:prstGeom prst="rect">
            <a:avLst/>
          </a:prstGeom>
          <a:ln w="0">
            <a:noFill/>
          </a:ln>
        </p:spPr>
      </p:pic>
      <p:sp>
        <p:nvSpPr>
          <p:cNvPr id="1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567C-871D-44B4-9558-F8C2A6BA62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4"/>
          <p:cNvSpPr/>
          <p:nvPr/>
        </p:nvSpPr>
        <p:spPr>
          <a:xfrm>
            <a:off x="4532400" y="932040"/>
            <a:ext cx="4375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1.- Inicio de Activ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2.- Inscribir en Factura Electrónica MIP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3.- Inscribir en C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4.- Ingresar Plan de Cuen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- Ingresar Comprobante de Aper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6.- Ingresar movimientos a Libros Auxili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mpra, Ventas, Remuneracion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onor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7.- Ingresar otros movimientos y ajus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8.- Centralizar Libros Auxili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9.- Cerrar Libro Di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- Generar Libro May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1.- Generar Estados Financi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- Generar Libro de Inventario y Bal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3.- Cierre del Ejercic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4.- Generar Declaraciones 1879 y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5.- Propuesta de Renta Liquida Im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6.- Propuesta de Códigos F22 y F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7.- Propuesta de Libro F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- Enviar Libros Contables Electró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9.- Cierre por termino de G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- Desincripción 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1547640" y="111240"/>
            <a:ext cx="694872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3854520"/>
          </a:xfrm>
          <a:prstGeom prst="rect">
            <a:avLst/>
          </a:prstGeom>
          <a:ln w="0">
            <a:noFill/>
          </a:ln>
        </p:spPr>
      </p:pic>
      <p:sp>
        <p:nvSpPr>
          <p:cNvPr id="113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3C9-2985-42FB-B9DB-74DBA904D00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7">
            <a:hlinkClick r:id="rId1" action="ppaction://hlinksldjump"/>
          </p:cNvPr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41E-EFBB-46B8-B8B4-75E76DC0A92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6">
            <a:hlinkClick r:id="rId1" action="ppaction://hlinksldjump"/>
          </p:cNvPr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0A5F-9A9F-45AB-AF43-3C23CFDDD14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2 Grupo"/>
          <p:cNvGrpSpPr/>
          <p:nvPr/>
        </p:nvGrpSpPr>
        <p:grpSpPr>
          <a:xfrm>
            <a:off x="5568840" y="1587600"/>
            <a:ext cx="2264040" cy="2087640"/>
            <a:chOff x="5568840" y="1587600"/>
            <a:chExt cx="2264040" cy="2087640"/>
          </a:xfrm>
        </p:grpSpPr>
        <p:sp>
          <p:nvSpPr>
            <p:cNvPr id="1165" name="1 Rectángulo redondeado"/>
            <p:cNvSpPr/>
            <p:nvPr/>
          </p:nvSpPr>
          <p:spPr>
            <a:xfrm>
              <a:off x="5568840" y="158760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2 CuadroTexto"/>
            <p:cNvSpPr/>
            <p:nvPr/>
          </p:nvSpPr>
          <p:spPr>
            <a:xfrm>
              <a:off x="5857560" y="2154240"/>
              <a:ext cx="1945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Actualización y personalización de Plan de Cuentas S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9">
            <a:hlinkClick r:id="rId1" action="ppaction://hlinksldjump"/>
          </p:cNvPr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94CF-D8DF-4C85-8A7F-DAC268E7752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2 Grupo"/>
          <p:cNvGrpSpPr/>
          <p:nvPr/>
        </p:nvGrpSpPr>
        <p:grpSpPr>
          <a:xfrm>
            <a:off x="3438360" y="1163520"/>
            <a:ext cx="2264040" cy="2087640"/>
            <a:chOff x="3438360" y="1163520"/>
            <a:chExt cx="2264040" cy="2087640"/>
          </a:xfrm>
        </p:grpSpPr>
        <p:sp>
          <p:nvSpPr>
            <p:cNvPr id="1180" name="1 Rectángulo redondeado"/>
            <p:cNvSpPr/>
            <p:nvPr/>
          </p:nvSpPr>
          <p:spPr>
            <a:xfrm>
              <a:off x="3438360" y="116352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2 CuadroTexto"/>
            <p:cNvSpPr/>
            <p:nvPr/>
          </p:nvSpPr>
          <p:spPr>
            <a:xfrm>
              <a:off x="3682800" y="1490400"/>
              <a:ext cx="1945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Compra y V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Honor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Remune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8">
            <a:hlinkClick r:id="rId1" action="ppaction://hlinksldjump"/>
          </p:cNvPr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F44-A616-4E1E-8DE4-0E7C1DA5D23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2 Grupo"/>
          <p:cNvGrpSpPr/>
          <p:nvPr/>
        </p:nvGrpSpPr>
        <p:grpSpPr>
          <a:xfrm>
            <a:off x="1447920" y="2278080"/>
            <a:ext cx="2263680" cy="2089080"/>
            <a:chOff x="1447920" y="2278080"/>
            <a:chExt cx="2263680" cy="2089080"/>
          </a:xfrm>
        </p:grpSpPr>
        <p:sp>
          <p:nvSpPr>
            <p:cNvPr id="1195" name="1 Rectángulo redondeado"/>
            <p:cNvSpPr/>
            <p:nvPr/>
          </p:nvSpPr>
          <p:spPr>
            <a:xfrm>
              <a:off x="1447920" y="227808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2 CuadroTexto"/>
            <p:cNvSpPr/>
            <p:nvPr/>
          </p:nvSpPr>
          <p:spPr>
            <a:xfrm>
              <a:off x="1606680" y="2941560"/>
              <a:ext cx="1944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Ma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Inventario y Ba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11">
            <a:hlinkClick r:id="rId1" action="ppaction://hlinksldjump"/>
          </p:cNvPr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5743-8C9D-4A73-B1CF-FDFB5E5243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2 Grupo"/>
          <p:cNvGrpSpPr/>
          <p:nvPr/>
        </p:nvGrpSpPr>
        <p:grpSpPr>
          <a:xfrm>
            <a:off x="3278160" y="3941640"/>
            <a:ext cx="2263680" cy="2087640"/>
            <a:chOff x="3278160" y="3941640"/>
            <a:chExt cx="2263680" cy="2087640"/>
          </a:xfrm>
        </p:grpSpPr>
        <p:sp>
          <p:nvSpPr>
            <p:cNvPr id="1210" name="1 Rectángulo redondeado"/>
            <p:cNvSpPr/>
            <p:nvPr/>
          </p:nvSpPr>
          <p:spPr>
            <a:xfrm>
              <a:off x="3278160" y="3941640"/>
              <a:ext cx="226368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2 CuadroTexto"/>
            <p:cNvSpPr/>
            <p:nvPr/>
          </p:nvSpPr>
          <p:spPr>
            <a:xfrm>
              <a:off x="3438360" y="3941640"/>
              <a:ext cx="1944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Comprobación y Sal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8 Colum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Clasifi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B1B-F15D-4EAA-BC67-F3774A889C1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5 Grupo"/>
          <p:cNvGrpSpPr/>
          <p:nvPr/>
        </p:nvGrpSpPr>
        <p:grpSpPr>
          <a:xfrm>
            <a:off x="3548160" y="2436840"/>
            <a:ext cx="2263680" cy="2089080"/>
            <a:chOff x="3548160" y="2436840"/>
            <a:chExt cx="2263680" cy="2089080"/>
          </a:xfrm>
        </p:grpSpPr>
        <p:sp>
          <p:nvSpPr>
            <p:cNvPr id="1225" name="1 Rectángulo redondeado"/>
            <p:cNvSpPr/>
            <p:nvPr/>
          </p:nvSpPr>
          <p:spPr>
            <a:xfrm>
              <a:off x="3548160" y="243684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2 CuadroTexto"/>
            <p:cNvSpPr/>
            <p:nvPr/>
          </p:nvSpPr>
          <p:spPr>
            <a:xfrm>
              <a:off x="3707640" y="2573280"/>
              <a:ext cx="1944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nta Líquida Impon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F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Propuestas de declaraciones F29, F22, DJ 1879, DJ 18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Generación L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7476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ORTAL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323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sitio web desarrollado por el SII para las Micro, Pequeñas y Medianas empresas (MIPYMES) del país, donde se encuentran aplicaciones gratuitas para ayudar al cumplimiento tributario de empresas de menor tama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acturación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ributación Simplificada 14 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abilidad Completa MIPYME: ener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C5A-BD3B-43A9-A56E-ADA257C429B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1 CuadroTexto"/>
          <p:cNvSpPr/>
          <p:nvPr/>
        </p:nvSpPr>
        <p:spPr>
          <a:xfrm>
            <a:off x="3059280" y="880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ibr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1 Grupo"/>
          <p:cNvGrpSpPr/>
          <p:nvPr/>
        </p:nvGrpSpPr>
        <p:grpSpPr>
          <a:xfrm>
            <a:off x="539640" y="1484280"/>
            <a:ext cx="7429680" cy="4487760"/>
            <a:chOff x="539640" y="1484280"/>
            <a:chExt cx="7429680" cy="4487760"/>
          </a:xfrm>
        </p:grpSpPr>
        <p:graphicFrame>
          <p:nvGraphicFramePr>
            <p:cNvPr id="1231" name="32785 Objeto"/>
            <p:cNvGraphicFramePr/>
            <p:nvPr/>
          </p:nvGraphicFramePr>
          <p:xfrm>
            <a:off x="612360" y="1484280"/>
            <a:ext cx="7356960" cy="44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360" y="1484280"/>
                      <a:ext cx="7356960" cy="44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2 Rectángulo redondeado"/>
            <p:cNvSpPr/>
            <p:nvPr/>
          </p:nvSpPr>
          <p:spPr>
            <a:xfrm>
              <a:off x="539640" y="15570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0D64-F3FB-4552-BBD8-D5D94AD7AAD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1 Grupo"/>
          <p:cNvGrpSpPr/>
          <p:nvPr/>
        </p:nvGrpSpPr>
        <p:grpSpPr>
          <a:xfrm>
            <a:off x="612720" y="1484280"/>
            <a:ext cx="7230960" cy="4362480"/>
            <a:chOff x="612720" y="1484280"/>
            <a:chExt cx="7230960" cy="4362480"/>
          </a:xfrm>
        </p:grpSpPr>
        <p:graphicFrame>
          <p:nvGraphicFramePr>
            <p:cNvPr id="1237" name="32785 Objeto"/>
            <p:cNvGraphicFramePr/>
            <p:nvPr/>
          </p:nvGraphicFramePr>
          <p:xfrm>
            <a:off x="612720" y="1484280"/>
            <a:ext cx="7230960" cy="436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8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720" y="1484280"/>
                      <a:ext cx="7230960" cy="436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9" name="6 Recortar rectángulo de esquina diagonal"/>
            <p:cNvSpPr/>
            <p:nvPr/>
          </p:nvSpPr>
          <p:spPr>
            <a:xfrm>
              <a:off x="2195280" y="16189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5 CuadroTexto"/>
          <p:cNvSpPr/>
          <p:nvPr/>
        </p:nvSpPr>
        <p:spPr>
          <a:xfrm>
            <a:off x="3059280" y="880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Generación de la Co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98B-3EAA-4578-8113-C79170FFED7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5 CuadroTexto"/>
          <p:cNvSpPr/>
          <p:nvPr/>
        </p:nvSpPr>
        <p:spPr>
          <a:xfrm>
            <a:off x="2967120" y="98100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Funcional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1 Grupo"/>
          <p:cNvGrpSpPr/>
          <p:nvPr/>
        </p:nvGrpSpPr>
        <p:grpSpPr>
          <a:xfrm>
            <a:off x="604800" y="1487520"/>
            <a:ext cx="8227800" cy="4651200"/>
            <a:chOff x="604800" y="1487520"/>
            <a:chExt cx="8227800" cy="4651200"/>
          </a:xfrm>
        </p:grpSpPr>
        <p:graphicFrame>
          <p:nvGraphicFramePr>
            <p:cNvPr id="1245" name="32785 Objeto"/>
            <p:cNvGraphicFramePr/>
            <p:nvPr/>
          </p:nvGraphicFramePr>
          <p:xfrm>
            <a:off x="604800" y="1487520"/>
            <a:ext cx="806976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6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487520"/>
                      <a:ext cx="806976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7" name="6 Recortar rectángulo de esquina diagonal"/>
            <p:cNvSpPr/>
            <p:nvPr/>
          </p:nvSpPr>
          <p:spPr>
            <a:xfrm rot="10800000">
              <a:off x="610560" y="1567800"/>
              <a:ext cx="822204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B52-DEF7-4B1A-804C-A5D2EFB33BB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1 Grupo"/>
          <p:cNvGrpSpPr/>
          <p:nvPr/>
        </p:nvGrpSpPr>
        <p:grpSpPr>
          <a:xfrm>
            <a:off x="500040" y="1571760"/>
            <a:ext cx="8292960" cy="4651200"/>
            <a:chOff x="500040" y="1571760"/>
            <a:chExt cx="8292960" cy="4651200"/>
          </a:xfrm>
        </p:grpSpPr>
        <p:graphicFrame>
          <p:nvGraphicFramePr>
            <p:cNvPr id="1251" name="32785 Objeto"/>
            <p:cNvGraphicFramePr/>
            <p:nvPr/>
          </p:nvGraphicFramePr>
          <p:xfrm>
            <a:off x="564840" y="1571760"/>
            <a:ext cx="806940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840" y="1571760"/>
                      <a:ext cx="806940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6 Recortar rectángulo de esquina diagonal"/>
            <p:cNvSpPr/>
            <p:nvPr/>
          </p:nvSpPr>
          <p:spPr>
            <a:xfrm rot="10800000">
              <a:off x="571320" y="1652040"/>
              <a:ext cx="822168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6 Rectángulo redondeado"/>
            <p:cNvSpPr/>
            <p:nvPr/>
          </p:nvSpPr>
          <p:spPr>
            <a:xfrm>
              <a:off x="500040" y="16416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6 Recortar rectángulo de esquina diagonal"/>
            <p:cNvSpPr/>
            <p:nvPr/>
          </p:nvSpPr>
          <p:spPr>
            <a:xfrm>
              <a:off x="2155680" y="17035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9"/>
          <p:cNvSpPr/>
          <p:nvPr/>
        </p:nvSpPr>
        <p:spPr>
          <a:xfrm>
            <a:off x="2357280" y="2071800"/>
            <a:ext cx="928800" cy="428400"/>
          </a:xfrm>
          <a:prstGeom prst="rect">
            <a:avLst/>
          </a:prstGeom>
          <a:solidFill>
            <a:srgbClr val="8db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ffffff"/>
                </a:solidFill>
                <a:latin typeface="Calibri"/>
              </a:rPr>
              <a:t>Ban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10"/>
          <p:cNvSpPr/>
          <p:nvPr/>
        </p:nvSpPr>
        <p:spPr>
          <a:xfrm rot="5400000">
            <a:off x="2642760" y="264312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jora productividad y competitividad a 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matiza tarea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gra sistemas =&gt; no redi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minuye tiempos de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 propuesta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electrónico grat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ta formalización de contribuy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imbraje de libros y documentos es electró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ecológico, no trabaja con papel documentos ni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93640" y="34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O QUE V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93640" y="19267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ibro F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r norma I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Fiscalización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E-Gobierno: desarrollo de canal móvil y otras tecnologías que faciliten la relación electrónica del Estado con la ciudad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ISTEMA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9528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ceso ambiente de PRODUCCION:     </a:t>
            </a:r>
            <a:r>
              <a:rPr b="0" lang="es-C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3.sii.cl/ctmPublic/#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Imagen 3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5472360" cy="476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1128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3" descr="j0195812"/>
          <p:cNvPicPr/>
          <p:nvPr/>
        </p:nvPicPr>
        <p:blipFill>
          <a:blip r:embed="rId1"/>
          <a:stretch/>
        </p:blipFill>
        <p:spPr>
          <a:xfrm>
            <a:off x="3675240" y="3030480"/>
            <a:ext cx="1792080" cy="2014560"/>
          </a:xfrm>
          <a:prstGeom prst="rect">
            <a:avLst/>
          </a:prstGeom>
          <a:ln w="0">
            <a:noFill/>
          </a:ln>
        </p:spPr>
      </p:pic>
      <p:sp>
        <p:nvSpPr>
          <p:cNvPr id="126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DC9-A17A-4E2D-A6A4-EDE15527421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941040" y="1927080"/>
            <a:ext cx="72738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CCM es una solución computacional qu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oya el cumplimiento tributario de los Contribuyentes inscritos en el Portal Tributario MIPYME que requieren llevar Contabilidad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ción de la Contabilidad: Plan de cuentas, libros contables, E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idades Tributarias: RLI, propuestas de decla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cripción por defecto en modalidad Libros Contables Electrónicos (L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 desde Enero d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fecha hay 2.600 contribuyentes insc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"/>
          <p:cNvSpPr/>
          <p:nvPr/>
        </p:nvSpPr>
        <p:spPr>
          <a:xfrm>
            <a:off x="433440" y="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 COMPLETA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ABE-A7CD-4C66-9737-E7CF17B2D7A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/>
          </p:nvPr>
        </p:nvSpPr>
        <p:spPr>
          <a:xfrm>
            <a:off x="1285920" y="14288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erar en Primera Categor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ser S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birse como facturador electrónicos del Portal Tributario MIPYME S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uen comportamiento tribu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pción en el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 Rectángulo"/>
          <p:cNvSpPr/>
          <p:nvPr/>
        </p:nvSpPr>
        <p:spPr>
          <a:xfrm>
            <a:off x="1951920" y="11592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INSCR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DA47-1FA7-4CFB-A78F-BFCEAD87BB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IAGRAMA SISTEMA 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"/>
          <p:cNvPicPr/>
          <p:nvPr/>
        </p:nvPicPr>
        <p:blipFill>
          <a:blip r:embed="rId1"/>
          <a:stretch/>
        </p:blipFill>
        <p:spPr>
          <a:xfrm>
            <a:off x="1057320" y="1320840"/>
            <a:ext cx="6864480" cy="504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IAGRAMA C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5" descr=""/>
          <p:cNvPicPr/>
          <p:nvPr/>
        </p:nvPicPr>
        <p:blipFill>
          <a:blip r:embed="rId1"/>
          <a:stretch/>
        </p:blipFill>
        <p:spPr>
          <a:xfrm>
            <a:off x="1038240" y="1166760"/>
            <a:ext cx="7467480" cy="5492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380600"/>
            <a:ext cx="8256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tabilidad es una técnica que permite registrar hechos económicos cuantificables de una organización o empresa, procesa toda esta información y emite reportes que sirven para tomar dec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- Que producir o dejar de produ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- Invertir o repartir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- Endeudarse o utilizar recurso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- Planific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63264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CESO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28440" y="1181160"/>
            <a:ext cx="7259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- Constitución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- Compras de Mercaderías, Maquinarias y otros bi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- Ventas de Mercad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- Devoluciones de Compra y V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- Pago de Servicios, Gastos, Impue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7.- Pago de Remuneraciones y Honor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DIARIO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naliza que partidas intervienen y como se afectan si aumentan o disminuy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 en el Libro Diario, la transacción en forma de asiento con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MAY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traspasan los montos de cada cuenta registrada en el Libro Diario a la misma cuenta del Libro May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suman los cargos y abonos de cada cuenta y se determina el saldo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ESTADOS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uestra los saldos de las cuentas a la fecha de cierre como resultado financiero y el rendimiento de la empresa en el ejercicio (Balance General y Estado de Resultad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D0F-EC56-4786-BA7E-F95D9E164FD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813960" y="1488600"/>
            <a:ext cx="74278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eo de libros auxiliares para agrupar transacciones repetitivas y de igual natura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registro en el Libro Diario se realiza mediante asientos de centr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transacciones poco frecuentes se realizan directamente en el libro diario, no siendo necesario libros auxili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336600" y="449568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4"/>
          <p:cNvSpPr/>
          <p:nvPr/>
        </p:nvSpPr>
        <p:spPr>
          <a:xfrm>
            <a:off x="6070680" y="4324320"/>
            <a:ext cx="1241280" cy="79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7785000" y="4286160"/>
            <a:ext cx="1359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"/>
          <p:cNvSpPr/>
          <p:nvPr/>
        </p:nvSpPr>
        <p:spPr>
          <a:xfrm>
            <a:off x="7365960" y="4762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7"/>
          <p:cNvSpPr/>
          <p:nvPr/>
        </p:nvSpPr>
        <p:spPr>
          <a:xfrm>
            <a:off x="2717640" y="4324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8"/>
          <p:cNvSpPr/>
          <p:nvPr/>
        </p:nvSpPr>
        <p:spPr>
          <a:xfrm>
            <a:off x="2698920" y="48006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9"/>
          <p:cNvSpPr/>
          <p:nvPr/>
        </p:nvSpPr>
        <p:spPr>
          <a:xfrm>
            <a:off x="3855960" y="36576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Comp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0"/>
          <p:cNvSpPr/>
          <p:nvPr/>
        </p:nvSpPr>
        <p:spPr>
          <a:xfrm>
            <a:off x="3875040" y="412272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3836880" y="55800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579600" y="17640"/>
            <a:ext cx="764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CONTABLE CENTRALIZ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>
            <a:off x="2679840" y="3790800"/>
            <a:ext cx="0" cy="19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>
            <a:off x="2679840" y="3772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6"/>
          <p:cNvSpPr/>
          <p:nvPr/>
        </p:nvSpPr>
        <p:spPr>
          <a:xfrm>
            <a:off x="5575320" y="382896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8"/>
          <p:cNvSpPr/>
          <p:nvPr/>
        </p:nvSpPr>
        <p:spPr>
          <a:xfrm>
            <a:off x="5575320" y="3809880"/>
            <a:ext cx="31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3444840" y="4618080"/>
            <a:ext cx="19130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Honor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"/>
          <p:cNvSpPr/>
          <p:nvPr/>
        </p:nvSpPr>
        <p:spPr>
          <a:xfrm>
            <a:off x="3159000" y="5113440"/>
            <a:ext cx="219888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Remun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2706840" y="530388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8"/>
          <p:cNvSpPr/>
          <p:nvPr/>
        </p:nvSpPr>
        <p:spPr>
          <a:xfrm>
            <a:off x="2687760" y="5761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8"/>
          <p:cNvSpPr/>
          <p:nvPr/>
        </p:nvSpPr>
        <p:spPr>
          <a:xfrm>
            <a:off x="5583240" y="4275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8"/>
          <p:cNvSpPr/>
          <p:nvPr/>
        </p:nvSpPr>
        <p:spPr>
          <a:xfrm>
            <a:off x="5572080" y="47782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8"/>
          <p:cNvSpPr/>
          <p:nvPr/>
        </p:nvSpPr>
        <p:spPr>
          <a:xfrm>
            <a:off x="5580000" y="528156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8"/>
          <p:cNvSpPr/>
          <p:nvPr/>
        </p:nvSpPr>
        <p:spPr>
          <a:xfrm>
            <a:off x="5583240" y="5742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2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23E7-EECC-42FD-85A3-6657C52291D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04:57Z</dcterms:created>
  <dc:creator>jvilchez</dc:creator>
  <dc:description/>
  <dc:language>en-US</dc:language>
  <cp:lastModifiedBy>María S.. López</cp:lastModifiedBy>
  <dcterms:modified xsi:type="dcterms:W3CDTF">2013-07-25T21:31:16Z</dcterms:modified>
  <cp:revision>136</cp:revision>
  <dc:subject/>
  <dc:title>Presentación de PowerPoint</dc:title>
</cp:coreProperties>
</file>