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E1B-DEDF-4B0D-A807-23EA54CC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565-43A1-4B2C-B795-BA06A65F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8E0-CB3A-4AED-ADCF-AA1B2B90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73D-9F7A-49EF-B809-B6E2F6C0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5D39-3DC2-4FFA-873A-62585C8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9B26-CFCF-4405-9943-9788DED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D5CB-0F69-4502-A480-83FCB3DF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687-CD2A-433F-B87D-541DFC4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EB4-4E1C-40F0-B8F6-470FB96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ED2A-AE6D-4A5F-B47F-72E9D9D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D37-6046-4653-87A1-E42D387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350-B1A3-4886-BCED-FB101CD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93F6-667E-48DB-93AD-5725A112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2484-5A3E-4E9E-ABF2-A223C81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E0FA-8AC1-4D7A-AA09-CDC0C92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2CE-8038-4D99-AB29-6C4A07FA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B2B3-3462-455D-8CEE-2078390E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D298-0018-498F-BE0C-0E1F7CC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7813-0FD2-4423-8BBE-A1649D4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0E7F-0996-48F1-B237-68846EB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FD4F-99A1-48F5-875F-F83E9C02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4E1E-2B9C-42C6-9B64-7BBE4F3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0AD-3C80-44D9-B34B-AD938CA0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CA39-CE55-4479-A69C-2BA135A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0E49-4473-44E5-81A9-3DC5604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28FC-0438-42C8-9968-C1FD1073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6055-D4EB-4DA3-91D9-AB1BF32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A0F1-899E-4A89-8EC6-A9E9520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A0D1-6381-430C-AE8A-B829CA40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B179-70D1-4D60-BC17-85DEEE1C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6124-985F-4EE9-BB5B-85EE4657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0EC4-04DB-4173-BD7A-980B641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2C92-CCBC-46D3-9A18-189B761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6C2-8BEF-4CDA-9B65-D49EA324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18FC-2CCB-4487-9CC5-C10F432A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1881-2E18-4E0F-AA37-10F90F1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42AA-D4C6-436C-AB14-4E5A233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BD6A-712E-4444-B8EC-1B4C2B3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346A-0D4B-4A65-B398-B8A39DD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6BA2-037D-4181-B5E3-DD62AB9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43DC-7AE9-4FAD-8B0E-47B4B5B0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2AF6-2C9A-4B88-8E9D-3D355728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DACD-F18C-4C5E-8EE1-0F7518A7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AC89-6030-4515-9460-FBFD249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9BF-C10C-4261-80D7-5032F916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9CE5-2A62-498D-96F8-6D0F703D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6D22-FBCF-482B-AA9B-B2BEAA51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7142-0945-4E55-94B6-2F3E1C2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F1F2-FB56-44C0-BD9A-DC0952A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FCEF-3473-4F02-A96C-2446A8A4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B73F-EB18-4B1A-9D91-776ABD4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C4CB-981F-4A0D-ACBF-B39072C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52CE-1024-49E3-B823-A5F8315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0825-CBD6-4724-B407-3C4D7F67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105A-4495-4F8D-B71F-DD0D35C4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06F-8B8C-4E6D-A503-780DD3C5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2F40-EC74-487A-A872-A136E5C8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BE16F-83D4-43B0-A9C0-A27DD4F0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0EC5F-EE60-456E-8F80-EBFBB48E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581D-CFCE-421D-A8F7-A5C3D16F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6D9B-43A6-494D-BD28-A1C83D86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9007E-4D6B-41A0-BE79-A74B5264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2D44C-23E2-436A-BB25-F84F4EA8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9DA06-F3E8-4EF6-9F4F-37A3D3C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E7BF-8F9A-4CF5-82BF-124EDD0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1EFD-8E5D-4BF8-9C21-B50B6D2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F1F-2C83-4593-A6B4-078DD44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7373-D673-4AC8-BAAA-0D823F4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9280-2D3B-4FCC-8AAE-CA419D4C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2659A-A63C-4C5D-93BF-0DCB84EB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F098-0610-4456-B9AD-25C8C28A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63067-0D5F-42B7-A45C-63E7791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2247-486D-4FDA-AE02-2ACE723D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F75C-91CF-4A3E-AC1E-E0AA8E4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C20A-5268-42F7-8D4E-F73B516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B978-EEC2-4020-BEDB-0AD2428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4C42-E614-4898-8714-FDBBC9C3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75D-315C-491F-8B9A-8B1AFF2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BAF1-F6D0-4146-99EC-A7F02D0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3EB0-77F8-40D3-9F57-26AB0B4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DD82-4509-4EBA-9348-AE1918AE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DAF09-9791-4BB8-AB91-0E71ACFA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6B87A-DB84-4469-ABF3-56AFDFF1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400-1641-43C1-A1E2-75D9310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93E-74E4-4F0A-93B0-A85678A078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ACC-83E9-4E74-914F-C9032D1B27D1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7A0F-060D-4F38-BB60-D16ABAC525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79BC-FCD0-4D46-AB4A-56BFBEC3789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65A-E4F0-4F93-BEE6-B40821912C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5E8-24BC-4C8F-8A44-E89C1BC42E71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37E-DAA5-4BDC-8B0F-BB2253EFAE83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2 Subtítulo" descr=""/>
          <p:cNvPicPr/>
          <p:nvPr/>
        </p:nvPicPr>
        <p:blipFill>
          <a:blip r:embed="rId1"/>
          <a:stretch/>
        </p:blipFill>
        <p:spPr>
          <a:xfrm>
            <a:off x="1000080" y="1249200"/>
            <a:ext cx="7772400" cy="1683000"/>
          </a:xfrm>
          <a:prstGeom prst="rect">
            <a:avLst/>
          </a:prstGeom>
          <a:ln w="0">
            <a:noFill/>
          </a:ln>
        </p:spPr>
      </p:pic>
      <p:pic>
        <p:nvPicPr>
          <p:cNvPr id="302" name="3 Imagen" descr="Dibujo.JPG"/>
          <p:cNvPicPr/>
          <p:nvPr/>
        </p:nvPicPr>
        <p:blipFill>
          <a:blip r:embed="rId2"/>
          <a:stretch/>
        </p:blipFill>
        <p:spPr>
          <a:xfrm>
            <a:off x="3000240" y="3000240"/>
            <a:ext cx="3457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82680" algn="ctr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a normativa tributaria paraguaya no contiene normas específicas que regulen la imputación de los precios de transferencias entre entidades del país con empresas asociadas del exterior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500" spc="-1" strike="noStrike">
                <a:solidFill>
                  <a:srgbClr val="ffffff"/>
                </a:solidFill>
                <a:latin typeface="Century Gothic"/>
              </a:rPr>
              <a:t>No obstante, contiene algunas disposiciones que inducen a pensar que, en determinado tipo de operaciones, se utiliza la lógica del principio de “ARMS LENGTH” (Precio Normal de Mercado Abierto), </a:t>
            </a:r>
            <a:r>
              <a:rPr b="1" lang="es-ES" sz="2500" spc="-1" strike="noStrike">
                <a:solidFill>
                  <a:srgbClr val="ffffff"/>
                </a:solidFill>
                <a:latin typeface="Century Gothic"/>
              </a:rPr>
              <a:t>también denominado Precio Comparable No Controlado</a:t>
            </a: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1112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Existe la necesidad de contar con una norma que permita a la Administración Tributaria el control de las transacciones internacionales que llevan a cabo un grupo importante de contribuyent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06800" indent="-378720" algn="ctr"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entury Gothic"/>
              </a:rPr>
              <a:t>Al respecto, la Subsecretaría de Estado de Tributación cuenta con un grupo de trabajo multidisciplinario que está trabajando con consultores especializados y apoyo del CIAT, los cuales se encuentran analizando la realidad paraguaya a fin de la implementación del marco legal que regule los precios de transferencia. Ya se cuenta con un proyecto de ley y su respectiva reglamentación</a:t>
            </a: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Century Gothic"/>
              </a:rPr>
              <a:t>Fin.-</a:t>
            </a:r>
            <a:endParaRPr b="0" lang="en-US" sz="5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3:23:27Z</dcterms:created>
  <dc:creator>Usuario</dc:creator>
  <dc:description/>
  <dc:language>en-US</dc:language>
  <cp:lastModifiedBy>Monica Alonso</cp:lastModifiedBy>
  <dcterms:modified xsi:type="dcterms:W3CDTF">2013-06-14T15:23:13Z</dcterms:modified>
  <cp:revision>5</cp:revision>
  <dc:subject/>
  <dc:title>Diapositiva 1</dc:title>
</cp:coreProperties>
</file>