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702-1217-4798-A6BF-06C3BD32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6D5-8D81-48FE-BFA9-F78775FF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D3F-1031-4653-BA65-62AD9969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FAE-D1EA-4FA1-AF1B-7B9C394A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B21E-8582-4A05-AAD5-A290CA7F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B6FC-1257-41C1-9316-37A302CA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D41F-FDB5-4029-91CB-B6404F38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115C-CDFC-4130-B66B-A0BAF28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5F59-8B2A-4834-BF98-009D9A98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81FC-203C-4A26-8877-68A777CF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AF96-0AB1-45CD-BF20-BB50930B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8D3-5E8A-4FD8-84A1-93AF6237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05B3-9282-481F-8C3D-F806F68E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C509-2C3E-4143-8F1B-A7AD6B45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4B4C-3F5D-4ECC-994E-5E45E0E4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FFE3-CF33-4176-92F2-735026EF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2391-3B96-4224-A5AD-41132DC3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E78F-C5B8-461E-B352-3767F1A5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1274-DE0E-44F6-82B8-58DB0278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6005-4A82-41BC-B2CF-D2FBE6AF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7F000-266F-4F7A-A559-5B50C7EC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4EBC-ACC2-4F63-9007-CA3E8C60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F0A-FC21-4211-B038-35E05076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ADD7-02F6-416C-A622-0019EBED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6576-F33C-4B65-B64F-58B9678F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2F68-40A8-42FD-ABF0-DA4E1320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7CEE-9172-4D90-A75C-A675618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B48B-8C56-47C7-8FC6-52226B6D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42BA-EA03-423E-A74E-457EFCE9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99E0-ACFB-4F82-85C5-673E5F46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75DE-DD3A-4579-B26B-E24264AC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A48F2-F32F-44E6-800C-1E41422C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5CCE-98AD-4955-B357-AC595566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6A2-7F3C-4B35-AC5E-BD71A38A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405FC-6FE0-4C60-8B13-6475A5D6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BEC12-1723-4CD4-8B9C-C14DF6E7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95FCA-0771-4111-AE91-AD21F416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C8FF-C8B3-4205-8169-77B421F0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9727-91E7-43AE-93A3-5F3B175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8163-0E3C-46D4-B67D-C3C9F1C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D7EE-198F-4642-BB01-BFA9BA90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DB2C-4FB4-43D2-885D-0181BA94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4AB18-0D33-4673-8151-15B4224A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C670-4EAD-40CA-828E-29AD0989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553-8828-408C-B67B-64EEE7B3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78AF4-9F42-41C0-8E2C-23C153D9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C111-9979-46D9-92FA-B8EC8A70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9374-C5F3-42BB-9E99-1F33565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3EA35-DEB6-48A3-B9D3-92EFB422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41F9-2FE5-455C-9D27-42AA520C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AC6A-45D7-4F0D-B7F1-2F28436F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47585-14A3-4630-8F28-4400EE1B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4836-FFCA-4B8B-BFA9-10B4951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D9BB7-8745-4595-A19C-A98B00B6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84F75-CFC6-45A8-9937-892A21F3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214-1954-4331-A5A6-D6D6C4FB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ACA9F-E178-4C6B-8BB5-E9191E1A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B7910-38E9-4957-9C5E-AF43F8BF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5352-FE16-4E26-A885-45BBED3C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D38F-D622-4EC3-A85E-FC11A896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9BE9B-205B-4B50-A2DE-0EC2B309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5E8CA-73F1-4617-A45D-E39F5F27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B33DC-89C9-40EA-BB49-49C32495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ACA6C-6A59-48C6-BBB7-1405859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DCDC2-5525-4147-BB80-4BC918E3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1D1C0-E999-403A-9F46-F9049CB4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24A-DB4C-4D15-BDF1-1E328BA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F9010-EF6A-4E27-A90F-3430ECDD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37E82-5BE2-4851-A09B-1FFA6EE3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12E5C-584C-41FD-9028-88C79970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3F2D8-F47C-4D7B-8215-656B20BD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4E0EA-C438-4E4F-B3A3-DBF10541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3FBC7-0309-4D0C-B514-22B855AF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75C2C-02FF-49FC-A11E-DC6F9985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63334-6676-4260-952B-EDB9D17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BA06B-FF9B-4B43-8E82-D3F20620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F3280-A788-40EC-AB8C-A6367C03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4FF-C151-4467-9F52-EA3092B3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97C4D-5FBF-4A85-A791-7BBE65E2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81DB3-F174-43D3-83ED-E1A32D6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70B2D-535C-4F4B-97D4-B100EFBD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67C1A-8730-456E-B04F-EBEA65C4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89335-A724-4FF2-82AC-C8D03421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980-84CC-45B4-9C2B-239547A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5C31-7081-4802-9E91-B774EDCED1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F21E-2C44-46CB-B124-2CD816949BED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4D8-70C4-41B9-B4A7-1DF27DD256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CEEA-41F3-4895-9184-B292ADC5DE6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6A75-FA31-4683-BEAC-C264082F15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D13D-27C9-4771-957C-5715D8226F34}" type="slidenum"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23F1-700E-441D-B71B-8914096EC3B8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2 Subtítulo" descr=""/>
          <p:cNvPicPr/>
          <p:nvPr/>
        </p:nvPicPr>
        <p:blipFill>
          <a:blip r:embed="rId1"/>
          <a:stretch/>
        </p:blipFill>
        <p:spPr>
          <a:xfrm>
            <a:off x="1000080" y="1249200"/>
            <a:ext cx="7772400" cy="1683000"/>
          </a:xfrm>
          <a:prstGeom prst="rect">
            <a:avLst/>
          </a:prstGeom>
          <a:ln w="0">
            <a:noFill/>
          </a:ln>
        </p:spPr>
      </p:pic>
      <p:pic>
        <p:nvPicPr>
          <p:cNvPr id="302" name="3 Imagen" descr="Dibujo.JPG"/>
          <p:cNvPicPr/>
          <p:nvPr/>
        </p:nvPicPr>
        <p:blipFill>
          <a:blip r:embed="rId2"/>
          <a:stretch/>
        </p:blipFill>
        <p:spPr>
          <a:xfrm>
            <a:off x="3000240" y="3000240"/>
            <a:ext cx="34578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624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1" lang="es-PY" sz="2500" spc="-1" strike="noStrike">
                <a:solidFill>
                  <a:srgbClr val="ffffff"/>
                </a:solidFill>
                <a:latin typeface="Century Gothic"/>
              </a:rPr>
              <a:t>a normativa tributaria paraguaya no contiene normas específicas que regulen la imputación de los precios de transferencias entre entidades del país con empresas asociadas del exterior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spcBef>
                <a:spcPts val="624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 algn="ctr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500" spc="-1" strike="noStrike">
                <a:solidFill>
                  <a:srgbClr val="ffffff"/>
                </a:solidFill>
                <a:latin typeface="Century Gothic"/>
              </a:rPr>
              <a:t>No obstante, contiene algunas disposiciones que inducen a pensar que, en determinado tipo de operaciones, se utiliza la lógica del principio de “ARMS LENGTH” (Precio Normal de Mercado Abierto), </a:t>
            </a:r>
            <a:r>
              <a:rPr b="1" lang="es-ES" sz="2500" spc="-1" strike="noStrike">
                <a:solidFill>
                  <a:srgbClr val="ffffff"/>
                </a:solidFill>
                <a:latin typeface="Century Gothic"/>
              </a:rPr>
              <a:t>también denominado Precio Comparable No Controlado</a:t>
            </a: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78720" algn="ctr"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entury Gothic"/>
              </a:rPr>
              <a:t>Existe la necesidad de contar con una norma que permita a la Administración Tributaria el control de las transacciones internacionales que llevan a cabo un grupo importante de contribuyent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06800" indent="-378720" algn="ctr"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06800" indent="-378720" algn="ctr"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entury Gothic"/>
              </a:rPr>
              <a:t>Al respecto, la Subsecretaría de Estado de Tributación cuenta con un grupo de trabajo multidisciplinario que está trabajando con consultores especializados y apoyo del CIAT, los cuales se encuentran analizando la realidad paraguaya a fin de la implementación del marco legal que regule los precios de transferencia. Ya se cuenta con un proyecto de ley y su respectiva reglamentación</a:t>
            </a: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.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Century Gothic"/>
              </a:rPr>
              <a:t>Fin.-</a:t>
            </a:r>
            <a:endParaRPr b="0" lang="en-US" sz="5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3:23:27Z</dcterms:created>
  <dc:creator>Usuario</dc:creator>
  <dc:description/>
  <dc:language>en-US</dc:language>
  <cp:lastModifiedBy>Monica Alonso</cp:lastModifiedBy>
  <dcterms:modified xsi:type="dcterms:W3CDTF">2013-06-14T15:23:13Z</dcterms:modified>
  <cp:revision>5</cp:revision>
  <dc:subject/>
  <dc:title>Diapositiva 1</dc:title>
</cp:coreProperties>
</file>