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B507-6D74-491A-8B99-8A0C24C09E26}" type="slidenum">
              <a:rPr b="0" lang="es-C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5F18-402D-438E-98AD-388A4A7881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D41-E6BF-4788-A440-F339CD7E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485-55B6-452F-9CFF-CD579481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4F4-90C4-4997-9437-E8CD04AF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E23-630F-4F74-B3AF-AE91E814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0CD-39CD-4AEC-BC15-CDD4AEA3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9E2-E95A-4E29-A18A-F66E129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ED8-FAB9-486E-9CE0-BB5AB64E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6A3-35FB-4B2E-A537-B868E015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880-9D65-4C09-A8DC-0B5015E4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C07-0001-47D6-8050-F42719F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F8E-3E7A-44C5-8098-5BBCD1A8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225-A088-42FA-9BB2-E226B06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C859-98D2-453D-B84C-901C4DFEC0C5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mailto:preciostransferencia@dian.gov.co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651120"/>
            <a:ext cx="79596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fortalecimiento de la autoridad tributaria en Colombi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DUARDO TELLEZ OBREGON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ABRIEL GONZALEZ VILLAMIL</a:t>
            </a:r>
            <a:br>
              <a:rPr sz="2000"/>
            </a:br>
            <a:br>
              <a:rPr sz="2000"/>
            </a:b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uenos Aires, 10 al 12 de julio de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91772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anismo amistoso de resolución de controvers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o de fortalecimiento del equipo de APAs / Apoyo exter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uniones prelimina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icitudes formales recibidas e interés manifiesto de APAs bilate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álogos con Autoridades Compet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Puertas abiertas para negociar 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  <a:ea typeface="Mangal"/>
              </a:rPr>
              <a:t>AP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1287360"/>
            <a:ext cx="78580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das de Simpl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da la declaración informativa consolid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rimientos de documentación simples para operaciones cubiertas por 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aciones de declaraciones y documentación a través de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jo análisis para simplific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laraciones informa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  <a:ea typeface="Mangal"/>
              </a:rPr>
              <a:t>Pasos a Segu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 Rectángulo"/>
          <p:cNvSpPr/>
          <p:nvPr/>
        </p:nvSpPr>
        <p:spPr>
          <a:xfrm>
            <a:off x="6480" y="44280"/>
            <a:ext cx="9137520" cy="268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DaniPaginaConstruccion"/>
          <p:cNvPicPr/>
          <p:nvPr/>
        </p:nvPicPr>
        <p:blipFill>
          <a:blip r:embed="rId1"/>
          <a:stretch/>
        </p:blipFill>
        <p:spPr>
          <a:xfrm>
            <a:off x="3995640" y="2276640"/>
            <a:ext cx="1190880" cy="1585800"/>
          </a:xfrm>
          <a:prstGeom prst="rect">
            <a:avLst/>
          </a:prstGeom>
          <a:ln w="0">
            <a:noFill/>
          </a:ln>
        </p:spPr>
      </p:pic>
      <p:sp>
        <p:nvSpPr>
          <p:cNvPr id="86" name="4 Rectángulo"/>
          <p:cNvSpPr/>
          <p:nvPr/>
        </p:nvSpPr>
        <p:spPr>
          <a:xfrm>
            <a:off x="1863720" y="4508640"/>
            <a:ext cx="54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eciostransferencia@dian.gov.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7375e"/>
                </a:solidFill>
                <a:latin typeface="Calibri"/>
              </a:rPr>
              <a:t>Teléfono:  (1) 607-98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Título"/>
          <p:cNvSpPr/>
          <p:nvPr/>
        </p:nvSpPr>
        <p:spPr>
          <a:xfrm>
            <a:off x="179280" y="922320"/>
            <a:ext cx="8785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uadroTexto"/>
          <p:cNvSpPr/>
          <p:nvPr/>
        </p:nvSpPr>
        <p:spPr>
          <a:xfrm>
            <a:off x="824040" y="1773360"/>
            <a:ext cx="7632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Declaración Informativa  y Documentación Comprobato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rimonio bruto igual o superior a 100.000 UVT (USD 1.400.000, aprox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resos brutos iguales o superiores a 61.000 UVT (USD 860.000, aprox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ligación de documentar operaciones superiores a 10.000 UVT (USD 140.000, apro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APA bilaterales, mult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Régimen sancion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ctu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gnificante incremento en comercio internacional: Cantidad y volumen de operaciones intercompañ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orma Tribu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Busca ofrecer más herramientas a la Administración para controlar prácticas noc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sfuerzo sensato por limitar y desmontar esquemas abus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rticulado busca alinearse con criterios OCDE y estándares internacion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poyo de OCDE, IMF, US Dept. of Treasury, 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00000" y="2421000"/>
          <a:ext cx="7632720" cy="3079800"/>
        </p:xfrm>
        <a:graphic>
          <a:graphicData uri="http://schemas.openxmlformats.org/drawingml/2006/table">
            <a:tbl>
              <a:tblPr/>
              <a:tblGrid>
                <a:gridCol w="3302280"/>
                <a:gridCol w="1500120"/>
                <a:gridCol w="1415880"/>
                <a:gridCol w="141444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7225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CLAR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DAD DE OPER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+E+A+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7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RON DOCUMENTACION COMPROBATO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12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IDAD DE OPERACIONES (I+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8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4 Título"/>
          <p:cNvSpPr/>
          <p:nvPr/>
        </p:nvSpPr>
        <p:spPr>
          <a:xfrm>
            <a:off x="1044720" y="134928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dísticas Generales - 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se está fiscalizan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ciones de servic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or minero-energético – T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ores agropecuario, construcción y transporte – T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onas Fran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justes de comparabilidad y ajustes en r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736560" y="1052640"/>
            <a:ext cx="792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rategia 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oyo OC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yecto de Capacitación por 3 años con la OCDE / BM /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ramientas: Bases de Datos, Exógena, Adu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oyo Internacional – FMI, US Treasury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ridades Tribu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es frecuentes, análisis funcional, validac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misiones de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5 Marcador de contenido" descr=""/>
          <p:cNvPicPr/>
          <p:nvPr/>
        </p:nvPicPr>
        <p:blipFill>
          <a:blip r:embed="rId1"/>
          <a:stretch/>
        </p:blipFill>
        <p:spPr>
          <a:xfrm>
            <a:off x="353880" y="2017800"/>
            <a:ext cx="8332920" cy="4578120"/>
          </a:xfrm>
          <a:prstGeom prst="rect">
            <a:avLst/>
          </a:prstGeom>
          <a:ln w="0">
            <a:noFill/>
          </a:ln>
        </p:spPr>
      </p:pic>
      <p:sp>
        <p:nvSpPr>
          <p:cNvPr id="67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cto de Capacitación por 3 años con l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DE / BM / 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ocimientos técnicos, herramientas, experiencia intern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o en Ajustes Propuestos y Sanciones Impues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istencia en Proyecto de Reforma Tribu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eño de nueva estructura de Gobernabilidad para la SGF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oyo en Risk Assessment para programas de fisca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cación de estructuras y operaciones interna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755640" y="1628640"/>
            <a:ext cx="79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ci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DE – B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to de Paraísos y Controles Relaci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ociación de tratados para E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az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353880">
              <a:lnSpc>
                <a:spcPct val="100000"/>
              </a:lnSpc>
              <a:buClr>
                <a:srgbClr val="000000"/>
              </a:buClr>
              <a:buSzPct val="6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Rectángulo"/>
          <p:cNvSpPr/>
          <p:nvPr/>
        </p:nvSpPr>
        <p:spPr>
          <a:xfrm>
            <a:off x="6480" y="27000"/>
            <a:ext cx="9137520" cy="268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457200" y="488880"/>
            <a:ext cx="8228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000000"/>
                </a:solidFill>
                <a:latin typeface="Calibri"/>
              </a:rPr>
              <a:t>Fisc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21:10:20Z</dcterms:created>
  <dc:creator>Andres Nieto</dc:creator>
  <dc:description/>
  <dc:language>en-US</dc:language>
  <cp:lastModifiedBy>Gerardo Gabriel Gonzalez Villamil</cp:lastModifiedBy>
  <cp:lastPrinted>2012-12-11T15:04:14Z</cp:lastPrinted>
  <dcterms:modified xsi:type="dcterms:W3CDTF">2013-07-03T16:21:49Z</dcterms:modified>
  <cp:revision>987</cp:revision>
  <dc:subject/>
  <dc:title>Diapositiva 1</dc:title>
</cp:coreProperties>
</file>