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06F0-0FC1-4B18-98BA-8E561A15BC46}" type="slidenum">
              <a:rPr b="0" lang="es-C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CA0B-3848-47EE-A7CB-1B1DB5EF79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0B6-86B6-4DB4-A62F-6A926644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B79-31DB-4A18-88FA-6D1384BC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203-EA6D-4EB2-A878-CEBDC8E4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876-D939-4172-A571-E1065188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08C-B09C-46F6-9E0F-D99AE1FE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032-4923-48F4-8C03-A0B4CEF0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085-5AAE-436D-9CCA-03A3645B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EE2-A137-4A9D-8762-DE2023C5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618-EC54-45D3-B8DA-1B1FFB17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1C0-5CDE-46BE-8981-C0B406AF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379-6C89-417A-84B8-EB05704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32C-2107-4B73-9003-CCC2320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DD61-B757-4CEF-937A-DA1E5A64343E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mailto:preciostransferencia@dian.gov.co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651120"/>
            <a:ext cx="79596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fortalecimiento de la autoridad tributaria en Colombi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DUARDO TELLEZ OBREGON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GABRIEL GONZALEZ VILLAMIL</a:t>
            </a:r>
            <a:br>
              <a:rPr sz="2000"/>
            </a:br>
            <a:br>
              <a:rPr sz="2000"/>
            </a:b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uenos Aires, 10 al 12 de julio de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91772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anismo amistoso de resolución de controvers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o de fortalecimiento del equipo de APAs / Apoyo exter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uniones prelimina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icitudes formales recibidas e interés manifiesto de APAs bilate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álogos con Autoridades Compet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Puertas abiertas para negociar 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  <a:ea typeface="Mangal"/>
              </a:rPr>
              <a:t>AP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1287360"/>
            <a:ext cx="78580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das de Simpl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da la declaración informativa consolid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rimientos de documentación simples para operaciones cubiertas por 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aciones de declaraciones y documentación a través de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jo análisis para simplific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laraciones informa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  <a:ea typeface="Mangal"/>
              </a:rPr>
              <a:t>Pasos a Segu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3 Rectángulo"/>
          <p:cNvSpPr/>
          <p:nvPr/>
        </p:nvSpPr>
        <p:spPr>
          <a:xfrm>
            <a:off x="6480" y="44280"/>
            <a:ext cx="9137520" cy="268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DaniPaginaConstruccion"/>
          <p:cNvPicPr/>
          <p:nvPr/>
        </p:nvPicPr>
        <p:blipFill>
          <a:blip r:embed="rId1"/>
          <a:stretch/>
        </p:blipFill>
        <p:spPr>
          <a:xfrm>
            <a:off x="3995640" y="2276640"/>
            <a:ext cx="1190880" cy="1585800"/>
          </a:xfrm>
          <a:prstGeom prst="rect">
            <a:avLst/>
          </a:prstGeom>
          <a:ln w="0">
            <a:noFill/>
          </a:ln>
        </p:spPr>
      </p:pic>
      <p:sp>
        <p:nvSpPr>
          <p:cNvPr id="86" name="4 Rectángulo"/>
          <p:cNvSpPr/>
          <p:nvPr/>
        </p:nvSpPr>
        <p:spPr>
          <a:xfrm>
            <a:off x="1863720" y="4508640"/>
            <a:ext cx="54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eciostransferencia@dian.gov.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17375e"/>
                </a:solidFill>
                <a:latin typeface="Calibri"/>
              </a:rPr>
              <a:t>Teléfono:  (1) 607-98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Título"/>
          <p:cNvSpPr/>
          <p:nvPr/>
        </p:nvSpPr>
        <p:spPr>
          <a:xfrm>
            <a:off x="179280" y="922320"/>
            <a:ext cx="8785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ctu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uadroTexto"/>
          <p:cNvSpPr/>
          <p:nvPr/>
        </p:nvSpPr>
        <p:spPr>
          <a:xfrm>
            <a:off x="824040" y="1773360"/>
            <a:ext cx="7632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Declaración Informativa  y Documentación Comprobato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rimonio bruto igual o superior a 100.000 UVT (USD 1.400.000, aprox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resos brutos iguales o superiores a 61.000 UVT (USD 860.000, aprox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ligación de documentar operaciones superiores a 10.000 UVT (USD 140.000, apro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APA bilaterales, multi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Régimen sancion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ctu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gnificante incremento en comercio internacional: Cantidad y volumen de operaciones intercompañ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orma Tribu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Busca ofrecer más herramientas a la Administración para controlar prácticas noc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sfuerzo sensato por limitar y desmontar esquemas abus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rticulado busca alinearse con criterios OCDE y estándares internacion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poyo de OCDE, IMF, US Dept. of Treasury, 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00000" y="2421000"/>
          <a:ext cx="7632720" cy="3079800"/>
        </p:xfrm>
        <a:graphic>
          <a:graphicData uri="http://schemas.openxmlformats.org/drawingml/2006/table">
            <a:tbl>
              <a:tblPr/>
              <a:tblGrid>
                <a:gridCol w="3302280"/>
                <a:gridCol w="1500120"/>
                <a:gridCol w="1415880"/>
                <a:gridCol w="141444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7225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CLAR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DAD DE OPERA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+E+A+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RON DOCUMENTACION COMPROBATOR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1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DAD DE OPERACIONES (I+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8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4 Título"/>
          <p:cNvSpPr/>
          <p:nvPr/>
        </p:nvSpPr>
        <p:spPr>
          <a:xfrm>
            <a:off x="1044720" y="134928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dísticas Generales - 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se está fiscalizan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ciones de servic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minero-energético – TA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es agropecuario, construcción y transporte – T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onas Fran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angi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justes de comparabilidad y ajustes en r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736560" y="1052640"/>
            <a:ext cx="792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trategia 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oyo OC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yecto de Capacitación por 3 años con la OCDE / BM /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ramientas: Bases de Datos, Exógena, Adu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oyo Internacional – FMI, US Treasury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ridades Tribu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es frecuentes, análisis funcional, validaci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misiones de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5 Marcador de contenido" descr=""/>
          <p:cNvPicPr/>
          <p:nvPr/>
        </p:nvPicPr>
        <p:blipFill>
          <a:blip r:embed="rId1"/>
          <a:stretch/>
        </p:blipFill>
        <p:spPr>
          <a:xfrm>
            <a:off x="353880" y="2017800"/>
            <a:ext cx="8332920" cy="4578120"/>
          </a:xfrm>
          <a:prstGeom prst="rect">
            <a:avLst/>
          </a:prstGeom>
          <a:ln w="0">
            <a:noFill/>
          </a:ln>
        </p:spPr>
      </p:pic>
      <p:sp>
        <p:nvSpPr>
          <p:cNvPr id="67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yecto de Capacitación por 3 años con l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DE / BM / 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ocimientos técnicos, herramientas, experiencia inter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o en Ajustes Propuestos y Sanciones Impues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istencia en Proyecto de Reforma Tribu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eño de nueva estructura de Gobernabilidad para la SGF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oyo en Risk Assessment para programas de fisca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cación de estructuras y operaciones interna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755640" y="1628640"/>
            <a:ext cx="79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ci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DE – B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to de Paraísos y Controles Relacio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ociación de tratados para E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az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21:10:20Z</dcterms:created>
  <dc:creator>Andres Nieto</dc:creator>
  <dc:description/>
  <dc:language>en-US</dc:language>
  <cp:lastModifiedBy>Gerardo Gabriel Gonzalez Villamil</cp:lastModifiedBy>
  <cp:lastPrinted>2012-12-11T15:04:14Z</cp:lastPrinted>
  <dcterms:modified xsi:type="dcterms:W3CDTF">2013-07-03T16:21:49Z</dcterms:modified>
  <cp:revision>987</cp:revision>
  <dc:subject/>
  <dc:title>Diapositiva 1</dc:title>
</cp:coreProperties>
</file>