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CE4-3978-4EE1-B6E8-546E0AEF27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E00-FB90-45BD-A2BA-F979E478C9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4CD-075C-4971-857C-22DCDBDE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AE7-5D39-44E5-99AC-39C99428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13D-F4F8-4D7B-8DBC-83AE11C5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18F-7DCA-4DA4-8207-4ECFE689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D8B-C0BB-4E8B-9C8F-7664C359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89F-7CDA-48BA-BC4B-3114219F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127-FDA9-4808-B66F-0094D315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AB9-FF6F-4FBA-9BEE-585F439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7C4-5673-4F8B-BCFD-24B614EF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4A6-C0FA-4252-BBA0-3A58AC0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BA3-50CB-4D2C-8BF5-30CC62C8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7FA-2643-4BB3-B8C0-BF279A7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AC64-2723-4DAD-8C8E-AE3975A58C9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Superintendencia de Administrac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D824-F6E3-42D5-9070-3412B4044A3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 Box 2"/>
          <p:cNvGrpSpPr/>
          <p:nvPr/>
        </p:nvGrpSpPr>
        <p:grpSpPr>
          <a:xfrm>
            <a:off x="-19080" y="6377040"/>
            <a:ext cx="9175680" cy="493560"/>
            <a:chOff x="-19080" y="6377040"/>
            <a:chExt cx="9175680" cy="493560"/>
          </a:xfrm>
        </p:grpSpPr>
        <p:pic>
          <p:nvPicPr>
            <p:cNvPr id="49" name="Text Box 2" descr=""/>
            <p:cNvPicPr/>
            <p:nvPr/>
          </p:nvPicPr>
          <p:blipFill>
            <a:blip r:embed="rId1"/>
            <a:stretch/>
          </p:blipFill>
          <p:spPr>
            <a:xfrm>
              <a:off x="-19080" y="6377040"/>
              <a:ext cx="9175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639612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5 Marcador de fecha"/>
          <p:cNvSpPr/>
          <p:nvPr/>
        </p:nvSpPr>
        <p:spPr>
          <a:xfrm>
            <a:off x="0" y="6429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7248-8F58-457F-8860-F2C0BB3A530D}" type="datetime">
              <a:rPr b="0" lang="es-ES" sz="1200" spc="-1" strike="noStrike">
                <a:solidFill>
                  <a:srgbClr val="dce6f2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Marcador de pie de página"/>
          <p:cNvSpPr/>
          <p:nvPr/>
        </p:nvSpPr>
        <p:spPr>
          <a:xfrm>
            <a:off x="3124080" y="64292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dce6f2"/>
                </a:solidFill>
                <a:latin typeface="Calibri"/>
              </a:rPr>
              <a:t>Superintendencia de Administración Tribu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6 Marcador de número de diapositiva"/>
          <p:cNvSpPr/>
          <p:nvPr/>
        </p:nvSpPr>
        <p:spPr>
          <a:xfrm>
            <a:off x="6875640" y="6429240"/>
            <a:ext cx="201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4333-8B5E-48CB-8F20-5D1BE7BBBABA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Barra"/>
          <p:cNvPicPr/>
          <p:nvPr/>
        </p:nvPicPr>
        <p:blipFill>
          <a:blip r:embed="rId2"/>
          <a:stretch/>
        </p:blipFill>
        <p:spPr>
          <a:xfrm>
            <a:off x="684360" y="1268280"/>
            <a:ext cx="782460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14 Rectángulo"/>
          <p:cNvSpPr/>
          <p:nvPr/>
        </p:nvSpPr>
        <p:spPr>
          <a:xfrm>
            <a:off x="971640" y="2421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Arial"/>
              </a:rPr>
              <a:t>En el caso de Guatemala, el tema sobre precios de transferencia se incorporó a nuestra legislación en enero del presente año y podremos ver los resultados hasta el cierre de ejercicio al 31 de diciembre de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0 Imagen" descr="http://nemesis/estadisticas/images/central/logosat.gif"/>
          <p:cNvPicPr/>
          <p:nvPr/>
        </p:nvPicPr>
        <p:blipFill>
          <a:blip r:embed="rId3"/>
          <a:stretch/>
        </p:blipFill>
        <p:spPr>
          <a:xfrm>
            <a:off x="324000" y="189000"/>
            <a:ext cx="1742760" cy="57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9:16:25Z</dcterms:created>
  <dc:creator>mrrivera</dc:creator>
  <dc:description/>
  <dc:language>en-US</dc:language>
  <cp:lastModifiedBy>mrrivera</cp:lastModifiedBy>
  <dcterms:modified xsi:type="dcterms:W3CDTF">2013-06-21T20:46:24Z</dcterms:modified>
  <cp:revision>616</cp:revision>
  <dc:subject/>
  <dc:title>Diapositiva 1</dc:title>
</cp:coreProperties>
</file>