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EBA9-E694-4B01-BE8A-647F9893189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225A-3565-401D-9574-F1B3BDA9719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D53-A575-4FD7-8981-479655CD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9A8-73E1-44CC-9BF4-9C8F0F08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375-3E37-4BAF-8A97-E8030B3F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01E-748F-4C0B-8C75-3A64141D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AC3-7B39-4006-8D53-E63A23BB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3BC-0471-4BD0-A504-E2F31648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A7E-4407-4866-BDC2-9D0E6B73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724-F4DA-4FC4-A4B2-69ED50CE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1A8-870B-4706-9F61-C7B06C1D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683-8335-45DC-A0F4-4F36FBA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0EA-7AB7-4A22-B4E4-F8E7DF9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AF8-F297-4F84-850E-6CB0E381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3D54-AC72-4DC3-A463-0D4953E11B1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Superintendencia de Administración Tribu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0859-1296-473D-81CD-A582564C4CD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ext Box 2"/>
          <p:cNvGrpSpPr/>
          <p:nvPr/>
        </p:nvGrpSpPr>
        <p:grpSpPr>
          <a:xfrm>
            <a:off x="-19080" y="6377040"/>
            <a:ext cx="9175680" cy="493560"/>
            <a:chOff x="-19080" y="6377040"/>
            <a:chExt cx="9175680" cy="493560"/>
          </a:xfrm>
        </p:grpSpPr>
        <p:pic>
          <p:nvPicPr>
            <p:cNvPr id="49" name="Text Box 2" descr=""/>
            <p:cNvPicPr/>
            <p:nvPr/>
          </p:nvPicPr>
          <p:blipFill>
            <a:blip r:embed="rId1"/>
            <a:stretch/>
          </p:blipFill>
          <p:spPr>
            <a:xfrm>
              <a:off x="-19080" y="6377040"/>
              <a:ext cx="91756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6396120"/>
              <a:ext cx="914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5 Marcador de fecha"/>
          <p:cNvSpPr/>
          <p:nvPr/>
        </p:nvSpPr>
        <p:spPr>
          <a:xfrm>
            <a:off x="0" y="6429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0D44-3EEC-46A6-843D-7101D6B30812}" type="datetime">
              <a:rPr b="0" lang="es-ES" sz="1200" spc="-1" strike="noStrike">
                <a:solidFill>
                  <a:srgbClr val="dce6f2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Marcador de pie de página"/>
          <p:cNvSpPr/>
          <p:nvPr/>
        </p:nvSpPr>
        <p:spPr>
          <a:xfrm>
            <a:off x="3124080" y="642924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dce6f2"/>
                </a:solidFill>
                <a:latin typeface="Calibri"/>
              </a:rPr>
              <a:t>Superintendencia de Administración Tribu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6 Marcador de número de diapositiva"/>
          <p:cNvSpPr/>
          <p:nvPr/>
        </p:nvSpPr>
        <p:spPr>
          <a:xfrm>
            <a:off x="6875640" y="6429240"/>
            <a:ext cx="201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C5E8-3531-4B37-9359-DF1D195C9D19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4" descr="Barra"/>
          <p:cNvPicPr/>
          <p:nvPr/>
        </p:nvPicPr>
        <p:blipFill>
          <a:blip r:embed="rId2"/>
          <a:stretch/>
        </p:blipFill>
        <p:spPr>
          <a:xfrm>
            <a:off x="684360" y="1268280"/>
            <a:ext cx="7824600" cy="4897440"/>
          </a:xfrm>
          <a:prstGeom prst="rect">
            <a:avLst/>
          </a:prstGeom>
          <a:ln w="0">
            <a:noFill/>
          </a:ln>
        </p:spPr>
      </p:pic>
      <p:sp>
        <p:nvSpPr>
          <p:cNvPr id="55" name="14 Rectángulo"/>
          <p:cNvSpPr/>
          <p:nvPr/>
        </p:nvSpPr>
        <p:spPr>
          <a:xfrm>
            <a:off x="971640" y="2421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Arial"/>
              </a:rPr>
              <a:t>En el caso de Guatemala, el tema sobre precios de transferencia se incorporó a nuestra legislación en enero del presente año y podremos ver los resultados hasta el cierre de ejercicio al 31 de diciembre de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10 Imagen" descr="http://nemesis/estadisticas/images/central/logosat.gif"/>
          <p:cNvPicPr/>
          <p:nvPr/>
        </p:nvPicPr>
        <p:blipFill>
          <a:blip r:embed="rId3"/>
          <a:stretch/>
        </p:blipFill>
        <p:spPr>
          <a:xfrm>
            <a:off x="324000" y="189000"/>
            <a:ext cx="1742760" cy="57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9:16:25Z</dcterms:created>
  <dc:creator>mrrivera</dc:creator>
  <dc:description/>
  <dc:language>en-US</dc:language>
  <cp:lastModifiedBy>mrrivera</cp:lastModifiedBy>
  <dcterms:modified xsi:type="dcterms:W3CDTF">2013-06-21T20:46:24Z</dcterms:modified>
  <cp:revision>616</cp:revision>
  <dc:subject/>
  <dc:title>Diapositiva 1</dc:title>
</cp:coreProperties>
</file>