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dt" idx="17"/>
          </p:nvPr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sldNum" idx="18"/>
          </p:nvPr>
        </p:nvSpPr>
        <p:spPr>
          <a:xfrm>
            <a:off x="3849480" y="942660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18EF0-491A-422E-BAC9-FFCBC413AEB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53DF-4330-402C-B702-178DECDF4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A44E7-3BDC-4536-8EAF-C5D7534E812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184DA-6FFF-499B-9AE9-6DED2E76DA6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D5766-232C-44DF-987E-2457C1EF3F5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955D9-18F7-4C10-998C-BB21F8573B6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C8062-8AEA-430A-80E9-D32010240A9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79926-DB2D-4548-B49F-7E84F1A9322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B5C6E-A3E7-45B5-9044-9C77524BB72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9DE11-DA41-4294-BE02-FEA811AF094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253D2-7D9B-40BE-BB7F-5446B46F0C1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C1E1B-7E6F-4243-9204-ABCEE4DC156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529C86-D206-4E95-B922-980372233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3A5B-0716-44E5-BB52-AB81121996B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374E27-23FB-40C1-BE27-6C1B7DA7C97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86EEC1-FDF3-4AB1-9A1E-90BDFF9F65B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E8265A-172B-4387-BFF7-DFF034324A9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A9B602-1C83-444E-A7B7-D65BC2D0625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14CBF4-BDB0-45A2-8FB5-446F8CB5EFA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49E9F1-2EF4-4B79-8AF4-2EC20CC7EED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A5A4DB-063C-4E2C-89F0-6C73917A646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A1800A-8860-4E89-8B15-F017B26A80D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CEB6ED-0770-449E-B547-25C6DFF4564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1775BF-78C2-41B9-B10D-34BAE1ADA6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F49FE-C628-496C-B819-8E8566BCBA2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CE8058-6142-47E5-8C8C-6D1B081477A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946F83-2FE7-4516-A24B-58B33A9EC72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D6DAC2-96DE-475D-AED2-9E095BDF661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B3FFC5-8CE7-4C9B-9423-36C632EE1AE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F000CD-ECE6-4AA6-A563-D22F0C07264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2161BB-EE85-4C88-9023-615BB92F4B9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312DEC-5C5B-4493-86D1-370FF3614F9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2A8C4E-6A1E-4CBE-845E-DBE6AD888F7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152F8D-5BDD-4C86-895A-EBD3768E04A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1639B2-69E3-49A1-8518-9DB308CA8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3D518-49A9-4C59-B4FD-C958DC67C12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88A4D2-54CF-44BC-986B-7CC401D84ED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EA99AC-47C9-480F-95B5-EF505336DEF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99A62F-0DBC-4433-B9D1-652C639F854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35162-9F69-4A85-9413-0539459C952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8EC89-46B8-48A6-A3BA-C024FAFDDAE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38028-BDDF-4809-AE86-03B78A77DD9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71E66-D9F1-4E6C-A28A-24F2B98F647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8B7CC-EA7B-4F0E-862B-F74CF1C9CE4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D1B1E-FA30-4253-9AB3-291214560D1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6DDCB-A166-428F-980D-774AF56DF1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E3DD8-7BAB-410B-BE9B-9B7E840E7F4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BBD26-AFB5-4950-8B69-91C60E0D808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BF118-E9C8-48F1-B91B-F6DFA6CD00E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80BCB-9B89-4913-B769-73248B6E625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13A38-E5D2-429C-B367-32F8173E042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446AA-50D7-4B7D-9498-D449F366602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A7E625-EEE7-4E1B-8868-86A224A5C26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BF12AC-767F-4952-9DE1-374A424E3DA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CE7923-800E-4145-B530-2AB697F5F5E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D36F54-057A-4082-9C1D-55754E61656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799BD1-8421-4E63-81AC-ED98EFD5D9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8FEAC-0636-48E3-B510-EB00E906E99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36253D-446A-4453-A43F-8251BD37B53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861753-56C8-4F33-860E-15CC2D03006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7DACA2-4A0A-4D80-A2F2-AD8D0E81C3E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1195B6-235A-43BF-A77E-5EDD3B2F744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C41C0C-A059-4BB2-90FD-A1A92C95FCA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4CEC50-6BE9-4C1F-91BA-68FD0218DEF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1526DE-4753-4EEE-80F7-685A5C5B1A6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B79B58-5B5D-407A-AA8E-18D0F2E01CF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D201BD-8E61-4F6D-9D46-1A05A605260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C823B0-A2CC-4942-86FE-4661E2335F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20288-9B0B-4452-B46A-BBC4A7B23B4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FD34E0-6462-4818-A3A0-F31CD3659D4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ACB0DF-64E5-488C-BC9B-7FCDBD00349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E5FD3A-0A8B-475E-9B79-216770A54F6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52BFC5-1654-4E24-80D3-98632475564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62B675-294F-46D6-A4A8-04CB5A86480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82EFA8-8AFF-41F0-9879-04C0CE69303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DB35A7-048E-4DEA-8EAF-0F4F28C1E0A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A4A614-18A9-4A29-85D9-81A746446EB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A53D54-8309-4716-ADCE-900542DCBB0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8DFAD-532F-4F38-B7B2-7F2DAEF61E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2FD17-96B7-4D11-9E87-68BBFD2E1DE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45AF5-06DC-4416-9BBE-9B9203CBEF1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6F833-7D88-48C4-85AF-995DC2C6B9B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082FD-BB31-454A-AAE1-72D74194B30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C20DE-98A3-4052-ACB9-E6770229B2F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ED510-B5CD-4006-97DE-6B3A932D5F8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FBB23-45DC-4DAC-A91B-DF3AA9FA91A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BC517-CD05-44D4-B87D-743BE5E3FA9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73912-32D3-401C-97E9-CDE790738BC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3F9E5-F7F7-4FD1-B595-8BCDBDDF500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EE9C2-C5E5-4116-9FCC-070CEB4507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6A2FC-0748-4E1B-81A9-EDB1C289F00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BA117-6BD2-4692-8B07-C6ED93D878C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C3FBF7-B53E-48B7-95E9-64B2EA66C47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674607-DE47-43B9-8343-FAB08507E82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69E0CC-5109-47DE-A53B-9E841C944F7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7349E4-BEE9-48E7-AB4F-033DDE0D1D1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197D30-B5B1-44F1-82DD-38500632035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7EA2BD-2099-453E-819A-81D5C971E7B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AF1E1A-8E1B-4CCE-A53C-4BD4F888CF8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190716-D49D-4798-B7AE-67D1AED67E0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F32097-CF58-45D0-8151-04A6E19CD8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4261A-00E3-4688-B06B-7BE375572EF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F38233-13CD-48E7-A7FF-3D273549581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600FC1-5C0F-4E19-8B1F-E824F6D951B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A52399-C763-4FEF-B7A9-C0BC88CEBD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E2DDE-2F40-4795-BC27-9400BB0AF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48D21-1E31-4D9E-8828-F63725B167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BF3C8-CEA2-4938-9C0D-857DAFA69A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3DA21-0B1F-4C36-9605-E29477BD66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E34BA-0A24-477E-ABFE-27116429D1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8ACD7-AD0E-4B1A-B3F7-AA9A7206A48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3F66-2C07-432C-95D2-FEBBC2B560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CE89-7751-4021-8C7A-09DE15632E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D88A-A403-4661-923D-EA9A6D6161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EE55-3FFC-488E-8C6D-563CFC435C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7268-3845-4668-9AC6-C5AB0C4E96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CD769-71DA-4D31-803F-AEF40EB492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5696-7C18-47D3-9DA5-E2E87D2E77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DAB3-2AF0-45E4-850D-25E10694E3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9A7F-D220-47E7-87AE-6D7D8A0261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0D8E-4EF5-461F-AF92-ACB318AA7F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EBD4-7667-4780-86B1-81261AEF28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3CA1-5CF4-4F52-A278-4743FBF274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AFCB-05D9-402D-BE5A-6AED9601E0D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CFDBD-08E0-4763-A41E-D51BE2E3EF2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3E4E7-28C7-4739-BCB9-3E9D0703624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18BEF-A8A5-4F64-A8BE-B6A2211F8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3A04F-36D6-48ED-B96D-E411944DCA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52FD0-0554-4752-AD99-25C488F23C9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6F1C0-7A07-4D19-A588-924283F4689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815FC-8198-4002-A1DA-B418DFA2476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4499E-A370-4EBD-91B7-258F6FDC28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F6E40-DA6D-4D61-A18C-7B1075FC43E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B91B1-BEF8-46DC-9115-99D907817A6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B8A49-A9C7-48AE-B2A2-F45AF8E4BEC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FB7BB-8EF6-4FB0-84B0-159575F41F3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EB871-DCA2-42C8-9FF8-90854684922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B74BB-F22F-49BA-BD5F-C17704922A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795BB-2C59-4DE9-8017-B950D505865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960CC-B984-4A27-AF6E-C5E0EA48904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A556B-3061-44CA-BA7A-1159E697A4C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467B8-C147-4E59-B840-0E0394AA840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7B918-7EF8-4FF2-80C0-268CE6B6E3F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A2688-DC74-49B6-9362-AF0D2CD0B38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EF912-4135-4C3C-90E4-E833A516C87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0B466-CADE-404E-B622-48EA430AD40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A0147-9411-4987-9974-D49E5DC183A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1FD0E-5A2D-4098-BFAA-96FA8B3F817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7E2E4-F885-4018-BD60-E211889C5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736F0-BD43-4777-B63D-3FE83606FBB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242B2-6208-41A6-A28F-0B35217B1E9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04BD-88F2-4C7E-9103-81494D01E31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2887-E9C7-41BB-96F3-0F8CAF5545C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4DDF-4369-4D8C-8470-54BB72173EC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0109-9A2A-4714-B12A-75A57FC6255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65DB-822C-4C19-AEF5-416C78345C7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7F37-AA84-44A6-9750-192469C4C7C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EA53-A6FA-4417-A63D-D24AEE8CE4F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6F7E-F696-42C4-91D2-26DBA09005F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877F-4E01-441A-A5F2-25C6D41C1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3F5E0-6AAA-4B64-AEBF-05AB905678F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7E37-3618-48D2-B09A-2BF37DA6762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A897-F2C0-4884-8A3D-3EB30BFE298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E771-6F4F-4986-8722-23619CF5922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D72625-6B51-4122-ABF3-899FAA37B4F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6F1FC4-0F8A-443F-8886-4CA1F1FC582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CB152E-1ABC-418C-8326-686EBC7843E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27FBCD-613D-48A3-AF48-2AE075291DD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5EE583-FD1D-4F96-AD45-8ED414AF333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3249B0-24F9-455F-A372-45556438D40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536222-57BF-4041-9A32-A4065FF0F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69205-6F6D-40C0-88B1-B8EC319BB05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F075EC-FE6A-4865-B75A-7C3E0D39797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53F874-DFCB-4381-BAFC-9CCF71CE56D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1630E5-AC5C-42EA-9162-2235B0CE54D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5D4F3E-C714-4E0D-A15E-A6940154985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CFCD23-6840-4AA2-AFE9-7EB1EBFDED8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66F18-6CF4-4B34-8D8B-E83C736598E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F1EB3F-7AFB-4661-9146-C866E66F2AE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16D898-9CC5-4BB6-9350-218DE75D849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5CE3C-1CD0-45B2-A168-2F377211D41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D9D7A-3D38-49F1-8956-96A4764B1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4DC2B-1C73-4EEA-8922-5645DF5F6CE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766EB-7DFA-4074-87FD-15CEFD517C6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B07F05-C367-498C-B702-078CD32AE0D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22329-39D8-4346-AA9C-AAA6FCEC568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B14B63-E8C6-4B5A-8236-C3C8E2FA0D7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E7C675-7711-4D5B-B14E-C453D5300A5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5F096A-E480-4699-B931-65B8D869B79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7F962F-B940-498C-B797-8155C3AB9F6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77432-0D5C-4ABA-863E-0CC03462317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A62E1-A476-4675-BBE8-1E3A6D576A3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C85F5-3691-4489-A304-FA876F3F7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9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3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sldNum" idx="1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A9C62FB-0CAB-49E6-92EC-E2D789EFF1F2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81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482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483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5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486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490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sldNum" idx="10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8609090-5417-4BCC-9FC5-13FBBEA1F4E5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34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35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36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8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539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543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4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sldNum" idx="11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5677F33-AD4C-4043-B755-CB301408769C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87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88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89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1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592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596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7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sldNum" idx="12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BB3F250-F988-4854-8EE9-8897C05FD75E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641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42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4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45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8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649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0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PlaceHolder 1"/>
          <p:cNvSpPr>
            <a:spLocks noGrp="1"/>
          </p:cNvSpPr>
          <p:nvPr>
            <p:ph type="sldNum" idx="13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2ACB769-CD9F-4DE7-BEB3-94B2C81392E4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93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694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95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7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98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702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3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sldNum" idx="14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390E22D-6B1A-46F8-9C64-2D26E33AFCC2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46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747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748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0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751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755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6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sldNum" idx="15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19AE6D7-F478-4A6A-849B-51BD2B728771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99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800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801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3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804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808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9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PlaceHolder 1"/>
          <p:cNvSpPr>
            <a:spLocks noGrp="1"/>
          </p:cNvSpPr>
          <p:nvPr>
            <p:ph type="sldNum" idx="16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202D24C-98F4-4FDC-A285-00F65EAF78DD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7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8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9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2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66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sldNum" idx="2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4C950E0-7FA5-45FB-8A81-3CEC02D4068D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10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111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112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115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19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sldNum" idx="3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25A7EF1-BB09-4481-86D1-6550D1971FD8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63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164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165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7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168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72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sldNum" idx="4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CB693D9-B99B-409E-94EC-337220A227FA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16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217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218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0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221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225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sldNum" idx="5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A4E5F85-E89D-4488-B24A-0A14772EF9A2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69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270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271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3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274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278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sldNum" idx="6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5904C8D-7A85-49D3-9D29-720D5EBA271A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22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323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324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6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327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0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331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sldNum" idx="7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5A3FB6E-3D6E-4688-9004-D9271F27E68A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75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376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377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9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380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384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5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sldNum" idx="8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5B5C884-CED3-41A5-8B55-9AECCB7950B7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28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429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430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2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433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437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sldNum" idx="9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AC17211-1EFD-40EB-942C-645822F3A2D6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68200" y="2878200"/>
            <a:ext cx="84074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UY" sz="4400" spc="-1" strike="noStrike" u="sng">
                <a:solidFill>
                  <a:srgbClr val="000000"/>
                </a:solidFill>
                <a:uFillTx/>
                <a:latin typeface="Arial"/>
              </a:rPr>
              <a:t>TEMAS CONTROVERTIDOS EN LA APLICACIÓN DEL RÉGIMEN DE PRECIOS DE TRANSFER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103480" y="223920"/>
            <a:ext cx="67165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MISIÓN DE DE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ISLAS CAYM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79440" y="1981080"/>
            <a:ext cx="239220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Tr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084720" y="2133720"/>
            <a:ext cx="2603520" cy="1066680"/>
          </a:xfrm>
          <a:prstGeom prst="rect">
            <a:avLst/>
          </a:prstGeom>
          <a:solidFill>
            <a:srgbClr val="b2b2b2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FIDEICOM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724360" y="4114800"/>
            <a:ext cx="2955960" cy="1752480"/>
          </a:xfrm>
          <a:prstGeom prst="octagon">
            <a:avLst>
              <a:gd name="adj" fmla="val 29287"/>
            </a:avLst>
          </a:prstGeom>
          <a:solidFill>
            <a:srgbClr val="ff505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B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(Fiduciar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744640" y="2514600"/>
            <a:ext cx="3235320" cy="304920"/>
          </a:xfrm>
          <a:prstGeom prst="leftRightArrow">
            <a:avLst>
              <a:gd name="adj1" fmla="val 50000"/>
              <a:gd name="adj2" fmla="val 211225"/>
            </a:avLst>
          </a:prstGeom>
          <a:solidFill>
            <a:srgbClr val="00336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533680" y="1981080"/>
            <a:ext cx="398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misión de De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895480" y="2743200"/>
            <a:ext cx="2872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US$ 700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US$ 14 x br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7236000" y="327636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22280" y="3809880"/>
            <a:ext cx="5135400" cy="2210040"/>
          </a:xfrm>
          <a:prstGeom prst="roundRect">
            <a:avLst>
              <a:gd name="adj" fmla="val 16667"/>
            </a:avLst>
          </a:prstGeom>
          <a:solidFill>
            <a:srgbClr val="fde597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alificación “AAA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- Moody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- Standard &amp; Po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- Duff &amp; Phel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519280" y="371520"/>
            <a:ext cx="45007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MISIÓN DE DEU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VENTA COLATERAL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480" y="1892160"/>
            <a:ext cx="9144000" cy="17528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468520" y="1981080"/>
            <a:ext cx="239256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Tr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1830240"/>
            <a:ext cx="37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SLAS CAYMÁ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986440" y="2070000"/>
            <a:ext cx="26035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FIDEICOM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480" y="4629240"/>
            <a:ext cx="9144000" cy="1752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74680" y="4022640"/>
            <a:ext cx="40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.E. U.U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468520" y="4648320"/>
            <a:ext cx="2392560" cy="1447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665520" y="34290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102120" y="3840120"/>
            <a:ext cx="1055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ru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4861080" y="3200040"/>
            <a:ext cx="2673360" cy="2133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rot="19343400">
            <a:off x="4578480" y="3968640"/>
            <a:ext cx="2852640" cy="4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ancelación deu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rot="19343400">
            <a:off x="4882680" y="4343400"/>
            <a:ext cx="2830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US$ 90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1025640" y="162000"/>
            <a:ext cx="760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340000" y="404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OPERATORIA – FACTUR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306600" y="1978200"/>
            <a:ext cx="2322720" cy="4114800"/>
          </a:xfrm>
          <a:prstGeom prst="rect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728880" y="2287440"/>
            <a:ext cx="1478160" cy="3733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etrol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236760" y="1790640"/>
            <a:ext cx="23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613560" y="1978200"/>
            <a:ext cx="2322360" cy="411480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2193840"/>
            <a:ext cx="2109960" cy="4114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824520" y="2306520"/>
            <a:ext cx="19702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Tr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41120" y="4191120"/>
            <a:ext cx="20401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B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019920" y="1863720"/>
            <a:ext cx="319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slas Cay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190188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.E.U.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276880" y="2637000"/>
            <a:ext cx="15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5276520" y="2781360"/>
            <a:ext cx="14778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557680" y="2117880"/>
            <a:ext cx="11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ru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952880" y="320364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S$ 70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US$ 14 x br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111400" y="441972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181240" y="5029200"/>
            <a:ext cx="140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908000" y="3773520"/>
            <a:ext cx="15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S$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2180880" y="4419720"/>
            <a:ext cx="1336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181240" y="4876920"/>
            <a:ext cx="11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7246800" y="2743200"/>
            <a:ext cx="0" cy="2209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8302680" y="2819520"/>
            <a:ext cx="0" cy="213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rot="16221000">
            <a:off x="6602760" y="3412440"/>
            <a:ext cx="18259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S$ 70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rot="16221000">
            <a:off x="7407000" y="3585960"/>
            <a:ext cx="17524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7885080" y="1988640"/>
            <a:ext cx="0" cy="31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1195200" y="2060640"/>
            <a:ext cx="6684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187280" y="2060640"/>
            <a:ext cx="0" cy="23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rot="16221000">
            <a:off x="525960" y="2809800"/>
            <a:ext cx="12906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ru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125360" y="52513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125360" y="6165720"/>
            <a:ext cx="67550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7880400" y="5864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41120" y="6213600"/>
            <a:ext cx="2109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S$ 90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678720" y="5029200"/>
            <a:ext cx="223668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FIDEICOM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801880" y="476280"/>
            <a:ext cx="39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NCIDENCIA FI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08000" y="1879560"/>
            <a:ext cx="8640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9900"/>
              </a:buClr>
              <a:buFont typeface="Wingdings" charset="2"/>
              <a:buChar char="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TENCIÓN EN LA FU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MPUESTO A LAS  GANANCI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24000" y="5589720"/>
            <a:ext cx="8362800" cy="64260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Base Imponible: US$ 200 MILL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038480" y="4896000"/>
            <a:ext cx="533520" cy="838080"/>
          </a:xfrm>
          <a:prstGeom prst="downArrow">
            <a:avLst>
              <a:gd name="adj1" fmla="val 50000"/>
              <a:gd name="adj2" fmla="val 3927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838080" y="3173400"/>
            <a:ext cx="7391520" cy="1739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50 Millones de Barri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US$ 4 por barril (US$: 18 - 1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24000" y="47973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próx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79280" y="1941480"/>
            <a:ext cx="936000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XISTENCIA DE VINC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SELECCIÓN DEL MEJOR MÉT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>
              <a:lnSpc>
                <a:spcPct val="11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IPO Y CARACTERÍSTICAS DE LA OPERA-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CIÓN BAJO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>
              <a:lnSpc>
                <a:spcPct val="11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STED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>
              <a:lnSpc>
                <a:spcPct val="11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MÉTODOS TRADICIONALES VS. MÉTODO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DE UT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38200" y="1766880"/>
            <a:ext cx="813744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MPAR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NÁLISIS DE LA OPERACIÓN A TEST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FORMACIÓN  PARA EVALUAR EL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ANÁ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ISIS FUNCIONAL Y DE COMPAR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OCUMENTACIÓN RESPALDATORIA DEL ANÁLISIS DE COMPAR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NÁLISIS DE LAS CONDICIONES PAC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-757080" y="1857240"/>
            <a:ext cx="950580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504800" indent="-457200" algn="just">
              <a:lnSpc>
                <a:spcPct val="13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JUSTES A LA COMPARABIL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4800" indent="-457200" algn="just"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USO   DE  COMPARABLES   EXTERNOS   EN DESMEDRO DE LOS COMPARABLES INTER-NOS Y/O LO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4800" indent="-457200" algn="just">
              <a:lnSpc>
                <a:spcPct val="11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MPRESAS SELECCIONADAS COMO COMPA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4800" indent="-457200" algn="just">
              <a:lnSpc>
                <a:spcPct val="11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LECCIÓN DE LOS FACTORES DE RENTA-BILIDAD (P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2276640"/>
            <a:ext cx="9902880" cy="29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STUDIO DE PRECIOS DE TRANSFERENC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LIDAD DEL CONTENID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99ccff"/>
              </a:buClr>
              <a:buFont typeface="Arial"/>
              <a:buChar char="u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55640" y="2276640"/>
            <a:ext cx="734364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VENTAJAS DERIVADAS DEL CONTROL DE PRECIOS DE TRANSFERENC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UN CASO EMBLEMÁ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buClr>
                <a:srgbClr val="99ccff"/>
              </a:buClr>
              <a:buFont typeface="Arial"/>
              <a:buChar char="u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-18108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2176560" y="473040"/>
            <a:ext cx="671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CONTR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23840" y="2427120"/>
            <a:ext cx="3378240" cy="38102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04720" y="2744640"/>
            <a:ext cx="2392560" cy="327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etrol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09520" y="1790640"/>
            <a:ext cx="354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Garamond"/>
              </a:rPr>
              <a:t>Argent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203800" y="2722680"/>
            <a:ext cx="337824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203800" y="4667400"/>
            <a:ext cx="337824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732640" y="2811600"/>
            <a:ext cx="23922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Tr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656320" y="4827600"/>
            <a:ext cx="23922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153040" y="2079720"/>
            <a:ext cx="354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Garamond"/>
              </a:rPr>
              <a:t>Islas Caym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032440" y="4145040"/>
            <a:ext cx="35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E.E.U.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019320" y="299736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2943000" y="34290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095640" y="48690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3095640" y="537372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689280" y="2921040"/>
            <a:ext cx="119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cru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019320" y="3490920"/>
            <a:ext cx="273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US$ 70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(US$ 14 x br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548160" y="492588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S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081160" y="260280"/>
            <a:ext cx="645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OPERATORIA – DESTINO DE LA MERCADER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92040" y="1989000"/>
            <a:ext cx="2779920" cy="4572000"/>
          </a:xfrm>
          <a:prstGeom prst="rect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885960" y="2854440"/>
            <a:ext cx="1828800" cy="2590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etrol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95280" y="2079720"/>
            <a:ext cx="26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381640" y="2104920"/>
            <a:ext cx="2971800" cy="44197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533920" y="2344680"/>
            <a:ext cx="24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638440" y="429264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989440" y="3519360"/>
            <a:ext cx="239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ru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762520" y="3649680"/>
            <a:ext cx="221004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Ole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390760" y="473040"/>
            <a:ext cx="50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CONTRATO DE SW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80880" y="2274840"/>
            <a:ext cx="3378240" cy="2666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14400" y="2523960"/>
            <a:ext cx="2392200" cy="2057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etrol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90600" y="1841400"/>
            <a:ext cx="35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ARGET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181480" y="2274840"/>
            <a:ext cx="3378240" cy="2666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791320" y="2511360"/>
            <a:ext cx="2111400" cy="228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964040" y="1841400"/>
            <a:ext cx="35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aramond"/>
              </a:rPr>
              <a:t>E.E.U.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276720" y="285264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3276720" y="41497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728880" y="3197160"/>
            <a:ext cx="14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S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728880" y="2262240"/>
            <a:ext cx="14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US$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728880" y="4094280"/>
            <a:ext cx="14781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US$ “spo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95280" y="4838760"/>
            <a:ext cx="874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Precio “SPOT” es &lt; a us$ 18 “Petrolera Arg.”  Paga la Di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Precio “SPOT” es &gt; a us$ 18 “Banco EEUU” Paga la Di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Garamond"/>
              </a:rPr>
              <a:t>US$ 18 ==&gt; PRECIO DE CO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cilia</cp:lastModifiedBy>
  <dcterms:modified xsi:type="dcterms:W3CDTF">2013-07-18T15:53:08Z</dcterms:modified>
  <cp:revision>183</cp:revision>
  <dc:subject/>
  <dc:title>Diapositiva 1</dc:title>
</cp:coreProperties>
</file>