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B1DDA-8E6F-485D-8947-D26C2E6781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C98D-CA1D-4065-9ABA-14E5661B8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2031-C139-4074-8A67-6352610D493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E90E-E0B9-469C-BC8B-185D1198112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27B3-343E-4124-90DB-E2AC2C18EC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240C-3199-4D04-B14A-A6FD29F778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3545-E039-46AD-923D-E0AE395393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AF3D-0C5F-4958-A10F-90DDE4EA28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5110-1B51-45FF-943F-9A8B251C20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6D3D-1B98-4B50-B8E7-7217C9C819D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AAC2-989F-4A58-83CB-C863720DC7A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4CC0-2708-4292-B878-347F41F199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448018-478C-4E01-BFDE-018922876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85B3-D045-47B8-B764-3F51975263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14A37-D984-454D-ABEE-111FAF5F55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85264-0D04-4846-94B9-CB5524EBA3A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D21C6-C100-4C92-B55B-F996E94003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51664-0607-4013-A4D9-73180BCBF0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652B5-E575-4D5C-848F-297D13F361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D72E7-BEA9-4CF0-B8C7-7C2E09B9BDB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710C12-B1DF-4618-87C3-D0662F2717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177CE-6FE1-4E65-A766-A25E0C07D49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C51CC-BED5-4B0D-B5A0-B04221F997C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CC9A0-5895-4B6A-B436-3020D475A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9425-ED11-4974-AB53-9ECCD762E46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CE073-F205-4F28-8FC9-D68787C965C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361B4A-91E1-403F-BDE6-388E5EBC044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D9E5A-8056-4011-8388-D73981D8F5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E03C8-0256-43F5-8289-D11AC60B593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40D50-712F-4B68-AD1B-86C0FCAD9E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905CB-404A-4C5C-92BC-AA5165B650D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5F2C2-E25F-442D-9CAF-41FDF6971CA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C542F-5189-4F11-B69F-E1BEE72EB03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51B20-1F91-4414-9B06-8A3EE5E6B95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4B6EA-CE3E-42C9-8488-40B08621F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1175-68A2-4E89-807F-313343268FA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886EF-D3C5-4186-AEDA-4FC882674DF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232FA-BEB0-4450-BC90-BAF3092DC9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25D2B-28FC-4EDA-A194-F75F5DA98D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8EEAD-6E7B-4FF0-919C-FA272530F1B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46AA-26B2-4B22-8FAB-2698B810519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6D0C-57C7-49B6-92BE-BAF907CEADB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74792-B917-4C27-B336-AFD6FDA27C2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5A11-0AA5-472E-B3D7-5B10EFC61E3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6627A-628E-43B8-8BA3-77099DFF1E9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B8EE-83FE-4EFC-A8A6-BAFEC4AB9F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E7F6-2F75-4BF8-9647-E709EA92084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B0A84-3591-4B4C-A830-510E33E2F1A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D555E-A69A-49B6-AC81-AB0EBB19AD0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3A91-877F-4805-BDF5-49E7FBE6938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150E3-33B7-40EA-BB73-11BB46E3A2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A4F1-FFFA-41DC-8B52-600204936F0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AFADC7-1B73-4EB1-B1B3-6B46699D6FC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241F03-7FE3-43F0-8954-3FB16C65B4C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C6C9A-341D-4B0A-BC18-2514F02D44B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BD86E-60B5-4CD9-86CB-A71F38B7164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92B36B-195E-4730-973D-DFD2A657D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89EE-2954-43BF-A717-A91E4A8AC93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4B847A-EFFE-411C-8785-A6133E2D6FF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0516E8-C763-43CF-9223-9B7AAC944D3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C12FA5-86D9-4463-AB8A-8AAF1B1F2C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472364-90E2-4522-AF98-F5C2375A7E4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C5256-6A03-4ECE-8495-1407C9A4E8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D88F6E-E1AD-4183-A029-E8C12955E4F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3C40F8-E061-448D-9296-A4A39C82070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A3CC1-56E1-40DD-ACC1-225B20F1F49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4DF89-358A-497B-B0C6-83136384137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9970F-564C-4EBC-8DE2-3756CF17D9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2C9A-9D27-47DA-98FC-AFAA7BF2495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A979B-6F8E-4E0F-A6ED-FBB7214DE9C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FC545-658B-446E-9F37-6D5F883D467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C51CE-0870-4900-A8FE-6B4545F6F55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049F3-7DDA-42B8-B1D9-F94BE44F753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B282C-0995-4B7C-B7A1-3DE5A88A4EB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0B9F3-2A2C-4B04-A0BA-278653A254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33110-DEE4-4A97-A7CA-5CDC2B58A1F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1BC02-7D6C-4F61-B2B6-A82DD469E13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AEFF8-CA45-4CE7-9FE0-48A47F6565F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85BD9-AE5C-44F6-82D7-5C688717B5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79B7-62E4-4C64-863C-8B3D56AAE90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FE660-BF3D-4D91-8AC2-9F37F38FFC2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31D1C-E3E0-4CA4-BBD0-3AA0BD11200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A0FE5-BA4C-4536-8BFD-036D0BDE6A0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00E15-1BA5-4029-A1A5-B8B2938419E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F730-B203-4D2D-9B17-79BE08D3A0B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D9B9-9B3B-46EA-ADED-61E66E01356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493B-F73E-4941-B423-A576AEEB787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43D49-5F2E-4E7E-B148-DE0D6745538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D1FD1-8DA5-472A-8751-75DC1557C72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844C6-7949-4827-9CEA-F2D888D4CF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D8B1-F511-4C2B-B7D7-23079BBB61B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397DC-1CD5-4F36-8CFB-7D1FB721849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FCA677-B3A2-43AE-A997-68D0C3610FD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19E7EA-F0A0-4F52-87AD-58D0175A9B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E0E62B-BB5C-46B8-88C4-91FC83B8B09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DCD0E-C9D1-4463-84E9-CE04E3FB7B8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5BB1E6-82FC-49C5-A4D1-EF0794B7927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F9C75-F35A-4922-AA34-8515CC0C9AF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F5E47F-3CB8-4478-AF9A-3324B798CD8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F11221-19C0-4F49-A43F-DCD15F6E841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DB843D-FBAE-4DB6-962C-ADD0C22937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A52B-4B7E-48DD-8E50-1AEE942F49F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D2BB04-B4FC-41FC-866D-9489DCE4CAA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9D4515-2C62-4159-8681-8D302A112FD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2E8006-A60A-4F46-9B29-0C4737434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1118-E357-4870-B95F-29322018C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48D1-A22E-41F9-ADD7-E438CF8419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066F-8F80-4334-A49C-EBB012974A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755A-0CB9-44EF-8EFE-01E772B81B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3F23-0CC5-4250-9ABF-69477D0006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6850-14AD-4235-A8DA-6FBC398F30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899-846F-4F8B-976A-A85532897B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BEE-9F54-41D9-845F-8BCC3ACEB3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4A1-9A85-43F9-AABF-77B429DBC3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C88-E578-4240-B706-0EBA46DC79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CFD-037B-4C3C-944A-49F45E64D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FD5A-11CF-4533-9963-567B50C5AE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468-C149-45D1-84E0-207B186149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4F4-C95B-4683-BE54-11607B6F0D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662-3065-420D-8DF8-216D08A887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224-7751-460F-9195-33B226720D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9BB-0328-4357-9E7F-93274E909D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1AE-479D-41CE-86CA-8F289C4107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2E3-1476-4BCD-B00D-6C70E943F2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247D4-D18B-404B-AA8F-6D858A1B2F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AE4A3-D571-4727-B734-5A3FC036C6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3AB09-49D7-459F-8FCE-9865ED2F4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4487-C3BC-4811-910F-8EE479A9D0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5E2F8-4B6B-4D39-AC04-8B5223DDB9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C26DC-ED4E-42DA-B999-EC7B302610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8170C-1738-42D5-A936-A172AEC5C5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F8198-FB86-4641-8F48-7CE32ED797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9CB68-F8A1-4841-B665-9480CF02F4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F6086-A98E-4523-A3E8-BA5BBF5778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22241-04B5-4AA8-A722-FD3A602EAE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C4B53-F69E-4444-8131-7CB9FBCBEE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2CAD1-6FCE-4895-A553-8AFCDA5D72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8CC16-DA6F-4CD1-BDF0-EA4E13244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B949-9922-4609-8221-5E3D1746B6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A7EFE-0E45-4F33-910A-94EAA598A3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BCC02-0CEC-4951-BEB2-9CCDFF77AA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E7609-5C95-4CD5-9B7B-B3AA767D82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730E9-6A1B-448D-A4AE-739AA926966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A3A6E-ADD2-4EE4-A79B-74A2729899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48D3F-1DE6-46CE-8201-E886DEC2D0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65616-F6E0-4AFE-971D-9D47E050019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8734F-67CF-44CD-A870-1EA65D8A13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AD5B5-A7B3-4E62-BAE1-D83F1B6DF8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85C1C-4571-46AC-AEA0-5FA838CBD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8217-8F77-4227-B092-75FBC0606E5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BD158-6EBC-4B59-AFC6-6E5A0486E6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2325-8B83-4B08-8369-A095F2CB02A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4915-1117-4740-8BFC-386CAA0071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2EBA-DFDE-495D-B537-8CA23610218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BD16-8E6A-4009-9D8E-0D954F6D7A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8617-1731-4544-8899-CC7C3797FE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0099-C14F-4687-9BC8-E8A6C157EEE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E5C3-48EE-4680-8A43-F26CC0AEE8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46EE-61A6-40B7-AE7B-792F896BD3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DAD6-1D75-4C62-AB3D-C9D2EB5D4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FF60-5AC8-4E6B-8573-13DA95A5D92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1376-92C6-4502-B206-F35184B4E8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C64B-26DD-425E-953F-649B52A0BC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A30D-0CA3-4295-8655-3DC400F4E3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7E4C1-48D9-48E9-95C8-35A4E59CD3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D8D83D-43A7-499B-A114-266FC82FB6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F5FDA-B1D9-4F74-8998-C058A52DA6C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DFC17-3A1F-424F-8865-CD1C1E66ED9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5C23E-6501-499C-A45E-07C00A1EF8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CF9E4C-3707-4848-85AF-CF5D953496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3EAD1-F3E5-456C-9C5C-C367C9C5B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2D70-2FD7-494D-BFC3-DDF048A1E14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D0490-5F75-4FA5-947A-4D9AA5DCDA7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00A71-BF26-44FE-A9A8-BACDE646E9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18404-84EA-46B5-904A-91C6BB7795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0E48F-AF3F-40B3-8D57-D6A9719FD0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429BB-ED07-44A4-83F0-044123061AF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8785B-0C37-4E6A-9DD6-BE40B990457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62E9D-82CC-4CD7-90CE-A35A8E2C3B9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F402C-F9C0-455E-BAFF-03BD0EE9548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84857-8B0F-4CC8-8A47-8F2CC4B512F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2D277-4A79-441B-AB32-B3A81D2A3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91FB-F764-421F-B83E-9CD5BDD5A6A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66C0A-BCC8-4AFF-831C-6C6A91FD00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E2587-E3AB-438C-AB62-0F42A9E59F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50F98-5743-45ED-8916-9E4F98C3841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175FA-CC69-416C-9D19-0EF93D6433C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B6C1B-082A-4BE1-8FD6-9B3757ACC8D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93027-2306-464A-A89B-4FAA07903A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21BFD-9E3F-40D3-85D9-CFF5803B1B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84ED-19BE-4DE4-90B2-2BB79876FF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EFD9-C73C-492C-A16B-4345F1573D4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526C-26BC-43B9-880C-F0AE227A1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8748AE-16EC-48B3-89E8-41B81CE3AC9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B82E60-9195-41F4-B1D9-C5F2CB01BA9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70F451-F20B-4B96-A6AA-D975F5F50BD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4F6292-4447-4F69-BA42-A5D9AF6CF45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1B38CF-CBB1-4A1D-ADA6-DDB31EFA0FD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560F05-D0AC-4B11-A956-E9C49B89BE8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B393B2-2C82-4B29-88CB-9D68C9359A4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578595-23D7-4FAD-9CAA-086FE60E538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669977-0FD7-464C-8D72-B98839799F9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4EEBE7-DC28-4289-97DC-95F98F9E2A5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6C1197-696F-4C1F-B8D0-FE6399BB6CB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5763C7-A522-4FAD-B9DF-90C8622F686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68985D-2FA8-499F-A5A9-ADF8B24FA49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773573-2454-492D-85A1-A3C1D65F48E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579DE4-F30E-48AB-8682-7DBE03AF97A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D97736-5328-4A1C-BFF5-4F865A536CB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68200" y="2878200"/>
            <a:ext cx="84074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UY" sz="4400" spc="-1" strike="noStrike" u="sng">
                <a:solidFill>
                  <a:srgbClr val="000000"/>
                </a:solidFill>
                <a:uFillTx/>
                <a:latin typeface="Arial"/>
              </a:rPr>
              <a:t>TEMAS CONTROVERTIDOS EN LA APLICACIÓN DEL RÉGIMEN DE PRECIOS DE TRANS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103480" y="223920"/>
            <a:ext cx="67165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MISIÓN DE DE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ISLAS CAYM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79440" y="1981080"/>
            <a:ext cx="239220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084720" y="2133720"/>
            <a:ext cx="260352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724360" y="4114800"/>
            <a:ext cx="2955960" cy="1752480"/>
          </a:xfrm>
          <a:prstGeom prst="octagon">
            <a:avLst>
              <a:gd name="adj" fmla="val 29287"/>
            </a:avLst>
          </a:prstGeom>
          <a:solidFill>
            <a:srgbClr val="ff505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(Fiduci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744640" y="2514600"/>
            <a:ext cx="3235320" cy="304920"/>
          </a:xfrm>
          <a:prstGeom prst="leftRightArrow">
            <a:avLst>
              <a:gd name="adj1" fmla="val 50000"/>
              <a:gd name="adj2" fmla="val 211225"/>
            </a:avLst>
          </a:prstGeom>
          <a:solidFill>
            <a:srgbClr val="0033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198108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misión de De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2743200"/>
            <a:ext cx="2872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S$ 7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US$ 14 x b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723600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2280" y="3809880"/>
            <a:ext cx="5135400" cy="2210040"/>
          </a:xfrm>
          <a:prstGeom prst="roundRect">
            <a:avLst>
              <a:gd name="adj" fmla="val 16667"/>
            </a:avLst>
          </a:prstGeom>
          <a:solidFill>
            <a:srgbClr val="fde597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alificación “AA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- Moody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- Standard &amp; P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- Duff &amp; P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519280" y="371520"/>
            <a:ext cx="4500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MISIÓN DE DEU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ENTA COLATERAL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80" y="1892160"/>
            <a:ext cx="9144000" cy="17528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468520" y="1981080"/>
            <a:ext cx="239256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1830240"/>
            <a:ext cx="37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SLAS CAYM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986440" y="2070000"/>
            <a:ext cx="26035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480" y="4629240"/>
            <a:ext cx="914400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4680" y="402264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.E. U.U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468520" y="4648320"/>
            <a:ext cx="239256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665520" y="3429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102120" y="3840120"/>
            <a:ext cx="1055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861080" y="3200040"/>
            <a:ext cx="2673360" cy="2133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19343400">
            <a:off x="4578480" y="3968640"/>
            <a:ext cx="285264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ancelación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9343400">
            <a:off x="4882680" y="4343400"/>
            <a:ext cx="2830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US$ 9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1025640" y="162000"/>
            <a:ext cx="760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340000" y="40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OPERATORIA – FACTU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306600" y="1978200"/>
            <a:ext cx="2322720" cy="411480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28880" y="2287440"/>
            <a:ext cx="1478160" cy="373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36760" y="1790640"/>
            <a:ext cx="23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13560" y="1978200"/>
            <a:ext cx="2322360" cy="41148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2193840"/>
            <a:ext cx="2109960" cy="411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24520" y="2306520"/>
            <a:ext cx="19702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1120" y="4191120"/>
            <a:ext cx="2040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019920" y="1863720"/>
            <a:ext cx="31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slas Cay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190188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.E.U.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276880" y="2637000"/>
            <a:ext cx="15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276520" y="2781360"/>
            <a:ext cx="1477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57680" y="211788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952880" y="320364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7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US$ 14 x b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111400" y="44197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181240" y="5029200"/>
            <a:ext cx="140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908000" y="3773520"/>
            <a:ext cx="15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180880" y="4419720"/>
            <a:ext cx="1336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81240" y="487692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246800" y="274320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302680" y="28195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16221000">
            <a:off x="6602760" y="3412440"/>
            <a:ext cx="18259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7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rot="16221000">
            <a:off x="7407000" y="3585960"/>
            <a:ext cx="17524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7885080" y="1988640"/>
            <a:ext cx="0" cy="3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195200" y="2060640"/>
            <a:ext cx="668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187280" y="2060640"/>
            <a:ext cx="0" cy="23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rot="16221000">
            <a:off x="525960" y="2809800"/>
            <a:ext cx="1290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125360" y="5251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125360" y="6165720"/>
            <a:ext cx="6755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7880400" y="5864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41120" y="6213600"/>
            <a:ext cx="2109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9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78720" y="5029200"/>
            <a:ext cx="223668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801880" y="476280"/>
            <a:ext cx="39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CIDENCIA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08000" y="1879560"/>
            <a:ext cx="864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00"/>
              </a:buClr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ENCIÓN EN LA FU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PUESTO A LAS  GANANC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4000" y="5589720"/>
            <a:ext cx="8362800" cy="6426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Base Imponible: US$ 200 MILL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038480" y="48960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3173400"/>
            <a:ext cx="7391520" cy="1739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50 Millones de Barri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US$ 4 por barril (US$: 18 - 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24000" y="4797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próx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79280" y="1941480"/>
            <a:ext cx="93600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XISTENCIA DE VINC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ELECCIÓN DEL MEJOR MÉ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IPO Y CARACTERÍSTICAS DE LA OPERA-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CIÓN BAJO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STED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ÉTODOS TRADICIONALES VS. MÉTO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38200" y="1766880"/>
            <a:ext cx="81374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MPAR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ÁLISIS DE LA OPERACIÓN A TEST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FORMACIÓN  PARA EVALUAR EL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NÁ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SIS FUNCIONAL Y DE COMPAR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CUMENTACIÓN RESPALDATORIA DEL ANÁLISIS DE COMPAR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ÁLISIS DE LAS CONDICIONES PAC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-757080" y="1857240"/>
            <a:ext cx="950580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504800" indent="-457200" algn="just">
              <a:lnSpc>
                <a:spcPct val="13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JUSTES A LA COMPARABI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4800" indent="-457200"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O   DE  COMPARABLES   EXTERNOS   EN DESMEDRO DE LOS COMPARABLES INTER-NOS Y/O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4800" indent="-457200" algn="just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PRESAS SELECCIONADAS COMO COMPA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4800" indent="-457200" algn="just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LECCIÓN DE LOS FACTORES DE RENTA-BILIDAD (P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2276640"/>
            <a:ext cx="990288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STUDIO DE PRECIOS DE TRANSFERE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IDAD DEL CONTENID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99ccff"/>
              </a:buClr>
              <a:buFont typeface="Arial"/>
              <a:buChar char="u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5640" y="2276640"/>
            <a:ext cx="734364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VENTAJAS DERIVADAS DEL CONTROL DE PRECIOS DE TRANSFERENC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UN CASO EMBLE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buClr>
                <a:srgbClr val="99ccff"/>
              </a:buClr>
              <a:buFont typeface="Arial"/>
              <a:buChar char="u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-18108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2176560" y="473040"/>
            <a:ext cx="67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NT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3840" y="2427120"/>
            <a:ext cx="3378240" cy="3810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04720" y="2744640"/>
            <a:ext cx="2392560" cy="327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09520" y="179064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Garamond"/>
              </a:rPr>
              <a:t>Argent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203800" y="2722680"/>
            <a:ext cx="337824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203800" y="4667400"/>
            <a:ext cx="337824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732640" y="2811600"/>
            <a:ext cx="2392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656320" y="4827600"/>
            <a:ext cx="2392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53040" y="2079720"/>
            <a:ext cx="354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Garamond"/>
              </a:rPr>
              <a:t>Islas Caym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032440" y="414504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E.E.U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019320" y="299736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2943000" y="34290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95640" y="48690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3095640" y="53737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689280" y="2921040"/>
            <a:ext cx="119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cr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019320" y="349092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US$ 7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(US$ 14 x b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548160" y="492588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81160" y="260280"/>
            <a:ext cx="645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OPERATORIA – DESTINO DE LA MERCADER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92040" y="1989000"/>
            <a:ext cx="2779920" cy="457200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85960" y="2854440"/>
            <a:ext cx="1828800" cy="2590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95280" y="2079720"/>
            <a:ext cx="26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381640" y="2104920"/>
            <a:ext cx="2971800" cy="44197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33920" y="234468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638440" y="429264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989440" y="3519360"/>
            <a:ext cx="23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762520" y="3649680"/>
            <a:ext cx="221004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390760" y="473040"/>
            <a:ext cx="50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NTRATO DE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0880" y="2274840"/>
            <a:ext cx="3378240" cy="2666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14400" y="2523960"/>
            <a:ext cx="23922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90600" y="184140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ARGET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81480" y="2274840"/>
            <a:ext cx="3378240" cy="26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791320" y="2511360"/>
            <a:ext cx="2111400" cy="228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964040" y="184140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E.E.U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276720" y="285264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3276720" y="41497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728880" y="3197160"/>
            <a:ext cx="14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728880" y="2262240"/>
            <a:ext cx="14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US$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28880" y="4094280"/>
            <a:ext cx="14781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US$ “sp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5280" y="4838760"/>
            <a:ext cx="87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Precio “SPOT” es &lt; a us$ 18 “Petrolera Arg.”  Paga la Di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Precio “SPOT” es &gt; a us$ 18 “Banco EEUU” Paga la Di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Garamond"/>
              </a:rPr>
              <a:t>US$ 18 ==&gt; PRECIO DE C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3:08Z</dcterms:modified>
  <cp:revision>183</cp:revision>
  <dc:subject/>
  <dc:title>Diapositiva 1</dc:title>
</cp:coreProperties>
</file>