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dt" idx="17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sldNum" idx="18"/>
          </p:nvPr>
        </p:nvSpPr>
        <p:spPr>
          <a:xfrm>
            <a:off x="3849480" y="942660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DCE8C-6164-4D6E-8E92-29F6F07BD2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D3FEC-CA83-4DBC-9332-3087EF01E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1A8D-BCAE-4E46-8463-2642DB1C12B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69188-5310-4F98-90B4-53C026269C1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B818F-9D77-45A9-A65E-9B88A6A34C4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40251-1340-4F5C-842F-F971C6D7464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AC18B-28DA-4352-99E1-0703E0DADCE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8A873-5B6A-4120-8277-79F42E8B400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AB494-11B2-417F-932B-1E95B32B4A3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F043F-FC44-467A-8B64-4C0504DAE8D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CADD8-CF4F-4CB7-B51A-47B1262FDC2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B2471-6C9E-4D0F-A889-97231B45ADF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CABB8D-3A91-4F85-BDA9-47F2F7EB35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4A39D-15A2-4DB3-B450-A2FF60895B2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D3DE1A-88A0-487C-BC22-E69D0F44244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819D69-1614-434A-886C-7CB4ACA6BE1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A1D988-5F1D-47C0-B7B1-C232B9308CC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DF7450-0BAC-42C7-B9D7-927327B9943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236522-1104-4C6C-9122-01B913610B5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4822C4-CD6C-42BB-8EF5-083DA012212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BAAC0E-D654-4BD8-879C-B8696467F4B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C0ED37-3A5E-4DE2-BBDD-C605BACA52C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6EA812-B731-4715-8654-9E96B06B357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D836DF-0B75-485B-8EAB-53062DE15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D4DD-FC2F-41AA-82BC-DE7F91AD045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DB7B86-EC59-4210-AC7B-00448EEA6B0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828552-7EE8-4362-B686-7385D2F280C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522093-3477-4B23-8B02-4BC83E9E05D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80B3FE-6FBB-43D2-984C-94C00612276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1FEE65-B28A-426B-A06F-2CECBABDB82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C2E1BB-9A69-4D82-BDFF-CC862654C76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40DFA9-7BDB-4790-A65C-C227DD74795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3995C3-4CD2-4921-8F3C-E8C2A76F267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A5E6C6-C9AF-45BF-A0A7-A0DFCF9FBB8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CCEAAE-C118-4ACE-8C38-71B9D7C46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E5BCF-FC63-42EB-9ED4-00FAD37299F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E79798-7EF9-4D7D-88E0-AD4DB78E556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EC4B0A-5A0B-4DB5-9FD5-AF55EBFB7AF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286AA6-E75D-4D04-9D0E-A8654078968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6DF9A-27D3-4C34-BBE5-8893710467D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D8CBD-8C98-42BD-B1F6-8165CDCDA8F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610AE-3424-4491-8C2F-1633DAF39A4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E4475-0F42-4F5E-A5BA-4229186B747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C8ED9-2255-46C0-AD5A-A69B3EF2159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A92D4-3E2B-47CA-94DC-4EA132AE8FE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81496-71A8-4D4B-8848-7CAA75F6D1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CC711-6660-4491-AABD-A95563E638F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1E877-283F-4521-A6C3-1E3284E4065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38CDF-2132-4ACC-8577-4332426D9BE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EEFEF-A285-4271-852D-14598D453D7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B1FA3-3D31-4914-8967-61FEFB93A9E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6CC8C-3FB1-4587-9A56-DE607605D00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9D29C2-03F0-4B79-9FF8-4EA8566A6F6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52CA91-7BAC-4B54-AC42-18D30CD1FCD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AF3C12-D584-4BDB-9261-6078B10FEAF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D7B3EA-2876-42EC-9B59-84D3D5CF816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C2B3EF-04F0-47DE-BBCF-B1402F853A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9EDDF-2E3C-42F3-9199-36416ABABE7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47E783-56D6-4869-BD54-BFEAEC846A7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F19B2F-75AC-46C4-A1FE-58D031E8F53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54E1F0-261C-44CB-9F54-AA574D75E78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DD2F83-B41B-4D5F-867E-98979B8ABB8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92ECDC-5510-4E98-BB13-6B02254E484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BBFE0F-6D1C-4959-807C-0C6A1383807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F9D43D-B7EB-4D8C-A37E-9293C1B4DCF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C6DA36-1784-44BB-87EB-AE508F73BF2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3C8F67-FD13-46AC-B5E1-2C9E8BFBCA5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D33240-707E-4FEC-8A0C-DCFB5C3019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FB2ED-10DD-49D4-9953-82789642C06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A7AC55-7BA4-4CBD-895B-BA018ED44C8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61AA0D-7A98-4BEC-A609-18A0247AD15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F3DF86-EB15-4823-BA8A-5281A61576D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A6DA46-8BBC-4EC8-B540-E1494170DDF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573A46-B44D-4C48-9419-36DCB371064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EBB9D3-26DC-45EE-BAAC-5DB4D5CBCD8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06CD04-B9D0-4007-BCF6-D4B9F5D48DE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D5AD24-DEC9-4011-823F-23CFFF5B0A5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AA8B62-FD73-4C2B-9C51-F38534AE648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DF177-1E74-4B40-9C69-22080F9F01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BD806-3DE1-4448-B44F-FCB6BD19A1C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D601A-560F-457C-BCFB-085DA01D6F4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2C565-631D-45AF-B7D2-93BC1D0B9CA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7A2DC-9A72-4EDE-93D9-89236A7B7A3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E752E-041A-4989-9790-DAD5CC43D41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BCB7B-27B7-4E86-8D7A-06202CB65C3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65614-6F9F-48CF-A337-A27A9292341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A5567-2457-461B-A8B2-DCFD4D49D96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F9827-7974-4BA8-BB89-450089DD705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463B3-A1CC-471E-BB88-366221684E8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6C8DA-025A-4DDE-92FC-57ECEA37ED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488AC-9624-4AFD-9019-F77BDD90E47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92ABD-B59F-4491-A87D-75A975475AB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6E17A1-FB4C-4BD6-BF1D-738B5CFBABE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C23593-8575-48FD-944F-B7EDF043886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352C19-BB63-4525-B45B-E68109EE1AE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614501-84A5-4476-8CC6-7094A12332E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EFA748-CD6A-4E29-9F34-EB9F15FB6BF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5476AA-9E0C-4124-8633-D03166D4CA5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C15C20-9BA2-4065-8BBF-C84C2B9697C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34462C-7F3D-4BB4-B44A-A9964C89259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03BC62-1601-4BC3-A4E5-8897913F74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20A7D-BA87-4991-8BAA-9130AF04F09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4C0E6D-10CC-489D-A40F-508C204B62A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1E7B15-BD37-41B2-91D7-5909D2FF01B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F8FAFC-E0BD-494E-B126-579044FE03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7E070-E9C2-4013-9FA8-7BF686DD02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CE413-3B53-40B7-982C-B133334D5F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CFD28-103D-492A-BDD4-F97D29CE0D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5329E-B39A-40EC-B447-15D1C01A23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1EAEE-D907-4F5C-B414-803B05E0A3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7EC35-2757-4057-A49A-5652AA5D8E7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EFA3-2071-4FA9-BF4A-5E2D462997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1E08-18F0-44AA-AA4B-0FFCD3BE87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3253-422C-4ABB-8B09-F07DE6016C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DE03-12E3-45D2-BBC9-A8D7E62FA2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B321-E1BD-4F89-B457-1458C276A0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07784-5344-4E63-89CF-310B758482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B851-0388-4773-AA14-87CB40FFBC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3DF5-823B-418C-A764-EFF2452134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8077-7B39-459D-8C24-DA96CB78A9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F45-EE2A-46B1-9E02-39D53CF5A6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EAC1-DAD7-47A8-9303-E42233F6B0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53D4-9F58-4FEC-B424-886B54E493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E6F4-ABE2-4D22-AC3A-B03EA835681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18795-9ADA-4A97-B1B4-263B2022FEF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8268C-2F90-4070-97E6-964D093EDA5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1A231-4394-48D8-9C3C-98E3C77D3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7B414-51D8-429A-B3DC-EC6E1940C0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6D979-42EB-4B64-B258-64A6C2BC2A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84C00-528B-4F24-BD3A-D1BBC0DA01A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321BD-5D6E-49B9-BD50-B65775A4A2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EF90A-3E6F-4640-860A-63F2CF3A745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FB74C-6537-4E19-B2AC-C540168556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54864-F076-4E3F-ACAC-538727F879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AA180-0ABD-4D0E-9E01-30B2F143383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BEE3D-E6A6-478B-B7D3-9EAF5231E8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448B5-DCE4-4654-ABAB-1A85F1EDE82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5BE9A-F3EC-49FF-8A7B-C94C4F85FE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077F-7FD6-43D3-BDC9-E9A721694E3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21FE6-1C7A-4AEE-BAB8-89D3CC5DED7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08E0E-355C-4960-AC0E-9205E093C75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D1960-9E24-4FD5-88C3-0D24B23CED0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D5EBC-B7B1-4E6E-A8A3-CEF576640D2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56527-58A5-4DB4-98D7-DF18D4EEB8E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B54F1-80BE-4365-834B-66451B15E01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2851A-BE5E-452A-A2F2-9F13FF687CE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514CE-2DCC-4985-A528-11CCBAB3DDC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5665B-EB27-41C7-9EA6-191BC298176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69626-1187-40B1-ABA4-BB395E100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32AD-F375-417B-83FD-2CE0CB21783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091E9-F888-4667-AA6D-3B59521258C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E208-2D99-4DED-8449-02949D29EA2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D04D-D380-411C-931D-1857E4EA6C9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C29F-FEB2-452D-B779-0BED3110372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9B8A-76D7-4548-958E-070A84CD474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2D24-6C29-4217-BF58-FE51E517357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D88D-344B-42F3-B42E-31FABA83010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BD36-BC04-48CC-B117-442B799A247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C19F-301A-4A48-88EF-DDB367C38A5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4B5C-7FB0-4CB3-B52A-1AD999CB9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98DCB-0221-4F95-B4DE-2F227D7A63B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1830-5D74-4110-9B93-B9D00C01E95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434E-790D-42EA-8BC4-EC2D1DF775B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1F9D-32C7-4714-AC76-E8D1E25F2C1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A1BACE-062A-4739-B687-86835BFBD4C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F85416-5AC5-4CE9-A9DD-236BA968833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57F8C5-A89C-4409-8824-67AD884487F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2547DD-416A-4583-B1BB-F6AA3656F89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163544-8D30-457D-912B-E9B7F8A6437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B75FB9-CD9C-4747-AEFB-7DC3EEDEF9F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0EA2F3-2E90-414A-925F-CD56B15FC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98BE7-8FC1-4077-9BCF-222B5538BBC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48CB02-E788-4CA0-A486-EC4C311F528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C1F288-1AF2-4735-9D50-7E93EF389CC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012290-DAF4-4D2A-B8F7-AD393ADC2CC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E894F3-260A-4E98-ACA6-628A50B8702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CA7981-777D-4F7A-993B-4B6D7CDAA79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4379C-6E3E-4B63-87AB-28E6708A048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4E664-C772-4223-978D-7E3D53BCC10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33E22-CEB6-44B5-A8DE-F3C6EED06E0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4E594E-D234-4CA6-8EDB-844E657A449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999FAA-677B-4B43-8B23-0222E4E34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DDFD4-C70D-4D19-82F1-7EA8A3977F5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1D238-5146-42AD-A714-734ACE93765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FA6B5D-B57C-4547-ADB0-19DD40C1F0C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1621E5-9A4B-4B6D-AE7C-92F860A1781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5A1BE-3CA6-4EBD-A28B-0D6BFADCB2B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D26E22-9A3C-4418-A066-D05040D02FC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B1279-3413-45E9-A907-159747F1F26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1BB245-D3E8-46F4-9CBE-ED5AED88EA8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04ACB-398D-439C-8B9C-92280EEA9FB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60158-7928-4EA3-9A3C-A28D4682AC3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E417B-472F-4B0D-B66B-DCB10DAB8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9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3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sldNum" idx="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9510CE2-4125-46E8-8C95-DAAC56767534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81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82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83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5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86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90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sldNum" idx="10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B26785A-2B6A-473D-B7CE-F29F0DA092BB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34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35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36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8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39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43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sldNum" idx="1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8BA314E-8AB6-4EF7-817E-137F502CB0B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87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8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89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1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92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96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7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sldNum" idx="1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917E9DE-4D91-4497-A60F-5E906AE94B2E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41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42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4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45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8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49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PlaceHolder 1"/>
          <p:cNvSpPr>
            <a:spLocks noGrp="1"/>
          </p:cNvSpPr>
          <p:nvPr>
            <p:ph type="sldNum" idx="1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811C653-07D9-4BBE-909B-C99961E3A7B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93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94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95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7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98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02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sldNum" idx="1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F7203C1-9A37-4A01-A1BE-7FEF81C7F887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46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747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748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0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751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55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6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sldNum" idx="1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90268E3-A103-419B-BA52-D6633009CE28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99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800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801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3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804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808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9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sldNum" idx="1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EAE63E3-BC5E-4EE4-B3AF-B3C5FA2261B0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7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9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2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6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sldNum" idx="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54295C6-998E-44D3-BA6C-AC5BE535A0DF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10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11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15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19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sldNum" idx="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4C10A0E-EA88-40B2-A66D-050969B6470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63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64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65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68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72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sldNum" idx="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B8290A9-DDBE-4DF4-8021-E772B0D3E014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16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17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18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0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21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25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sldNum" idx="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0F50848-D851-4933-AF9A-A15443688435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69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70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71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3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74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78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sldNum" idx="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55F8230-47AF-427F-9B3E-E512FA1A7FD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22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23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24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6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27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31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sldNum" idx="7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3E968E8-4522-486E-AE4D-C2BEBE198A63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75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76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77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9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80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84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sldNum" idx="8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4692C4F-B3F0-444D-8B60-03F92A15C67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28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29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30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2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33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37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sldNum" idx="9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B8A477B-C570-4CDC-AAEA-60254930E280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368280" y="60580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57AD2-01AB-49E9-B12E-CFB165E7E0B8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24000" y="1413000"/>
            <a:ext cx="842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UJETOS ALCAN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9280" y="1989000"/>
            <a:ext cx="842508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IDENTES EN EL PAÍS QUE REALICEN OPERACIONES CON ESTABLECIMIENTOS ESTABLES DEL EXTERIOR DE  SU TITULAR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IDENTES TITULARES DE ESTABLECIMIENTOS ESTABLES EN EL EXTERIOR, POR LAS OPERACIONES QUE ESTOS ÚLTIMOS EFECTÚEN CON ENTIDADES VINCULADAS DEL EXTERIOR SEGÚN ARTS. 129 Y 130 DE LA LEY DEL IMP A LAS GANANCIAS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41360" y="368280"/>
            <a:ext cx="7751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24000" y="1413000"/>
            <a:ext cx="842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OPERACIONES ALCANZ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971640" y="0"/>
            <a:ext cx="7162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50920" y="1700280"/>
            <a:ext cx="8424720" cy="45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MPRA-VENTA DE BIENES TANG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MPRA-VENTA O CESIÓN DE USO DE BIENES INTANG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STACIÓN DE SERVICIOS DE CUALQUIER TIPO O NATURAL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STACIONES FINANCIE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9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9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24000" y="1413000"/>
            <a:ext cx="842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OTROS ASPECTOS GEN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4000" y="1989000"/>
            <a:ext cx="8351640" cy="38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RGA DE LA PRUEB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RMA VS. REALIDAD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CIOS DE TRANSFERENCIA Y VALORACIÓN ADUAN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68360" y="1484280"/>
            <a:ext cx="431964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OTROS ASPECT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04920" y="1724040"/>
            <a:ext cx="935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9144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24000" y="2089080"/>
            <a:ext cx="828036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ANGO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ando existan dos o más transacciones comparables, el rango de mercado será el rango intercuartil de precios, de los montos de las contraprestaciones o de los márgenes de ut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ÁLCULO D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ajuste debe efectuarse contra el valor que corresponde a la mediana disminuida o incrementada en un 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9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68360" y="1484280"/>
            <a:ext cx="431964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OTROS ASPEC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04920" y="2276640"/>
            <a:ext cx="8299440" cy="47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ARTE A TESTEAR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ujeto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MPUTACIÓN D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gú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justificación efectu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9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9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9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9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24000" y="1413000"/>
            <a:ext cx="842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MÉTO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66680" y="458640"/>
            <a:ext cx="80074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95280" y="1484280"/>
            <a:ext cx="8424720" cy="47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Garamond"/>
              </a:rPr>
              <a:t>-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CIO COMPARABPE ENTRE PARTES INDEPENDIENTES (Comparable Uncontrolled Price - C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PRECIO DE REVENTA ENTRE PARTES INDEPENDIENTES  (Resale Pr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COSTO MÁS BENEFICIO (Cost Plus - C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DIVISIÓN DE GANANCIAS (Profit Split Meth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MARGEN NETO DE LA TRANSACCIÓN (Transactional Net Margin - T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68360" y="1484280"/>
            <a:ext cx="431964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MÉTO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24000" y="3716280"/>
            <a:ext cx="1800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2195640" y="3068280"/>
            <a:ext cx="64764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195640" y="3933720"/>
            <a:ext cx="647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906560" y="2708280"/>
            <a:ext cx="2305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DICION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403280" y="4941720"/>
            <a:ext cx="273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 TRADIC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284720" y="2419200"/>
            <a:ext cx="71280" cy="12970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4284720" y="4363920"/>
            <a:ext cx="71280" cy="12970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427640" y="2276640"/>
            <a:ext cx="4392360" cy="14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ECIO COMPARABLE ENTRE PARTES INDEPEN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7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ECIO DE RE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7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STO MÁS BENEF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500720" y="4508640"/>
            <a:ext cx="410364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VISIÓN DE GANA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RGEN NETO DE LA TRAN-SAC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50920" y="1484280"/>
            <a:ext cx="597672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PRINCIPIO DEL MEJOR MÉTO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04920" y="260280"/>
            <a:ext cx="935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9144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04920" y="2295360"/>
            <a:ext cx="837072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existe orden de prelación metod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Debe aplicarse el MEJOR MÉTODO, el que mejor refleje la realidad económ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+ Mejor compatibilice con la estructura empresarial y co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+ Cuente con la mejor cantidad y calidad de inform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+ Contemple el mayor grado de compar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+ Requiera el menor nivel de ajuste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0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0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68360" y="1484280"/>
            <a:ext cx="431964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MÉTODO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284720" y="2276640"/>
            <a:ext cx="71280" cy="129672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284720" y="4219560"/>
            <a:ext cx="71280" cy="12970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Box 5"/>
          <p:cNvSpPr/>
          <p:nvPr/>
        </p:nvSpPr>
        <p:spPr>
          <a:xfrm>
            <a:off x="368280" y="2133720"/>
            <a:ext cx="2835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C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Resultado Br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Gastos Ope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Resultado Ope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Gastos no ope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Impue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Resultado N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traight Connector 7"/>
          <p:cNvSpPr/>
          <p:nvPr/>
        </p:nvSpPr>
        <p:spPr>
          <a:xfrm>
            <a:off x="471600" y="30718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traight Connector 8"/>
          <p:cNvSpPr/>
          <p:nvPr/>
        </p:nvSpPr>
        <p:spPr>
          <a:xfrm>
            <a:off x="471600" y="36450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traight Connector 9"/>
          <p:cNvSpPr/>
          <p:nvPr/>
        </p:nvSpPr>
        <p:spPr>
          <a:xfrm>
            <a:off x="471600" y="57862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ight Arrow 10"/>
          <p:cNvSpPr/>
          <p:nvPr/>
        </p:nvSpPr>
        <p:spPr>
          <a:xfrm>
            <a:off x="3559320" y="3240000"/>
            <a:ext cx="914400" cy="27648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ight Arrow 11"/>
          <p:cNvSpPr/>
          <p:nvPr/>
        </p:nvSpPr>
        <p:spPr>
          <a:xfrm>
            <a:off x="3559320" y="4307040"/>
            <a:ext cx="914400" cy="2761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Box 12"/>
          <p:cNvSpPr/>
          <p:nvPr/>
        </p:nvSpPr>
        <p:spPr>
          <a:xfrm>
            <a:off x="4500720" y="3068640"/>
            <a:ext cx="340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cc"/>
                </a:solidFill>
                <a:latin typeface="Arial"/>
                <a:ea typeface="Arial"/>
              </a:rPr>
              <a:t>2) Precio de re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cc"/>
                </a:solidFill>
                <a:latin typeface="Arial"/>
                <a:ea typeface="Arial"/>
              </a:rPr>
              <a:t>3) Costo más benef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Box 13"/>
          <p:cNvSpPr/>
          <p:nvPr/>
        </p:nvSpPr>
        <p:spPr>
          <a:xfrm>
            <a:off x="4479840" y="4094280"/>
            <a:ext cx="43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cc"/>
                </a:solidFill>
                <a:latin typeface="Arial"/>
                <a:ea typeface="Arial"/>
              </a:rPr>
              <a:t>4) División de gana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cc"/>
                </a:solidFill>
                <a:latin typeface="Arial"/>
                <a:ea typeface="Arial"/>
              </a:rPr>
              <a:t>5) Margen neto de la trans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Box 14"/>
          <p:cNvSpPr/>
          <p:nvPr/>
        </p:nvSpPr>
        <p:spPr>
          <a:xfrm>
            <a:off x="4479840" y="1989000"/>
            <a:ext cx="43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cc"/>
                </a:solidFill>
                <a:latin typeface="Arial"/>
                <a:ea typeface="Arial"/>
              </a:rPr>
              <a:t>1) Precio comparable entre partes indepen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traight Connector 9"/>
          <p:cNvSpPr/>
          <p:nvPr/>
        </p:nvSpPr>
        <p:spPr>
          <a:xfrm>
            <a:off x="458640" y="42210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0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/>
          <p:nvPr/>
        </p:nvSpPr>
        <p:spPr>
          <a:xfrm>
            <a:off x="1835280" y="404640"/>
            <a:ext cx="676908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 COMPARABLE ENTRE PARTES INDEPENDIE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9144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566720" y="443700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L PRECIO QUE SE HUBIERA PACTADO CON O ENTRE PARTES INDEPEN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7256520" y="3213000"/>
            <a:ext cx="431640" cy="43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711440" y="3213000"/>
            <a:ext cx="433440" cy="432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990720" y="2637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VINCU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246720" y="26370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INDEPEN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135080" y="3716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51800" y="3716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646360" y="3429000"/>
            <a:ext cx="3745080" cy="0"/>
          </a:xfrm>
          <a:prstGeom prst="line">
            <a:avLst/>
          </a:prstGeom>
          <a:ln w="15228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96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9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02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07" dur="2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10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13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2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68360" y="1557360"/>
            <a:ext cx="3024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50920" y="2133720"/>
            <a:ext cx="8351640" cy="37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TEXTO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CIÓN Y ORIGEN DE LOS PRECIOS DE TRANS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ORTANCIA DE LOS PRECIOS DE TRANS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ADMINISTRACIONES FISCALES Y LOS PRECIOS DE TRANS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1332000" y="54936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 DE REVENT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09480" y="1119240"/>
            <a:ext cx="75265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95280" y="4303800"/>
            <a:ext cx="828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L QUE SURJA DE MULTIPLICAR EL PRECIO DE REVENTA DE TRANSACCIONES INDEPENDIENTES POR EL RESULTADO DE DISMINUIR DE LA UTILIDAD EL PORCENTAJE DE GANANCIA BRUTA QUE HUBIERA SIDO PACTADO CON O ENTRE PARTES INDEPENDIENTES EN TRANSACCIONES COMPAR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399440" y="2997360"/>
            <a:ext cx="453960" cy="43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782720" y="2852640"/>
            <a:ext cx="453960" cy="432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826920" y="2133720"/>
            <a:ext cx="21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IMPORTACIÓN VINCU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300720" y="2205000"/>
            <a:ext cx="264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VENTA A INDEPEND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279440" y="34290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896160" y="35002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224160" y="3357720"/>
            <a:ext cx="3178080" cy="1440"/>
          </a:xfrm>
          <a:prstGeom prst="line">
            <a:avLst/>
          </a:prstGeom>
          <a:ln w="15228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367080" y="2637000"/>
            <a:ext cx="28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% UTILIDAD BR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079800" y="2276640"/>
            <a:ext cx="0" cy="201600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372360" y="2276640"/>
            <a:ext cx="0" cy="201600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39640" y="5516640"/>
            <a:ext cx="813600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. DE REVENTA (1 -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GCIA. BRUT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) = PRECIO COMP. DE LA IMP VINCULAD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        VTAS N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33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36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39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44" dur="2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47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50" dur="2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70" dur="2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772720" y="57636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COSTO MÁS 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198360" y="4221000"/>
            <a:ext cx="847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L QUE SURJA DE MULTIPLICAR EL COSTO DE LOS BIENES, SERVICIOS U OTRAS TRANSACCIONES POR EL RESULTADO DE ADICIONAR A LA UNIDAD EL PORCENTAJE DE GANANCIA BRUTA APLICADO CON O ENTRE PARTES INDEPENDIENTES EN TRANSACCIONES COMPAR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7399440" y="2781360"/>
            <a:ext cx="431640" cy="43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566720" y="2852640"/>
            <a:ext cx="432000" cy="43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30360" y="19558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STO DEL BIEN O SERVICIO INDEPEN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391440" y="1989000"/>
            <a:ext cx="25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XPORTACIÓN A VINCUL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063800" y="3357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680160" y="33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RECIO EX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224160" y="2997360"/>
            <a:ext cx="3024360" cy="0"/>
          </a:xfrm>
          <a:prstGeom prst="line">
            <a:avLst/>
          </a:prstGeom>
          <a:ln w="1522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367080" y="242100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% UTILIDAD BR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079800" y="1989000"/>
            <a:ext cx="0" cy="201636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391440" y="1989000"/>
            <a:ext cx="0" cy="201636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95280" y="5445000"/>
            <a:ext cx="8424720" cy="618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STO (1 +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GANANCIA BRUT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) = PRECIO COMP. DE LA EXP VI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STO DE V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5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8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01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06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09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12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2" dur="2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304920" y="1652760"/>
            <a:ext cx="93596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9144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8360" y="4005360"/>
            <a:ext cx="826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LA QUE RESULTE DE APLICAR PARA LA ASIGNACIÓN DE LAS GANANCIAS OBTENIDAS ENTRE PARTES VINCULADAS, LA PROPORCIÓN EN QUE HUBIERAN SIDO ASIGNADAS ENTRE PARTES INDEPEND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QUI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DETERMINACIÓN DE LA GANANCIA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SIGNACIÓN DE LA PORCIÓN DE GANANCIA GLOBAL EN FUNCIÓN DE ACTIVOS, COSTOS Y GA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1638360" y="2637000"/>
            <a:ext cx="6408720" cy="792000"/>
            <a:chOff x="1638360" y="2637000"/>
            <a:chExt cx="6408720" cy="792000"/>
          </a:xfrm>
        </p:grpSpPr>
        <p:sp>
          <p:nvSpPr>
            <p:cNvPr id="1086" name=""/>
            <p:cNvSpPr/>
            <p:nvPr/>
          </p:nvSpPr>
          <p:spPr>
            <a:xfrm>
              <a:off x="1638360" y="2637000"/>
              <a:ext cx="6408720" cy="792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647800" y="2820960"/>
              <a:ext cx="432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Times New Roman"/>
                </a:rPr>
                <a:t>G A N A N C I A   G L O B A 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1422360" y="2637000"/>
            <a:ext cx="1727280" cy="792000"/>
            <a:chOff x="1422360" y="2637000"/>
            <a:chExt cx="1727280" cy="792000"/>
          </a:xfrm>
        </p:grpSpPr>
        <p:sp>
          <p:nvSpPr>
            <p:cNvPr id="1089" name=""/>
            <p:cNvSpPr/>
            <p:nvPr/>
          </p:nvSpPr>
          <p:spPr>
            <a:xfrm>
              <a:off x="1422360" y="2637000"/>
              <a:ext cx="1727280" cy="792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432160" y="2821680"/>
              <a:ext cx="71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Times New Roman"/>
                </a:rPr>
                <a:t>G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3295800" y="2637000"/>
            <a:ext cx="1799640" cy="792000"/>
            <a:chOff x="3295800" y="2637000"/>
            <a:chExt cx="1799640" cy="792000"/>
          </a:xfrm>
        </p:grpSpPr>
        <p:sp>
          <p:nvSpPr>
            <p:cNvPr id="1092" name=""/>
            <p:cNvSpPr/>
            <p:nvPr/>
          </p:nvSpPr>
          <p:spPr>
            <a:xfrm>
              <a:off x="3295800" y="2637000"/>
              <a:ext cx="1726920" cy="792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296880" y="2820960"/>
              <a:ext cx="179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Times New Roman"/>
                </a:rPr>
                <a:t>N A N C I 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5095800" y="2637000"/>
            <a:ext cx="1150560" cy="792000"/>
            <a:chOff x="5095800" y="2637000"/>
            <a:chExt cx="1150560" cy="792000"/>
          </a:xfrm>
        </p:grpSpPr>
        <p:sp>
          <p:nvSpPr>
            <p:cNvPr id="1095" name=""/>
            <p:cNvSpPr/>
            <p:nvPr/>
          </p:nvSpPr>
          <p:spPr>
            <a:xfrm>
              <a:off x="5170320" y="2637000"/>
              <a:ext cx="999720" cy="792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095800" y="2820960"/>
              <a:ext cx="11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Times New Roman"/>
                </a:rPr>
                <a:t>G L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6103800" y="2637000"/>
            <a:ext cx="2305080" cy="792000"/>
            <a:chOff x="6103800" y="2637000"/>
            <a:chExt cx="2305080" cy="792000"/>
          </a:xfrm>
        </p:grpSpPr>
        <p:sp>
          <p:nvSpPr>
            <p:cNvPr id="1098" name=""/>
            <p:cNvSpPr/>
            <p:nvPr/>
          </p:nvSpPr>
          <p:spPr>
            <a:xfrm>
              <a:off x="6319800" y="2637000"/>
              <a:ext cx="2089080" cy="792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103800" y="2821680"/>
              <a:ext cx="13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Times New Roman"/>
                </a:rPr>
                <a:t>B A 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1855800" y="349992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EMP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656160" y="349992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EMP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238720" y="349992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EMP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6823080" y="349992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EMP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774160" y="576360"/>
            <a:ext cx="40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DIVISIÓN DE GANANC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1257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840320" y="628560"/>
            <a:ext cx="57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MARGEN NETO DE LA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95280" y="4292640"/>
            <a:ext cx="81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MARGEN DE GANANCIA OPERATIVA APLICABLE A LAS TRANSACCIONES ENTRE PARTES VINCULADAS QUE SE DETERMINA PARA GANANCIAS OBTENIDAS POR ALGUNA DE ELLAS EN TRANSACCIONES COMPARABLES, O EN TRANSACCIONES COMPARABLES CON INDEPEN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495440" y="2637000"/>
            <a:ext cx="433440" cy="93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1279440" y="2133360"/>
            <a:ext cx="8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EMP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438360" y="2637000"/>
            <a:ext cx="433440" cy="93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5383080" y="2637000"/>
            <a:ext cx="432000" cy="93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383080" y="2133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7327800" y="2637000"/>
            <a:ext cx="432000" cy="93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7327800" y="2133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438360" y="2133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1063800" y="3357720"/>
            <a:ext cx="7416720" cy="0"/>
          </a:xfrm>
          <a:prstGeom prst="line">
            <a:avLst/>
          </a:prstGeom>
          <a:ln w="22860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30"/>
          <p:cNvSpPr/>
          <p:nvPr/>
        </p:nvSpPr>
        <p:spPr>
          <a:xfrm>
            <a:off x="324000" y="1916280"/>
            <a:ext cx="8424720" cy="49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ÁN CONSIDERADAS C0MPARABLES AQUELLAS TRANASAC-CIONES ANALIZADAS CUAN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97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O EXISTAN DIFERENCIAS QUE AFECTEN EL PRECIO, EL MARGEN DE GANANCIAS O EL MONTO DE LA CONTRAPRESTACIÓN, A QUE SE REFIEREN LOS MÉTODOS DE JUSTIFICACIÓN 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7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7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N CASO DE EXISTIR, TALES DIFERENCIAS SE ELIMINEN EN VIRTUD DE AJUSTES QUE PERMITAN UN GRADO SUSTANCIAL DE COMPARABILI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NO EXISTE LA POSIBILIDAD DE APLICAR EL RÉGIMEN DE PRECIOS DE TRANSFERENCIA SIN EFECTUAR LA COMPARABILIDAD ENTRE LAS OPERACIONES VINCULADAS E INDEPENDIENTES EN TODOS AQUELLOS ASPECTOS Y CONDICIONES CON INCIDENCIA ECONÓ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buClr>
                <a:srgbClr val="000000"/>
              </a:buClr>
              <a:buFont typeface="Arial"/>
              <a:buChar char="Ø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-36360" y="1484280"/>
            <a:ext cx="309564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DEFIN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125892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IL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2" name="Group 11"/>
          <p:cNvGrpSpPr/>
          <p:nvPr/>
        </p:nvGrpSpPr>
        <p:grpSpPr>
          <a:xfrm>
            <a:off x="395280" y="1557360"/>
            <a:ext cx="4925520" cy="367920"/>
            <a:chOff x="395280" y="1557360"/>
            <a:chExt cx="4925520" cy="367920"/>
          </a:xfrm>
        </p:grpSpPr>
        <p:sp>
          <p:nvSpPr>
            <p:cNvPr id="1123" name="Rectangle 12"/>
            <p:cNvSpPr/>
            <p:nvPr/>
          </p:nvSpPr>
          <p:spPr>
            <a:xfrm>
              <a:off x="395280" y="1557360"/>
              <a:ext cx="4924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13"/>
            <p:cNvSpPr/>
            <p:nvPr/>
          </p:nvSpPr>
          <p:spPr>
            <a:xfrm>
              <a:off x="395280" y="1557360"/>
              <a:ext cx="1080" cy="36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14"/>
            <p:cNvSpPr/>
            <p:nvPr/>
          </p:nvSpPr>
          <p:spPr>
            <a:xfrm>
              <a:off x="5319720" y="1557360"/>
              <a:ext cx="1080" cy="36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15"/>
            <p:cNvSpPr/>
            <p:nvPr/>
          </p:nvSpPr>
          <p:spPr>
            <a:xfrm>
              <a:off x="395280" y="1557360"/>
              <a:ext cx="49244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16"/>
            <p:cNvSpPr/>
            <p:nvPr/>
          </p:nvSpPr>
          <p:spPr>
            <a:xfrm>
              <a:off x="395280" y="1924200"/>
              <a:ext cx="49244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Text Box 19"/>
          <p:cNvSpPr/>
          <p:nvPr/>
        </p:nvSpPr>
        <p:spPr>
          <a:xfrm>
            <a:off x="324000" y="2066760"/>
            <a:ext cx="828036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7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MOMENTO EN QUE PROCEDE LA COMPAR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COMPARABLES INTERNOS y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7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CARACTERÍSITICAS ECONÓMICA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7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RECONOCIMIENTO DE LAS OPERACIONES REALES LLEVADAS A C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7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DESCONOCIMIENTO DE LAS OPERACIONES LLEVADAS A CABO, SÓLO CUAN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97000"/>
              </a:lnSpc>
              <a:spcBef>
                <a:spcPts val="1125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+ LA SUSTANCIA DE LA OPERACIÓN SEA DIFERENTE DE LA FORMA ADOPTADA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97000"/>
              </a:lnSpc>
              <a:spcBef>
                <a:spcPts val="1125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+ LA FORMA ADOPTADA  VARÍE COMPLETAMENTE DE LA QUE HUBIERAN ADOPTADO PARTES INDEPEN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IL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611280" y="2276640"/>
            <a:ext cx="7272360" cy="39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LAS CARACTERÍSTICAS DE LOS PRODUCTOS O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NÁLISIS FU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7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LAÚSULAS CONTRACT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9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IRCUNSTANCIAS ECONÓ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1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STRATEGIAS DE NEGO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95280" y="1506600"/>
            <a:ext cx="460836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Arial"/>
              </a:rPr>
              <a:t>FA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IL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-468360" y="157968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ARACTERÍSTICAS TRANSACCIÓ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24000" y="1773360"/>
            <a:ext cx="8424720" cy="46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IENES TANGIBLES – VENTA O PAGO POR EL USO O CESIÓN DE U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Características físicas del 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Confi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Dispon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Volumen de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IENES INTANGIBLES - EXPLOTACIÓN O TRANSFER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Forma asignada a la transacción: Venta, cesión de uso o derecho al u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Exclusividad, restricciones o limitaciones espa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Singularidad del bien: patentes, fórmulas, procesos, diseños, modelos, derechos de autor, marcas o activos similares, transferencia de tecnología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Capacidad potencial de generar ganancias (valor de las ganancias fut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Duración del con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IL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68360" y="1506600"/>
            <a:ext cx="583236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ANÁLISIS FUNCION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9144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855800" y="24192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871800" y="4724280"/>
            <a:ext cx="180036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IES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3656160" y="2707920"/>
            <a:ext cx="1873080" cy="1871640"/>
          </a:xfrm>
          <a:prstGeom prst="line">
            <a:avLst/>
          </a:prstGeom>
          <a:ln w="1522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3656160" y="2419200"/>
            <a:ext cx="0" cy="216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656160" y="4579920"/>
            <a:ext cx="21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9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IL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68360" y="1506600"/>
            <a:ext cx="583236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ANÁLISIS FUNCION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24000" y="1916280"/>
            <a:ext cx="840564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7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DEBEN ANALIZAR Y COMPARA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7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FUNCIONES O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Diseño y fabr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Investigación y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Compra, distribución y comerci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Finan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Control Ger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+ Servicios post-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OS RIESGOS ASUM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+ Comerciales: fluctuaciones de costos de insu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+ Financieros: variaciones en el tipo de cambio, tasa de inter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OS ACTIVOS UTILIZ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Uso de intangibles, ub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68360" y="1557360"/>
            <a:ext cx="3024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971640" y="0"/>
            <a:ext cx="7162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87440" y="1268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03440" y="1701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656160" y="1268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IT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896160" y="1268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F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03440" y="1917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BENEFICI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03440" y="2133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PRECIO VENTA  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800520" y="2565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800520" y="2781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BENEFICI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800520" y="2997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PRECIO VENTA  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800520" y="2133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800520" y="2349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TOS PROD.     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503440" y="2276640"/>
            <a:ext cx="12240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970680" y="2997360"/>
            <a:ext cx="18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PRODUCTO          180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970320" y="3213000"/>
            <a:ext cx="16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TOS COMERC.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969960" y="3429000"/>
            <a:ext cx="166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                  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971040" y="3645000"/>
            <a:ext cx="16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BENEFICI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672160" y="3141720"/>
            <a:ext cx="12240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969240" y="386064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PRECIO VENTA   2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14360" y="414972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440160" y="414972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535800" y="414972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74720" y="4510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VENT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74720" y="4726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 VENTA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(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74720" y="4941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798720" y="4510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VENT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798720" y="4726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 VENTA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(1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798720" y="4941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967440" y="4510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VENT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2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967440" y="4726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 VENTA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(2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967440" y="4941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87440" y="522936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BASE IMPONIBLE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     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513240" y="522936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BASE IMPONIBLE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     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680160" y="522936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BASE IMPONIBLE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      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935440" y="5734080"/>
            <a:ext cx="3887640" cy="3988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GANANCIA TOTAL    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IL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95280" y="1506600"/>
            <a:ext cx="5905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TÉRMINOS CONTRACT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395280" y="1989000"/>
            <a:ext cx="8209080" cy="39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CLAÚSULAS CONTRACTUALES DEFINEN GENERALMENTE, DE FORMA EXPRESA  O IMPLÍCITA, CÓMO SE REPARTEN LAS RESPONSABILIDADES, RIESGOS Y RESULTADOS ENTRE LAS P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BEN ANALIZARSE LOS TÉRMINOS QUE PUEDAN A LLEGAR A INFLUIR EN EL PRECIO O EN EL MARGEN INVOLUCRADO, TALES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Formas de re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Condiciones de p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Compromisos asumidos respecto de los volúmenes comprados o vend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Duración del con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Garant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IL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66560" y="1506600"/>
            <a:ext cx="5977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IRCUNSTANCIAS ECONÓM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39640" y="2133720"/>
            <a:ext cx="8064720" cy="42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 NECESARIO IDENTIFICAR EL O LOS MERCADOS CONSIDERANDO LOS BIENES Y SERVICIOS ALTERNATIVOS DISPONI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CIRCUNSTANCIAS RELEVANTE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ocalización geográfica de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Dimen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Grado de competencia y la posición competitiva relativa de compradores y vend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Disponibilidad (riesgo) de bienes y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Niveles de oferta y de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Poder adquisitivo de los de los consumido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Naturaleza y alcance de la reglamentación de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Costos de producción y 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Nivel de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Fecha de la o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VINCULACIÓN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304920" y="1484280"/>
            <a:ext cx="9359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NÁLISIS COMPA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64328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0" y="1268280"/>
            <a:ext cx="990288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8" name=""/>
          <p:cNvGraphicFramePr/>
          <p:nvPr/>
        </p:nvGraphicFramePr>
        <p:xfrm>
          <a:off x="395280" y="2205000"/>
          <a:ext cx="8353440" cy="4281480"/>
        </p:xfrm>
        <a:graphic>
          <a:graphicData uri="http://schemas.openxmlformats.org/drawingml/2006/table">
            <a:tbl>
              <a:tblPr/>
              <a:tblGrid>
                <a:gridCol w="3984480"/>
                <a:gridCol w="4368960"/>
              </a:tblGrid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ONVENIOS DOBLE IMPOSICION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ART.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MPUESTO A LAS GANANCIAS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 s/n a cont. del ART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MPRESAS ASOCI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. Una empresa participe directa o indirectam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49360" indent="-27468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ión, 2. Control, ó 3.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una empresa del otro Estado contratan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. Las mismas personas participen directa o indirectamente e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49360" indent="-274680" algn="just">
                        <a:lnSpc>
                          <a:spcPct val="11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ión, 2. Control, ó 3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una empresa de un EC y de una empresa del otro 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VINCUL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 empresas locales y del exterior con quienes aquellos realicen transacciones estén sujetos de manera directa o indirecta 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49360" indent="-27468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ión ó 2. 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49360" indent="-27468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las mismas personas físicas o juríd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s últimas sea por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IL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95280" y="1506600"/>
            <a:ext cx="5905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NÁLISIS COMPARATIV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2" name=""/>
          <p:cNvGraphicFramePr/>
          <p:nvPr/>
        </p:nvGraphicFramePr>
        <p:xfrm>
          <a:off x="468360" y="2133720"/>
          <a:ext cx="8207280" cy="3605040"/>
        </p:xfrm>
        <a:graphic>
          <a:graphicData uri="http://schemas.openxmlformats.org/drawingml/2006/table">
            <a:tbl>
              <a:tblPr/>
              <a:tblGrid>
                <a:gridCol w="4043160"/>
                <a:gridCol w="41641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ONVENIOS DOBLE IMPOSICIÓN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.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MPUESTO A LAS GANANCIAS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 s/n a cont. del ART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uno u otro caso las dos empresas estén, en sus relaciones comerciales o financiera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das p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ciones aceptadas o impuestas, que difieran de las que serían acordadas por empresas independi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27792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 participación en el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27792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 grado de acreenci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27792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 influencias funcionales ó de cualquier otra índole contractuales o 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ngan el poder de decisión para orientar o definir la o las actividades de las mencionadas empre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/>
          <p:nvPr/>
        </p:nvSpPr>
        <p:spPr>
          <a:xfrm>
            <a:off x="969840" y="366840"/>
            <a:ext cx="804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38200" y="2128680"/>
            <a:ext cx="82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lphaL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Un sujeto posea la totalidad o parte mayoritaria del capital   de o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3346560" y="3282840"/>
            <a:ext cx="1376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455080" y="330660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aí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338120" y="4361040"/>
            <a:ext cx="66344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346560" y="4905360"/>
            <a:ext cx="1376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364720" y="498492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aís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994200" y="3860640"/>
            <a:ext cx="1440" cy="1068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UPUESTOS DE VINCULACIÓN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-250920" y="150660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RESOLUCIÓN GENERAL  N° 1122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969840" y="366840"/>
            <a:ext cx="804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UPUESTOS DE VINCULACIÓN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-250920" y="150660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RESOLUCIÓN GENERAL  N° 1122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860400" y="181080"/>
            <a:ext cx="7497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398520" y="2035080"/>
            <a:ext cx="919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. Dos o más sujetos tengan alternativ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133800" y="3530520"/>
            <a:ext cx="10335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B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342400" y="3524400"/>
            <a:ext cx="12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901880" y="4194000"/>
            <a:ext cx="55134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133800" y="4322880"/>
            <a:ext cx="1025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C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38440" y="432432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760320" y="2606760"/>
            <a:ext cx="79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.1. Un sujeto en común como poseedor total o mayoritario de sus capi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901880" y="4986360"/>
            <a:ext cx="55054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133800" y="5187960"/>
            <a:ext cx="1025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D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316840" y="503568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1757520" y="3865680"/>
            <a:ext cx="1433160" cy="1551960"/>
            <a:chOff x="1757520" y="3865680"/>
            <a:chExt cx="1433160" cy="1551960"/>
          </a:xfrm>
        </p:grpSpPr>
        <p:sp>
          <p:nvSpPr>
            <p:cNvPr id="1188" name=""/>
            <p:cNvSpPr/>
            <p:nvPr/>
          </p:nvSpPr>
          <p:spPr>
            <a:xfrm>
              <a:off x="2587320" y="3865680"/>
              <a:ext cx="0" cy="1551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587320" y="3865680"/>
              <a:ext cx="603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757520" y="4604760"/>
              <a:ext cx="14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587320" y="5417640"/>
              <a:ext cx="603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757080" y="4395960"/>
            <a:ext cx="10335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A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1998720" y="3483000"/>
            <a:ext cx="1440" cy="236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40080" y="518940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rot="5400000">
            <a:off x="4016880" y="3945600"/>
            <a:ext cx="795240" cy="530280"/>
          </a:xfrm>
          <a:custGeom>
            <a:avLst/>
            <a:gdLst>
              <a:gd name="textAreaLeft" fmla="*/ 160920 w 795240"/>
              <a:gd name="textAreaRight" fmla="*/ 564120 w 795240"/>
              <a:gd name="textAreaTop" fmla="*/ 70920 h 530280"/>
              <a:gd name="textAreaBottom" fmla="*/ 459360 h 530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50" hR="21600" stAng="10800000" swAng="5400000"/>
                <a:lnTo>
                  <a:pt x="10947" y="0"/>
                </a:lnTo>
                <a:arcTo wR="8750" hR="21600" stAng="-5400000" swAng="3024581"/>
                <a:lnTo>
                  <a:pt x="21147" y="14739"/>
                </a:lnTo>
                <a:lnTo>
                  <a:pt x="18598" y="21600"/>
                </a:lnTo>
                <a:lnTo>
                  <a:pt x="15142" y="14739"/>
                </a:lnTo>
                <a:lnTo>
                  <a:pt x="17046" y="14739"/>
                </a:lnTo>
                <a:arcTo wR="8750" hR="21600" stAng="-2375419" swAng="-2848509"/>
                <a:lnTo>
                  <a:pt x="9848" y="171"/>
                </a:lnTo>
                <a:arcTo wR="8750" hR="21600" stAng="-5576072" swAng="-5223928"/>
                <a:close/>
              </a:path>
              <a:path fill="darkenLess" w="21600" h="21600">
                <a:moveTo>
                  <a:pt x="0" y="21600"/>
                </a:moveTo>
                <a:arcTo wR="8750" hR="21600" stAng="10800000" swAng="5400000"/>
                <a:lnTo>
                  <a:pt x="8750" y="0"/>
                </a:lnTo>
                <a:arcTo wR="8750" hR="21600" stAng="-5400000" swAng="176072"/>
                <a:lnTo>
                  <a:pt x="9848" y="171"/>
                </a:lnTo>
                <a:arcTo wR="8750" hR="21600" stAng="-5576072" swAng="-5223928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rot="20077800">
            <a:off x="1676160" y="3985920"/>
            <a:ext cx="1571400" cy="129960"/>
          </a:xfrm>
          <a:prstGeom prst="rightArrow">
            <a:avLst>
              <a:gd name="adj1" fmla="val 50000"/>
              <a:gd name="adj2" fmla="val 30228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rot="1383600">
            <a:off x="1682280" y="5106960"/>
            <a:ext cx="1579680" cy="165240"/>
          </a:xfrm>
          <a:prstGeom prst="rightArrow">
            <a:avLst>
              <a:gd name="adj1" fmla="val 50000"/>
              <a:gd name="adj2" fmla="val 23899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757520" y="4621320"/>
            <a:ext cx="1433520" cy="149040"/>
          </a:xfrm>
          <a:prstGeom prst="rightArrow">
            <a:avLst>
              <a:gd name="adj1" fmla="val 50000"/>
              <a:gd name="adj2" fmla="val 2404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rot="5400000">
            <a:off x="3460680" y="4294080"/>
            <a:ext cx="1906200" cy="528480"/>
          </a:xfrm>
          <a:custGeom>
            <a:avLst/>
            <a:gdLst>
              <a:gd name="textAreaLeft" fmla="*/ 434880 w 1906200"/>
              <a:gd name="textAreaRight" fmla="*/ 1383840 w 1906200"/>
              <a:gd name="textAreaTop" fmla="*/ 70560 h 528480"/>
              <a:gd name="textAreaBottom" fmla="*/ 457920 h 528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56" hR="21600" stAng="10800000" swAng="5400000"/>
                <a:lnTo>
                  <a:pt x="10751" y="0"/>
                </a:lnTo>
                <a:arcTo wR="9856" hR="21600" stAng="-5400000" swAng="3204836"/>
                <a:lnTo>
                  <a:pt x="21079" y="14671"/>
                </a:lnTo>
                <a:lnTo>
                  <a:pt x="20159" y="21600"/>
                </a:lnTo>
                <a:lnTo>
                  <a:pt x="18196" y="14671"/>
                </a:lnTo>
                <a:lnTo>
                  <a:pt x="19190" y="14671"/>
                </a:lnTo>
                <a:arcTo wR="9856" hR="21600" stAng="-2195164" swAng="-3133551"/>
                <a:lnTo>
                  <a:pt x="10303" y="22"/>
                </a:lnTo>
                <a:arcTo wR="9856" hR="21600" stAng="-5471285" swAng="-5328715"/>
                <a:close/>
              </a:path>
              <a:path fill="darkenLess" w="21600" h="21600">
                <a:moveTo>
                  <a:pt x="0" y="21600"/>
                </a:moveTo>
                <a:arcTo wR="9856" hR="21600" stAng="10800000" swAng="5400000"/>
                <a:lnTo>
                  <a:pt x="9856" y="0"/>
                </a:lnTo>
                <a:arcTo wR="9856" hR="21600" stAng="-5400000" swAng="71285"/>
                <a:lnTo>
                  <a:pt x="10303" y="22"/>
                </a:lnTo>
                <a:arcTo wR="9856" hR="21600" stAng="-5471285" swAng="-532871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rot="9229200">
            <a:off x="1692000" y="4125600"/>
            <a:ext cx="1569960" cy="129960"/>
          </a:xfrm>
          <a:prstGeom prst="rightArrow">
            <a:avLst>
              <a:gd name="adj1" fmla="val 50000"/>
              <a:gd name="adj2" fmla="val 30200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rot="5400000">
            <a:off x="3470400" y="4941000"/>
            <a:ext cx="370080" cy="152280"/>
          </a:xfrm>
          <a:prstGeom prst="rightArrow">
            <a:avLst>
              <a:gd name="adj1" fmla="val 50000"/>
              <a:gd name="adj2" fmla="val 607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rot="10800000">
            <a:off x="1757520" y="4476240"/>
            <a:ext cx="1433520" cy="147960"/>
          </a:xfrm>
          <a:prstGeom prst="rightArrow">
            <a:avLst>
              <a:gd name="adj1" fmla="val 50000"/>
              <a:gd name="adj2" fmla="val 2422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rot="16200000">
            <a:off x="3509280" y="4113720"/>
            <a:ext cx="293400" cy="152280"/>
          </a:xfrm>
          <a:prstGeom prst="rightArrow">
            <a:avLst>
              <a:gd name="adj1" fmla="val 50000"/>
              <a:gd name="adj2" fmla="val 481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rot="12181800">
            <a:off x="1682640" y="4963320"/>
            <a:ext cx="1579680" cy="165240"/>
          </a:xfrm>
          <a:prstGeom prst="rightArrow">
            <a:avLst>
              <a:gd name="adj1" fmla="val 50000"/>
              <a:gd name="adj2" fmla="val 23899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rot="16200000">
            <a:off x="3182760" y="4941720"/>
            <a:ext cx="370080" cy="150840"/>
          </a:xfrm>
          <a:prstGeom prst="rightArrow">
            <a:avLst>
              <a:gd name="adj1" fmla="val 50000"/>
              <a:gd name="adj2" fmla="val 6133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 rot="16200000">
            <a:off x="3460680" y="4438080"/>
            <a:ext cx="1906200" cy="528480"/>
          </a:xfrm>
          <a:custGeom>
            <a:avLst/>
            <a:gdLst>
              <a:gd name="textAreaLeft" fmla="*/ 434880 w 1906200"/>
              <a:gd name="textAreaRight" fmla="*/ 1383840 w 1906200"/>
              <a:gd name="textAreaTop" fmla="*/ 70560 h 528480"/>
              <a:gd name="textAreaBottom" fmla="*/ 457920 h 528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56" hR="21600" stAng="10800000" swAng="5400000"/>
                <a:lnTo>
                  <a:pt x="10751" y="0"/>
                </a:lnTo>
                <a:arcTo wR="9856" hR="21600" stAng="-5400000" swAng="3204836"/>
                <a:lnTo>
                  <a:pt x="21079" y="14671"/>
                </a:lnTo>
                <a:lnTo>
                  <a:pt x="20159" y="21600"/>
                </a:lnTo>
                <a:lnTo>
                  <a:pt x="18196" y="14671"/>
                </a:lnTo>
                <a:lnTo>
                  <a:pt x="19190" y="14671"/>
                </a:lnTo>
                <a:arcTo wR="9856" hR="21600" stAng="-2195164" swAng="-3133551"/>
                <a:lnTo>
                  <a:pt x="10303" y="22"/>
                </a:lnTo>
                <a:arcTo wR="9856" hR="21600" stAng="-5471285" swAng="-5328715"/>
                <a:close/>
              </a:path>
              <a:path fill="darkenLess" w="21600" h="21600">
                <a:moveTo>
                  <a:pt x="0" y="21600"/>
                </a:moveTo>
                <a:arcTo wR="9856" hR="21600" stAng="10800000" swAng="5400000"/>
                <a:lnTo>
                  <a:pt x="9856" y="0"/>
                </a:lnTo>
                <a:arcTo wR="9856" hR="21600" stAng="-5400000" swAng="71285"/>
                <a:lnTo>
                  <a:pt x="10303" y="22"/>
                </a:lnTo>
                <a:arcTo wR="9856" hR="21600" stAng="-5471285" swAng="-5328715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0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7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8" dur="2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1" dur="2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4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2" dur="1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9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6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0" dur="2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3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6" dur="2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1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8" dur="1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2" dur="2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5" dur="2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8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6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3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1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4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7" dur="2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0" dur="2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969840" y="366840"/>
            <a:ext cx="804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UPUESTOS DE VINCULACIÓN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-250920" y="150660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RESOLUCIÓN GENERAL  N° 1122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39640" y="2023920"/>
            <a:ext cx="88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. Dos o más sujetos tengan alternativ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84360" y="242244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.2. Un sujeto en común que posea participación total o mayori-taria en el capital de uno o más sujetos, e influencia significativa en uno o más de los otros su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1782720" y="3789360"/>
            <a:ext cx="1368360" cy="791640"/>
            <a:chOff x="1782720" y="3789360"/>
            <a:chExt cx="1368360" cy="791640"/>
          </a:xfrm>
        </p:grpSpPr>
        <p:sp>
          <p:nvSpPr>
            <p:cNvPr id="1213" name=""/>
            <p:cNvSpPr/>
            <p:nvPr/>
          </p:nvSpPr>
          <p:spPr>
            <a:xfrm>
              <a:off x="2575080" y="3789360"/>
              <a:ext cx="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575080" y="3789360"/>
              <a:ext cx="576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782720" y="458100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2575080" y="4581360"/>
            <a:ext cx="576000" cy="863280"/>
            <a:chOff x="2575080" y="4581360"/>
            <a:chExt cx="576000" cy="863280"/>
          </a:xfrm>
        </p:grpSpPr>
        <p:sp>
          <p:nvSpPr>
            <p:cNvPr id="1217" name=""/>
            <p:cNvSpPr/>
            <p:nvPr/>
          </p:nvSpPr>
          <p:spPr>
            <a:xfrm>
              <a:off x="2575080" y="5444640"/>
              <a:ext cx="576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575080" y="4581360"/>
              <a:ext cx="576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575080" y="4581360"/>
              <a:ext cx="0" cy="863280"/>
            </a:xfrm>
            <a:prstGeom prst="line">
              <a:avLst/>
            </a:prstGeom>
            <a:ln w="572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3151080" y="3500280"/>
            <a:ext cx="989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B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337720" y="3492360"/>
            <a:ext cx="12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998720" y="4149720"/>
            <a:ext cx="5265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151080" y="4292640"/>
            <a:ext cx="98136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C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5333400" y="429264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998720" y="49417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151080" y="5157720"/>
            <a:ext cx="98136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D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310360" y="500364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774720" y="4365720"/>
            <a:ext cx="98892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A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998720" y="35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635400" y="515772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rot="5400000">
            <a:off x="4013640" y="3925080"/>
            <a:ext cx="795240" cy="505080"/>
          </a:xfrm>
          <a:custGeom>
            <a:avLst/>
            <a:gdLst>
              <a:gd name="textAreaLeft" fmla="*/ 160920 w 795240"/>
              <a:gd name="textAreaRight" fmla="*/ 564120 w 79524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50" hR="21600" stAng="10800000" swAng="5400000"/>
                <a:lnTo>
                  <a:pt x="10947" y="0"/>
                </a:lnTo>
                <a:arcTo wR="8750" hR="21600" stAng="-5400000" swAng="3024581"/>
                <a:lnTo>
                  <a:pt x="21147" y="14739"/>
                </a:lnTo>
                <a:lnTo>
                  <a:pt x="18598" y="21600"/>
                </a:lnTo>
                <a:lnTo>
                  <a:pt x="15142" y="14739"/>
                </a:lnTo>
                <a:lnTo>
                  <a:pt x="17046" y="14739"/>
                </a:lnTo>
                <a:arcTo wR="8750" hR="21600" stAng="-2375419" swAng="-2848509"/>
                <a:lnTo>
                  <a:pt x="9848" y="171"/>
                </a:lnTo>
                <a:arcTo wR="8750" hR="21600" stAng="-5576072" swAng="-5223928"/>
                <a:close/>
              </a:path>
              <a:path fill="darkenLess" w="21600" h="21600">
                <a:moveTo>
                  <a:pt x="0" y="21600"/>
                </a:moveTo>
                <a:arcTo wR="8750" hR="21600" stAng="10800000" swAng="5400000"/>
                <a:lnTo>
                  <a:pt x="8750" y="0"/>
                </a:lnTo>
                <a:arcTo wR="8750" hR="21600" stAng="-5400000" swAng="176072"/>
                <a:lnTo>
                  <a:pt x="9848" y="171"/>
                </a:lnTo>
                <a:arcTo wR="8750" hR="21600" stAng="-5576072" swAng="-5223928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rot="20077800">
            <a:off x="1695600" y="3936600"/>
            <a:ext cx="1512720" cy="142920"/>
          </a:xfrm>
          <a:prstGeom prst="rightArrow">
            <a:avLst>
              <a:gd name="adj1" fmla="val 50000"/>
              <a:gd name="adj2" fmla="val 26461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rot="1383600">
            <a:off x="1711080" y="5084640"/>
            <a:ext cx="1512720" cy="142920"/>
          </a:xfrm>
          <a:prstGeom prst="rightArrow">
            <a:avLst>
              <a:gd name="adj1" fmla="val 50000"/>
              <a:gd name="adj2" fmla="val 26461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782720" y="4581360"/>
            <a:ext cx="1368360" cy="144720"/>
          </a:xfrm>
          <a:prstGeom prst="rightArrow">
            <a:avLst>
              <a:gd name="adj1" fmla="val 50000"/>
              <a:gd name="adj2" fmla="val 23638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rot="5400000">
            <a:off x="3458160" y="4283640"/>
            <a:ext cx="1906200" cy="505080"/>
          </a:xfrm>
          <a:custGeom>
            <a:avLst/>
            <a:gdLst>
              <a:gd name="textAreaLeft" fmla="*/ 434880 w 1906200"/>
              <a:gd name="textAreaRight" fmla="*/ 1383840 w 19062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56" hR="21600" stAng="10800000" swAng="5400000"/>
                <a:lnTo>
                  <a:pt x="10751" y="0"/>
                </a:lnTo>
                <a:arcTo wR="9856" hR="21600" stAng="-5400000" swAng="3204836"/>
                <a:lnTo>
                  <a:pt x="21079" y="14671"/>
                </a:lnTo>
                <a:lnTo>
                  <a:pt x="20159" y="21600"/>
                </a:lnTo>
                <a:lnTo>
                  <a:pt x="18196" y="14671"/>
                </a:lnTo>
                <a:lnTo>
                  <a:pt x="19190" y="14671"/>
                </a:lnTo>
                <a:arcTo wR="9856" hR="21600" stAng="-2195164" swAng="-3133551"/>
                <a:lnTo>
                  <a:pt x="10303" y="22"/>
                </a:lnTo>
                <a:arcTo wR="9856" hR="21600" stAng="-5471285" swAng="-5328715"/>
                <a:close/>
              </a:path>
              <a:path fill="darkenLess" w="21600" h="21600">
                <a:moveTo>
                  <a:pt x="0" y="21600"/>
                </a:moveTo>
                <a:arcTo wR="9856" hR="21600" stAng="10800000" swAng="5400000"/>
                <a:lnTo>
                  <a:pt x="9856" y="0"/>
                </a:lnTo>
                <a:arcTo wR="9856" hR="21600" stAng="-5400000" swAng="71285"/>
                <a:lnTo>
                  <a:pt x="10303" y="22"/>
                </a:lnTo>
                <a:arcTo wR="9856" hR="21600" stAng="-5471285" swAng="-532871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rot="9229200">
            <a:off x="1711080" y="4076280"/>
            <a:ext cx="1512720" cy="142920"/>
          </a:xfrm>
          <a:prstGeom prst="rightArrow">
            <a:avLst>
              <a:gd name="adj1" fmla="val 50000"/>
              <a:gd name="adj2" fmla="val 26461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rot="5400000">
            <a:off x="3474720" y="4905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rot="10800000">
            <a:off x="1782360" y="4436640"/>
            <a:ext cx="1368360" cy="142920"/>
          </a:xfrm>
          <a:prstGeom prst="rightArrow">
            <a:avLst>
              <a:gd name="adj1" fmla="val 50000"/>
              <a:gd name="adj2" fmla="val 2393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rot="16200000">
            <a:off x="3511440" y="4076640"/>
            <a:ext cx="287280" cy="14436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rot="12181800">
            <a:off x="1711440" y="4941000"/>
            <a:ext cx="1512720" cy="142920"/>
          </a:xfrm>
          <a:prstGeom prst="rightArrow">
            <a:avLst>
              <a:gd name="adj1" fmla="val 50000"/>
              <a:gd name="adj2" fmla="val 26461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 rot="16200000">
            <a:off x="3186720" y="4905720"/>
            <a:ext cx="360360" cy="142560"/>
          </a:xfrm>
          <a:prstGeom prst="rightArrow">
            <a:avLst>
              <a:gd name="adj1" fmla="val 50000"/>
              <a:gd name="adj2" fmla="val 6319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 flipV="1" rot="16200000">
            <a:off x="3458160" y="4427280"/>
            <a:ext cx="1906200" cy="505080"/>
          </a:xfrm>
          <a:custGeom>
            <a:avLst/>
            <a:gdLst>
              <a:gd name="textAreaLeft" fmla="*/ 434880 w 1906200"/>
              <a:gd name="textAreaRight" fmla="*/ 1383840 w 19062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56" hR="21600" stAng="10800000" swAng="5400000"/>
                <a:lnTo>
                  <a:pt x="10751" y="0"/>
                </a:lnTo>
                <a:arcTo wR="9856" hR="21600" stAng="-5400000" swAng="3204836"/>
                <a:lnTo>
                  <a:pt x="21079" y="14671"/>
                </a:lnTo>
                <a:lnTo>
                  <a:pt x="20159" y="21600"/>
                </a:lnTo>
                <a:lnTo>
                  <a:pt x="18196" y="14671"/>
                </a:lnTo>
                <a:lnTo>
                  <a:pt x="19190" y="14671"/>
                </a:lnTo>
                <a:arcTo wR="9856" hR="21600" stAng="-2195164" swAng="-3133551"/>
                <a:lnTo>
                  <a:pt x="10303" y="22"/>
                </a:lnTo>
                <a:arcTo wR="9856" hR="21600" stAng="-5471285" swAng="-5328715"/>
                <a:close/>
              </a:path>
              <a:path fill="darkenLess" w="21600" h="21600">
                <a:moveTo>
                  <a:pt x="0" y="21600"/>
                </a:moveTo>
                <a:arcTo wR="9856" hR="21600" stAng="10800000" swAng="5400000"/>
                <a:lnTo>
                  <a:pt x="9856" y="0"/>
                </a:lnTo>
                <a:arcTo wR="9856" hR="21600" stAng="-5400000" swAng="71285"/>
                <a:lnTo>
                  <a:pt x="10303" y="22"/>
                </a:lnTo>
                <a:arcTo wR="9856" hR="21600" stAng="-5471285" swAng="-5328715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2" dur="indefinite" restart="never" nodeType="tmRoot">
          <p:childTnLst>
            <p:seq>
              <p:cTn id="1633" dur="indefinite" nodeType="mainSeq">
                <p:childTnLst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4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6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3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0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4" dur="2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7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0" dur="2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8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2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6" dur="2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9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2" dur="2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0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7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8" dur="2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1" dur="2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4" dur="2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2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9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6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0" dur="2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3" dur="2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6" dur="2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969840" y="366840"/>
            <a:ext cx="804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UPUESTOS DE VINCULACIÓN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-250920" y="150660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RESOLUCIÓN GENERAL  N° 1122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58720" y="1963800"/>
            <a:ext cx="78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. Dos o más sujetos tengan alternativ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151080" y="3357720"/>
            <a:ext cx="1295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Garamond"/>
              </a:rPr>
              <a:t>B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901040" y="3357720"/>
            <a:ext cx="12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998720" y="4149720"/>
            <a:ext cx="5265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151080" y="4437000"/>
            <a:ext cx="12859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Garamond"/>
              </a:rPr>
              <a:t>C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901760" y="443700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11280" y="23194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.3. Un sujeto en común que posea influencia significativa sobre ellos simultáne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87440" y="3933720"/>
            <a:ext cx="1295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Garamond"/>
              </a:rPr>
              <a:t>A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1998720" y="314172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19400" y="479736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Garamond"/>
              </a:rPr>
              <a:t>Paí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1782720" y="3645000"/>
            <a:ext cx="1368360" cy="1078920"/>
            <a:chOff x="1782720" y="3645000"/>
            <a:chExt cx="1368360" cy="1078920"/>
          </a:xfrm>
        </p:grpSpPr>
        <p:sp>
          <p:nvSpPr>
            <p:cNvPr id="1258" name=""/>
            <p:cNvSpPr/>
            <p:nvPr/>
          </p:nvSpPr>
          <p:spPr>
            <a:xfrm>
              <a:off x="2575080" y="4723920"/>
              <a:ext cx="576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782720" y="4232880"/>
              <a:ext cx="79236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575080" y="3645000"/>
              <a:ext cx="0" cy="1078920"/>
            </a:xfrm>
            <a:prstGeom prst="line">
              <a:avLst/>
            </a:prstGeom>
            <a:ln w="572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575080" y="3645000"/>
              <a:ext cx="576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2" name=""/>
          <p:cNvSpPr/>
          <p:nvPr/>
        </p:nvSpPr>
        <p:spPr>
          <a:xfrm rot="20077800">
            <a:off x="1709280" y="3696840"/>
            <a:ext cx="1506600" cy="127080"/>
          </a:xfrm>
          <a:prstGeom prst="rightArrow">
            <a:avLst>
              <a:gd name="adj1" fmla="val 50000"/>
              <a:gd name="adj2" fmla="val 29638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rot="11917200">
            <a:off x="1707840" y="4447440"/>
            <a:ext cx="1439640" cy="142920"/>
          </a:xfrm>
          <a:prstGeom prst="rightArrow">
            <a:avLst>
              <a:gd name="adj1" fmla="val 50000"/>
              <a:gd name="adj2" fmla="val 25182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 rot="5400000">
            <a:off x="3915720" y="3969360"/>
            <a:ext cx="1566720" cy="504720"/>
          </a:xfrm>
          <a:custGeom>
            <a:avLst/>
            <a:gdLst>
              <a:gd name="textAreaLeft" fmla="*/ 317160 w 1566720"/>
              <a:gd name="textAreaRight" fmla="*/ 1111320 w 156672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50" hR="21600" stAng="10800000" swAng="5400000"/>
                <a:lnTo>
                  <a:pt x="10947" y="0"/>
                </a:lnTo>
                <a:arcTo wR="8750" hR="21600" stAng="-5400000" swAng="3024581"/>
                <a:lnTo>
                  <a:pt x="21147" y="14739"/>
                </a:lnTo>
                <a:lnTo>
                  <a:pt x="18598" y="21600"/>
                </a:lnTo>
                <a:lnTo>
                  <a:pt x="15142" y="14739"/>
                </a:lnTo>
                <a:lnTo>
                  <a:pt x="17046" y="14739"/>
                </a:lnTo>
                <a:arcTo wR="8750" hR="21600" stAng="-2375419" swAng="-2848509"/>
                <a:lnTo>
                  <a:pt x="9848" y="171"/>
                </a:lnTo>
                <a:arcTo wR="8750" hR="21600" stAng="-5576072" swAng="-5223928"/>
                <a:close/>
              </a:path>
              <a:path fill="darkenLess" w="21600" h="21600">
                <a:moveTo>
                  <a:pt x="0" y="21600"/>
                </a:moveTo>
                <a:arcTo wR="8750" hR="21600" stAng="10800000" swAng="5400000"/>
                <a:lnTo>
                  <a:pt x="8750" y="0"/>
                </a:lnTo>
                <a:arcTo wR="8750" hR="21600" stAng="-5400000" swAng="176072"/>
                <a:lnTo>
                  <a:pt x="9848" y="171"/>
                </a:lnTo>
                <a:arcTo wR="8750" hR="21600" stAng="-5576072" swAng="-5223928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rot="1059000">
            <a:off x="1780920" y="4650840"/>
            <a:ext cx="1368360" cy="144720"/>
          </a:xfrm>
          <a:prstGeom prst="rightArrow">
            <a:avLst>
              <a:gd name="adj1" fmla="val 50000"/>
              <a:gd name="adj2" fmla="val 23638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 rot="9229200">
            <a:off x="1640880" y="3876480"/>
            <a:ext cx="1585800" cy="144360"/>
          </a:xfrm>
          <a:prstGeom prst="rightArrow">
            <a:avLst>
              <a:gd name="adj1" fmla="val 50000"/>
              <a:gd name="adj2" fmla="val 27462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rot="16200000">
            <a:off x="3403440" y="4113000"/>
            <a:ext cx="503280" cy="144360"/>
          </a:xfrm>
          <a:prstGeom prst="rightArrow">
            <a:avLst>
              <a:gd name="adj1" fmla="val 50000"/>
              <a:gd name="adj2" fmla="val 871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8" dur="indefinite" restart="never" nodeType="tmRoot">
          <p:childTnLst>
            <p:seq>
              <p:cTn id="1829" dur="indefinite" nodeType="mainSeq">
                <p:childTnLst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6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3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7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0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8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5" dur="1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9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2" dur="2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0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10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7" dur="1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1" dur="2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4" dur="2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969840" y="366840"/>
            <a:ext cx="804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38200" y="2259000"/>
            <a:ext cx="8210520" cy="38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Un sujeto posea los votos necesarios para formar la voluntad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. Dos o más sujetos posean directores, funcionarios o adminis-tradores comu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. Un sujeto goce de exclusividad como agente, distribuidor o concesionario para la compra venta de bienes, servicios o derechos, por parte de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. Un sujeto provea a otro la propiedad tecnológica o conocimiento técnico que constituya la base de sus actividades, sobre las cuales este último conduce su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692360" y="69228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UPUESTOS DE VINCULACIÓN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-250920" y="150660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RESOLUCIÓN GENERAL  N° 1122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6" dur="indefinite" restart="never" nodeType="tmRoot">
          <p:childTnLst>
            <p:seq>
              <p:cTn id="1947" dur="indefinite" nodeType="mainSeq">
                <p:childTnLst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969840" y="366840"/>
            <a:ext cx="804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UPUESTOS DE VINCULACIÓN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-250920" y="150660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RESOLUCIÓN GENERAL  N° 1122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95280" y="1989000"/>
            <a:ext cx="8209080" cy="45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. Un sujeto participe con otro en asociaciones sin existencia legal como personas jurídicas, a través de los cuales ejerce influencia significativa en la determinación de los 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. Un sujeto acuerde con otro cláusulas contractuales que asumen el carácter de preferenciales en relación con las otorgadas a terceros en similares circunsta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. Un sujeto participe significativamente en la fijación de las políticas empresariales, entre otras, el aprovisionamiento de materias primas, la producción y/o la comercialización, de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 Un sujeto desarrolle una actividad de importancia sólo con relación a otro, o su existencia se justifique únicamente en relación con otro, verificándose situaciones tales como relaciones de único proveedor o único cliente, entre ot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24000" y="2565360"/>
            <a:ext cx="8208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34920" y="1355760"/>
            <a:ext cx="9109080" cy="495288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487440" y="1268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03440" y="1701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656160" y="126828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AISO 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896160" y="1268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F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03440" y="1917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BENEFICI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03440" y="2133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PRECIO VENTA   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800520" y="2565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00520" y="2781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BENEFICI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00520" y="2997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PRECIO VENTA   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800520" y="2133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MP                           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800520" y="2349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TOS PROD.     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503440" y="2276640"/>
            <a:ext cx="12240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970680" y="2997360"/>
            <a:ext cx="18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PRODUCTO          250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970320" y="3213000"/>
            <a:ext cx="16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TOS COMERC.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969960" y="3429000"/>
            <a:ext cx="166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                   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971040" y="3645000"/>
            <a:ext cx="16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BENEFICIO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672160" y="3141720"/>
            <a:ext cx="12240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969240" y="386064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PRECIO VENTA   2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14360" y="414972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440160" y="414972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372360" y="414972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774720" y="4510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VENT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74720" y="4726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 VENTA 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(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74720" y="4941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798720" y="4510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VENT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798720" y="4726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 VENTA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(1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798720" y="4941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967440" y="4510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VENT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2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967440" y="4726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COSTO VENTA   </a:t>
            </a:r>
            <a:r>
              <a:rPr b="1" lang="es-AR" sz="1200" spc="-1" strike="noStrike" u="sng">
                <a:solidFill>
                  <a:srgbClr val="000000"/>
                </a:solidFill>
                <a:uFillTx/>
                <a:latin typeface="Times New Roman"/>
              </a:rPr>
              <a:t>(27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967440" y="4941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         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87440" y="5229360"/>
            <a:ext cx="2592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ff0000"/>
                </a:solidFill>
                <a:uFillTx/>
                <a:latin typeface="Times New Roman"/>
              </a:rPr>
              <a:t>EFEC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ff0000"/>
                </a:solidFill>
                <a:uFillTx/>
                <a:latin typeface="Times New Roman"/>
              </a:rPr>
              <a:t>ANULACION DE LA GAN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513240" y="5229360"/>
            <a:ext cx="2592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ff0000"/>
                </a:solidFill>
                <a:uFillTx/>
                <a:latin typeface="Times New Roman"/>
              </a:rPr>
              <a:t>EFEC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ff0000"/>
                </a:solidFill>
                <a:uFillTx/>
                <a:latin typeface="Times New Roman"/>
              </a:rPr>
              <a:t>INCREMENTO DE LA GAN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680160" y="5229360"/>
            <a:ext cx="2592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ff0000"/>
                </a:solidFill>
                <a:uFillTx/>
                <a:latin typeface="Times New Roman"/>
              </a:rPr>
              <a:t>EFEC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 u="sng">
                <a:solidFill>
                  <a:srgbClr val="ff0000"/>
                </a:solidFill>
                <a:uFillTx/>
                <a:latin typeface="Times New Roman"/>
              </a:rPr>
              <a:t>REDUCCION DE LA GAN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969840" y="366840"/>
            <a:ext cx="804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UPUESTOS DE VINCULACIÓN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-250920" y="150660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RESOLUCIÓN GENERAL  N° 1122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95280" y="1989000"/>
            <a:ext cx="82090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95280" y="2060640"/>
            <a:ext cx="820908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k. Un sujeto provea en forma sustancial los fondos requeridos para el desarrollo de las actividades comerciales de otro, entre otras formas, mediante la concesión de préstamos o del otorgamiento de garantías de cualquier tipo en los casos de financiación provista por un terc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. Un sujeto se haga cargo de las pérdidas o gastos de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. Los directores, funcionarios, administradores de un sujeto reciban instrucciones o actúen  en interés de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. Existan acuerdos, circunstancias o situaciones por las que se otorgue la dirección a un sujeto cuya participación en el capital social sea minorit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1692360" y="620640"/>
            <a:ext cx="633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VINCULACIÓN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95280" y="1506600"/>
            <a:ext cx="5905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NÁLISIS DE CASO CONCRE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395280" y="1989000"/>
            <a:ext cx="8280360" cy="432000"/>
            <a:chOff x="395280" y="1989000"/>
            <a:chExt cx="8280360" cy="432000"/>
          </a:xfrm>
        </p:grpSpPr>
        <p:sp>
          <p:nvSpPr>
            <p:cNvPr id="1284" name=""/>
            <p:cNvSpPr/>
            <p:nvPr/>
          </p:nvSpPr>
          <p:spPr>
            <a:xfrm>
              <a:off x="395280" y="1989000"/>
              <a:ext cx="82803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2000" spc="-1" strike="noStrike">
                  <a:solidFill>
                    <a:srgbClr val="000000"/>
                  </a:solidFill>
                  <a:latin typeface="Times New Roman"/>
                </a:rPr>
                <a:t>ARGENTINA                                                         BRAS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595040" y="19890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"/>
          <p:cNvSpPr/>
          <p:nvPr/>
        </p:nvSpPr>
        <p:spPr>
          <a:xfrm>
            <a:off x="271440" y="3141720"/>
            <a:ext cx="2954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XX ARGENTINA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372360" y="4175280"/>
            <a:ext cx="2390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XX BRASIL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292720" y="3141720"/>
            <a:ext cx="3187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TRADING BRASIL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2843280" y="2997360"/>
            <a:ext cx="3109320" cy="360360"/>
            <a:chOff x="2843280" y="2997360"/>
            <a:chExt cx="3109320" cy="360360"/>
          </a:xfrm>
        </p:grpSpPr>
        <p:sp>
          <p:nvSpPr>
            <p:cNvPr id="1290" name=""/>
            <p:cNvSpPr/>
            <p:nvPr/>
          </p:nvSpPr>
          <p:spPr>
            <a:xfrm>
              <a:off x="2843280" y="2997360"/>
              <a:ext cx="31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Times New Roman"/>
                </a:rPr>
                <a:t>EXPORTACION DE BIENES “N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43280" y="3357720"/>
              <a:ext cx="303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6319800" y="357336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5076720" y="5094360"/>
            <a:ext cx="34988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RED DE DISTRIBUCION DE XX  BRASIL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276720" y="5791320"/>
            <a:ext cx="466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Times New Roman"/>
              </a:rPr>
              <a:t>VENTA DE BIENES “N” A LOS DISTRIBUIDORES EXCLUSIVOS DE XX BRASIL S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8243640" y="3501720"/>
            <a:ext cx="309600" cy="647640"/>
            <a:chOff x="8243640" y="3501720"/>
            <a:chExt cx="309600" cy="647640"/>
          </a:xfrm>
        </p:grpSpPr>
        <p:sp>
          <p:nvSpPr>
            <p:cNvPr id="1296" name=""/>
            <p:cNvSpPr/>
            <p:nvPr/>
          </p:nvSpPr>
          <p:spPr>
            <a:xfrm flipV="1">
              <a:off x="8553240" y="3501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8243640" y="3502080"/>
              <a:ext cx="30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8" name=""/>
          <p:cNvSpPr/>
          <p:nvPr/>
        </p:nvSpPr>
        <p:spPr>
          <a:xfrm>
            <a:off x="0" y="2995560"/>
            <a:ext cx="10691640" cy="180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0" y="2419200"/>
            <a:ext cx="10691640" cy="180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684360" y="2492280"/>
            <a:ext cx="7920000" cy="431640"/>
            <a:chOff x="684360" y="2492280"/>
            <a:chExt cx="7920000" cy="431640"/>
          </a:xfrm>
        </p:grpSpPr>
        <p:sp>
          <p:nvSpPr>
            <p:cNvPr id="1301" name=""/>
            <p:cNvSpPr/>
            <p:nvPr/>
          </p:nvSpPr>
          <p:spPr>
            <a:xfrm>
              <a:off x="684360" y="2492280"/>
              <a:ext cx="792000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2000" spc="-1" strike="noStrike">
                  <a:solidFill>
                    <a:srgbClr val="000000"/>
                  </a:solidFill>
                  <a:latin typeface="Times New Roman"/>
                </a:rPr>
                <a:t>XX ARGENTINA S.A.                                          XX BRASIL S.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701240" y="24922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3" name=""/>
          <p:cNvGrpSpPr/>
          <p:nvPr/>
        </p:nvGrpSpPr>
        <p:grpSpPr>
          <a:xfrm>
            <a:off x="4087800" y="2476440"/>
            <a:ext cx="2176200" cy="307080"/>
            <a:chOff x="4087800" y="2476440"/>
            <a:chExt cx="2176200" cy="307080"/>
          </a:xfrm>
        </p:grpSpPr>
        <p:sp>
          <p:nvSpPr>
            <p:cNvPr id="1304" name=""/>
            <p:cNvSpPr/>
            <p:nvPr/>
          </p:nvSpPr>
          <p:spPr>
            <a:xfrm>
              <a:off x="4087800" y="2763720"/>
              <a:ext cx="217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164480" y="2476440"/>
              <a:ext cx="85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Times New Roman"/>
                </a:rPr>
                <a:t>EX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6" name=""/>
          <p:cNvSpPr/>
          <p:nvPr/>
        </p:nvSpPr>
        <p:spPr>
          <a:xfrm flipH="1" flipV="1" rot="16200000">
            <a:off x="3394080" y="646560"/>
            <a:ext cx="934920" cy="7075440"/>
          </a:xfrm>
          <a:custGeom>
            <a:avLst/>
            <a:gdLst>
              <a:gd name="textAreaLeft" fmla="*/ 143640 w 934920"/>
              <a:gd name="textAreaRight" fmla="*/ 780120 w 934920"/>
              <a:gd name="textAreaTop" fmla="*/ 4623840 h 7075440"/>
              <a:gd name="textAreaBottom" fmla="*/ 5905440 h 7075440"/>
            </a:gdLst>
            <a:ahLst/>
            <a:rect l="textAreaLeft" t="textAreaTop" r="textAreaRight" b="textAreaBottom"/>
            <a:pathLst>
              <a:path w="21600" h="21600">
                <a:moveTo>
                  <a:pt x="0" y="17688"/>
                </a:moveTo>
                <a:lnTo>
                  <a:pt x="14116" y="17688"/>
                </a:lnTo>
                <a:lnTo>
                  <a:pt x="14116" y="3333"/>
                </a:lnTo>
                <a:lnTo>
                  <a:pt x="10544" y="3333"/>
                </a:lnTo>
                <a:lnTo>
                  <a:pt x="16072" y="0"/>
                </a:lnTo>
                <a:lnTo>
                  <a:pt x="21600" y="3333"/>
                </a:lnTo>
                <a:lnTo>
                  <a:pt x="18028" y="3333"/>
                </a:lnTo>
                <a:lnTo>
                  <a:pt x="180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14360" y="5013360"/>
            <a:ext cx="466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SUBSIDIARIAS DEL GRUPO XX USA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4" dur="indefinite" restart="never" nodeType="tmRoot">
          <p:childTnLst>
            <p:seq>
              <p:cTn id="1955" dur="indefinite" nodeType="mainSeq">
                <p:childTnLst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7" dur="2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250920" y="1506600"/>
            <a:ext cx="5688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PROCESO COMPLETO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050920" y="54936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0" name="Rectangle 17"/>
          <p:cNvGrpSpPr/>
          <p:nvPr/>
        </p:nvGrpSpPr>
        <p:grpSpPr>
          <a:xfrm>
            <a:off x="1154160" y="2406600"/>
            <a:ext cx="7272000" cy="577800"/>
            <a:chOff x="1154160" y="2406600"/>
            <a:chExt cx="7272000" cy="577800"/>
          </a:xfrm>
        </p:grpSpPr>
        <p:pic>
          <p:nvPicPr>
            <p:cNvPr id="1311" name="Rectangle 17" descr=""/>
            <p:cNvPicPr/>
            <p:nvPr/>
          </p:nvPicPr>
          <p:blipFill>
            <a:blip r:embed="rId1"/>
            <a:stretch/>
          </p:blipFill>
          <p:spPr>
            <a:xfrm>
              <a:off x="1154160" y="240660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2" name=""/>
            <p:cNvSpPr/>
            <p:nvPr/>
          </p:nvSpPr>
          <p:spPr>
            <a:xfrm>
              <a:off x="1287000" y="245988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ARA QUÉ CONTROLAR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3" name="Rectangle 17"/>
          <p:cNvGrpSpPr/>
          <p:nvPr/>
        </p:nvGrpSpPr>
        <p:grpSpPr>
          <a:xfrm>
            <a:off x="1154160" y="4133880"/>
            <a:ext cx="7272000" cy="577800"/>
            <a:chOff x="1154160" y="4133880"/>
            <a:chExt cx="7272000" cy="577800"/>
          </a:xfrm>
        </p:grpSpPr>
        <p:pic>
          <p:nvPicPr>
            <p:cNvPr id="1314" name="Rectangle 17" descr=""/>
            <p:cNvPicPr/>
            <p:nvPr/>
          </p:nvPicPr>
          <p:blipFill>
            <a:blip r:embed="rId2"/>
            <a:stretch/>
          </p:blipFill>
          <p:spPr>
            <a:xfrm>
              <a:off x="1154160" y="413388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5" name=""/>
            <p:cNvSpPr/>
            <p:nvPr/>
          </p:nvSpPr>
          <p:spPr>
            <a:xfrm>
              <a:off x="1287000" y="418716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 QUIÉN CONTROLAR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6" name="Rectangle 17"/>
          <p:cNvGrpSpPr/>
          <p:nvPr/>
        </p:nvGrpSpPr>
        <p:grpSpPr>
          <a:xfrm>
            <a:off x="1154160" y="3341520"/>
            <a:ext cx="7272000" cy="578160"/>
            <a:chOff x="1154160" y="3341520"/>
            <a:chExt cx="7272000" cy="578160"/>
          </a:xfrm>
        </p:grpSpPr>
        <p:pic>
          <p:nvPicPr>
            <p:cNvPr id="1317" name="Rectangle 17" descr=""/>
            <p:cNvPicPr/>
            <p:nvPr/>
          </p:nvPicPr>
          <p:blipFill>
            <a:blip r:embed="rId3"/>
            <a:stretch/>
          </p:blipFill>
          <p:spPr>
            <a:xfrm>
              <a:off x="1154160" y="3341520"/>
              <a:ext cx="727200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8" name=""/>
            <p:cNvSpPr/>
            <p:nvPr/>
          </p:nvSpPr>
          <p:spPr>
            <a:xfrm>
              <a:off x="1287000" y="3394800"/>
              <a:ext cx="701820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QUÉ  CONTROLAR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9" name="Rectangle 17"/>
          <p:cNvGrpSpPr/>
          <p:nvPr/>
        </p:nvGrpSpPr>
        <p:grpSpPr>
          <a:xfrm>
            <a:off x="1154160" y="4997520"/>
            <a:ext cx="7272000" cy="577800"/>
            <a:chOff x="1154160" y="4997520"/>
            <a:chExt cx="7272000" cy="577800"/>
          </a:xfrm>
        </p:grpSpPr>
        <p:pic>
          <p:nvPicPr>
            <p:cNvPr id="1320" name="Rectangle 17" descr=""/>
            <p:cNvPicPr/>
            <p:nvPr/>
          </p:nvPicPr>
          <p:blipFill>
            <a:blip r:embed="rId4"/>
            <a:stretch/>
          </p:blipFill>
          <p:spPr>
            <a:xfrm>
              <a:off x="1154160" y="499752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1" name=""/>
            <p:cNvSpPr/>
            <p:nvPr/>
          </p:nvSpPr>
          <p:spPr>
            <a:xfrm>
              <a:off x="1287000" y="505080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ÓMO CONTROLAR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51" dur="indefinite" restart="never" nodeType="tmRoot">
          <p:childTnLst>
            <p:seq>
              <p:cTn id="2052" dur="indefinite" nodeType="mainSeq">
                <p:childTnLst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7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2" dur="1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7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2" dur="1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5" name="Rectangle 17"/>
          <p:cNvGrpSpPr/>
          <p:nvPr/>
        </p:nvGrpSpPr>
        <p:grpSpPr>
          <a:xfrm>
            <a:off x="971640" y="2476440"/>
            <a:ext cx="7272000" cy="433440"/>
            <a:chOff x="971640" y="2476440"/>
            <a:chExt cx="7272000" cy="433440"/>
          </a:xfrm>
        </p:grpSpPr>
        <p:pic>
          <p:nvPicPr>
            <p:cNvPr id="1326" name="Rectangle 17" descr=""/>
            <p:cNvPicPr/>
            <p:nvPr/>
          </p:nvPicPr>
          <p:blipFill>
            <a:blip r:embed="rId1"/>
            <a:stretch/>
          </p:blipFill>
          <p:spPr>
            <a:xfrm>
              <a:off x="971640" y="2476440"/>
              <a:ext cx="727200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>
              <a:off x="1104480" y="2516400"/>
              <a:ext cx="7018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RESGUARDAR LA BASE IMPONIBLE NA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Rectangle 17"/>
          <p:cNvGrpSpPr/>
          <p:nvPr/>
        </p:nvGrpSpPr>
        <p:grpSpPr>
          <a:xfrm>
            <a:off x="971640" y="3484440"/>
            <a:ext cx="7272000" cy="577800"/>
            <a:chOff x="971640" y="3484440"/>
            <a:chExt cx="7272000" cy="577800"/>
          </a:xfrm>
        </p:grpSpPr>
        <p:pic>
          <p:nvPicPr>
            <p:cNvPr id="1329" name="Rectangle 17" descr=""/>
            <p:cNvPicPr/>
            <p:nvPr/>
          </p:nvPicPr>
          <p:blipFill>
            <a:blip r:embed="rId2"/>
            <a:stretch/>
          </p:blipFill>
          <p:spPr>
            <a:xfrm>
              <a:off x="971640" y="348444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>
              <a:off x="1104480" y="353772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LIMITAR LA POSIBILIDAD DEL DESARROLLO DE MANIOBRAS ELUSIVAS Y/O EVASIVAS ANTE LA PERCEPCIÓN DE RIESGO OBJETIVO DE SER FISCALIZ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Rectangle 17"/>
          <p:cNvGrpSpPr/>
          <p:nvPr/>
        </p:nvGrpSpPr>
        <p:grpSpPr>
          <a:xfrm>
            <a:off x="971640" y="2908440"/>
            <a:ext cx="7272000" cy="577800"/>
            <a:chOff x="971640" y="2908440"/>
            <a:chExt cx="7272000" cy="577800"/>
          </a:xfrm>
        </p:grpSpPr>
        <p:pic>
          <p:nvPicPr>
            <p:cNvPr id="1332" name="Rectangle 17" descr=""/>
            <p:cNvPicPr/>
            <p:nvPr/>
          </p:nvPicPr>
          <p:blipFill>
            <a:blip r:embed="rId3"/>
            <a:stretch/>
          </p:blipFill>
          <p:spPr>
            <a:xfrm>
              <a:off x="971640" y="290844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3" name=""/>
            <p:cNvSpPr/>
            <p:nvPr/>
          </p:nvSpPr>
          <p:spPr>
            <a:xfrm>
              <a:off x="1104480" y="296172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ESALENTAR LA UTILIZACIÓN DE ESTRATEGIAS DE PLANIFICACIÓN FISCAL NOC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4" name="Rectangle 17"/>
          <p:cNvGrpSpPr/>
          <p:nvPr/>
        </p:nvGrpSpPr>
        <p:grpSpPr>
          <a:xfrm>
            <a:off x="971640" y="4062240"/>
            <a:ext cx="7272000" cy="719280"/>
            <a:chOff x="971640" y="4062240"/>
            <a:chExt cx="7272000" cy="719280"/>
          </a:xfrm>
        </p:grpSpPr>
        <p:pic>
          <p:nvPicPr>
            <p:cNvPr id="1335" name="Rectangle 17" descr=""/>
            <p:cNvPicPr/>
            <p:nvPr/>
          </p:nvPicPr>
          <p:blipFill>
            <a:blip r:embed="rId4"/>
            <a:stretch/>
          </p:blipFill>
          <p:spPr>
            <a:xfrm>
              <a:off x="971640" y="4062240"/>
              <a:ext cx="72720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6" name=""/>
            <p:cNvSpPr/>
            <p:nvPr/>
          </p:nvSpPr>
          <p:spPr>
            <a:xfrm>
              <a:off x="1104480" y="4128480"/>
              <a:ext cx="7018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DQUIRIR EXPERIENCIA QUE PERMITA ANTICIPAR CONTINGENCIAS EN EL CONTROL Y ADOPTAR MEDIDAS OPORTU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7" name="Rectangle 17"/>
          <p:cNvGrpSpPr/>
          <p:nvPr/>
        </p:nvGrpSpPr>
        <p:grpSpPr>
          <a:xfrm>
            <a:off x="971640" y="4782960"/>
            <a:ext cx="7272000" cy="865080"/>
            <a:chOff x="971640" y="4782960"/>
            <a:chExt cx="7272000" cy="865080"/>
          </a:xfrm>
        </p:grpSpPr>
        <p:pic>
          <p:nvPicPr>
            <p:cNvPr id="1338" name="Rectangle 17" descr=""/>
            <p:cNvPicPr/>
            <p:nvPr/>
          </p:nvPicPr>
          <p:blipFill>
            <a:blip r:embed="rId5"/>
            <a:stretch/>
          </p:blipFill>
          <p:spPr>
            <a:xfrm>
              <a:off x="971640" y="4782960"/>
              <a:ext cx="72720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9" name=""/>
            <p:cNvSpPr/>
            <p:nvPr/>
          </p:nvSpPr>
          <p:spPr>
            <a:xfrm>
              <a:off x="1104480" y="4862880"/>
              <a:ext cx="7018200" cy="66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NO GENERAR DESEQUILIBRIO DE TRATO FISCAL ENTRE LOS CONTRIBUYENTES QUE DESARROLLAN SU ACTIVIDAD SÓLO EN EL PLANO LOCAL Y LOS QUE LA EJERCEN EN EL PLANO TRANSFRONTERIZ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0" name="Rectangle 17"/>
          <p:cNvGrpSpPr/>
          <p:nvPr/>
        </p:nvGrpSpPr>
        <p:grpSpPr>
          <a:xfrm>
            <a:off x="971640" y="5646600"/>
            <a:ext cx="7273440" cy="505080"/>
            <a:chOff x="971640" y="5646600"/>
            <a:chExt cx="7273440" cy="505080"/>
          </a:xfrm>
        </p:grpSpPr>
        <p:pic>
          <p:nvPicPr>
            <p:cNvPr id="1341" name="Rectangle 17" descr=""/>
            <p:cNvPicPr/>
            <p:nvPr/>
          </p:nvPicPr>
          <p:blipFill>
            <a:blip r:embed="rId6"/>
            <a:stretch/>
          </p:blipFill>
          <p:spPr>
            <a:xfrm>
              <a:off x="971640" y="5646600"/>
              <a:ext cx="727344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2" name=""/>
            <p:cNvSpPr/>
            <p:nvPr/>
          </p:nvSpPr>
          <p:spPr>
            <a:xfrm>
              <a:off x="1104480" y="5693040"/>
              <a:ext cx="701964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LENTAR EL CUMPLIMIENTO VOLUNT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3" name="Rectangle 17"/>
          <p:cNvGrpSpPr/>
          <p:nvPr/>
        </p:nvGrpSpPr>
        <p:grpSpPr>
          <a:xfrm>
            <a:off x="971640" y="2046240"/>
            <a:ext cx="7272000" cy="433440"/>
            <a:chOff x="971640" y="2046240"/>
            <a:chExt cx="7272000" cy="433440"/>
          </a:xfrm>
        </p:grpSpPr>
        <p:pic>
          <p:nvPicPr>
            <p:cNvPr id="1344" name="Rectangle 17" descr=""/>
            <p:cNvPicPr/>
            <p:nvPr/>
          </p:nvPicPr>
          <p:blipFill>
            <a:blip r:embed="rId7"/>
            <a:stretch/>
          </p:blipFill>
          <p:spPr>
            <a:xfrm>
              <a:off x="971640" y="2046240"/>
              <a:ext cx="727200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5" name=""/>
            <p:cNvSpPr/>
            <p:nvPr/>
          </p:nvSpPr>
          <p:spPr>
            <a:xfrm>
              <a:off x="1104480" y="2086200"/>
              <a:ext cx="7018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UMPLIR EL MANDATO LEG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6" name=""/>
          <p:cNvSpPr/>
          <p:nvPr/>
        </p:nvSpPr>
        <p:spPr>
          <a:xfrm>
            <a:off x="324000" y="1557360"/>
            <a:ext cx="5760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PARA QUÉ CONTROLAR?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3" dur="indefinite" restart="never" nodeType="tmRoot">
          <p:childTnLst>
            <p:seq>
              <p:cTn id="2074" dur="indefinite" nodeType="mainSeq">
                <p:childTnLst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9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4" dur="1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9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4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9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4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9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Rectangle 17"/>
          <p:cNvGrpSpPr/>
          <p:nvPr/>
        </p:nvGrpSpPr>
        <p:grpSpPr>
          <a:xfrm>
            <a:off x="971640" y="3573360"/>
            <a:ext cx="7272000" cy="2375640"/>
            <a:chOff x="971640" y="3573360"/>
            <a:chExt cx="7272000" cy="2375640"/>
          </a:xfrm>
        </p:grpSpPr>
        <p:pic>
          <p:nvPicPr>
            <p:cNvPr id="1349" name="Rectangle 17" descr=""/>
            <p:cNvPicPr/>
            <p:nvPr/>
          </p:nvPicPr>
          <p:blipFill>
            <a:blip r:embed="rId1"/>
            <a:stretch/>
          </p:blipFill>
          <p:spPr>
            <a:xfrm>
              <a:off x="971640" y="3573360"/>
              <a:ext cx="7272000" cy="23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1104480" y="3792600"/>
              <a:ext cx="7018200" cy="18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OBLIGACIONES MATER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JUSTIFICACIÓN DE LOS PRECIOS DE TRANSFERE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NÁLISIS FUN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ROCESO DE COMPARABIL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LECCIÓN DE COMPA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RATIOS DE RENTABIL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RANGO DE MERC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1" name="Rectangle 17"/>
          <p:cNvGrpSpPr/>
          <p:nvPr/>
        </p:nvGrpSpPr>
        <p:grpSpPr>
          <a:xfrm>
            <a:off x="971640" y="2133720"/>
            <a:ext cx="7272000" cy="1368000"/>
            <a:chOff x="971640" y="2133720"/>
            <a:chExt cx="7272000" cy="1368000"/>
          </a:xfrm>
        </p:grpSpPr>
        <p:pic>
          <p:nvPicPr>
            <p:cNvPr id="1352" name="Rectangle 17" descr=""/>
            <p:cNvPicPr/>
            <p:nvPr/>
          </p:nvPicPr>
          <p:blipFill>
            <a:blip r:embed="rId2"/>
            <a:stretch/>
          </p:blipFill>
          <p:spPr>
            <a:xfrm>
              <a:off x="971640" y="2133720"/>
              <a:ext cx="7272000" cy="13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3" name=""/>
            <p:cNvSpPr/>
            <p:nvPr/>
          </p:nvSpPr>
          <p:spPr>
            <a:xfrm>
              <a:off x="1104480" y="2260080"/>
              <a:ext cx="7018200" cy="10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OBLIGACIONES FORMAL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RESENTACIÓN DE DECLARACIONES JURADAS DE OPERACIONES INTERNACI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PLICACIÓN DE SANCIONES POR INFRACCIONES FORM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4" name=""/>
          <p:cNvSpPr/>
          <p:nvPr/>
        </p:nvSpPr>
        <p:spPr>
          <a:xfrm>
            <a:off x="395280" y="1506600"/>
            <a:ext cx="58323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¿QUÉ CONTRO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0" dur="indefinite" restart="never" nodeType="tmRoot">
          <p:childTnLst>
            <p:seq>
              <p:cTn id="2111" dur="indefinite" nodeType="mainSeq">
                <p:childTnLst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6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1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1009800" y="2133720"/>
            <a:ext cx="7200720" cy="3528720"/>
            <a:chOff x="1009800" y="2133720"/>
            <a:chExt cx="7200720" cy="3528720"/>
          </a:xfrm>
        </p:grpSpPr>
        <p:pic>
          <p:nvPicPr>
            <p:cNvPr id="1357" name="Rectangle 17" descr=""/>
            <p:cNvPicPr/>
            <p:nvPr/>
          </p:nvPicPr>
          <p:blipFill>
            <a:blip r:embed="rId1"/>
            <a:stretch/>
          </p:blipFill>
          <p:spPr>
            <a:xfrm>
              <a:off x="1009800" y="2133720"/>
              <a:ext cx="720072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8" name=""/>
            <p:cNvSpPr/>
            <p:nvPr/>
          </p:nvSpPr>
          <p:spPr>
            <a:xfrm>
              <a:off x="1141560" y="2458800"/>
              <a:ext cx="6948360" cy="27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SELECCIÓN DE CONTRIBUYENTES EN FORMA INDIVID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 POR RAZONES PARTICULARES EN FUNCIÓN DE LA MATRIZ DE RIES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ETERMINADA PARA OPERACIONES INTERNACI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 POR TIPO DE OPERACIONES, INCLUÍDAS LA REALIZADAS CON PARAÍSOS FIS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 POR DESVÍOS EN SUS RESULTADOS Y EN SU SITUACIÓN PATRIMONIAL, EN RELACIÓ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 LOS INDICADORES DEL SECTOR ECONÓMICO AL QUE PERTENE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 POR CIRCUNSTANCIAS Y/O SITUACIONES DEL CONTEXTO ECONÓM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INTERNA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539640" y="1506600"/>
            <a:ext cx="5616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¿A QUIÉN CONTRO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2" dur="indefinite" restart="never" nodeType="tmRoot">
          <p:childTnLst>
            <p:seq>
              <p:cTn id="2123" dur="indefinite" nodeType="mainSeq">
                <p:childTnLst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8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1" name="Rectangle 17"/>
          <p:cNvGrpSpPr/>
          <p:nvPr/>
        </p:nvGrpSpPr>
        <p:grpSpPr>
          <a:xfrm>
            <a:off x="971640" y="2635200"/>
            <a:ext cx="7272000" cy="577800"/>
            <a:chOff x="971640" y="2635200"/>
            <a:chExt cx="7272000" cy="577800"/>
          </a:xfrm>
        </p:grpSpPr>
        <p:pic>
          <p:nvPicPr>
            <p:cNvPr id="1362" name="Rectangle 17" descr=""/>
            <p:cNvPicPr/>
            <p:nvPr/>
          </p:nvPicPr>
          <p:blipFill>
            <a:blip r:embed="rId1"/>
            <a:stretch/>
          </p:blipFill>
          <p:spPr>
            <a:xfrm>
              <a:off x="971640" y="263520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3" name=""/>
            <p:cNvSpPr/>
            <p:nvPr/>
          </p:nvSpPr>
          <p:spPr>
            <a:xfrm>
              <a:off x="1104480" y="268848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MARCO LEGAL ADECU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Rectangle 17"/>
          <p:cNvGrpSpPr/>
          <p:nvPr/>
        </p:nvGrpSpPr>
        <p:grpSpPr>
          <a:xfrm>
            <a:off x="971640" y="4290840"/>
            <a:ext cx="7272000" cy="578160"/>
            <a:chOff x="971640" y="4290840"/>
            <a:chExt cx="7272000" cy="578160"/>
          </a:xfrm>
        </p:grpSpPr>
        <p:pic>
          <p:nvPicPr>
            <p:cNvPr id="1365" name="Rectangle 17" descr=""/>
            <p:cNvPicPr/>
            <p:nvPr/>
          </p:nvPicPr>
          <p:blipFill>
            <a:blip r:embed="rId2"/>
            <a:stretch/>
          </p:blipFill>
          <p:spPr>
            <a:xfrm>
              <a:off x="971640" y="4290840"/>
              <a:ext cx="727200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6" name=""/>
            <p:cNvSpPr/>
            <p:nvPr/>
          </p:nvSpPr>
          <p:spPr>
            <a:xfrm>
              <a:off x="1104480" y="4344120"/>
              <a:ext cx="701820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ISPONIBILIDAD DE INFORMACIÓN: INTERCAMBIO DE INFORMACIÓN INTERNA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7" name="Rectangle 17"/>
          <p:cNvGrpSpPr/>
          <p:nvPr/>
        </p:nvGrpSpPr>
        <p:grpSpPr>
          <a:xfrm>
            <a:off x="971640" y="3427560"/>
            <a:ext cx="7272000" cy="577800"/>
            <a:chOff x="971640" y="3427560"/>
            <a:chExt cx="7272000" cy="577800"/>
          </a:xfrm>
        </p:grpSpPr>
        <p:pic>
          <p:nvPicPr>
            <p:cNvPr id="1368" name="Rectangle 17" descr=""/>
            <p:cNvPicPr/>
            <p:nvPr/>
          </p:nvPicPr>
          <p:blipFill>
            <a:blip r:embed="rId3"/>
            <a:stretch/>
          </p:blipFill>
          <p:spPr>
            <a:xfrm>
              <a:off x="971640" y="342756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9" name=""/>
            <p:cNvSpPr/>
            <p:nvPr/>
          </p:nvSpPr>
          <p:spPr>
            <a:xfrm>
              <a:off x="1104480" y="348084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STRUCTURA ORGANIZA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0" name="Rectangle 17"/>
          <p:cNvGrpSpPr/>
          <p:nvPr/>
        </p:nvGrpSpPr>
        <p:grpSpPr>
          <a:xfrm>
            <a:off x="971640" y="5156280"/>
            <a:ext cx="7272000" cy="577800"/>
            <a:chOff x="971640" y="5156280"/>
            <a:chExt cx="7272000" cy="577800"/>
          </a:xfrm>
        </p:grpSpPr>
        <p:pic>
          <p:nvPicPr>
            <p:cNvPr id="1371" name="Rectangle 17" descr=""/>
            <p:cNvPicPr/>
            <p:nvPr/>
          </p:nvPicPr>
          <p:blipFill>
            <a:blip r:embed="rId4"/>
            <a:stretch/>
          </p:blipFill>
          <p:spPr>
            <a:xfrm>
              <a:off x="971640" y="515628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2" name=""/>
            <p:cNvSpPr/>
            <p:nvPr/>
          </p:nvSpPr>
          <p:spPr>
            <a:xfrm>
              <a:off x="1104480" y="520956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OOPERACIÓN INTERNA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3" name=""/>
          <p:cNvSpPr/>
          <p:nvPr/>
        </p:nvSpPr>
        <p:spPr>
          <a:xfrm>
            <a:off x="-109440" y="1506600"/>
            <a:ext cx="6697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ÓMO CONTROLAR? HERRAM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9" dur="indefinite" restart="never" nodeType="tmRoot">
          <p:childTnLst>
            <p:seq>
              <p:cTn id="2130" dur="indefinite" nodeType="mainSeq">
                <p:childTnLst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5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0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5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0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Rectangle 17"/>
          <p:cNvGrpSpPr/>
          <p:nvPr/>
        </p:nvGrpSpPr>
        <p:grpSpPr>
          <a:xfrm>
            <a:off x="971640" y="2133720"/>
            <a:ext cx="7272000" cy="577800"/>
            <a:chOff x="971640" y="2133720"/>
            <a:chExt cx="7272000" cy="577800"/>
          </a:xfrm>
        </p:grpSpPr>
        <p:pic>
          <p:nvPicPr>
            <p:cNvPr id="1378" name="Rectangle 17" descr=""/>
            <p:cNvPicPr/>
            <p:nvPr/>
          </p:nvPicPr>
          <p:blipFill>
            <a:blip r:embed="rId1"/>
            <a:stretch/>
          </p:blipFill>
          <p:spPr>
            <a:xfrm>
              <a:off x="971640" y="213372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>
              <a:off x="1104480" y="218700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STUDIOS ECONÓMICOS SECTOR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0" name="Rectangle 17"/>
          <p:cNvGrpSpPr/>
          <p:nvPr/>
        </p:nvGrpSpPr>
        <p:grpSpPr>
          <a:xfrm>
            <a:off x="971640" y="3500280"/>
            <a:ext cx="7272000" cy="578160"/>
            <a:chOff x="971640" y="3500280"/>
            <a:chExt cx="7272000" cy="578160"/>
          </a:xfrm>
        </p:grpSpPr>
        <p:pic>
          <p:nvPicPr>
            <p:cNvPr id="1381" name="Rectangle 17" descr=""/>
            <p:cNvPicPr/>
            <p:nvPr/>
          </p:nvPicPr>
          <p:blipFill>
            <a:blip r:embed="rId2"/>
            <a:stretch/>
          </p:blipFill>
          <p:spPr>
            <a:xfrm>
              <a:off x="971640" y="3500280"/>
              <a:ext cx="727200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2" name=""/>
            <p:cNvSpPr/>
            <p:nvPr/>
          </p:nvSpPr>
          <p:spPr>
            <a:xfrm>
              <a:off x="1104480" y="3553560"/>
              <a:ext cx="701820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BASES EXTERNAS DE AF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BCRA – INPI – SISTEMAS ADUANEROS INTERNACIONALES - INTERN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3" name="Rectangle 17"/>
          <p:cNvGrpSpPr/>
          <p:nvPr/>
        </p:nvGrpSpPr>
        <p:grpSpPr>
          <a:xfrm>
            <a:off x="971640" y="2781360"/>
            <a:ext cx="7272000" cy="577800"/>
            <a:chOff x="971640" y="2781360"/>
            <a:chExt cx="7272000" cy="577800"/>
          </a:xfrm>
        </p:grpSpPr>
        <p:pic>
          <p:nvPicPr>
            <p:cNvPr id="1384" name="Rectangle 17" descr=""/>
            <p:cNvPicPr/>
            <p:nvPr/>
          </p:nvPicPr>
          <p:blipFill>
            <a:blip r:embed="rId3"/>
            <a:stretch/>
          </p:blipFill>
          <p:spPr>
            <a:xfrm>
              <a:off x="971640" y="278136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5" name=""/>
            <p:cNvSpPr/>
            <p:nvPr/>
          </p:nvSpPr>
          <p:spPr>
            <a:xfrm>
              <a:off x="1104480" y="283464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BASES PROPIAS DE AF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6" name="Rectangle 17"/>
          <p:cNvGrpSpPr/>
          <p:nvPr/>
        </p:nvGrpSpPr>
        <p:grpSpPr>
          <a:xfrm>
            <a:off x="971640" y="4149720"/>
            <a:ext cx="7272000" cy="577800"/>
            <a:chOff x="971640" y="4149720"/>
            <a:chExt cx="7272000" cy="577800"/>
          </a:xfrm>
        </p:grpSpPr>
        <p:pic>
          <p:nvPicPr>
            <p:cNvPr id="1387" name="Rectangle 17" descr=""/>
            <p:cNvPicPr/>
            <p:nvPr/>
          </p:nvPicPr>
          <p:blipFill>
            <a:blip r:embed="rId4"/>
            <a:stretch/>
          </p:blipFill>
          <p:spPr>
            <a:xfrm>
              <a:off x="971640" y="414972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8" name=""/>
            <p:cNvSpPr/>
            <p:nvPr/>
          </p:nvSpPr>
          <p:spPr>
            <a:xfrm>
              <a:off x="1104480" y="420300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NÁLISIS DE LOS ESTUDIOS DE PRECIOS DE TRANSFERE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9" name="Rectangle 17"/>
          <p:cNvGrpSpPr/>
          <p:nvPr/>
        </p:nvGrpSpPr>
        <p:grpSpPr>
          <a:xfrm>
            <a:off x="971640" y="4797360"/>
            <a:ext cx="7272000" cy="577800"/>
            <a:chOff x="971640" y="4797360"/>
            <a:chExt cx="7272000" cy="577800"/>
          </a:xfrm>
        </p:grpSpPr>
        <p:pic>
          <p:nvPicPr>
            <p:cNvPr id="1390" name="Rectangle 17" descr=""/>
            <p:cNvPicPr/>
            <p:nvPr/>
          </p:nvPicPr>
          <p:blipFill>
            <a:blip r:embed="rId5"/>
            <a:stretch/>
          </p:blipFill>
          <p:spPr>
            <a:xfrm>
              <a:off x="971640" y="479736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1" name=""/>
            <p:cNvSpPr/>
            <p:nvPr/>
          </p:nvSpPr>
          <p:spPr>
            <a:xfrm>
              <a:off x="1104480" y="485064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MATRIZ DE RIESGO DE OPERACIONES INTERNACI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2" name="Rectangle 17"/>
          <p:cNvGrpSpPr/>
          <p:nvPr/>
        </p:nvGrpSpPr>
        <p:grpSpPr>
          <a:xfrm>
            <a:off x="971640" y="5445000"/>
            <a:ext cx="7272000" cy="577800"/>
            <a:chOff x="971640" y="5445000"/>
            <a:chExt cx="7272000" cy="577800"/>
          </a:xfrm>
        </p:grpSpPr>
        <p:pic>
          <p:nvPicPr>
            <p:cNvPr id="1393" name="Rectangle 17" descr=""/>
            <p:cNvPicPr/>
            <p:nvPr/>
          </p:nvPicPr>
          <p:blipFill>
            <a:blip r:embed="rId6"/>
            <a:stretch/>
          </p:blipFill>
          <p:spPr>
            <a:xfrm>
              <a:off x="971640" y="544500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4" name=""/>
            <p:cNvSpPr/>
            <p:nvPr/>
          </p:nvSpPr>
          <p:spPr>
            <a:xfrm>
              <a:off x="1104480" y="549828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ICTAMEN TÉCNICO TRIBUT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"/>
          <p:cNvSpPr/>
          <p:nvPr/>
        </p:nvSpPr>
        <p:spPr>
          <a:xfrm>
            <a:off x="-109440" y="1506600"/>
            <a:ext cx="6697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ÓMO CONTROLAR? HERRAM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1" dur="indefinite" restart="never" nodeType="tmRoot">
          <p:childTnLst>
            <p:seq>
              <p:cTn id="2152" dur="indefinite" nodeType="mainSeq">
                <p:childTnLst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7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fill="hold">
                      <p:stCondLst>
                        <p:cond delay="indefinite"/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2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7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2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7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2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9" name="Rectangle 17"/>
          <p:cNvGrpSpPr/>
          <p:nvPr/>
        </p:nvGrpSpPr>
        <p:grpSpPr>
          <a:xfrm>
            <a:off x="971640" y="2205000"/>
            <a:ext cx="7272000" cy="577800"/>
            <a:chOff x="971640" y="2205000"/>
            <a:chExt cx="7272000" cy="577800"/>
          </a:xfrm>
        </p:grpSpPr>
        <p:pic>
          <p:nvPicPr>
            <p:cNvPr id="1400" name="Rectangle 17" descr=""/>
            <p:cNvPicPr/>
            <p:nvPr/>
          </p:nvPicPr>
          <p:blipFill>
            <a:blip r:embed="rId1"/>
            <a:stretch/>
          </p:blipFill>
          <p:spPr>
            <a:xfrm>
              <a:off x="971640" y="220500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1" name=""/>
            <p:cNvSpPr/>
            <p:nvPr/>
          </p:nvSpPr>
          <p:spPr>
            <a:xfrm>
              <a:off x="1104480" y="225828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890 CONTRIBUYENTES QUE TRIANGULAN EXPORTACIONES – VERIFICACIÓN DE LA SUSTANCIA ECONÓMICA DEL INTERMEDI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2" name="Rectangle 17"/>
          <p:cNvGrpSpPr/>
          <p:nvPr/>
        </p:nvGrpSpPr>
        <p:grpSpPr>
          <a:xfrm>
            <a:off x="971640" y="3573360"/>
            <a:ext cx="7272000" cy="577800"/>
            <a:chOff x="971640" y="3573360"/>
            <a:chExt cx="7272000" cy="577800"/>
          </a:xfrm>
        </p:grpSpPr>
        <p:pic>
          <p:nvPicPr>
            <p:cNvPr id="1403" name="Rectangle 17" descr=""/>
            <p:cNvPicPr/>
            <p:nvPr/>
          </p:nvPicPr>
          <p:blipFill>
            <a:blip r:embed="rId2"/>
            <a:stretch/>
          </p:blipFill>
          <p:spPr>
            <a:xfrm>
              <a:off x="971640" y="357336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4" name=""/>
            <p:cNvSpPr/>
            <p:nvPr/>
          </p:nvSpPr>
          <p:spPr>
            <a:xfrm>
              <a:off x="1104480" y="362664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 DETECTARON 2882 CONTRATOS NO REGISTRADOS EN EL INPI Y 6205 CONTRATOS CON DIFERENCIAS EN LA RETENCIÓN DEL IMPUESTO A LAS GANANCIAS EN LA FU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5" name="Rectangle 17"/>
          <p:cNvGrpSpPr/>
          <p:nvPr/>
        </p:nvGrpSpPr>
        <p:grpSpPr>
          <a:xfrm>
            <a:off x="971640" y="2852640"/>
            <a:ext cx="7272000" cy="577800"/>
            <a:chOff x="971640" y="2852640"/>
            <a:chExt cx="7272000" cy="577800"/>
          </a:xfrm>
        </p:grpSpPr>
        <p:pic>
          <p:nvPicPr>
            <p:cNvPr id="1406" name="Rectangle 17" descr=""/>
            <p:cNvPicPr/>
            <p:nvPr/>
          </p:nvPicPr>
          <p:blipFill>
            <a:blip r:embed="rId3"/>
            <a:stretch/>
          </p:blipFill>
          <p:spPr>
            <a:xfrm>
              <a:off x="971640" y="285264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7" name=""/>
            <p:cNvSpPr/>
            <p:nvPr/>
          </p:nvSpPr>
          <p:spPr>
            <a:xfrm>
              <a:off x="1104480" y="290592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N 4 SECTORES EL 54% DE LOS CONTRIBUYENTES PRESENTAN RATIOS DE RENTABILIDAD Y ENDEUDAMIENTO NO ACORDES CON LOS VALORES DEL SEC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8" name="Rectangle 17"/>
          <p:cNvGrpSpPr/>
          <p:nvPr/>
        </p:nvGrpSpPr>
        <p:grpSpPr>
          <a:xfrm>
            <a:off x="971640" y="4221000"/>
            <a:ext cx="7272000" cy="578160"/>
            <a:chOff x="971640" y="4221000"/>
            <a:chExt cx="7272000" cy="578160"/>
          </a:xfrm>
        </p:grpSpPr>
        <p:pic>
          <p:nvPicPr>
            <p:cNvPr id="1409" name="Rectangle 17" descr=""/>
            <p:cNvPicPr/>
            <p:nvPr/>
          </p:nvPicPr>
          <p:blipFill>
            <a:blip r:embed="rId4"/>
            <a:stretch/>
          </p:blipFill>
          <p:spPr>
            <a:xfrm>
              <a:off x="971640" y="4221000"/>
              <a:ext cx="727200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0" name=""/>
            <p:cNvSpPr/>
            <p:nvPr/>
          </p:nvSpPr>
          <p:spPr>
            <a:xfrm>
              <a:off x="1104480" y="4274280"/>
              <a:ext cx="701820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 INTIMARION 1257 CONTRIBUYENTES POR OMISIÓN EN LA PRESENTACIÓN DE 4610 DECLARACIONES JURADAS DE OPERACIONES INTERNACIONALES (200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Rectangle 17"/>
          <p:cNvGrpSpPr/>
          <p:nvPr/>
        </p:nvGrpSpPr>
        <p:grpSpPr>
          <a:xfrm>
            <a:off x="971640" y="4797360"/>
            <a:ext cx="7272000" cy="864720"/>
            <a:chOff x="971640" y="4797360"/>
            <a:chExt cx="7272000" cy="864720"/>
          </a:xfrm>
        </p:grpSpPr>
        <p:pic>
          <p:nvPicPr>
            <p:cNvPr id="1412" name="Rectangle 17" descr=""/>
            <p:cNvPicPr/>
            <p:nvPr/>
          </p:nvPicPr>
          <p:blipFill>
            <a:blip r:embed="rId5"/>
            <a:stretch/>
          </p:blipFill>
          <p:spPr>
            <a:xfrm>
              <a:off x="971640" y="4797360"/>
              <a:ext cx="7272000" cy="86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3" name=""/>
            <p:cNvSpPr/>
            <p:nvPr/>
          </p:nvSpPr>
          <p:spPr>
            <a:xfrm>
              <a:off x="1104480" y="4877280"/>
              <a:ext cx="7018200" cy="6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 DETECTARON 589 CONTRIBUYENTES POR U$S 110 MILLONES QUE OPERARON CON PARAÍSOS FISCALES Y NO PRESENTARON DECLARACIONES JURADAS DE PRECIOS DE TRANSFERENC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Rectangle 17"/>
          <p:cNvGrpSpPr/>
          <p:nvPr/>
        </p:nvGrpSpPr>
        <p:grpSpPr>
          <a:xfrm>
            <a:off x="971640" y="5661000"/>
            <a:ext cx="7272000" cy="647640"/>
            <a:chOff x="971640" y="5661000"/>
            <a:chExt cx="7272000" cy="647640"/>
          </a:xfrm>
        </p:grpSpPr>
        <p:pic>
          <p:nvPicPr>
            <p:cNvPr id="1415" name="Rectangle 17" descr=""/>
            <p:cNvPicPr/>
            <p:nvPr/>
          </p:nvPicPr>
          <p:blipFill>
            <a:blip r:embed="rId6"/>
            <a:stretch/>
          </p:blipFill>
          <p:spPr>
            <a:xfrm>
              <a:off x="971640" y="5661000"/>
              <a:ext cx="7272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6" name=""/>
            <p:cNvSpPr/>
            <p:nvPr/>
          </p:nvSpPr>
          <p:spPr>
            <a:xfrm>
              <a:off x="1104480" y="5720760"/>
              <a:ext cx="701820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MPRESAS BAJO FISCALIZACIÓN POR PRECIOS DE TRANSFERENCIA EN TODO EL PAÍ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7" name=""/>
          <p:cNvSpPr/>
          <p:nvPr/>
        </p:nvSpPr>
        <p:spPr>
          <a:xfrm>
            <a:off x="395280" y="1506600"/>
            <a:ext cx="5761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LGUNAS EXPERIENC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3" dur="indefinite" restart="never" nodeType="tmRoot">
          <p:childTnLst>
            <p:seq>
              <p:cTn id="2184" dur="indefinite" nodeType="mainSeq">
                <p:childTnLst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9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4" dur="1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9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4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9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4" dur="1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83D4-3777-4709-A6A2-9625B630ECB6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1" name="Rectangle 17"/>
          <p:cNvGrpSpPr/>
          <p:nvPr/>
        </p:nvGrpSpPr>
        <p:grpSpPr>
          <a:xfrm>
            <a:off x="971640" y="2205000"/>
            <a:ext cx="7272000" cy="577800"/>
            <a:chOff x="971640" y="2205000"/>
            <a:chExt cx="7272000" cy="577800"/>
          </a:xfrm>
        </p:grpSpPr>
        <p:pic>
          <p:nvPicPr>
            <p:cNvPr id="1422" name="Rectangle 17" descr=""/>
            <p:cNvPicPr/>
            <p:nvPr/>
          </p:nvPicPr>
          <p:blipFill>
            <a:blip r:embed="rId1"/>
            <a:stretch/>
          </p:blipFill>
          <p:spPr>
            <a:xfrm>
              <a:off x="971640" y="220500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3" name=""/>
            <p:cNvSpPr/>
            <p:nvPr/>
          </p:nvSpPr>
          <p:spPr>
            <a:xfrm>
              <a:off x="1104480" y="225828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NÁLISIS FUN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Rectangle 17"/>
          <p:cNvGrpSpPr/>
          <p:nvPr/>
        </p:nvGrpSpPr>
        <p:grpSpPr>
          <a:xfrm>
            <a:off x="971640" y="3500280"/>
            <a:ext cx="7272000" cy="578160"/>
            <a:chOff x="971640" y="3500280"/>
            <a:chExt cx="7272000" cy="578160"/>
          </a:xfrm>
        </p:grpSpPr>
        <p:pic>
          <p:nvPicPr>
            <p:cNvPr id="1425" name="Rectangle 17" descr=""/>
            <p:cNvPicPr/>
            <p:nvPr/>
          </p:nvPicPr>
          <p:blipFill>
            <a:blip r:embed="rId2"/>
            <a:stretch/>
          </p:blipFill>
          <p:spPr>
            <a:xfrm>
              <a:off x="971640" y="3500280"/>
              <a:ext cx="727200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6" name=""/>
            <p:cNvSpPr/>
            <p:nvPr/>
          </p:nvSpPr>
          <p:spPr>
            <a:xfrm>
              <a:off x="1104480" y="3553560"/>
              <a:ext cx="701820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LECCIÓN DE COMPA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Rectangle 17"/>
          <p:cNvGrpSpPr/>
          <p:nvPr/>
        </p:nvGrpSpPr>
        <p:grpSpPr>
          <a:xfrm>
            <a:off x="971640" y="2852640"/>
            <a:ext cx="7272000" cy="577800"/>
            <a:chOff x="971640" y="2852640"/>
            <a:chExt cx="7272000" cy="577800"/>
          </a:xfrm>
        </p:grpSpPr>
        <p:pic>
          <p:nvPicPr>
            <p:cNvPr id="1428" name="Rectangle 17" descr=""/>
            <p:cNvPicPr/>
            <p:nvPr/>
          </p:nvPicPr>
          <p:blipFill>
            <a:blip r:embed="rId3"/>
            <a:stretch/>
          </p:blipFill>
          <p:spPr>
            <a:xfrm>
              <a:off x="971640" y="285264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9" name=""/>
            <p:cNvSpPr/>
            <p:nvPr/>
          </p:nvSpPr>
          <p:spPr>
            <a:xfrm>
              <a:off x="1104480" y="290592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NÁLISIS DE COMPRABIL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0" name="Rectangle 17"/>
          <p:cNvGrpSpPr/>
          <p:nvPr/>
        </p:nvGrpSpPr>
        <p:grpSpPr>
          <a:xfrm>
            <a:off x="971640" y="4149720"/>
            <a:ext cx="7272000" cy="649440"/>
            <a:chOff x="971640" y="4149720"/>
            <a:chExt cx="7272000" cy="649440"/>
          </a:xfrm>
        </p:grpSpPr>
        <p:pic>
          <p:nvPicPr>
            <p:cNvPr id="1431" name="Rectangle 17" descr=""/>
            <p:cNvPicPr/>
            <p:nvPr/>
          </p:nvPicPr>
          <p:blipFill>
            <a:blip r:embed="rId4"/>
            <a:stretch/>
          </p:blipFill>
          <p:spPr>
            <a:xfrm>
              <a:off x="971640" y="4149720"/>
              <a:ext cx="727200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2" name=""/>
            <p:cNvSpPr/>
            <p:nvPr/>
          </p:nvSpPr>
          <p:spPr>
            <a:xfrm>
              <a:off x="1104480" y="4209480"/>
              <a:ext cx="7018200" cy="4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JUSTES A LA COMPARABILIDAD – INSUFICIENCIA DE INFORM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3" name="Rectangle 17"/>
          <p:cNvGrpSpPr/>
          <p:nvPr/>
        </p:nvGrpSpPr>
        <p:grpSpPr>
          <a:xfrm>
            <a:off x="971640" y="4869000"/>
            <a:ext cx="7272000" cy="720720"/>
            <a:chOff x="971640" y="4869000"/>
            <a:chExt cx="7272000" cy="720720"/>
          </a:xfrm>
        </p:grpSpPr>
        <p:pic>
          <p:nvPicPr>
            <p:cNvPr id="1434" name="Rectangle 17" descr=""/>
            <p:cNvPicPr/>
            <p:nvPr/>
          </p:nvPicPr>
          <p:blipFill>
            <a:blip r:embed="rId5"/>
            <a:stretch/>
          </p:blipFill>
          <p:spPr>
            <a:xfrm>
              <a:off x="971640" y="4869000"/>
              <a:ext cx="72720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5" name=""/>
            <p:cNvSpPr/>
            <p:nvPr/>
          </p:nvSpPr>
          <p:spPr>
            <a:xfrm>
              <a:off x="1104480" y="4935600"/>
              <a:ext cx="701820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RATIOS DE RENTABILIDAD EN EL MÉTODO MARGEN NETO DE LA TRANSA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6" name="Rectangle 17"/>
          <p:cNvGrpSpPr/>
          <p:nvPr/>
        </p:nvGrpSpPr>
        <p:grpSpPr>
          <a:xfrm>
            <a:off x="971640" y="5661000"/>
            <a:ext cx="7272000" cy="647640"/>
            <a:chOff x="971640" y="5661000"/>
            <a:chExt cx="7272000" cy="647640"/>
          </a:xfrm>
        </p:grpSpPr>
        <p:pic>
          <p:nvPicPr>
            <p:cNvPr id="1437" name="Rectangle 17" descr=""/>
            <p:cNvPicPr/>
            <p:nvPr/>
          </p:nvPicPr>
          <p:blipFill>
            <a:blip r:embed="rId6"/>
            <a:stretch/>
          </p:blipFill>
          <p:spPr>
            <a:xfrm>
              <a:off x="971640" y="5661000"/>
              <a:ext cx="7272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8" name=""/>
            <p:cNvSpPr/>
            <p:nvPr/>
          </p:nvSpPr>
          <p:spPr>
            <a:xfrm>
              <a:off x="1104480" y="5720760"/>
              <a:ext cx="701820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LECCIÓN DEL MEJOR MÉT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9" name=""/>
          <p:cNvSpPr/>
          <p:nvPr/>
        </p:nvSpPr>
        <p:spPr>
          <a:xfrm>
            <a:off x="395280" y="1506600"/>
            <a:ext cx="5689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TEMAS DE ESPECIAL INTERÉ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5" dur="indefinite" restart="never" nodeType="tmRoot">
          <p:childTnLst>
            <p:seq>
              <p:cTn id="2216" dur="indefinite" nodeType="mainSeq">
                <p:childTnLst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1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6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1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6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1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2060640"/>
            <a:ext cx="8353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80360" cy="515304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4067280" y="136836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IT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09440" y="134136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F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188720" y="19652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56360" y="134136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11280" y="1744560"/>
            <a:ext cx="232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GANANCIA                20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732840" y="177156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GANANCIA               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809400" y="179388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GANANCIA                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12360" y="2033640"/>
            <a:ext cx="23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BASE IMPONIBLE  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727440" y="2060640"/>
            <a:ext cx="23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BASE IMPONIBLE  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804000" y="206064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BASE IMPONIBLE   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51080" y="2490840"/>
            <a:ext cx="3313080" cy="3373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GANANCIA TOTAL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51080" y="2924280"/>
            <a:ext cx="3313080" cy="3373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BASE IMPONIBLE TOTAL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848520" y="350028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649320" y="350208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AISO 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309440" y="350028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F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37920" y="3935520"/>
            <a:ext cx="230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GANANCIA         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803040" y="3933720"/>
            <a:ext cx="225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GANANCIA             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809400" y="393372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GANANCIA               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33960" y="4221000"/>
            <a:ext cx="229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BASE IMPONIBLE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800520" y="4221000"/>
            <a:ext cx="224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BASE IMPONIBLE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805440" y="4221000"/>
            <a:ext cx="23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BASE IMPONIBLE  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711440" y="5661000"/>
            <a:ext cx="6192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AHORRO FISCAL  120  BASE IM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151080" y="4653000"/>
            <a:ext cx="3313080" cy="3373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GANANCIA TOTAL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151080" y="5084640"/>
            <a:ext cx="3313080" cy="33732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BASE IMPONIBLE TOTAL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 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971640" y="2333520"/>
            <a:ext cx="7200720" cy="3529080"/>
            <a:chOff x="971640" y="2333520"/>
            <a:chExt cx="7200720" cy="3529080"/>
          </a:xfrm>
        </p:grpSpPr>
        <p:pic>
          <p:nvPicPr>
            <p:cNvPr id="1444" name="Rectangle 17" descr=""/>
            <p:cNvPicPr/>
            <p:nvPr/>
          </p:nvPicPr>
          <p:blipFill>
            <a:blip r:embed="rId1"/>
            <a:stretch/>
          </p:blipFill>
          <p:spPr>
            <a:xfrm>
              <a:off x="971640" y="2333520"/>
              <a:ext cx="7200720" cy="35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5" name=""/>
            <p:cNvSpPr/>
            <p:nvPr/>
          </p:nvSpPr>
          <p:spPr>
            <a:xfrm>
              <a:off x="1103400" y="2658960"/>
              <a:ext cx="6948360" cy="27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SELECCIÓN DE CONTRIBUYENTES EN FORMA INDIVID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 POR RAZONES PARTICULARES EN FUNCIÓN DE LA MATRIZ DE RIES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ETERMINADA PARA OPERACIONES INTERNACI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 POR TIPO DE OPERACIONES, INCLUÍDAS LA REALIZADAS CON PARAÍSOS FIS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 POR DESVÍOS EN SUS RESULTADOS Y EN SU SITUACIÓN PATRIMONIAL, EN RELACIÓ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 LOS INDICADORES DEL SECTOR ECONÓMICO AL QUE PERTENE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- POR CIRCUNSTANCIAS Y/O SITUACIONES DEL CONTEXTO ECONÓM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      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INTERNA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6" name=""/>
          <p:cNvSpPr/>
          <p:nvPr/>
        </p:nvSpPr>
        <p:spPr>
          <a:xfrm>
            <a:off x="466560" y="1506600"/>
            <a:ext cx="5834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TEMAS DE ESPECIAL INTERÉS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7" dur="indefinite" restart="never" nodeType="tmRoot">
          <p:childTnLst>
            <p:seq>
              <p:cTn id="2248" dur="indefinite" nodeType="mainSeq">
                <p:childTnLst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3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"/>
          <p:cNvSpPr/>
          <p:nvPr/>
        </p:nvSpPr>
        <p:spPr>
          <a:xfrm>
            <a:off x="1835280" y="620640"/>
            <a:ext cx="6769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971640" y="115920"/>
            <a:ext cx="7162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F983-DAF4-419A-8DFA-B45E9AE9AC21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1" name="Rectangle 17"/>
          <p:cNvGrpSpPr/>
          <p:nvPr/>
        </p:nvGrpSpPr>
        <p:grpSpPr>
          <a:xfrm>
            <a:off x="971640" y="1989000"/>
            <a:ext cx="7272000" cy="578160"/>
            <a:chOff x="971640" y="1989000"/>
            <a:chExt cx="7272000" cy="578160"/>
          </a:xfrm>
        </p:grpSpPr>
        <p:pic>
          <p:nvPicPr>
            <p:cNvPr id="1452" name="Rectangle 17" descr=""/>
            <p:cNvPicPr/>
            <p:nvPr/>
          </p:nvPicPr>
          <p:blipFill>
            <a:blip r:embed="rId1"/>
            <a:stretch/>
          </p:blipFill>
          <p:spPr>
            <a:xfrm>
              <a:off x="971640" y="1989000"/>
              <a:ext cx="727200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3" name=""/>
            <p:cNvSpPr/>
            <p:nvPr/>
          </p:nvSpPr>
          <p:spPr>
            <a:xfrm>
              <a:off x="1104480" y="2042280"/>
              <a:ext cx="701820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FINALIDAD Y ALC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4" name="Rectangle 17"/>
          <p:cNvGrpSpPr/>
          <p:nvPr/>
        </p:nvGrpSpPr>
        <p:grpSpPr>
          <a:xfrm>
            <a:off x="900000" y="3789360"/>
            <a:ext cx="7272000" cy="791640"/>
            <a:chOff x="900000" y="3789360"/>
            <a:chExt cx="7272000" cy="791640"/>
          </a:xfrm>
        </p:grpSpPr>
        <p:pic>
          <p:nvPicPr>
            <p:cNvPr id="1455" name="Rectangle 17" descr=""/>
            <p:cNvPicPr/>
            <p:nvPr/>
          </p:nvPicPr>
          <p:blipFill>
            <a:blip r:embed="rId2"/>
            <a:stretch/>
          </p:blipFill>
          <p:spPr>
            <a:xfrm>
              <a:off x="900000" y="3789360"/>
              <a:ext cx="7272000" cy="79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6" name=""/>
            <p:cNvSpPr/>
            <p:nvPr/>
          </p:nvSpPr>
          <p:spPr>
            <a:xfrm>
              <a:off x="1032840" y="3862440"/>
              <a:ext cx="7018200" cy="6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NO SE HA DEFINIDO UN TIPO ESPECÍFICO. ES POSIBLE UTILIZAR CUALQUIER MEDIO DE PRUEBA LEGALMENTE VÁLIDO SIEMPRE QUE RESPALDE ACABADAMENTE LOS ASPECTOS RESPEC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Rectangle 17"/>
          <p:cNvGrpSpPr/>
          <p:nvPr/>
        </p:nvGrpSpPr>
        <p:grpSpPr>
          <a:xfrm>
            <a:off x="971640" y="2637000"/>
            <a:ext cx="7272000" cy="577800"/>
            <a:chOff x="971640" y="2637000"/>
            <a:chExt cx="7272000" cy="577800"/>
          </a:xfrm>
        </p:grpSpPr>
        <p:pic>
          <p:nvPicPr>
            <p:cNvPr id="1458" name="Rectangle 17" descr=""/>
            <p:cNvPicPr/>
            <p:nvPr/>
          </p:nvPicPr>
          <p:blipFill>
            <a:blip r:embed="rId3"/>
            <a:stretch/>
          </p:blipFill>
          <p:spPr>
            <a:xfrm>
              <a:off x="971640" y="2637000"/>
              <a:ext cx="7272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9" name=""/>
            <p:cNvSpPr/>
            <p:nvPr/>
          </p:nvSpPr>
          <p:spPr>
            <a:xfrm>
              <a:off x="1104480" y="2690280"/>
              <a:ext cx="70182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ONTENI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0" name="Rectangle 17"/>
          <p:cNvGrpSpPr/>
          <p:nvPr/>
        </p:nvGrpSpPr>
        <p:grpSpPr>
          <a:xfrm>
            <a:off x="900000" y="4653000"/>
            <a:ext cx="7272000" cy="649080"/>
            <a:chOff x="900000" y="4653000"/>
            <a:chExt cx="7272000" cy="649080"/>
          </a:xfrm>
        </p:grpSpPr>
        <p:pic>
          <p:nvPicPr>
            <p:cNvPr id="1461" name="Rectangle 17" descr=""/>
            <p:cNvPicPr/>
            <p:nvPr/>
          </p:nvPicPr>
          <p:blipFill>
            <a:blip r:embed="rId4"/>
            <a:stretch/>
          </p:blipFill>
          <p:spPr>
            <a:xfrm>
              <a:off x="900000" y="4653000"/>
              <a:ext cx="727200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2" name=""/>
            <p:cNvSpPr/>
            <p:nvPr/>
          </p:nvSpPr>
          <p:spPr>
            <a:xfrm>
              <a:off x="1032840" y="4712760"/>
              <a:ext cx="7018200" cy="4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LA ENUMERACIÓN DE SITUACIONES A JUSTIFICAR NO ES TAXATIVA. ES UN LISTADO MÍNIMO PARA ELABORAR EL CUERPO DOCUM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Rectangle 17"/>
          <p:cNvGrpSpPr/>
          <p:nvPr/>
        </p:nvGrpSpPr>
        <p:grpSpPr>
          <a:xfrm>
            <a:off x="900000" y="5300640"/>
            <a:ext cx="7272000" cy="720720"/>
            <a:chOff x="900000" y="5300640"/>
            <a:chExt cx="7272000" cy="720720"/>
          </a:xfrm>
        </p:grpSpPr>
        <p:pic>
          <p:nvPicPr>
            <p:cNvPr id="1464" name="Rectangle 17" descr=""/>
            <p:cNvPicPr/>
            <p:nvPr/>
          </p:nvPicPr>
          <p:blipFill>
            <a:blip r:embed="rId5"/>
            <a:stretch/>
          </p:blipFill>
          <p:spPr>
            <a:xfrm>
              <a:off x="900000" y="5300640"/>
              <a:ext cx="72720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5" name=""/>
            <p:cNvSpPr/>
            <p:nvPr/>
          </p:nvSpPr>
          <p:spPr>
            <a:xfrm>
              <a:off x="1032840" y="5367240"/>
              <a:ext cx="701820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1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LA DOCUMENTACIÓN DEBE SER CONTEMPORÁNEA Y EXISTIR AL MOMENTO DEL VENCIMIENTO DE LAS DECLARACIONES JUR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6" name="Text Box 8"/>
          <p:cNvSpPr/>
          <p:nvPr/>
        </p:nvSpPr>
        <p:spPr>
          <a:xfrm>
            <a:off x="395280" y="3284640"/>
            <a:ext cx="8102520" cy="474480"/>
          </a:xfrm>
          <a:prstGeom prst="rect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DOCUMENTACIÓN </a:t>
            </a:r>
            <a:r>
              <a:rPr b="1" lang="es-A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324000" y="1506600"/>
            <a:ext cx="58323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ESTUDIO PR.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4" dur="indefinite" restart="never" nodeType="tmRoot">
          <p:childTnLst>
            <p:seq>
              <p:cTn id="2255" dur="indefinite" nodeType="mainSeq">
                <p:childTnLst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0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5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4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9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4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24000" y="1994040"/>
            <a:ext cx="8424720" cy="39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 PLANIFICACIÓN FISCAL FUE POSIBLE POR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ISTE VINCULACIÓN ECONÓM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ISTE MÁS DE UNA JURISDICCIÓN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REALIZARON OPERACIONES INTERNACIO-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EMPRESAS NO OPERARON A PRECIO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24000" y="1413000"/>
            <a:ext cx="842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OLUCIÓN INTER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70000" y="1700280"/>
            <a:ext cx="8405640" cy="42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INCIPIO DE CONTABILIDAD SEPA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INCIPIO DEL OPERADOR INDEPEN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457200" algn="just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VALUACIÓN DE LA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457200" algn="just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SIGNACIÓN DE RESULTADOS. ACTIVOS, RIESGOS Y  FU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457200" algn="just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ÁLISIS DE LAS CONDICIONES PAC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6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ATURALEZA DEL RÉG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9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9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9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9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9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9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24000" y="1413000"/>
            <a:ext cx="842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LEGISLACIÓN 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24000" y="2509920"/>
            <a:ext cx="835164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MPUESTO A LAS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PLICABLE   EXCLUSIVAMENTE   EN   ESTE TRIB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I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40000"/>
              </a:lnSpc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EY  25.063    PARA  OPERACIONES  CONCER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40000"/>
              </a:lnSpc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DE EL 31-12-98, INCL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1835280" y="620640"/>
            <a:ext cx="6769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24000" y="1413000"/>
            <a:ext cx="842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UJETOS ALCAN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50920" y="1628640"/>
            <a:ext cx="8299440" cy="44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IENES REALICEN OPERACIONES CON PERSONAS O ENTIDADES VINCULADAS DEL EX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IENES EFECTÚEN OPERACIONES CON SUJETOS CONSTITUIDOS, DOMICILIADOS, RADICADOS O UBICADOS EN JURISDICCIONES DE BAJA O NULA TRIBUTACIÓN, EXISTA O NO VINCULACIÓN ECONÓMICA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cilia</cp:lastModifiedBy>
  <dcterms:modified xsi:type="dcterms:W3CDTF">2013-07-18T15:56:32Z</dcterms:modified>
  <cp:revision>141</cp:revision>
  <dc:subject/>
  <dc:title>Diapositiva 1</dc:title>
</cp:coreProperties>
</file>