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dt" idx="17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18"/>
          </p:nvPr>
        </p:nvSpPr>
        <p:spPr>
          <a:xfrm>
            <a:off x="384948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A82E0-C851-47E2-ACEA-FC37A579DA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AFAB-27FE-4E0B-A7F7-4AD471CD1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6359-79C3-4D39-812D-1DB0EECFB32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F2FFE-70CB-4D17-B75A-B76D373C15B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CD0C8-3D66-44BA-A563-3C41A4C2DE0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AAA6B-F738-4496-8A45-49FE9C18808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137E1-1EAD-432E-B9AF-BB1D2B36F71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FDE59-9761-49E4-AB00-049B5C16B38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A8134-2608-4C60-BA37-36085BA4C22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EFB7F-1C2C-499B-B580-C3966D4D1D7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3D1DA-1A4B-4C65-B967-2574A509124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189CB-CC11-4E25-B3B3-7A6CA3367AA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62C4EB-E930-41D1-9242-D58428474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D858-5C9F-456A-A976-03DA03F7790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D54F46-54F7-4CE0-914F-72D982DBAE2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7BDE1B-EC13-44C7-895A-AB0A9970EE4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4A8E5A-4E26-4AA8-9BEA-114E8166086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7C131C-3B37-432B-8D9D-1B3366585EA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8C0925-FD89-442D-9193-0916A579AB4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6C3E8F-EC00-4ADD-91AB-26A2B784F47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EC65A2-07D6-4FF8-9FB5-7C0D5436C78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23192D-12DF-4FCA-8D05-4EE688BCCC5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6B9EBE-2A1E-4EF0-87DA-4282ADA2636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4FB488-782B-44AE-8976-006A5E753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4686-7EF0-4B16-ACCA-B83D3A97B07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FFE17F-F2F0-4137-9C41-404659464F3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2D9742-08F3-41F0-8AA9-86E8C901624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3D2776-B0C0-44BE-B026-D5B5F0F4398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A2C5A7-2E9B-4C09-96BA-8EE750D6D67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C0F9B-A307-4F72-8789-752457AF059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EFAAEB-C012-42B0-A206-BBE60B2EE98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246168-91E8-472E-8E21-F0AA9ED7833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21CE7F-ECD9-4CA0-8BE0-38A47805DAA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431658-0415-4BDA-90F2-2C6027E04BB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A5286D-BCE0-4F5F-88E5-1B9B858E4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0F398-E7DC-4A59-8739-717427FA490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34C498-2425-41A8-9D00-104C255F6D3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D156A2-23B3-4FA8-B2CB-446102DEF16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47FA29-C57C-4064-B9C0-26F81695A68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2E2A8-E648-44AD-A62C-A44B7CDCA24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378F3-FB60-42B0-9739-58E83402631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CE7E2-D388-4F55-BF11-37186B6F67E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91DA1-3A84-44DD-94B9-87F80CE1D44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12FA6-E654-41B0-B24F-240921685EB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7355A-B5C7-4C7F-B974-E886F3E7558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3C3F9-08B9-470E-B9A3-83F4A24A60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9377E-A501-4E11-9733-F1A866D3E15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4E080-C59C-4B86-AAFD-833071CEE5E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0B260-8428-4EAF-8251-36C8FD5E1F6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27719-5F0E-4FFE-8C92-691CADB1146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0DF0F-0388-4FAF-AE7C-1292FCF1AA9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FD63F-5CC8-4E9D-AB55-86A19B60F97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87FE7B-B7F6-484D-83A3-CFA8E582380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8A0E11-DD28-4B6A-A6E5-5438B389A5B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4D6C15-4738-4647-91FF-9FFA71B8FA3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3FF8D5-F0B6-435A-B7AC-D6419DB66D4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B80C63-604F-4111-92E0-683587AC3C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3327-4082-46A2-A385-812DB3B9028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D9E7F4-5B50-447F-BBDD-F98E28B4E62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5D1F0F-77C9-45AA-9304-B5BE66491CF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F6FB1A-CEF3-447F-959C-72C41F84512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DC9D7A-5021-4DA2-AFD5-BE5077EAAD9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0F9646-A9F1-4927-B27E-87A019C4FDB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1DFB54-528E-4E08-8745-DC4F307014B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3C7969-5FA3-4DA1-8EE9-E6AD3404487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47154-1EF4-4ED6-A533-2504C280328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F11EF-FCD3-456F-A65F-C8C6D4F466D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C0A734-73A8-47C1-BA35-63D6012ED4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7D349-7A95-4FDB-B18F-2FEEB58237C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F8E9D8-9580-4CA4-B7F3-F154C222D8F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67DC2A-DE0A-4AED-8B6F-A6212548F73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DB2CE-AC1B-49C2-85A9-58A9EECDC7D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861D5-ED49-4994-99E4-838FB5ABC12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8471D-33B9-4CDC-9CE9-56A53EF22E1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4E7979-BD39-4726-AD16-9137EEDF0DA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120A5A-DECC-4411-A3F4-8AC6F96E265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CB583-7294-4558-A203-A3190616ADA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589C6-5D0B-43AA-B04D-2612D59D53D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9F13F-4F27-4B4A-A971-545B61BB74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14AD-1B8A-480A-992D-8732DBD5D58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CA1D7-F006-49BF-8568-D0747192110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0DD28-6248-45C1-A950-7F60F540D5C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4FCCE-B740-43F2-B916-1B9010A3ACB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AA775-7A38-45BC-B4F9-3C1C83961B9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1F185-4EC8-49F1-9B76-C48B33EB5B7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637E4-3ADC-407F-B7A2-BAFECC66C18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F9B60-B57B-4478-8739-364C836BC5A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3B126-3ED9-4A4B-85AD-11B990AAE8E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1CEBC-6C6E-4008-852C-609AA911FD1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11476-D5EB-4EC4-A3DA-D6233B0758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C97DA-8AD6-48A1-948C-F20EE1AF09C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0DBA5-4DF1-4D71-97DF-3A75C89809E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1BEEF1-A5B7-4B58-B72C-17E5C7E6B9F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DEAC19-CE03-497D-A352-E579F30FC30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5BE1A4-94D2-42A8-BE02-B507DC6560B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C23ACE-5C5E-4F7B-88B7-AE668823B26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196F51-A2E4-436F-856D-4D0BB5EED37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5FA779-CBE5-4268-B536-00A02C95160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C64964-1A6B-4E8B-9B98-E3708A50B5E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9325B6-C6C6-4B18-8F26-38E817B33E5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1644E9-3609-49BD-8993-E1D73581BC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BD0AB-8DA6-4C45-B25B-FC63FEF09D9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896CFB-C4A0-4675-AF0F-251786EBAD4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36AFCE-F632-42B9-A069-1638CD51E18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FC109D-347B-4BD7-8295-30FD076C21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9C93-73E4-48FF-A991-F039F34B6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BCCFE-EB7B-4D41-89B3-302FC6F20E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D819-67F9-49A8-83D0-3DCC4123BF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70F0A-D580-491F-B9CA-51EC83EBA5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6775C-18AE-438B-91F5-A5AAA2C27D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1E49E-8114-42E6-A7F4-F8730949B1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890-3E13-4AF4-8388-93D2ED04D8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AC8-938F-4882-A0DA-CA7B8FD0A2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08F-8EB4-45ED-B116-D524F46509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7B5-49CC-4703-B556-4ED5DE904F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111-B47C-457F-8260-F189CD5363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0B82-F634-4C27-A598-E46A63808D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E5C-B9BE-4F50-BA96-70F637C954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26B-62FB-4B7C-954D-86171B6E10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D62-8A73-4611-AD71-08859DEEFB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428D-4D61-4EBE-AAD3-F8B2F29E29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780-65AD-4693-9B8E-DC04FBD832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6A2-A9C1-4646-8549-5E818DC8A0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6EF8-FED1-4944-B195-C622903312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02353-3C99-4747-A4B0-B747855ABF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E706A-EB6D-4628-926C-E157524D12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41B40-A672-4A88-A6B1-DB544D5C7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466E-436F-4DFD-BE7C-05B02B9B08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1BCBB-136E-47C9-AE5C-C33041E070E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FA9DF-D261-4506-BE0C-603AAD569D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C11EE-FE15-4913-B1C2-6F3D657E71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430A6-525F-4320-905C-462FDDFD63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CB284-A7F7-4831-A84B-B173946360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F4FC4-4B59-4670-AECA-D990A8B2CCC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A7D22-6EFC-4855-9C6D-1993C208BF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65F04-28DD-4F43-8934-23B1FD8B55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C4125-81CB-403E-9646-7C71AE8A0DC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9F581-2C46-4B42-BAE6-E48165EFC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50BD-08B9-440D-8E66-C9D2BCE1754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7E0EE-52AF-49C4-B811-CD0E403B329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C5F82-D56E-481A-930E-2ECF6FE9A19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CE000-50B1-4C8B-AECB-0EEAD105261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C549A-4DDA-45AD-80AC-FC3BCB6EB91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F959D-19AE-4402-AC4A-04FCFA84293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BE43E-0A99-4D9F-AF29-39E5226EF29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461FA-1F1F-4414-8194-AAB82706BA4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A14A5-907D-4077-9E05-B845BE38356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C8E91-F82C-43EF-BBD8-7868735450E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CF402-E2F6-476F-A611-96E7AF4F9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E041-B065-4703-9AA0-4DF5853811D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EB8BE-72D0-4219-B457-4FCB696AD45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EEE2-C748-4A5E-8822-55648DDBB3E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6107-CF38-4155-B964-D8C6773EFA2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472F-14B9-4353-B8A0-D538F8E07E8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36CB-F363-4319-8CF0-65A7A5130A1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F21A-3CA6-442F-8D44-87CFB9264AC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9E89-7C71-464D-89A5-694F329F033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245A-C71A-46EC-A9A5-B590EC40701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823C-EB00-437E-818A-4FACAED9941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CC9C-8DEF-4A2E-9C52-E81119BB7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261C-0BB4-449B-AEF3-3C3CC498351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3871-486B-405F-A145-0BFB2D1748A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B1C8-4489-431C-906D-CFFFF0C3B26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7B8D-6963-4127-BC24-B11C7CA26C6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54DB0B-7AF5-4E7C-B6CB-85E65EC0C24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A77E7F-8442-4F78-B289-7FBAB7A30DF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862D35-A1B7-4407-9B94-8A7741152E0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1A42BB-8188-4224-930D-9E9ACC9E93F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0A6AF6-C5FC-4DB1-BF2D-87905B23609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95924D-AEAC-4916-BD56-F3210BCEF8B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DEB37B-1888-4496-B5F6-130816BA3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71119-1481-45C6-BFF8-2D512A6C6B4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650BD7-3F12-4FF8-ABEC-769F547E3AE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4352EC-A6C5-41E5-B876-11780741799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E023F5-57F7-4330-8687-3DAEF0C0A36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47789F-34FA-4C13-B721-57F7EE017F4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61094A-FC38-46DB-8A75-EB6F6FC5768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E6D8D-AC66-4D7E-90CE-C6E50A00B6B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74618-E507-43ED-BCBA-3822710B4B6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6A29C-F484-4023-B154-A7A11CE189D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5120C-0530-4A1C-A641-0AA11A85606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8B56A-586A-4009-856C-7E6869A5B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D396-FFFA-4E0A-A96A-2F32BB54717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9619D-2B9F-48AF-A3CD-25A5921DCF9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017FC-B5B9-45C0-B39D-0D50DD99D1A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5A8E2-1DAF-4806-9B1C-C7E2F9025EA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A9957-DDC0-4B1E-A1FD-864DDC438D3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99229-F593-4762-9BB2-162A8155296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30CFF-2E18-4753-8E8D-31074EFB93E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F761E-AB07-4E7E-9945-05CC01D00DF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57BD4-ECF2-4937-9806-A10B6E8E8A6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4FE47-2039-4466-A4DC-F1785635E0C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56B8D-C64D-48FA-8E88-F99382D13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sldNum" idx="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A3302E5-BFA2-45C6-804A-2A1ACF9ECB7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81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82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83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5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86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90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sldNum" idx="10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FD02B1F-1F08-47E2-B1A2-3D8058F90BF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3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3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3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3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4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sldNum" idx="1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426D49-A2A8-46DE-A051-4DFB56719EA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8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8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9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9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sldNum" idx="1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D0B5D08-719B-4C78-AD35-F4D962566AE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4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4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4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4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sldNum" idx="1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062817D-821C-4F41-B5BD-ECFFA8557EAE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9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9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9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9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0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sldNum" idx="1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D081654-6F89-41B8-93E9-985D5EEA329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4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74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74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75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5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sldNum" idx="1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ABA8BD2-494F-4F91-83F9-B417D9FF800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9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80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80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80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80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sldNum" idx="1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8BEDF89-8DBA-499A-A2C4-F1BE21EDBB9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sldNum" idx="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90A440-CC25-4D86-8595-B28C8D4B0FE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1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1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1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sldNum" idx="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EB20B2F-0DA3-4D98-B6F8-E1376E1933F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6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6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6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6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7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sldNum" idx="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3CE18E1-7C78-4AA5-A454-0AB6776B3E1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1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1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2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2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sldNum" idx="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EF11FAF-903B-4E5A-9984-A62630758C8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6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7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7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7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7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A967A11-DF24-4EE5-9A41-E41AF7E68FE8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22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23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24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6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27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31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sldNum" idx="7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392DA9A-969B-465A-BB3D-6BAC1833A6E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5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76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77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80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84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sldNum" idx="8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90EAFE1-A4D2-4D3E-877C-6F22AFE027D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28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29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30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2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33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37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sldNum" idx="9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8003FFD-4F14-46C5-8D6A-1769AA2FC425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368280" y="60580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A0A41-636F-44A5-A61E-2575BEE682BA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UJETOS ALCAN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9280" y="1989000"/>
            <a:ext cx="842508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IDENTES EN EL PAÍS QUE REALICEN OPERACIONES CON ESTABLECIMIENTOS ESTABLES DEL EXTERIOR DE  SU TITULAR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IDENTES TITULARES DE ESTABLECIMIENTOS ESTABLES EN EL EXTERIOR, POR LAS OPERACIONES QUE ESTOS ÚLTIMOS EFECTÚEN CON ENTIDADES VINCULADAS DEL EXTERIOR SEGÚN ARTS. 129 Y 130 DE LA LEY DEL IMP A LAS GANANCIAS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41360" y="368280"/>
            <a:ext cx="7751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OPERACIONES ALCAN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971640" y="0"/>
            <a:ext cx="7162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50920" y="1700280"/>
            <a:ext cx="8424720" cy="45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PRA-VENTA DE BIENES TAN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PRA-VENTA O CESIÓN DE USO DE BIENES INTAN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STACIÓN DE SERVICIOS DE CUALQUIER TIPO O NATURAL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STACIONES FINANCIE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9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9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OTROS ASPECTOS GEN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4000" y="1989000"/>
            <a:ext cx="8351640" cy="38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RGA DE LA PRUEB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RMA VS. REALIDAD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CIOS DE TRANSFERENCIA Y VALORACIÓN ADUAN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68360" y="1484280"/>
            <a:ext cx="43196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OTROS ASPECT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04920" y="1724040"/>
            <a:ext cx="935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24000" y="2089080"/>
            <a:ext cx="828036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ANGO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ando existan dos o más transacciones comparables, el rango de mercado será el rango intercuartil de precios, de los montos de las contraprestaciones o de los márgenes de ut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ÁLCULO 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ajuste debe efectuarse contra el valor que corresponde a la mediana disminuida o incrementada en un 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68360" y="1484280"/>
            <a:ext cx="43196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OTROS ASPEC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04920" y="2276640"/>
            <a:ext cx="8299440" cy="47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ARTE A TESTEAR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ujet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MPUTACIÓN 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gú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justificación efect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MÉ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66680" y="458640"/>
            <a:ext cx="80074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95280" y="1484280"/>
            <a:ext cx="8424720" cy="47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Garamond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CIO COMPARABPE ENTRE PARTES INDEPENDIENTES (Comparable Uncontrolled Price - C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PRECIO DE REVENTA ENTRE PARTES INDEPENDIENTES  (Resale Pr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COSTO MÁS BENEFICIO (Cost Plus - C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DIVISIÓN DE GANANCIAS (Profit Split 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MARGEN NETO DE LA TRANSACCIÓN (Transactional Net Margin - T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68360" y="1484280"/>
            <a:ext cx="43196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MÉTO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24000" y="3716280"/>
            <a:ext cx="1800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2195640" y="3068280"/>
            <a:ext cx="647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195640" y="393372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906560" y="2708280"/>
            <a:ext cx="2305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DICION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403280" y="4941720"/>
            <a:ext cx="273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TRADIC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284720" y="2419200"/>
            <a:ext cx="71280" cy="12970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284720" y="4363920"/>
            <a:ext cx="71280" cy="12970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427640" y="2276640"/>
            <a:ext cx="4392360" cy="14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ECIO COMPARABLE ENTRE PARTES INDEPEN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7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ECIO DE RE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7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STO MÁS BENEF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500720" y="4508640"/>
            <a:ext cx="410364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VISIÓN DE GANA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RGEN NETO DE LA TRAN-SAC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50920" y="1484280"/>
            <a:ext cx="597672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PRINCIPIO DEL MEJOR MÉTO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04920" y="260280"/>
            <a:ext cx="935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04920" y="2295360"/>
            <a:ext cx="837072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existe orden de prelación metod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Debe aplicarse el MEJOR MÉTODO, el que mejor refleje la realidad económ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 Mejor compatibilice con la estructura empresarial y 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 Cuente con la mejor cantidad y calidad de infor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 Contemple el mayor grado de compar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 Requiera el menor nivel de ajust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0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0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68360" y="1484280"/>
            <a:ext cx="43196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MÉTODO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284720" y="2276640"/>
            <a:ext cx="71280" cy="129672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284720" y="4219560"/>
            <a:ext cx="71280" cy="12970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5"/>
          <p:cNvSpPr/>
          <p:nvPr/>
        </p:nvSpPr>
        <p:spPr>
          <a:xfrm>
            <a:off x="368280" y="2133720"/>
            <a:ext cx="2835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sultado Br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Gastos Ope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sultado Op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Gastos no ope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Im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sultado 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traight Connector 7"/>
          <p:cNvSpPr/>
          <p:nvPr/>
        </p:nvSpPr>
        <p:spPr>
          <a:xfrm>
            <a:off x="471600" y="30718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traight Connector 8"/>
          <p:cNvSpPr/>
          <p:nvPr/>
        </p:nvSpPr>
        <p:spPr>
          <a:xfrm>
            <a:off x="471600" y="36450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traight Connector 9"/>
          <p:cNvSpPr/>
          <p:nvPr/>
        </p:nvSpPr>
        <p:spPr>
          <a:xfrm>
            <a:off x="471600" y="57862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ight Arrow 10"/>
          <p:cNvSpPr/>
          <p:nvPr/>
        </p:nvSpPr>
        <p:spPr>
          <a:xfrm>
            <a:off x="3559320" y="3240000"/>
            <a:ext cx="914400" cy="2764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ight Arrow 11"/>
          <p:cNvSpPr/>
          <p:nvPr/>
        </p:nvSpPr>
        <p:spPr>
          <a:xfrm>
            <a:off x="3559320" y="4307040"/>
            <a:ext cx="914400" cy="2761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Box 12"/>
          <p:cNvSpPr/>
          <p:nvPr/>
        </p:nvSpPr>
        <p:spPr>
          <a:xfrm>
            <a:off x="4500720" y="3068640"/>
            <a:ext cx="34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Arial"/>
                <a:ea typeface="Arial"/>
              </a:rPr>
              <a:t>2) Precio de re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Arial"/>
                <a:ea typeface="Arial"/>
              </a:rPr>
              <a:t>3) Costo más benef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13"/>
          <p:cNvSpPr/>
          <p:nvPr/>
        </p:nvSpPr>
        <p:spPr>
          <a:xfrm>
            <a:off x="4479840" y="4094280"/>
            <a:ext cx="43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Arial"/>
                <a:ea typeface="Arial"/>
              </a:rPr>
              <a:t>4) División de gana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Arial"/>
                <a:ea typeface="Arial"/>
              </a:rPr>
              <a:t>5) Margen neto de la trans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Box 14"/>
          <p:cNvSpPr/>
          <p:nvPr/>
        </p:nvSpPr>
        <p:spPr>
          <a:xfrm>
            <a:off x="4479840" y="1989000"/>
            <a:ext cx="43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Arial"/>
                <a:ea typeface="Arial"/>
              </a:rPr>
              <a:t>1) Precio comparable entre partes indepe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traight Connector 9"/>
          <p:cNvSpPr/>
          <p:nvPr/>
        </p:nvSpPr>
        <p:spPr>
          <a:xfrm>
            <a:off x="458640" y="42210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1835280" y="404640"/>
            <a:ext cx="676908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 COMPARABLE ENTRE PARTES INDEPEND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566720" y="443700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L PRECIO QUE SE HUBIERA PACTADO CON O ENTRE PARTES INDEPEN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7256520" y="3213000"/>
            <a:ext cx="431640" cy="43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711440" y="3213000"/>
            <a:ext cx="433440" cy="43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90720" y="2637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VINCU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246720" y="26370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NDEPEN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135080" y="371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51800" y="371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646360" y="3429000"/>
            <a:ext cx="3745080" cy="0"/>
          </a:xfrm>
          <a:prstGeom prst="line">
            <a:avLst/>
          </a:prstGeom>
          <a:ln w="15228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96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9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02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07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0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3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68360" y="1557360"/>
            <a:ext cx="3024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50920" y="2133720"/>
            <a:ext cx="8351640" cy="37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TEXT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CIÓN Y ORIGEN DE LOS PRECIOS DE TRANS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CIA DE LOS PRECIOS DE TRANS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ADMINISTRACIONES FISCALES Y LOS PRECIOS DE TRANS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1332000" y="54936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 DE REVENT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09480" y="1119240"/>
            <a:ext cx="75265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95280" y="4303800"/>
            <a:ext cx="828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L QUE SURJA DE MULTIPLICAR EL PRECIO DE REVENTA DE TRANSACCIONES INDEPENDIENTES POR EL RESULTADO DE DISMINUIR DE LA UTILIDAD EL PORCENTAJE DE GANANCIA BRUTA QUE HUBIERA SIDO PACTADO CON O ENTRE PARTES INDEPENDIENTES EN TRANSACCIONES COMPA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399440" y="2997360"/>
            <a:ext cx="453960" cy="43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782720" y="2852640"/>
            <a:ext cx="453960" cy="43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826920" y="2133720"/>
            <a:ext cx="21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MPORTACIÓN VINCU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300720" y="2205000"/>
            <a:ext cx="264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VENTA A INDEPEND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279440" y="34290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896160" y="35002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224160" y="3357720"/>
            <a:ext cx="3178080" cy="1440"/>
          </a:xfrm>
          <a:prstGeom prst="line">
            <a:avLst/>
          </a:prstGeom>
          <a:ln w="15228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367080" y="2637000"/>
            <a:ext cx="28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% UTILIDAD B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079800" y="2276640"/>
            <a:ext cx="0" cy="201600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372360" y="2276640"/>
            <a:ext cx="0" cy="201600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39640" y="5516640"/>
            <a:ext cx="813600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. DE REVENTA (1 -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GCIA. BRUT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) = PRECIO COMP. DE LA IMP VINCULAD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        VTAS N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33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36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39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4" dur="2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7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50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70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772720" y="57636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COSTO MÁS 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98360" y="4221000"/>
            <a:ext cx="847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L QUE SURJA DE MULTIPLICAR EL COSTO DE LOS BIENES, SERVICIOS U OTRAS TRANSACCIONES POR EL RESULTADO DE ADICIONAR A LA UNIDAD EL PORCENTAJE DE GANANCIA BRUTA APLICADO CON O ENTRE PARTES INDEPENDIENTES EN TRANSACCIONES COMPA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399440" y="2781360"/>
            <a:ext cx="431640" cy="43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566720" y="2852640"/>
            <a:ext cx="432000" cy="43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30360" y="19558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STO DEL BIEN O SERVICIO INDEPEN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391440" y="1989000"/>
            <a:ext cx="25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XPORTACIÓN A VINCUL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063800" y="3357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680160" y="33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ECIO EX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24160" y="2997360"/>
            <a:ext cx="3024360" cy="0"/>
          </a:xfrm>
          <a:prstGeom prst="line">
            <a:avLst/>
          </a:prstGeom>
          <a:ln w="1522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367080" y="242100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% UTILIDAD B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079800" y="1989000"/>
            <a:ext cx="0" cy="201636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391440" y="1989000"/>
            <a:ext cx="0" cy="201636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95280" y="5445000"/>
            <a:ext cx="8424720" cy="618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STO (1 +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GANANCIA BRUT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) = PRECIO COMP. DE LA EXP VI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STO DE V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5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8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01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06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09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12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2" dur="2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304920" y="1652760"/>
            <a:ext cx="9359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8360" y="4005360"/>
            <a:ext cx="82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LA QUE RESULTE DE APLICAR PARA LA ASIGNACIÓN DE LAS GANANCIAS OBTENIDAS ENTRE PARTES VINCULADAS, LA PROPORCIÓN EN QUE HUBIERAN SIDO ASIGNADAS ENTRE PARTES INDEPEND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QUI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DETERMINACIÓN DE LA GANANCIA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SIGNACIÓN DE LA PORCIÓN DE GANANCIA GLOBAL EN FUNCIÓN DE ACTIVOS, COSTOS Y G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1638360" y="2637000"/>
            <a:ext cx="6408720" cy="792000"/>
            <a:chOff x="1638360" y="2637000"/>
            <a:chExt cx="6408720" cy="792000"/>
          </a:xfrm>
        </p:grpSpPr>
        <p:sp>
          <p:nvSpPr>
            <p:cNvPr id="1086" name=""/>
            <p:cNvSpPr/>
            <p:nvPr/>
          </p:nvSpPr>
          <p:spPr>
            <a:xfrm>
              <a:off x="1638360" y="2637000"/>
              <a:ext cx="6408720" cy="79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647800" y="2820960"/>
              <a:ext cx="432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Times New Roman"/>
                </a:rPr>
                <a:t>G A N A N C I A   G L O B A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1422360" y="2637000"/>
            <a:ext cx="1727280" cy="792000"/>
            <a:chOff x="1422360" y="2637000"/>
            <a:chExt cx="1727280" cy="792000"/>
          </a:xfrm>
        </p:grpSpPr>
        <p:sp>
          <p:nvSpPr>
            <p:cNvPr id="1089" name=""/>
            <p:cNvSpPr/>
            <p:nvPr/>
          </p:nvSpPr>
          <p:spPr>
            <a:xfrm>
              <a:off x="1422360" y="2637000"/>
              <a:ext cx="1727280" cy="79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432160" y="2821680"/>
              <a:ext cx="71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Times New Roman"/>
                </a:rPr>
                <a:t>G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3295800" y="2637000"/>
            <a:ext cx="1799640" cy="792000"/>
            <a:chOff x="3295800" y="2637000"/>
            <a:chExt cx="1799640" cy="792000"/>
          </a:xfrm>
        </p:grpSpPr>
        <p:sp>
          <p:nvSpPr>
            <p:cNvPr id="1092" name=""/>
            <p:cNvSpPr/>
            <p:nvPr/>
          </p:nvSpPr>
          <p:spPr>
            <a:xfrm>
              <a:off x="3295800" y="2637000"/>
              <a:ext cx="1726920" cy="79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296880" y="2820960"/>
              <a:ext cx="179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Times New Roman"/>
                </a:rPr>
                <a:t>N A N C I 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5095800" y="2637000"/>
            <a:ext cx="1150560" cy="792000"/>
            <a:chOff x="5095800" y="2637000"/>
            <a:chExt cx="1150560" cy="792000"/>
          </a:xfrm>
        </p:grpSpPr>
        <p:sp>
          <p:nvSpPr>
            <p:cNvPr id="1095" name=""/>
            <p:cNvSpPr/>
            <p:nvPr/>
          </p:nvSpPr>
          <p:spPr>
            <a:xfrm>
              <a:off x="5170320" y="2637000"/>
              <a:ext cx="999720" cy="79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095800" y="2820960"/>
              <a:ext cx="11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Times New Roman"/>
                </a:rPr>
                <a:t>G L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6103800" y="2637000"/>
            <a:ext cx="2305080" cy="792000"/>
            <a:chOff x="6103800" y="2637000"/>
            <a:chExt cx="2305080" cy="792000"/>
          </a:xfrm>
        </p:grpSpPr>
        <p:sp>
          <p:nvSpPr>
            <p:cNvPr id="1098" name=""/>
            <p:cNvSpPr/>
            <p:nvPr/>
          </p:nvSpPr>
          <p:spPr>
            <a:xfrm>
              <a:off x="6319800" y="2637000"/>
              <a:ext cx="2089080" cy="79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03800" y="2821680"/>
              <a:ext cx="13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Times New Roman"/>
                </a:rPr>
                <a:t>B A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1855800" y="34999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EMP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656160" y="34999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EMP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238720" y="34999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EMP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823080" y="34999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EMP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774160" y="57636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DIVISIÓN DE GANA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257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840320" y="628560"/>
            <a:ext cx="57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MARGEN NETO DE LA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95280" y="429264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MARGEN DE GANANCIA OPERATIVA APLICABLE A LAS TRANSACCIONES ENTRE PARTES VINCULADAS QUE SE DETERMINA PARA GANANCIAS OBTENIDAS POR ALGUNA DE ELLAS EN TRANSACCIONES COMPARABLES, O EN TRANSACCIONES COMPARABLES CON INDEPE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495440" y="2637000"/>
            <a:ext cx="433440" cy="93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279440" y="2133360"/>
            <a:ext cx="8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EMP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438360" y="2637000"/>
            <a:ext cx="433440" cy="93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383080" y="2637000"/>
            <a:ext cx="432000" cy="93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383080" y="213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7327800" y="2637000"/>
            <a:ext cx="432000" cy="93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327800" y="213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438360" y="213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063800" y="3357720"/>
            <a:ext cx="7416720" cy="0"/>
          </a:xfrm>
          <a:prstGeom prst="line">
            <a:avLst/>
          </a:prstGeom>
          <a:ln w="22860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30"/>
          <p:cNvSpPr/>
          <p:nvPr/>
        </p:nvSpPr>
        <p:spPr>
          <a:xfrm>
            <a:off x="324000" y="1916280"/>
            <a:ext cx="8424720" cy="49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ÁN CONSIDERADAS C0MPARABLES AQUELLAS TRANASAC-CIONES ANALIZADAS CU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97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 EXISTAN DIFERENCIAS QUE AFECTEN EL PRECIO, EL MARGEN DE GANANCIAS O EL MONTO DE LA CONTRAPRESTACIÓN, A QUE SE REFIEREN LOS MÉTODOS DE JUSTIFICACIÓN 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7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7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N CASO DE EXISTIR, TALES DIFERENCIAS SE ELIMINEN EN VIRTUD DE AJUSTES QUE PERMITAN UN GRADO SUSTANCIAL DE COMPARABIL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NO EXISTE LA POSIBILIDAD DE APLICAR EL RÉGIMEN DE PRECIOS DE TRANSFERENCIA SIN EFECTUAR LA COMPARABILIDAD ENTRE LAS OPERACIONES VINCULADAS E INDEPENDIENTES EN TODOS AQUELLOS ASPECTOS Y CONDICIONES CON INCIDENCIA ECONÓ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buClr>
                <a:srgbClr val="000000"/>
              </a:buClr>
              <a:buFont typeface="Arial"/>
              <a:buChar char="Ø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-36360" y="1484280"/>
            <a:ext cx="30956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DEFIN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125892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Group 11"/>
          <p:cNvGrpSpPr/>
          <p:nvPr/>
        </p:nvGrpSpPr>
        <p:grpSpPr>
          <a:xfrm>
            <a:off x="395280" y="1557360"/>
            <a:ext cx="4925520" cy="367920"/>
            <a:chOff x="395280" y="1557360"/>
            <a:chExt cx="4925520" cy="367920"/>
          </a:xfrm>
        </p:grpSpPr>
        <p:sp>
          <p:nvSpPr>
            <p:cNvPr id="1123" name="Rectangle 12"/>
            <p:cNvSpPr/>
            <p:nvPr/>
          </p:nvSpPr>
          <p:spPr>
            <a:xfrm>
              <a:off x="395280" y="1557360"/>
              <a:ext cx="4924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13"/>
            <p:cNvSpPr/>
            <p:nvPr/>
          </p:nvSpPr>
          <p:spPr>
            <a:xfrm>
              <a:off x="395280" y="1557360"/>
              <a:ext cx="1080" cy="36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14"/>
            <p:cNvSpPr/>
            <p:nvPr/>
          </p:nvSpPr>
          <p:spPr>
            <a:xfrm>
              <a:off x="5319720" y="1557360"/>
              <a:ext cx="1080" cy="36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15"/>
            <p:cNvSpPr/>
            <p:nvPr/>
          </p:nvSpPr>
          <p:spPr>
            <a:xfrm>
              <a:off x="395280" y="1557360"/>
              <a:ext cx="49244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16"/>
            <p:cNvSpPr/>
            <p:nvPr/>
          </p:nvSpPr>
          <p:spPr>
            <a:xfrm>
              <a:off x="395280" y="1924200"/>
              <a:ext cx="49244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Text Box 19"/>
          <p:cNvSpPr/>
          <p:nvPr/>
        </p:nvSpPr>
        <p:spPr>
          <a:xfrm>
            <a:off x="324000" y="2066760"/>
            <a:ext cx="828036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MOMENTO EN QUE PROCEDE LA COMPAR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OMPARABLES INTERNOS y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ARACTERÍSITICAS ECONÓMICA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CONOCIMIENTO DE LAS OPERACIONES REALES LLEVADAS A C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DESCONOCIMIENTO DE LAS OPERACIONES LLEVADAS A CABO, SÓLO CU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97000"/>
              </a:lnSpc>
              <a:spcBef>
                <a:spcPts val="1125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+ LA SUSTANCIA DE LA OPERACIÓN SEA DIFERENTE DE LA FORMA ADOPTADA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97000"/>
              </a:lnSpc>
              <a:spcBef>
                <a:spcPts val="1125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+ LA FORMA ADOPTADA  VARÍE COMPLETAMENTE DE LA QUE HUBIERAN ADOPTADO PARTES INDEPE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611280" y="2276640"/>
            <a:ext cx="727236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LAS CARACTERÍSTICAS DE LOS PRODUCTOS O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NÁLISIS FU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7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LAÚSULAS CONTRACT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IRCUNSTANCIAS ECONÓ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1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STRATEGIAS DE NEGO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95280" y="1506600"/>
            <a:ext cx="46083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FA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-468360" y="157968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ARACTERÍSTICAS TRANSAC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24000" y="1773360"/>
            <a:ext cx="8424720" cy="46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IENES TANGIBLES – VENTA O PAGO POR EL USO O CESIÓN DE 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Características físicas del 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Confi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Dispon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Volumen de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IENES INTANGIBLES - EXPLOTACIÓN O TRANSFER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Forma asignada a la transacción: Venta, cesión de uso o derecho al u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Exclusividad, restricciones o limitaciones espa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Singularidad del bien: patentes, fórmulas, procesos, diseños, modelos, derechos de autor, marcas o activos similares, transferencia de tecnología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Capacidad potencial de generar ganancias (valor de las ganancias fu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Duración del con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68360" y="1506600"/>
            <a:ext cx="58323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ANÁLISIS FUNCION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855800" y="24192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871800" y="4724280"/>
            <a:ext cx="180036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IES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3656160" y="2707920"/>
            <a:ext cx="1873080" cy="1871640"/>
          </a:xfrm>
          <a:prstGeom prst="line">
            <a:avLst/>
          </a:prstGeom>
          <a:ln w="1522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3656160" y="241920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656160" y="457992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9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68360" y="1506600"/>
            <a:ext cx="58323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ANÁLISIS FUNCION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24000" y="1916280"/>
            <a:ext cx="840564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DEBEN ANALIZAR Y COMPARA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7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FUNCIONES O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Diseño y fabr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Investigación y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Compra, distribución y comerci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Finan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Control Ger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Servicios post-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RIESGOS ASUM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+ Comerciales: fluctuaciones de costos de insu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+ Financieros: variaciones en el tipo de cambio, tasa de inter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ACTIVOS UTILIZ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Uso de intangibles, ub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68360" y="1557360"/>
            <a:ext cx="3024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971640" y="0"/>
            <a:ext cx="7162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87440" y="1268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03440" y="1701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656160" y="1268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I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896160" y="1268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03440" y="1917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BENEFICI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03440" y="2133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ECIO VENTA  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0520" y="2565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00520" y="2781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BENEFICI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800520" y="2997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ECIO VENTA  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800520" y="2133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800520" y="2349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TOS PROD.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503440" y="2276640"/>
            <a:ext cx="12240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970680" y="2997360"/>
            <a:ext cx="18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ODUCTO          180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970320" y="3213000"/>
            <a:ext cx="16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TOS COMERC.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969960" y="342900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                 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971040" y="3645000"/>
            <a:ext cx="16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BENEFICI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672160" y="3141720"/>
            <a:ext cx="12240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969240" y="386064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ECIO VENTA   2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14360" y="4149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440160" y="4149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535800" y="4149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74720" y="451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VENT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74720" y="472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VENTA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(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74720" y="4941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798720" y="451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VENT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798720" y="472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VENTA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(1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798720" y="4941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967440" y="451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VENT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2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967440" y="472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VENTA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(2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967440" y="4941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87440" y="5229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BASE IMPONIBLE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   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513240" y="5229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BASE IMPONIBLE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680160" y="5229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BASE IMPONIBLE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      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935440" y="5734080"/>
            <a:ext cx="3887640" cy="3988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GANANCIA TOTAL    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95280" y="1506600"/>
            <a:ext cx="5905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TÉRMINOS CONTRACT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95280" y="1989000"/>
            <a:ext cx="820908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CLAÚSULAS CONTRACTUALES DEFINEN GENERALMENTE, DE FORMA EXPRESA  O IMPLÍCITA, CÓMO SE REPARTEN LAS RESPONSABILIDADES, RIESGOS Y RESULTADOS ENTRE LA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EN ANALIZARSE LOS TÉRMINOS QUE PUEDAN A LLEGAR A INFLUIR EN EL PRECIO O EN EL MARGEN INVOLUCRADO, TALES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Formas de re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Condiciones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Compromisos asumidos respecto de los volúmenes comprados o ven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Duración del con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Garant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66560" y="1506600"/>
            <a:ext cx="5977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IRCUNSTANCIAS ECONÓM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39640" y="2133720"/>
            <a:ext cx="8064720" cy="42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 NECESARIO IDENTIFICAR EL O LOS MERCADOS CONSIDERANDO LOS BIENES Y SERVICIOS ALTERNATIVOS DISPONI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CIRCUNSTANCIAS RELEVANTE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ocalización geográfica d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Dimen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Grado de competencia y la posición competitiva relativa de compradores y ven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Disponibilidad (riesgo) de bienes y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Niveles de oferta y 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oder adquisitivo de los de los consumido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Naturaleza y alcance de la reglamentación d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Costos de producción y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Nivel d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Fecha de la o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04920" y="1484280"/>
            <a:ext cx="9359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NÁLISIS COMPA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64328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0" y="1268280"/>
            <a:ext cx="990288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8" name=""/>
          <p:cNvGraphicFramePr/>
          <p:nvPr/>
        </p:nvGraphicFramePr>
        <p:xfrm>
          <a:off x="395280" y="2205000"/>
          <a:ext cx="8353440" cy="4281480"/>
        </p:xfrm>
        <a:graphic>
          <a:graphicData uri="http://schemas.openxmlformats.org/drawingml/2006/table">
            <a:tbl>
              <a:tblPr/>
              <a:tblGrid>
                <a:gridCol w="3984480"/>
                <a:gridCol w="4368960"/>
              </a:tblGrid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ONVENIOS DOBLE IMPOSICION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ART.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MPUESTO A LAS GANANCIAS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 s/n a cont. del ART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MPRESAS ASOCI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Una empresa participe directa o indirectam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49360" indent="-2746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ión, 2. Control, ó 3.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una empresa del otro Estado contratan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. Las mismas personas participen directa o indirectamente e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49360" indent="-274680" algn="just"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ión, 2. Control, ó 3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una empresa de un EC y de una empresa del otro 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VINCUL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 empresas locales y del exterior con quienes aquellos realicen transacciones estén sujetos de manera directa o indirecta 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49360" indent="-2746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ión ó 2. 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49360" indent="-2746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las mismas personas físicas o juríd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s últimas sea por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95280" y="1506600"/>
            <a:ext cx="5905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NÁLISIS COMPARATIV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2" name=""/>
          <p:cNvGraphicFramePr/>
          <p:nvPr/>
        </p:nvGraphicFramePr>
        <p:xfrm>
          <a:off x="468360" y="2133720"/>
          <a:ext cx="8207280" cy="3605040"/>
        </p:xfrm>
        <a:graphic>
          <a:graphicData uri="http://schemas.openxmlformats.org/drawingml/2006/table">
            <a:tbl>
              <a:tblPr/>
              <a:tblGrid>
                <a:gridCol w="4043160"/>
                <a:gridCol w="41641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ONVENIOS DOBLE IMPOSICIÓN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.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MPUESTO A LAS GANANCIAS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 s/n a cont. del ART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uno u otro caso las dos empresas estén, en sus relaciones comerciales o financiera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das p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ciones aceptadas o impuestas, que difieran de las que serían acordadas por empresas independ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2779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 participación en el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2779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 grado de acreenci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2779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 influencias funcionales ó de cualquier otra índole contractuales o 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gan el poder de decisión para orientar o definir la o las actividades de las mencionadas empre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38200" y="2128680"/>
            <a:ext cx="82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lphaL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Un sujeto posea la totalidad o parte mayoritaria del capital   de o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346560" y="3282840"/>
            <a:ext cx="1376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455080" y="330660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aí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338120" y="4361040"/>
            <a:ext cx="66344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346560" y="4905360"/>
            <a:ext cx="1376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364720" y="498492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aí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994200" y="3860640"/>
            <a:ext cx="1440" cy="1068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860400" y="181080"/>
            <a:ext cx="7497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98520" y="2035080"/>
            <a:ext cx="919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. Dos o más sujetos tengan alternativ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133800" y="3530520"/>
            <a:ext cx="10335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B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342400" y="352440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901880" y="4194000"/>
            <a:ext cx="55134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133800" y="4322880"/>
            <a:ext cx="1025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C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38440" y="432432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760320" y="2606760"/>
            <a:ext cx="79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.1. Un sujeto en común como poseedor total o mayoritario de sus capi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901880" y="4986360"/>
            <a:ext cx="55054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133800" y="5187960"/>
            <a:ext cx="1025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D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316840" y="503568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1757520" y="3865680"/>
            <a:ext cx="1433160" cy="1551960"/>
            <a:chOff x="1757520" y="3865680"/>
            <a:chExt cx="1433160" cy="1551960"/>
          </a:xfrm>
        </p:grpSpPr>
        <p:sp>
          <p:nvSpPr>
            <p:cNvPr id="1188" name=""/>
            <p:cNvSpPr/>
            <p:nvPr/>
          </p:nvSpPr>
          <p:spPr>
            <a:xfrm>
              <a:off x="2587320" y="3865680"/>
              <a:ext cx="0" cy="1551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587320" y="3865680"/>
              <a:ext cx="603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757520" y="4604760"/>
              <a:ext cx="14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587320" y="5417640"/>
              <a:ext cx="603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757080" y="4395960"/>
            <a:ext cx="10335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A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998720" y="3483000"/>
            <a:ext cx="1440" cy="236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40080" y="518940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rot="5400000">
            <a:off x="4016880" y="3945600"/>
            <a:ext cx="795240" cy="530280"/>
          </a:xfrm>
          <a:custGeom>
            <a:avLst/>
            <a:gdLst>
              <a:gd name="textAreaLeft" fmla="*/ 160920 w 795240"/>
              <a:gd name="textAreaRight" fmla="*/ 564120 w 795240"/>
              <a:gd name="textAreaTop" fmla="*/ 70920 h 530280"/>
              <a:gd name="textAreaBottom" fmla="*/ 459360 h 530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50" hR="21600" stAng="10800000" swAng="5400000"/>
                <a:lnTo>
                  <a:pt x="10947" y="0"/>
                </a:lnTo>
                <a:arcTo wR="8750" hR="21600" stAng="-5400000" swAng="3024581"/>
                <a:lnTo>
                  <a:pt x="21147" y="14739"/>
                </a:lnTo>
                <a:lnTo>
                  <a:pt x="18598" y="21600"/>
                </a:lnTo>
                <a:lnTo>
                  <a:pt x="15142" y="14739"/>
                </a:lnTo>
                <a:lnTo>
                  <a:pt x="17046" y="14739"/>
                </a:lnTo>
                <a:arcTo wR="8750" hR="21600" stAng="-2375419" swAng="-2848509"/>
                <a:lnTo>
                  <a:pt x="9848" y="171"/>
                </a:lnTo>
                <a:arcTo wR="8750" hR="21600" stAng="-5576072" swAng="-5223928"/>
                <a:close/>
              </a:path>
              <a:path fill="darkenLess" w="21600" h="21600">
                <a:moveTo>
                  <a:pt x="0" y="21600"/>
                </a:moveTo>
                <a:arcTo wR="8750" hR="21600" stAng="10800000" swAng="5400000"/>
                <a:lnTo>
                  <a:pt x="8750" y="0"/>
                </a:lnTo>
                <a:arcTo wR="8750" hR="21600" stAng="-5400000" swAng="176072"/>
                <a:lnTo>
                  <a:pt x="9848" y="171"/>
                </a:lnTo>
                <a:arcTo wR="8750" hR="21600" stAng="-5576072" swAng="-5223928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rot="20077800">
            <a:off x="1676160" y="3985920"/>
            <a:ext cx="1571400" cy="129960"/>
          </a:xfrm>
          <a:prstGeom prst="rightArrow">
            <a:avLst>
              <a:gd name="adj1" fmla="val 50000"/>
              <a:gd name="adj2" fmla="val 30228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rot="1383600">
            <a:off x="1682280" y="5106960"/>
            <a:ext cx="1579680" cy="165240"/>
          </a:xfrm>
          <a:prstGeom prst="rightArrow">
            <a:avLst>
              <a:gd name="adj1" fmla="val 50000"/>
              <a:gd name="adj2" fmla="val 23899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757520" y="4621320"/>
            <a:ext cx="1433520" cy="149040"/>
          </a:xfrm>
          <a:prstGeom prst="rightArrow">
            <a:avLst>
              <a:gd name="adj1" fmla="val 50000"/>
              <a:gd name="adj2" fmla="val 2404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rot="5400000">
            <a:off x="3460680" y="4294080"/>
            <a:ext cx="1906200" cy="528480"/>
          </a:xfrm>
          <a:custGeom>
            <a:avLst/>
            <a:gdLst>
              <a:gd name="textAreaLeft" fmla="*/ 434880 w 1906200"/>
              <a:gd name="textAreaRight" fmla="*/ 1383840 w 1906200"/>
              <a:gd name="textAreaTop" fmla="*/ 70560 h 528480"/>
              <a:gd name="textAreaBottom" fmla="*/ 457920 h 528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56" hR="21600" stAng="10800000" swAng="5400000"/>
                <a:lnTo>
                  <a:pt x="10751" y="0"/>
                </a:lnTo>
                <a:arcTo wR="9856" hR="21600" stAng="-5400000" swAng="3204836"/>
                <a:lnTo>
                  <a:pt x="21079" y="14671"/>
                </a:lnTo>
                <a:lnTo>
                  <a:pt x="20159" y="21600"/>
                </a:lnTo>
                <a:lnTo>
                  <a:pt x="18196" y="14671"/>
                </a:lnTo>
                <a:lnTo>
                  <a:pt x="19190" y="14671"/>
                </a:lnTo>
                <a:arcTo wR="9856" hR="21600" stAng="-2195164" swAng="-3133551"/>
                <a:lnTo>
                  <a:pt x="10303" y="22"/>
                </a:lnTo>
                <a:arcTo wR="9856" hR="21600" stAng="-5471285" swAng="-5328715"/>
                <a:close/>
              </a:path>
              <a:path fill="darkenLess" w="21600" h="21600">
                <a:moveTo>
                  <a:pt x="0" y="21600"/>
                </a:moveTo>
                <a:arcTo wR="9856" hR="21600" stAng="10800000" swAng="5400000"/>
                <a:lnTo>
                  <a:pt x="9856" y="0"/>
                </a:lnTo>
                <a:arcTo wR="9856" hR="21600" stAng="-5400000" swAng="71285"/>
                <a:lnTo>
                  <a:pt x="10303" y="22"/>
                </a:lnTo>
                <a:arcTo wR="9856" hR="21600" stAng="-5471285" swAng="-532871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rot="9229200">
            <a:off x="1692000" y="4125600"/>
            <a:ext cx="1569960" cy="129960"/>
          </a:xfrm>
          <a:prstGeom prst="rightArrow">
            <a:avLst>
              <a:gd name="adj1" fmla="val 50000"/>
              <a:gd name="adj2" fmla="val 30200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rot="5400000">
            <a:off x="3470400" y="4941000"/>
            <a:ext cx="370080" cy="152280"/>
          </a:xfrm>
          <a:prstGeom prst="rightArrow">
            <a:avLst>
              <a:gd name="adj1" fmla="val 50000"/>
              <a:gd name="adj2" fmla="val 607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rot="10800000">
            <a:off x="1757520" y="4476240"/>
            <a:ext cx="1433520" cy="147960"/>
          </a:xfrm>
          <a:prstGeom prst="rightArrow">
            <a:avLst>
              <a:gd name="adj1" fmla="val 50000"/>
              <a:gd name="adj2" fmla="val 2422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rot="16200000">
            <a:off x="3509280" y="4113720"/>
            <a:ext cx="293400" cy="152280"/>
          </a:xfrm>
          <a:prstGeom prst="rightArrow">
            <a:avLst>
              <a:gd name="adj1" fmla="val 50000"/>
              <a:gd name="adj2" fmla="val 481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rot="12181800">
            <a:off x="1682640" y="4963320"/>
            <a:ext cx="1579680" cy="165240"/>
          </a:xfrm>
          <a:prstGeom prst="rightArrow">
            <a:avLst>
              <a:gd name="adj1" fmla="val 50000"/>
              <a:gd name="adj2" fmla="val 23899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rot="16200000">
            <a:off x="3182760" y="4941720"/>
            <a:ext cx="370080" cy="150840"/>
          </a:xfrm>
          <a:prstGeom prst="rightArrow">
            <a:avLst>
              <a:gd name="adj1" fmla="val 50000"/>
              <a:gd name="adj2" fmla="val 6133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 rot="16200000">
            <a:off x="3460680" y="4438080"/>
            <a:ext cx="1906200" cy="528480"/>
          </a:xfrm>
          <a:custGeom>
            <a:avLst/>
            <a:gdLst>
              <a:gd name="textAreaLeft" fmla="*/ 434880 w 1906200"/>
              <a:gd name="textAreaRight" fmla="*/ 1383840 w 1906200"/>
              <a:gd name="textAreaTop" fmla="*/ 70560 h 528480"/>
              <a:gd name="textAreaBottom" fmla="*/ 457920 h 528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56" hR="21600" stAng="10800000" swAng="5400000"/>
                <a:lnTo>
                  <a:pt x="10751" y="0"/>
                </a:lnTo>
                <a:arcTo wR="9856" hR="21600" stAng="-5400000" swAng="3204836"/>
                <a:lnTo>
                  <a:pt x="21079" y="14671"/>
                </a:lnTo>
                <a:lnTo>
                  <a:pt x="20159" y="21600"/>
                </a:lnTo>
                <a:lnTo>
                  <a:pt x="18196" y="14671"/>
                </a:lnTo>
                <a:lnTo>
                  <a:pt x="19190" y="14671"/>
                </a:lnTo>
                <a:arcTo wR="9856" hR="21600" stAng="-2195164" swAng="-3133551"/>
                <a:lnTo>
                  <a:pt x="10303" y="22"/>
                </a:lnTo>
                <a:arcTo wR="9856" hR="21600" stAng="-5471285" swAng="-5328715"/>
                <a:close/>
              </a:path>
              <a:path fill="darkenLess" w="21600" h="21600">
                <a:moveTo>
                  <a:pt x="0" y="21600"/>
                </a:moveTo>
                <a:arcTo wR="9856" hR="21600" stAng="10800000" swAng="5400000"/>
                <a:lnTo>
                  <a:pt x="9856" y="0"/>
                </a:lnTo>
                <a:arcTo wR="9856" hR="21600" stAng="-5400000" swAng="71285"/>
                <a:lnTo>
                  <a:pt x="10303" y="22"/>
                </a:lnTo>
                <a:arcTo wR="9856" hR="21600" stAng="-5471285" swAng="-5328715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7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8" dur="2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1" dur="2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4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6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0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3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6" dur="2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8" dur="1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2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5" dur="2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6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3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4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7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0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39640" y="2023920"/>
            <a:ext cx="88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. Dos o más sujetos tengan alternativ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84360" y="242244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.2. Un sujeto en común que posea participación total o mayori-taria en el capital de uno o más sujetos, e influencia significativa en uno o más de los otros su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1782720" y="3789360"/>
            <a:ext cx="1368360" cy="791640"/>
            <a:chOff x="1782720" y="3789360"/>
            <a:chExt cx="1368360" cy="791640"/>
          </a:xfrm>
        </p:grpSpPr>
        <p:sp>
          <p:nvSpPr>
            <p:cNvPr id="1213" name=""/>
            <p:cNvSpPr/>
            <p:nvPr/>
          </p:nvSpPr>
          <p:spPr>
            <a:xfrm>
              <a:off x="2575080" y="3789360"/>
              <a:ext cx="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575080" y="3789360"/>
              <a:ext cx="576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782720" y="458100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2575080" y="4581360"/>
            <a:ext cx="576000" cy="863280"/>
            <a:chOff x="2575080" y="4581360"/>
            <a:chExt cx="576000" cy="863280"/>
          </a:xfrm>
        </p:grpSpPr>
        <p:sp>
          <p:nvSpPr>
            <p:cNvPr id="1217" name=""/>
            <p:cNvSpPr/>
            <p:nvPr/>
          </p:nvSpPr>
          <p:spPr>
            <a:xfrm>
              <a:off x="2575080" y="5444640"/>
              <a:ext cx="576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575080" y="4581360"/>
              <a:ext cx="576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575080" y="4581360"/>
              <a:ext cx="0" cy="86328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3151080" y="3500280"/>
            <a:ext cx="989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B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337720" y="349236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998720" y="4149720"/>
            <a:ext cx="5265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151080" y="4292640"/>
            <a:ext cx="9813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C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333400" y="429264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998720" y="49417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151080" y="5157720"/>
            <a:ext cx="9813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D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310360" y="500364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774720" y="4365720"/>
            <a:ext cx="98892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A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998720" y="35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635400" y="515772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rot="5400000">
            <a:off x="4013640" y="3925080"/>
            <a:ext cx="795240" cy="505080"/>
          </a:xfrm>
          <a:custGeom>
            <a:avLst/>
            <a:gdLst>
              <a:gd name="textAreaLeft" fmla="*/ 160920 w 795240"/>
              <a:gd name="textAreaRight" fmla="*/ 564120 w 795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50" hR="21600" stAng="10800000" swAng="5400000"/>
                <a:lnTo>
                  <a:pt x="10947" y="0"/>
                </a:lnTo>
                <a:arcTo wR="8750" hR="21600" stAng="-5400000" swAng="3024581"/>
                <a:lnTo>
                  <a:pt x="21147" y="14739"/>
                </a:lnTo>
                <a:lnTo>
                  <a:pt x="18598" y="21600"/>
                </a:lnTo>
                <a:lnTo>
                  <a:pt x="15142" y="14739"/>
                </a:lnTo>
                <a:lnTo>
                  <a:pt x="17046" y="14739"/>
                </a:lnTo>
                <a:arcTo wR="8750" hR="21600" stAng="-2375419" swAng="-2848509"/>
                <a:lnTo>
                  <a:pt x="9848" y="171"/>
                </a:lnTo>
                <a:arcTo wR="8750" hR="21600" stAng="-5576072" swAng="-5223928"/>
                <a:close/>
              </a:path>
              <a:path fill="darkenLess" w="21600" h="21600">
                <a:moveTo>
                  <a:pt x="0" y="21600"/>
                </a:moveTo>
                <a:arcTo wR="8750" hR="21600" stAng="10800000" swAng="5400000"/>
                <a:lnTo>
                  <a:pt x="8750" y="0"/>
                </a:lnTo>
                <a:arcTo wR="8750" hR="21600" stAng="-5400000" swAng="176072"/>
                <a:lnTo>
                  <a:pt x="9848" y="171"/>
                </a:lnTo>
                <a:arcTo wR="8750" hR="21600" stAng="-5576072" swAng="-5223928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rot="20077800">
            <a:off x="1695600" y="3936600"/>
            <a:ext cx="1512720" cy="142920"/>
          </a:xfrm>
          <a:prstGeom prst="rightArrow">
            <a:avLst>
              <a:gd name="adj1" fmla="val 50000"/>
              <a:gd name="adj2" fmla="val 26461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rot="1383600">
            <a:off x="1711080" y="5084640"/>
            <a:ext cx="1512720" cy="142920"/>
          </a:xfrm>
          <a:prstGeom prst="rightArrow">
            <a:avLst>
              <a:gd name="adj1" fmla="val 50000"/>
              <a:gd name="adj2" fmla="val 26461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782720" y="4581360"/>
            <a:ext cx="1368360" cy="144720"/>
          </a:xfrm>
          <a:prstGeom prst="rightArrow">
            <a:avLst>
              <a:gd name="adj1" fmla="val 50000"/>
              <a:gd name="adj2" fmla="val 23638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rot="5400000">
            <a:off x="3458160" y="4283640"/>
            <a:ext cx="1906200" cy="505080"/>
          </a:xfrm>
          <a:custGeom>
            <a:avLst/>
            <a:gdLst>
              <a:gd name="textAreaLeft" fmla="*/ 434880 w 1906200"/>
              <a:gd name="textAreaRight" fmla="*/ 1383840 w 19062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56" hR="21600" stAng="10800000" swAng="5400000"/>
                <a:lnTo>
                  <a:pt x="10751" y="0"/>
                </a:lnTo>
                <a:arcTo wR="9856" hR="21600" stAng="-5400000" swAng="3204836"/>
                <a:lnTo>
                  <a:pt x="21079" y="14671"/>
                </a:lnTo>
                <a:lnTo>
                  <a:pt x="20159" y="21600"/>
                </a:lnTo>
                <a:lnTo>
                  <a:pt x="18196" y="14671"/>
                </a:lnTo>
                <a:lnTo>
                  <a:pt x="19190" y="14671"/>
                </a:lnTo>
                <a:arcTo wR="9856" hR="21600" stAng="-2195164" swAng="-3133551"/>
                <a:lnTo>
                  <a:pt x="10303" y="22"/>
                </a:lnTo>
                <a:arcTo wR="9856" hR="21600" stAng="-5471285" swAng="-5328715"/>
                <a:close/>
              </a:path>
              <a:path fill="darkenLess" w="21600" h="21600">
                <a:moveTo>
                  <a:pt x="0" y="21600"/>
                </a:moveTo>
                <a:arcTo wR="9856" hR="21600" stAng="10800000" swAng="5400000"/>
                <a:lnTo>
                  <a:pt x="9856" y="0"/>
                </a:lnTo>
                <a:arcTo wR="9856" hR="21600" stAng="-5400000" swAng="71285"/>
                <a:lnTo>
                  <a:pt x="10303" y="22"/>
                </a:lnTo>
                <a:arcTo wR="9856" hR="21600" stAng="-5471285" swAng="-532871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rot="9229200">
            <a:off x="1711080" y="4076280"/>
            <a:ext cx="1512720" cy="142920"/>
          </a:xfrm>
          <a:prstGeom prst="rightArrow">
            <a:avLst>
              <a:gd name="adj1" fmla="val 50000"/>
              <a:gd name="adj2" fmla="val 26461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rot="5400000">
            <a:off x="3474720" y="4905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rot="10800000">
            <a:off x="1782360" y="4436640"/>
            <a:ext cx="1368360" cy="142920"/>
          </a:xfrm>
          <a:prstGeom prst="rightArrow">
            <a:avLst>
              <a:gd name="adj1" fmla="val 50000"/>
              <a:gd name="adj2" fmla="val 2393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rot="16200000">
            <a:off x="3511440" y="407664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rot="12181800">
            <a:off x="1711440" y="4941000"/>
            <a:ext cx="1512720" cy="142920"/>
          </a:xfrm>
          <a:prstGeom prst="rightArrow">
            <a:avLst>
              <a:gd name="adj1" fmla="val 50000"/>
              <a:gd name="adj2" fmla="val 26461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rot="16200000">
            <a:off x="3186720" y="4905720"/>
            <a:ext cx="360360" cy="142560"/>
          </a:xfrm>
          <a:prstGeom prst="rightArrow">
            <a:avLst>
              <a:gd name="adj1" fmla="val 50000"/>
              <a:gd name="adj2" fmla="val 6319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V="1" rot="16200000">
            <a:off x="3458160" y="4427280"/>
            <a:ext cx="1906200" cy="505080"/>
          </a:xfrm>
          <a:custGeom>
            <a:avLst/>
            <a:gdLst>
              <a:gd name="textAreaLeft" fmla="*/ 434880 w 1906200"/>
              <a:gd name="textAreaRight" fmla="*/ 1383840 w 19062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56" hR="21600" stAng="10800000" swAng="5400000"/>
                <a:lnTo>
                  <a:pt x="10751" y="0"/>
                </a:lnTo>
                <a:arcTo wR="9856" hR="21600" stAng="-5400000" swAng="3204836"/>
                <a:lnTo>
                  <a:pt x="21079" y="14671"/>
                </a:lnTo>
                <a:lnTo>
                  <a:pt x="20159" y="21600"/>
                </a:lnTo>
                <a:lnTo>
                  <a:pt x="18196" y="14671"/>
                </a:lnTo>
                <a:lnTo>
                  <a:pt x="19190" y="14671"/>
                </a:lnTo>
                <a:arcTo wR="9856" hR="21600" stAng="-2195164" swAng="-3133551"/>
                <a:lnTo>
                  <a:pt x="10303" y="22"/>
                </a:lnTo>
                <a:arcTo wR="9856" hR="21600" stAng="-5471285" swAng="-5328715"/>
                <a:close/>
              </a:path>
              <a:path fill="darkenLess" w="21600" h="21600">
                <a:moveTo>
                  <a:pt x="0" y="21600"/>
                </a:moveTo>
                <a:arcTo wR="9856" hR="21600" stAng="10800000" swAng="5400000"/>
                <a:lnTo>
                  <a:pt x="9856" y="0"/>
                </a:lnTo>
                <a:arcTo wR="9856" hR="21600" stAng="-5400000" swAng="71285"/>
                <a:lnTo>
                  <a:pt x="10303" y="22"/>
                </a:lnTo>
                <a:arcTo wR="9856" hR="21600" stAng="-5471285" swAng="-5328715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2" dur="indefinite" restart="never" nodeType="tmRoot">
          <p:childTnLst>
            <p:seq>
              <p:cTn id="1633" dur="indefinite" nodeType="mainSeq">
                <p:childTnLst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6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3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4" dur="2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7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0" dur="2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6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9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2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0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7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8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1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4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2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9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0" dur="2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3" dur="2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6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58720" y="1963800"/>
            <a:ext cx="78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. Dos o más sujetos tengan alternativ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151080" y="3357720"/>
            <a:ext cx="1295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Garamond"/>
              </a:rPr>
              <a:t>B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901040" y="335772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998720" y="4149720"/>
            <a:ext cx="5265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151080" y="4437000"/>
            <a:ext cx="12859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Garamond"/>
              </a:rPr>
              <a:t>C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901760" y="443700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11280" y="23194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.3. Un sujeto en común que posea influencia significativa sobre ellos simultáne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87440" y="3933720"/>
            <a:ext cx="1295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Garamond"/>
              </a:rPr>
              <a:t>A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1998720" y="314172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19400" y="479736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782720" y="3645000"/>
            <a:ext cx="1368360" cy="1078920"/>
            <a:chOff x="1782720" y="3645000"/>
            <a:chExt cx="1368360" cy="1078920"/>
          </a:xfrm>
        </p:grpSpPr>
        <p:sp>
          <p:nvSpPr>
            <p:cNvPr id="1258" name=""/>
            <p:cNvSpPr/>
            <p:nvPr/>
          </p:nvSpPr>
          <p:spPr>
            <a:xfrm>
              <a:off x="2575080" y="4723920"/>
              <a:ext cx="576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782720" y="4232880"/>
              <a:ext cx="79236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575080" y="3645000"/>
              <a:ext cx="0" cy="107892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575080" y="3645000"/>
              <a:ext cx="576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"/>
          <p:cNvSpPr/>
          <p:nvPr/>
        </p:nvSpPr>
        <p:spPr>
          <a:xfrm rot="20077800">
            <a:off x="1709280" y="3696840"/>
            <a:ext cx="1506600" cy="127080"/>
          </a:xfrm>
          <a:prstGeom prst="rightArrow">
            <a:avLst>
              <a:gd name="adj1" fmla="val 50000"/>
              <a:gd name="adj2" fmla="val 29638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rot="11917200">
            <a:off x="1707840" y="4447440"/>
            <a:ext cx="1439640" cy="142920"/>
          </a:xfrm>
          <a:prstGeom prst="rightArrow">
            <a:avLst>
              <a:gd name="adj1" fmla="val 50000"/>
              <a:gd name="adj2" fmla="val 2518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rot="5400000">
            <a:off x="3915720" y="3969360"/>
            <a:ext cx="1566720" cy="504720"/>
          </a:xfrm>
          <a:custGeom>
            <a:avLst/>
            <a:gdLst>
              <a:gd name="textAreaLeft" fmla="*/ 317160 w 1566720"/>
              <a:gd name="textAreaRight" fmla="*/ 1111320 w 15667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50" hR="21600" stAng="10800000" swAng="5400000"/>
                <a:lnTo>
                  <a:pt x="10947" y="0"/>
                </a:lnTo>
                <a:arcTo wR="8750" hR="21600" stAng="-5400000" swAng="3024581"/>
                <a:lnTo>
                  <a:pt x="21147" y="14739"/>
                </a:lnTo>
                <a:lnTo>
                  <a:pt x="18598" y="21600"/>
                </a:lnTo>
                <a:lnTo>
                  <a:pt x="15142" y="14739"/>
                </a:lnTo>
                <a:lnTo>
                  <a:pt x="17046" y="14739"/>
                </a:lnTo>
                <a:arcTo wR="8750" hR="21600" stAng="-2375419" swAng="-2848509"/>
                <a:lnTo>
                  <a:pt x="9848" y="171"/>
                </a:lnTo>
                <a:arcTo wR="8750" hR="21600" stAng="-5576072" swAng="-5223928"/>
                <a:close/>
              </a:path>
              <a:path fill="darkenLess" w="21600" h="21600">
                <a:moveTo>
                  <a:pt x="0" y="21600"/>
                </a:moveTo>
                <a:arcTo wR="8750" hR="21600" stAng="10800000" swAng="5400000"/>
                <a:lnTo>
                  <a:pt x="8750" y="0"/>
                </a:lnTo>
                <a:arcTo wR="8750" hR="21600" stAng="-5400000" swAng="176072"/>
                <a:lnTo>
                  <a:pt x="9848" y="171"/>
                </a:lnTo>
                <a:arcTo wR="8750" hR="21600" stAng="-5576072" swAng="-5223928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rot="1059000">
            <a:off x="1780920" y="4650840"/>
            <a:ext cx="1368360" cy="144720"/>
          </a:xfrm>
          <a:prstGeom prst="rightArrow">
            <a:avLst>
              <a:gd name="adj1" fmla="val 50000"/>
              <a:gd name="adj2" fmla="val 23638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rot="9229200">
            <a:off x="1640880" y="3876480"/>
            <a:ext cx="1585800" cy="144360"/>
          </a:xfrm>
          <a:prstGeom prst="rightArrow">
            <a:avLst>
              <a:gd name="adj1" fmla="val 50000"/>
              <a:gd name="adj2" fmla="val 27462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rot="16200000">
            <a:off x="3403440" y="4113000"/>
            <a:ext cx="503280" cy="144360"/>
          </a:xfrm>
          <a:prstGeom prst="rightArrow">
            <a:avLst>
              <a:gd name="adj1" fmla="val 50000"/>
              <a:gd name="adj2" fmla="val 87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8" dur="indefinite" restart="never" nodeType="tmRoot">
          <p:childTnLst>
            <p:seq>
              <p:cTn id="1829" dur="indefinite" nodeType="mainSeq">
                <p:childTnLst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6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3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7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0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8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5" dur="1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9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2" dur="2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0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7" dur="1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1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4" dur="2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38200" y="2259000"/>
            <a:ext cx="8210520" cy="38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Un sujeto posea los votos necesarios para formar la voluntad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. Dos o más sujetos posean directores, funcionarios o adminis-tradores comu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. Un sujeto goce de exclusividad como agente, distribuidor o concesionario para la compra venta de bienes, servicios o derechos, por parte de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. Un sujeto provea a otro la propiedad tecnológica o conocimiento técnico que constituya la base de sus actividades, sobre las cuales este último conduce su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692360" y="69228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6" dur="indefinite" restart="never" nodeType="tmRoot">
          <p:childTnLst>
            <p:seq>
              <p:cTn id="1947" dur="indefinite" nodeType="mainSeq">
                <p:childTnLst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95280" y="1989000"/>
            <a:ext cx="820908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. Un sujeto participe con otro en asociaciones sin existencia legal como personas jurídicas, a través de los cuales ejerce influencia significativa en la determinación de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. Un sujeto acuerde con otro cláusulas contractuales que asumen el carácter de preferenciales en relación con las otorgadas a terceros en similares circunsta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. Un sujeto participe significativamente en la fijación de las políticas empresariales, entre otras, el aprovisionamiento de materias primas, la producción y/o la comercialización, de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Un sujeto desarrolle una actividad de importancia sólo con relación a otro, o su existencia se justifique únicamente en relación con otro, verificándose situaciones tales como relaciones de único proveedor o único cliente, entre o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24000" y="2565360"/>
            <a:ext cx="8208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34920" y="1355760"/>
            <a:ext cx="9109080" cy="495288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487440" y="1268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03440" y="1701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656160" y="126828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AISO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896160" y="1268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03440" y="1917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BENEFICI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03440" y="2133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ECIO VENTA   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800520" y="2565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00520" y="2781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BENEFICI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00520" y="2997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ECIO VENTA   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800520" y="2133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MP                           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800520" y="2349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TOS PROD.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503440" y="2276640"/>
            <a:ext cx="12240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970680" y="2997360"/>
            <a:ext cx="18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ODUCTO          250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970320" y="3213000"/>
            <a:ext cx="16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TOS COMERC.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969960" y="342900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                  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971040" y="3645000"/>
            <a:ext cx="16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BENEFICI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672160" y="3141720"/>
            <a:ext cx="12240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969240" y="386064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ECIO VENTA   2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14360" y="4149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440160" y="4149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372360" y="414972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74720" y="451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VENT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74720" y="472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VENTA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(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74720" y="4941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798720" y="451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VENT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798720" y="472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VENTA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(1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798720" y="4941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967440" y="451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VENT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2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967440" y="472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VENTA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(27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967440" y="4941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87440" y="5229360"/>
            <a:ext cx="2592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ff0000"/>
                </a:solidFill>
                <a:uFillTx/>
                <a:latin typeface="Times New Roman"/>
              </a:rPr>
              <a:t>EFEC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ff0000"/>
                </a:solidFill>
                <a:uFillTx/>
                <a:latin typeface="Times New Roman"/>
              </a:rPr>
              <a:t>ANULACION DE LA GAN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513240" y="5229360"/>
            <a:ext cx="2592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ff0000"/>
                </a:solidFill>
                <a:uFillTx/>
                <a:latin typeface="Times New Roman"/>
              </a:rPr>
              <a:t>EFEC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ff0000"/>
                </a:solidFill>
                <a:uFillTx/>
                <a:latin typeface="Times New Roman"/>
              </a:rPr>
              <a:t>INCREMENTO DE LA GAN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680160" y="5229360"/>
            <a:ext cx="2592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ff0000"/>
                </a:solidFill>
                <a:uFillTx/>
                <a:latin typeface="Times New Roman"/>
              </a:rPr>
              <a:t>EFEC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ff0000"/>
                </a:solidFill>
                <a:uFillTx/>
                <a:latin typeface="Times New Roman"/>
              </a:rPr>
              <a:t>REDUCCION DE LA GAN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95280" y="1989000"/>
            <a:ext cx="8209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95280" y="2060640"/>
            <a:ext cx="820908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k. Un sujeto provea en forma sustancial los fondos requeridos para el desarrollo de las actividades comerciales de otro, entre otras formas, mediante la concesión de préstamos o del otorgamiento de garantías de cualquier tipo en los casos de financiación provista por un ter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. Un sujeto se haga cargo de las pérdidas o gastos de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. Los directores, funcionarios, administradores de un sujeto reciban instrucciones o actúen  en interés de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. Existan acuerdos, circunstancias o situaciones por las que se otorgue la dirección a un sujeto cuya participación en el capital social sea minorit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VINCULACIÓ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95280" y="1506600"/>
            <a:ext cx="5905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NÁLISIS DE CASO CONCRE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395280" y="1989000"/>
            <a:ext cx="8280360" cy="432000"/>
            <a:chOff x="395280" y="1989000"/>
            <a:chExt cx="8280360" cy="432000"/>
          </a:xfrm>
        </p:grpSpPr>
        <p:sp>
          <p:nvSpPr>
            <p:cNvPr id="1284" name=""/>
            <p:cNvSpPr/>
            <p:nvPr/>
          </p:nvSpPr>
          <p:spPr>
            <a:xfrm>
              <a:off x="395280" y="1989000"/>
              <a:ext cx="8280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Times New Roman"/>
                </a:rPr>
                <a:t>ARGENTINA                                                         BRAS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595040" y="19890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"/>
          <p:cNvSpPr/>
          <p:nvPr/>
        </p:nvSpPr>
        <p:spPr>
          <a:xfrm>
            <a:off x="271440" y="3141720"/>
            <a:ext cx="2954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XX ARGENTINA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372360" y="4175280"/>
            <a:ext cx="2390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XX BRAS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292720" y="3141720"/>
            <a:ext cx="3187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TRADING BRAS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2843280" y="2997360"/>
            <a:ext cx="3109320" cy="360360"/>
            <a:chOff x="2843280" y="2997360"/>
            <a:chExt cx="3109320" cy="360360"/>
          </a:xfrm>
        </p:grpSpPr>
        <p:sp>
          <p:nvSpPr>
            <p:cNvPr id="1290" name=""/>
            <p:cNvSpPr/>
            <p:nvPr/>
          </p:nvSpPr>
          <p:spPr>
            <a:xfrm>
              <a:off x="2843280" y="2997360"/>
              <a:ext cx="31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Times New Roman"/>
                </a:rPr>
                <a:t>EXPORTACION DE BIENES “N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43280" y="3357720"/>
              <a:ext cx="303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6319800" y="357336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5076720" y="5094360"/>
            <a:ext cx="34988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RED DE DISTRIBUCION DE XX  BRAS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276720" y="5791320"/>
            <a:ext cx="466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VENTA DE BIENES “N” A LOS DISTRIBUIDORES EXCLUSIVOS DE XX BRASIL 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8243640" y="3501720"/>
            <a:ext cx="309600" cy="647640"/>
            <a:chOff x="8243640" y="3501720"/>
            <a:chExt cx="309600" cy="647640"/>
          </a:xfrm>
        </p:grpSpPr>
        <p:sp>
          <p:nvSpPr>
            <p:cNvPr id="1296" name=""/>
            <p:cNvSpPr/>
            <p:nvPr/>
          </p:nvSpPr>
          <p:spPr>
            <a:xfrm flipV="1">
              <a:off x="8553240" y="3501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8243640" y="3502080"/>
              <a:ext cx="30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8" name=""/>
          <p:cNvSpPr/>
          <p:nvPr/>
        </p:nvSpPr>
        <p:spPr>
          <a:xfrm>
            <a:off x="0" y="2995560"/>
            <a:ext cx="10691640" cy="180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0" y="2419200"/>
            <a:ext cx="10691640" cy="180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684360" y="2492280"/>
            <a:ext cx="7920000" cy="431640"/>
            <a:chOff x="684360" y="2492280"/>
            <a:chExt cx="7920000" cy="431640"/>
          </a:xfrm>
        </p:grpSpPr>
        <p:sp>
          <p:nvSpPr>
            <p:cNvPr id="1301" name=""/>
            <p:cNvSpPr/>
            <p:nvPr/>
          </p:nvSpPr>
          <p:spPr>
            <a:xfrm>
              <a:off x="684360" y="2492280"/>
              <a:ext cx="792000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Times New Roman"/>
                </a:rPr>
                <a:t>XX ARGENTINA S.A.                                          XX BRASIL S.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701240" y="2492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4087800" y="2476440"/>
            <a:ext cx="2176200" cy="307080"/>
            <a:chOff x="4087800" y="2476440"/>
            <a:chExt cx="2176200" cy="307080"/>
          </a:xfrm>
        </p:grpSpPr>
        <p:sp>
          <p:nvSpPr>
            <p:cNvPr id="1304" name=""/>
            <p:cNvSpPr/>
            <p:nvPr/>
          </p:nvSpPr>
          <p:spPr>
            <a:xfrm>
              <a:off x="4087800" y="2763720"/>
              <a:ext cx="217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64480" y="2476440"/>
              <a:ext cx="85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Times New Roman"/>
                </a:rPr>
                <a:t>EX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"/>
          <p:cNvSpPr/>
          <p:nvPr/>
        </p:nvSpPr>
        <p:spPr>
          <a:xfrm flipH="1" flipV="1" rot="16200000">
            <a:off x="3394080" y="646560"/>
            <a:ext cx="934920" cy="7075440"/>
          </a:xfrm>
          <a:custGeom>
            <a:avLst/>
            <a:gdLst>
              <a:gd name="textAreaLeft" fmla="*/ 143640 w 934920"/>
              <a:gd name="textAreaRight" fmla="*/ 780120 w 934920"/>
              <a:gd name="textAreaTop" fmla="*/ 4623840 h 7075440"/>
              <a:gd name="textAreaBottom" fmla="*/ 5905440 h 7075440"/>
            </a:gdLst>
            <a:ahLst/>
            <a:rect l="textAreaLeft" t="textAreaTop" r="textAreaRight" b="textAreaBottom"/>
            <a:pathLst>
              <a:path w="21600" h="21600">
                <a:moveTo>
                  <a:pt x="0" y="17688"/>
                </a:moveTo>
                <a:lnTo>
                  <a:pt x="14116" y="17688"/>
                </a:lnTo>
                <a:lnTo>
                  <a:pt x="14116" y="3333"/>
                </a:lnTo>
                <a:lnTo>
                  <a:pt x="10544" y="3333"/>
                </a:lnTo>
                <a:lnTo>
                  <a:pt x="16072" y="0"/>
                </a:lnTo>
                <a:lnTo>
                  <a:pt x="21600" y="3333"/>
                </a:lnTo>
                <a:lnTo>
                  <a:pt x="18028" y="3333"/>
                </a:lnTo>
                <a:lnTo>
                  <a:pt x="180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14360" y="5013360"/>
            <a:ext cx="466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SUBSIDIARIAS DEL GRUPO XX USA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4" dur="indefinite" restart="never" nodeType="tmRoot">
          <p:childTnLst>
            <p:seq>
              <p:cTn id="1955" dur="indefinite" nodeType="mainSeq">
                <p:childTnLst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7" dur="2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250920" y="1506600"/>
            <a:ext cx="5688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PROCESO COMPLETO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050920" y="54936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0" name="Rectangle 17"/>
          <p:cNvGrpSpPr/>
          <p:nvPr/>
        </p:nvGrpSpPr>
        <p:grpSpPr>
          <a:xfrm>
            <a:off x="1154160" y="2406600"/>
            <a:ext cx="7272000" cy="577800"/>
            <a:chOff x="1154160" y="2406600"/>
            <a:chExt cx="7272000" cy="577800"/>
          </a:xfrm>
        </p:grpSpPr>
        <p:pic>
          <p:nvPicPr>
            <p:cNvPr id="1311" name="Rectangle 17" descr=""/>
            <p:cNvPicPr/>
            <p:nvPr/>
          </p:nvPicPr>
          <p:blipFill>
            <a:blip r:embed="rId1"/>
            <a:stretch/>
          </p:blipFill>
          <p:spPr>
            <a:xfrm>
              <a:off x="1154160" y="240660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2" name=""/>
            <p:cNvSpPr/>
            <p:nvPr/>
          </p:nvSpPr>
          <p:spPr>
            <a:xfrm>
              <a:off x="1287000" y="245988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ARA QUÉ CONTROLAR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3" name="Rectangle 17"/>
          <p:cNvGrpSpPr/>
          <p:nvPr/>
        </p:nvGrpSpPr>
        <p:grpSpPr>
          <a:xfrm>
            <a:off x="1154160" y="4133880"/>
            <a:ext cx="7272000" cy="577800"/>
            <a:chOff x="1154160" y="4133880"/>
            <a:chExt cx="7272000" cy="577800"/>
          </a:xfrm>
        </p:grpSpPr>
        <p:pic>
          <p:nvPicPr>
            <p:cNvPr id="1314" name="Rectangle 17" descr=""/>
            <p:cNvPicPr/>
            <p:nvPr/>
          </p:nvPicPr>
          <p:blipFill>
            <a:blip r:embed="rId2"/>
            <a:stretch/>
          </p:blipFill>
          <p:spPr>
            <a:xfrm>
              <a:off x="1154160" y="413388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5" name=""/>
            <p:cNvSpPr/>
            <p:nvPr/>
          </p:nvSpPr>
          <p:spPr>
            <a:xfrm>
              <a:off x="1287000" y="418716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 QUIÉN CONTROLAR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6" name="Rectangle 17"/>
          <p:cNvGrpSpPr/>
          <p:nvPr/>
        </p:nvGrpSpPr>
        <p:grpSpPr>
          <a:xfrm>
            <a:off x="1154160" y="3341520"/>
            <a:ext cx="7272000" cy="578160"/>
            <a:chOff x="1154160" y="3341520"/>
            <a:chExt cx="7272000" cy="578160"/>
          </a:xfrm>
        </p:grpSpPr>
        <p:pic>
          <p:nvPicPr>
            <p:cNvPr id="1317" name="Rectangle 17" descr=""/>
            <p:cNvPicPr/>
            <p:nvPr/>
          </p:nvPicPr>
          <p:blipFill>
            <a:blip r:embed="rId3"/>
            <a:stretch/>
          </p:blipFill>
          <p:spPr>
            <a:xfrm>
              <a:off x="1154160" y="3341520"/>
              <a:ext cx="727200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8" name=""/>
            <p:cNvSpPr/>
            <p:nvPr/>
          </p:nvSpPr>
          <p:spPr>
            <a:xfrm>
              <a:off x="1287000" y="3394800"/>
              <a:ext cx="701820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QUÉ  CONTROLAR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Rectangle 17"/>
          <p:cNvGrpSpPr/>
          <p:nvPr/>
        </p:nvGrpSpPr>
        <p:grpSpPr>
          <a:xfrm>
            <a:off x="1154160" y="4997520"/>
            <a:ext cx="7272000" cy="577800"/>
            <a:chOff x="1154160" y="4997520"/>
            <a:chExt cx="7272000" cy="577800"/>
          </a:xfrm>
        </p:grpSpPr>
        <p:pic>
          <p:nvPicPr>
            <p:cNvPr id="1320" name="Rectangle 17" descr=""/>
            <p:cNvPicPr/>
            <p:nvPr/>
          </p:nvPicPr>
          <p:blipFill>
            <a:blip r:embed="rId4"/>
            <a:stretch/>
          </p:blipFill>
          <p:spPr>
            <a:xfrm>
              <a:off x="1154160" y="499752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"/>
            <p:cNvSpPr/>
            <p:nvPr/>
          </p:nvSpPr>
          <p:spPr>
            <a:xfrm>
              <a:off x="1287000" y="505080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ÓMO CONTROLAR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51" dur="indefinite" restart="never" nodeType="tmRoot">
          <p:childTnLst>
            <p:seq>
              <p:cTn id="2052" dur="indefinite" nodeType="mainSeq">
                <p:childTnLst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7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2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7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2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Rectangle 17"/>
          <p:cNvGrpSpPr/>
          <p:nvPr/>
        </p:nvGrpSpPr>
        <p:grpSpPr>
          <a:xfrm>
            <a:off x="971640" y="2476440"/>
            <a:ext cx="7272000" cy="433440"/>
            <a:chOff x="971640" y="2476440"/>
            <a:chExt cx="7272000" cy="433440"/>
          </a:xfrm>
        </p:grpSpPr>
        <p:pic>
          <p:nvPicPr>
            <p:cNvPr id="1326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2476440"/>
              <a:ext cx="727200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>
              <a:off x="1104480" y="2516400"/>
              <a:ext cx="7018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ESGUARDAR LA BASE IMPONIBLE N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Rectangle 17"/>
          <p:cNvGrpSpPr/>
          <p:nvPr/>
        </p:nvGrpSpPr>
        <p:grpSpPr>
          <a:xfrm>
            <a:off x="971640" y="3484440"/>
            <a:ext cx="7272000" cy="577800"/>
            <a:chOff x="971640" y="3484440"/>
            <a:chExt cx="7272000" cy="577800"/>
          </a:xfrm>
        </p:grpSpPr>
        <p:pic>
          <p:nvPicPr>
            <p:cNvPr id="1329" name="Rectangle 17" descr=""/>
            <p:cNvPicPr/>
            <p:nvPr/>
          </p:nvPicPr>
          <p:blipFill>
            <a:blip r:embed="rId2"/>
            <a:stretch/>
          </p:blipFill>
          <p:spPr>
            <a:xfrm>
              <a:off x="971640" y="348444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1104480" y="353772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LIMITAR LA POSIBILIDAD DEL DESARROLLO DE MANIOBRAS ELUSIVAS Y/O EVASIVAS ANTE LA PERCEPCIÓN DE RIESGO OBJETIVO DE SER FISCALIZ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Rectangle 17"/>
          <p:cNvGrpSpPr/>
          <p:nvPr/>
        </p:nvGrpSpPr>
        <p:grpSpPr>
          <a:xfrm>
            <a:off x="971640" y="2908440"/>
            <a:ext cx="7272000" cy="577800"/>
            <a:chOff x="971640" y="2908440"/>
            <a:chExt cx="7272000" cy="577800"/>
          </a:xfrm>
        </p:grpSpPr>
        <p:pic>
          <p:nvPicPr>
            <p:cNvPr id="1332" name="Rectangle 17" descr=""/>
            <p:cNvPicPr/>
            <p:nvPr/>
          </p:nvPicPr>
          <p:blipFill>
            <a:blip r:embed="rId3"/>
            <a:stretch/>
          </p:blipFill>
          <p:spPr>
            <a:xfrm>
              <a:off x="971640" y="290844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"/>
            <p:cNvSpPr/>
            <p:nvPr/>
          </p:nvSpPr>
          <p:spPr>
            <a:xfrm>
              <a:off x="1104480" y="296172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SALENTAR LA UTILIZACIÓN DE ESTRATEGIAS DE PLANIFICACIÓN FISCAL NOC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Rectangle 17"/>
          <p:cNvGrpSpPr/>
          <p:nvPr/>
        </p:nvGrpSpPr>
        <p:grpSpPr>
          <a:xfrm>
            <a:off x="971640" y="4062240"/>
            <a:ext cx="7272000" cy="719280"/>
            <a:chOff x="971640" y="4062240"/>
            <a:chExt cx="7272000" cy="719280"/>
          </a:xfrm>
        </p:grpSpPr>
        <p:pic>
          <p:nvPicPr>
            <p:cNvPr id="1335" name="Rectangle 17" descr=""/>
            <p:cNvPicPr/>
            <p:nvPr/>
          </p:nvPicPr>
          <p:blipFill>
            <a:blip r:embed="rId4"/>
            <a:stretch/>
          </p:blipFill>
          <p:spPr>
            <a:xfrm>
              <a:off x="971640" y="4062240"/>
              <a:ext cx="72720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6" name=""/>
            <p:cNvSpPr/>
            <p:nvPr/>
          </p:nvSpPr>
          <p:spPr>
            <a:xfrm>
              <a:off x="1104480" y="4128480"/>
              <a:ext cx="7018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DQUIRIR EXPERIENCIA QUE PERMITA ANTICIPAR CONTINGENCIAS EN EL CONTROL Y ADOPTAR MEDIDAS OPORTU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Rectangle 17"/>
          <p:cNvGrpSpPr/>
          <p:nvPr/>
        </p:nvGrpSpPr>
        <p:grpSpPr>
          <a:xfrm>
            <a:off x="971640" y="4782960"/>
            <a:ext cx="7272000" cy="865080"/>
            <a:chOff x="971640" y="4782960"/>
            <a:chExt cx="7272000" cy="865080"/>
          </a:xfrm>
        </p:grpSpPr>
        <p:pic>
          <p:nvPicPr>
            <p:cNvPr id="1338" name="Rectangle 17" descr=""/>
            <p:cNvPicPr/>
            <p:nvPr/>
          </p:nvPicPr>
          <p:blipFill>
            <a:blip r:embed="rId5"/>
            <a:stretch/>
          </p:blipFill>
          <p:spPr>
            <a:xfrm>
              <a:off x="971640" y="4782960"/>
              <a:ext cx="72720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9" name=""/>
            <p:cNvSpPr/>
            <p:nvPr/>
          </p:nvSpPr>
          <p:spPr>
            <a:xfrm>
              <a:off x="1104480" y="4862880"/>
              <a:ext cx="7018200" cy="66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NO GENERAR DESEQUILIBRIO DE TRATO FISCAL ENTRE LOS CONTRIBUYENTES QUE DESARROLLAN SU ACTIVIDAD SÓLO EN EL PLANO LOCAL Y LOS QUE LA EJERCEN EN EL PLANO TRANSFRONTERIZ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Rectangle 17"/>
          <p:cNvGrpSpPr/>
          <p:nvPr/>
        </p:nvGrpSpPr>
        <p:grpSpPr>
          <a:xfrm>
            <a:off x="971640" y="5646600"/>
            <a:ext cx="7273440" cy="505080"/>
            <a:chOff x="971640" y="5646600"/>
            <a:chExt cx="7273440" cy="505080"/>
          </a:xfrm>
        </p:grpSpPr>
        <p:pic>
          <p:nvPicPr>
            <p:cNvPr id="1341" name="Rectangle 17" descr=""/>
            <p:cNvPicPr/>
            <p:nvPr/>
          </p:nvPicPr>
          <p:blipFill>
            <a:blip r:embed="rId6"/>
            <a:stretch/>
          </p:blipFill>
          <p:spPr>
            <a:xfrm>
              <a:off x="971640" y="5646600"/>
              <a:ext cx="727344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2" name=""/>
            <p:cNvSpPr/>
            <p:nvPr/>
          </p:nvSpPr>
          <p:spPr>
            <a:xfrm>
              <a:off x="1104480" y="5693040"/>
              <a:ext cx="701964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LENTAR EL CUMPLIMIENTO VOLUNT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Rectangle 17"/>
          <p:cNvGrpSpPr/>
          <p:nvPr/>
        </p:nvGrpSpPr>
        <p:grpSpPr>
          <a:xfrm>
            <a:off x="971640" y="2046240"/>
            <a:ext cx="7272000" cy="433440"/>
            <a:chOff x="971640" y="2046240"/>
            <a:chExt cx="7272000" cy="433440"/>
          </a:xfrm>
        </p:grpSpPr>
        <p:pic>
          <p:nvPicPr>
            <p:cNvPr id="1344" name="Rectangle 17" descr=""/>
            <p:cNvPicPr/>
            <p:nvPr/>
          </p:nvPicPr>
          <p:blipFill>
            <a:blip r:embed="rId7"/>
            <a:stretch/>
          </p:blipFill>
          <p:spPr>
            <a:xfrm>
              <a:off x="971640" y="2046240"/>
              <a:ext cx="727200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5" name=""/>
            <p:cNvSpPr/>
            <p:nvPr/>
          </p:nvSpPr>
          <p:spPr>
            <a:xfrm>
              <a:off x="1104480" y="2086200"/>
              <a:ext cx="7018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UMPLIR EL MANDATO LEG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"/>
          <p:cNvSpPr/>
          <p:nvPr/>
        </p:nvSpPr>
        <p:spPr>
          <a:xfrm>
            <a:off x="324000" y="1557360"/>
            <a:ext cx="5760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PARA QUÉ CONTROLAR?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3" dur="indefinite" restart="never" nodeType="tmRoot">
          <p:childTnLst>
            <p:seq>
              <p:cTn id="2074" dur="indefinite" nodeType="mainSeq">
                <p:childTnLst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9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4" dur="1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9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4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9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4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9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Rectangle 17"/>
          <p:cNvGrpSpPr/>
          <p:nvPr/>
        </p:nvGrpSpPr>
        <p:grpSpPr>
          <a:xfrm>
            <a:off x="971640" y="3573360"/>
            <a:ext cx="7272000" cy="2375640"/>
            <a:chOff x="971640" y="3573360"/>
            <a:chExt cx="7272000" cy="2375640"/>
          </a:xfrm>
        </p:grpSpPr>
        <p:pic>
          <p:nvPicPr>
            <p:cNvPr id="1349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3573360"/>
              <a:ext cx="7272000" cy="23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1104480" y="3792600"/>
              <a:ext cx="7018200" cy="18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BLIGACIONES MATER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JUSTIFICACIÓN DE LOS PRECIOS DE TRANSFER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NÁLISIS FUN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ROCESO DE COMPARABI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LECCIÓN DE COMPA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ATIOS DE RENTABI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ANGO DE MERC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1" name="Rectangle 17"/>
          <p:cNvGrpSpPr/>
          <p:nvPr/>
        </p:nvGrpSpPr>
        <p:grpSpPr>
          <a:xfrm>
            <a:off x="971640" y="2133720"/>
            <a:ext cx="7272000" cy="1368000"/>
            <a:chOff x="971640" y="2133720"/>
            <a:chExt cx="7272000" cy="1368000"/>
          </a:xfrm>
        </p:grpSpPr>
        <p:pic>
          <p:nvPicPr>
            <p:cNvPr id="1352" name="Rectangle 17" descr=""/>
            <p:cNvPicPr/>
            <p:nvPr/>
          </p:nvPicPr>
          <p:blipFill>
            <a:blip r:embed="rId2"/>
            <a:stretch/>
          </p:blipFill>
          <p:spPr>
            <a:xfrm>
              <a:off x="971640" y="2133720"/>
              <a:ext cx="727200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3" name=""/>
            <p:cNvSpPr/>
            <p:nvPr/>
          </p:nvSpPr>
          <p:spPr>
            <a:xfrm>
              <a:off x="1104480" y="2260080"/>
              <a:ext cx="7018200" cy="10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BLIGACIONES FORMAL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RESENTACIÓN DE DECLARACIONES JURADAS DE OPERACIONES INTERNACI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PLICACIÓN DE SANCIONES POR INFRACCIONES FORM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4" name=""/>
          <p:cNvSpPr/>
          <p:nvPr/>
        </p:nvSpPr>
        <p:spPr>
          <a:xfrm>
            <a:off x="395280" y="1506600"/>
            <a:ext cx="5832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¿QUÉ CONTRO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0" dur="indefinite" restart="never" nodeType="tmRoot">
          <p:childTnLst>
            <p:seq>
              <p:cTn id="2111" dur="indefinite" nodeType="mainSeq">
                <p:childTnLst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6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1009800" y="2133720"/>
            <a:ext cx="7200720" cy="3528720"/>
            <a:chOff x="1009800" y="2133720"/>
            <a:chExt cx="7200720" cy="3528720"/>
          </a:xfrm>
        </p:grpSpPr>
        <p:pic>
          <p:nvPicPr>
            <p:cNvPr id="1357" name="Rectangle 17" descr=""/>
            <p:cNvPicPr/>
            <p:nvPr/>
          </p:nvPicPr>
          <p:blipFill>
            <a:blip r:embed="rId1"/>
            <a:stretch/>
          </p:blipFill>
          <p:spPr>
            <a:xfrm>
              <a:off x="1009800" y="2133720"/>
              <a:ext cx="720072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8" name=""/>
            <p:cNvSpPr/>
            <p:nvPr/>
          </p:nvSpPr>
          <p:spPr>
            <a:xfrm>
              <a:off x="1141560" y="2458800"/>
              <a:ext cx="6948360" cy="27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SELECCIÓN DE CONTRIBUYENTES EN FORMA INDIVID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RAZONES PARTICULARES EN FUNCIÓN DE LA MATRIZ DE RIES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TERMINADA PARA OPERACIONES INTERNACI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TIPO DE OPERACIONES, INCLUÍDAS LA REALIZADAS CON PARAÍSOS FIS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DESVÍOS EN SUS RESULTADOS Y EN SU SITUACIÓN PATRIMONIAL, EN RELACIÓ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 LOS INDICADORES DEL SECTOR ECONÓMICO AL QUE PERTENE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CIRCUNSTANCIAS Y/O SITUACIONES DEL CONTEXTO ECONÓM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NTERN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539640" y="1506600"/>
            <a:ext cx="5616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¿A QUIÉN CONTRO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2" dur="indefinite" restart="never" nodeType="tmRoot">
          <p:childTnLst>
            <p:seq>
              <p:cTn id="2123" dur="indefinite" nodeType="mainSeq">
                <p:childTnLst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8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1" name="Rectangle 17"/>
          <p:cNvGrpSpPr/>
          <p:nvPr/>
        </p:nvGrpSpPr>
        <p:grpSpPr>
          <a:xfrm>
            <a:off x="971640" y="2635200"/>
            <a:ext cx="7272000" cy="577800"/>
            <a:chOff x="971640" y="2635200"/>
            <a:chExt cx="7272000" cy="577800"/>
          </a:xfrm>
        </p:grpSpPr>
        <p:pic>
          <p:nvPicPr>
            <p:cNvPr id="1362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263520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3" name=""/>
            <p:cNvSpPr/>
            <p:nvPr/>
          </p:nvSpPr>
          <p:spPr>
            <a:xfrm>
              <a:off x="1104480" y="268848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MARCO LEGAL ADECU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Rectangle 17"/>
          <p:cNvGrpSpPr/>
          <p:nvPr/>
        </p:nvGrpSpPr>
        <p:grpSpPr>
          <a:xfrm>
            <a:off x="971640" y="4290840"/>
            <a:ext cx="7272000" cy="578160"/>
            <a:chOff x="971640" y="4290840"/>
            <a:chExt cx="7272000" cy="578160"/>
          </a:xfrm>
        </p:grpSpPr>
        <p:pic>
          <p:nvPicPr>
            <p:cNvPr id="1365" name="Rectangle 17" descr=""/>
            <p:cNvPicPr/>
            <p:nvPr/>
          </p:nvPicPr>
          <p:blipFill>
            <a:blip r:embed="rId2"/>
            <a:stretch/>
          </p:blipFill>
          <p:spPr>
            <a:xfrm>
              <a:off x="971640" y="4290840"/>
              <a:ext cx="727200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6" name=""/>
            <p:cNvSpPr/>
            <p:nvPr/>
          </p:nvSpPr>
          <p:spPr>
            <a:xfrm>
              <a:off x="1104480" y="4344120"/>
              <a:ext cx="701820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ISPONIBILIDAD DE INFORMACIÓN: INTERCAMBIO DE INFORMACIÓN INTERN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7" name="Rectangle 17"/>
          <p:cNvGrpSpPr/>
          <p:nvPr/>
        </p:nvGrpSpPr>
        <p:grpSpPr>
          <a:xfrm>
            <a:off x="971640" y="3427560"/>
            <a:ext cx="7272000" cy="577800"/>
            <a:chOff x="971640" y="3427560"/>
            <a:chExt cx="7272000" cy="577800"/>
          </a:xfrm>
        </p:grpSpPr>
        <p:pic>
          <p:nvPicPr>
            <p:cNvPr id="1368" name="Rectangle 17" descr=""/>
            <p:cNvPicPr/>
            <p:nvPr/>
          </p:nvPicPr>
          <p:blipFill>
            <a:blip r:embed="rId3"/>
            <a:stretch/>
          </p:blipFill>
          <p:spPr>
            <a:xfrm>
              <a:off x="971640" y="342756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9" name=""/>
            <p:cNvSpPr/>
            <p:nvPr/>
          </p:nvSpPr>
          <p:spPr>
            <a:xfrm>
              <a:off x="1104480" y="348084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STRUCTURA ORGANIZ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0" name="Rectangle 17"/>
          <p:cNvGrpSpPr/>
          <p:nvPr/>
        </p:nvGrpSpPr>
        <p:grpSpPr>
          <a:xfrm>
            <a:off x="971640" y="5156280"/>
            <a:ext cx="7272000" cy="577800"/>
            <a:chOff x="971640" y="5156280"/>
            <a:chExt cx="7272000" cy="577800"/>
          </a:xfrm>
        </p:grpSpPr>
        <p:pic>
          <p:nvPicPr>
            <p:cNvPr id="1371" name="Rectangle 17" descr=""/>
            <p:cNvPicPr/>
            <p:nvPr/>
          </p:nvPicPr>
          <p:blipFill>
            <a:blip r:embed="rId4"/>
            <a:stretch/>
          </p:blipFill>
          <p:spPr>
            <a:xfrm>
              <a:off x="971640" y="515628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2" name=""/>
            <p:cNvSpPr/>
            <p:nvPr/>
          </p:nvSpPr>
          <p:spPr>
            <a:xfrm>
              <a:off x="1104480" y="520956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OPERACIÓN INTERN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"/>
          <p:cNvSpPr/>
          <p:nvPr/>
        </p:nvSpPr>
        <p:spPr>
          <a:xfrm>
            <a:off x="-109440" y="1506600"/>
            <a:ext cx="6697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ÓMO CONTROLAR? HERRAM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9" dur="indefinite" restart="never" nodeType="tmRoot">
          <p:childTnLst>
            <p:seq>
              <p:cTn id="2130" dur="indefinite" nodeType="mainSeq">
                <p:childTnLst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5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0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5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0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Rectangle 17"/>
          <p:cNvGrpSpPr/>
          <p:nvPr/>
        </p:nvGrpSpPr>
        <p:grpSpPr>
          <a:xfrm>
            <a:off x="971640" y="2133720"/>
            <a:ext cx="7272000" cy="577800"/>
            <a:chOff x="971640" y="2133720"/>
            <a:chExt cx="7272000" cy="577800"/>
          </a:xfrm>
        </p:grpSpPr>
        <p:pic>
          <p:nvPicPr>
            <p:cNvPr id="1378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213372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>
              <a:off x="1104480" y="218700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STUDIOS ECONÓMICOS SECTOR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0" name="Rectangle 17"/>
          <p:cNvGrpSpPr/>
          <p:nvPr/>
        </p:nvGrpSpPr>
        <p:grpSpPr>
          <a:xfrm>
            <a:off x="971640" y="3500280"/>
            <a:ext cx="7272000" cy="578160"/>
            <a:chOff x="971640" y="3500280"/>
            <a:chExt cx="7272000" cy="578160"/>
          </a:xfrm>
        </p:grpSpPr>
        <p:pic>
          <p:nvPicPr>
            <p:cNvPr id="1381" name="Rectangle 17" descr=""/>
            <p:cNvPicPr/>
            <p:nvPr/>
          </p:nvPicPr>
          <p:blipFill>
            <a:blip r:embed="rId2"/>
            <a:stretch/>
          </p:blipFill>
          <p:spPr>
            <a:xfrm>
              <a:off x="971640" y="3500280"/>
              <a:ext cx="727200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2" name=""/>
            <p:cNvSpPr/>
            <p:nvPr/>
          </p:nvSpPr>
          <p:spPr>
            <a:xfrm>
              <a:off x="1104480" y="3553560"/>
              <a:ext cx="701820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BASES EXTERNAS DE AF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BCRA – INPI – SISTEMAS ADUANEROS INTERNACIONALES - INTERN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3" name="Rectangle 17"/>
          <p:cNvGrpSpPr/>
          <p:nvPr/>
        </p:nvGrpSpPr>
        <p:grpSpPr>
          <a:xfrm>
            <a:off x="971640" y="2781360"/>
            <a:ext cx="7272000" cy="577800"/>
            <a:chOff x="971640" y="2781360"/>
            <a:chExt cx="7272000" cy="577800"/>
          </a:xfrm>
        </p:grpSpPr>
        <p:pic>
          <p:nvPicPr>
            <p:cNvPr id="1384" name="Rectangle 17" descr=""/>
            <p:cNvPicPr/>
            <p:nvPr/>
          </p:nvPicPr>
          <p:blipFill>
            <a:blip r:embed="rId3"/>
            <a:stretch/>
          </p:blipFill>
          <p:spPr>
            <a:xfrm>
              <a:off x="971640" y="278136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5" name=""/>
            <p:cNvSpPr/>
            <p:nvPr/>
          </p:nvSpPr>
          <p:spPr>
            <a:xfrm>
              <a:off x="1104480" y="283464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BASES PROPIAS DE AF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Rectangle 17"/>
          <p:cNvGrpSpPr/>
          <p:nvPr/>
        </p:nvGrpSpPr>
        <p:grpSpPr>
          <a:xfrm>
            <a:off x="971640" y="4149720"/>
            <a:ext cx="7272000" cy="577800"/>
            <a:chOff x="971640" y="4149720"/>
            <a:chExt cx="7272000" cy="577800"/>
          </a:xfrm>
        </p:grpSpPr>
        <p:pic>
          <p:nvPicPr>
            <p:cNvPr id="1387" name="Rectangle 17" descr=""/>
            <p:cNvPicPr/>
            <p:nvPr/>
          </p:nvPicPr>
          <p:blipFill>
            <a:blip r:embed="rId4"/>
            <a:stretch/>
          </p:blipFill>
          <p:spPr>
            <a:xfrm>
              <a:off x="971640" y="414972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8" name=""/>
            <p:cNvSpPr/>
            <p:nvPr/>
          </p:nvSpPr>
          <p:spPr>
            <a:xfrm>
              <a:off x="1104480" y="420300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NÁLISIS DE LOS ESTUDIOS DE PRECIOS DE TRANSFER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Rectangle 17"/>
          <p:cNvGrpSpPr/>
          <p:nvPr/>
        </p:nvGrpSpPr>
        <p:grpSpPr>
          <a:xfrm>
            <a:off x="971640" y="4797360"/>
            <a:ext cx="7272000" cy="577800"/>
            <a:chOff x="971640" y="4797360"/>
            <a:chExt cx="7272000" cy="577800"/>
          </a:xfrm>
        </p:grpSpPr>
        <p:pic>
          <p:nvPicPr>
            <p:cNvPr id="1390" name="Rectangle 17" descr=""/>
            <p:cNvPicPr/>
            <p:nvPr/>
          </p:nvPicPr>
          <p:blipFill>
            <a:blip r:embed="rId5"/>
            <a:stretch/>
          </p:blipFill>
          <p:spPr>
            <a:xfrm>
              <a:off x="971640" y="479736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1" name=""/>
            <p:cNvSpPr/>
            <p:nvPr/>
          </p:nvSpPr>
          <p:spPr>
            <a:xfrm>
              <a:off x="1104480" y="485064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MATRIZ DE RIESGO DE OPERACIONES INTERNACI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Rectangle 17"/>
          <p:cNvGrpSpPr/>
          <p:nvPr/>
        </p:nvGrpSpPr>
        <p:grpSpPr>
          <a:xfrm>
            <a:off x="971640" y="5445000"/>
            <a:ext cx="7272000" cy="577800"/>
            <a:chOff x="971640" y="5445000"/>
            <a:chExt cx="7272000" cy="577800"/>
          </a:xfrm>
        </p:grpSpPr>
        <p:pic>
          <p:nvPicPr>
            <p:cNvPr id="1393" name="Rectangle 17" descr=""/>
            <p:cNvPicPr/>
            <p:nvPr/>
          </p:nvPicPr>
          <p:blipFill>
            <a:blip r:embed="rId6"/>
            <a:stretch/>
          </p:blipFill>
          <p:spPr>
            <a:xfrm>
              <a:off x="971640" y="544500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4" name=""/>
            <p:cNvSpPr/>
            <p:nvPr/>
          </p:nvSpPr>
          <p:spPr>
            <a:xfrm>
              <a:off x="1104480" y="549828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ICTAMEN TÉCNICO TRIBUT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-109440" y="1506600"/>
            <a:ext cx="6697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ÓMO CONTROLAR? HERRAM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1" dur="indefinite" restart="never" nodeType="tmRoot">
          <p:childTnLst>
            <p:seq>
              <p:cTn id="2152" dur="indefinite" nodeType="mainSeq">
                <p:childTnLst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7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2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7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2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7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2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Rectangle 17"/>
          <p:cNvGrpSpPr/>
          <p:nvPr/>
        </p:nvGrpSpPr>
        <p:grpSpPr>
          <a:xfrm>
            <a:off x="971640" y="2205000"/>
            <a:ext cx="7272000" cy="577800"/>
            <a:chOff x="971640" y="2205000"/>
            <a:chExt cx="7272000" cy="577800"/>
          </a:xfrm>
        </p:grpSpPr>
        <p:pic>
          <p:nvPicPr>
            <p:cNvPr id="1400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220500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1" name=""/>
            <p:cNvSpPr/>
            <p:nvPr/>
          </p:nvSpPr>
          <p:spPr>
            <a:xfrm>
              <a:off x="1104480" y="225828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890 CONTRIBUYENTES QUE TRIANGULAN EXPORTACIONES – VERIFICACIÓN DE LA SUSTANCIA ECONÓMICA DEL INTERMEDI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2" name="Rectangle 17"/>
          <p:cNvGrpSpPr/>
          <p:nvPr/>
        </p:nvGrpSpPr>
        <p:grpSpPr>
          <a:xfrm>
            <a:off x="971640" y="3573360"/>
            <a:ext cx="7272000" cy="577800"/>
            <a:chOff x="971640" y="3573360"/>
            <a:chExt cx="7272000" cy="577800"/>
          </a:xfrm>
        </p:grpSpPr>
        <p:pic>
          <p:nvPicPr>
            <p:cNvPr id="1403" name="Rectangle 17" descr=""/>
            <p:cNvPicPr/>
            <p:nvPr/>
          </p:nvPicPr>
          <p:blipFill>
            <a:blip r:embed="rId2"/>
            <a:stretch/>
          </p:blipFill>
          <p:spPr>
            <a:xfrm>
              <a:off x="971640" y="357336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4" name=""/>
            <p:cNvSpPr/>
            <p:nvPr/>
          </p:nvSpPr>
          <p:spPr>
            <a:xfrm>
              <a:off x="1104480" y="362664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 DETECTARON 2882 CONTRATOS NO REGISTRADOS EN EL INPI Y 6205 CONTRATOS CON DIFERENCIAS EN LA RETENCIÓN DEL IMPUESTO A LAS GANANCIAS EN LA FU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5" name="Rectangle 17"/>
          <p:cNvGrpSpPr/>
          <p:nvPr/>
        </p:nvGrpSpPr>
        <p:grpSpPr>
          <a:xfrm>
            <a:off x="971640" y="2852640"/>
            <a:ext cx="7272000" cy="577800"/>
            <a:chOff x="971640" y="2852640"/>
            <a:chExt cx="7272000" cy="577800"/>
          </a:xfrm>
        </p:grpSpPr>
        <p:pic>
          <p:nvPicPr>
            <p:cNvPr id="1406" name="Rectangle 17" descr=""/>
            <p:cNvPicPr/>
            <p:nvPr/>
          </p:nvPicPr>
          <p:blipFill>
            <a:blip r:embed="rId3"/>
            <a:stretch/>
          </p:blipFill>
          <p:spPr>
            <a:xfrm>
              <a:off x="971640" y="285264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"/>
            <p:cNvSpPr/>
            <p:nvPr/>
          </p:nvSpPr>
          <p:spPr>
            <a:xfrm>
              <a:off x="1104480" y="290592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N 4 SECTORES EL 54% DE LOS CONTRIBUYENTES PRESENTAN RATIOS DE RENTABILIDAD Y ENDEUDAMIENTO NO ACORDES CON LOS VALORES DEL S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8" name="Rectangle 17"/>
          <p:cNvGrpSpPr/>
          <p:nvPr/>
        </p:nvGrpSpPr>
        <p:grpSpPr>
          <a:xfrm>
            <a:off x="971640" y="4221000"/>
            <a:ext cx="7272000" cy="578160"/>
            <a:chOff x="971640" y="4221000"/>
            <a:chExt cx="7272000" cy="578160"/>
          </a:xfrm>
        </p:grpSpPr>
        <p:pic>
          <p:nvPicPr>
            <p:cNvPr id="1409" name="Rectangle 17" descr=""/>
            <p:cNvPicPr/>
            <p:nvPr/>
          </p:nvPicPr>
          <p:blipFill>
            <a:blip r:embed="rId4"/>
            <a:stretch/>
          </p:blipFill>
          <p:spPr>
            <a:xfrm>
              <a:off x="971640" y="4221000"/>
              <a:ext cx="727200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0" name=""/>
            <p:cNvSpPr/>
            <p:nvPr/>
          </p:nvSpPr>
          <p:spPr>
            <a:xfrm>
              <a:off x="1104480" y="4274280"/>
              <a:ext cx="701820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 INTIMARION 1257 CONTRIBUYENTES POR OMISIÓN EN LA PRESENTACIÓN DE 4610 DECLARACIONES JURADAS DE OPERACIONES INTERNACIONALES (200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Rectangle 17"/>
          <p:cNvGrpSpPr/>
          <p:nvPr/>
        </p:nvGrpSpPr>
        <p:grpSpPr>
          <a:xfrm>
            <a:off x="971640" y="4797360"/>
            <a:ext cx="7272000" cy="864720"/>
            <a:chOff x="971640" y="4797360"/>
            <a:chExt cx="7272000" cy="864720"/>
          </a:xfrm>
        </p:grpSpPr>
        <p:pic>
          <p:nvPicPr>
            <p:cNvPr id="1412" name="Rectangle 17" descr=""/>
            <p:cNvPicPr/>
            <p:nvPr/>
          </p:nvPicPr>
          <p:blipFill>
            <a:blip r:embed="rId5"/>
            <a:stretch/>
          </p:blipFill>
          <p:spPr>
            <a:xfrm>
              <a:off x="971640" y="4797360"/>
              <a:ext cx="7272000" cy="8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3" name=""/>
            <p:cNvSpPr/>
            <p:nvPr/>
          </p:nvSpPr>
          <p:spPr>
            <a:xfrm>
              <a:off x="1104480" y="4877280"/>
              <a:ext cx="7018200" cy="6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 DETECTARON 589 CONTRIBUYENTES POR U$S 110 MILLONES QUE OPERARON CON PARAÍSOS FISCALES Y NO PRESENTARON DECLARACIONES JURADAS DE PRECIOS DE TRANSFERENC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Rectangle 17"/>
          <p:cNvGrpSpPr/>
          <p:nvPr/>
        </p:nvGrpSpPr>
        <p:grpSpPr>
          <a:xfrm>
            <a:off x="971640" y="5661000"/>
            <a:ext cx="7272000" cy="647640"/>
            <a:chOff x="971640" y="5661000"/>
            <a:chExt cx="7272000" cy="647640"/>
          </a:xfrm>
        </p:grpSpPr>
        <p:pic>
          <p:nvPicPr>
            <p:cNvPr id="1415" name="Rectangle 17" descr=""/>
            <p:cNvPicPr/>
            <p:nvPr/>
          </p:nvPicPr>
          <p:blipFill>
            <a:blip r:embed="rId6"/>
            <a:stretch/>
          </p:blipFill>
          <p:spPr>
            <a:xfrm>
              <a:off x="971640" y="5661000"/>
              <a:ext cx="7272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6" name=""/>
            <p:cNvSpPr/>
            <p:nvPr/>
          </p:nvSpPr>
          <p:spPr>
            <a:xfrm>
              <a:off x="1104480" y="5720760"/>
              <a:ext cx="701820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MPRESAS BAJO FISCALIZACIÓN POR PRECIOS DE TRANSFERENCIA EN TODO EL PAÍ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7" name=""/>
          <p:cNvSpPr/>
          <p:nvPr/>
        </p:nvSpPr>
        <p:spPr>
          <a:xfrm>
            <a:off x="395280" y="1506600"/>
            <a:ext cx="5761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LGUNAS EXPERIE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3" dur="indefinite" restart="never" nodeType="tmRoot">
          <p:childTnLst>
            <p:seq>
              <p:cTn id="2184" dur="indefinite" nodeType="mainSeq">
                <p:childTnLst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9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4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9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4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9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4" dur="1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D8D8-2A9A-4486-B1BC-7E052FEC385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Rectangle 17"/>
          <p:cNvGrpSpPr/>
          <p:nvPr/>
        </p:nvGrpSpPr>
        <p:grpSpPr>
          <a:xfrm>
            <a:off x="971640" y="2205000"/>
            <a:ext cx="7272000" cy="577800"/>
            <a:chOff x="971640" y="2205000"/>
            <a:chExt cx="7272000" cy="577800"/>
          </a:xfrm>
        </p:grpSpPr>
        <p:pic>
          <p:nvPicPr>
            <p:cNvPr id="1422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220500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3" name=""/>
            <p:cNvSpPr/>
            <p:nvPr/>
          </p:nvSpPr>
          <p:spPr>
            <a:xfrm>
              <a:off x="1104480" y="225828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NÁLISIS FUN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Rectangle 17"/>
          <p:cNvGrpSpPr/>
          <p:nvPr/>
        </p:nvGrpSpPr>
        <p:grpSpPr>
          <a:xfrm>
            <a:off x="971640" y="3500280"/>
            <a:ext cx="7272000" cy="578160"/>
            <a:chOff x="971640" y="3500280"/>
            <a:chExt cx="7272000" cy="578160"/>
          </a:xfrm>
        </p:grpSpPr>
        <p:pic>
          <p:nvPicPr>
            <p:cNvPr id="1425" name="Rectangle 17" descr=""/>
            <p:cNvPicPr/>
            <p:nvPr/>
          </p:nvPicPr>
          <p:blipFill>
            <a:blip r:embed="rId2"/>
            <a:stretch/>
          </p:blipFill>
          <p:spPr>
            <a:xfrm>
              <a:off x="971640" y="3500280"/>
              <a:ext cx="727200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6" name=""/>
            <p:cNvSpPr/>
            <p:nvPr/>
          </p:nvSpPr>
          <p:spPr>
            <a:xfrm>
              <a:off x="1104480" y="3553560"/>
              <a:ext cx="701820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LECCIÓN DE COMPA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Rectangle 17"/>
          <p:cNvGrpSpPr/>
          <p:nvPr/>
        </p:nvGrpSpPr>
        <p:grpSpPr>
          <a:xfrm>
            <a:off x="971640" y="2852640"/>
            <a:ext cx="7272000" cy="577800"/>
            <a:chOff x="971640" y="2852640"/>
            <a:chExt cx="7272000" cy="577800"/>
          </a:xfrm>
        </p:grpSpPr>
        <p:pic>
          <p:nvPicPr>
            <p:cNvPr id="1428" name="Rectangle 17" descr=""/>
            <p:cNvPicPr/>
            <p:nvPr/>
          </p:nvPicPr>
          <p:blipFill>
            <a:blip r:embed="rId3"/>
            <a:stretch/>
          </p:blipFill>
          <p:spPr>
            <a:xfrm>
              <a:off x="971640" y="285264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9" name=""/>
            <p:cNvSpPr/>
            <p:nvPr/>
          </p:nvSpPr>
          <p:spPr>
            <a:xfrm>
              <a:off x="1104480" y="290592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NÁLISIS DE COMPRABI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0" name="Rectangle 17"/>
          <p:cNvGrpSpPr/>
          <p:nvPr/>
        </p:nvGrpSpPr>
        <p:grpSpPr>
          <a:xfrm>
            <a:off x="971640" y="4149720"/>
            <a:ext cx="7272000" cy="649440"/>
            <a:chOff x="971640" y="4149720"/>
            <a:chExt cx="7272000" cy="649440"/>
          </a:xfrm>
        </p:grpSpPr>
        <p:pic>
          <p:nvPicPr>
            <p:cNvPr id="1431" name="Rectangle 17" descr=""/>
            <p:cNvPicPr/>
            <p:nvPr/>
          </p:nvPicPr>
          <p:blipFill>
            <a:blip r:embed="rId4"/>
            <a:stretch/>
          </p:blipFill>
          <p:spPr>
            <a:xfrm>
              <a:off x="971640" y="4149720"/>
              <a:ext cx="727200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2" name=""/>
            <p:cNvSpPr/>
            <p:nvPr/>
          </p:nvSpPr>
          <p:spPr>
            <a:xfrm>
              <a:off x="1104480" y="4209480"/>
              <a:ext cx="701820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JUSTES A LA COMPARABILIDAD – INSUFICIENCIA DE INFORM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3" name="Rectangle 17"/>
          <p:cNvGrpSpPr/>
          <p:nvPr/>
        </p:nvGrpSpPr>
        <p:grpSpPr>
          <a:xfrm>
            <a:off x="971640" y="4869000"/>
            <a:ext cx="7272000" cy="720720"/>
            <a:chOff x="971640" y="4869000"/>
            <a:chExt cx="7272000" cy="720720"/>
          </a:xfrm>
        </p:grpSpPr>
        <p:pic>
          <p:nvPicPr>
            <p:cNvPr id="1434" name="Rectangle 17" descr=""/>
            <p:cNvPicPr/>
            <p:nvPr/>
          </p:nvPicPr>
          <p:blipFill>
            <a:blip r:embed="rId5"/>
            <a:stretch/>
          </p:blipFill>
          <p:spPr>
            <a:xfrm>
              <a:off x="971640" y="4869000"/>
              <a:ext cx="7272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5" name=""/>
            <p:cNvSpPr/>
            <p:nvPr/>
          </p:nvSpPr>
          <p:spPr>
            <a:xfrm>
              <a:off x="1104480" y="4935600"/>
              <a:ext cx="70182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ATIOS DE RENTABILIDAD EN EL MÉTODO MARGEN NETO DE LA TRANSA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6" name="Rectangle 17"/>
          <p:cNvGrpSpPr/>
          <p:nvPr/>
        </p:nvGrpSpPr>
        <p:grpSpPr>
          <a:xfrm>
            <a:off x="971640" y="5661000"/>
            <a:ext cx="7272000" cy="647640"/>
            <a:chOff x="971640" y="5661000"/>
            <a:chExt cx="7272000" cy="647640"/>
          </a:xfrm>
        </p:grpSpPr>
        <p:pic>
          <p:nvPicPr>
            <p:cNvPr id="1437" name="Rectangle 17" descr=""/>
            <p:cNvPicPr/>
            <p:nvPr/>
          </p:nvPicPr>
          <p:blipFill>
            <a:blip r:embed="rId6"/>
            <a:stretch/>
          </p:blipFill>
          <p:spPr>
            <a:xfrm>
              <a:off x="971640" y="5661000"/>
              <a:ext cx="7272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1104480" y="5720760"/>
              <a:ext cx="701820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LECCIÓN DEL MEJOR MÉT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395280" y="1506600"/>
            <a:ext cx="5689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TEMAS DE ESPECIAL INTERÉ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5" dur="indefinite" restart="never" nodeType="tmRoot">
          <p:childTnLst>
            <p:seq>
              <p:cTn id="2216" dur="indefinite" nodeType="mainSeq">
                <p:childTnLst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1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6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1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6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1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2060640"/>
            <a:ext cx="8353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80360" cy="515304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4067280" y="1368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I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09440" y="134136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188720" y="19652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6360" y="134136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11280" y="1744560"/>
            <a:ext cx="23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               20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732840" y="177156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         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809400" y="179388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               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12360" y="2033640"/>
            <a:ext cx="23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727440" y="2060640"/>
            <a:ext cx="23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04000" y="206064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  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51080" y="2490840"/>
            <a:ext cx="3313080" cy="3373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TOTAL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51080" y="2924280"/>
            <a:ext cx="3313080" cy="3373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TOTAL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48520" y="350028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649320" y="350208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AISO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309440" y="350028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37920" y="3935520"/>
            <a:ext cx="230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        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803040" y="3933720"/>
            <a:ext cx="22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            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09400" y="393372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              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33960" y="4221000"/>
            <a:ext cx="22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800520" y="4221000"/>
            <a:ext cx="224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805440" y="4221000"/>
            <a:ext cx="23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 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711440" y="5661000"/>
            <a:ext cx="6192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AHORRO FISCAL  120  BASE IM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151080" y="4653000"/>
            <a:ext cx="3313080" cy="3373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TOTAL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51080" y="5084640"/>
            <a:ext cx="3313080" cy="3373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TOTAL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 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971640" y="2333520"/>
            <a:ext cx="7200720" cy="3529080"/>
            <a:chOff x="971640" y="2333520"/>
            <a:chExt cx="7200720" cy="3529080"/>
          </a:xfrm>
        </p:grpSpPr>
        <p:pic>
          <p:nvPicPr>
            <p:cNvPr id="1444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2333520"/>
              <a:ext cx="7200720" cy="35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5" name=""/>
            <p:cNvSpPr/>
            <p:nvPr/>
          </p:nvSpPr>
          <p:spPr>
            <a:xfrm>
              <a:off x="1103400" y="2658960"/>
              <a:ext cx="6948360" cy="27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SELECCIÓN DE CONTRIBUYENTES EN FORMA INDIVID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RAZONES PARTICULARES EN FUNCIÓN DE LA MATRIZ DE RIES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TERMINADA PARA OPERACIONES INTERNACI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TIPO DE OPERACIONES, INCLUÍDAS LA REALIZADAS CON PARAÍSOS FIS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DESVÍOS EN SUS RESULTADOS Y EN SU SITUACIÓN PATRIMONIAL, EN RELACIÓ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 LOS INDICADORES DEL SECTOR ECONÓMICO AL QUE PERTENE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CIRCUNSTANCIAS Y/O SITUACIONES DEL CONTEXTO ECONÓM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NTERN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466560" y="1506600"/>
            <a:ext cx="5834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TEMAS DE ESPECIAL INTERÉS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7" dur="indefinite" restart="never" nodeType="tmRoot">
          <p:childTnLst>
            <p:seq>
              <p:cTn id="2248" dur="indefinite" nodeType="mainSeq">
                <p:childTnLst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3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971640" y="115920"/>
            <a:ext cx="7162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9572-B1D2-418B-96A7-1FFD80A0F7AC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1" name="Rectangle 17"/>
          <p:cNvGrpSpPr/>
          <p:nvPr/>
        </p:nvGrpSpPr>
        <p:grpSpPr>
          <a:xfrm>
            <a:off x="971640" y="1989000"/>
            <a:ext cx="7272000" cy="578160"/>
            <a:chOff x="971640" y="1989000"/>
            <a:chExt cx="7272000" cy="578160"/>
          </a:xfrm>
        </p:grpSpPr>
        <p:pic>
          <p:nvPicPr>
            <p:cNvPr id="1452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1989000"/>
              <a:ext cx="727200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3" name=""/>
            <p:cNvSpPr/>
            <p:nvPr/>
          </p:nvSpPr>
          <p:spPr>
            <a:xfrm>
              <a:off x="1104480" y="2042280"/>
              <a:ext cx="701820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FINALIDAD Y ALC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4" name="Rectangle 17"/>
          <p:cNvGrpSpPr/>
          <p:nvPr/>
        </p:nvGrpSpPr>
        <p:grpSpPr>
          <a:xfrm>
            <a:off x="900000" y="3789360"/>
            <a:ext cx="7272000" cy="791640"/>
            <a:chOff x="900000" y="3789360"/>
            <a:chExt cx="7272000" cy="791640"/>
          </a:xfrm>
        </p:grpSpPr>
        <p:pic>
          <p:nvPicPr>
            <p:cNvPr id="1455" name="Rectangle 17" descr=""/>
            <p:cNvPicPr/>
            <p:nvPr/>
          </p:nvPicPr>
          <p:blipFill>
            <a:blip r:embed="rId2"/>
            <a:stretch/>
          </p:blipFill>
          <p:spPr>
            <a:xfrm>
              <a:off x="900000" y="3789360"/>
              <a:ext cx="7272000" cy="79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6" name=""/>
            <p:cNvSpPr/>
            <p:nvPr/>
          </p:nvSpPr>
          <p:spPr>
            <a:xfrm>
              <a:off x="1032840" y="3862440"/>
              <a:ext cx="7018200" cy="6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NO SE HA DEFINIDO UN TIPO ESPECÍFICO. ES POSIBLE UTILIZAR CUALQUIER MEDIO DE PRUEBA LEGALMENTE VÁLIDO SIEMPRE QUE RESPALDE ACABADAMENTE LOS ASPECTOS RESPEC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Rectangle 17"/>
          <p:cNvGrpSpPr/>
          <p:nvPr/>
        </p:nvGrpSpPr>
        <p:grpSpPr>
          <a:xfrm>
            <a:off x="971640" y="2637000"/>
            <a:ext cx="7272000" cy="577800"/>
            <a:chOff x="971640" y="2637000"/>
            <a:chExt cx="7272000" cy="577800"/>
          </a:xfrm>
        </p:grpSpPr>
        <p:pic>
          <p:nvPicPr>
            <p:cNvPr id="1458" name="Rectangle 17" descr=""/>
            <p:cNvPicPr/>
            <p:nvPr/>
          </p:nvPicPr>
          <p:blipFill>
            <a:blip r:embed="rId3"/>
            <a:stretch/>
          </p:blipFill>
          <p:spPr>
            <a:xfrm>
              <a:off x="971640" y="263700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9" name=""/>
            <p:cNvSpPr/>
            <p:nvPr/>
          </p:nvSpPr>
          <p:spPr>
            <a:xfrm>
              <a:off x="1104480" y="269028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NTENI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0" name="Rectangle 17"/>
          <p:cNvGrpSpPr/>
          <p:nvPr/>
        </p:nvGrpSpPr>
        <p:grpSpPr>
          <a:xfrm>
            <a:off x="900000" y="4653000"/>
            <a:ext cx="7272000" cy="649080"/>
            <a:chOff x="900000" y="4653000"/>
            <a:chExt cx="7272000" cy="649080"/>
          </a:xfrm>
        </p:grpSpPr>
        <p:pic>
          <p:nvPicPr>
            <p:cNvPr id="1461" name="Rectangle 17" descr=""/>
            <p:cNvPicPr/>
            <p:nvPr/>
          </p:nvPicPr>
          <p:blipFill>
            <a:blip r:embed="rId4"/>
            <a:stretch/>
          </p:blipFill>
          <p:spPr>
            <a:xfrm>
              <a:off x="900000" y="4653000"/>
              <a:ext cx="727200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2" name=""/>
            <p:cNvSpPr/>
            <p:nvPr/>
          </p:nvSpPr>
          <p:spPr>
            <a:xfrm>
              <a:off x="1032840" y="4712760"/>
              <a:ext cx="701820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LA ENUMERACIÓN DE SITUACIONES A JUSTIFICAR NO ES TAXATIVA. ES UN LISTADO MÍNIMO PARA ELABORAR EL CUERPO DOCUM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Rectangle 17"/>
          <p:cNvGrpSpPr/>
          <p:nvPr/>
        </p:nvGrpSpPr>
        <p:grpSpPr>
          <a:xfrm>
            <a:off x="900000" y="5300640"/>
            <a:ext cx="7272000" cy="720720"/>
            <a:chOff x="900000" y="5300640"/>
            <a:chExt cx="7272000" cy="720720"/>
          </a:xfrm>
        </p:grpSpPr>
        <p:pic>
          <p:nvPicPr>
            <p:cNvPr id="1464" name="Rectangle 17" descr=""/>
            <p:cNvPicPr/>
            <p:nvPr/>
          </p:nvPicPr>
          <p:blipFill>
            <a:blip r:embed="rId5"/>
            <a:stretch/>
          </p:blipFill>
          <p:spPr>
            <a:xfrm>
              <a:off x="900000" y="5300640"/>
              <a:ext cx="7272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1032840" y="5367240"/>
              <a:ext cx="70182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LA DOCUMENTACIÓN DEBE SER CONTEMPORÁNEA Y EXISTIR AL MOMENTO DEL VENCIMIENTO DE LAS DECLARACIONES JUR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6" name="Text Box 8"/>
          <p:cNvSpPr/>
          <p:nvPr/>
        </p:nvSpPr>
        <p:spPr>
          <a:xfrm>
            <a:off x="395280" y="3284640"/>
            <a:ext cx="8102520" cy="474480"/>
          </a:xfrm>
          <a:prstGeom prst="rect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DOCUMENTACIÓN </a:t>
            </a:r>
            <a:r>
              <a:rPr b="1" lang="es-A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24000" y="1506600"/>
            <a:ext cx="5832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ESTUDIO PR.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4" dur="indefinite" restart="never" nodeType="tmRoot">
          <p:childTnLst>
            <p:seq>
              <p:cTn id="2255" dur="indefinite" nodeType="mainSeq">
                <p:childTnLst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0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5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4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9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4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24000" y="1994040"/>
            <a:ext cx="8424720" cy="39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 PLANIFICACIÓN FISCAL FUE POSIBLE PO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ISTE VINCULACIÓN ECONÓM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ISTE MÁS DE UNA JURISDIC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REALIZARON OPERACIONES INTERNACIO-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EMPRESAS NO OPERARON A PRECIO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OLUCIÓN INTER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70000" y="1700280"/>
            <a:ext cx="8405640" cy="42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NCIPIO DE CONTABILIDAD SEPA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NCIPIO DEL OPERADOR INDEPEN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457200" algn="just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VALUACIÓN DE LA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45720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SIGNACIÓN DE RESULTADOS. ACTIVOS, RIESGOS Y  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457200" algn="just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ÁLISIS DE LAS CONDICIONES PAC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ATURALEZA DEL RÉG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9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9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LEGISLACIÓN 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24000" y="2509920"/>
            <a:ext cx="835164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MPUESTO A LAS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PLICABLE   EXCLUSIVAMENTE   EN   ESTE TRIB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I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4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Y  25.063    PARA  OPERACIONES  CONCER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4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DE EL 31-12-98, IN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UJETOS ALCAN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50920" y="1628640"/>
            <a:ext cx="8299440" cy="44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IENES REALICEN OPERACIONES CON PERSONAS O ENTIDADES VINCULADAS DEL EX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IENES EFECTÚEN OPERACIONES CON SUJETOS CONSTITUIDOS, DOMICILIADOS, RADICADOS O UBICADOS EN JURISDICCIONES DE BAJA O NULA TRIBUTACIÓN, EXISTA O NO VINCULACIÓN ECONÓMICA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cilia</cp:lastModifiedBy>
  <dcterms:modified xsi:type="dcterms:W3CDTF">2013-07-18T15:56:32Z</dcterms:modified>
  <cp:revision>141</cp:revision>
  <dc:subject/>
  <dc:title>Diapositiva 1</dc:title>
</cp:coreProperties>
</file>