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2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64A65-3629-4BFF-B2A5-700510D200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3609-3DC0-492A-B6E3-6A3D89106F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7F17-3B05-4C08-9B41-AB65F341DA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D9C0-99F0-4AC2-BDE8-36AA72CEC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F2DC-56D2-420C-8D47-61257B70A6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A0A6-F0D8-4D60-AE32-0EA282B779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89E9-EC21-4C3D-AB9F-3A151FCF34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BC1A-600B-47E4-AC80-E4F9EE39E8D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EC36-2BD0-4A3B-BEE5-F4A45D2601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07C3-1A27-4238-8B7B-B7E24FDE4A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D242-0D20-4C33-A321-EC0EA944C6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AAEB-CD5C-4238-BF5B-695A768D4C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0847-53F9-4474-AE5D-7A078D07DF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58E0-90C5-421C-8A77-2C3A232703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698EC-8AEF-4B27-8DF3-DC8B082B5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F55F-8340-4637-93FA-01C16EED94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32310-D95A-4286-9D6D-313D278193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CE54E-7273-4E8E-BC6A-8BF814F1C3C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AA8A4-F1B8-44D5-928F-E41926261C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BAE7E-E38C-4736-A7A9-525224B518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0AC385-990B-4D93-83B8-E15784B71C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1A5EF-E775-45F9-A96A-D8032A7A2D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860EC-ACCB-40C2-9409-57325A28A7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954F9-3EC9-4982-B4C9-A43D66CB38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B9655-1706-441C-90E8-F345B7EC3A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EAA7A-CC0B-43E9-A5ED-C38F4F3AE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32F-5E76-48E0-8612-DE48EEDE05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AC794-38E9-4D8A-81B5-B2971E7519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F7CB5-B697-4E03-9232-C0C8ABEF11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E1AA7-96B0-4819-B55A-A3BBF80262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D2407-A7CF-4EFF-B63D-36C5ADC171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A2EB1-36DC-441A-B510-60E650A0267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47E49-D9A4-4900-A6D2-4C3D16DE29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6F746-793C-43A5-AF62-2DD7C43C4A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112B9-BE44-4059-95DD-EA179B7C22E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6ED61-5FD5-4FC9-AB52-BA52C2663B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1D46A-09FC-4175-8361-7B026185E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6F65-455B-4EC4-9872-B6404B8ECC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834B7-6DCC-4BE9-A540-882AC56C6D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7F58C-16C2-4469-882D-698E52EA4D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D97D5-58F7-43BE-887B-3ECC40C09C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374D-BC8E-4295-8190-87EE2B6C69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60CE-24CC-4FF6-B1DE-F6080FFAF7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AD69-7A6F-4C16-AC35-81F5CABE72A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4522-9D65-421F-976E-34499361D5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4A86-D18E-4319-8A17-6B9A75978B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A425-BBDA-4461-8AF2-F8E06833B4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7BA0-615F-4CCE-B386-04209C92B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D814-9340-45FF-87BB-DCAD56F733C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2AB5-699E-429E-A1BB-DDF38B81512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615B-E777-42B0-96B2-CE2EAE5DDA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D98F-8036-497D-BACD-C1D0F3B3FD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3512-C051-41A8-A9AF-F94EFAC7C47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0EB5-97AD-4AB8-AFD1-B8D4CBCB51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89595-8F05-4E52-9956-D8FBECB67B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FEE4E-1142-406F-B49F-A6BE7479FCE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AC765-E9AA-46DD-8083-AFD08764CAF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F79B3-4808-47BC-96F0-B6C3E1AA971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0B2B18-1CED-4E9C-A5F3-4C297BDE2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A536-A685-4DE7-BA00-7E6F693A9D9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DCA69-5007-41FE-B93D-345DB73BB62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F8EECD-D013-4038-B047-8CC7AE23B85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5C301-7C2B-484C-A4AD-44051A935C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5321E-51CC-4A48-B156-5D01C9CDAA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6FAA5-B7A3-4FFF-A0D9-F82678F72A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FA6B4-480C-4EE5-8207-B553EE40C6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3BF30-1D03-464C-8D9D-98B4C1A360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C46A8-B4CB-44D5-9C8C-5EF803003A8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B32D6-1F90-4C1C-9085-52B3548571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E913-7D61-4997-99D3-17D511E6F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A9E3-C726-47DA-AF73-5EB9CD1DC9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50C02-2ED3-4A5A-AAC9-33596305DB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F41AA-822E-486E-9910-B38C1830BBB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1F4C5-0C0F-4EC7-9039-E784E3D3A2F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B5B03-3C69-45C4-A8C3-6B8FCC431F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BD462-D99D-49FB-9AE9-44DDE363F1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7355E-B21F-4258-BDED-DB0C839D2B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39447-038C-4797-BFDB-57E1A59DDA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3DD6A-44A6-4996-A673-2592986C8CA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E6350-5265-44C2-9250-55BF93C9D2E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E3C0-108E-4198-886A-0E967342C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C8A0-7394-438C-99CF-BFE2DDB40C8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F661-53FF-44A4-B0EB-EB316DD21EB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1633-8B92-4F80-BFE5-EB961905500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8407-0F8D-4895-AC44-BAA26F49C6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F658-68AB-4DA9-837C-85C1F6E3373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9A1A-D233-48FE-9468-D77C6224062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396F-08F8-4365-811C-91E685CAD30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FE0A-F85C-439E-90E6-F58EAF7A2B5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89E0-7E0D-40E8-99DA-F4934DD54D9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AB74-4FA6-4915-8CC9-EC7BD6C9AA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78799-E2F6-4F15-ABF4-0ECFDB2F3E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B200-1050-4F9D-A263-89E59BC2B4B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767C-6A42-417D-A9CE-A46BF154EC6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9F95C-9DC4-40B4-87A4-889F0D28F28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B58EF-7D5A-4521-B5DC-7285D442D0B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902752-2CC5-43DA-A5D0-DB4E3A24C55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EF62A-55C8-40FB-83F1-819AB87EC9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A4178-C730-4B27-A1FB-2663AB1DE65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614D1-BA4B-47DE-8026-4E4895500DA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CCEA8-B0C9-48F0-833B-C88D2B11F8A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10D8F-3621-4B41-9ADD-DCE36F1E77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487C6B-2A90-4A50-898F-82BFA4C551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0697-E171-4489-8464-AADCC1B657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32AC3-62AF-4783-B31D-CC65B708635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E0DAD-9E4A-4C53-ADF1-7A94E46CC0D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D4B7F-159D-4102-9C5D-06EC6A228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DBC3-F293-4F7C-9F83-3FA8D0240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E3CB-0B3A-406F-A6E1-D721E55C3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E28C-B263-4666-B35F-BEA0C2365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52AF-AEA4-42C5-882D-923E4E270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DDC1-D72E-400C-85C4-E2998378C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45F7-88B7-4F26-BBDB-5788644613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600-35A4-411C-BABD-7BDAAFF149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B3C-CC3D-45E5-8900-A8063A2A82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15A-9A47-4013-B97C-BA73B2A6EF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3A3-B2EC-4E8F-8A52-C2561F622C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5E7-22CA-4D14-8832-302F7CD3B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AD2F-0487-4B31-B25F-5A5B4B599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D08-7018-4561-A2B8-178E3A3953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37F-3A28-4691-9B99-EEEFC00B75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FAC-B883-4DD6-9C13-32ED669B4B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3F4-43F9-4C83-B6C5-C7F5B4FD3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A02-2012-4CD5-9612-E2A6036C17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CE8-93B5-402A-842A-3A63B79625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EBE-BCFF-450E-9A78-CE3CA3764F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7B35D-FFA2-4873-A8E3-1C89C22C06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8D0C7-8662-4648-8C23-A65707C644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ACC32-6DC8-48AE-8919-9E86B9014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54A9-E43D-431F-AE95-76413C3FD4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8F46F-1306-469D-A483-48C59FCC78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276E-401C-46F6-AB16-DB355E9400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8D40C-B3FB-48EB-9ED8-D725D6F981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75A0D-2111-494B-A1C0-E4F6836250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244C3-BD0C-4B80-87B7-9F9F001007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B45D-E02A-4ED3-A150-2D7E6DE25F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D088E-73D1-46C2-818C-98FA457FDE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B2BD-4DAF-42B1-B0CE-8F79E3638D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FB009-5551-403D-9D5E-8E6BC5A440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F5D55-7EC1-4706-9911-B47D8ACB8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3575-20C6-4471-BC72-04600C5386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BB3C4-9836-4AE0-826E-1B3F8052B7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DE0A0-7B58-4456-9A8C-DF7BDDFDBC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CEF30-9049-416F-A59E-53903F3141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221E-91CD-462C-B12E-ABD17D10A81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9AFA-9666-4C67-9D99-EE31D9D8D5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BEDE-CCF5-4DD8-98E1-B50B42F8F78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6E3F-514A-45E8-B363-AEDBBFDCE5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7066-DA30-430A-9EE7-B0CCFCB5B5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E445-FE94-4B9B-B6B0-92BFA1CC21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8576-E17D-42EC-84BA-00E09B8DA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BCED-6F14-4F41-9C74-6431DD09DB1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EC490-AB8A-476D-93DA-73F5E6C199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FE7-C513-4A22-874B-DA59ED90BA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76B6-A468-4748-B53B-668A3A0C98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432B-8FB3-4299-B1DA-43EE2A151B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F892-A3C8-4479-AC77-39D042BC94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2A21-3D40-4DF8-AAD2-DE7B239E85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4C91-E713-427A-9386-1ABCCF180C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9C7-8ABA-4EE4-BAC0-EABE74F8F9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8F3-E4D1-4D35-A973-E12C20215E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96A-C090-431A-A4F9-7A63CB3CC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F476-86BD-4E3B-B88B-68873ADF1B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2AE5-4D9C-4C7D-AD27-C3181BCA6F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62A8-AE6C-45AC-B4C8-BADA104CB0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99D4-0745-4F27-B23E-5EFDBE7D23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195D6-F2E3-47FA-BC89-4BDCCF38DF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9577C-ED72-477B-8C4A-58881D3E00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B1AD0-0EE8-48A1-BEE5-702A231DFE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713E8-6463-4493-9780-3A16064E02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DF934-C827-4BD2-9031-3E62CE8427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13A39-05C3-428A-9ABC-EA5E59CB19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13BA6-D7F9-47A6-8815-63ABB7D0C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0E6E-D90D-451A-B7C3-597B5C2083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6F24E-5B46-4065-BEC4-ECB98ECD08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671AE-2076-4DF4-9466-02DB6D439F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63026-6F19-44AB-B78B-5FD770828EB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7870D-ADEF-47F4-ADF4-1823FDC7E78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86EA4-AA75-46D9-8420-3EBC92F818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77982-C82C-4388-ACB0-593A9C7010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96877-DBB9-4447-A7EE-001A70B42B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444E2-12FF-4ADF-A3FD-4D8F920343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3F609-CE3B-4DBC-9183-4ADF39B220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6A0A6-6D6F-4143-9FFD-EE768F1B6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DC28-B691-446B-A9BA-C82D618594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681EF-7B62-4690-8360-DAF9A1921A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F8996-2BA4-40E3-9CCB-4D08E8C1B5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13E0C-6E20-41CD-BE20-1D2A8C6ABC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80A00-0635-4286-8C5F-43666DF7D9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40426-6902-4F20-B82A-F9030474A9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7A253-9104-4B25-87DE-11300716AC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1092E-6CB7-4366-A96B-C6FF200997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433A-737A-4A15-94EC-12697ED800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A575-7474-44A2-A1F7-1AE91EB863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E638-9387-4C7E-9D6B-D02C879FC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F0F4C7-B222-47E1-B975-158C14EBC1B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4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DF422D-6FDE-4521-AD01-8928C3022F3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3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EC34D2-D94B-4310-B436-61C5D8E2318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9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B5BAA2-A4D7-4F95-A027-5EE331AE762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4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4F8330-A431-433E-A924-2805DDCD67C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9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048278-980F-413D-92B5-4C8ABDD630D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4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037B06-B367-42D1-ABAA-0B85B7D452B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B4CCF8-EB8E-49FC-A8EF-D1B8DFF934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F43835-5E6C-4BD5-8457-34281D6AE73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B65A1A-03D2-4DC2-96F3-49118C8CD7F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D1F9DE-C58A-4A63-8641-13ECC7D9CD9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555F3F-346B-4685-ADFC-80668111F33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DECAFE-DEF4-4861-A96A-681A8040CDE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25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7D5710-D988-4DF8-AABB-1DD13DB6C1E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7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32B0DD-6C43-49E2-83E5-898D25BE204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31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8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2AFCFE-A246-410F-ADAA-43AD99412D2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695A4-9459-4207-B152-4A6700DD911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Rectángulo"/>
          <p:cNvSpPr/>
          <p:nvPr/>
        </p:nvSpPr>
        <p:spPr>
          <a:xfrm>
            <a:off x="1692360" y="47628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2 Rectángulo"/>
          <p:cNvSpPr/>
          <p:nvPr/>
        </p:nvSpPr>
        <p:spPr>
          <a:xfrm>
            <a:off x="324000" y="1536840"/>
            <a:ext cx="842472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CUERDOS DE DISTRIBUCIÓN, DE VENTAS, CREDITICIOS, GARANTIAS, LICENCIAS, KNOW HOW, USO DE MARCAS, ATRIBUCIÓN DE COSTOS, DESARROLLO DE INVESTIGACIÓN, PUBLICIDAD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ÉTODO UTILIZA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JUSTIFICACIÓN DE LA SELECCIÓN DEL MEJOR MÉTO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ÁLCULOS Y 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1 Rectángulo"/>
          <p:cNvSpPr/>
          <p:nvPr/>
        </p:nvSpPr>
        <p:spPr>
          <a:xfrm>
            <a:off x="1547640" y="476280"/>
            <a:ext cx="727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 A CONSERV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2 Rectángulo"/>
          <p:cNvSpPr/>
          <p:nvPr/>
        </p:nvSpPr>
        <p:spPr>
          <a:xfrm>
            <a:off x="324000" y="1413000"/>
            <a:ext cx="83516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COMPARAB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FORMACIÓN, CONCEPTOS  E IMPORTES AJUS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ETERMINACIÓN DEL RANGO Y VALOR RESULTANTE DE LA METODOLOGÍA DE CÁL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JETOS DEL EXTERIOR ALCANZADOS POR PT Y SI EXISTEN CONTROVERSIAS CON SUS AUTORIDAD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1 Rectángulo"/>
          <p:cNvSpPr/>
          <p:nvPr/>
        </p:nvSpPr>
        <p:spPr>
          <a:xfrm>
            <a:off x="1692360" y="399960"/>
            <a:ext cx="7127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2 Rectángulo"/>
          <p:cNvSpPr/>
          <p:nvPr/>
        </p:nvSpPr>
        <p:spPr>
          <a:xfrm>
            <a:off x="250920" y="2066760"/>
            <a:ext cx="8569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SEMESTRAL CON LA INFORMACIÓN GLOBAL DE LAS OPERACIONES REALIZADAS EN EL SE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COMPLEMENTARIA ANUAL. SE PRESENTA AL 8VO. MES DE CIERRE, CON INFORMACIÓN DETALLADA POR TIPO DE OPERACIÓN, SUJETO DEL EXTERIOR Y MÉTODO UTILIZADO. SI HAY AJUSTE Y SU CUANT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1 Rectángulo"/>
          <p:cNvSpPr/>
          <p:nvPr/>
        </p:nvSpPr>
        <p:spPr>
          <a:xfrm>
            <a:off x="1692360" y="33336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2 Rectángulo"/>
          <p:cNvSpPr/>
          <p:nvPr/>
        </p:nvSpPr>
        <p:spPr>
          <a:xfrm>
            <a:off x="324000" y="1984320"/>
            <a:ext cx="842472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 96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ANUAL. SE PRESENTA JUNTO CON LA DJ DE GANANCIAS CONTIENE EL DETALLE DE LAS OPERACIONES ANU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PIA DE LOS ESTADOS CONTABLES DEL CONTRIBUYENTE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L DEL PERÍODO Y LOS DE LOS 2 AÑOS ANTERIORES, FIRMADO POR C.P. Y CERTICADO POR CONSEJO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2 Rectángulo"/>
          <p:cNvSpPr/>
          <p:nvPr/>
        </p:nvSpPr>
        <p:spPr>
          <a:xfrm>
            <a:off x="468360" y="2413080"/>
            <a:ext cx="8280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E DE PRECIOS DE TRANSFERENC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ON EL DETALLE DE INFORMACIÓN PREVISTA EN EL ANEXOII DE LA RG 1122,  FIRMADO POR CONTADOR PÚBLICO Y CERTIFICADO POR EL CONSEJO PROFE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2 Rectángulo"/>
          <p:cNvSpPr/>
          <p:nvPr/>
        </p:nvSpPr>
        <p:spPr>
          <a:xfrm>
            <a:off x="250920" y="1447920"/>
            <a:ext cx="849780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Y FUNCIONES DESARRO-LLADAS POR EL CONTRIBUY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ESGOS ASUMIDOS Y ACTIVOS UTILIZADOS POR EL SUJETO LO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ELEMENTOS, DOCUMENTOS, HECHOS Y CIRCUNSTANCIAS VALORADOS PARA EL ESTUDIO DE P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Rectángulo"/>
          <p:cNvSpPr/>
          <p:nvPr/>
        </p:nvSpPr>
        <p:spPr>
          <a:xfrm>
            <a:off x="1751040" y="40464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2 Rectángulo"/>
          <p:cNvSpPr/>
          <p:nvPr/>
        </p:nvSpPr>
        <p:spPr>
          <a:xfrm>
            <a:off x="324000" y="1484280"/>
            <a:ext cx="8424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Y CUANTIFICACIÓN DE LAS OPERACIONES REALIZADAS, SUJETAS AL 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SUJETOS DEL EXTERIOR CON LOS QUE SE REALIZARON LAS TRANSAC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NCIONES, RIESGOS ASUMIDIOS Y ACTIVOS UTILIZADOS POR LOS SUEJTOS DEL EXTERI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1 Rectángulo"/>
          <p:cNvSpPr/>
          <p:nvPr/>
        </p:nvSpPr>
        <p:spPr>
          <a:xfrm>
            <a:off x="1763640" y="40464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2 Rectángulo"/>
          <p:cNvSpPr/>
          <p:nvPr/>
        </p:nvSpPr>
        <p:spPr>
          <a:xfrm>
            <a:off x="324000" y="1411200"/>
            <a:ext cx="842472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UTILIZADO Y FUNDAMENTACION DE SU EL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AS FUENTES DE INFORMACIÓN DE LAS QUE SE OBTUVIERON LOS COMPARABLES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1 Rectángulo"/>
          <p:cNvSpPr/>
          <p:nvPr/>
        </p:nvSpPr>
        <p:spPr>
          <a:xfrm>
            <a:off x="1751040" y="45576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2 Rectángulo"/>
          <p:cNvSpPr/>
          <p:nvPr/>
        </p:nvSpPr>
        <p:spPr>
          <a:xfrm>
            <a:off x="25092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LOS COMPARABLES DESECHADOS Y EL MO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CRIPCIÓN DE LOS ESTADOS CONTA-BLES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1 Rectángulo"/>
          <p:cNvSpPr/>
          <p:nvPr/>
        </p:nvSpPr>
        <p:spPr>
          <a:xfrm>
            <a:off x="1763640" y="47628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3 Rectángulo"/>
          <p:cNvSpPr/>
          <p:nvPr/>
        </p:nvSpPr>
        <p:spPr>
          <a:xfrm>
            <a:off x="250920" y="1650960"/>
            <a:ext cx="84978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 LA ACTIVIDAD Y CARAC-TERÍSTICAS DEL NEGOCIO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DETERMINACIÓN DEL RANGO INTER-CUARTIL Y LA MEDI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CONCLUSIONES A QUE SE HUBIERA ARRIB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1 Rectángulo"/>
          <p:cNvSpPr/>
          <p:nvPr/>
        </p:nvSpPr>
        <p:spPr>
          <a:xfrm>
            <a:off x="455760" y="2133720"/>
            <a:ext cx="823248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 Y MATERI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OLUCION GENERAL N° 11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1 Rectángulo"/>
          <p:cNvSpPr/>
          <p:nvPr/>
        </p:nvSpPr>
        <p:spPr>
          <a:xfrm>
            <a:off x="611280" y="22334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MPORTANCIA DEL ESTUDIO DE PRECIOS DE TRANSFERENCIA A FIN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LIDAD DEL CON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5"/>
          <p:cNvSpPr/>
          <p:nvPr/>
        </p:nvSpPr>
        <p:spPr>
          <a:xfrm>
            <a:off x="127080" y="2008080"/>
            <a:ext cx="854856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EFECTUEN OPERACIONES CON SUJETOS CONSTITUIDOS, DOMICILIADOS O RADICADOS EN JBNT, EXISTA O NO VINCUL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2440080" y="455760"/>
            <a:ext cx="5732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304920" y="1917720"/>
            <a:ext cx="829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QUE REALICEN OPERA-CIONES CON ESTABLECIMIENTOS ESTABLES DEL EXTERIOR DE  SU TITULA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TITULARES DE EST. EST. EN EL EXTERIOR, POR LAS OPERACIONES QUE ESTOS ÚLTIMOS EFECTÚEN CON ENTIDADES VINCULADAS DEL EXTERIOR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2401920" y="517680"/>
            <a:ext cx="5770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5"/>
          <p:cNvSpPr/>
          <p:nvPr/>
        </p:nvSpPr>
        <p:spPr>
          <a:xfrm>
            <a:off x="179280" y="1830240"/>
            <a:ext cx="8569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CONSERV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EXO IV DE LA RG 112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PRESENT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742 SEMESTRAL Y FS 743 Y 969 ANU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E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PIA DE LOS ESTADOS CONTABL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1332000" y="4795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1 Rectángulo"/>
          <p:cNvSpPr/>
          <p:nvPr/>
        </p:nvSpPr>
        <p:spPr>
          <a:xfrm>
            <a:off x="1476360" y="476280"/>
            <a:ext cx="755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2 Rectángulo"/>
          <p:cNvSpPr/>
          <p:nvPr/>
        </p:nvSpPr>
        <p:spPr>
          <a:xfrm>
            <a:off x="250920" y="1508040"/>
            <a:ext cx="8569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LOCAL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ATOS IDENTIFICATORIOS, ACTIVIDADES DESARROLLADAS, ACTIVOS, RIESGOS, FUNCIONES  Y ESTRUCTURA ORGANIZATIVA DEL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DEL EXTERIO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NOMBRE O DENOMINACIÓN SOCIAL, IDENTIFICACIÓN TRIBUTARIA, DOMICILIO FISCAL, PAÍS DE RESIDENCIA Y DOCUMENTACIÓN RELATIVA A LA VINCULACIÓN. DEBE CONSERVARSE AÚN CUANDO NO SE REALICEN OPERACION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2 Rectángulo"/>
          <p:cNvSpPr/>
          <p:nvPr/>
        </p:nvSpPr>
        <p:spPr>
          <a:xfrm>
            <a:off x="1692360" y="404640"/>
            <a:ext cx="7127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5 Rectángulo"/>
          <p:cNvSpPr/>
          <p:nvPr/>
        </p:nvSpPr>
        <p:spPr>
          <a:xfrm>
            <a:off x="250920" y="1390680"/>
            <a:ext cx="85690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NSACCIONES REALIZAD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 CUANTÍA Y LA MONEDA UTIL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MULTINACIONA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ORMACIÓN ACTUALIZADA DEL GRUPO Y LUGAR DE RADICACIÓN DE CAD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L OBJETO SOCIAL Y LAS ACTIVIDADES DE CADA EMPRESA, IDENTI-FICACIÓN DE LAS QUE COTIZAN EN BOL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CIOS E INTEGRANTES DE CADA EMPRESA Y LUGAR DE RESIDENCIA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1 Rectángulo"/>
          <p:cNvSpPr/>
          <p:nvPr/>
        </p:nvSpPr>
        <p:spPr>
          <a:xfrm>
            <a:off x="250920" y="1484280"/>
            <a:ext cx="85690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TOS DEL PRESIDENTE ÚLTIMOS 3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TOS DE TRANSFERENCIA DE ACCCIONES, AUMENTO O DISMINUCIÓN DEL CA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EN MATERIA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2 Rectángulo"/>
          <p:cNvSpPr/>
          <p:nvPr/>
        </p:nvSpPr>
        <p:spPr>
          <a:xfrm>
            <a:off x="1763640" y="40464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2 Rectángulo"/>
          <p:cNvSpPr/>
          <p:nvPr/>
        </p:nvSpPr>
        <p:spPr>
          <a:xfrm>
            <a:off x="1692360" y="549360"/>
            <a:ext cx="720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4 Rectángulo"/>
          <p:cNvSpPr/>
          <p:nvPr/>
        </p:nvSpPr>
        <p:spPr>
          <a:xfrm>
            <a:off x="395280" y="1415880"/>
            <a:ext cx="835344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EXO 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ADOS CONTA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DEL CONTRIBUYENTE, DEL SUEJTO DEL EXTERIOR VINCULADO Y CONSOLIDADOS, DE CORRESP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TUACIÓN FINANCIERA DEL CONTRIBUY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ATEGIAS COMERCIALES ADOPT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UCTURA DE CO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cilia</dc:creator>
  <dc:description/>
  <dc:language>en-US</dc:language>
  <cp:lastModifiedBy>Cecilia</cp:lastModifiedBy>
  <dcterms:modified xsi:type="dcterms:W3CDTF">2013-07-18T15:46:43Z</dcterms:modified>
  <cp:revision>195</cp:revision>
  <dc:subject/>
  <dc:title>Diapositiva 1</dc:title>
</cp:coreProperties>
</file>