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2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01221-C548-4D7A-8465-EB491A9AE7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8"/>
          <p:cNvSpPr/>
          <p:nvPr/>
        </p:nvSpPr>
        <p:spPr>
          <a:xfrm>
            <a:off x="384984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D26B2-14DF-4D8A-9999-2AC92DF10B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8"/>
          <p:cNvSpPr/>
          <p:nvPr/>
        </p:nvSpPr>
        <p:spPr>
          <a:xfrm>
            <a:off x="384984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FB3FC-B021-42CD-8F69-51DB19B875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6AE5-A02B-4391-856D-8DEE59598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1E5D-67AC-4E85-9542-1B86817C52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D5DF-308E-4DFD-9FCC-A93C4AA05B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465C-A2C5-434C-A89E-EECA4E754FC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1221-6809-427C-8CE8-E632ADE7C1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1FB5-D20F-4AA2-ABAD-BE611037FC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4837-82E5-4682-BAAB-0749D7C06E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ED3E-CE5D-46C7-9003-EC09671679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919D-9F47-496A-89BD-95E315A07D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939C9-E837-4996-AE03-7BEA181B67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1421-A40A-4A7E-87A3-F469D85559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B50C3-D5DC-4B48-88FE-CFEDFBC66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7E50-D4BD-42BA-AD37-18492743E8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3B65C-470E-4C78-9718-8CF365F62C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2A3CE-0AE3-45A9-A1B7-6B04B128F3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8B3F97-8316-4C51-A49D-4D5474AB7D5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44B00-D6F1-4215-9330-CD134F04E9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B04E5-6AD6-4517-A7DE-39BE8112457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3BB1B-AC8B-4B7A-82FD-99B4AAF4EC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01B44-FAB0-4F97-8524-835EFFA9CF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E02EC-4BBA-469A-8F15-60D5C9308D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65B29-429E-4465-83C8-8644C5CFB4B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3C0F8-F2D4-4641-A806-C175BABDF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798D-AD53-4D12-8777-F4B37866781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221E2-1EA6-4616-A12F-DAF4239BEA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4C4B7-9D1F-432A-9453-323F0E8CB1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E7A98-7628-4FB9-980F-6593D1908B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DD285-8D73-4B5A-AF4E-285F516CE1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4BEEA-8613-43F1-A4FA-331DAB2CAF3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CE0F6-D474-4D0A-AF62-17DA0DF1A9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8E790-41D3-41AA-AEDF-FA2E7F95F0E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A6095-EC5F-4EB9-A942-3FB8FF30D38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CA4BE-19BF-40B8-A838-C853AE541DD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FA9EB-FD1E-4D7F-BEFB-56CB9C9C4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5F3A-B29E-46DF-AA25-556911C587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379B8-CDA4-4FED-A5CC-87007DD875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7D642-B2FA-4E66-95B4-A7DE61A17D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864CE-76CD-4D3B-B5E3-9C90BB19AD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6BD3D-FD74-4411-B184-3C5B9027E2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1F93-66FB-44DD-99F0-951242A98E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8330-68B7-4621-980F-2C08931571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ADE2C-9D8E-469E-88BF-AD958DE5B1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8BB1-E373-46C2-8A02-6CA9691E345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2A6C-F473-49CC-8EE6-1065DAF329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920E-0562-464D-A7AF-3108D25535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2CD1-8594-4817-AC9A-E9565926BC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83A05-4509-4448-8038-316929FF05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BFE2-5B81-4CBF-A438-36C99C0261D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A971-A511-4DAB-AD89-57D244D288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8695-B473-4247-8430-F406310E2C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04355-5F01-42DB-A35B-33B3C0533B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D0BCE-EEBF-4A3B-A645-EC45C3AEF68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2D488-E381-42B2-9F75-E3AC26B0FE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3468F3-7956-48E7-99D8-5077B3CC78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EDB05D-A773-4FB5-9545-2F998DE090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F5F31-C592-4A01-B7E7-C4B5F62E4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7A86-2BA3-45D2-A4D5-3FD1F2FB384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CDDF97-AAD2-4646-92FE-3BDE106C229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44988-D5A9-4AC7-9313-163005B157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CB616-E2A3-45A5-83E0-21D39858BB9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613F8-637B-4E43-BD2A-26D55621804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E0874-435B-4E69-B58F-3CECBB31AE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1731B-33CD-4E28-8E25-50AA4A60A0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1FA20-BE1E-4259-A9D0-84EEC37AEE9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004CB-B2A4-4FCC-A8E1-16D00A0716B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C7F76-0931-4709-843F-2303D77650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8329A-8003-4C9B-9DB7-F7100AEAD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20DD-1B44-4ED8-98C3-2EF8ABC65F4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3488D-E59C-49C5-9518-B80C3F54646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61D23-285E-4D40-9C66-B596C90BD53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3B766-A841-4E8A-A467-A251117D2F5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4B9BD-9B16-4A72-BC86-7477DC18AD4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F72DB-C79B-40BF-92F1-F6D1603FD2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0F23F-40CB-433C-80CA-EDB092B3DBA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632CC-4D22-4871-A655-10D8FC2EAA2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F5483-C2F7-4F3A-91E7-CBD5E762A06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469ED-8F4F-4203-8A28-2AF2ACAC10D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A920-56FE-42EE-9343-F6F871642B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7752-9AEB-4621-8709-C103FA4F3EA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E013A-BF5E-481D-A448-96FE8D639C1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97D1-A9AD-404B-B65C-26C894F54AD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26E3-0F34-4774-84B1-B292D6BD3A5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345C3-9927-4DD5-B90A-07693A5002A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31A6-37D6-452C-8F57-EAD69DD1CBF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84127-6E8C-436F-8FD9-B070B43EA9F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2380F-6F5D-4A78-8D73-30D10414EDC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4E8C-D096-4D8E-9E81-E09FA06D5AD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A73A-B220-4812-BE9D-317A8B6499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0D4E-57BB-4B1C-AC95-4A3993430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6E71-DDF5-44DC-A429-1ABBCBEEA28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6EB8-01C9-4933-9C3C-033235DFA18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B32D4A-E7F3-46E3-AA10-A717EE83B58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703B3-C06E-4AFC-BB70-1388909486C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96B07-F60B-4CE5-9221-9DF31A307B0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2A1FA-A1F2-42F9-B541-5DC07F2DDDE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870A03-A54F-4AEE-9226-228C891A14A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860DA-447A-4CD7-8712-F992D73FE3B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174C7-83C8-4665-8F32-0F25C9E033E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0B157-74A8-4052-A973-C2EFC724FDB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94EDE8-2FF5-48C8-8031-2B0565283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A632-E7D0-4B9F-BF9D-7D60B4E5F1B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CAA7D4-9876-430D-8562-48A2412E78F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5E455-13F9-4BF3-9778-DE9CD83CFF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F52FCD-5BD0-400A-8DCF-573911C14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77CC-C341-407B-AC73-663819EC2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7152-B371-476A-A31F-1CF6034428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B135-4F6E-43C1-B3AB-83ABC18AC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617B-3674-492D-9C70-51FC5B8EF7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8AEB-77DC-4700-A12A-58E39F7A28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D498-8428-4F3C-BE44-4AC041FDB0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B05-1A57-4B99-B0F0-825EE946EF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E7E-CA9C-4801-BF71-F7AE401E82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BDF-DE69-40CE-A277-4DB01E1DBA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6DF-20CC-49FB-835C-3D38E0F5CB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199-67E7-4754-9CE6-2F5409C05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7E58-80CA-4D9D-82A5-E6F4ACD476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4E4-A613-4DBD-92FE-1839B24842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784-1216-48EC-94D5-D154FC16FA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E80-E1FB-4955-87AE-312AA0BADD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932-558D-48D0-A3B4-9BC8846464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0CE-CD1E-489A-8059-26EAC9F1BF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C69-F1BB-42AA-8A0B-04FB39857D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05C-5D22-4B00-B432-99383F4623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92D33-9B47-470B-87A3-A59E0FE80A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CCE4-E378-4941-8783-8D329ACE32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F795-8C0A-4CEF-8F9D-55ABFBF14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849C-7592-4B83-8832-836552E15A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E8B2E-0EF6-4A6D-80AD-D7D56B6984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35C4C-7E2C-4850-92AA-7A950557CD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2596A-36C0-4A20-A4C0-90099262EC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584B-808A-4C69-8772-6E94F4443C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C02A1-C088-4611-AB68-39D30D98BC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15B5D-D63A-4149-83C5-D4944A04D0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33D27-406A-4548-8648-8E9F02B898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A4D8E-50DA-42F0-8005-6DD2F744DC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1829-E9BE-42AC-94E6-E3378B8FE2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77FE3-C1BD-44A9-A5AE-1EB1AB50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FAE3-06B3-456F-ADE1-EEFDF5D348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263D9-048D-4CAB-8550-88C6112267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7B3A7-0FA7-4560-A830-2535F9D319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E213-7359-4050-88B2-D8A1E05B22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B3FFE-5828-4554-9E33-BC38B36FC4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43318-5A88-4090-934A-929A8D1565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9841D-B0FD-4B42-AFD1-9C3B74C99A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A01CE-0C69-470D-A046-FB15E474D5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FBA14-F749-4976-AAD7-8D6A752C4A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DFE8C-7603-4467-B324-34FA3E9109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8BD8A-4C3B-43AE-B54A-3B43DA443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55FA-8BBC-4B6C-AAB5-A408945C43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CD6C5-98AC-4C60-BA49-AEA2B0998B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1AA-41AF-4DB8-B0A7-352F94C666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1881-2E5E-4061-BB8B-71663D95E2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3B18-24DE-4C80-9B56-E97609AC83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A8A-5BC1-46E6-ADAE-35A8145B91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D734-C98D-46EB-B1BF-0ED9A9927B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597-5EAD-42C9-86AB-B971EE0EFB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8575-D941-4269-AA5D-07E28E753F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F02-6CD8-4635-8326-19D71E4713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6865-B057-4617-94F5-C7618E1D7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88F9-5F04-4633-A514-6B73220873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0F8-0EBC-44C5-A907-5E29A5ACBD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402E-49A2-4056-A74D-5AEFFC56E9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AEF7-D795-4BA8-97AE-FA5D49ADD4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74789-2CD7-4D49-AF43-D476B1D8E4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4DAC4-5524-4B75-A821-1E3374A19B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5A76F2-8024-4ADA-9D0C-0180AA66BE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93476-12EB-4605-9606-803A78B579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59141-4491-414B-A281-6D1A86C816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F86D4-E6C8-4868-A616-8DDC485F38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05FE5-B1D0-4770-8343-B1DAB7D48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0F1C-E634-478F-97D2-F3602DA437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9FB91-D38B-4723-BF07-8BAAB18C5F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29714-81E4-4152-9558-CC4ADB27E7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2A5A6-0ADD-403D-B703-987FADD92C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4003B-6EB5-4970-AF05-47956CCFFB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51F8E-1137-4B62-9579-1E4ACC9B5E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56ACF-9B6E-448A-9CDE-20A4B40515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FD4FB-03E6-4E3D-B58A-38F9FAAE3FF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40167-6C8D-43B1-8994-1F00DB28B1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2A500-AC6B-40FA-9EE6-9E2D98761A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9FA9B-AE36-44BC-BCCA-0ECE04271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655F-7274-4536-B9F9-9189218506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0A8FC-796C-4E62-AA26-6D6E679D9D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4EC88-73A9-4D96-835A-2495C66A64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03241-9DCC-4B68-AA24-B0FC2B94F7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520D7-1C29-4759-9CF8-D68BD343814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A3EFA-EEB1-4EFC-9E82-FE057B70169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4E0A4-C50C-4BCD-ABE8-087118031F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F104F-9290-487A-86A5-8D43DC97CC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7612-36D6-4B70-9ECC-1F62D18FBCD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A5A8-1AA4-47FC-9C9A-F27BE4D1F3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2292-F8B5-4359-8BE3-0ECDF0192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0F6913-90D8-4FAD-98EB-CEAC11EBF4B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84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48BDE8-D790-475D-BD86-1638989FAED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3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4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1B2A67-FAA8-46BD-8170-8F69F156F91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9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7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DE308B-715E-4142-A45A-55A3A21A6C9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43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0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8ABD48-DA78-4723-A907-23C076ED8A5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9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3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111444-B74C-46CE-95F8-4EEC0BDAF1D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4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6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B6DECC-0B7E-475A-B508-85D71BC07BC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9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37E5F6-8114-4A96-88CD-76221A9FC0B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638F52-4203-46FF-AC5B-2084C4B67BD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3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184FA8-805B-4E29-BEB0-7ABD856640B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6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286249-4424-4DA6-A677-4873CC0B3E6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9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38B0EC-8668-4DB9-BCCC-F9BAF838249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9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C8A470-A2E7-4D7C-8365-80F15A9D9E7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25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CBF68B-E233-4E2A-B13B-766DA3CBCE7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78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473305-8BC7-4C7D-8B96-EA63CB05C2B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2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Group 5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Group 6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AutoShape 7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31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Group 9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Rectangle 10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Rectangle 11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2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13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AutoShape 14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8" name="Picture 15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Line 16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21052D-A0CF-4416-8148-F4C906F8491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1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8BAF1-1ACA-42F4-837D-30EAE55EBF9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Rectángulo"/>
          <p:cNvSpPr/>
          <p:nvPr/>
        </p:nvSpPr>
        <p:spPr>
          <a:xfrm>
            <a:off x="1692360" y="476280"/>
            <a:ext cx="70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2 Rectángulo"/>
          <p:cNvSpPr/>
          <p:nvPr/>
        </p:nvSpPr>
        <p:spPr>
          <a:xfrm>
            <a:off x="324000" y="1536840"/>
            <a:ext cx="842472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NTRAT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CUERDOS DE DISTRIBUCIÓN, DE VENTAS, CREDITICIOS, GARANTIAS, LICENCIAS, KNOW HOW, USO DE MARCAS, ATRIBUCIÓN DE COSTOS, DESARROLLO DE INVESTIGACIÓN, PUBLICIDAD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ÉTODO UTILIZAD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JUSTIFICACIÓN DE LA SELECCIÓN DEL MEJOR MÉTO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APELES DE TRABAJ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CÁLCULOS Y AJUSTES A LA COMPARA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1 Rectángulo"/>
          <p:cNvSpPr/>
          <p:nvPr/>
        </p:nvSpPr>
        <p:spPr>
          <a:xfrm>
            <a:off x="1547640" y="476280"/>
            <a:ext cx="727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 A CONSERV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2 Rectángulo"/>
          <p:cNvSpPr/>
          <p:nvPr/>
        </p:nvSpPr>
        <p:spPr>
          <a:xfrm>
            <a:off x="324000" y="1413000"/>
            <a:ext cx="835164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PRESAS COMPARAB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FORMACIÓN, CONCEPTOS  E IMPORTES AJUST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APELES DE TRABAJ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ETERMINACIÓN DEL RANGO Y VALOR RESULTANTE DE LA METODOLOGÍA DE CÁL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SUJETOS DEL EXTERIOR ALCANZADOS POR PT Y SI EXISTEN CONTROVERSIAS CON SUS AUTORIDADES FI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1 Rectángulo"/>
          <p:cNvSpPr/>
          <p:nvPr/>
        </p:nvSpPr>
        <p:spPr>
          <a:xfrm>
            <a:off x="1692360" y="399960"/>
            <a:ext cx="7127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2 Rectángulo"/>
          <p:cNvSpPr/>
          <p:nvPr/>
        </p:nvSpPr>
        <p:spPr>
          <a:xfrm>
            <a:off x="250920" y="2066760"/>
            <a:ext cx="8569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74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SEMESTRAL CON LA INFORMACIÓN GLOBAL DE LAS OPERACIONES REALIZADAS EN EL SEM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74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COMPLEMENTARIA ANUAL. SE PRESENTA AL 8VO. MES DE CIERRE, CON INFORMACIÓN DETALLADA POR TIPO DE OPERACIÓN, SUJETO DEL EXTERIOR Y MÉTODO UTILIZADO. SI HAY AJUSTE Y SU CUANT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1 Rectángulo"/>
          <p:cNvSpPr/>
          <p:nvPr/>
        </p:nvSpPr>
        <p:spPr>
          <a:xfrm>
            <a:off x="1692360" y="33336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2 Rectángulo"/>
          <p:cNvSpPr/>
          <p:nvPr/>
        </p:nvSpPr>
        <p:spPr>
          <a:xfrm>
            <a:off x="324000" y="1984320"/>
            <a:ext cx="842472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. 969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J ANUAL. SE PRESENTA JUNTO CON LA DJ DE GANANCIAS CONTIENE EL DETALLE DE LAS OPERACIONES ANU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PIA DE LOS ESTADOS CONTABLES DEL CONTRIBUYENTE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L DEL PERÍODO Y LOS DE LOS 2 AÑOS ANTERIORES, FIRMADO POR C.P. Y CERTICADO POR CONSEJO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1 Rectángulo"/>
          <p:cNvSpPr/>
          <p:nvPr/>
        </p:nvSpPr>
        <p:spPr>
          <a:xfrm>
            <a:off x="1692360" y="40464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PRESENTACIÓN A AFI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2 Rectángulo"/>
          <p:cNvSpPr/>
          <p:nvPr/>
        </p:nvSpPr>
        <p:spPr>
          <a:xfrm>
            <a:off x="468360" y="2413080"/>
            <a:ext cx="8280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FORME DE PRECIOS DE TRANSFERENC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CON EL DETALLE DE INFORMACIÓN PREVISTA EN EL ANEXOII DE LA RG 1122,  FIRMADO POR CONTADOR PÚBLICO Y CERTIFICADO POR EL CONSEJO PROFE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1 Rectángulo"/>
          <p:cNvSpPr/>
          <p:nvPr/>
        </p:nvSpPr>
        <p:spPr>
          <a:xfrm>
            <a:off x="1692360" y="404640"/>
            <a:ext cx="7056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2 Rectángulo"/>
          <p:cNvSpPr/>
          <p:nvPr/>
        </p:nvSpPr>
        <p:spPr>
          <a:xfrm>
            <a:off x="250920" y="1447920"/>
            <a:ext cx="849780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Y FUNCIONES DESARRO-LLADAS POR EL CONTRIBUY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ESGOS ASUMIDOS Y ACTIVOS UTILIZADOS POR EL SUJETO LO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DE ELEMENTOS, DOCUMENTOS, HECHOS Y CIRCUNSTANCIAS VALORADOS PARA EL ESTUDIO DE P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Rectángulo"/>
          <p:cNvSpPr/>
          <p:nvPr/>
        </p:nvSpPr>
        <p:spPr>
          <a:xfrm>
            <a:off x="1751040" y="404640"/>
            <a:ext cx="7035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2 Rectángulo"/>
          <p:cNvSpPr/>
          <p:nvPr/>
        </p:nvSpPr>
        <p:spPr>
          <a:xfrm>
            <a:off x="324000" y="1484280"/>
            <a:ext cx="8424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Y CUANTIFICACIÓN DE LAS OPERACIONES REALIZADAS, SUJETAS AL 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OS SUJETOS DEL EXTERIOR CON LOS QUE SE REALIZARON LAS TRANSAC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NCIONES, RIESGOS ASUMIDIOS Y ACTIVOS UTILIZADOS POR LOS SUEJTOS DEL EXTERI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1 Rectángulo"/>
          <p:cNvSpPr/>
          <p:nvPr/>
        </p:nvSpPr>
        <p:spPr>
          <a:xfrm>
            <a:off x="1763640" y="40464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2 Rectángulo"/>
          <p:cNvSpPr/>
          <p:nvPr/>
        </p:nvSpPr>
        <p:spPr>
          <a:xfrm>
            <a:off x="324000" y="1411200"/>
            <a:ext cx="842472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UTILIZADO Y FUNDAMENTACION DE SU EL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O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CIÓN DE LAS FUENTES DE INFORMACIÓN DE LAS QUE SE OBTUVIERON LOS COMPARABLES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1 Rectángulo"/>
          <p:cNvSpPr/>
          <p:nvPr/>
        </p:nvSpPr>
        <p:spPr>
          <a:xfrm>
            <a:off x="1751040" y="455760"/>
            <a:ext cx="70358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2 Rectángulo"/>
          <p:cNvSpPr/>
          <p:nvPr/>
        </p:nvSpPr>
        <p:spPr>
          <a:xfrm>
            <a:off x="25092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TALLE DE LOS COMPARABLES DESECHADOS Y EL MO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JUSTES A LA COMPARA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NSCRIPCIÓN DE LOS ESTADOS CONTA-BLES DE LAS EMPRESA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1 Rectángulo"/>
          <p:cNvSpPr/>
          <p:nvPr/>
        </p:nvSpPr>
        <p:spPr>
          <a:xfrm>
            <a:off x="1763640" y="47628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CONTENIDO DEL INFORME P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3 Rectángulo"/>
          <p:cNvSpPr/>
          <p:nvPr/>
        </p:nvSpPr>
        <p:spPr>
          <a:xfrm>
            <a:off x="250920" y="1650960"/>
            <a:ext cx="84978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CRIPCIÓN DE LA ACTIVIDAD Y CARAC-TERÍSTICAS DEL NEGOCIO DE LAS EMPRESAS COMPAR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DETERMINACIÓN DEL RANGO INTER-CUARTIL Y LA MEDI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CONCLUSIONES A QUE SE HUBIERA ARRIB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1 Rectángulo"/>
          <p:cNvSpPr/>
          <p:nvPr/>
        </p:nvSpPr>
        <p:spPr>
          <a:xfrm>
            <a:off x="455760" y="2133720"/>
            <a:ext cx="823248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CIOS DE TRANSFERENC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LIGACIONES FORMALES Y MATERI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OLUCION GENERAL N° 11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1 Rectángulo"/>
          <p:cNvSpPr/>
          <p:nvPr/>
        </p:nvSpPr>
        <p:spPr>
          <a:xfrm>
            <a:off x="611280" y="22334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MPORTANCIA DEL ESTUDIO DE PRECIOS DE TRANSFERENCIA A FINES FI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LIDAD DEL CON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5"/>
          <p:cNvSpPr/>
          <p:nvPr/>
        </p:nvSpPr>
        <p:spPr>
          <a:xfrm>
            <a:off x="127080" y="2008080"/>
            <a:ext cx="854856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IENES REALICEN OPERACIONES CON PERSONAS O ENTIDADES VINCULADAS DEL EX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IENES EFECTUEN OPERACIONES CON SUJETOS CONSTITUIDOS, DOMICILIADOS O RADICADOS EN JBNT, EXISTA O NO VINCUL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2440080" y="455760"/>
            <a:ext cx="5732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SUJETOS ALCANZ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304920" y="1917720"/>
            <a:ext cx="829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DENTES QUE REALICEN OPERA-CIONES CON ESTABLECIMIENTOS ESTABLES DEL EXTERIOR DE  SU TITULA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DENTES TITULARES DE EST. EST. EN EL EXTERIOR, POR LAS OPERACIONES QUE ESTOS ÚLTIMOS EFECTÚEN CON ENTIDADES VINCULADAS DEL EXTERIOR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2401920" y="517680"/>
            <a:ext cx="5770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SUJETOS ALCANZADO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5"/>
          <p:cNvSpPr/>
          <p:nvPr/>
        </p:nvSpPr>
        <p:spPr>
          <a:xfrm>
            <a:off x="179280" y="1830240"/>
            <a:ext cx="8569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CONSERVAR 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EXO IV DE LA RG 112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E PRESENTAR 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 742 SEMESTRAL Y FS 743 Y 969 ANU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FORME DE PRECIOS DE TRANSFE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7600" algn="just">
              <a:lnSpc>
                <a:spcPct val="87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7628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PIA DE LOS ESTADOS CONTABLES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Lucida Sans Unico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1332000" y="4795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762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OBLIGACIONES FORM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1 Rectángulo"/>
          <p:cNvSpPr/>
          <p:nvPr/>
        </p:nvSpPr>
        <p:spPr>
          <a:xfrm>
            <a:off x="1476360" y="476280"/>
            <a:ext cx="7559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2 Rectángulo"/>
          <p:cNvSpPr/>
          <p:nvPr/>
        </p:nvSpPr>
        <p:spPr>
          <a:xfrm>
            <a:off x="250920" y="1508040"/>
            <a:ext cx="856908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UJETO LOCAL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DATOS IDENTIFICATORIOS, ACTIVIDADES DESARROLLADAS, ACTIVOS, RIESGOS, FUNCIONES  Y ESTRUCTURA ORGANIZATIVA DEL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UJETO DEL EXTERIOR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NOMBRE O DENOMINACIÓN SOCIAL, IDENTIFICACIÓN TRIBUTARIA, DOMICILIO FISCAL, PAÍS DE RESIDENCIA Y DOCUMENTACIÓN RELATIVA A LA VINCULACIÓN. DEBE CONSERVARSE AÚN CUANDO NO SE REALICEN OPERACIONES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2 Rectángulo"/>
          <p:cNvSpPr/>
          <p:nvPr/>
        </p:nvSpPr>
        <p:spPr>
          <a:xfrm>
            <a:off x="1692360" y="404640"/>
            <a:ext cx="7127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5 Rectángulo"/>
          <p:cNvSpPr/>
          <p:nvPr/>
        </p:nvSpPr>
        <p:spPr>
          <a:xfrm>
            <a:off x="250920" y="1390680"/>
            <a:ext cx="85690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RANSACCIONES REALIZAD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SU CUANTÍA Y LA MONEDA UTIL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PRESAS MULTINACIONA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ORMACIÓN ACTUALIZADA DEL GRUPO Y LUGAR DE RADICACIÓN DE CAD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CRIPCIÓN DEL OBJETO SOCIAL Y LAS ACTIVIDADES DE CADA EMPRESA, IDENTI-FICACIÓN DE LAS QUE COTIZAN EN BOL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CIOS E INTEGRANTES DE CADA EMPRESA Y LUGAR DE RESIDENCIA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1 Rectángulo"/>
          <p:cNvSpPr/>
          <p:nvPr/>
        </p:nvSpPr>
        <p:spPr>
          <a:xfrm>
            <a:off x="250920" y="1484280"/>
            <a:ext cx="85690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EXO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TOS DEL PRESIDENTE ÚLTIMOS 3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TOS DE TRANSFERENCIA DE ACCCIONES, AUMENTO O DISMINUCIÓN DEL CA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JUSTES EN MATERIA DE PRECIOS DE TRANSFER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2 Rectángulo"/>
          <p:cNvSpPr/>
          <p:nvPr/>
        </p:nvSpPr>
        <p:spPr>
          <a:xfrm>
            <a:off x="1763640" y="404640"/>
            <a:ext cx="70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2 Rectángulo"/>
          <p:cNvSpPr/>
          <p:nvPr/>
        </p:nvSpPr>
        <p:spPr>
          <a:xfrm>
            <a:off x="1692360" y="549360"/>
            <a:ext cx="720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OCUMENTACIÓN A CONSER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4 Rectángulo"/>
          <p:cNvSpPr/>
          <p:nvPr/>
        </p:nvSpPr>
        <p:spPr>
          <a:xfrm>
            <a:off x="395280" y="1415880"/>
            <a:ext cx="835344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EXO 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ADOS CONTAB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DEL CONTRIBUYENTE, DEL SUEJTO DEL EXTERIOR VINCULADO Y CONSOLIDADOS, DE CORRESP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TUACIÓN FINANCIERA DEL CONTRIBUY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RATEGIAS COMERCIALES ADOPT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TRUCTURA DE CO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cilia</dc:creator>
  <dc:description/>
  <dc:language>en-US</dc:language>
  <cp:lastModifiedBy>Cecilia</cp:lastModifiedBy>
  <dcterms:modified xsi:type="dcterms:W3CDTF">2013-07-18T15:46:43Z</dcterms:modified>
  <cp:revision>195</cp:revision>
  <dc:subject/>
  <dc:title>Diapositiva 1</dc:title>
</cp:coreProperties>
</file>