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D6AE-3D8B-46F4-8E08-C5EFA14BBA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EE51-AF6F-4E5C-B0F4-E318F48BF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5374-577D-4B90-AE0D-CBC1D2AF45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ED22-0D55-430E-BF0F-F109FA2220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3FE3-01A2-4194-AEBF-01B4427B6D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EDF2-9CD8-49D9-B9FB-77B3EDCE5F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C329-49F3-43E6-B47F-4AA733D48A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2DA9-A4E4-4126-836B-736F2D913B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0512-12A0-4FE8-8DCF-96F731D51E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C9F3-B297-4B62-B398-F109E9CCF44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1791-A098-4140-A4B0-C37766813C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71E6-201B-499A-AD9E-626FBDF378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E6561-B82A-4227-B4DC-CA878BA55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16CC-527C-4385-BAF1-ABF1DF4DB7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7DD89-8E30-434A-98FD-5557C0C4B7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9BAD8-D279-4632-98C1-51E71122838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49028-0093-40CB-90FF-33624E245A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05D2B-041E-45E1-B00B-FC58AABE76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83BF4-FF55-4F18-BFDB-2A7555660B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BBF0A-476E-46E8-B172-2B26E87852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02B43-3EAD-4595-94BC-B270E46638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C3401-6173-4DF7-8C01-45E00680AF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8E929-4744-44BE-BF68-1D95560BB2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BF381-C857-48D4-B3EE-48F29C4FC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A8CD-F65F-4D64-A267-B4A9D6130E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BBCCC-AABB-4DEF-B9D0-61B5BEF3B8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587DA-108B-49BD-A51E-9E291CCC0D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DB846-79AA-4734-B1C5-C8E37BFA64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FE108-38A2-4D6C-AE78-A100752AEA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DE60A-99E0-43CD-A8C8-73C95ADA1C3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D18B3-885E-4ED6-864F-4208EF6DBE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C8330-B1F6-422F-8C6A-0F3F11CDBC7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A8786-FE14-4328-89F1-B80EF8F1D1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18B43-295C-449C-86BA-C82FA1214C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0F59C-13A5-4A2E-A966-DC6E26A6C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B35A-DA43-40A9-BE60-B9999CD2B7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5C79E-8D0D-4C09-9F2B-CC7FAE438C3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E9D8C-A83C-4B7C-97CB-B11B20EE80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D49F8-C620-40DD-921A-B908515ED8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9F46-A914-40BE-976F-85548F758F3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4E0A-1BD1-4C2B-9079-72478793384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C7A61-3205-44AD-AF9E-2963E26C1F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F759-AFA1-488E-AD65-D935F3CD73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D7C6-393B-493C-A497-0B7CFFE8B2A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DE75-2EBD-46AF-A069-F20B02046B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1AB5-B0AB-4C0A-8A0A-3D69F1581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9285-587A-493C-81DE-A02D76AF12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C804-F510-443E-AC9C-F4D53D34B7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2461-3DCC-47A5-B9B1-C3CFA7D0D3F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C3BE-AC39-4064-86C2-76E2A49C9E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C63E-A022-4663-BAEB-B2CACC7B7C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AD5D3-2750-49A9-9595-C80F111EB5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411AA-A7E9-477D-998C-A816CA7FA2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59D922-9D6A-4586-9F87-B4AAEA8309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F9F6C-E8F9-4CED-A309-72CA7A51EF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1EBF41-4B62-46C6-A432-83267259011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740D6-B3C8-44F5-8AFC-33D648795E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F2D2-DFD9-4BCE-AB77-9F952895F8B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2501DD-E9D3-407E-AB8B-FDC9035E7DF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B8FE3A-9586-4D49-99C2-9FB579B009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1F934F-BD33-4C3D-B181-A2769CB654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87CDD-5BCF-4549-8C8D-AC19043F76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291D5-0E28-47B6-842C-3EBCAFCDC54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CE904A-DCA0-4252-8F20-810460E6B5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C49AF-79DF-450E-9A86-8B1A92495E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5537F-430E-4D8A-92A3-20CAF9B4AC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05FF7-772A-416C-8B66-FED6DBA48A0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BAB8D-4CF2-4539-BD56-AB0AD5BB0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F1C0-EF8E-47EC-90E2-91F6C4FF0F5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8BBC7-7F0B-45A1-B14C-353F612CA08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E8FB0-741A-4316-ACF0-E997B069CF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BB200-BA88-464E-8372-FA9D401D357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17855-D011-4A0D-9784-260F0D31898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DCE09-2203-4240-8F51-0E50D0B56D7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E3440-99C4-4541-9AE0-9A4B1930BF2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847E6-8D3A-4056-A7AF-1666BDCE891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04E53-AE7F-467C-998A-31CC6E8C3DB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821BE-C331-4A28-9EC1-6924D832567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D68F-23F0-4C06-808B-3763EBC83E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8994-ABAE-4E5D-9395-F599972EBA2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44FBD-4FB9-4853-8B65-B16A417DCDB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F396-2309-46CA-A307-30B63460A83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598A-C33C-4B2F-B1A4-86B11CBE470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28D1-7C77-49AF-8914-147F3BFF523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1754-C600-4923-B8FF-80B9581720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BD1FD-0EB8-4719-A830-DF2295C34EB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9DF7-C3ED-4FB2-A7F2-0CECE19797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8811-28F0-4B29-9963-D7FBE72562A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FA77-D5C7-4095-A294-37EE498D39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C62B0-85FF-45A3-8D00-D9DEAC3942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0A24-9389-4159-8C9C-AB7F31BC174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9CB97-C1B6-4F24-B232-2C851B9B3F1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1A40E9-9E16-462D-A564-105D467AEDE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7579F-159A-45B5-AE0B-E91891E34B7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47C50-1232-4804-9261-7878BAF3007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74C3CE-EDC6-47E5-8638-C625757ED46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A3A59-29AE-4F8A-9184-7C7C73A3824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E303A-CCC8-45D1-A518-37B9663A2C4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C7D592-38BD-4B43-A496-C7F47291755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0545F0-641D-4D68-95CF-BEF41B699CB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65E86-28B0-48C8-A03C-CB16FCADBE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9E3C-6795-4D01-A580-776B1979F9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F7B54-FA46-440B-B977-7DE3FA62FC2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661C1-A417-448B-B546-62DCCFFDDAB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2D72CC-AAB1-4023-B5D4-07F65B214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7493-322F-4BE5-8FAC-3718B212C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4C1B-771C-4C87-816B-00C8B7A485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151E-5068-4790-A616-12C1B4B446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3A10-A4E6-4F85-A492-135274824E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E77E-22DD-43AD-9CC1-BD907A2FE2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98FC-38AA-4F47-83BF-2EC3E29B81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C0F-1875-49EA-B501-B1460FA15B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AA4-5FE5-4345-B81C-504D0C60F0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53E-CD8B-4318-8F4E-C09346267F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D5A-EB49-498D-B3B0-6D6127D2DC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468-7366-4474-B0BF-193836E96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ACE6-EDAC-48F2-AF4D-00970CC3F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478-76B8-4D44-8004-AD2A06DFC8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28F-A17E-40D9-8D22-9B44C8BB84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A7D-5918-43A4-8744-B7292D3BDE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BC0-FB91-4527-B829-74DBDE8A91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D41-F4BF-42F8-AC2C-A9D5128E99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D2F-D551-4B7D-A08B-219DB77B69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1C7-88F6-4D11-88A7-01AB0E9DF4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42F86-DED1-4C64-80EE-7B176843EC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5C8F5-A879-4571-AF5B-A54055C1DB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A17F-BA08-4DB6-9167-92AB3E6FF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414C-7736-460B-B506-639B765D25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400E9-2C7D-4F47-8877-200288A8CF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9380E-CA2C-4736-8088-365FECC739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961C-FDA2-4FF3-848A-77AD1C5B58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2E71-8CA3-42D8-A4AB-FFB38046A1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72095-9F9D-4A82-B85B-EE25250602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871AD-AA8C-40F3-908D-2A121B63D7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7128A-CEC2-4FEA-BE89-50FC427ABF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AD336-3826-4AC2-B416-B21B359DE8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C726-2214-472F-898F-A9E5B17945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F797-25F5-4C63-AF5C-B4626BB9A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CD9B-A9F8-4DE3-836D-40B8206ED6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5AAFF-F1DE-4865-BA4B-8D7D5A9C66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FE41-7778-48F3-BEC6-51604CA6D1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EB635-834D-4B91-91CF-EBA7901AB4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B1CED-0B33-40D0-A4E3-894C67C1B2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E86D-422A-4375-BF90-28719816F42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1B3E0-F5F3-4730-A0F2-F135EBDBD6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35FC9-A866-472D-B7E4-0D916CD613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6F8C-AF29-4C4D-B91E-BEB833EBA1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872D2-E226-49D2-8A6C-B88DBFE590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0E25A-6B88-457F-A1CF-3D5AC03D8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A5C9-8F95-4351-A16A-28D9176064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46504-AE86-4756-B9AF-B3D44D44AF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6D9B-9728-4B11-83FF-C5C02933E0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69A-573A-4F11-96A2-D5B485EEFB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EA57-2AB5-4A05-9F9C-D3AA679B38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C7B5-8A5A-4604-8DE5-6D5D7AFF1CD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5FAE-994D-4823-AC2E-45F261AD63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6277-040D-47EA-BE80-A03BB298DD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1E2C-FC7C-437C-B380-6EC832D36E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4AE9-AFA5-423C-BBDA-79CC50FC4B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F385-5047-4BE3-B40E-96A343EAF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E360-35F6-4C97-8D2D-93A449C8FA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28EA-19E1-4B7D-8332-21B6B9A60D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DB1-FB13-44AF-BB04-0F7E1ECD0B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8540-1CC2-4B25-93E2-0FF29A1DF5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7F93C-9A72-4881-9DC6-E416803A95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993C9-CAB6-4C33-A140-83267EA892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7B3B9-557D-4931-A2F1-4B8A272142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F6995-2E7F-458D-81BD-FFD31F220C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46DD4-491C-4CF6-A4A1-FFCEFFBFAC6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96EC5B-7BDE-44BE-AC9D-C8869AE821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333D5-FD3A-4F6A-82E3-EFF882AB5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703F-02B4-49EE-AC05-C545C8D46C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7A6DA-36D8-4AA0-895F-EB688A84FA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5F1D8-3058-441E-A0F2-B9B949FCFF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32306-904B-4A8E-9A5E-12ADDEDC85D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38525-303E-464B-A2C2-4A03CD4F0C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57BEB-D939-4003-BFD7-DF228A52D5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3303B-B074-4979-B4B1-6843E4E3CC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0363C-3978-46AD-94A9-820F9BBCD7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3DB59-3F40-463C-8E07-F8D62342C3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0B557-1D55-47A7-9CF9-78EAAC228EA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A43CF-6343-4FCA-B1FB-0B8A3344E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74C7-6864-4A66-98C6-731BA66F103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AC49F-C48B-4578-A86D-29CE73C76E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ED872-372B-46EA-A997-42F51158BAF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42EBA-A3B3-4632-B326-7DF5438856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6E225-3AAD-4B89-B275-3115CFA1E17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A7D29-ECA0-405F-B75E-2892BA93B0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896F3-B85B-443C-B53F-9D72026A65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58AE4-FBE1-408A-A877-AF05A943ED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125B-8765-4C1C-8EBE-B78971D207D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B648-09D9-42B1-8D90-E8D6FBD84B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A33B-120B-4FA3-BC92-807E07C5C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675DCB-3653-4D1F-B316-D1DF762B1E3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53E049-4D2D-4E45-9500-24A9F816640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C2DA4D-6CCB-4AC0-B15A-1CE2031DD98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F3E3EE-28E6-45B8-903D-AD520F9B4A0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E4932E-13B6-41D6-97B0-1890C47430A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56E5ED-93CE-4DAD-9ED5-93BFBEC269B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8CF3E5-74B3-4FA0-9AB7-BCEA469C5D7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93EED1-D898-438C-8062-A1CF08E617A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DCD3F8-BC78-4FF8-919C-F536E043DBE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205B8E-A37D-437D-B1AD-079E094071E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4157E5-4506-45DD-BAC5-04C205DA02B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79A516C-4641-4043-9611-A614CC1D8C7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FCB718-83E9-436D-93A1-90BE3B8918F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21D110-CDF9-426C-B6E2-E9BF46A773C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8C2630-339E-460B-BD6E-6B36010DBDF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13CBF8-0021-40B8-8C82-0AD890ED144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45A0-4C16-408F-8E73-BF99AEB3512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386080" y="595440"/>
            <a:ext cx="628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3. ESTUDIO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11280" y="1197000"/>
            <a:ext cx="7218000" cy="1723680"/>
            <a:chOff x="611280" y="1197000"/>
            <a:chExt cx="7218000" cy="1723680"/>
          </a:xfrm>
        </p:grpSpPr>
        <p:grpSp>
          <p:nvGrpSpPr>
            <p:cNvPr id="1054" name=""/>
            <p:cNvGrpSpPr/>
            <p:nvPr/>
          </p:nvGrpSpPr>
          <p:grpSpPr>
            <a:xfrm>
              <a:off x="1548000" y="2058840"/>
              <a:ext cx="6281280" cy="861840"/>
              <a:chOff x="1548000" y="2058840"/>
              <a:chExt cx="6281280" cy="861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1548000" y="205884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594440" y="2149560"/>
                <a:ext cx="61884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1. IMPORTANCIA DE CONSIDERAR A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ECONÓMICO EN SU CONJU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611280" y="1197000"/>
              <a:ext cx="936720" cy="1584360"/>
              <a:chOff x="611280" y="1197000"/>
              <a:chExt cx="936720" cy="1584360"/>
            </a:xfrm>
          </p:grpSpPr>
          <p:sp>
            <p:nvSpPr>
              <p:cNvPr id="1058" name=""/>
              <p:cNvSpPr/>
              <p:nvPr/>
            </p:nvSpPr>
            <p:spPr>
              <a:xfrm flipV="1">
                <a:off x="611280" y="18446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1280" y="11970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611280" y="1989000"/>
            <a:ext cx="7200360" cy="1799640"/>
            <a:chOff x="611280" y="1989000"/>
            <a:chExt cx="7200360" cy="1799640"/>
          </a:xfrm>
        </p:grpSpPr>
        <p:grpSp>
          <p:nvGrpSpPr>
            <p:cNvPr id="1061" name=""/>
            <p:cNvGrpSpPr/>
            <p:nvPr/>
          </p:nvGrpSpPr>
          <p:grpSpPr>
            <a:xfrm>
              <a:off x="1548000" y="2997000"/>
              <a:ext cx="6263640" cy="791640"/>
              <a:chOff x="1548000" y="2997000"/>
              <a:chExt cx="6263640" cy="791640"/>
            </a:xfrm>
          </p:grpSpPr>
          <p:sp>
            <p:nvSpPr>
              <p:cNvPr id="1062" name=""/>
              <p:cNvSpPr/>
              <p:nvPr/>
            </p:nvSpPr>
            <p:spPr>
              <a:xfrm>
                <a:off x="1548000" y="299700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594080" y="3054600"/>
                <a:ext cx="617112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2. VENTAJAS DE LA INVESTIGACIÓN P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SECTORES ECONÓ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11280" y="1989000"/>
              <a:ext cx="936720" cy="1583280"/>
              <a:chOff x="611280" y="1989000"/>
              <a:chExt cx="936720" cy="1583280"/>
            </a:xfrm>
          </p:grpSpPr>
          <p:sp>
            <p:nvSpPr>
              <p:cNvPr id="1065" name=""/>
              <p:cNvSpPr/>
              <p:nvPr/>
            </p:nvSpPr>
            <p:spPr>
              <a:xfrm flipV="1">
                <a:off x="611280" y="263556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11280" y="198900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"/>
          <p:cNvGrpSpPr/>
          <p:nvPr/>
        </p:nvGrpSpPr>
        <p:grpSpPr>
          <a:xfrm>
            <a:off x="611280" y="2781360"/>
            <a:ext cx="7200360" cy="1799640"/>
            <a:chOff x="611280" y="2781360"/>
            <a:chExt cx="7200360" cy="1799640"/>
          </a:xfrm>
        </p:grpSpPr>
        <p:grpSp>
          <p:nvGrpSpPr>
            <p:cNvPr id="1068" name=""/>
            <p:cNvGrpSpPr/>
            <p:nvPr/>
          </p:nvGrpSpPr>
          <p:grpSpPr>
            <a:xfrm>
              <a:off x="1548000" y="3789360"/>
              <a:ext cx="6263640" cy="791640"/>
              <a:chOff x="1548000" y="3789360"/>
              <a:chExt cx="6263640" cy="791640"/>
            </a:xfrm>
          </p:grpSpPr>
          <p:sp>
            <p:nvSpPr>
              <p:cNvPr id="1069" name=""/>
              <p:cNvSpPr/>
              <p:nvPr/>
            </p:nvSpPr>
            <p:spPr>
              <a:xfrm>
                <a:off x="1548000" y="3789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94080" y="3846960"/>
                <a:ext cx="617112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.3.1.3. EVALUACIÓN DEL COMPORTAMIEN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FISCAL DEL S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611280" y="2781360"/>
              <a:ext cx="936720" cy="1583280"/>
              <a:chOff x="611280" y="2781360"/>
              <a:chExt cx="936720" cy="1583280"/>
            </a:xfrm>
          </p:grpSpPr>
          <p:sp>
            <p:nvSpPr>
              <p:cNvPr id="1072" name=""/>
              <p:cNvSpPr/>
              <p:nvPr/>
            </p:nvSpPr>
            <p:spPr>
              <a:xfrm flipV="1">
                <a:off x="611280" y="3427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11280" y="2781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250920" y="1413000"/>
            <a:ext cx="5833440" cy="531720"/>
            <a:chOff x="250920" y="1413000"/>
            <a:chExt cx="5833440" cy="531720"/>
          </a:xfrm>
        </p:grpSpPr>
        <p:sp>
          <p:nvSpPr>
            <p:cNvPr id="1075" name=""/>
            <p:cNvSpPr/>
            <p:nvPr/>
          </p:nvSpPr>
          <p:spPr>
            <a:xfrm>
              <a:off x="250920" y="1413000"/>
              <a:ext cx="5833440" cy="5317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6720" y="1450800"/>
              <a:ext cx="5726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.1. FINA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11280" y="3573360"/>
            <a:ext cx="7200360" cy="1799640"/>
            <a:chOff x="611280" y="3573360"/>
            <a:chExt cx="7200360" cy="1799640"/>
          </a:xfrm>
        </p:grpSpPr>
        <p:grpSp>
          <p:nvGrpSpPr>
            <p:cNvPr id="1078" name=""/>
            <p:cNvGrpSpPr/>
            <p:nvPr/>
          </p:nvGrpSpPr>
          <p:grpSpPr>
            <a:xfrm>
              <a:off x="1548000" y="4581360"/>
              <a:ext cx="6263640" cy="791640"/>
              <a:chOff x="1548000" y="4581360"/>
              <a:chExt cx="6263640" cy="791640"/>
            </a:xfrm>
          </p:grpSpPr>
          <p:sp>
            <p:nvSpPr>
              <p:cNvPr id="1079" name=""/>
              <p:cNvSpPr/>
              <p:nvPr/>
            </p:nvSpPr>
            <p:spPr>
              <a:xfrm>
                <a:off x="1548000" y="4581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594080" y="4815720"/>
                <a:ext cx="61711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8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4. LOCALIZACIÓN DE COMPARA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611280" y="3573360"/>
              <a:ext cx="936720" cy="1583280"/>
              <a:chOff x="611280" y="3573360"/>
              <a:chExt cx="936720" cy="1583280"/>
            </a:xfrm>
          </p:grpSpPr>
          <p:sp>
            <p:nvSpPr>
              <p:cNvPr id="1082" name=""/>
              <p:cNvSpPr/>
              <p:nvPr/>
            </p:nvSpPr>
            <p:spPr>
              <a:xfrm flipV="1">
                <a:off x="611280" y="4219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1280" y="3573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611280" y="4221000"/>
            <a:ext cx="7200360" cy="2138400"/>
            <a:chOff x="611280" y="4221000"/>
            <a:chExt cx="7200360" cy="2138400"/>
          </a:xfrm>
        </p:grpSpPr>
        <p:grpSp>
          <p:nvGrpSpPr>
            <p:cNvPr id="1085" name=""/>
            <p:cNvGrpSpPr/>
            <p:nvPr/>
          </p:nvGrpSpPr>
          <p:grpSpPr>
            <a:xfrm>
              <a:off x="1548000" y="5409360"/>
              <a:ext cx="6263640" cy="950040"/>
              <a:chOff x="1548000" y="5409360"/>
              <a:chExt cx="6263640" cy="950040"/>
            </a:xfrm>
          </p:grpSpPr>
          <p:sp>
            <p:nvSpPr>
              <p:cNvPr id="1086" name=""/>
              <p:cNvSpPr/>
              <p:nvPr/>
            </p:nvSpPr>
            <p:spPr>
              <a:xfrm>
                <a:off x="1548000" y="5416920"/>
                <a:ext cx="6263640" cy="937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594080" y="5409360"/>
                <a:ext cx="6171120" cy="9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5. IMPORTANCIA DE SU UTILIZACIÓN CO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HERRAMIENTA DE CONTROL Y SELEC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           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DE CASOS A FISCALIZ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611280" y="4221000"/>
              <a:ext cx="936720" cy="1877760"/>
              <a:chOff x="611280" y="4221000"/>
              <a:chExt cx="936720" cy="1877760"/>
            </a:xfrm>
          </p:grpSpPr>
          <p:sp>
            <p:nvSpPr>
              <p:cNvPr id="1089" name=""/>
              <p:cNvSpPr/>
              <p:nvPr/>
            </p:nvSpPr>
            <p:spPr>
              <a:xfrm flipV="1">
                <a:off x="611280" y="4988520"/>
                <a:ext cx="936720" cy="111024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1110240"/>
                  <a:gd name="textAreaBottom" fmla="*/ 1110960 h 111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11280" y="4221000"/>
                <a:ext cx="287280" cy="111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24000" y="2235240"/>
            <a:ext cx="8351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IMPLEMENTACIÓN DE PRECIOS DE TRANSFERENCIA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Arial"/>
              </a:rPr>
              <a:t>EN LAADMINISTRACIÓN TRIBU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324000" y="1305000"/>
            <a:ext cx="6192360" cy="683640"/>
            <a:chOff x="324000" y="1305000"/>
            <a:chExt cx="6192360" cy="683640"/>
          </a:xfrm>
        </p:grpSpPr>
        <p:sp>
          <p:nvSpPr>
            <p:cNvPr id="862" name=""/>
            <p:cNvSpPr/>
            <p:nvPr/>
          </p:nvSpPr>
          <p:spPr>
            <a:xfrm>
              <a:off x="324000" y="1305000"/>
              <a:ext cx="6192360" cy="68364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3040" y="141660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703440" y="2565360"/>
            <a:ext cx="934920" cy="1008000"/>
          </a:xfrm>
          <a:custGeom>
            <a:avLst/>
            <a:gdLst>
              <a:gd name="textAreaLeft" fmla="*/ 0 w 934920"/>
              <a:gd name="textAreaRight" fmla="*/ 935280 w 934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826920" y="1915920"/>
            <a:ext cx="7218000" cy="1148760"/>
            <a:chOff x="826920" y="1915920"/>
            <a:chExt cx="7218000" cy="1148760"/>
          </a:xfrm>
        </p:grpSpPr>
        <p:grpSp>
          <p:nvGrpSpPr>
            <p:cNvPr id="866" name=""/>
            <p:cNvGrpSpPr/>
            <p:nvPr/>
          </p:nvGrpSpPr>
          <p:grpSpPr>
            <a:xfrm>
              <a:off x="1763640" y="2203200"/>
              <a:ext cx="6281280" cy="861480"/>
              <a:chOff x="1763640" y="2203200"/>
              <a:chExt cx="6281280" cy="861480"/>
            </a:xfrm>
          </p:grpSpPr>
          <p:sp>
            <p:nvSpPr>
              <p:cNvPr id="867" name=""/>
              <p:cNvSpPr/>
              <p:nvPr/>
            </p:nvSpPr>
            <p:spPr>
              <a:xfrm>
                <a:off x="1763640" y="2203200"/>
                <a:ext cx="6281280" cy="86148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810080" y="2332080"/>
                <a:ext cx="618840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. DIAGNÓSTICO DE DEBILIDADES Y FORTALEZAS DE LA ADMINISTRACION TRIBUTA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 flipV="1">
              <a:off x="826920" y="1915560"/>
              <a:ext cx="936720" cy="93636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-360 h 936360"/>
                <a:gd name="textAreaBottom" fmla="*/ 9363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826920" y="2133720"/>
            <a:ext cx="7200720" cy="1871280"/>
            <a:chOff x="826920" y="2133720"/>
            <a:chExt cx="7200720" cy="1871280"/>
          </a:xfrm>
        </p:grpSpPr>
        <p:grpSp>
          <p:nvGrpSpPr>
            <p:cNvPr id="871" name=""/>
            <p:cNvGrpSpPr/>
            <p:nvPr/>
          </p:nvGrpSpPr>
          <p:grpSpPr>
            <a:xfrm>
              <a:off x="1763640" y="3213000"/>
              <a:ext cx="6264000" cy="792000"/>
              <a:chOff x="1763640" y="3213000"/>
              <a:chExt cx="6264000" cy="792000"/>
            </a:xfrm>
          </p:grpSpPr>
          <p:sp>
            <p:nvSpPr>
              <p:cNvPr id="872" name=""/>
              <p:cNvSpPr/>
              <p:nvPr/>
            </p:nvSpPr>
            <p:spPr>
              <a:xfrm>
                <a:off x="1763640" y="3213000"/>
                <a:ext cx="6264000" cy="7920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09720" y="3306600"/>
                <a:ext cx="61714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. OPERATIVOS DE DIFUSIÓN Y RECOLECCIÓN DE INFORMACIÓN INTERNA Y 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826920" y="2133720"/>
              <a:ext cx="936720" cy="1728720"/>
              <a:chOff x="826920" y="2133720"/>
              <a:chExt cx="936720" cy="1728720"/>
            </a:xfrm>
          </p:grpSpPr>
          <p:sp>
            <p:nvSpPr>
              <p:cNvPr id="875" name=""/>
              <p:cNvSpPr/>
              <p:nvPr/>
            </p:nvSpPr>
            <p:spPr>
              <a:xfrm flipV="1">
                <a:off x="826920" y="292572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6920" y="213372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826920" y="3214800"/>
            <a:ext cx="7200720" cy="1799640"/>
            <a:chOff x="826920" y="3214800"/>
            <a:chExt cx="7200720" cy="1799640"/>
          </a:xfrm>
        </p:grpSpPr>
        <p:grpSp>
          <p:nvGrpSpPr>
            <p:cNvPr id="878" name=""/>
            <p:cNvGrpSpPr/>
            <p:nvPr/>
          </p:nvGrpSpPr>
          <p:grpSpPr>
            <a:xfrm>
              <a:off x="1763640" y="4149720"/>
              <a:ext cx="6264000" cy="864720"/>
              <a:chOff x="1763640" y="4149720"/>
              <a:chExt cx="6264000" cy="864720"/>
            </a:xfrm>
          </p:grpSpPr>
          <p:sp>
            <p:nvSpPr>
              <p:cNvPr id="879" name=""/>
              <p:cNvSpPr/>
              <p:nvPr/>
            </p:nvSpPr>
            <p:spPr>
              <a:xfrm>
                <a:off x="1763640" y="4149720"/>
                <a:ext cx="6264000" cy="864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09720" y="4283640"/>
                <a:ext cx="61714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 ESTRUCUTRA ADMINISTRATIVA. CREACIÓN DEL DEPARTAMENTO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826920" y="3214800"/>
              <a:ext cx="936720" cy="1584360"/>
              <a:chOff x="826920" y="3214800"/>
              <a:chExt cx="936720" cy="1584360"/>
            </a:xfrm>
          </p:grpSpPr>
          <p:sp>
            <p:nvSpPr>
              <p:cNvPr id="882" name=""/>
              <p:cNvSpPr/>
              <p:nvPr/>
            </p:nvSpPr>
            <p:spPr>
              <a:xfrm flipV="1">
                <a:off x="826920" y="38624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6920" y="32148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"/>
          <p:cNvGrpSpPr/>
          <p:nvPr/>
        </p:nvGrpSpPr>
        <p:grpSpPr>
          <a:xfrm>
            <a:off x="826920" y="4221000"/>
            <a:ext cx="7200720" cy="1801440"/>
            <a:chOff x="826920" y="4221000"/>
            <a:chExt cx="7200720" cy="1801440"/>
          </a:xfrm>
        </p:grpSpPr>
        <p:grpSp>
          <p:nvGrpSpPr>
            <p:cNvPr id="885" name=""/>
            <p:cNvGrpSpPr/>
            <p:nvPr/>
          </p:nvGrpSpPr>
          <p:grpSpPr>
            <a:xfrm>
              <a:off x="1763640" y="5157720"/>
              <a:ext cx="6264000" cy="864720"/>
              <a:chOff x="1763640" y="5157720"/>
              <a:chExt cx="6264000" cy="864720"/>
            </a:xfrm>
          </p:grpSpPr>
          <p:sp>
            <p:nvSpPr>
              <p:cNvPr id="886" name=""/>
              <p:cNvSpPr/>
              <p:nvPr/>
            </p:nvSpPr>
            <p:spPr>
              <a:xfrm>
                <a:off x="1763640" y="5157720"/>
                <a:ext cx="6264000" cy="864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09720" y="5418000"/>
                <a:ext cx="61714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. DICTADO DE NORMAS ADMINISTRATIV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826920" y="4221000"/>
              <a:ext cx="934920" cy="1576080"/>
              <a:chOff x="826920" y="4221000"/>
              <a:chExt cx="934920" cy="157608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826920" y="4887000"/>
                <a:ext cx="934920" cy="909720"/>
              </a:xfrm>
              <a:custGeom>
                <a:avLst/>
                <a:gdLst>
                  <a:gd name="textAreaLeft" fmla="*/ 0 w 934920"/>
                  <a:gd name="textAreaRight" fmla="*/ 935280 w 934920"/>
                  <a:gd name="textAreaTop" fmla="*/ -360 h 909720"/>
                  <a:gd name="textAreaBottom" fmla="*/ 909720 h 9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26920" y="422100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324000" y="1413000"/>
            <a:ext cx="7075080" cy="864720"/>
            <a:chOff x="324000" y="1413000"/>
            <a:chExt cx="7075080" cy="864720"/>
          </a:xfrm>
        </p:grpSpPr>
        <p:sp>
          <p:nvSpPr>
            <p:cNvPr id="892" name=""/>
            <p:cNvSpPr/>
            <p:nvPr/>
          </p:nvSpPr>
          <p:spPr>
            <a:xfrm>
              <a:off x="324000" y="1413000"/>
              <a:ext cx="70750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6200" y="1631160"/>
              <a:ext cx="69703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DICTADO DE NORMAS ADMINISTRATIV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971640" y="3068640"/>
            <a:ext cx="6313320" cy="1852560"/>
            <a:chOff x="971640" y="3068640"/>
            <a:chExt cx="6313320" cy="1852560"/>
          </a:xfrm>
        </p:grpSpPr>
        <p:grpSp>
          <p:nvGrpSpPr>
            <p:cNvPr id="895" name=""/>
            <p:cNvGrpSpPr/>
            <p:nvPr/>
          </p:nvGrpSpPr>
          <p:grpSpPr>
            <a:xfrm>
              <a:off x="1405080" y="3933720"/>
              <a:ext cx="5879880" cy="987480"/>
              <a:chOff x="1405080" y="3933720"/>
              <a:chExt cx="5879880" cy="987480"/>
            </a:xfrm>
          </p:grpSpPr>
          <p:pic>
            <p:nvPicPr>
              <p:cNvPr id="8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5080" y="3933720"/>
                <a:ext cx="58798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"/>
              <p:cNvSpPr/>
              <p:nvPr/>
            </p:nvSpPr>
            <p:spPr>
              <a:xfrm>
                <a:off x="1776240" y="4106520"/>
                <a:ext cx="494316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836360" y="4149720"/>
                <a:ext cx="469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33"/>
                    </a:solidFill>
                    <a:latin typeface="Arial"/>
                  </a:rPr>
                  <a:t>DISEÑO DE LOS APLICATIVOS INFORMÁT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971640" y="3068640"/>
              <a:ext cx="742680" cy="1440000"/>
              <a:chOff x="971640" y="3068640"/>
              <a:chExt cx="742680" cy="144000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971640" y="3860640"/>
                <a:ext cx="742680" cy="6480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971640" y="3068640"/>
                <a:ext cx="217440" cy="86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995400" y="4149720"/>
            <a:ext cx="6313320" cy="2138400"/>
            <a:chOff x="995400" y="4149720"/>
            <a:chExt cx="6313320" cy="2138400"/>
          </a:xfrm>
        </p:grpSpPr>
        <p:grpSp>
          <p:nvGrpSpPr>
            <p:cNvPr id="903" name=""/>
            <p:cNvGrpSpPr/>
            <p:nvPr/>
          </p:nvGrpSpPr>
          <p:grpSpPr>
            <a:xfrm>
              <a:off x="995400" y="4149720"/>
              <a:ext cx="742680" cy="1798920"/>
              <a:chOff x="995400" y="4149720"/>
              <a:chExt cx="742680" cy="179892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995400" y="5300640"/>
                <a:ext cx="742680" cy="6480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995400" y="4149720"/>
                <a:ext cx="217440" cy="129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428840" y="5300640"/>
              <a:ext cx="5879880" cy="987480"/>
              <a:chOff x="1428840" y="5300640"/>
              <a:chExt cx="5879880" cy="987480"/>
            </a:xfrm>
          </p:grpSpPr>
          <p:pic>
            <p:nvPicPr>
              <p:cNvPr id="9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8840" y="5300640"/>
                <a:ext cx="58798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1800000" y="5473440"/>
                <a:ext cx="494316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860120" y="5516640"/>
                <a:ext cx="46972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BASES DE DATOS RÉGIMEN DE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982800" y="2320920"/>
            <a:ext cx="6325560" cy="1395000"/>
            <a:chOff x="982800" y="2320920"/>
            <a:chExt cx="6325560" cy="1395000"/>
          </a:xfrm>
        </p:grpSpPr>
        <p:grpSp>
          <p:nvGrpSpPr>
            <p:cNvPr id="911" name=""/>
            <p:cNvGrpSpPr/>
            <p:nvPr/>
          </p:nvGrpSpPr>
          <p:grpSpPr>
            <a:xfrm>
              <a:off x="1416240" y="2752560"/>
              <a:ext cx="5892120" cy="963360"/>
              <a:chOff x="1416240" y="2752560"/>
              <a:chExt cx="5892120" cy="963360"/>
            </a:xfrm>
          </p:grpSpPr>
          <p:pic>
            <p:nvPicPr>
              <p:cNvPr id="9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6240" y="2752560"/>
                <a:ext cx="5892120" cy="96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3" name=""/>
              <p:cNvGrpSpPr/>
              <p:nvPr/>
            </p:nvGrpSpPr>
            <p:grpSpPr>
              <a:xfrm>
                <a:off x="1788120" y="2921040"/>
                <a:ext cx="4953600" cy="620280"/>
                <a:chOff x="1788120" y="2921040"/>
                <a:chExt cx="4953600" cy="620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788120" y="2921040"/>
                  <a:ext cx="4953600" cy="6199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806120" y="2937600"/>
                  <a:ext cx="470736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33"/>
                      </a:solidFill>
                      <a:latin typeface="Arial"/>
                    </a:rPr>
                    <a:t>OBLIGACIONES FORMALES: DDJJ COMPLEMENTARIAS Y ESTUDIO DE P.T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6" name=""/>
            <p:cNvGrpSpPr/>
            <p:nvPr/>
          </p:nvGrpSpPr>
          <p:grpSpPr>
            <a:xfrm>
              <a:off x="982800" y="2320920"/>
              <a:ext cx="739800" cy="1078920"/>
              <a:chOff x="982800" y="2320920"/>
              <a:chExt cx="739800" cy="107892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982800" y="2752560"/>
                <a:ext cx="739800" cy="64728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360 h 647280"/>
                  <a:gd name="textAreaBottom" fmla="*/ 64800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82800" y="2320920"/>
                <a:ext cx="217440" cy="57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1908000" y="476280"/>
            <a:ext cx="6192720" cy="684000"/>
            <a:chOff x="1908000" y="476280"/>
            <a:chExt cx="6192720" cy="684000"/>
          </a:xfrm>
        </p:grpSpPr>
        <p:sp>
          <p:nvSpPr>
            <p:cNvPr id="920" name=""/>
            <p:cNvSpPr/>
            <p:nvPr/>
          </p:nvSpPr>
          <p:spPr>
            <a:xfrm>
              <a:off x="1908000" y="476280"/>
              <a:ext cx="6192720" cy="68400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67040" y="588240"/>
              <a:ext cx="6079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24000" y="1413000"/>
            <a:ext cx="6263640" cy="864720"/>
            <a:chOff x="324000" y="1413000"/>
            <a:chExt cx="6263640" cy="864720"/>
          </a:xfrm>
        </p:grpSpPr>
        <p:sp>
          <p:nvSpPr>
            <p:cNvPr id="924" name=""/>
            <p:cNvSpPr/>
            <p:nvPr/>
          </p:nvSpPr>
          <p:spPr>
            <a:xfrm>
              <a:off x="324000" y="1413000"/>
              <a:ext cx="626364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0080" y="1546920"/>
              <a:ext cx="617112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Frutiger-Bold"/>
                </a:rPr>
                <a:t>      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RÉGIMEN INFORMATIVO DE OPERACIONES   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	</a:t>
              </a:r>
              <a:r>
                <a:rPr b="1" lang="en-GB" sz="1800" spc="-1" strike="noStrike">
                  <a:solidFill>
                    <a:srgbClr val="ffffff"/>
                  </a:solidFill>
                  <a:latin typeface="Frutiger-Bold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1042920" y="2997360"/>
            <a:ext cx="7058160" cy="3745440"/>
            <a:chOff x="1042920" y="2997360"/>
            <a:chExt cx="7058160" cy="3745440"/>
          </a:xfrm>
        </p:grpSpPr>
        <p:grpSp>
          <p:nvGrpSpPr>
            <p:cNvPr id="927" name=""/>
            <p:cNvGrpSpPr/>
            <p:nvPr/>
          </p:nvGrpSpPr>
          <p:grpSpPr>
            <a:xfrm>
              <a:off x="1474920" y="3513600"/>
              <a:ext cx="6626160" cy="3229200"/>
              <a:chOff x="1474920" y="3513600"/>
              <a:chExt cx="6626160" cy="3229200"/>
            </a:xfrm>
          </p:grpSpPr>
          <p:pic>
            <p:nvPicPr>
              <p:cNvPr id="9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4920" y="3513600"/>
                <a:ext cx="6626160" cy="32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>
                <a:off x="1846440" y="3879000"/>
                <a:ext cx="5605200" cy="23504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908360" y="3879000"/>
                <a:ext cx="5400720" cy="23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Frutiger-Bold"/>
                  </a:rPr>
                  <a:t>OPERACIONES ALCANZADAS POR PRECIOS DE TRANSFEREN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Empresas / Suje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Operaciones pac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Valores / Impor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Métodos de justificación de 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Países, incluídos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      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Frutiger-Bold"/>
                  </a:rPr>
                  <a:t>- Datos particulares de cada oper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042920" y="2997360"/>
              <a:ext cx="742680" cy="1467720"/>
              <a:chOff x="1042920" y="2997360"/>
              <a:chExt cx="742680" cy="146772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1042920" y="3804120"/>
                <a:ext cx="742680" cy="660600"/>
              </a:xfrm>
              <a:custGeom>
                <a:avLst/>
                <a:gdLst>
                  <a:gd name="textAreaLeft" fmla="*/ 0 w 742680"/>
                  <a:gd name="textAreaRight" fmla="*/ 743040 w 742680"/>
                  <a:gd name="textAreaTop" fmla="*/ -360 h 660600"/>
                  <a:gd name="textAreaBottom" fmla="*/ 660600 h 66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42920" y="2997360"/>
                <a:ext cx="217440" cy="88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1042920" y="2278080"/>
            <a:ext cx="7055640" cy="1466640"/>
            <a:chOff x="1042920" y="2278080"/>
            <a:chExt cx="7055640" cy="1466640"/>
          </a:xfrm>
        </p:grpSpPr>
        <p:grpSp>
          <p:nvGrpSpPr>
            <p:cNvPr id="935" name=""/>
            <p:cNvGrpSpPr/>
            <p:nvPr/>
          </p:nvGrpSpPr>
          <p:grpSpPr>
            <a:xfrm>
              <a:off x="1474560" y="2638440"/>
              <a:ext cx="6624000" cy="1106280"/>
              <a:chOff x="1474560" y="2638440"/>
              <a:chExt cx="6624000" cy="1106280"/>
            </a:xfrm>
          </p:grpSpPr>
          <p:pic>
            <p:nvPicPr>
              <p:cNvPr id="9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4560" y="2638440"/>
                <a:ext cx="6624000" cy="1106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7" name=""/>
              <p:cNvGrpSpPr/>
              <p:nvPr/>
            </p:nvGrpSpPr>
            <p:grpSpPr>
              <a:xfrm>
                <a:off x="1892520" y="2831760"/>
                <a:ext cx="5568840" cy="711720"/>
                <a:chOff x="1892520" y="2831760"/>
                <a:chExt cx="5568840" cy="7117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1892520" y="2831760"/>
                  <a:ext cx="5568840" cy="7117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12680" y="2850840"/>
                  <a:ext cx="529200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33"/>
                      </a:solidFill>
                      <a:latin typeface="Frutiger-Bold"/>
                    </a:rPr>
                    <a:t>IMPORTACIONES Y EXPORTACIONES ENTRE SUJETOS INDEPENDIE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0" name=""/>
            <p:cNvGrpSpPr/>
            <p:nvPr/>
          </p:nvGrpSpPr>
          <p:grpSpPr>
            <a:xfrm>
              <a:off x="1042920" y="2278080"/>
              <a:ext cx="739440" cy="1078920"/>
              <a:chOff x="1042920" y="2278080"/>
              <a:chExt cx="739440" cy="107892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1042920" y="2709720"/>
                <a:ext cx="739440" cy="64728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360 h 647280"/>
                  <a:gd name="textAreaBottom" fmla="*/ 64800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42920" y="2278080"/>
                <a:ext cx="217080" cy="57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"/>
          <p:cNvGrpSpPr/>
          <p:nvPr/>
        </p:nvGrpSpPr>
        <p:grpSpPr>
          <a:xfrm>
            <a:off x="1979640" y="476280"/>
            <a:ext cx="6192360" cy="684000"/>
            <a:chOff x="1979640" y="476280"/>
            <a:chExt cx="6192360" cy="684000"/>
          </a:xfrm>
        </p:grpSpPr>
        <p:sp>
          <p:nvSpPr>
            <p:cNvPr id="944" name=""/>
            <p:cNvSpPr/>
            <p:nvPr/>
          </p:nvSpPr>
          <p:spPr>
            <a:xfrm>
              <a:off x="1979640" y="476280"/>
              <a:ext cx="6192360" cy="68400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38680" y="58824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I. IMPLEMENTACIÓN ADMINIST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971640" y="1557360"/>
            <a:ext cx="7218000" cy="1723680"/>
            <a:chOff x="971640" y="1557360"/>
            <a:chExt cx="7218000" cy="1723680"/>
          </a:xfrm>
        </p:grpSpPr>
        <p:grpSp>
          <p:nvGrpSpPr>
            <p:cNvPr id="948" name=""/>
            <p:cNvGrpSpPr/>
            <p:nvPr/>
          </p:nvGrpSpPr>
          <p:grpSpPr>
            <a:xfrm>
              <a:off x="1908360" y="2419200"/>
              <a:ext cx="6281280" cy="861840"/>
              <a:chOff x="1908360" y="2419200"/>
              <a:chExt cx="6281280" cy="861840"/>
            </a:xfrm>
          </p:grpSpPr>
          <p:sp>
            <p:nvSpPr>
              <p:cNvPr id="949" name=""/>
              <p:cNvSpPr/>
              <p:nvPr/>
            </p:nvSpPr>
            <p:spPr>
              <a:xfrm>
                <a:off x="1908360" y="241920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954800" y="2672640"/>
                <a:ext cx="6188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1. ANÁLISIS PREV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971640" y="1557360"/>
              <a:ext cx="936720" cy="1584360"/>
              <a:chOff x="971640" y="1557360"/>
              <a:chExt cx="936720" cy="158436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971640" y="220500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71640" y="155736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971640" y="2565360"/>
            <a:ext cx="7200360" cy="1799640"/>
            <a:chOff x="971640" y="2565360"/>
            <a:chExt cx="7200360" cy="1799640"/>
          </a:xfrm>
        </p:grpSpPr>
        <p:grpSp>
          <p:nvGrpSpPr>
            <p:cNvPr id="955" name=""/>
            <p:cNvGrpSpPr/>
            <p:nvPr/>
          </p:nvGrpSpPr>
          <p:grpSpPr>
            <a:xfrm>
              <a:off x="1908360" y="3573360"/>
              <a:ext cx="6263640" cy="791640"/>
              <a:chOff x="1908360" y="3573360"/>
              <a:chExt cx="6263640" cy="791640"/>
            </a:xfrm>
          </p:grpSpPr>
          <p:sp>
            <p:nvSpPr>
              <p:cNvPr id="956" name=""/>
              <p:cNvSpPr/>
              <p:nvPr/>
            </p:nvSpPr>
            <p:spPr>
              <a:xfrm>
                <a:off x="1908360" y="3573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440" y="379332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2. FISC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971640" y="2565360"/>
              <a:ext cx="936720" cy="1583280"/>
              <a:chOff x="971640" y="2565360"/>
              <a:chExt cx="936720" cy="1583280"/>
            </a:xfrm>
          </p:grpSpPr>
          <p:sp>
            <p:nvSpPr>
              <p:cNvPr id="959" name=""/>
              <p:cNvSpPr/>
              <p:nvPr/>
            </p:nvSpPr>
            <p:spPr>
              <a:xfrm flipV="1">
                <a:off x="971640" y="3211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971640" y="2565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971640" y="3500280"/>
            <a:ext cx="7200360" cy="1799640"/>
            <a:chOff x="971640" y="3500280"/>
            <a:chExt cx="7200360" cy="1799640"/>
          </a:xfrm>
        </p:grpSpPr>
        <p:grpSp>
          <p:nvGrpSpPr>
            <p:cNvPr id="962" name=""/>
            <p:cNvGrpSpPr/>
            <p:nvPr/>
          </p:nvGrpSpPr>
          <p:grpSpPr>
            <a:xfrm>
              <a:off x="1908360" y="4508280"/>
              <a:ext cx="6263640" cy="791640"/>
              <a:chOff x="1908360" y="4508280"/>
              <a:chExt cx="6263640" cy="791640"/>
            </a:xfrm>
          </p:grpSpPr>
          <p:sp>
            <p:nvSpPr>
              <p:cNvPr id="963" name=""/>
              <p:cNvSpPr/>
              <p:nvPr/>
            </p:nvSpPr>
            <p:spPr>
              <a:xfrm>
                <a:off x="1908360" y="450828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954440" y="472824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 ESTUDIOS SECTORI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971640" y="3500280"/>
              <a:ext cx="936720" cy="1583280"/>
              <a:chOff x="971640" y="3500280"/>
              <a:chExt cx="936720" cy="1583280"/>
            </a:xfrm>
          </p:grpSpPr>
          <p:sp>
            <p:nvSpPr>
              <p:cNvPr id="966" name=""/>
              <p:cNvSpPr/>
              <p:nvPr/>
            </p:nvSpPr>
            <p:spPr>
              <a:xfrm flipV="1">
                <a:off x="971640" y="414684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71640" y="350028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971640" y="4437000"/>
            <a:ext cx="7200360" cy="1799640"/>
            <a:chOff x="971640" y="4437000"/>
            <a:chExt cx="7200360" cy="1799640"/>
          </a:xfrm>
        </p:grpSpPr>
        <p:grpSp>
          <p:nvGrpSpPr>
            <p:cNvPr id="969" name=""/>
            <p:cNvGrpSpPr/>
            <p:nvPr/>
          </p:nvGrpSpPr>
          <p:grpSpPr>
            <a:xfrm>
              <a:off x="1908360" y="5445000"/>
              <a:ext cx="6263640" cy="791640"/>
              <a:chOff x="1908360" y="5445000"/>
              <a:chExt cx="6263640" cy="791640"/>
            </a:xfrm>
          </p:grpSpPr>
          <p:sp>
            <p:nvSpPr>
              <p:cNvPr id="970" name=""/>
              <p:cNvSpPr/>
              <p:nvPr/>
            </p:nvSpPr>
            <p:spPr>
              <a:xfrm>
                <a:off x="1908360" y="544500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54440" y="566496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4. BASE INFORMÁ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971640" y="4437000"/>
              <a:ext cx="936720" cy="1583280"/>
              <a:chOff x="971640" y="4437000"/>
              <a:chExt cx="936720" cy="15832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971640" y="508356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971640" y="443700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324000" y="1341360"/>
            <a:ext cx="5760360" cy="674280"/>
            <a:chOff x="324000" y="1341360"/>
            <a:chExt cx="5760360" cy="674280"/>
          </a:xfrm>
        </p:grpSpPr>
        <p:sp>
          <p:nvSpPr>
            <p:cNvPr id="976" name=""/>
            <p:cNvSpPr/>
            <p:nvPr/>
          </p:nvSpPr>
          <p:spPr>
            <a:xfrm>
              <a:off x="324000" y="1341360"/>
              <a:ext cx="576036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79080" y="1449000"/>
              <a:ext cx="5655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324000" y="1484280"/>
            <a:ext cx="6119280" cy="864720"/>
            <a:chOff x="324000" y="1484280"/>
            <a:chExt cx="6119280" cy="864720"/>
          </a:xfrm>
        </p:grpSpPr>
        <p:sp>
          <p:nvSpPr>
            <p:cNvPr id="979" name=""/>
            <p:cNvSpPr/>
            <p:nvPr/>
          </p:nvSpPr>
          <p:spPr>
            <a:xfrm>
              <a:off x="324000" y="1484280"/>
              <a:ext cx="61192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9000" y="1702440"/>
              <a:ext cx="602892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1.  ANÁLISIS PREV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332000" y="3141720"/>
            <a:ext cx="6624000" cy="2014560"/>
            <a:chOff x="1332000" y="3141720"/>
            <a:chExt cx="6624000" cy="2014560"/>
          </a:xfrm>
        </p:grpSpPr>
        <p:grpSp>
          <p:nvGrpSpPr>
            <p:cNvPr id="982" name=""/>
            <p:cNvGrpSpPr/>
            <p:nvPr/>
          </p:nvGrpSpPr>
          <p:grpSpPr>
            <a:xfrm>
              <a:off x="1785240" y="3789360"/>
              <a:ext cx="6170760" cy="1366920"/>
              <a:chOff x="1785240" y="3789360"/>
              <a:chExt cx="6170760" cy="1366920"/>
            </a:xfrm>
          </p:grpSpPr>
          <p:pic>
            <p:nvPicPr>
              <p:cNvPr id="9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240" y="3789360"/>
                <a:ext cx="6170760" cy="13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4" name=""/>
              <p:cNvSpPr/>
              <p:nvPr/>
            </p:nvSpPr>
            <p:spPr>
              <a:xfrm>
                <a:off x="2175120" y="3962520"/>
                <a:ext cx="5187960" cy="9777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38480" y="4005360"/>
                <a:ext cx="4929480" cy="85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TUDIOS ECONÓMICOS-TRIBUTARIOS SECTORIALES PARA OPERACIONE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332000" y="3141720"/>
              <a:ext cx="779400" cy="1440000"/>
              <a:chOff x="1332000" y="3141720"/>
              <a:chExt cx="779400" cy="14400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1332000" y="3933720"/>
                <a:ext cx="779400" cy="64800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32000" y="3141720"/>
                <a:ext cx="228240" cy="86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1332000" y="2349360"/>
            <a:ext cx="6624000" cy="1395720"/>
            <a:chOff x="1332000" y="2349360"/>
            <a:chExt cx="6624000" cy="1395720"/>
          </a:xfrm>
        </p:grpSpPr>
        <p:grpSp>
          <p:nvGrpSpPr>
            <p:cNvPr id="990" name=""/>
            <p:cNvGrpSpPr/>
            <p:nvPr/>
          </p:nvGrpSpPr>
          <p:grpSpPr>
            <a:xfrm>
              <a:off x="1785600" y="2781360"/>
              <a:ext cx="6170400" cy="963720"/>
              <a:chOff x="1785600" y="2781360"/>
              <a:chExt cx="6170400" cy="963720"/>
            </a:xfrm>
          </p:grpSpPr>
          <p:pic>
            <p:nvPicPr>
              <p:cNvPr id="9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600" y="2781360"/>
                <a:ext cx="6170400" cy="96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92" name=""/>
              <p:cNvGrpSpPr/>
              <p:nvPr/>
            </p:nvGrpSpPr>
            <p:grpSpPr>
              <a:xfrm>
                <a:off x="2175120" y="2949840"/>
                <a:ext cx="5187600" cy="620280"/>
                <a:chOff x="2175120" y="2949840"/>
                <a:chExt cx="5187600" cy="6202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2175120" y="2949840"/>
                  <a:ext cx="5187600" cy="619920"/>
                </a:xfrm>
                <a:prstGeom prst="roundRect">
                  <a:avLst>
                    <a:gd name="adj" fmla="val 11250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5b9d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193840" y="2966400"/>
                  <a:ext cx="4929480" cy="60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NDIVIDUALIZACIÓN DE LOS SECTORES Y OPERACIONES DE ALTO RIES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5" name=""/>
            <p:cNvGrpSpPr/>
            <p:nvPr/>
          </p:nvGrpSpPr>
          <p:grpSpPr>
            <a:xfrm>
              <a:off x="1332000" y="2349360"/>
              <a:ext cx="774360" cy="1079280"/>
              <a:chOff x="1332000" y="2349360"/>
              <a:chExt cx="774360" cy="1079280"/>
            </a:xfrm>
          </p:grpSpPr>
          <p:sp>
            <p:nvSpPr>
              <p:cNvPr id="996" name=""/>
              <p:cNvSpPr/>
              <p:nvPr/>
            </p:nvSpPr>
            <p:spPr>
              <a:xfrm flipV="1">
                <a:off x="1332000" y="2780640"/>
                <a:ext cx="774360" cy="64764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-360 h 647640"/>
                  <a:gd name="textAreaBottom" fmla="*/ 64764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32000" y="2349360"/>
                <a:ext cx="227520" cy="57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"/>
          <p:cNvGrpSpPr/>
          <p:nvPr/>
        </p:nvGrpSpPr>
        <p:grpSpPr>
          <a:xfrm>
            <a:off x="2050920" y="476280"/>
            <a:ext cx="5760720" cy="674280"/>
            <a:chOff x="2050920" y="476280"/>
            <a:chExt cx="5760720" cy="674280"/>
          </a:xfrm>
        </p:grpSpPr>
        <p:sp>
          <p:nvSpPr>
            <p:cNvPr id="999" name=""/>
            <p:cNvSpPr/>
            <p:nvPr/>
          </p:nvSpPr>
          <p:spPr>
            <a:xfrm>
              <a:off x="205092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600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50920" y="1484280"/>
            <a:ext cx="6121080" cy="864720"/>
            <a:chOff x="250920" y="1484280"/>
            <a:chExt cx="6121080" cy="864720"/>
          </a:xfrm>
        </p:grpSpPr>
        <p:sp>
          <p:nvSpPr>
            <p:cNvPr id="1003" name=""/>
            <p:cNvSpPr/>
            <p:nvPr/>
          </p:nvSpPr>
          <p:spPr>
            <a:xfrm>
              <a:off x="250920" y="1484280"/>
              <a:ext cx="6121080" cy="864720"/>
            </a:xfrm>
            <a:prstGeom prst="roundRect">
              <a:avLst>
                <a:gd name="adj" fmla="val 16593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5920" y="1744560"/>
              <a:ext cx="6030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93000"/>
                </a:lnSpc>
                <a:spcBef>
                  <a:spcPts val="561"/>
                </a:spcBef>
                <a:spcAft>
                  <a:spcPts val="45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. FISC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900000" y="2349360"/>
            <a:ext cx="6624000" cy="2087280"/>
            <a:chOff x="900000" y="2349360"/>
            <a:chExt cx="6624000" cy="2087280"/>
          </a:xfrm>
        </p:grpSpPr>
        <p:grpSp>
          <p:nvGrpSpPr>
            <p:cNvPr id="1006" name=""/>
            <p:cNvGrpSpPr/>
            <p:nvPr/>
          </p:nvGrpSpPr>
          <p:grpSpPr>
            <a:xfrm>
              <a:off x="1352160" y="2708280"/>
              <a:ext cx="6171840" cy="1728360"/>
              <a:chOff x="1352160" y="2708280"/>
              <a:chExt cx="6171840" cy="1728360"/>
            </a:xfrm>
          </p:grpSpPr>
          <p:pic>
            <p:nvPicPr>
              <p:cNvPr id="10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2160" y="2708280"/>
                <a:ext cx="6171840" cy="17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8" name=""/>
              <p:cNvSpPr/>
              <p:nvPr/>
            </p:nvSpPr>
            <p:spPr>
              <a:xfrm>
                <a:off x="1740960" y="2932560"/>
                <a:ext cx="5189400" cy="121572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59680" y="2955960"/>
                <a:ext cx="4931280" cy="11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PUNTUAL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DE ALTO RIES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CON P.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900000" y="2349360"/>
              <a:ext cx="774360" cy="1079280"/>
              <a:chOff x="900000" y="2349360"/>
              <a:chExt cx="774360" cy="107928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900000" y="2780640"/>
                <a:ext cx="774360" cy="64764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-360 h 647640"/>
                  <a:gd name="textAreaBottom" fmla="*/ 64764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900000" y="2349360"/>
                <a:ext cx="227520" cy="57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900000" y="2852640"/>
            <a:ext cx="6624000" cy="3672000"/>
            <a:chOff x="900000" y="2852640"/>
            <a:chExt cx="6624000" cy="3672000"/>
          </a:xfrm>
        </p:grpSpPr>
        <p:grpSp>
          <p:nvGrpSpPr>
            <p:cNvPr id="1014" name=""/>
            <p:cNvGrpSpPr/>
            <p:nvPr/>
          </p:nvGrpSpPr>
          <p:grpSpPr>
            <a:xfrm>
              <a:off x="1353240" y="4292640"/>
              <a:ext cx="6170760" cy="2232000"/>
              <a:chOff x="1353240" y="4292640"/>
              <a:chExt cx="6170760" cy="2232000"/>
            </a:xfrm>
          </p:grpSpPr>
          <p:pic>
            <p:nvPicPr>
              <p:cNvPr id="10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3240" y="4292640"/>
                <a:ext cx="617076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6" name=""/>
              <p:cNvSpPr/>
              <p:nvPr/>
            </p:nvSpPr>
            <p:spPr>
              <a:xfrm>
                <a:off x="1743120" y="4465440"/>
                <a:ext cx="5187960" cy="16988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06480" y="4508280"/>
                <a:ext cx="492948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SECTORIAL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OPERACIONES CON P.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PÉRDIDAS RECURREN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	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Arial"/>
                  </a:rPr>
                  <a:t>-TRANSFERENCIA DE TECNOLOG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900000" y="2852640"/>
              <a:ext cx="779400" cy="2737080"/>
              <a:chOff x="900000" y="2852640"/>
              <a:chExt cx="779400" cy="2737080"/>
            </a:xfrm>
          </p:grpSpPr>
          <p:sp>
            <p:nvSpPr>
              <p:cNvPr id="1019" name=""/>
              <p:cNvSpPr/>
              <p:nvPr/>
            </p:nvSpPr>
            <p:spPr>
              <a:xfrm flipV="1">
                <a:off x="900000" y="4941720"/>
                <a:ext cx="779400" cy="64800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00000" y="2852640"/>
                <a:ext cx="226440" cy="216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1979640" y="476280"/>
            <a:ext cx="5760720" cy="674280"/>
            <a:chOff x="1979640" y="476280"/>
            <a:chExt cx="5760720" cy="674280"/>
          </a:xfrm>
        </p:grpSpPr>
        <p:sp>
          <p:nvSpPr>
            <p:cNvPr id="1022" name=""/>
            <p:cNvSpPr/>
            <p:nvPr/>
          </p:nvSpPr>
          <p:spPr>
            <a:xfrm>
              <a:off x="197964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3472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1979640" y="476280"/>
            <a:ext cx="5760720" cy="674280"/>
            <a:chOff x="1979640" y="476280"/>
            <a:chExt cx="5760720" cy="674280"/>
          </a:xfrm>
        </p:grpSpPr>
        <p:sp>
          <p:nvSpPr>
            <p:cNvPr id="1026" name=""/>
            <p:cNvSpPr/>
            <p:nvPr/>
          </p:nvSpPr>
          <p:spPr>
            <a:xfrm>
              <a:off x="1979640" y="476280"/>
              <a:ext cx="5760720" cy="67428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34720" y="583920"/>
              <a:ext cx="565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II. PROCESO DE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187280" y="1844640"/>
            <a:ext cx="7218000" cy="1723680"/>
            <a:chOff x="1187280" y="1844640"/>
            <a:chExt cx="7218000" cy="1723680"/>
          </a:xfrm>
        </p:grpSpPr>
        <p:grpSp>
          <p:nvGrpSpPr>
            <p:cNvPr id="1029" name=""/>
            <p:cNvGrpSpPr/>
            <p:nvPr/>
          </p:nvGrpSpPr>
          <p:grpSpPr>
            <a:xfrm>
              <a:off x="2124000" y="2706480"/>
              <a:ext cx="6281280" cy="861840"/>
              <a:chOff x="2124000" y="2706480"/>
              <a:chExt cx="6281280" cy="861840"/>
            </a:xfrm>
          </p:grpSpPr>
          <p:sp>
            <p:nvSpPr>
              <p:cNvPr id="1030" name=""/>
              <p:cNvSpPr/>
              <p:nvPr/>
            </p:nvSpPr>
            <p:spPr>
              <a:xfrm>
                <a:off x="2124000" y="2706480"/>
                <a:ext cx="6281280" cy="8618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70440" y="2959920"/>
                <a:ext cx="61884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1. FINALID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1187280" y="1844640"/>
              <a:ext cx="936720" cy="1584360"/>
              <a:chOff x="1187280" y="1844640"/>
              <a:chExt cx="936720" cy="1584360"/>
            </a:xfrm>
          </p:grpSpPr>
          <p:sp>
            <p:nvSpPr>
              <p:cNvPr id="1033" name=""/>
              <p:cNvSpPr/>
              <p:nvPr/>
            </p:nvSpPr>
            <p:spPr>
              <a:xfrm flipV="1">
                <a:off x="1187280" y="249228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360 h 936720"/>
                  <a:gd name="textAreaBottom" fmla="*/ 93744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87280" y="1844640"/>
                <a:ext cx="287280" cy="9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1187280" y="2924280"/>
            <a:ext cx="7200360" cy="1799640"/>
            <a:chOff x="1187280" y="2924280"/>
            <a:chExt cx="7200360" cy="1799640"/>
          </a:xfrm>
        </p:grpSpPr>
        <p:grpSp>
          <p:nvGrpSpPr>
            <p:cNvPr id="1036" name=""/>
            <p:cNvGrpSpPr/>
            <p:nvPr/>
          </p:nvGrpSpPr>
          <p:grpSpPr>
            <a:xfrm>
              <a:off x="2124000" y="3932280"/>
              <a:ext cx="6263640" cy="791640"/>
              <a:chOff x="2124000" y="3932280"/>
              <a:chExt cx="6263640" cy="791640"/>
            </a:xfrm>
          </p:grpSpPr>
          <p:sp>
            <p:nvSpPr>
              <p:cNvPr id="1037" name=""/>
              <p:cNvSpPr/>
              <p:nvPr/>
            </p:nvSpPr>
            <p:spPr>
              <a:xfrm>
                <a:off x="2124000" y="393228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70080" y="415224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2. METODOLOGÍA DE RE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1187280" y="2924280"/>
              <a:ext cx="936720" cy="1583280"/>
              <a:chOff x="1187280" y="2924280"/>
              <a:chExt cx="936720" cy="158328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1187280" y="357084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87280" y="292428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"/>
          <p:cNvGrpSpPr/>
          <p:nvPr/>
        </p:nvGrpSpPr>
        <p:grpSpPr>
          <a:xfrm>
            <a:off x="1187280" y="4005360"/>
            <a:ext cx="7200360" cy="1799640"/>
            <a:chOff x="1187280" y="4005360"/>
            <a:chExt cx="7200360" cy="1799640"/>
          </a:xfrm>
        </p:grpSpPr>
        <p:grpSp>
          <p:nvGrpSpPr>
            <p:cNvPr id="1043" name=""/>
            <p:cNvGrpSpPr/>
            <p:nvPr/>
          </p:nvGrpSpPr>
          <p:grpSpPr>
            <a:xfrm>
              <a:off x="2124000" y="5013360"/>
              <a:ext cx="6263640" cy="791640"/>
              <a:chOff x="2124000" y="5013360"/>
              <a:chExt cx="6263640" cy="791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124000" y="5013360"/>
                <a:ext cx="6263640" cy="7916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70080" y="5233320"/>
                <a:ext cx="61711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3.3. ANÁLISIS DE RATI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187280" y="4005360"/>
              <a:ext cx="936720" cy="1583280"/>
              <a:chOff x="1187280" y="4005360"/>
              <a:chExt cx="936720" cy="158328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1187280" y="4651920"/>
                <a:ext cx="936720" cy="93636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-360 h 936360"/>
                  <a:gd name="textAreaBottom" fmla="*/ 93636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187280" y="4005360"/>
                <a:ext cx="287280" cy="9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324000" y="1268280"/>
            <a:ext cx="6192360" cy="747360"/>
            <a:chOff x="324000" y="1268280"/>
            <a:chExt cx="6192360" cy="747360"/>
          </a:xfrm>
        </p:grpSpPr>
        <p:sp>
          <p:nvSpPr>
            <p:cNvPr id="1050" name=""/>
            <p:cNvSpPr/>
            <p:nvPr/>
          </p:nvSpPr>
          <p:spPr>
            <a:xfrm>
              <a:off x="324000" y="1268280"/>
              <a:ext cx="6192360" cy="7473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3040" y="1413000"/>
              <a:ext cx="6079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. ESTUDIOS SECTOR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2:19Z</dcterms:modified>
  <cp:revision>198</cp:revision>
  <dc:subject/>
  <dc:title>Diapositiva 1</dc:title>
</cp:coreProperties>
</file>