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3E6C-E07D-4C48-990A-8EEF7198A6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3A66-450D-476A-9B49-0E0C24392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08C3-033B-4F15-988A-32C70AB66A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6A67-EBA4-417B-ACE6-D681D9A93A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DFB0-48F1-460B-8FB8-01B0F2D023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B19B-52FF-4C27-BC78-5A491A5176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1DEA-FC32-46C5-A5B7-4ACDC4C8BB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8F8F-9648-4E3F-9223-6B0ECBE0A2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C899-FFDE-4F24-9262-7C3D897941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3ED3-BFB8-45C0-9AEF-A58CBEB3C9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A52E-2D2B-45DD-8CB6-4753341101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DBCB-8399-4A39-B621-8035BF2CE4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EABFD-1E5A-40BC-A591-70B6E7424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906B-F7F0-454B-A2EC-9D48559AF0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8E1FC-26B7-4D73-8D10-78318C73F3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B12E2-581A-46CF-8F50-90BF1BDFF2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36A53-52BC-49AA-B264-A664C6708A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18940-D45F-4202-AA72-CF02FB894F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9E7DF-C68F-415D-8A41-8653A0FC80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D816C-12E9-4106-9A68-3447B8D8DC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3DE44-8E25-4912-ADFB-8C7DFDBE02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922E4-87FE-49F1-B01B-E6A19D7B0F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A2AD2-47ED-4573-BC94-629207E4EA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7411D-07B6-4C29-8E3F-A08DEC38E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D62-EDC2-495A-B5AD-A4AA829DB0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3E255-AFFF-422C-A4AF-3BB6FFFCEB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07483-1DF1-4A57-814B-549EAF9D8B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6F9B1-DB1B-4677-AD68-606433C2D5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A3EC7-2025-44C5-B408-728F25D538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DE306-7A50-4A41-8670-76255364AE0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AA665-1F8F-434B-B79F-2EACFBFA63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A2428-DF92-4B45-87E9-6DEE709EBD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FE520-26FA-49A6-A277-13B18DB51C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B994E-B1F1-4182-A8BE-8F895AED9B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28CA5-9AA4-484E-B6AD-8600D1BBB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8B17-72CD-4FD0-A9D1-699D5C05EC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A0F94-B614-483D-BF75-ACA0F88B58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72DC1-79F1-4DBA-8A84-7D7E8B2829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02458-FEC5-4C05-A16E-A1C76F838D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BB27-CB39-4FEF-91A4-FD05FA34CE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DB55-503D-41A0-9E26-2002DB3D3B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7E92-EFB9-4D08-AAFE-06662483DD8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0B74-372B-4C84-8DE6-976E45B8F5F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E944-DFEF-4652-AEC9-D0754DDAA2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9539-EFA1-4A19-AD3A-01B6CAF0CD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6F62-A7E7-4B97-81B8-6A378830B8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EF13-20E1-4A4A-B426-09F8D01813D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0D61-E96E-48A4-8684-403399DFAF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7149-5150-4760-ABF3-B28FE330F0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1CE9-357A-4B4A-BBDE-9B76F0E308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E28D-CB59-4C1C-A7C1-189DC052D3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5B7E-5C59-4957-A514-8AF8F1793E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04599-FA3E-4F35-A2BE-A5A7D1C6EAF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B25FE-1D5E-4487-89D3-F2CE30CA0E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90F9C-DD3D-49B8-B1EE-2F5A6BF275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CBA57A-6922-4733-9EDC-F6FA5924FD3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B31AB-FA81-41C9-9B1D-EE3B434B3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730A-54E8-4E53-BC1B-4622548FED5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AA3FB-3710-41F7-8220-7968CE22351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42517-9981-4E6A-8672-2318BD79FB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B6CF6-3633-4884-95FF-7B7126DFB94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72D56A-ADAD-4E7C-AE2D-47027464EC9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FB220-A317-450C-BA3E-E269C30FD5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32E83-B0CC-436C-A223-70B4210CF2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54970-8A1B-419D-8340-4CC3B7D35A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2BE20-1051-4B4A-9AE0-0C06695D0E1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9D1EE-44D4-40DB-9C61-75F1D3E83DF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9783A-3AAA-44CA-A873-CA21C1D350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BDA9-7D2B-41DD-B674-C895B56E3C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82C6D-E028-4D32-B8EA-EF77135A220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B91CA-87A6-48A5-9CCB-515230346F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8D03A-26E1-4D5B-AF1D-3C8392263E3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0A0F5-D2DF-4216-A0EB-17AB53CBCB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FF39A-989E-4AE0-A96A-747324205F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E2EF3-0CE2-4FE8-84C1-F0B96080AA1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49720-179B-412D-A5B3-8A773EF1404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0F1C2-71F1-43EB-931F-6F9F53DD323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20B56-44F2-418A-BC63-442045C627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3533-2B25-4A84-BFBC-DB0619B9A2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78D5-C000-47C6-A97E-E72C47A3C9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C93C-E924-45A6-AEBB-69BC67B0A1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0BF0-6EFA-41AE-9850-ACB5A5E5C4F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9908-5E97-41AB-8CD9-5AC4F6C2307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2805-0D27-4AC6-893E-042DD9CCBD2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91F5-9941-43B5-8CA6-119157787B9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A2D6-268D-45C0-B80B-C898A614B4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B53B-BFAB-444F-8465-5EB34E7DD77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0CE0-C4EE-4ADC-8DBF-3840549454F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FBDC-4415-44A4-BC9A-0A0FCFA28AF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7E73-C96E-4ADF-84C6-9DA352A60B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570F-066C-4642-B70C-F11A1D27E8D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3F6E-A76C-411D-80FC-B89B890AE6F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2714B-4647-48A5-8B54-802DF1DA9C8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AF171-BF58-4B96-B6D4-0A86B74D71F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379B7-4EF6-4125-B3E4-EFEE7A4EB94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D3D8C-4496-4C10-BE8E-604C4959ECD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B88DF-17EC-4BCF-A1AC-95022176B2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4CC85-D37F-4E78-8928-70B30610038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73369-CD10-457E-9AC0-A47C28314F8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FB781D-26B9-4823-B294-997EF1364F3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E7FE1F-7150-4037-BE26-2BFF50354E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3467-20F3-471E-B007-78AFB0CC5F8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8D44F4-8B8F-40AD-9015-BC3BFFD9D5F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7BDDD-26FA-4ED0-9339-4B9B6F4B6B5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84AEA-C35C-4A73-81D5-D8E02EE2E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F7D1-659C-4A8C-9ECE-67BE13F6F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6504-20E8-4BDD-B613-9E134E422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E2EE-05F3-4AC2-8AD3-3168ED5D95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40E6-6191-4BC6-BCD1-77A224556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8F6A-73EF-416D-B5D2-31AE8D27D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5FAD-3DCE-40D4-878E-81CEA6E603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1ED-4BA1-479F-A143-283613DA43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DC6-9606-4151-98EB-3E18D77650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4F4-5B4B-4752-A053-78C40A159C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755-68BB-48DE-B872-83F201B91D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D11-68F1-42A4-B1B0-D8DE98ECF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DD80-0F2D-4A25-A7E5-742425427A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3AC-1D60-4089-A5A5-C468C215DF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7D0-0827-4A90-BDA9-F19F130562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FFD-DDCF-43FC-A94C-ACA8EAA035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F88-A1CA-4B58-8FD9-2B3DFEAB29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013-737C-4D2C-ACD4-879CD2B101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C53-0D59-4344-9BD4-8307E70184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49B-82AB-400A-973F-84190296F6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05345-4F61-47C7-B726-83AC00BFEE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9E623-EF11-43B0-8BDA-3707312EF9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D9C7B-8B4F-4443-A3C6-443CE1440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464E-F0CD-4F84-94A7-8A9D949B64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4486-B2AF-4BF4-9555-144F210D06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13CF-F297-4023-BA76-7ED9119DD7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4A1F-1E86-4B1E-BFA4-DBA6166816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9FC8-5E47-4231-BF40-BC6AF6DAEF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4CB6-30F2-4BDF-8542-FE365F83FA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F3A76-B777-4ECD-840C-941F82E7ED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7E30-1D22-487B-A1AD-74C1DF99EE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7621-0765-4982-81E7-82CE340689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39CD0-C529-4F64-95F0-6C5E7C3B5E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B36DF-66CB-447C-9C8C-B487F78C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FFFA-22E0-4413-9398-A643EBA036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225BB-7650-45C3-A427-E35B8C8D6C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71A8-03F1-4597-B478-D4929C3E66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9AF56-1E63-405D-92C1-650D0FF459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EDFE0-92BB-43ED-BE39-F6F61DF588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4629-447F-4C9A-B209-6684BD5C25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87BCC-55E3-45A5-AC9A-FD5FDFB19D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D0F95-3284-403B-A62F-A310F5961E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9CEE3-E6AA-48F1-980E-7689857416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EC1C-D80F-42CB-BE66-B99A49D8E8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1E6F5-0D5F-411D-92AD-98F91E36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22F4-EBC7-43B8-BE14-93558D0CF4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2AF6-C2B1-47C9-8AF0-A0C8A5228A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28E3-9151-4BBC-866F-7F6DA72F35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8A79-E168-4DB0-A213-BA40DC005C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134-4171-4AA4-9003-931D73A900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4D64-A747-49F0-A9CD-A36BED5172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C0BA-C449-4742-A84E-A6A0C1D25F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300-3AB9-4C48-AF39-D1AF44980B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050-E320-4A21-81A7-F94FA2F278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426B-C6B3-4644-AF87-9BEBA8D487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7D59-6AA8-4C0C-9077-234E04B2A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9999-614C-4124-B635-F810C0CFE8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A70C-96A2-4B48-A68E-99477E89FA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1E62-78E8-4C26-8F9B-572DE732C2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46E-2AF4-4B93-81D2-EEEA8F8D1B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99B24-BF4D-4918-A674-3DF028BDA6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09F63-C0B3-48B5-92BB-C38A33BE88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BF5C5-03CC-4D57-AC40-059D1FC866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E9275-5485-4804-9EC4-13AF7959BF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37004-C2DE-4BBE-AB29-EE72059731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26D45-A985-4015-9C3A-D68F8B50A8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2BB9A-5481-49E2-8920-C53D31E6C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E96C-4DDE-49A9-9283-D557D3BD1D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46E9F-0278-4E46-A119-CEAC9F242F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BF353-074D-4047-A40B-554A0B374E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9DBEC-0AF5-4984-A1A6-093EE5B819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3CBE4-0DBA-473F-BD78-DC0757D886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ABF39-E239-462B-A0F1-6C736D117B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BABB3-3F3A-4DDC-A70B-1DAE97C4FD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EBC02-EC51-48F4-A2C3-F0ED0CC5A6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EEE89-31B6-4FB2-A137-AA8AE120F8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69E05-04D0-4F2E-8E4E-A1D6B9A7B2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F55A2-4EAE-4E1B-B42B-B13A0167B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D053-A81C-4D06-90A0-E565484BC8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98550-A893-452F-B4D9-4350E2386D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48F3B-2698-4E88-939D-F98BDCAE16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CA4F5-EEF1-4EE7-8577-65C7318B4D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43003-2B25-4891-A038-CAE2C1B1D5C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A82E7-A702-46AA-9149-C9BA974980B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1E74B-F8A5-423F-82EE-AF5D213042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E4EF2-4976-4E5A-8203-267F9FB797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B7F4-D629-4AF1-B311-4C15FDFF07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D34E-B552-4691-A2A7-2AA09EC444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7466-E2F8-49D7-A263-0B874BB1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6B6240-8082-4EB2-89AF-10CAC04B4C0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480645-FE67-4195-99AE-8E3BD2F3DD9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4D14BB-F56B-4BC1-AF44-77F46B27A5A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A89EDD-3F80-4E63-8C81-9E9AC0CF4B5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66DAFA-8BAC-4369-AE71-1EBA34036E1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FF3422-6412-46AE-84BF-595651F3089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55114D-11A2-4E3A-8363-FD1603DC8B1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34F5E1-767B-43C1-8DB2-148496EC165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0CA738-5A24-474D-8F53-10C258568C2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F53800-8207-423D-8AAD-072B29F680C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F8B071-4E2B-413C-BD5A-BD64A84CFC0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5D7ECD-783F-4FB4-BBE4-D21A14A7C0F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F380F4-6B9F-4850-833C-36562C8DD72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67B45C-8F0F-41E7-824D-A686918BCFA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D8673F-C21F-4113-8713-C1214F1B5DE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37021F-EF63-427B-8908-4B80CA6CDF7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E2564-F672-4DA3-9CC8-2E72FEFF14C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386080" y="595440"/>
            <a:ext cx="628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. ESTUDIO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11280" y="1197000"/>
            <a:ext cx="7218000" cy="1723680"/>
            <a:chOff x="611280" y="1197000"/>
            <a:chExt cx="7218000" cy="1723680"/>
          </a:xfrm>
        </p:grpSpPr>
        <p:grpSp>
          <p:nvGrpSpPr>
            <p:cNvPr id="1054" name=""/>
            <p:cNvGrpSpPr/>
            <p:nvPr/>
          </p:nvGrpSpPr>
          <p:grpSpPr>
            <a:xfrm>
              <a:off x="1548000" y="2058840"/>
              <a:ext cx="6281280" cy="861840"/>
              <a:chOff x="1548000" y="2058840"/>
              <a:chExt cx="6281280" cy="861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1548000" y="205884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594440" y="2149560"/>
                <a:ext cx="61884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1. IMPORTANCIA DE CONSIDERAR A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ECONÓMICO EN SU CONJU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11280" y="1197000"/>
              <a:ext cx="936720" cy="1584360"/>
              <a:chOff x="611280" y="1197000"/>
              <a:chExt cx="936720" cy="158436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611280" y="18446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1280" y="1197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611280" y="1989000"/>
            <a:ext cx="7200360" cy="1799640"/>
            <a:chOff x="611280" y="1989000"/>
            <a:chExt cx="7200360" cy="1799640"/>
          </a:xfrm>
        </p:grpSpPr>
        <p:grpSp>
          <p:nvGrpSpPr>
            <p:cNvPr id="1061" name=""/>
            <p:cNvGrpSpPr/>
            <p:nvPr/>
          </p:nvGrpSpPr>
          <p:grpSpPr>
            <a:xfrm>
              <a:off x="1548000" y="2997000"/>
              <a:ext cx="6263640" cy="791640"/>
              <a:chOff x="1548000" y="2997000"/>
              <a:chExt cx="6263640" cy="791640"/>
            </a:xfrm>
          </p:grpSpPr>
          <p:sp>
            <p:nvSpPr>
              <p:cNvPr id="1062" name=""/>
              <p:cNvSpPr/>
              <p:nvPr/>
            </p:nvSpPr>
            <p:spPr>
              <a:xfrm>
                <a:off x="1548000" y="2997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594080" y="305460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2. VENTAJAS DE LA INVESTIGACIÓN P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SECTORES ECONÓ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11280" y="1989000"/>
              <a:ext cx="936720" cy="1583280"/>
              <a:chOff x="611280" y="1989000"/>
              <a:chExt cx="936720" cy="1583280"/>
            </a:xfrm>
          </p:grpSpPr>
          <p:sp>
            <p:nvSpPr>
              <p:cNvPr id="1065" name=""/>
              <p:cNvSpPr/>
              <p:nvPr/>
            </p:nvSpPr>
            <p:spPr>
              <a:xfrm flipV="1">
                <a:off x="611280" y="2635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11280" y="1989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"/>
          <p:cNvGrpSpPr/>
          <p:nvPr/>
        </p:nvGrpSpPr>
        <p:grpSpPr>
          <a:xfrm>
            <a:off x="611280" y="2781360"/>
            <a:ext cx="7200360" cy="1799640"/>
            <a:chOff x="611280" y="2781360"/>
            <a:chExt cx="7200360" cy="1799640"/>
          </a:xfrm>
        </p:grpSpPr>
        <p:grpSp>
          <p:nvGrpSpPr>
            <p:cNvPr id="1068" name=""/>
            <p:cNvGrpSpPr/>
            <p:nvPr/>
          </p:nvGrpSpPr>
          <p:grpSpPr>
            <a:xfrm>
              <a:off x="1548000" y="3789360"/>
              <a:ext cx="6263640" cy="791640"/>
              <a:chOff x="1548000" y="3789360"/>
              <a:chExt cx="6263640" cy="791640"/>
            </a:xfrm>
          </p:grpSpPr>
          <p:sp>
            <p:nvSpPr>
              <p:cNvPr id="1069" name=""/>
              <p:cNvSpPr/>
              <p:nvPr/>
            </p:nvSpPr>
            <p:spPr>
              <a:xfrm>
                <a:off x="1548000" y="3789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94080" y="384696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.3.1.3. EVALUACIÓN DEL COMPORTAMI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FISCAL DE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611280" y="2781360"/>
              <a:ext cx="936720" cy="1583280"/>
              <a:chOff x="611280" y="2781360"/>
              <a:chExt cx="936720" cy="1583280"/>
            </a:xfrm>
          </p:grpSpPr>
          <p:sp>
            <p:nvSpPr>
              <p:cNvPr id="1072" name=""/>
              <p:cNvSpPr/>
              <p:nvPr/>
            </p:nvSpPr>
            <p:spPr>
              <a:xfrm flipV="1">
                <a:off x="611280" y="3427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11280" y="2781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250920" y="1413000"/>
            <a:ext cx="5833440" cy="531720"/>
            <a:chOff x="250920" y="1413000"/>
            <a:chExt cx="5833440" cy="531720"/>
          </a:xfrm>
        </p:grpSpPr>
        <p:sp>
          <p:nvSpPr>
            <p:cNvPr id="1075" name=""/>
            <p:cNvSpPr/>
            <p:nvPr/>
          </p:nvSpPr>
          <p:spPr>
            <a:xfrm>
              <a:off x="250920" y="1413000"/>
              <a:ext cx="5833440" cy="5317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6720" y="1450800"/>
              <a:ext cx="5726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1. FIN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11280" y="3573360"/>
            <a:ext cx="7200360" cy="1799640"/>
            <a:chOff x="611280" y="3573360"/>
            <a:chExt cx="7200360" cy="1799640"/>
          </a:xfrm>
        </p:grpSpPr>
        <p:grpSp>
          <p:nvGrpSpPr>
            <p:cNvPr id="1078" name=""/>
            <p:cNvGrpSpPr/>
            <p:nvPr/>
          </p:nvGrpSpPr>
          <p:grpSpPr>
            <a:xfrm>
              <a:off x="1548000" y="4581360"/>
              <a:ext cx="6263640" cy="791640"/>
              <a:chOff x="1548000" y="4581360"/>
              <a:chExt cx="6263640" cy="791640"/>
            </a:xfrm>
          </p:grpSpPr>
          <p:sp>
            <p:nvSpPr>
              <p:cNvPr id="1079" name=""/>
              <p:cNvSpPr/>
              <p:nvPr/>
            </p:nvSpPr>
            <p:spPr>
              <a:xfrm>
                <a:off x="1548000" y="4581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594080" y="4815720"/>
                <a:ext cx="61711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4. LOCALIZACIÓN DE COMPARA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611280" y="3573360"/>
              <a:ext cx="936720" cy="1583280"/>
              <a:chOff x="611280" y="3573360"/>
              <a:chExt cx="936720" cy="1583280"/>
            </a:xfrm>
          </p:grpSpPr>
          <p:sp>
            <p:nvSpPr>
              <p:cNvPr id="1082" name=""/>
              <p:cNvSpPr/>
              <p:nvPr/>
            </p:nvSpPr>
            <p:spPr>
              <a:xfrm flipV="1">
                <a:off x="611280" y="4219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1280" y="3573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611280" y="4221000"/>
            <a:ext cx="7200360" cy="2138400"/>
            <a:chOff x="611280" y="4221000"/>
            <a:chExt cx="7200360" cy="2138400"/>
          </a:xfrm>
        </p:grpSpPr>
        <p:grpSp>
          <p:nvGrpSpPr>
            <p:cNvPr id="1085" name=""/>
            <p:cNvGrpSpPr/>
            <p:nvPr/>
          </p:nvGrpSpPr>
          <p:grpSpPr>
            <a:xfrm>
              <a:off x="1548000" y="5409360"/>
              <a:ext cx="6263640" cy="950040"/>
              <a:chOff x="1548000" y="5409360"/>
              <a:chExt cx="6263640" cy="950040"/>
            </a:xfrm>
          </p:grpSpPr>
          <p:sp>
            <p:nvSpPr>
              <p:cNvPr id="1086" name=""/>
              <p:cNvSpPr/>
              <p:nvPr/>
            </p:nvSpPr>
            <p:spPr>
              <a:xfrm>
                <a:off x="1548000" y="5416920"/>
                <a:ext cx="6263640" cy="937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594080" y="5409360"/>
                <a:ext cx="6171120" cy="9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5. IMPORTANCIA DE SU UTILIZACIÓN CO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HERRAMIENTA DE CONTROL Y SELEC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DE CASOS A FISCALIZ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11280" y="4221000"/>
              <a:ext cx="936720" cy="1877760"/>
              <a:chOff x="611280" y="4221000"/>
              <a:chExt cx="936720" cy="1877760"/>
            </a:xfrm>
          </p:grpSpPr>
          <p:sp>
            <p:nvSpPr>
              <p:cNvPr id="1089" name=""/>
              <p:cNvSpPr/>
              <p:nvPr/>
            </p:nvSpPr>
            <p:spPr>
              <a:xfrm flipV="1">
                <a:off x="611280" y="4988520"/>
                <a:ext cx="936720" cy="111024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1110240"/>
                  <a:gd name="textAreaBottom" fmla="*/ 1110960 h 111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11280" y="4221000"/>
                <a:ext cx="287280" cy="111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24000" y="2235240"/>
            <a:ext cx="8351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IMPLEMENTACIÓN DE PRECIOS DE TRANSFERENCIA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EN LAADMINISTRACIÓN TRIBU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24000" y="1305000"/>
            <a:ext cx="6192360" cy="683640"/>
            <a:chOff x="324000" y="1305000"/>
            <a:chExt cx="6192360" cy="683640"/>
          </a:xfrm>
        </p:grpSpPr>
        <p:sp>
          <p:nvSpPr>
            <p:cNvPr id="862" name=""/>
            <p:cNvSpPr/>
            <p:nvPr/>
          </p:nvSpPr>
          <p:spPr>
            <a:xfrm>
              <a:off x="324000" y="1305000"/>
              <a:ext cx="6192360" cy="6836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3040" y="14166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703440" y="2565360"/>
            <a:ext cx="934920" cy="1008000"/>
          </a:xfrm>
          <a:custGeom>
            <a:avLst/>
            <a:gdLst>
              <a:gd name="textAreaLeft" fmla="*/ 0 w 934920"/>
              <a:gd name="textAreaRight" fmla="*/ 935280 w 934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826920" y="1915920"/>
            <a:ext cx="7218000" cy="1148760"/>
            <a:chOff x="826920" y="1915920"/>
            <a:chExt cx="7218000" cy="1148760"/>
          </a:xfrm>
        </p:grpSpPr>
        <p:grpSp>
          <p:nvGrpSpPr>
            <p:cNvPr id="866" name=""/>
            <p:cNvGrpSpPr/>
            <p:nvPr/>
          </p:nvGrpSpPr>
          <p:grpSpPr>
            <a:xfrm>
              <a:off x="1763640" y="2203200"/>
              <a:ext cx="6281280" cy="861480"/>
              <a:chOff x="1763640" y="2203200"/>
              <a:chExt cx="6281280" cy="861480"/>
            </a:xfrm>
          </p:grpSpPr>
          <p:sp>
            <p:nvSpPr>
              <p:cNvPr id="867" name=""/>
              <p:cNvSpPr/>
              <p:nvPr/>
            </p:nvSpPr>
            <p:spPr>
              <a:xfrm>
                <a:off x="1763640" y="2203200"/>
                <a:ext cx="6281280" cy="8614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10080" y="2332080"/>
                <a:ext cx="618840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DIAGNÓSTICO DE DEBILIDADES Y FORTALEZAS DE LA ADMINISTRACION TRIBUTA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 flipV="1">
              <a:off x="826920" y="1915560"/>
              <a:ext cx="936720" cy="93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-360 h 936360"/>
                <a:gd name="textAreaBottom" fmla="*/ 936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826920" y="2133720"/>
            <a:ext cx="7200720" cy="1871280"/>
            <a:chOff x="826920" y="2133720"/>
            <a:chExt cx="7200720" cy="1871280"/>
          </a:xfrm>
        </p:grpSpPr>
        <p:grpSp>
          <p:nvGrpSpPr>
            <p:cNvPr id="871" name=""/>
            <p:cNvGrpSpPr/>
            <p:nvPr/>
          </p:nvGrpSpPr>
          <p:grpSpPr>
            <a:xfrm>
              <a:off x="1763640" y="3213000"/>
              <a:ext cx="6264000" cy="792000"/>
              <a:chOff x="1763640" y="3213000"/>
              <a:chExt cx="6264000" cy="792000"/>
            </a:xfrm>
          </p:grpSpPr>
          <p:sp>
            <p:nvSpPr>
              <p:cNvPr id="872" name=""/>
              <p:cNvSpPr/>
              <p:nvPr/>
            </p:nvSpPr>
            <p:spPr>
              <a:xfrm>
                <a:off x="1763640" y="3213000"/>
                <a:ext cx="6264000" cy="7920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09720" y="330660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OPERATIVOS DE DIFUSIÓN Y RECOLECCIÓN DE INFORMACIÓN INTERNA Y 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826920" y="2133720"/>
              <a:ext cx="936720" cy="1728720"/>
              <a:chOff x="826920" y="2133720"/>
              <a:chExt cx="936720" cy="1728720"/>
            </a:xfrm>
          </p:grpSpPr>
          <p:sp>
            <p:nvSpPr>
              <p:cNvPr id="875" name=""/>
              <p:cNvSpPr/>
              <p:nvPr/>
            </p:nvSpPr>
            <p:spPr>
              <a:xfrm flipV="1">
                <a:off x="826920" y="292572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6920" y="213372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826920" y="3214800"/>
            <a:ext cx="7200720" cy="1799640"/>
            <a:chOff x="826920" y="3214800"/>
            <a:chExt cx="7200720" cy="1799640"/>
          </a:xfrm>
        </p:grpSpPr>
        <p:grpSp>
          <p:nvGrpSpPr>
            <p:cNvPr id="878" name=""/>
            <p:cNvGrpSpPr/>
            <p:nvPr/>
          </p:nvGrpSpPr>
          <p:grpSpPr>
            <a:xfrm>
              <a:off x="1763640" y="4149720"/>
              <a:ext cx="6264000" cy="864720"/>
              <a:chOff x="1763640" y="4149720"/>
              <a:chExt cx="6264000" cy="864720"/>
            </a:xfrm>
          </p:grpSpPr>
          <p:sp>
            <p:nvSpPr>
              <p:cNvPr id="879" name=""/>
              <p:cNvSpPr/>
              <p:nvPr/>
            </p:nvSpPr>
            <p:spPr>
              <a:xfrm>
                <a:off x="1763640" y="4149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09720" y="428364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RUCUTRA ADMINISTRATIVA. CREACIÓN DEL DEPARTAMENTO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826920" y="3214800"/>
              <a:ext cx="936720" cy="1584360"/>
              <a:chOff x="826920" y="3214800"/>
              <a:chExt cx="936720" cy="1584360"/>
            </a:xfrm>
          </p:grpSpPr>
          <p:sp>
            <p:nvSpPr>
              <p:cNvPr id="882" name=""/>
              <p:cNvSpPr/>
              <p:nvPr/>
            </p:nvSpPr>
            <p:spPr>
              <a:xfrm flipV="1">
                <a:off x="826920" y="38624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6920" y="32148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"/>
          <p:cNvGrpSpPr/>
          <p:nvPr/>
        </p:nvGrpSpPr>
        <p:grpSpPr>
          <a:xfrm>
            <a:off x="826920" y="4221000"/>
            <a:ext cx="7200720" cy="1801440"/>
            <a:chOff x="826920" y="4221000"/>
            <a:chExt cx="7200720" cy="1801440"/>
          </a:xfrm>
        </p:grpSpPr>
        <p:grpSp>
          <p:nvGrpSpPr>
            <p:cNvPr id="885" name=""/>
            <p:cNvGrpSpPr/>
            <p:nvPr/>
          </p:nvGrpSpPr>
          <p:grpSpPr>
            <a:xfrm>
              <a:off x="1763640" y="5157720"/>
              <a:ext cx="6264000" cy="864720"/>
              <a:chOff x="1763640" y="5157720"/>
              <a:chExt cx="6264000" cy="864720"/>
            </a:xfrm>
          </p:grpSpPr>
          <p:sp>
            <p:nvSpPr>
              <p:cNvPr id="886" name=""/>
              <p:cNvSpPr/>
              <p:nvPr/>
            </p:nvSpPr>
            <p:spPr>
              <a:xfrm>
                <a:off x="1763640" y="5157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09720" y="5418000"/>
                <a:ext cx="61714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DICTADO DE NORMAS ADMINISTR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26920" y="4221000"/>
              <a:ext cx="934920" cy="1576080"/>
              <a:chOff x="826920" y="4221000"/>
              <a:chExt cx="934920" cy="157608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826920" y="4887000"/>
                <a:ext cx="934920" cy="90972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-360 h 909720"/>
                  <a:gd name="textAreaBottom" fmla="*/ 909720 h 9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26920" y="4221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324000" y="1413000"/>
            <a:ext cx="7075080" cy="864720"/>
            <a:chOff x="324000" y="1413000"/>
            <a:chExt cx="7075080" cy="864720"/>
          </a:xfrm>
        </p:grpSpPr>
        <p:sp>
          <p:nvSpPr>
            <p:cNvPr id="892" name=""/>
            <p:cNvSpPr/>
            <p:nvPr/>
          </p:nvSpPr>
          <p:spPr>
            <a:xfrm>
              <a:off x="324000" y="1413000"/>
              <a:ext cx="7075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6200" y="1631160"/>
              <a:ext cx="69703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DICTADO DE NORMAS ADMINISTRATIV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971640" y="3068640"/>
            <a:ext cx="6313320" cy="1852560"/>
            <a:chOff x="971640" y="3068640"/>
            <a:chExt cx="6313320" cy="1852560"/>
          </a:xfrm>
        </p:grpSpPr>
        <p:grpSp>
          <p:nvGrpSpPr>
            <p:cNvPr id="895" name=""/>
            <p:cNvGrpSpPr/>
            <p:nvPr/>
          </p:nvGrpSpPr>
          <p:grpSpPr>
            <a:xfrm>
              <a:off x="1405080" y="3933720"/>
              <a:ext cx="5879880" cy="987480"/>
              <a:chOff x="1405080" y="3933720"/>
              <a:chExt cx="5879880" cy="987480"/>
            </a:xfrm>
          </p:grpSpPr>
          <p:pic>
            <p:nvPicPr>
              <p:cNvPr id="8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5080" y="393372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>
                <a:off x="1776240" y="410652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36360" y="414972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DISEÑO DE LOS APLICATIVOS INFORMÁT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971640" y="3068640"/>
              <a:ext cx="742680" cy="1440000"/>
              <a:chOff x="971640" y="3068640"/>
              <a:chExt cx="742680" cy="144000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971640" y="386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71640" y="3068640"/>
                <a:ext cx="2174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995400" y="4149720"/>
            <a:ext cx="6313320" cy="2138400"/>
            <a:chOff x="995400" y="4149720"/>
            <a:chExt cx="6313320" cy="2138400"/>
          </a:xfrm>
        </p:grpSpPr>
        <p:grpSp>
          <p:nvGrpSpPr>
            <p:cNvPr id="903" name=""/>
            <p:cNvGrpSpPr/>
            <p:nvPr/>
          </p:nvGrpSpPr>
          <p:grpSpPr>
            <a:xfrm>
              <a:off x="995400" y="4149720"/>
              <a:ext cx="742680" cy="1798920"/>
              <a:chOff x="995400" y="4149720"/>
              <a:chExt cx="742680" cy="17989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995400" y="530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995400" y="4149720"/>
                <a:ext cx="217440" cy="129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428840" y="5300640"/>
              <a:ext cx="5879880" cy="987480"/>
              <a:chOff x="1428840" y="5300640"/>
              <a:chExt cx="5879880" cy="987480"/>
            </a:xfrm>
          </p:grpSpPr>
          <p:pic>
            <p:nvPicPr>
              <p:cNvPr id="9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530064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1800000" y="547344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860120" y="551664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BASES DE DATOS RÉGIMEN DE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982800" y="2320920"/>
            <a:ext cx="6325560" cy="1395000"/>
            <a:chOff x="982800" y="2320920"/>
            <a:chExt cx="6325560" cy="1395000"/>
          </a:xfrm>
        </p:grpSpPr>
        <p:grpSp>
          <p:nvGrpSpPr>
            <p:cNvPr id="911" name=""/>
            <p:cNvGrpSpPr/>
            <p:nvPr/>
          </p:nvGrpSpPr>
          <p:grpSpPr>
            <a:xfrm>
              <a:off x="1416240" y="2752560"/>
              <a:ext cx="5892120" cy="963360"/>
              <a:chOff x="1416240" y="2752560"/>
              <a:chExt cx="5892120" cy="963360"/>
            </a:xfrm>
          </p:grpSpPr>
          <p:pic>
            <p:nvPicPr>
              <p:cNvPr id="9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6240" y="2752560"/>
                <a:ext cx="5892120" cy="96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3" name=""/>
              <p:cNvGrpSpPr/>
              <p:nvPr/>
            </p:nvGrpSpPr>
            <p:grpSpPr>
              <a:xfrm>
                <a:off x="1788120" y="2921040"/>
                <a:ext cx="4953600" cy="620280"/>
                <a:chOff x="1788120" y="2921040"/>
                <a:chExt cx="4953600" cy="620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788120" y="2921040"/>
                  <a:ext cx="4953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806120" y="2937600"/>
                  <a:ext cx="470736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Arial"/>
                    </a:rPr>
                    <a:t>OBLIGACIONES FORMALES: DDJJ COMPLEMENTARIAS Y ESTUDIO DE P.T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6" name=""/>
            <p:cNvGrpSpPr/>
            <p:nvPr/>
          </p:nvGrpSpPr>
          <p:grpSpPr>
            <a:xfrm>
              <a:off x="982800" y="2320920"/>
              <a:ext cx="739800" cy="1078920"/>
              <a:chOff x="982800" y="2320920"/>
              <a:chExt cx="739800" cy="107892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982800" y="2752560"/>
                <a:ext cx="739800" cy="64728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82800" y="2320920"/>
                <a:ext cx="21744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1908000" y="476280"/>
            <a:ext cx="6192720" cy="684000"/>
            <a:chOff x="1908000" y="476280"/>
            <a:chExt cx="6192720" cy="684000"/>
          </a:xfrm>
        </p:grpSpPr>
        <p:sp>
          <p:nvSpPr>
            <p:cNvPr id="920" name=""/>
            <p:cNvSpPr/>
            <p:nvPr/>
          </p:nvSpPr>
          <p:spPr>
            <a:xfrm>
              <a:off x="1908000" y="476280"/>
              <a:ext cx="619272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67040" y="588240"/>
              <a:ext cx="6079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24000" y="1413000"/>
            <a:ext cx="6263640" cy="864720"/>
            <a:chOff x="324000" y="1413000"/>
            <a:chExt cx="6263640" cy="864720"/>
          </a:xfrm>
        </p:grpSpPr>
        <p:sp>
          <p:nvSpPr>
            <p:cNvPr id="924" name=""/>
            <p:cNvSpPr/>
            <p:nvPr/>
          </p:nvSpPr>
          <p:spPr>
            <a:xfrm>
              <a:off x="324000" y="1413000"/>
              <a:ext cx="626364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0080" y="1546920"/>
              <a:ext cx="61711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Frutiger-Bold"/>
                </a:rPr>
                <a:t>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RÉGIMEN INFORMATIVO DE OPERACIONES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	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042920" y="2997360"/>
            <a:ext cx="7058160" cy="3745440"/>
            <a:chOff x="1042920" y="2997360"/>
            <a:chExt cx="7058160" cy="3745440"/>
          </a:xfrm>
        </p:grpSpPr>
        <p:grpSp>
          <p:nvGrpSpPr>
            <p:cNvPr id="927" name=""/>
            <p:cNvGrpSpPr/>
            <p:nvPr/>
          </p:nvGrpSpPr>
          <p:grpSpPr>
            <a:xfrm>
              <a:off x="1474920" y="3513600"/>
              <a:ext cx="6626160" cy="3229200"/>
              <a:chOff x="1474920" y="3513600"/>
              <a:chExt cx="6626160" cy="3229200"/>
            </a:xfrm>
          </p:grpSpPr>
          <p:pic>
            <p:nvPicPr>
              <p:cNvPr id="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4920" y="3513600"/>
                <a:ext cx="6626160" cy="32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>
                <a:off x="1846440" y="3879000"/>
                <a:ext cx="5605200" cy="23504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908360" y="3879000"/>
                <a:ext cx="5400720" cy="23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OPERACIONES ALCANZADAS POR PRECIOS DE TRANSFERE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Empresas / Suje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Operaciones pac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Valores / Impor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Métodos de justificación de 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Países, incluídos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Datos particulares de cada oper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42920" y="2997360"/>
              <a:ext cx="742680" cy="1467720"/>
              <a:chOff x="1042920" y="2997360"/>
              <a:chExt cx="742680" cy="146772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1042920" y="3804120"/>
                <a:ext cx="742680" cy="6606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-360 h 660600"/>
                  <a:gd name="textAreaBottom" fmla="*/ 66060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2920" y="2997360"/>
                <a:ext cx="217440" cy="88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1042920" y="2278080"/>
            <a:ext cx="7055640" cy="1466640"/>
            <a:chOff x="1042920" y="2278080"/>
            <a:chExt cx="7055640" cy="1466640"/>
          </a:xfrm>
        </p:grpSpPr>
        <p:grpSp>
          <p:nvGrpSpPr>
            <p:cNvPr id="935" name=""/>
            <p:cNvGrpSpPr/>
            <p:nvPr/>
          </p:nvGrpSpPr>
          <p:grpSpPr>
            <a:xfrm>
              <a:off x="1474560" y="2638440"/>
              <a:ext cx="6624000" cy="1106280"/>
              <a:chOff x="1474560" y="2638440"/>
              <a:chExt cx="6624000" cy="1106280"/>
            </a:xfrm>
          </p:grpSpPr>
          <p:pic>
            <p:nvPicPr>
              <p:cNvPr id="9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4560" y="2638440"/>
                <a:ext cx="6624000" cy="1106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1892520" y="2831760"/>
                <a:ext cx="5568840" cy="711720"/>
                <a:chOff x="1892520" y="2831760"/>
                <a:chExt cx="5568840" cy="711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892520" y="2831760"/>
                  <a:ext cx="5568840" cy="7117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12680" y="2850840"/>
                  <a:ext cx="52920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Frutiger-Bold"/>
                    </a:rPr>
                    <a:t>IMPORTACIONES Y EXPORTACIONES ENTRE SUJETOS INDEPENDIE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0" name=""/>
            <p:cNvGrpSpPr/>
            <p:nvPr/>
          </p:nvGrpSpPr>
          <p:grpSpPr>
            <a:xfrm>
              <a:off x="1042920" y="2278080"/>
              <a:ext cx="739440" cy="1078920"/>
              <a:chOff x="1042920" y="2278080"/>
              <a:chExt cx="739440" cy="107892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1042920" y="2709720"/>
                <a:ext cx="739440" cy="647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42920" y="2278080"/>
                <a:ext cx="21708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1979640" y="476280"/>
            <a:ext cx="6192360" cy="684000"/>
            <a:chOff x="1979640" y="476280"/>
            <a:chExt cx="6192360" cy="684000"/>
          </a:xfrm>
        </p:grpSpPr>
        <p:sp>
          <p:nvSpPr>
            <p:cNvPr id="944" name=""/>
            <p:cNvSpPr/>
            <p:nvPr/>
          </p:nvSpPr>
          <p:spPr>
            <a:xfrm>
              <a:off x="1979640" y="476280"/>
              <a:ext cx="619236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38680" y="58824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971640" y="1557360"/>
            <a:ext cx="7218000" cy="1723680"/>
            <a:chOff x="971640" y="1557360"/>
            <a:chExt cx="7218000" cy="1723680"/>
          </a:xfrm>
        </p:grpSpPr>
        <p:grpSp>
          <p:nvGrpSpPr>
            <p:cNvPr id="948" name=""/>
            <p:cNvGrpSpPr/>
            <p:nvPr/>
          </p:nvGrpSpPr>
          <p:grpSpPr>
            <a:xfrm>
              <a:off x="1908360" y="2419200"/>
              <a:ext cx="6281280" cy="861840"/>
              <a:chOff x="1908360" y="2419200"/>
              <a:chExt cx="6281280" cy="861840"/>
            </a:xfrm>
          </p:grpSpPr>
          <p:sp>
            <p:nvSpPr>
              <p:cNvPr id="949" name=""/>
              <p:cNvSpPr/>
              <p:nvPr/>
            </p:nvSpPr>
            <p:spPr>
              <a:xfrm>
                <a:off x="1908360" y="241920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954800" y="267264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ANÁLISIS PREV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971640" y="1557360"/>
              <a:ext cx="936720" cy="1584360"/>
              <a:chOff x="971640" y="1557360"/>
              <a:chExt cx="936720" cy="158436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971640" y="220500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71640" y="155736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971640" y="2565360"/>
            <a:ext cx="7200360" cy="1799640"/>
            <a:chOff x="971640" y="2565360"/>
            <a:chExt cx="7200360" cy="1799640"/>
          </a:xfrm>
        </p:grpSpPr>
        <p:grpSp>
          <p:nvGrpSpPr>
            <p:cNvPr id="955" name=""/>
            <p:cNvGrpSpPr/>
            <p:nvPr/>
          </p:nvGrpSpPr>
          <p:grpSpPr>
            <a:xfrm>
              <a:off x="1908360" y="3573360"/>
              <a:ext cx="6263640" cy="791640"/>
              <a:chOff x="1908360" y="3573360"/>
              <a:chExt cx="6263640" cy="791640"/>
            </a:xfrm>
          </p:grpSpPr>
          <p:sp>
            <p:nvSpPr>
              <p:cNvPr id="956" name=""/>
              <p:cNvSpPr/>
              <p:nvPr/>
            </p:nvSpPr>
            <p:spPr>
              <a:xfrm>
                <a:off x="1908360" y="357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440" y="379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FISC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971640" y="2565360"/>
              <a:ext cx="936720" cy="1583280"/>
              <a:chOff x="971640" y="2565360"/>
              <a:chExt cx="936720" cy="1583280"/>
            </a:xfrm>
          </p:grpSpPr>
          <p:sp>
            <p:nvSpPr>
              <p:cNvPr id="959" name=""/>
              <p:cNvSpPr/>
              <p:nvPr/>
            </p:nvSpPr>
            <p:spPr>
              <a:xfrm flipV="1">
                <a:off x="971640" y="321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971640" y="256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971640" y="3500280"/>
            <a:ext cx="7200360" cy="1799640"/>
            <a:chOff x="971640" y="3500280"/>
            <a:chExt cx="7200360" cy="1799640"/>
          </a:xfrm>
        </p:grpSpPr>
        <p:grpSp>
          <p:nvGrpSpPr>
            <p:cNvPr id="962" name=""/>
            <p:cNvGrpSpPr/>
            <p:nvPr/>
          </p:nvGrpSpPr>
          <p:grpSpPr>
            <a:xfrm>
              <a:off x="1908360" y="4508280"/>
              <a:ext cx="6263640" cy="791640"/>
              <a:chOff x="1908360" y="4508280"/>
              <a:chExt cx="6263640" cy="791640"/>
            </a:xfrm>
          </p:grpSpPr>
          <p:sp>
            <p:nvSpPr>
              <p:cNvPr id="963" name=""/>
              <p:cNvSpPr/>
              <p:nvPr/>
            </p:nvSpPr>
            <p:spPr>
              <a:xfrm>
                <a:off x="1908360" y="4508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954440" y="4728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UDIOS SECTORI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971640" y="3500280"/>
              <a:ext cx="936720" cy="1583280"/>
              <a:chOff x="971640" y="3500280"/>
              <a:chExt cx="936720" cy="158328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971640" y="4146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71640" y="3500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971640" y="4437000"/>
            <a:ext cx="7200360" cy="1799640"/>
            <a:chOff x="971640" y="4437000"/>
            <a:chExt cx="7200360" cy="1799640"/>
          </a:xfrm>
        </p:grpSpPr>
        <p:grpSp>
          <p:nvGrpSpPr>
            <p:cNvPr id="969" name=""/>
            <p:cNvGrpSpPr/>
            <p:nvPr/>
          </p:nvGrpSpPr>
          <p:grpSpPr>
            <a:xfrm>
              <a:off x="1908360" y="5445000"/>
              <a:ext cx="6263640" cy="791640"/>
              <a:chOff x="1908360" y="5445000"/>
              <a:chExt cx="6263640" cy="791640"/>
            </a:xfrm>
          </p:grpSpPr>
          <p:sp>
            <p:nvSpPr>
              <p:cNvPr id="970" name=""/>
              <p:cNvSpPr/>
              <p:nvPr/>
            </p:nvSpPr>
            <p:spPr>
              <a:xfrm>
                <a:off x="1908360" y="5445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54440" y="566496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BASE INFORMÁ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971640" y="4437000"/>
              <a:ext cx="936720" cy="1583280"/>
              <a:chOff x="971640" y="4437000"/>
              <a:chExt cx="936720" cy="15832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971640" y="5083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971640" y="4437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324000" y="1341360"/>
            <a:ext cx="5760360" cy="674280"/>
            <a:chOff x="324000" y="1341360"/>
            <a:chExt cx="5760360" cy="674280"/>
          </a:xfrm>
        </p:grpSpPr>
        <p:sp>
          <p:nvSpPr>
            <p:cNvPr id="976" name=""/>
            <p:cNvSpPr/>
            <p:nvPr/>
          </p:nvSpPr>
          <p:spPr>
            <a:xfrm>
              <a:off x="324000" y="1341360"/>
              <a:ext cx="576036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9080" y="1449000"/>
              <a:ext cx="565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324000" y="1484280"/>
            <a:ext cx="6119280" cy="864720"/>
            <a:chOff x="324000" y="1484280"/>
            <a:chExt cx="6119280" cy="864720"/>
          </a:xfrm>
        </p:grpSpPr>
        <p:sp>
          <p:nvSpPr>
            <p:cNvPr id="979" name=""/>
            <p:cNvSpPr/>
            <p:nvPr/>
          </p:nvSpPr>
          <p:spPr>
            <a:xfrm>
              <a:off x="324000" y="1484280"/>
              <a:ext cx="61192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9000" y="1702440"/>
              <a:ext cx="60289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1.  ANÁLISIS PREV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332000" y="3141720"/>
            <a:ext cx="6624000" cy="2014560"/>
            <a:chOff x="1332000" y="3141720"/>
            <a:chExt cx="6624000" cy="2014560"/>
          </a:xfrm>
        </p:grpSpPr>
        <p:grpSp>
          <p:nvGrpSpPr>
            <p:cNvPr id="982" name=""/>
            <p:cNvGrpSpPr/>
            <p:nvPr/>
          </p:nvGrpSpPr>
          <p:grpSpPr>
            <a:xfrm>
              <a:off x="1785240" y="3789360"/>
              <a:ext cx="6170760" cy="1366920"/>
              <a:chOff x="1785240" y="3789360"/>
              <a:chExt cx="6170760" cy="1366920"/>
            </a:xfrm>
          </p:grpSpPr>
          <p:pic>
            <p:nvPicPr>
              <p:cNvPr id="9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240" y="3789360"/>
                <a:ext cx="6170760" cy="13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"/>
              <p:cNvSpPr/>
              <p:nvPr/>
            </p:nvSpPr>
            <p:spPr>
              <a:xfrm>
                <a:off x="2175120" y="3962520"/>
                <a:ext cx="5187960" cy="9777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38480" y="4005360"/>
                <a:ext cx="4929480" cy="85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TUDIOS ECONÓMICOS-TRIBUTARIOS SECTORIALES PARA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332000" y="3141720"/>
              <a:ext cx="779400" cy="1440000"/>
              <a:chOff x="1332000" y="3141720"/>
              <a:chExt cx="779400" cy="14400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1332000" y="3933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32000" y="3141720"/>
                <a:ext cx="2282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1332000" y="2349360"/>
            <a:ext cx="6624000" cy="1395720"/>
            <a:chOff x="1332000" y="2349360"/>
            <a:chExt cx="6624000" cy="1395720"/>
          </a:xfrm>
        </p:grpSpPr>
        <p:grpSp>
          <p:nvGrpSpPr>
            <p:cNvPr id="990" name=""/>
            <p:cNvGrpSpPr/>
            <p:nvPr/>
          </p:nvGrpSpPr>
          <p:grpSpPr>
            <a:xfrm>
              <a:off x="1785600" y="2781360"/>
              <a:ext cx="6170400" cy="963720"/>
              <a:chOff x="1785600" y="2781360"/>
              <a:chExt cx="6170400" cy="96372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0" y="2781360"/>
                <a:ext cx="6170400" cy="96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2" name=""/>
              <p:cNvGrpSpPr/>
              <p:nvPr/>
            </p:nvGrpSpPr>
            <p:grpSpPr>
              <a:xfrm>
                <a:off x="2175120" y="2949840"/>
                <a:ext cx="5187600" cy="620280"/>
                <a:chOff x="2175120" y="2949840"/>
                <a:chExt cx="5187600" cy="6202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175120" y="2949840"/>
                  <a:ext cx="5187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93840" y="2966400"/>
                  <a:ext cx="492948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DIVIDUALIZACIÓN DE LOS SECTORES Y OPERACIONES DE ALTO RIES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5" name=""/>
            <p:cNvGrpSpPr/>
            <p:nvPr/>
          </p:nvGrpSpPr>
          <p:grpSpPr>
            <a:xfrm>
              <a:off x="1332000" y="2349360"/>
              <a:ext cx="774360" cy="1079280"/>
              <a:chOff x="1332000" y="2349360"/>
              <a:chExt cx="774360" cy="107928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1332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32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2050920" y="476280"/>
            <a:ext cx="5760720" cy="674280"/>
            <a:chOff x="2050920" y="476280"/>
            <a:chExt cx="5760720" cy="674280"/>
          </a:xfrm>
        </p:grpSpPr>
        <p:sp>
          <p:nvSpPr>
            <p:cNvPr id="999" name=""/>
            <p:cNvSpPr/>
            <p:nvPr/>
          </p:nvSpPr>
          <p:spPr>
            <a:xfrm>
              <a:off x="205092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600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50920" y="1484280"/>
            <a:ext cx="6121080" cy="864720"/>
            <a:chOff x="250920" y="1484280"/>
            <a:chExt cx="6121080" cy="864720"/>
          </a:xfrm>
        </p:grpSpPr>
        <p:sp>
          <p:nvSpPr>
            <p:cNvPr id="1003" name=""/>
            <p:cNvSpPr/>
            <p:nvPr/>
          </p:nvSpPr>
          <p:spPr>
            <a:xfrm>
              <a:off x="250920" y="1484280"/>
              <a:ext cx="6121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5920" y="1744560"/>
              <a:ext cx="6030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. FISC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900000" y="2349360"/>
            <a:ext cx="6624000" cy="2087280"/>
            <a:chOff x="900000" y="2349360"/>
            <a:chExt cx="6624000" cy="2087280"/>
          </a:xfrm>
        </p:grpSpPr>
        <p:grpSp>
          <p:nvGrpSpPr>
            <p:cNvPr id="1006" name=""/>
            <p:cNvGrpSpPr/>
            <p:nvPr/>
          </p:nvGrpSpPr>
          <p:grpSpPr>
            <a:xfrm>
              <a:off x="1352160" y="2708280"/>
              <a:ext cx="6171840" cy="1728360"/>
              <a:chOff x="1352160" y="2708280"/>
              <a:chExt cx="6171840" cy="1728360"/>
            </a:xfrm>
          </p:grpSpPr>
          <p:pic>
            <p:nvPicPr>
              <p:cNvPr id="10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2160" y="2708280"/>
                <a:ext cx="6171840" cy="17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"/>
              <p:cNvSpPr/>
              <p:nvPr/>
            </p:nvSpPr>
            <p:spPr>
              <a:xfrm>
                <a:off x="1740960" y="2932560"/>
                <a:ext cx="5189400" cy="12157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59680" y="2955960"/>
                <a:ext cx="4931280" cy="11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PUNTU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DE ALTO RIES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900000" y="2349360"/>
              <a:ext cx="774360" cy="1079280"/>
              <a:chOff x="900000" y="2349360"/>
              <a:chExt cx="774360" cy="107928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900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900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900000" y="2852640"/>
            <a:ext cx="6624000" cy="3672000"/>
            <a:chOff x="900000" y="2852640"/>
            <a:chExt cx="6624000" cy="3672000"/>
          </a:xfrm>
        </p:grpSpPr>
        <p:grpSp>
          <p:nvGrpSpPr>
            <p:cNvPr id="1014" name=""/>
            <p:cNvGrpSpPr/>
            <p:nvPr/>
          </p:nvGrpSpPr>
          <p:grpSpPr>
            <a:xfrm>
              <a:off x="1353240" y="4292640"/>
              <a:ext cx="6170760" cy="2232000"/>
              <a:chOff x="1353240" y="4292640"/>
              <a:chExt cx="6170760" cy="22320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3240" y="4292640"/>
                <a:ext cx="617076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"/>
              <p:cNvSpPr/>
              <p:nvPr/>
            </p:nvSpPr>
            <p:spPr>
              <a:xfrm>
                <a:off x="1743120" y="4465440"/>
                <a:ext cx="5187960" cy="16988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06480" y="4508280"/>
                <a:ext cx="492948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SECTORI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PÉRDIDAS RECURREN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TRANSFERENCIA DE TECNOLOG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900000" y="2852640"/>
              <a:ext cx="779400" cy="2737080"/>
              <a:chOff x="900000" y="2852640"/>
              <a:chExt cx="779400" cy="2737080"/>
            </a:xfrm>
          </p:grpSpPr>
          <p:sp>
            <p:nvSpPr>
              <p:cNvPr id="1019" name=""/>
              <p:cNvSpPr/>
              <p:nvPr/>
            </p:nvSpPr>
            <p:spPr>
              <a:xfrm flipV="1">
                <a:off x="900000" y="4941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00000" y="2852640"/>
                <a:ext cx="226440" cy="216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2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6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187280" y="1844640"/>
            <a:ext cx="7218000" cy="1723680"/>
            <a:chOff x="1187280" y="1844640"/>
            <a:chExt cx="7218000" cy="1723680"/>
          </a:xfrm>
        </p:grpSpPr>
        <p:grpSp>
          <p:nvGrpSpPr>
            <p:cNvPr id="1029" name=""/>
            <p:cNvGrpSpPr/>
            <p:nvPr/>
          </p:nvGrpSpPr>
          <p:grpSpPr>
            <a:xfrm>
              <a:off x="2124000" y="2706480"/>
              <a:ext cx="6281280" cy="861840"/>
              <a:chOff x="2124000" y="2706480"/>
              <a:chExt cx="6281280" cy="861840"/>
            </a:xfrm>
          </p:grpSpPr>
          <p:sp>
            <p:nvSpPr>
              <p:cNvPr id="1030" name=""/>
              <p:cNvSpPr/>
              <p:nvPr/>
            </p:nvSpPr>
            <p:spPr>
              <a:xfrm>
                <a:off x="2124000" y="270648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70440" y="295992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 FINALID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187280" y="1844640"/>
              <a:ext cx="936720" cy="1584360"/>
              <a:chOff x="1187280" y="1844640"/>
              <a:chExt cx="936720" cy="1584360"/>
            </a:xfrm>
          </p:grpSpPr>
          <p:sp>
            <p:nvSpPr>
              <p:cNvPr id="1033" name=""/>
              <p:cNvSpPr/>
              <p:nvPr/>
            </p:nvSpPr>
            <p:spPr>
              <a:xfrm flipV="1">
                <a:off x="1187280" y="249228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87280" y="184464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1187280" y="2924280"/>
            <a:ext cx="7200360" cy="1799640"/>
            <a:chOff x="1187280" y="2924280"/>
            <a:chExt cx="7200360" cy="1799640"/>
          </a:xfrm>
        </p:grpSpPr>
        <p:grpSp>
          <p:nvGrpSpPr>
            <p:cNvPr id="1036" name=""/>
            <p:cNvGrpSpPr/>
            <p:nvPr/>
          </p:nvGrpSpPr>
          <p:grpSpPr>
            <a:xfrm>
              <a:off x="2124000" y="3932280"/>
              <a:ext cx="6263640" cy="791640"/>
              <a:chOff x="2124000" y="3932280"/>
              <a:chExt cx="6263640" cy="791640"/>
            </a:xfrm>
          </p:grpSpPr>
          <p:sp>
            <p:nvSpPr>
              <p:cNvPr id="1037" name=""/>
              <p:cNvSpPr/>
              <p:nvPr/>
            </p:nvSpPr>
            <p:spPr>
              <a:xfrm>
                <a:off x="2124000" y="3932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70080" y="4152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2. METODOLOGÍA DE RE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1187280" y="2924280"/>
              <a:ext cx="936720" cy="1583280"/>
              <a:chOff x="1187280" y="2924280"/>
              <a:chExt cx="936720" cy="158328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1187280" y="3570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87280" y="2924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1187280" y="4005360"/>
            <a:ext cx="7200360" cy="1799640"/>
            <a:chOff x="1187280" y="4005360"/>
            <a:chExt cx="7200360" cy="1799640"/>
          </a:xfrm>
        </p:grpSpPr>
        <p:grpSp>
          <p:nvGrpSpPr>
            <p:cNvPr id="1043" name=""/>
            <p:cNvGrpSpPr/>
            <p:nvPr/>
          </p:nvGrpSpPr>
          <p:grpSpPr>
            <a:xfrm>
              <a:off x="2124000" y="5013360"/>
              <a:ext cx="6263640" cy="791640"/>
              <a:chOff x="2124000" y="5013360"/>
              <a:chExt cx="6263640" cy="791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124000" y="501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70080" y="523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3. ANÁLISIS DE RAT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187280" y="4005360"/>
              <a:ext cx="936720" cy="1583280"/>
              <a:chOff x="1187280" y="4005360"/>
              <a:chExt cx="936720" cy="158328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1187280" y="465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187280" y="400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324000" y="1268280"/>
            <a:ext cx="6192360" cy="747360"/>
            <a:chOff x="324000" y="1268280"/>
            <a:chExt cx="6192360" cy="747360"/>
          </a:xfrm>
        </p:grpSpPr>
        <p:sp>
          <p:nvSpPr>
            <p:cNvPr id="1050" name=""/>
            <p:cNvSpPr/>
            <p:nvPr/>
          </p:nvSpPr>
          <p:spPr>
            <a:xfrm>
              <a:off x="324000" y="1268280"/>
              <a:ext cx="6192360" cy="7473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3040" y="14130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 ESTUDIOS SECTOR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2:19Z</dcterms:modified>
  <cp:revision>198</cp:revision>
  <dc:subject/>
  <dc:title>Diapositiva 1</dc:title>
</cp:coreProperties>
</file>