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png" ContentType="image/png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notesMasterIdLst>
    <p:notesMasterId r:id="rId18"/>
  </p:notes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  <p:sldId id="266" r:id="rId29"/>
    <p:sldId id="267" r:id="rId30"/>
    <p:sldId id="268" r:id="rId31"/>
    <p:sldId id="269" r:id="rId32"/>
    <p:sldId id="270" r:id="rId33"/>
    <p:sldId id="271" r:id="rId34"/>
    <p:sldId id="272" r:id="rId35"/>
    <p:sldId id="273" r:id="rId36"/>
    <p:sldId id="274" r:id="rId37"/>
    <p:sldId id="275" r:id="rId38"/>
    <p:sldId id="276" r:id="rId39"/>
    <p:sldId id="277" r:id="rId4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notesMaster" Target="notesMasters/notesMaster1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slide" Target="slides/slide11.xml"/><Relationship Id="rId30" Type="http://schemas.openxmlformats.org/officeDocument/2006/relationships/slide" Target="slides/slide12.xml"/><Relationship Id="rId31" Type="http://schemas.openxmlformats.org/officeDocument/2006/relationships/slide" Target="slides/slide13.xml"/><Relationship Id="rId32" Type="http://schemas.openxmlformats.org/officeDocument/2006/relationships/slide" Target="slides/slide14.xml"/><Relationship Id="rId33" Type="http://schemas.openxmlformats.org/officeDocument/2006/relationships/slide" Target="slides/slide15.xml"/><Relationship Id="rId34" Type="http://schemas.openxmlformats.org/officeDocument/2006/relationships/slide" Target="slides/slide16.xml"/><Relationship Id="rId35" Type="http://schemas.openxmlformats.org/officeDocument/2006/relationships/slide" Target="slides/slide17.xml"/><Relationship Id="rId36" Type="http://schemas.openxmlformats.org/officeDocument/2006/relationships/slide" Target="slides/slide18.xml"/><Relationship Id="rId37" Type="http://schemas.openxmlformats.org/officeDocument/2006/relationships/slide" Target="slides/slide19.xml"/><Relationship Id="rId38" Type="http://schemas.openxmlformats.org/officeDocument/2006/relationships/slide" Target="slides/slide20.xml"/><Relationship Id="rId39" Type="http://schemas.openxmlformats.org/officeDocument/2006/relationships/slide" Target="slides/slide21.xml"/><Relationship Id="rId40" Type="http://schemas.openxmlformats.org/officeDocument/2006/relationships/slide" Target="slides/slide22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0" y="0"/>
            <a:ext cx="6797520" cy="992520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5200"/>
              <a:gd name="textAreaBottom" fmla="*/ 9924840 h 9925200"/>
            </a:gdLst>
            <a:ahLst/>
            <a:rect l="textAreaLeft" t="textAreaTop" r="textAreaRight" b="textAreaBottom"/>
            <a:pathLst>
              <a:path w="21600" h="31538">
                <a:moveTo>
                  <a:pt x="5" y="0"/>
                </a:moveTo>
                <a:arcTo wR="5" hR="5" stAng="16200000" swAng="-5400000"/>
                <a:lnTo>
                  <a:pt x="0" y="31533"/>
                </a:lnTo>
                <a:arcTo wR="5" hR="5" stAng="10800000" swAng="-5400000"/>
                <a:lnTo>
                  <a:pt x="21595" y="31538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0" y="0"/>
            <a:ext cx="6797520" cy="992520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5200"/>
              <a:gd name="textAreaBottom" fmla="*/ 9924840 h 9925200"/>
            </a:gdLst>
            <a:ahLst/>
            <a:rect l="textAreaLeft" t="textAreaTop" r="textAreaRight" b="textAreaBottom"/>
            <a:pathLst>
              <a:path w="21600" h="31538">
                <a:moveTo>
                  <a:pt x="5" y="0"/>
                </a:moveTo>
                <a:arcTo wR="5" hR="5" stAng="16200000" swAng="-5400000"/>
                <a:lnTo>
                  <a:pt x="0" y="31533"/>
                </a:lnTo>
                <a:arcTo wR="5" hR="5" stAng="10800000" swAng="-5400000"/>
                <a:lnTo>
                  <a:pt x="21595" y="31538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1"/>
          <p:cNvSpPr>
            <a:spLocks noGrp="1"/>
          </p:cNvSpPr>
          <p:nvPr>
            <p:ph type="dt" idx="17"/>
          </p:nvPr>
        </p:nvSpPr>
        <p:spPr>
          <a:xfrm>
            <a:off x="3849480" y="-360"/>
            <a:ext cx="29430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 type="sldImg"/>
          </p:nvPr>
        </p:nvSpPr>
        <p:spPr>
          <a:xfrm>
            <a:off x="917640" y="744120"/>
            <a:ext cx="4959360" cy="3721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 type="body"/>
          </p:nvPr>
        </p:nvSpPr>
        <p:spPr>
          <a:xfrm>
            <a:off x="678960" y="4714920"/>
            <a:ext cx="54356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0" y="942660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 type="sldNum" idx="18"/>
          </p:nvPr>
        </p:nvSpPr>
        <p:spPr>
          <a:xfrm>
            <a:off x="3849480" y="9426600"/>
            <a:ext cx="29430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B1A11B-D0C6-49B8-8E2F-3948E5BB1D6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"/>
          <p:cNvSpPr/>
          <p:nvPr/>
        </p:nvSpPr>
        <p:spPr>
          <a:xfrm>
            <a:off x="917640" y="744480"/>
            <a:ext cx="4962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PlaceHolder 1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7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"/>
          <p:cNvSpPr/>
          <p:nvPr/>
        </p:nvSpPr>
        <p:spPr>
          <a:xfrm>
            <a:off x="917640" y="744480"/>
            <a:ext cx="4962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PlaceHolder 1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7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"/>
          <p:cNvSpPr/>
          <p:nvPr/>
        </p:nvSpPr>
        <p:spPr>
          <a:xfrm>
            <a:off x="917640" y="744480"/>
            <a:ext cx="4962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PlaceHolder 1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7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"/>
          <p:cNvSpPr/>
          <p:nvPr/>
        </p:nvSpPr>
        <p:spPr>
          <a:xfrm>
            <a:off x="917640" y="744480"/>
            <a:ext cx="4962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PlaceHolder 1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7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"/>
          <p:cNvSpPr/>
          <p:nvPr/>
        </p:nvSpPr>
        <p:spPr>
          <a:xfrm>
            <a:off x="917640" y="744480"/>
            <a:ext cx="4962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PlaceHolder 1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7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"/>
          <p:cNvSpPr/>
          <p:nvPr/>
        </p:nvSpPr>
        <p:spPr>
          <a:xfrm>
            <a:off x="917640" y="744480"/>
            <a:ext cx="4962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PlaceHolder 1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7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"/>
          <p:cNvSpPr/>
          <p:nvPr/>
        </p:nvSpPr>
        <p:spPr>
          <a:xfrm>
            <a:off x="917640" y="744480"/>
            <a:ext cx="4962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PlaceHolder 1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7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2" name=""/>
          <p:cNvSpPr/>
          <p:nvPr/>
        </p:nvSpPr>
        <p:spPr>
          <a:xfrm>
            <a:off x="917640" y="744480"/>
            <a:ext cx="4962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PlaceHolder 1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7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"/>
          <p:cNvSpPr/>
          <p:nvPr/>
        </p:nvSpPr>
        <p:spPr>
          <a:xfrm>
            <a:off x="917640" y="744480"/>
            <a:ext cx="4962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PlaceHolder 1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7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6" name=""/>
          <p:cNvSpPr/>
          <p:nvPr/>
        </p:nvSpPr>
        <p:spPr>
          <a:xfrm>
            <a:off x="917640" y="744480"/>
            <a:ext cx="4962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PlaceHolder 1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7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"/>
          <p:cNvSpPr/>
          <p:nvPr/>
        </p:nvSpPr>
        <p:spPr>
          <a:xfrm>
            <a:off x="917640" y="744480"/>
            <a:ext cx="4962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PlaceHolder 1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7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"/>
          <p:cNvSpPr/>
          <p:nvPr/>
        </p:nvSpPr>
        <p:spPr>
          <a:xfrm>
            <a:off x="917640" y="744480"/>
            <a:ext cx="4962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PlaceHolder 1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7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"/>
          <p:cNvSpPr/>
          <p:nvPr/>
        </p:nvSpPr>
        <p:spPr>
          <a:xfrm>
            <a:off x="917640" y="744480"/>
            <a:ext cx="4962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PlaceHolder 1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7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"/>
          <p:cNvSpPr/>
          <p:nvPr/>
        </p:nvSpPr>
        <p:spPr>
          <a:xfrm>
            <a:off x="917640" y="744480"/>
            <a:ext cx="4962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PlaceHolder 1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7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"/>
          <p:cNvSpPr/>
          <p:nvPr/>
        </p:nvSpPr>
        <p:spPr>
          <a:xfrm>
            <a:off x="917640" y="744480"/>
            <a:ext cx="4962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PlaceHolder 1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7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"/>
          <p:cNvSpPr/>
          <p:nvPr/>
        </p:nvSpPr>
        <p:spPr>
          <a:xfrm>
            <a:off x="917640" y="744480"/>
            <a:ext cx="4962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PlaceHolder 1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7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"/>
          <p:cNvSpPr/>
          <p:nvPr/>
        </p:nvSpPr>
        <p:spPr>
          <a:xfrm>
            <a:off x="917640" y="744480"/>
            <a:ext cx="4962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PlaceHolder 1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7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"/>
          <p:cNvSpPr/>
          <p:nvPr/>
        </p:nvSpPr>
        <p:spPr>
          <a:xfrm>
            <a:off x="917640" y="744480"/>
            <a:ext cx="4962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PlaceHolder 1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7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"/>
          <p:cNvSpPr/>
          <p:nvPr/>
        </p:nvSpPr>
        <p:spPr>
          <a:xfrm>
            <a:off x="917640" y="744480"/>
            <a:ext cx="4962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PlaceHolder 1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7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"/>
          <p:cNvSpPr/>
          <p:nvPr/>
        </p:nvSpPr>
        <p:spPr>
          <a:xfrm>
            <a:off x="917640" y="744480"/>
            <a:ext cx="4962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PlaceHolder 1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7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"/>
          <p:cNvSpPr/>
          <p:nvPr/>
        </p:nvSpPr>
        <p:spPr>
          <a:xfrm>
            <a:off x="917640" y="744480"/>
            <a:ext cx="4962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PlaceHolder 1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7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"/>
          <p:cNvSpPr/>
          <p:nvPr/>
        </p:nvSpPr>
        <p:spPr>
          <a:xfrm>
            <a:off x="917640" y="744480"/>
            <a:ext cx="4962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PlaceHolder 1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7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58C31B-B2D6-42B5-9F6C-75DCB91EAA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BF7B2C-12E3-4FD6-BEEC-60365866327B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A94EA2-B4D9-49B2-A1D4-60047824B3F4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2894D6-EE30-42C7-975C-573EB52EEA75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1F2C5A-1E28-4F00-B371-CA77DF784584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F1126B-9EDB-4CC4-A7E4-ADCCF4C51B9B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DB99A8-B356-476A-B72F-33DBD0A31BF1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1CD508-8276-4AEA-8096-E0D487E035E7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077B68-AA9B-4478-A5B3-23F813DC14CC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48D8E5-EB78-4E35-ADFB-99E532481E87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623562-E044-461C-A082-D91373EB09F3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049F744-7E62-46C2-A64A-7117B47FF4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6ED388-D938-4CBF-906C-36336E197392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6391969-34C4-4E2D-A6F3-90BC04F943CB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2FED244-4160-4699-88C1-6D78B8861A95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9F473A7-CB42-4805-A0A3-925AA07DC04B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0828B42-2DD5-4409-8D00-9E86CC4357B9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3826F2A-1688-4C04-AC82-C58AE90E150D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3A05B38-B197-4E25-B960-3BF253A070BD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179F919-E690-4C2B-9379-2CDD9EBCC20C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4248A9A-97F0-4E83-80E4-508676E815C2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24CAF0C-F297-410D-A5FC-1D017CDB9297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8701A9B-A5B0-44E5-98B2-FC06C276F6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8A3DF3-7689-4EE5-8A38-92CA3779EA88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8527247-E91D-48DA-AA91-745064E99A48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A7E536C-5CC8-49EE-A716-E6149A7E0824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2087A15-DC37-44E2-9CB8-FCA4A391618C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092FDEA-C5E4-4BBA-8EEC-0D56B2D2C151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04F1675-2B1E-4788-BC94-84C127DB670C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0F8900E-3692-4CAA-BCC3-615F74FD41B4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76945E4-69FB-4351-8184-A98C7A5F1F23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17DAB3B-E7E8-46E3-B4CE-CEF93F83D479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7560851-538D-483B-BA41-F57922B9C1FC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0937813-6F8C-4ADF-ABB8-27DCC724A2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1447E2-D93B-4A6A-9539-ACD9C82DD1C7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0ED323F-DBC4-46FD-815D-F254F0721D55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41BCA2C-742F-4A05-84C7-45E47888F402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CF372BB-6E91-43D4-8377-95344A89E052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8805ED-C973-4E9D-9627-C172EBC76577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838F43-DFF4-4C74-A75A-ABF9965A40E8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B1A471-6E7B-4B85-961A-49C155AD0293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878A71-9E7F-4CB4-BC28-ADAFCBE2FC0B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6C5710-2612-4369-B077-03C4B18EBA5C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E4E822-427D-4D7F-B6D1-9C7E8AEE25F4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A8308E-23B8-4DD9-9161-B33653E3732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8F4104-8BA5-4BA3-9AF3-C70E81E53C05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253273-21F1-47D9-976A-99B93C97DF82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1871B0-CEB3-41E3-822B-35B7BC557794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794251-721B-4194-985E-B3DDBF5F5B2E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A94E33-1F7F-40B9-9B84-FD87355E4459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2550E0-1C26-43F9-AE64-586CCD69A755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B3BA63E-A641-4E19-8168-069E82D89E18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D8E9748-AF2E-474F-80DE-FC4B035925B6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0BE10CD-F56F-4011-873E-7699FE416A90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85EF42C-711A-4D0A-AD26-70579B5C3DAD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BF665BF-1A87-45DD-9A14-8E51E983DC2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56BEA6-0AC5-43C6-9897-C86ADF63233F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77686C1-DD78-4A63-8AA2-FC20CA64AEE8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06841E1-9077-4443-9DF2-C5191FB999BE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4F946FA-02B6-4315-B794-EDA7A9B13A85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5F84CB7-77D8-4ECE-9CD1-54CF102CE82D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B5B73FB-C057-4945-9C02-B38EAE542658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E3BC666-7C6B-494C-886C-E296E4D8635F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448FAF4-225F-4FE9-8F41-B85F6BD54BD8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B7D624B-BF11-4682-9963-E20BE37BA338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7E0591F-0557-474F-8F50-89A2D06A715A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AE018F5-794C-437D-BE40-F932D4EE7B9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65D80D-54A3-463A-9399-FFF196EAE970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DC0213E-8285-444A-B896-3B060B3BE612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8E74323-62B5-44DE-B91E-F90D10C8B7B4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C3878F2-470D-484F-B238-3873069C5C96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390FD63-D779-45D1-84B4-E940411492D2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B6DFCA5-0859-4D75-9F72-F09797627058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7113A4D-C77B-4D74-97D7-38CEF193F993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C3E149E-E797-4983-AB71-FC679436ED86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7EB0B9D-61C1-470A-97EC-16BBD6E45001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2D80E07-3EC2-48AF-B597-EC13633B9234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E88571-4883-4F7E-B00E-9E4A0E39655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07B05C-5931-43C6-98E8-CDBE8677FAB1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453505-6367-4174-86FA-0473261F013C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6E71E5-0848-4C29-800E-93AB10AE9EB4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CA200D-3A87-461B-BAAB-714CAAAA1097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DE21E4-2E87-4468-B45C-6D40AD581205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0DB40C-EF7A-406D-9200-AC6EFDD87E94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20C416-020B-40C1-8D7F-BA3CA83870FC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D0BBF7-9806-4ABC-8D75-F354CD8882EF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A28ABE-B1F2-45B6-8944-C93F7E7802A3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AB6DA8-CDA6-4055-A180-AE8107AFCF67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71FEE3-9B5D-4DF6-8B4C-61BCEBE4D50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752441-DA5E-4BAA-B0BB-FD46287E48DD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99F4CF-3CC4-47F7-81F2-3A170B7421AB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351997D-A59D-416F-8204-F8CE6EFBDDEA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C5DA5B8-5169-444A-901C-C03F1D17D0A7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51B807B-FFC1-420E-B5D2-645E77116D2A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F8A8E05-F4C4-4CA8-9AF7-A2FA093742E2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CCBDED5-4FA8-49BA-B3E9-025CD8DDCFE0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25ADA1F-3E0B-4DCD-835C-13D568B80CD4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66EEAA5-6EEF-4CC4-9B9E-36B3D19AB3B0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8CD6883-4014-4492-B2B3-99E1F545B44A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3E3C6C3-FE15-44C3-BD2E-4357A3D010A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EADB8F-027B-4419-8415-3DE165025E26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CED955F-E943-455E-8325-E8F1439F2FAE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2CEC7FC-2B85-46F2-BD4F-F8417E877263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02D89BE-3C02-448B-A0B6-006A4C8D777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49F33C-AA9B-4034-9A2C-289697BE48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352960-BE60-4C33-851B-D2AA0852986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C6E756-F678-4E05-BAB3-36E5F927DF6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B94F62-1E02-474A-A097-E8B3029A851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9DA964-E210-441C-BD04-5A7F983492F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1AEA5A-BE61-49A8-8CD1-2C651CFD1F22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0F22C-68C5-4D6E-86E0-56D4B07CEF9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BB55C-E94C-4423-AFDD-468F5606AB9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48006-7AA7-4970-BC85-690D3455409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439CF-EFEE-4ECE-8D2E-58278D0E077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5575D-30D1-48DA-9697-A3F2FA5C7E5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6D426E-052C-4042-9A0C-E25F1475265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287C8-700E-4731-81A8-6A44C5D3635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034CB-7BEB-4637-BFA8-F95CFAF828A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AAD67-CDBF-4C76-8A46-817FBF30633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FB23C-468C-48D0-AECD-30AA1EB12E1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67B02-D8EC-4DF9-9E92-705C79C83A5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67BBA-BBDF-4909-91E3-9CECCF87F7A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5C9FA-AB7A-4703-A15D-F19BF5C5B84F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0141F2-F84A-4709-9490-F0DECF06230F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99A14F-2CF4-49C6-8128-D070C53ED3DA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076BD5-E256-4228-A13C-B61089527A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460CBF-704E-4678-AF7F-C3EB2CB8EF71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73F720-358B-44B3-B2D2-573DC5BC2FE8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408422-DC03-4EE0-B115-6006F424512F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87073B-8844-4161-80FD-8EF3615D099E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72E5BE-0569-4724-B074-06415B0EB6BE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0EFBD3-0079-40EA-AC02-5A10AB211E7F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3A129B-85BF-474C-966F-120934ED87C3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F05E32-A189-4052-ACA7-5FE677E499BC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B4C8F2-4112-4148-8EA5-72D7DA8B8DF4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2E86C1-7EEC-4D5A-B297-DEB1928AC307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5DE327-3583-4EE3-8770-3F637A977F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63B17-F349-4E0C-89C2-9BF5D5BE29A6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F4667C-3804-4EC3-A9C7-9CF6E3784435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D04F8D-6905-4CA7-926B-B6348DE5B2AC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521EBD-7E9A-4D08-9A70-385F8AE1C4F1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8F6A46-3775-4362-A567-80BD09D2C6CE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2B4A03-ABF0-4DC0-99B7-E70ED940B882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0E13D0-BE2B-46D0-8CCD-5EA743B095A4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FF3DC5-8838-4A60-A523-56680ED9B31E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D617E0-9A59-4A28-8E17-A1713C816CA3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884EDA-F918-4D2F-B281-17627BD59E81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CE096A-4BF0-4549-8726-6325C144E0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21E5A4-3857-4DF9-8C4B-8F7E48050173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D57350-C661-493F-8CFD-C0462093AECC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671E3-F5E8-46CF-91A3-8BEBE415158F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E348E-3518-4D48-86C6-568F4E38A271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B8A5D-10E0-4812-81D1-51464E6C47BB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63FE5-9DBD-4FF2-8709-5A982E01B2DF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059A7-AEEF-45CD-BDDE-992191058B49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49F86-3593-41E7-B1DF-A90758672872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61F6B-CC76-4015-A104-F47CF78C0585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251F8-1538-4164-A150-EEEB37051DBF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1C262-7574-4FCA-97BD-F2A2D5CB42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CB5751-26FE-4881-9774-B19853F444E7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CD622-C0EA-4C5D-8069-E268FA33FC95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EC19D-CFB1-4FEE-89FE-6A268710A6DD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01E19-166B-4590-ABBC-4D9594425DAA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3F8CB20-E814-40D0-8F73-D73C353935D2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C08A55C-75C1-461F-B296-4C626E64543E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4F5DB6A-7353-43AE-9B30-B32B3328F7B3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2076844-381C-4C9D-86CF-9724899CA26D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2529C33-AC9C-4727-8F64-A05AB87DB404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EAD2A78-2C49-428E-8AAB-ACF8CDBA8AD3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9B9E318-29BD-461E-8DFE-CF143C8EB9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D8A5B4-6363-4AE1-B60A-0102D10C3682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97D5487-9F62-48C8-8258-6FB8FA05B44A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62709E4-3BAE-422C-AACE-9FDE18DADB68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0B72F62-CBA0-4CFD-B8A6-A6218A043B02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7C75FA2-B73F-4600-A3FE-3C584D623963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B74D5D6-9B4E-4E40-A945-25D56B7FE9E2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0D3B8ED-8327-4B22-8D77-884F8A0676DB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28A42C5-A2B6-4DEF-AB9F-377797BA4CBF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7746A8E-B649-4BF5-B485-32D123D40E08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69C808C-8B56-45F0-8FA8-2AE0DB0C5D90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3C5E9C7-1B99-4072-ACA3-9030557DE8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20CF41-D613-484B-842B-F040EC3BBDA8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A599ECB-2524-47D0-A8A1-5885D1C8EF7E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B9A8A0B-8B42-44DA-AB9A-FDC2CCE86FD1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98F2B41-7041-4CC5-9AF6-6EF5A4C0422D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3E751CC-09FD-4FD9-8D41-8B2C41A4C509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F66C0A1-AE6D-4C24-A967-BE1589D6BAFE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6C8D167-85F8-4649-947E-C40B43AEA57E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E968E6B-F107-4AA0-AF9F-744F0EFF094F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71FB63-0292-4038-B3A7-E85187442DCB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6005AC-62C4-4E84-B686-BAC6E3804DCF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CC6A7C-0488-40E5-B441-DA609B7224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09.xml"/><Relationship Id="rId7" Type="http://schemas.openxmlformats.org/officeDocument/2006/relationships/slideLayout" Target="../slideLayouts/slideLayout110.xml"/><Relationship Id="rId8" Type="http://schemas.openxmlformats.org/officeDocument/2006/relationships/slideLayout" Target="../slideLayouts/slideLayout111.xml"/><Relationship Id="rId9" Type="http://schemas.openxmlformats.org/officeDocument/2006/relationships/slideLayout" Target="../slideLayouts/slideLayout112.xml"/><Relationship Id="rId10" Type="http://schemas.openxmlformats.org/officeDocument/2006/relationships/slideLayout" Target="../slideLayouts/slideLayout113.xml"/><Relationship Id="rId11" Type="http://schemas.openxmlformats.org/officeDocument/2006/relationships/slideLayout" Target="../slideLayouts/slideLayout114.xml"/><Relationship Id="rId12" Type="http://schemas.openxmlformats.org/officeDocument/2006/relationships/slideLayout" Target="../slideLayouts/slideLayout115.xml"/><Relationship Id="rId13" Type="http://schemas.openxmlformats.org/officeDocument/2006/relationships/slideLayout" Target="../slideLayouts/slideLayout116.xml"/><Relationship Id="rId14" Type="http://schemas.openxmlformats.org/officeDocument/2006/relationships/slideLayout" Target="../slideLayouts/slideLayout117.xml"/><Relationship Id="rId15" Type="http://schemas.openxmlformats.org/officeDocument/2006/relationships/slideLayout" Target="../slideLayouts/slideLayout118.xml"/><Relationship Id="rId16" Type="http://schemas.openxmlformats.org/officeDocument/2006/relationships/slideLayout" Target="../slideLayouts/slideLayout119.xml"/><Relationship Id="rId17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21.xml"/><Relationship Id="rId7" Type="http://schemas.openxmlformats.org/officeDocument/2006/relationships/slideLayout" Target="../slideLayouts/slideLayout122.xml"/><Relationship Id="rId8" Type="http://schemas.openxmlformats.org/officeDocument/2006/relationships/slideLayout" Target="../slideLayouts/slideLayout123.xml"/><Relationship Id="rId9" Type="http://schemas.openxmlformats.org/officeDocument/2006/relationships/slideLayout" Target="../slideLayouts/slideLayout124.xml"/><Relationship Id="rId10" Type="http://schemas.openxmlformats.org/officeDocument/2006/relationships/slideLayout" Target="../slideLayouts/slideLayout125.xml"/><Relationship Id="rId11" Type="http://schemas.openxmlformats.org/officeDocument/2006/relationships/slideLayout" Target="../slideLayouts/slideLayout126.xml"/><Relationship Id="rId12" Type="http://schemas.openxmlformats.org/officeDocument/2006/relationships/slideLayout" Target="../slideLayouts/slideLayout127.xml"/><Relationship Id="rId13" Type="http://schemas.openxmlformats.org/officeDocument/2006/relationships/slideLayout" Target="../slideLayouts/slideLayout128.xml"/><Relationship Id="rId14" Type="http://schemas.openxmlformats.org/officeDocument/2006/relationships/slideLayout" Target="../slideLayouts/slideLayout129.xml"/><Relationship Id="rId15" Type="http://schemas.openxmlformats.org/officeDocument/2006/relationships/slideLayout" Target="../slideLayouts/slideLayout130.xml"/><Relationship Id="rId16" Type="http://schemas.openxmlformats.org/officeDocument/2006/relationships/slideLayout" Target="../slideLayouts/slideLayout131.xml"/><Relationship Id="rId17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3.xml"/><Relationship Id="rId7" Type="http://schemas.openxmlformats.org/officeDocument/2006/relationships/slideLayout" Target="../slideLayouts/slideLayout134.xml"/><Relationship Id="rId8" Type="http://schemas.openxmlformats.org/officeDocument/2006/relationships/slideLayout" Target="../slideLayouts/slideLayout135.xml"/><Relationship Id="rId9" Type="http://schemas.openxmlformats.org/officeDocument/2006/relationships/slideLayout" Target="../slideLayouts/slideLayout136.xml"/><Relationship Id="rId10" Type="http://schemas.openxmlformats.org/officeDocument/2006/relationships/slideLayout" Target="../slideLayouts/slideLayout137.xml"/><Relationship Id="rId11" Type="http://schemas.openxmlformats.org/officeDocument/2006/relationships/slideLayout" Target="../slideLayouts/slideLayout138.xml"/><Relationship Id="rId12" Type="http://schemas.openxmlformats.org/officeDocument/2006/relationships/slideLayout" Target="../slideLayouts/slideLayout139.xml"/><Relationship Id="rId13" Type="http://schemas.openxmlformats.org/officeDocument/2006/relationships/slideLayout" Target="../slideLayouts/slideLayout140.xml"/><Relationship Id="rId14" Type="http://schemas.openxmlformats.org/officeDocument/2006/relationships/slideLayout" Target="../slideLayouts/slideLayout141.xml"/><Relationship Id="rId15" Type="http://schemas.openxmlformats.org/officeDocument/2006/relationships/slideLayout" Target="../slideLayouts/slideLayout142.xml"/><Relationship Id="rId16" Type="http://schemas.openxmlformats.org/officeDocument/2006/relationships/slideLayout" Target="../slideLayouts/slideLayout143.xml"/><Relationship Id="rId17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45.xml"/><Relationship Id="rId7" Type="http://schemas.openxmlformats.org/officeDocument/2006/relationships/slideLayout" Target="../slideLayouts/slideLayout146.xml"/><Relationship Id="rId8" Type="http://schemas.openxmlformats.org/officeDocument/2006/relationships/slideLayout" Target="../slideLayouts/slideLayout147.xml"/><Relationship Id="rId9" Type="http://schemas.openxmlformats.org/officeDocument/2006/relationships/slideLayout" Target="../slideLayouts/slideLayout148.xml"/><Relationship Id="rId10" Type="http://schemas.openxmlformats.org/officeDocument/2006/relationships/slideLayout" Target="../slideLayouts/slideLayout149.xml"/><Relationship Id="rId11" Type="http://schemas.openxmlformats.org/officeDocument/2006/relationships/slideLayout" Target="../slideLayouts/slideLayout150.xml"/><Relationship Id="rId12" Type="http://schemas.openxmlformats.org/officeDocument/2006/relationships/slideLayout" Target="../slideLayouts/slideLayout151.xml"/><Relationship Id="rId13" Type="http://schemas.openxmlformats.org/officeDocument/2006/relationships/slideLayout" Target="../slideLayouts/slideLayout152.xml"/><Relationship Id="rId14" Type="http://schemas.openxmlformats.org/officeDocument/2006/relationships/slideLayout" Target="../slideLayouts/slideLayout153.xml"/><Relationship Id="rId15" Type="http://schemas.openxmlformats.org/officeDocument/2006/relationships/slideLayout" Target="../slideLayouts/slideLayout154.xml"/><Relationship Id="rId16" Type="http://schemas.openxmlformats.org/officeDocument/2006/relationships/slideLayout" Target="../slideLayouts/slideLayout155.xml"/><Relationship Id="rId17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57.xml"/><Relationship Id="rId7" Type="http://schemas.openxmlformats.org/officeDocument/2006/relationships/slideLayout" Target="../slideLayouts/slideLayout158.xml"/><Relationship Id="rId8" Type="http://schemas.openxmlformats.org/officeDocument/2006/relationships/slideLayout" Target="../slideLayouts/slideLayout159.xml"/><Relationship Id="rId9" Type="http://schemas.openxmlformats.org/officeDocument/2006/relationships/slideLayout" Target="../slideLayouts/slideLayout160.xml"/><Relationship Id="rId10" Type="http://schemas.openxmlformats.org/officeDocument/2006/relationships/slideLayout" Target="../slideLayouts/slideLayout161.xml"/><Relationship Id="rId11" Type="http://schemas.openxmlformats.org/officeDocument/2006/relationships/slideLayout" Target="../slideLayouts/slideLayout162.xml"/><Relationship Id="rId12" Type="http://schemas.openxmlformats.org/officeDocument/2006/relationships/slideLayout" Target="../slideLayouts/slideLayout163.xml"/><Relationship Id="rId13" Type="http://schemas.openxmlformats.org/officeDocument/2006/relationships/slideLayout" Target="../slideLayouts/slideLayout164.xml"/><Relationship Id="rId14" Type="http://schemas.openxmlformats.org/officeDocument/2006/relationships/slideLayout" Target="../slideLayouts/slideLayout165.xml"/><Relationship Id="rId15" Type="http://schemas.openxmlformats.org/officeDocument/2006/relationships/slideLayout" Target="../slideLayouts/slideLayout166.xml"/><Relationship Id="rId16" Type="http://schemas.openxmlformats.org/officeDocument/2006/relationships/slideLayout" Target="../slideLayouts/slideLayout167.xml"/><Relationship Id="rId17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69.xml"/><Relationship Id="rId7" Type="http://schemas.openxmlformats.org/officeDocument/2006/relationships/slideLayout" Target="../slideLayouts/slideLayout170.xml"/><Relationship Id="rId8" Type="http://schemas.openxmlformats.org/officeDocument/2006/relationships/slideLayout" Target="../slideLayouts/slideLayout171.xml"/><Relationship Id="rId9" Type="http://schemas.openxmlformats.org/officeDocument/2006/relationships/slideLayout" Target="../slideLayouts/slideLayout172.xml"/><Relationship Id="rId10" Type="http://schemas.openxmlformats.org/officeDocument/2006/relationships/slideLayout" Target="../slideLayouts/slideLayout173.xml"/><Relationship Id="rId11" Type="http://schemas.openxmlformats.org/officeDocument/2006/relationships/slideLayout" Target="../slideLayouts/slideLayout174.xml"/><Relationship Id="rId12" Type="http://schemas.openxmlformats.org/officeDocument/2006/relationships/slideLayout" Target="../slideLayouts/slideLayout175.xml"/><Relationship Id="rId13" Type="http://schemas.openxmlformats.org/officeDocument/2006/relationships/slideLayout" Target="../slideLayouts/slideLayout176.xml"/><Relationship Id="rId14" Type="http://schemas.openxmlformats.org/officeDocument/2006/relationships/slideLayout" Target="../slideLayouts/slideLayout177.xml"/><Relationship Id="rId15" Type="http://schemas.openxmlformats.org/officeDocument/2006/relationships/slideLayout" Target="../slideLayouts/slideLayout178.xml"/><Relationship Id="rId16" Type="http://schemas.openxmlformats.org/officeDocument/2006/relationships/slideLayout" Target="../slideLayouts/slideLayout179.xml"/><Relationship Id="rId17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81.xml"/><Relationship Id="rId7" Type="http://schemas.openxmlformats.org/officeDocument/2006/relationships/slideLayout" Target="../slideLayouts/slideLayout182.xml"/><Relationship Id="rId8" Type="http://schemas.openxmlformats.org/officeDocument/2006/relationships/slideLayout" Target="../slideLayouts/slideLayout183.xml"/><Relationship Id="rId9" Type="http://schemas.openxmlformats.org/officeDocument/2006/relationships/slideLayout" Target="../slideLayouts/slideLayout184.xml"/><Relationship Id="rId10" Type="http://schemas.openxmlformats.org/officeDocument/2006/relationships/slideLayout" Target="../slideLayouts/slideLayout185.xml"/><Relationship Id="rId11" Type="http://schemas.openxmlformats.org/officeDocument/2006/relationships/slideLayout" Target="../slideLayouts/slideLayout186.xml"/><Relationship Id="rId12" Type="http://schemas.openxmlformats.org/officeDocument/2006/relationships/slideLayout" Target="../slideLayouts/slideLayout187.xml"/><Relationship Id="rId13" Type="http://schemas.openxmlformats.org/officeDocument/2006/relationships/slideLayout" Target="../slideLayouts/slideLayout188.xml"/><Relationship Id="rId14" Type="http://schemas.openxmlformats.org/officeDocument/2006/relationships/slideLayout" Target="../slideLayouts/slideLayout189.xml"/><Relationship Id="rId15" Type="http://schemas.openxmlformats.org/officeDocument/2006/relationships/slideLayout" Target="../slideLayouts/slideLayout190.xml"/><Relationship Id="rId16" Type="http://schemas.openxmlformats.org/officeDocument/2006/relationships/slideLayout" Target="../slideLayouts/slideLayout191.xml"/><Relationship Id="rId17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85.xml"/><Relationship Id="rId7" Type="http://schemas.openxmlformats.org/officeDocument/2006/relationships/slideLayout" Target="../slideLayouts/slideLayout86.xml"/><Relationship Id="rId8" Type="http://schemas.openxmlformats.org/officeDocument/2006/relationships/slideLayout" Target="../slideLayouts/slideLayout87.xml"/><Relationship Id="rId9" Type="http://schemas.openxmlformats.org/officeDocument/2006/relationships/slideLayout" Target="../slideLayouts/slideLayout88.xml"/><Relationship Id="rId10" Type="http://schemas.openxmlformats.org/officeDocument/2006/relationships/slideLayout" Target="../slideLayouts/slideLayout89.xml"/><Relationship Id="rId11" Type="http://schemas.openxmlformats.org/officeDocument/2006/relationships/slideLayout" Target="../slideLayouts/slideLayout90.xml"/><Relationship Id="rId12" Type="http://schemas.openxmlformats.org/officeDocument/2006/relationships/slideLayout" Target="../slideLayouts/slideLayout91.xml"/><Relationship Id="rId13" Type="http://schemas.openxmlformats.org/officeDocument/2006/relationships/slideLayout" Target="../slideLayouts/slideLayout92.xml"/><Relationship Id="rId14" Type="http://schemas.openxmlformats.org/officeDocument/2006/relationships/slideLayout" Target="../slideLayouts/slideLayout93.xml"/><Relationship Id="rId15" Type="http://schemas.openxmlformats.org/officeDocument/2006/relationships/slideLayout" Target="../slideLayouts/slideLayout94.xml"/><Relationship Id="rId16" Type="http://schemas.openxmlformats.org/officeDocument/2006/relationships/slideLayout" Target="../slideLayouts/slideLayout95.xml"/><Relationship Id="rId17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282600" y="1428840"/>
            <a:ext cx="8494560" cy="50004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0">
            <a:noFill/>
          </a:ln>
          <a:effectLst>
            <a:outerShdw dist="109865" dir="634411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293760" y="345960"/>
            <a:ext cx="8496360" cy="9874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7d8496"/>
              </a:gs>
              <a:gs pos="100000">
                <a:srgbClr val="e6e6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7324560" y="5962680"/>
            <a:ext cx="1256040" cy="3697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4" name=""/>
          <p:cNvGrpSpPr/>
          <p:nvPr/>
        </p:nvGrpSpPr>
        <p:grpSpPr>
          <a:xfrm>
            <a:off x="398520" y="442800"/>
            <a:ext cx="1312920" cy="779400"/>
            <a:chOff x="398520" y="442800"/>
            <a:chExt cx="1312920" cy="779400"/>
          </a:xfrm>
        </p:grpSpPr>
        <p:grpSp>
          <p:nvGrpSpPr>
            <p:cNvPr id="5" name=""/>
            <p:cNvGrpSpPr/>
            <p:nvPr/>
          </p:nvGrpSpPr>
          <p:grpSpPr>
            <a:xfrm>
              <a:off x="398520" y="442800"/>
              <a:ext cx="1312920" cy="779400"/>
              <a:chOff x="398520" y="442800"/>
              <a:chExt cx="1312920" cy="779400"/>
            </a:xfrm>
          </p:grpSpPr>
          <p:sp>
            <p:nvSpPr>
              <p:cNvPr id="6" name=""/>
              <p:cNvSpPr/>
              <p:nvPr/>
            </p:nvSpPr>
            <p:spPr>
              <a:xfrm>
                <a:off x="398520" y="442800"/>
                <a:ext cx="1312920" cy="779400"/>
              </a:xfrm>
              <a:prstGeom prst="roundRect">
                <a:avLst>
                  <a:gd name="adj" fmla="val 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bfbfbf"/>
                  </a:gs>
                </a:gsLst>
                <a:lin ang="20400000"/>
              </a:gradFill>
              <a:ln w="0">
                <a:noFill/>
              </a:ln>
              <a:effectLst>
                <a:outerShdw dist="38183" dir="81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420480" y="468000"/>
                <a:ext cx="1258920" cy="7282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" name=""/>
            <p:cNvGrpSpPr/>
            <p:nvPr/>
          </p:nvGrpSpPr>
          <p:grpSpPr>
            <a:xfrm>
              <a:off x="438120" y="453960"/>
              <a:ext cx="1238400" cy="731520"/>
              <a:chOff x="438120" y="453960"/>
              <a:chExt cx="1238400" cy="731520"/>
            </a:xfrm>
          </p:grpSpPr>
          <p:sp>
            <p:nvSpPr>
              <p:cNvPr id="9" name=""/>
              <p:cNvSpPr/>
              <p:nvPr/>
            </p:nvSpPr>
            <p:spPr>
              <a:xfrm>
                <a:off x="438120" y="453960"/>
                <a:ext cx="1238400" cy="250200"/>
              </a:xfrm>
              <a:prstGeom prst="rect">
                <a:avLst/>
              </a:prstGeom>
              <a:solidFill>
                <a:srgbClr val="66cc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438120" y="694440"/>
                <a:ext cx="1238400" cy="250200"/>
              </a:xfrm>
              <a:prstGeom prst="rect">
                <a:avLst/>
              </a:prstGeom>
              <a:solidFill>
                <a:srgbClr val="ffff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38120" y="935640"/>
                <a:ext cx="1238400" cy="249840"/>
              </a:xfrm>
              <a:prstGeom prst="rect">
                <a:avLst/>
              </a:prstGeom>
              <a:solidFill>
                <a:srgbClr val="66cc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" name=""/>
          <p:cNvGrpSpPr/>
          <p:nvPr/>
        </p:nvGrpSpPr>
        <p:grpSpPr>
          <a:xfrm>
            <a:off x="357120" y="1514520"/>
            <a:ext cx="8283600" cy="465120"/>
            <a:chOff x="357120" y="1514520"/>
            <a:chExt cx="8283600" cy="465120"/>
          </a:xfrm>
        </p:grpSpPr>
        <p:sp>
          <p:nvSpPr>
            <p:cNvPr id="13" name=""/>
            <p:cNvSpPr/>
            <p:nvPr/>
          </p:nvSpPr>
          <p:spPr>
            <a:xfrm>
              <a:off x="357120" y="1530000"/>
              <a:ext cx="8283600" cy="42552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" name="" descr=""/>
            <p:cNvPicPr/>
            <p:nvPr/>
          </p:nvPicPr>
          <p:blipFill>
            <a:blip r:embed="rId5"/>
            <a:stretch/>
          </p:blipFill>
          <p:spPr>
            <a:xfrm>
              <a:off x="6326280" y="1604520"/>
              <a:ext cx="2142360" cy="28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" name=""/>
            <p:cNvSpPr/>
            <p:nvPr/>
          </p:nvSpPr>
          <p:spPr>
            <a:xfrm>
              <a:off x="6145200" y="1514520"/>
              <a:ext cx="1440" cy="4651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sldNum" idx="1"/>
          </p:nvPr>
        </p:nvSpPr>
        <p:spPr>
          <a:xfrm>
            <a:off x="368280" y="605772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1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596B6FB7-6045-4A5D-8044-B0CBFE5D54AF}" type="slidenum"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8" name=""/>
          <p:cNvSpPr/>
          <p:nvPr/>
        </p:nvSpPr>
        <p:spPr>
          <a:xfrm>
            <a:off x="282600" y="1428840"/>
            <a:ext cx="8494560" cy="50004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0">
            <a:noFill/>
          </a:ln>
          <a:effectLst>
            <a:outerShdw dist="109865" dir="634411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93760" y="345960"/>
            <a:ext cx="8496360" cy="9874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7d8496"/>
              </a:gs>
              <a:gs pos="100000">
                <a:srgbClr val="e6e6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0" name="" descr=""/>
          <p:cNvPicPr/>
          <p:nvPr/>
        </p:nvPicPr>
        <p:blipFill>
          <a:blip r:embed="rId3"/>
          <a:stretch/>
        </p:blipFill>
        <p:spPr>
          <a:xfrm>
            <a:off x="7324560" y="5962680"/>
            <a:ext cx="1256040" cy="3697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481" name=""/>
          <p:cNvGrpSpPr/>
          <p:nvPr/>
        </p:nvGrpSpPr>
        <p:grpSpPr>
          <a:xfrm>
            <a:off x="398520" y="442800"/>
            <a:ext cx="1312920" cy="779400"/>
            <a:chOff x="398520" y="442800"/>
            <a:chExt cx="1312920" cy="779400"/>
          </a:xfrm>
        </p:grpSpPr>
        <p:grpSp>
          <p:nvGrpSpPr>
            <p:cNvPr id="482" name=""/>
            <p:cNvGrpSpPr/>
            <p:nvPr/>
          </p:nvGrpSpPr>
          <p:grpSpPr>
            <a:xfrm>
              <a:off x="398520" y="442800"/>
              <a:ext cx="1312920" cy="779400"/>
              <a:chOff x="398520" y="442800"/>
              <a:chExt cx="1312920" cy="779400"/>
            </a:xfrm>
          </p:grpSpPr>
          <p:sp>
            <p:nvSpPr>
              <p:cNvPr id="483" name=""/>
              <p:cNvSpPr/>
              <p:nvPr/>
            </p:nvSpPr>
            <p:spPr>
              <a:xfrm>
                <a:off x="398520" y="442800"/>
                <a:ext cx="1312920" cy="779400"/>
              </a:xfrm>
              <a:prstGeom prst="roundRect">
                <a:avLst>
                  <a:gd name="adj" fmla="val 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bfbfbf"/>
                  </a:gs>
                </a:gsLst>
                <a:lin ang="20400000"/>
              </a:gradFill>
              <a:ln w="0">
                <a:noFill/>
              </a:ln>
              <a:effectLst>
                <a:outerShdw dist="38183" dir="81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48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420480" y="468000"/>
                <a:ext cx="1258920" cy="7282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85" name=""/>
            <p:cNvGrpSpPr/>
            <p:nvPr/>
          </p:nvGrpSpPr>
          <p:grpSpPr>
            <a:xfrm>
              <a:off x="438120" y="453960"/>
              <a:ext cx="1238400" cy="731520"/>
              <a:chOff x="438120" y="453960"/>
              <a:chExt cx="1238400" cy="731520"/>
            </a:xfrm>
          </p:grpSpPr>
          <p:sp>
            <p:nvSpPr>
              <p:cNvPr id="486" name=""/>
              <p:cNvSpPr/>
              <p:nvPr/>
            </p:nvSpPr>
            <p:spPr>
              <a:xfrm>
                <a:off x="438120" y="453960"/>
                <a:ext cx="1238400" cy="250200"/>
              </a:xfrm>
              <a:prstGeom prst="rect">
                <a:avLst/>
              </a:prstGeom>
              <a:solidFill>
                <a:srgbClr val="66cc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438120" y="694440"/>
                <a:ext cx="1238400" cy="250200"/>
              </a:xfrm>
              <a:prstGeom prst="rect">
                <a:avLst/>
              </a:prstGeom>
              <a:solidFill>
                <a:srgbClr val="ffff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438120" y="935640"/>
                <a:ext cx="1238400" cy="249840"/>
              </a:xfrm>
              <a:prstGeom prst="rect">
                <a:avLst/>
              </a:prstGeom>
              <a:solidFill>
                <a:srgbClr val="66cc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89" name=""/>
          <p:cNvGrpSpPr/>
          <p:nvPr/>
        </p:nvGrpSpPr>
        <p:grpSpPr>
          <a:xfrm>
            <a:off x="357120" y="1514520"/>
            <a:ext cx="8283600" cy="465120"/>
            <a:chOff x="357120" y="1514520"/>
            <a:chExt cx="8283600" cy="465120"/>
          </a:xfrm>
        </p:grpSpPr>
        <p:sp>
          <p:nvSpPr>
            <p:cNvPr id="490" name=""/>
            <p:cNvSpPr/>
            <p:nvPr/>
          </p:nvSpPr>
          <p:spPr>
            <a:xfrm>
              <a:off x="357120" y="1530000"/>
              <a:ext cx="8283600" cy="42552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91" name="" descr=""/>
            <p:cNvPicPr/>
            <p:nvPr/>
          </p:nvPicPr>
          <p:blipFill>
            <a:blip r:embed="rId5"/>
            <a:stretch/>
          </p:blipFill>
          <p:spPr>
            <a:xfrm>
              <a:off x="6326280" y="1604520"/>
              <a:ext cx="2142360" cy="28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2" name=""/>
            <p:cNvSpPr/>
            <p:nvPr/>
          </p:nvSpPr>
          <p:spPr>
            <a:xfrm>
              <a:off x="6145200" y="1514520"/>
              <a:ext cx="1440" cy="4651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3" name="PlaceHolder 1"/>
          <p:cNvSpPr>
            <a:spLocks noGrp="1"/>
          </p:cNvSpPr>
          <p:nvPr>
            <p:ph type="sldNum" idx="10"/>
          </p:nvPr>
        </p:nvSpPr>
        <p:spPr>
          <a:xfrm>
            <a:off x="368280" y="605772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1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F8A00CBD-0B55-4A3B-AE32-048903EB82DB}" type="slidenum"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6"/>
    <p:sldLayoutId id="2147483767" r:id="rId7"/>
    <p:sldLayoutId id="2147483768" r:id="rId8"/>
    <p:sldLayoutId id="2147483769" r:id="rId9"/>
    <p:sldLayoutId id="2147483770" r:id="rId10"/>
    <p:sldLayoutId id="2147483771" r:id="rId11"/>
    <p:sldLayoutId id="2147483772" r:id="rId12"/>
    <p:sldLayoutId id="2147483773" r:id="rId13"/>
    <p:sldLayoutId id="2147483774" r:id="rId14"/>
    <p:sldLayoutId id="2147483775" r:id="rId15"/>
    <p:sldLayoutId id="2147483776" r:id="rId16"/>
    <p:sldLayoutId id="2147483777" r:id="rId17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1" name=""/>
          <p:cNvSpPr/>
          <p:nvPr/>
        </p:nvSpPr>
        <p:spPr>
          <a:xfrm>
            <a:off x="282600" y="1428840"/>
            <a:ext cx="8494560" cy="50004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0">
            <a:noFill/>
          </a:ln>
          <a:effectLst>
            <a:outerShdw dist="109865" dir="634411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293760" y="345960"/>
            <a:ext cx="8496360" cy="9874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7d8496"/>
              </a:gs>
              <a:gs pos="100000">
                <a:srgbClr val="e6e6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" descr=""/>
          <p:cNvPicPr/>
          <p:nvPr/>
        </p:nvPicPr>
        <p:blipFill>
          <a:blip r:embed="rId3"/>
          <a:stretch/>
        </p:blipFill>
        <p:spPr>
          <a:xfrm>
            <a:off x="7324560" y="5962680"/>
            <a:ext cx="1256040" cy="3697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534" name=""/>
          <p:cNvGrpSpPr/>
          <p:nvPr/>
        </p:nvGrpSpPr>
        <p:grpSpPr>
          <a:xfrm>
            <a:off x="398520" y="442800"/>
            <a:ext cx="1312920" cy="779400"/>
            <a:chOff x="398520" y="442800"/>
            <a:chExt cx="1312920" cy="779400"/>
          </a:xfrm>
        </p:grpSpPr>
        <p:grpSp>
          <p:nvGrpSpPr>
            <p:cNvPr id="535" name=""/>
            <p:cNvGrpSpPr/>
            <p:nvPr/>
          </p:nvGrpSpPr>
          <p:grpSpPr>
            <a:xfrm>
              <a:off x="398520" y="442800"/>
              <a:ext cx="1312920" cy="779400"/>
              <a:chOff x="398520" y="442800"/>
              <a:chExt cx="1312920" cy="779400"/>
            </a:xfrm>
          </p:grpSpPr>
          <p:sp>
            <p:nvSpPr>
              <p:cNvPr id="536" name=""/>
              <p:cNvSpPr/>
              <p:nvPr/>
            </p:nvSpPr>
            <p:spPr>
              <a:xfrm>
                <a:off x="398520" y="442800"/>
                <a:ext cx="1312920" cy="779400"/>
              </a:xfrm>
              <a:prstGeom prst="roundRect">
                <a:avLst>
                  <a:gd name="adj" fmla="val 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bfbfbf"/>
                  </a:gs>
                </a:gsLst>
                <a:lin ang="20400000"/>
              </a:gradFill>
              <a:ln w="0">
                <a:noFill/>
              </a:ln>
              <a:effectLst>
                <a:outerShdw dist="38183" dir="81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3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420480" y="468000"/>
                <a:ext cx="1258920" cy="7282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8" name=""/>
            <p:cNvGrpSpPr/>
            <p:nvPr/>
          </p:nvGrpSpPr>
          <p:grpSpPr>
            <a:xfrm>
              <a:off x="438120" y="453960"/>
              <a:ext cx="1238400" cy="731520"/>
              <a:chOff x="438120" y="453960"/>
              <a:chExt cx="1238400" cy="731520"/>
            </a:xfrm>
          </p:grpSpPr>
          <p:sp>
            <p:nvSpPr>
              <p:cNvPr id="539" name=""/>
              <p:cNvSpPr/>
              <p:nvPr/>
            </p:nvSpPr>
            <p:spPr>
              <a:xfrm>
                <a:off x="438120" y="453960"/>
                <a:ext cx="1238400" cy="250200"/>
              </a:xfrm>
              <a:prstGeom prst="rect">
                <a:avLst/>
              </a:prstGeom>
              <a:solidFill>
                <a:srgbClr val="66cc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438120" y="694440"/>
                <a:ext cx="1238400" cy="250200"/>
              </a:xfrm>
              <a:prstGeom prst="rect">
                <a:avLst/>
              </a:prstGeom>
              <a:solidFill>
                <a:srgbClr val="ffff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438120" y="935640"/>
                <a:ext cx="1238400" cy="249840"/>
              </a:xfrm>
              <a:prstGeom prst="rect">
                <a:avLst/>
              </a:prstGeom>
              <a:solidFill>
                <a:srgbClr val="66cc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42" name=""/>
          <p:cNvGrpSpPr/>
          <p:nvPr/>
        </p:nvGrpSpPr>
        <p:grpSpPr>
          <a:xfrm>
            <a:off x="357120" y="1514520"/>
            <a:ext cx="8283600" cy="465120"/>
            <a:chOff x="357120" y="1514520"/>
            <a:chExt cx="8283600" cy="465120"/>
          </a:xfrm>
        </p:grpSpPr>
        <p:sp>
          <p:nvSpPr>
            <p:cNvPr id="543" name=""/>
            <p:cNvSpPr/>
            <p:nvPr/>
          </p:nvSpPr>
          <p:spPr>
            <a:xfrm>
              <a:off x="357120" y="1530000"/>
              <a:ext cx="8283600" cy="42552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44" name="" descr=""/>
            <p:cNvPicPr/>
            <p:nvPr/>
          </p:nvPicPr>
          <p:blipFill>
            <a:blip r:embed="rId5"/>
            <a:stretch/>
          </p:blipFill>
          <p:spPr>
            <a:xfrm>
              <a:off x="6326280" y="1604520"/>
              <a:ext cx="2142360" cy="28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5" name=""/>
            <p:cNvSpPr/>
            <p:nvPr/>
          </p:nvSpPr>
          <p:spPr>
            <a:xfrm>
              <a:off x="6145200" y="1514520"/>
              <a:ext cx="1440" cy="4651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6" name="PlaceHolder 1"/>
          <p:cNvSpPr>
            <a:spLocks noGrp="1"/>
          </p:cNvSpPr>
          <p:nvPr>
            <p:ph type="sldNum" idx="11"/>
          </p:nvPr>
        </p:nvSpPr>
        <p:spPr>
          <a:xfrm>
            <a:off x="368280" y="605772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1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BC158382-5A70-4C73-AE44-581651D87F94}" type="slidenum"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6"/>
    <p:sldLayoutId id="2147483780" r:id="rId7"/>
    <p:sldLayoutId id="2147483781" r:id="rId8"/>
    <p:sldLayoutId id="2147483782" r:id="rId9"/>
    <p:sldLayoutId id="2147483783" r:id="rId10"/>
    <p:sldLayoutId id="2147483784" r:id="rId11"/>
    <p:sldLayoutId id="2147483785" r:id="rId12"/>
    <p:sldLayoutId id="2147483786" r:id="rId13"/>
    <p:sldLayoutId id="2147483787" r:id="rId14"/>
    <p:sldLayoutId id="2147483788" r:id="rId15"/>
    <p:sldLayoutId id="2147483789" r:id="rId16"/>
    <p:sldLayoutId id="2147483790" r:id="rId17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4" name=""/>
          <p:cNvSpPr/>
          <p:nvPr/>
        </p:nvSpPr>
        <p:spPr>
          <a:xfrm>
            <a:off x="282600" y="1428840"/>
            <a:ext cx="8494560" cy="50004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0">
            <a:noFill/>
          </a:ln>
          <a:effectLst>
            <a:outerShdw dist="109865" dir="634411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293760" y="345960"/>
            <a:ext cx="8496360" cy="9874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7d8496"/>
              </a:gs>
              <a:gs pos="100000">
                <a:srgbClr val="e6e6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6" name="" descr=""/>
          <p:cNvPicPr/>
          <p:nvPr/>
        </p:nvPicPr>
        <p:blipFill>
          <a:blip r:embed="rId3"/>
          <a:stretch/>
        </p:blipFill>
        <p:spPr>
          <a:xfrm>
            <a:off x="7324560" y="5962680"/>
            <a:ext cx="1256040" cy="3697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587" name=""/>
          <p:cNvGrpSpPr/>
          <p:nvPr/>
        </p:nvGrpSpPr>
        <p:grpSpPr>
          <a:xfrm>
            <a:off x="398520" y="442800"/>
            <a:ext cx="1312920" cy="779400"/>
            <a:chOff x="398520" y="442800"/>
            <a:chExt cx="1312920" cy="779400"/>
          </a:xfrm>
        </p:grpSpPr>
        <p:grpSp>
          <p:nvGrpSpPr>
            <p:cNvPr id="588" name=""/>
            <p:cNvGrpSpPr/>
            <p:nvPr/>
          </p:nvGrpSpPr>
          <p:grpSpPr>
            <a:xfrm>
              <a:off x="398520" y="442800"/>
              <a:ext cx="1312920" cy="779400"/>
              <a:chOff x="398520" y="442800"/>
              <a:chExt cx="1312920" cy="779400"/>
            </a:xfrm>
          </p:grpSpPr>
          <p:sp>
            <p:nvSpPr>
              <p:cNvPr id="589" name=""/>
              <p:cNvSpPr/>
              <p:nvPr/>
            </p:nvSpPr>
            <p:spPr>
              <a:xfrm>
                <a:off x="398520" y="442800"/>
                <a:ext cx="1312920" cy="779400"/>
              </a:xfrm>
              <a:prstGeom prst="roundRect">
                <a:avLst>
                  <a:gd name="adj" fmla="val 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bfbfbf"/>
                  </a:gs>
                </a:gsLst>
                <a:lin ang="20400000"/>
              </a:gradFill>
              <a:ln w="0">
                <a:noFill/>
              </a:ln>
              <a:effectLst>
                <a:outerShdw dist="38183" dir="81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90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420480" y="468000"/>
                <a:ext cx="1258920" cy="7282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91" name=""/>
            <p:cNvGrpSpPr/>
            <p:nvPr/>
          </p:nvGrpSpPr>
          <p:grpSpPr>
            <a:xfrm>
              <a:off x="438120" y="453960"/>
              <a:ext cx="1238400" cy="731520"/>
              <a:chOff x="438120" y="453960"/>
              <a:chExt cx="1238400" cy="731520"/>
            </a:xfrm>
          </p:grpSpPr>
          <p:sp>
            <p:nvSpPr>
              <p:cNvPr id="592" name=""/>
              <p:cNvSpPr/>
              <p:nvPr/>
            </p:nvSpPr>
            <p:spPr>
              <a:xfrm>
                <a:off x="438120" y="453960"/>
                <a:ext cx="1238400" cy="250200"/>
              </a:xfrm>
              <a:prstGeom prst="rect">
                <a:avLst/>
              </a:prstGeom>
              <a:solidFill>
                <a:srgbClr val="66cc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438120" y="694440"/>
                <a:ext cx="1238400" cy="250200"/>
              </a:xfrm>
              <a:prstGeom prst="rect">
                <a:avLst/>
              </a:prstGeom>
              <a:solidFill>
                <a:srgbClr val="ffff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438120" y="935640"/>
                <a:ext cx="1238400" cy="249840"/>
              </a:xfrm>
              <a:prstGeom prst="rect">
                <a:avLst/>
              </a:prstGeom>
              <a:solidFill>
                <a:srgbClr val="66cc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95" name=""/>
          <p:cNvGrpSpPr/>
          <p:nvPr/>
        </p:nvGrpSpPr>
        <p:grpSpPr>
          <a:xfrm>
            <a:off x="357120" y="1514520"/>
            <a:ext cx="8283600" cy="465120"/>
            <a:chOff x="357120" y="1514520"/>
            <a:chExt cx="8283600" cy="465120"/>
          </a:xfrm>
        </p:grpSpPr>
        <p:sp>
          <p:nvSpPr>
            <p:cNvPr id="596" name=""/>
            <p:cNvSpPr/>
            <p:nvPr/>
          </p:nvSpPr>
          <p:spPr>
            <a:xfrm>
              <a:off x="357120" y="1530000"/>
              <a:ext cx="8283600" cy="42552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97" name="" descr=""/>
            <p:cNvPicPr/>
            <p:nvPr/>
          </p:nvPicPr>
          <p:blipFill>
            <a:blip r:embed="rId5"/>
            <a:stretch/>
          </p:blipFill>
          <p:spPr>
            <a:xfrm>
              <a:off x="6326280" y="1604520"/>
              <a:ext cx="2142360" cy="28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8" name=""/>
            <p:cNvSpPr/>
            <p:nvPr/>
          </p:nvSpPr>
          <p:spPr>
            <a:xfrm>
              <a:off x="6145200" y="1514520"/>
              <a:ext cx="1440" cy="4651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9" name="PlaceHolder 1"/>
          <p:cNvSpPr>
            <a:spLocks noGrp="1"/>
          </p:cNvSpPr>
          <p:nvPr>
            <p:ph type="sldNum" idx="12"/>
          </p:nvPr>
        </p:nvSpPr>
        <p:spPr>
          <a:xfrm>
            <a:off x="368280" y="605772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1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37795228-D25A-45A1-B4B5-B0ABDFE9D34B}" type="slidenum"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6"/>
    <p:sldLayoutId id="2147483793" r:id="rId7"/>
    <p:sldLayoutId id="2147483794" r:id="rId8"/>
    <p:sldLayoutId id="2147483795" r:id="rId9"/>
    <p:sldLayoutId id="2147483796" r:id="rId10"/>
    <p:sldLayoutId id="2147483797" r:id="rId11"/>
    <p:sldLayoutId id="2147483798" r:id="rId12"/>
    <p:sldLayoutId id="2147483799" r:id="rId13"/>
    <p:sldLayoutId id="2147483800" r:id="rId14"/>
    <p:sldLayoutId id="2147483801" r:id="rId15"/>
    <p:sldLayoutId id="2147483802" r:id="rId16"/>
    <p:sldLayoutId id="2147483803" r:id="rId17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7" name=""/>
          <p:cNvSpPr/>
          <p:nvPr/>
        </p:nvSpPr>
        <p:spPr>
          <a:xfrm>
            <a:off x="282600" y="1428840"/>
            <a:ext cx="8494560" cy="50004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0">
            <a:noFill/>
          </a:ln>
          <a:effectLst>
            <a:outerShdw dist="109865" dir="634411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293760" y="345960"/>
            <a:ext cx="8496360" cy="9874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7d8496"/>
              </a:gs>
              <a:gs pos="100000">
                <a:srgbClr val="e6e6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9" name="" descr=""/>
          <p:cNvPicPr/>
          <p:nvPr/>
        </p:nvPicPr>
        <p:blipFill>
          <a:blip r:embed="rId3"/>
          <a:stretch/>
        </p:blipFill>
        <p:spPr>
          <a:xfrm>
            <a:off x="7324560" y="5962680"/>
            <a:ext cx="1256040" cy="3697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640" name=""/>
          <p:cNvGrpSpPr/>
          <p:nvPr/>
        </p:nvGrpSpPr>
        <p:grpSpPr>
          <a:xfrm>
            <a:off x="398520" y="442800"/>
            <a:ext cx="1312920" cy="779400"/>
            <a:chOff x="398520" y="442800"/>
            <a:chExt cx="1312920" cy="779400"/>
          </a:xfrm>
        </p:grpSpPr>
        <p:grpSp>
          <p:nvGrpSpPr>
            <p:cNvPr id="641" name=""/>
            <p:cNvGrpSpPr/>
            <p:nvPr/>
          </p:nvGrpSpPr>
          <p:grpSpPr>
            <a:xfrm>
              <a:off x="398520" y="442800"/>
              <a:ext cx="1312920" cy="779400"/>
              <a:chOff x="398520" y="442800"/>
              <a:chExt cx="1312920" cy="779400"/>
            </a:xfrm>
          </p:grpSpPr>
          <p:sp>
            <p:nvSpPr>
              <p:cNvPr id="642" name=""/>
              <p:cNvSpPr/>
              <p:nvPr/>
            </p:nvSpPr>
            <p:spPr>
              <a:xfrm>
                <a:off x="398520" y="442800"/>
                <a:ext cx="1312920" cy="779400"/>
              </a:xfrm>
              <a:prstGeom prst="roundRect">
                <a:avLst>
                  <a:gd name="adj" fmla="val 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bfbfbf"/>
                  </a:gs>
                </a:gsLst>
                <a:lin ang="20400000"/>
              </a:gradFill>
              <a:ln w="0">
                <a:noFill/>
              </a:ln>
              <a:effectLst>
                <a:outerShdw dist="38183" dir="81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43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420480" y="468000"/>
                <a:ext cx="1258920" cy="7282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44" name=""/>
            <p:cNvGrpSpPr/>
            <p:nvPr/>
          </p:nvGrpSpPr>
          <p:grpSpPr>
            <a:xfrm>
              <a:off x="438120" y="453960"/>
              <a:ext cx="1238400" cy="731520"/>
              <a:chOff x="438120" y="453960"/>
              <a:chExt cx="1238400" cy="731520"/>
            </a:xfrm>
          </p:grpSpPr>
          <p:sp>
            <p:nvSpPr>
              <p:cNvPr id="645" name=""/>
              <p:cNvSpPr/>
              <p:nvPr/>
            </p:nvSpPr>
            <p:spPr>
              <a:xfrm>
                <a:off x="438120" y="453960"/>
                <a:ext cx="1238400" cy="250200"/>
              </a:xfrm>
              <a:prstGeom prst="rect">
                <a:avLst/>
              </a:prstGeom>
              <a:solidFill>
                <a:srgbClr val="66cc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438120" y="694440"/>
                <a:ext cx="1238400" cy="250200"/>
              </a:xfrm>
              <a:prstGeom prst="rect">
                <a:avLst/>
              </a:prstGeom>
              <a:solidFill>
                <a:srgbClr val="ffff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438120" y="935640"/>
                <a:ext cx="1238400" cy="249840"/>
              </a:xfrm>
              <a:prstGeom prst="rect">
                <a:avLst/>
              </a:prstGeom>
              <a:solidFill>
                <a:srgbClr val="66cc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48" name=""/>
          <p:cNvGrpSpPr/>
          <p:nvPr/>
        </p:nvGrpSpPr>
        <p:grpSpPr>
          <a:xfrm>
            <a:off x="357120" y="1514520"/>
            <a:ext cx="8283600" cy="465120"/>
            <a:chOff x="357120" y="1514520"/>
            <a:chExt cx="8283600" cy="465120"/>
          </a:xfrm>
        </p:grpSpPr>
        <p:sp>
          <p:nvSpPr>
            <p:cNvPr id="649" name=""/>
            <p:cNvSpPr/>
            <p:nvPr/>
          </p:nvSpPr>
          <p:spPr>
            <a:xfrm>
              <a:off x="357120" y="1530000"/>
              <a:ext cx="8283600" cy="42552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50" name="" descr=""/>
            <p:cNvPicPr/>
            <p:nvPr/>
          </p:nvPicPr>
          <p:blipFill>
            <a:blip r:embed="rId5"/>
            <a:stretch/>
          </p:blipFill>
          <p:spPr>
            <a:xfrm>
              <a:off x="6326280" y="1604520"/>
              <a:ext cx="2142360" cy="28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1" name=""/>
            <p:cNvSpPr/>
            <p:nvPr/>
          </p:nvSpPr>
          <p:spPr>
            <a:xfrm>
              <a:off x="6145200" y="1514520"/>
              <a:ext cx="1440" cy="4651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2" name="PlaceHolder 1"/>
          <p:cNvSpPr>
            <a:spLocks noGrp="1"/>
          </p:cNvSpPr>
          <p:nvPr>
            <p:ph type="sldNum" idx="13"/>
          </p:nvPr>
        </p:nvSpPr>
        <p:spPr>
          <a:xfrm>
            <a:off x="368280" y="605772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1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333B1194-5E4B-4A0E-B33C-52C53DFB2273}" type="slidenum"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6"/>
    <p:sldLayoutId id="2147483806" r:id="rId7"/>
    <p:sldLayoutId id="2147483807" r:id="rId8"/>
    <p:sldLayoutId id="2147483808" r:id="rId9"/>
    <p:sldLayoutId id="2147483809" r:id="rId10"/>
    <p:sldLayoutId id="2147483810" r:id="rId11"/>
    <p:sldLayoutId id="2147483811" r:id="rId12"/>
    <p:sldLayoutId id="2147483812" r:id="rId13"/>
    <p:sldLayoutId id="2147483813" r:id="rId14"/>
    <p:sldLayoutId id="2147483814" r:id="rId15"/>
    <p:sldLayoutId id="2147483815" r:id="rId16"/>
    <p:sldLayoutId id="2147483816" r:id="rId17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0" name=""/>
          <p:cNvSpPr/>
          <p:nvPr/>
        </p:nvSpPr>
        <p:spPr>
          <a:xfrm>
            <a:off x="282600" y="1428840"/>
            <a:ext cx="8494560" cy="50004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0">
            <a:noFill/>
          </a:ln>
          <a:effectLst>
            <a:outerShdw dist="109865" dir="634411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293760" y="345960"/>
            <a:ext cx="8496360" cy="9874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7d8496"/>
              </a:gs>
              <a:gs pos="100000">
                <a:srgbClr val="e6e6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2" name="" descr=""/>
          <p:cNvPicPr/>
          <p:nvPr/>
        </p:nvPicPr>
        <p:blipFill>
          <a:blip r:embed="rId3"/>
          <a:stretch/>
        </p:blipFill>
        <p:spPr>
          <a:xfrm>
            <a:off x="7324560" y="5962680"/>
            <a:ext cx="1256040" cy="3697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693" name=""/>
          <p:cNvGrpSpPr/>
          <p:nvPr/>
        </p:nvGrpSpPr>
        <p:grpSpPr>
          <a:xfrm>
            <a:off x="398520" y="442800"/>
            <a:ext cx="1312920" cy="779400"/>
            <a:chOff x="398520" y="442800"/>
            <a:chExt cx="1312920" cy="779400"/>
          </a:xfrm>
        </p:grpSpPr>
        <p:grpSp>
          <p:nvGrpSpPr>
            <p:cNvPr id="694" name=""/>
            <p:cNvGrpSpPr/>
            <p:nvPr/>
          </p:nvGrpSpPr>
          <p:grpSpPr>
            <a:xfrm>
              <a:off x="398520" y="442800"/>
              <a:ext cx="1312920" cy="779400"/>
              <a:chOff x="398520" y="442800"/>
              <a:chExt cx="1312920" cy="779400"/>
            </a:xfrm>
          </p:grpSpPr>
          <p:sp>
            <p:nvSpPr>
              <p:cNvPr id="695" name=""/>
              <p:cNvSpPr/>
              <p:nvPr/>
            </p:nvSpPr>
            <p:spPr>
              <a:xfrm>
                <a:off x="398520" y="442800"/>
                <a:ext cx="1312920" cy="779400"/>
              </a:xfrm>
              <a:prstGeom prst="roundRect">
                <a:avLst>
                  <a:gd name="adj" fmla="val 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bfbfbf"/>
                  </a:gs>
                </a:gsLst>
                <a:lin ang="20400000"/>
              </a:gradFill>
              <a:ln w="0">
                <a:noFill/>
              </a:ln>
              <a:effectLst>
                <a:outerShdw dist="38183" dir="81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96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420480" y="468000"/>
                <a:ext cx="1258920" cy="7282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97" name=""/>
            <p:cNvGrpSpPr/>
            <p:nvPr/>
          </p:nvGrpSpPr>
          <p:grpSpPr>
            <a:xfrm>
              <a:off x="438120" y="453960"/>
              <a:ext cx="1238400" cy="731520"/>
              <a:chOff x="438120" y="453960"/>
              <a:chExt cx="1238400" cy="731520"/>
            </a:xfrm>
          </p:grpSpPr>
          <p:sp>
            <p:nvSpPr>
              <p:cNvPr id="698" name=""/>
              <p:cNvSpPr/>
              <p:nvPr/>
            </p:nvSpPr>
            <p:spPr>
              <a:xfrm>
                <a:off x="438120" y="453960"/>
                <a:ext cx="1238400" cy="250200"/>
              </a:xfrm>
              <a:prstGeom prst="rect">
                <a:avLst/>
              </a:prstGeom>
              <a:solidFill>
                <a:srgbClr val="66cc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438120" y="694440"/>
                <a:ext cx="1238400" cy="250200"/>
              </a:xfrm>
              <a:prstGeom prst="rect">
                <a:avLst/>
              </a:prstGeom>
              <a:solidFill>
                <a:srgbClr val="ffff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438120" y="935640"/>
                <a:ext cx="1238400" cy="249840"/>
              </a:xfrm>
              <a:prstGeom prst="rect">
                <a:avLst/>
              </a:prstGeom>
              <a:solidFill>
                <a:srgbClr val="66cc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01" name=""/>
          <p:cNvGrpSpPr/>
          <p:nvPr/>
        </p:nvGrpSpPr>
        <p:grpSpPr>
          <a:xfrm>
            <a:off x="357120" y="1514520"/>
            <a:ext cx="8283600" cy="465120"/>
            <a:chOff x="357120" y="1514520"/>
            <a:chExt cx="8283600" cy="465120"/>
          </a:xfrm>
        </p:grpSpPr>
        <p:sp>
          <p:nvSpPr>
            <p:cNvPr id="702" name=""/>
            <p:cNvSpPr/>
            <p:nvPr/>
          </p:nvSpPr>
          <p:spPr>
            <a:xfrm>
              <a:off x="357120" y="1530000"/>
              <a:ext cx="8283600" cy="42552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03" name="" descr=""/>
            <p:cNvPicPr/>
            <p:nvPr/>
          </p:nvPicPr>
          <p:blipFill>
            <a:blip r:embed="rId5"/>
            <a:stretch/>
          </p:blipFill>
          <p:spPr>
            <a:xfrm>
              <a:off x="6326280" y="1604520"/>
              <a:ext cx="2142360" cy="28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4" name=""/>
            <p:cNvSpPr/>
            <p:nvPr/>
          </p:nvSpPr>
          <p:spPr>
            <a:xfrm>
              <a:off x="6145200" y="1514520"/>
              <a:ext cx="1440" cy="4651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5" name="PlaceHolder 1"/>
          <p:cNvSpPr>
            <a:spLocks noGrp="1"/>
          </p:cNvSpPr>
          <p:nvPr>
            <p:ph type="sldNum" idx="14"/>
          </p:nvPr>
        </p:nvSpPr>
        <p:spPr>
          <a:xfrm>
            <a:off x="368280" y="605772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1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0EDEFE33-DAA3-405D-BCA2-00DCEBAB90A2}" type="slidenum"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6"/>
    <p:sldLayoutId id="2147483819" r:id="rId7"/>
    <p:sldLayoutId id="2147483820" r:id="rId8"/>
    <p:sldLayoutId id="2147483821" r:id="rId9"/>
    <p:sldLayoutId id="2147483822" r:id="rId10"/>
    <p:sldLayoutId id="2147483823" r:id="rId11"/>
    <p:sldLayoutId id="2147483824" r:id="rId12"/>
    <p:sldLayoutId id="2147483825" r:id="rId13"/>
    <p:sldLayoutId id="2147483826" r:id="rId14"/>
    <p:sldLayoutId id="2147483827" r:id="rId15"/>
    <p:sldLayoutId id="2147483828" r:id="rId16"/>
    <p:sldLayoutId id="2147483829" r:id="rId17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3" name=""/>
          <p:cNvSpPr/>
          <p:nvPr/>
        </p:nvSpPr>
        <p:spPr>
          <a:xfrm>
            <a:off x="282600" y="1428840"/>
            <a:ext cx="8494560" cy="50004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0">
            <a:noFill/>
          </a:ln>
          <a:effectLst>
            <a:outerShdw dist="109865" dir="634411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293760" y="345960"/>
            <a:ext cx="8496360" cy="9874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7d8496"/>
              </a:gs>
              <a:gs pos="100000">
                <a:srgbClr val="e6e6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5" name="" descr=""/>
          <p:cNvPicPr/>
          <p:nvPr/>
        </p:nvPicPr>
        <p:blipFill>
          <a:blip r:embed="rId3"/>
          <a:stretch/>
        </p:blipFill>
        <p:spPr>
          <a:xfrm>
            <a:off x="7324560" y="5962680"/>
            <a:ext cx="1256040" cy="3697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746" name=""/>
          <p:cNvGrpSpPr/>
          <p:nvPr/>
        </p:nvGrpSpPr>
        <p:grpSpPr>
          <a:xfrm>
            <a:off x="398520" y="442800"/>
            <a:ext cx="1312920" cy="779400"/>
            <a:chOff x="398520" y="442800"/>
            <a:chExt cx="1312920" cy="779400"/>
          </a:xfrm>
        </p:grpSpPr>
        <p:grpSp>
          <p:nvGrpSpPr>
            <p:cNvPr id="747" name=""/>
            <p:cNvGrpSpPr/>
            <p:nvPr/>
          </p:nvGrpSpPr>
          <p:grpSpPr>
            <a:xfrm>
              <a:off x="398520" y="442800"/>
              <a:ext cx="1312920" cy="779400"/>
              <a:chOff x="398520" y="442800"/>
              <a:chExt cx="1312920" cy="779400"/>
            </a:xfrm>
          </p:grpSpPr>
          <p:sp>
            <p:nvSpPr>
              <p:cNvPr id="748" name=""/>
              <p:cNvSpPr/>
              <p:nvPr/>
            </p:nvSpPr>
            <p:spPr>
              <a:xfrm>
                <a:off x="398520" y="442800"/>
                <a:ext cx="1312920" cy="779400"/>
              </a:xfrm>
              <a:prstGeom prst="roundRect">
                <a:avLst>
                  <a:gd name="adj" fmla="val 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bfbfbf"/>
                  </a:gs>
                </a:gsLst>
                <a:lin ang="20400000"/>
              </a:gradFill>
              <a:ln w="0">
                <a:noFill/>
              </a:ln>
              <a:effectLst>
                <a:outerShdw dist="38183" dir="81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74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420480" y="468000"/>
                <a:ext cx="1258920" cy="7282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750" name=""/>
            <p:cNvGrpSpPr/>
            <p:nvPr/>
          </p:nvGrpSpPr>
          <p:grpSpPr>
            <a:xfrm>
              <a:off x="438120" y="453960"/>
              <a:ext cx="1238400" cy="731520"/>
              <a:chOff x="438120" y="453960"/>
              <a:chExt cx="1238400" cy="731520"/>
            </a:xfrm>
          </p:grpSpPr>
          <p:sp>
            <p:nvSpPr>
              <p:cNvPr id="751" name=""/>
              <p:cNvSpPr/>
              <p:nvPr/>
            </p:nvSpPr>
            <p:spPr>
              <a:xfrm>
                <a:off x="438120" y="453960"/>
                <a:ext cx="1238400" cy="250200"/>
              </a:xfrm>
              <a:prstGeom prst="rect">
                <a:avLst/>
              </a:prstGeom>
              <a:solidFill>
                <a:srgbClr val="66cc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438120" y="694440"/>
                <a:ext cx="1238400" cy="250200"/>
              </a:xfrm>
              <a:prstGeom prst="rect">
                <a:avLst/>
              </a:prstGeom>
              <a:solidFill>
                <a:srgbClr val="ffff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438120" y="935640"/>
                <a:ext cx="1238400" cy="249840"/>
              </a:xfrm>
              <a:prstGeom prst="rect">
                <a:avLst/>
              </a:prstGeom>
              <a:solidFill>
                <a:srgbClr val="66cc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54" name=""/>
          <p:cNvGrpSpPr/>
          <p:nvPr/>
        </p:nvGrpSpPr>
        <p:grpSpPr>
          <a:xfrm>
            <a:off x="357120" y="1514520"/>
            <a:ext cx="8283600" cy="465120"/>
            <a:chOff x="357120" y="1514520"/>
            <a:chExt cx="8283600" cy="465120"/>
          </a:xfrm>
        </p:grpSpPr>
        <p:sp>
          <p:nvSpPr>
            <p:cNvPr id="755" name=""/>
            <p:cNvSpPr/>
            <p:nvPr/>
          </p:nvSpPr>
          <p:spPr>
            <a:xfrm>
              <a:off x="357120" y="1530000"/>
              <a:ext cx="8283600" cy="42552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56" name="" descr=""/>
            <p:cNvPicPr/>
            <p:nvPr/>
          </p:nvPicPr>
          <p:blipFill>
            <a:blip r:embed="rId5"/>
            <a:stretch/>
          </p:blipFill>
          <p:spPr>
            <a:xfrm>
              <a:off x="6326280" y="1604520"/>
              <a:ext cx="2142360" cy="28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7" name=""/>
            <p:cNvSpPr/>
            <p:nvPr/>
          </p:nvSpPr>
          <p:spPr>
            <a:xfrm>
              <a:off x="6145200" y="1514520"/>
              <a:ext cx="1440" cy="4651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8" name="PlaceHolder 1"/>
          <p:cNvSpPr>
            <a:spLocks noGrp="1"/>
          </p:cNvSpPr>
          <p:nvPr>
            <p:ph type="sldNum" idx="15"/>
          </p:nvPr>
        </p:nvSpPr>
        <p:spPr>
          <a:xfrm>
            <a:off x="368280" y="605772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1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9EAEFDF4-BD96-4B93-B64E-2FBC287ACED9}" type="slidenum"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6"/>
    <p:sldLayoutId id="2147483832" r:id="rId7"/>
    <p:sldLayoutId id="2147483833" r:id="rId8"/>
    <p:sldLayoutId id="2147483834" r:id="rId9"/>
    <p:sldLayoutId id="2147483835" r:id="rId10"/>
    <p:sldLayoutId id="2147483836" r:id="rId11"/>
    <p:sldLayoutId id="2147483837" r:id="rId12"/>
    <p:sldLayoutId id="2147483838" r:id="rId13"/>
    <p:sldLayoutId id="2147483839" r:id="rId14"/>
    <p:sldLayoutId id="2147483840" r:id="rId15"/>
    <p:sldLayoutId id="2147483841" r:id="rId16"/>
    <p:sldLayoutId id="2147483842" r:id="rId17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6" name=""/>
          <p:cNvSpPr/>
          <p:nvPr/>
        </p:nvSpPr>
        <p:spPr>
          <a:xfrm>
            <a:off x="282600" y="1428840"/>
            <a:ext cx="8494560" cy="50004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0">
            <a:noFill/>
          </a:ln>
          <a:effectLst>
            <a:outerShdw dist="109865" dir="634411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293760" y="345960"/>
            <a:ext cx="8496360" cy="9874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7d8496"/>
              </a:gs>
              <a:gs pos="100000">
                <a:srgbClr val="e6e6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8" name="" descr=""/>
          <p:cNvPicPr/>
          <p:nvPr/>
        </p:nvPicPr>
        <p:blipFill>
          <a:blip r:embed="rId3"/>
          <a:stretch/>
        </p:blipFill>
        <p:spPr>
          <a:xfrm>
            <a:off x="7324560" y="5962680"/>
            <a:ext cx="1256040" cy="3697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799" name=""/>
          <p:cNvGrpSpPr/>
          <p:nvPr/>
        </p:nvGrpSpPr>
        <p:grpSpPr>
          <a:xfrm>
            <a:off x="398520" y="442800"/>
            <a:ext cx="1312920" cy="779400"/>
            <a:chOff x="398520" y="442800"/>
            <a:chExt cx="1312920" cy="779400"/>
          </a:xfrm>
        </p:grpSpPr>
        <p:grpSp>
          <p:nvGrpSpPr>
            <p:cNvPr id="800" name=""/>
            <p:cNvGrpSpPr/>
            <p:nvPr/>
          </p:nvGrpSpPr>
          <p:grpSpPr>
            <a:xfrm>
              <a:off x="398520" y="442800"/>
              <a:ext cx="1312920" cy="779400"/>
              <a:chOff x="398520" y="442800"/>
              <a:chExt cx="1312920" cy="779400"/>
            </a:xfrm>
          </p:grpSpPr>
          <p:sp>
            <p:nvSpPr>
              <p:cNvPr id="801" name=""/>
              <p:cNvSpPr/>
              <p:nvPr/>
            </p:nvSpPr>
            <p:spPr>
              <a:xfrm>
                <a:off x="398520" y="442800"/>
                <a:ext cx="1312920" cy="779400"/>
              </a:xfrm>
              <a:prstGeom prst="roundRect">
                <a:avLst>
                  <a:gd name="adj" fmla="val 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bfbfbf"/>
                  </a:gs>
                </a:gsLst>
                <a:lin ang="20400000"/>
              </a:gradFill>
              <a:ln w="0">
                <a:noFill/>
              </a:ln>
              <a:effectLst>
                <a:outerShdw dist="38183" dir="81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80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420480" y="468000"/>
                <a:ext cx="1258920" cy="7282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03" name=""/>
            <p:cNvGrpSpPr/>
            <p:nvPr/>
          </p:nvGrpSpPr>
          <p:grpSpPr>
            <a:xfrm>
              <a:off x="438120" y="453960"/>
              <a:ext cx="1238400" cy="731520"/>
              <a:chOff x="438120" y="453960"/>
              <a:chExt cx="1238400" cy="731520"/>
            </a:xfrm>
          </p:grpSpPr>
          <p:sp>
            <p:nvSpPr>
              <p:cNvPr id="804" name=""/>
              <p:cNvSpPr/>
              <p:nvPr/>
            </p:nvSpPr>
            <p:spPr>
              <a:xfrm>
                <a:off x="438120" y="453960"/>
                <a:ext cx="1238400" cy="250200"/>
              </a:xfrm>
              <a:prstGeom prst="rect">
                <a:avLst/>
              </a:prstGeom>
              <a:solidFill>
                <a:srgbClr val="66cc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438120" y="694440"/>
                <a:ext cx="1238400" cy="250200"/>
              </a:xfrm>
              <a:prstGeom prst="rect">
                <a:avLst/>
              </a:prstGeom>
              <a:solidFill>
                <a:srgbClr val="ffff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438120" y="935640"/>
                <a:ext cx="1238400" cy="249840"/>
              </a:xfrm>
              <a:prstGeom prst="rect">
                <a:avLst/>
              </a:prstGeom>
              <a:solidFill>
                <a:srgbClr val="66cc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07" name=""/>
          <p:cNvGrpSpPr/>
          <p:nvPr/>
        </p:nvGrpSpPr>
        <p:grpSpPr>
          <a:xfrm>
            <a:off x="357120" y="1514520"/>
            <a:ext cx="8283600" cy="465120"/>
            <a:chOff x="357120" y="1514520"/>
            <a:chExt cx="8283600" cy="465120"/>
          </a:xfrm>
        </p:grpSpPr>
        <p:sp>
          <p:nvSpPr>
            <p:cNvPr id="808" name=""/>
            <p:cNvSpPr/>
            <p:nvPr/>
          </p:nvSpPr>
          <p:spPr>
            <a:xfrm>
              <a:off x="357120" y="1530000"/>
              <a:ext cx="8283600" cy="42552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09" name="" descr=""/>
            <p:cNvPicPr/>
            <p:nvPr/>
          </p:nvPicPr>
          <p:blipFill>
            <a:blip r:embed="rId5"/>
            <a:stretch/>
          </p:blipFill>
          <p:spPr>
            <a:xfrm>
              <a:off x="6326280" y="1604520"/>
              <a:ext cx="2142360" cy="28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0" name=""/>
            <p:cNvSpPr/>
            <p:nvPr/>
          </p:nvSpPr>
          <p:spPr>
            <a:xfrm>
              <a:off x="6145200" y="1514520"/>
              <a:ext cx="1440" cy="4651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1" name="PlaceHolder 1"/>
          <p:cNvSpPr>
            <a:spLocks noGrp="1"/>
          </p:cNvSpPr>
          <p:nvPr>
            <p:ph type="sldNum" idx="16"/>
          </p:nvPr>
        </p:nvSpPr>
        <p:spPr>
          <a:xfrm>
            <a:off x="368280" y="605772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1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5A0CEC63-CA60-48AA-A3CA-6CB5DFFCBD29}" type="slidenum"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6"/>
    <p:sldLayoutId id="2147483845" r:id="rId7"/>
    <p:sldLayoutId id="2147483846" r:id="rId8"/>
    <p:sldLayoutId id="2147483847" r:id="rId9"/>
    <p:sldLayoutId id="2147483848" r:id="rId10"/>
    <p:sldLayoutId id="2147483849" r:id="rId11"/>
    <p:sldLayoutId id="2147483850" r:id="rId12"/>
    <p:sldLayoutId id="2147483851" r:id="rId13"/>
    <p:sldLayoutId id="2147483852" r:id="rId14"/>
    <p:sldLayoutId id="2147483853" r:id="rId15"/>
    <p:sldLayoutId id="2147483854" r:id="rId16"/>
    <p:sldLayoutId id="2147483855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82600" y="1428840"/>
            <a:ext cx="8494560" cy="50004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0">
            <a:noFill/>
          </a:ln>
          <a:effectLst>
            <a:outerShdw dist="109865" dir="634411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93760" y="345960"/>
            <a:ext cx="8496360" cy="9874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7d8496"/>
              </a:gs>
              <a:gs pos="100000">
                <a:srgbClr val="e6e6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7324560" y="5962680"/>
            <a:ext cx="1256040" cy="3697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57" name=""/>
          <p:cNvGrpSpPr/>
          <p:nvPr/>
        </p:nvGrpSpPr>
        <p:grpSpPr>
          <a:xfrm>
            <a:off x="398520" y="442800"/>
            <a:ext cx="1312920" cy="779400"/>
            <a:chOff x="398520" y="442800"/>
            <a:chExt cx="1312920" cy="779400"/>
          </a:xfrm>
        </p:grpSpPr>
        <p:grpSp>
          <p:nvGrpSpPr>
            <p:cNvPr id="58" name=""/>
            <p:cNvGrpSpPr/>
            <p:nvPr/>
          </p:nvGrpSpPr>
          <p:grpSpPr>
            <a:xfrm>
              <a:off x="398520" y="442800"/>
              <a:ext cx="1312920" cy="779400"/>
              <a:chOff x="398520" y="442800"/>
              <a:chExt cx="1312920" cy="779400"/>
            </a:xfrm>
          </p:grpSpPr>
          <p:sp>
            <p:nvSpPr>
              <p:cNvPr id="59" name=""/>
              <p:cNvSpPr/>
              <p:nvPr/>
            </p:nvSpPr>
            <p:spPr>
              <a:xfrm>
                <a:off x="398520" y="442800"/>
                <a:ext cx="1312920" cy="779400"/>
              </a:xfrm>
              <a:prstGeom prst="roundRect">
                <a:avLst>
                  <a:gd name="adj" fmla="val 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bfbfbf"/>
                  </a:gs>
                </a:gsLst>
                <a:lin ang="20400000"/>
              </a:gradFill>
              <a:ln w="0">
                <a:noFill/>
              </a:ln>
              <a:effectLst>
                <a:outerShdw dist="38183" dir="81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0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420480" y="468000"/>
                <a:ext cx="1258920" cy="7282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1" name=""/>
            <p:cNvGrpSpPr/>
            <p:nvPr/>
          </p:nvGrpSpPr>
          <p:grpSpPr>
            <a:xfrm>
              <a:off x="438120" y="453960"/>
              <a:ext cx="1238400" cy="731520"/>
              <a:chOff x="438120" y="453960"/>
              <a:chExt cx="1238400" cy="731520"/>
            </a:xfrm>
          </p:grpSpPr>
          <p:sp>
            <p:nvSpPr>
              <p:cNvPr id="62" name=""/>
              <p:cNvSpPr/>
              <p:nvPr/>
            </p:nvSpPr>
            <p:spPr>
              <a:xfrm>
                <a:off x="438120" y="453960"/>
                <a:ext cx="1238400" cy="250200"/>
              </a:xfrm>
              <a:prstGeom prst="rect">
                <a:avLst/>
              </a:prstGeom>
              <a:solidFill>
                <a:srgbClr val="66cc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438120" y="694440"/>
                <a:ext cx="1238400" cy="250200"/>
              </a:xfrm>
              <a:prstGeom prst="rect">
                <a:avLst/>
              </a:prstGeom>
              <a:solidFill>
                <a:srgbClr val="ffff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438120" y="935640"/>
                <a:ext cx="1238400" cy="249840"/>
              </a:xfrm>
              <a:prstGeom prst="rect">
                <a:avLst/>
              </a:prstGeom>
              <a:solidFill>
                <a:srgbClr val="66cc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5" name=""/>
          <p:cNvGrpSpPr/>
          <p:nvPr/>
        </p:nvGrpSpPr>
        <p:grpSpPr>
          <a:xfrm>
            <a:off x="357120" y="1514520"/>
            <a:ext cx="8283600" cy="465120"/>
            <a:chOff x="357120" y="1514520"/>
            <a:chExt cx="8283600" cy="465120"/>
          </a:xfrm>
        </p:grpSpPr>
        <p:sp>
          <p:nvSpPr>
            <p:cNvPr id="66" name=""/>
            <p:cNvSpPr/>
            <p:nvPr/>
          </p:nvSpPr>
          <p:spPr>
            <a:xfrm>
              <a:off x="357120" y="1530000"/>
              <a:ext cx="8283600" cy="42552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7" name="" descr=""/>
            <p:cNvPicPr/>
            <p:nvPr/>
          </p:nvPicPr>
          <p:blipFill>
            <a:blip r:embed="rId5"/>
            <a:stretch/>
          </p:blipFill>
          <p:spPr>
            <a:xfrm>
              <a:off x="6326280" y="1604520"/>
              <a:ext cx="2142360" cy="28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6145200" y="1514520"/>
              <a:ext cx="1440" cy="4651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PlaceHolder 1"/>
          <p:cNvSpPr>
            <a:spLocks noGrp="1"/>
          </p:cNvSpPr>
          <p:nvPr>
            <p:ph type="sldNum" idx="2"/>
          </p:nvPr>
        </p:nvSpPr>
        <p:spPr>
          <a:xfrm>
            <a:off x="368280" y="605772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1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D79538E6-FB05-43CD-9DD8-7D8B5C1059E2}" type="slidenum"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282600" y="1428840"/>
            <a:ext cx="8494560" cy="50004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0">
            <a:noFill/>
          </a:ln>
          <a:effectLst>
            <a:outerShdw dist="109865" dir="634411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93760" y="345960"/>
            <a:ext cx="8496360" cy="9874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7d8496"/>
              </a:gs>
              <a:gs pos="100000">
                <a:srgbClr val="e6e6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7324560" y="5962680"/>
            <a:ext cx="1256040" cy="3697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110" name=""/>
          <p:cNvGrpSpPr/>
          <p:nvPr/>
        </p:nvGrpSpPr>
        <p:grpSpPr>
          <a:xfrm>
            <a:off x="398520" y="442800"/>
            <a:ext cx="1312920" cy="779400"/>
            <a:chOff x="398520" y="442800"/>
            <a:chExt cx="1312920" cy="779400"/>
          </a:xfrm>
        </p:grpSpPr>
        <p:grpSp>
          <p:nvGrpSpPr>
            <p:cNvPr id="111" name=""/>
            <p:cNvGrpSpPr/>
            <p:nvPr/>
          </p:nvGrpSpPr>
          <p:grpSpPr>
            <a:xfrm>
              <a:off x="398520" y="442800"/>
              <a:ext cx="1312920" cy="779400"/>
              <a:chOff x="398520" y="442800"/>
              <a:chExt cx="1312920" cy="779400"/>
            </a:xfrm>
          </p:grpSpPr>
          <p:sp>
            <p:nvSpPr>
              <p:cNvPr id="112" name=""/>
              <p:cNvSpPr/>
              <p:nvPr/>
            </p:nvSpPr>
            <p:spPr>
              <a:xfrm>
                <a:off x="398520" y="442800"/>
                <a:ext cx="1312920" cy="779400"/>
              </a:xfrm>
              <a:prstGeom prst="roundRect">
                <a:avLst>
                  <a:gd name="adj" fmla="val 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bfbfbf"/>
                  </a:gs>
                </a:gsLst>
                <a:lin ang="20400000"/>
              </a:gradFill>
              <a:ln w="0">
                <a:noFill/>
              </a:ln>
              <a:effectLst>
                <a:outerShdw dist="38183" dir="81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420480" y="468000"/>
                <a:ext cx="1258920" cy="7282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4" name=""/>
            <p:cNvGrpSpPr/>
            <p:nvPr/>
          </p:nvGrpSpPr>
          <p:grpSpPr>
            <a:xfrm>
              <a:off x="438120" y="453960"/>
              <a:ext cx="1238400" cy="731520"/>
              <a:chOff x="438120" y="453960"/>
              <a:chExt cx="1238400" cy="731520"/>
            </a:xfrm>
          </p:grpSpPr>
          <p:sp>
            <p:nvSpPr>
              <p:cNvPr id="115" name=""/>
              <p:cNvSpPr/>
              <p:nvPr/>
            </p:nvSpPr>
            <p:spPr>
              <a:xfrm>
                <a:off x="438120" y="453960"/>
                <a:ext cx="1238400" cy="250200"/>
              </a:xfrm>
              <a:prstGeom prst="rect">
                <a:avLst/>
              </a:prstGeom>
              <a:solidFill>
                <a:srgbClr val="66cc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438120" y="694440"/>
                <a:ext cx="1238400" cy="250200"/>
              </a:xfrm>
              <a:prstGeom prst="rect">
                <a:avLst/>
              </a:prstGeom>
              <a:solidFill>
                <a:srgbClr val="ffff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438120" y="935640"/>
                <a:ext cx="1238400" cy="249840"/>
              </a:xfrm>
              <a:prstGeom prst="rect">
                <a:avLst/>
              </a:prstGeom>
              <a:solidFill>
                <a:srgbClr val="66cc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8" name=""/>
          <p:cNvGrpSpPr/>
          <p:nvPr/>
        </p:nvGrpSpPr>
        <p:grpSpPr>
          <a:xfrm>
            <a:off x="357120" y="1514520"/>
            <a:ext cx="8283600" cy="465120"/>
            <a:chOff x="357120" y="1514520"/>
            <a:chExt cx="8283600" cy="465120"/>
          </a:xfrm>
        </p:grpSpPr>
        <p:sp>
          <p:nvSpPr>
            <p:cNvPr id="119" name=""/>
            <p:cNvSpPr/>
            <p:nvPr/>
          </p:nvSpPr>
          <p:spPr>
            <a:xfrm>
              <a:off x="357120" y="1530000"/>
              <a:ext cx="8283600" cy="42552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0" name="" descr=""/>
            <p:cNvPicPr/>
            <p:nvPr/>
          </p:nvPicPr>
          <p:blipFill>
            <a:blip r:embed="rId5"/>
            <a:stretch/>
          </p:blipFill>
          <p:spPr>
            <a:xfrm>
              <a:off x="6326280" y="1604520"/>
              <a:ext cx="2142360" cy="28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6145200" y="1514520"/>
              <a:ext cx="1440" cy="4651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sldNum" idx="3"/>
          </p:nvPr>
        </p:nvSpPr>
        <p:spPr>
          <a:xfrm>
            <a:off x="368280" y="605772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1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7898D671-13DC-4D9A-8783-CDAB76418C96}" type="slidenum"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282600" y="1428840"/>
            <a:ext cx="8494560" cy="50004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0">
            <a:noFill/>
          </a:ln>
          <a:effectLst>
            <a:outerShdw dist="109865" dir="634411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93760" y="345960"/>
            <a:ext cx="8496360" cy="9874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7d8496"/>
              </a:gs>
              <a:gs pos="100000">
                <a:srgbClr val="e6e6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3"/>
          <a:stretch/>
        </p:blipFill>
        <p:spPr>
          <a:xfrm>
            <a:off x="7324560" y="5962680"/>
            <a:ext cx="1256040" cy="3697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163" name=""/>
          <p:cNvGrpSpPr/>
          <p:nvPr/>
        </p:nvGrpSpPr>
        <p:grpSpPr>
          <a:xfrm>
            <a:off x="398520" y="442800"/>
            <a:ext cx="1312920" cy="779400"/>
            <a:chOff x="398520" y="442800"/>
            <a:chExt cx="1312920" cy="779400"/>
          </a:xfrm>
        </p:grpSpPr>
        <p:grpSp>
          <p:nvGrpSpPr>
            <p:cNvPr id="164" name=""/>
            <p:cNvGrpSpPr/>
            <p:nvPr/>
          </p:nvGrpSpPr>
          <p:grpSpPr>
            <a:xfrm>
              <a:off x="398520" y="442800"/>
              <a:ext cx="1312920" cy="779400"/>
              <a:chOff x="398520" y="442800"/>
              <a:chExt cx="1312920" cy="779400"/>
            </a:xfrm>
          </p:grpSpPr>
          <p:sp>
            <p:nvSpPr>
              <p:cNvPr id="165" name=""/>
              <p:cNvSpPr/>
              <p:nvPr/>
            </p:nvSpPr>
            <p:spPr>
              <a:xfrm>
                <a:off x="398520" y="442800"/>
                <a:ext cx="1312920" cy="779400"/>
              </a:xfrm>
              <a:prstGeom prst="roundRect">
                <a:avLst>
                  <a:gd name="adj" fmla="val 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bfbfbf"/>
                  </a:gs>
                </a:gsLst>
                <a:lin ang="20400000"/>
              </a:gradFill>
              <a:ln w="0">
                <a:noFill/>
              </a:ln>
              <a:effectLst>
                <a:outerShdw dist="38183" dir="81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66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420480" y="468000"/>
                <a:ext cx="1258920" cy="7282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67" name=""/>
            <p:cNvGrpSpPr/>
            <p:nvPr/>
          </p:nvGrpSpPr>
          <p:grpSpPr>
            <a:xfrm>
              <a:off x="438120" y="453960"/>
              <a:ext cx="1238400" cy="731520"/>
              <a:chOff x="438120" y="453960"/>
              <a:chExt cx="1238400" cy="731520"/>
            </a:xfrm>
          </p:grpSpPr>
          <p:sp>
            <p:nvSpPr>
              <p:cNvPr id="168" name=""/>
              <p:cNvSpPr/>
              <p:nvPr/>
            </p:nvSpPr>
            <p:spPr>
              <a:xfrm>
                <a:off x="438120" y="453960"/>
                <a:ext cx="1238400" cy="250200"/>
              </a:xfrm>
              <a:prstGeom prst="rect">
                <a:avLst/>
              </a:prstGeom>
              <a:solidFill>
                <a:srgbClr val="66cc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438120" y="694440"/>
                <a:ext cx="1238400" cy="250200"/>
              </a:xfrm>
              <a:prstGeom prst="rect">
                <a:avLst/>
              </a:prstGeom>
              <a:solidFill>
                <a:srgbClr val="ffff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438120" y="935640"/>
                <a:ext cx="1238400" cy="249840"/>
              </a:xfrm>
              <a:prstGeom prst="rect">
                <a:avLst/>
              </a:prstGeom>
              <a:solidFill>
                <a:srgbClr val="66cc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71" name=""/>
          <p:cNvGrpSpPr/>
          <p:nvPr/>
        </p:nvGrpSpPr>
        <p:grpSpPr>
          <a:xfrm>
            <a:off x="357120" y="1514520"/>
            <a:ext cx="8283600" cy="465120"/>
            <a:chOff x="357120" y="1514520"/>
            <a:chExt cx="8283600" cy="465120"/>
          </a:xfrm>
        </p:grpSpPr>
        <p:sp>
          <p:nvSpPr>
            <p:cNvPr id="172" name=""/>
            <p:cNvSpPr/>
            <p:nvPr/>
          </p:nvSpPr>
          <p:spPr>
            <a:xfrm>
              <a:off x="357120" y="1530000"/>
              <a:ext cx="8283600" cy="42552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3" name="" descr=""/>
            <p:cNvPicPr/>
            <p:nvPr/>
          </p:nvPicPr>
          <p:blipFill>
            <a:blip r:embed="rId5"/>
            <a:stretch/>
          </p:blipFill>
          <p:spPr>
            <a:xfrm>
              <a:off x="6326280" y="1604520"/>
              <a:ext cx="2142360" cy="28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"/>
            <p:cNvSpPr/>
            <p:nvPr/>
          </p:nvSpPr>
          <p:spPr>
            <a:xfrm>
              <a:off x="6145200" y="1514520"/>
              <a:ext cx="1440" cy="4651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PlaceHolder 1"/>
          <p:cNvSpPr>
            <a:spLocks noGrp="1"/>
          </p:cNvSpPr>
          <p:nvPr>
            <p:ph type="sldNum" idx="4"/>
          </p:nvPr>
        </p:nvSpPr>
        <p:spPr>
          <a:xfrm>
            <a:off x="368280" y="605772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1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F046756B-CB3A-426D-9C22-643A04DD99CD}" type="slidenum"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282600" y="1428840"/>
            <a:ext cx="8494560" cy="50004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0">
            <a:noFill/>
          </a:ln>
          <a:effectLst>
            <a:outerShdw dist="109865" dir="634411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93760" y="345960"/>
            <a:ext cx="8496360" cy="9874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7d8496"/>
              </a:gs>
              <a:gs pos="100000">
                <a:srgbClr val="e6e6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7324560" y="5962680"/>
            <a:ext cx="1256040" cy="3697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216" name=""/>
          <p:cNvGrpSpPr/>
          <p:nvPr/>
        </p:nvGrpSpPr>
        <p:grpSpPr>
          <a:xfrm>
            <a:off x="398520" y="442800"/>
            <a:ext cx="1312920" cy="779400"/>
            <a:chOff x="398520" y="442800"/>
            <a:chExt cx="1312920" cy="779400"/>
          </a:xfrm>
        </p:grpSpPr>
        <p:grpSp>
          <p:nvGrpSpPr>
            <p:cNvPr id="217" name=""/>
            <p:cNvGrpSpPr/>
            <p:nvPr/>
          </p:nvGrpSpPr>
          <p:grpSpPr>
            <a:xfrm>
              <a:off x="398520" y="442800"/>
              <a:ext cx="1312920" cy="779400"/>
              <a:chOff x="398520" y="442800"/>
              <a:chExt cx="1312920" cy="779400"/>
            </a:xfrm>
          </p:grpSpPr>
          <p:sp>
            <p:nvSpPr>
              <p:cNvPr id="218" name=""/>
              <p:cNvSpPr/>
              <p:nvPr/>
            </p:nvSpPr>
            <p:spPr>
              <a:xfrm>
                <a:off x="398520" y="442800"/>
                <a:ext cx="1312920" cy="779400"/>
              </a:xfrm>
              <a:prstGeom prst="roundRect">
                <a:avLst>
                  <a:gd name="adj" fmla="val 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bfbfbf"/>
                  </a:gs>
                </a:gsLst>
                <a:lin ang="20400000"/>
              </a:gradFill>
              <a:ln w="0">
                <a:noFill/>
              </a:ln>
              <a:effectLst>
                <a:outerShdw dist="38183" dir="81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1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420480" y="468000"/>
                <a:ext cx="1258920" cy="7282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20" name=""/>
            <p:cNvGrpSpPr/>
            <p:nvPr/>
          </p:nvGrpSpPr>
          <p:grpSpPr>
            <a:xfrm>
              <a:off x="438120" y="453960"/>
              <a:ext cx="1238400" cy="731520"/>
              <a:chOff x="438120" y="453960"/>
              <a:chExt cx="1238400" cy="731520"/>
            </a:xfrm>
          </p:grpSpPr>
          <p:sp>
            <p:nvSpPr>
              <p:cNvPr id="221" name=""/>
              <p:cNvSpPr/>
              <p:nvPr/>
            </p:nvSpPr>
            <p:spPr>
              <a:xfrm>
                <a:off x="438120" y="453960"/>
                <a:ext cx="1238400" cy="250200"/>
              </a:xfrm>
              <a:prstGeom prst="rect">
                <a:avLst/>
              </a:prstGeom>
              <a:solidFill>
                <a:srgbClr val="66cc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438120" y="694440"/>
                <a:ext cx="1238400" cy="250200"/>
              </a:xfrm>
              <a:prstGeom prst="rect">
                <a:avLst/>
              </a:prstGeom>
              <a:solidFill>
                <a:srgbClr val="ffff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438120" y="935640"/>
                <a:ext cx="1238400" cy="249840"/>
              </a:xfrm>
              <a:prstGeom prst="rect">
                <a:avLst/>
              </a:prstGeom>
              <a:solidFill>
                <a:srgbClr val="66cc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24" name=""/>
          <p:cNvGrpSpPr/>
          <p:nvPr/>
        </p:nvGrpSpPr>
        <p:grpSpPr>
          <a:xfrm>
            <a:off x="357120" y="1514520"/>
            <a:ext cx="8283600" cy="465120"/>
            <a:chOff x="357120" y="1514520"/>
            <a:chExt cx="8283600" cy="465120"/>
          </a:xfrm>
        </p:grpSpPr>
        <p:sp>
          <p:nvSpPr>
            <p:cNvPr id="225" name=""/>
            <p:cNvSpPr/>
            <p:nvPr/>
          </p:nvSpPr>
          <p:spPr>
            <a:xfrm>
              <a:off x="357120" y="1530000"/>
              <a:ext cx="8283600" cy="42552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6" name="" descr=""/>
            <p:cNvPicPr/>
            <p:nvPr/>
          </p:nvPicPr>
          <p:blipFill>
            <a:blip r:embed="rId5"/>
            <a:stretch/>
          </p:blipFill>
          <p:spPr>
            <a:xfrm>
              <a:off x="6326280" y="1604520"/>
              <a:ext cx="2142360" cy="28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"/>
            <p:cNvSpPr/>
            <p:nvPr/>
          </p:nvSpPr>
          <p:spPr>
            <a:xfrm>
              <a:off x="6145200" y="1514520"/>
              <a:ext cx="1440" cy="4651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PlaceHolder 1"/>
          <p:cNvSpPr>
            <a:spLocks noGrp="1"/>
          </p:cNvSpPr>
          <p:nvPr>
            <p:ph type="sldNum" idx="5"/>
          </p:nvPr>
        </p:nvSpPr>
        <p:spPr>
          <a:xfrm>
            <a:off x="368280" y="605772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1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1C3954E0-D602-4056-BDFD-DFB03EDD8ECD}" type="slidenum"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282600" y="1428840"/>
            <a:ext cx="8494560" cy="50004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0">
            <a:noFill/>
          </a:ln>
          <a:effectLst>
            <a:outerShdw dist="109865" dir="634411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93760" y="345960"/>
            <a:ext cx="8496360" cy="9874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7d8496"/>
              </a:gs>
              <a:gs pos="100000">
                <a:srgbClr val="e6e6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3"/>
          <a:stretch/>
        </p:blipFill>
        <p:spPr>
          <a:xfrm>
            <a:off x="7324560" y="5962680"/>
            <a:ext cx="1256040" cy="3697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269" name=""/>
          <p:cNvGrpSpPr/>
          <p:nvPr/>
        </p:nvGrpSpPr>
        <p:grpSpPr>
          <a:xfrm>
            <a:off x="398520" y="442800"/>
            <a:ext cx="1312920" cy="779400"/>
            <a:chOff x="398520" y="442800"/>
            <a:chExt cx="1312920" cy="779400"/>
          </a:xfrm>
        </p:grpSpPr>
        <p:grpSp>
          <p:nvGrpSpPr>
            <p:cNvPr id="270" name=""/>
            <p:cNvGrpSpPr/>
            <p:nvPr/>
          </p:nvGrpSpPr>
          <p:grpSpPr>
            <a:xfrm>
              <a:off x="398520" y="442800"/>
              <a:ext cx="1312920" cy="779400"/>
              <a:chOff x="398520" y="442800"/>
              <a:chExt cx="1312920" cy="779400"/>
            </a:xfrm>
          </p:grpSpPr>
          <p:sp>
            <p:nvSpPr>
              <p:cNvPr id="271" name=""/>
              <p:cNvSpPr/>
              <p:nvPr/>
            </p:nvSpPr>
            <p:spPr>
              <a:xfrm>
                <a:off x="398520" y="442800"/>
                <a:ext cx="1312920" cy="779400"/>
              </a:xfrm>
              <a:prstGeom prst="roundRect">
                <a:avLst>
                  <a:gd name="adj" fmla="val 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bfbfbf"/>
                  </a:gs>
                </a:gsLst>
                <a:lin ang="20400000"/>
              </a:gradFill>
              <a:ln w="0">
                <a:noFill/>
              </a:ln>
              <a:effectLst>
                <a:outerShdw dist="38183" dir="81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7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420480" y="468000"/>
                <a:ext cx="1258920" cy="7282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73" name=""/>
            <p:cNvGrpSpPr/>
            <p:nvPr/>
          </p:nvGrpSpPr>
          <p:grpSpPr>
            <a:xfrm>
              <a:off x="438120" y="453960"/>
              <a:ext cx="1238400" cy="731520"/>
              <a:chOff x="438120" y="453960"/>
              <a:chExt cx="1238400" cy="731520"/>
            </a:xfrm>
          </p:grpSpPr>
          <p:sp>
            <p:nvSpPr>
              <p:cNvPr id="274" name=""/>
              <p:cNvSpPr/>
              <p:nvPr/>
            </p:nvSpPr>
            <p:spPr>
              <a:xfrm>
                <a:off x="438120" y="453960"/>
                <a:ext cx="1238400" cy="250200"/>
              </a:xfrm>
              <a:prstGeom prst="rect">
                <a:avLst/>
              </a:prstGeom>
              <a:solidFill>
                <a:srgbClr val="66cc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438120" y="694440"/>
                <a:ext cx="1238400" cy="250200"/>
              </a:xfrm>
              <a:prstGeom prst="rect">
                <a:avLst/>
              </a:prstGeom>
              <a:solidFill>
                <a:srgbClr val="ffff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438120" y="935640"/>
                <a:ext cx="1238400" cy="249840"/>
              </a:xfrm>
              <a:prstGeom prst="rect">
                <a:avLst/>
              </a:prstGeom>
              <a:solidFill>
                <a:srgbClr val="66cc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77" name=""/>
          <p:cNvGrpSpPr/>
          <p:nvPr/>
        </p:nvGrpSpPr>
        <p:grpSpPr>
          <a:xfrm>
            <a:off x="357120" y="1514520"/>
            <a:ext cx="8283600" cy="465120"/>
            <a:chOff x="357120" y="1514520"/>
            <a:chExt cx="8283600" cy="465120"/>
          </a:xfrm>
        </p:grpSpPr>
        <p:sp>
          <p:nvSpPr>
            <p:cNvPr id="278" name=""/>
            <p:cNvSpPr/>
            <p:nvPr/>
          </p:nvSpPr>
          <p:spPr>
            <a:xfrm>
              <a:off x="357120" y="1530000"/>
              <a:ext cx="8283600" cy="42552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79" name="" descr=""/>
            <p:cNvPicPr/>
            <p:nvPr/>
          </p:nvPicPr>
          <p:blipFill>
            <a:blip r:embed="rId5"/>
            <a:stretch/>
          </p:blipFill>
          <p:spPr>
            <a:xfrm>
              <a:off x="6326280" y="1604520"/>
              <a:ext cx="2142360" cy="28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0" name=""/>
            <p:cNvSpPr/>
            <p:nvPr/>
          </p:nvSpPr>
          <p:spPr>
            <a:xfrm>
              <a:off x="6145200" y="1514520"/>
              <a:ext cx="1440" cy="4651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1" name="PlaceHolder 1"/>
          <p:cNvSpPr>
            <a:spLocks noGrp="1"/>
          </p:cNvSpPr>
          <p:nvPr>
            <p:ph type="sldNum" idx="6"/>
          </p:nvPr>
        </p:nvSpPr>
        <p:spPr>
          <a:xfrm>
            <a:off x="368280" y="605772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1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148CC1CC-830E-4F22-B8CD-C88A9B9BA384}" type="slidenum"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19" name=""/>
          <p:cNvSpPr/>
          <p:nvPr/>
        </p:nvSpPr>
        <p:spPr>
          <a:xfrm>
            <a:off x="282600" y="1428840"/>
            <a:ext cx="8494560" cy="50004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0">
            <a:noFill/>
          </a:ln>
          <a:effectLst>
            <a:outerShdw dist="109865" dir="634411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293760" y="345960"/>
            <a:ext cx="8496360" cy="9874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7d8496"/>
              </a:gs>
              <a:gs pos="100000">
                <a:srgbClr val="e6e6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7324560" y="5962680"/>
            <a:ext cx="1256040" cy="3697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322" name=""/>
          <p:cNvGrpSpPr/>
          <p:nvPr/>
        </p:nvGrpSpPr>
        <p:grpSpPr>
          <a:xfrm>
            <a:off x="398520" y="442800"/>
            <a:ext cx="1312920" cy="779400"/>
            <a:chOff x="398520" y="442800"/>
            <a:chExt cx="1312920" cy="779400"/>
          </a:xfrm>
        </p:grpSpPr>
        <p:grpSp>
          <p:nvGrpSpPr>
            <p:cNvPr id="323" name=""/>
            <p:cNvGrpSpPr/>
            <p:nvPr/>
          </p:nvGrpSpPr>
          <p:grpSpPr>
            <a:xfrm>
              <a:off x="398520" y="442800"/>
              <a:ext cx="1312920" cy="779400"/>
              <a:chOff x="398520" y="442800"/>
              <a:chExt cx="1312920" cy="779400"/>
            </a:xfrm>
          </p:grpSpPr>
          <p:sp>
            <p:nvSpPr>
              <p:cNvPr id="324" name=""/>
              <p:cNvSpPr/>
              <p:nvPr/>
            </p:nvSpPr>
            <p:spPr>
              <a:xfrm>
                <a:off x="398520" y="442800"/>
                <a:ext cx="1312920" cy="779400"/>
              </a:xfrm>
              <a:prstGeom prst="roundRect">
                <a:avLst>
                  <a:gd name="adj" fmla="val 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bfbfbf"/>
                  </a:gs>
                </a:gsLst>
                <a:lin ang="20400000"/>
              </a:gradFill>
              <a:ln w="0">
                <a:noFill/>
              </a:ln>
              <a:effectLst>
                <a:outerShdw dist="38183" dir="81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2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420480" y="468000"/>
                <a:ext cx="1258920" cy="7282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26" name=""/>
            <p:cNvGrpSpPr/>
            <p:nvPr/>
          </p:nvGrpSpPr>
          <p:grpSpPr>
            <a:xfrm>
              <a:off x="438120" y="453960"/>
              <a:ext cx="1238400" cy="731520"/>
              <a:chOff x="438120" y="453960"/>
              <a:chExt cx="1238400" cy="731520"/>
            </a:xfrm>
          </p:grpSpPr>
          <p:sp>
            <p:nvSpPr>
              <p:cNvPr id="327" name=""/>
              <p:cNvSpPr/>
              <p:nvPr/>
            </p:nvSpPr>
            <p:spPr>
              <a:xfrm>
                <a:off x="438120" y="453960"/>
                <a:ext cx="1238400" cy="250200"/>
              </a:xfrm>
              <a:prstGeom prst="rect">
                <a:avLst/>
              </a:prstGeom>
              <a:solidFill>
                <a:srgbClr val="66cc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438120" y="694440"/>
                <a:ext cx="1238400" cy="250200"/>
              </a:xfrm>
              <a:prstGeom prst="rect">
                <a:avLst/>
              </a:prstGeom>
              <a:solidFill>
                <a:srgbClr val="ffff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438120" y="935640"/>
                <a:ext cx="1238400" cy="249840"/>
              </a:xfrm>
              <a:prstGeom prst="rect">
                <a:avLst/>
              </a:prstGeom>
              <a:solidFill>
                <a:srgbClr val="66cc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30" name=""/>
          <p:cNvGrpSpPr/>
          <p:nvPr/>
        </p:nvGrpSpPr>
        <p:grpSpPr>
          <a:xfrm>
            <a:off x="357120" y="1514520"/>
            <a:ext cx="8283600" cy="465120"/>
            <a:chOff x="357120" y="1514520"/>
            <a:chExt cx="8283600" cy="465120"/>
          </a:xfrm>
        </p:grpSpPr>
        <p:sp>
          <p:nvSpPr>
            <p:cNvPr id="331" name=""/>
            <p:cNvSpPr/>
            <p:nvPr/>
          </p:nvSpPr>
          <p:spPr>
            <a:xfrm>
              <a:off x="357120" y="1530000"/>
              <a:ext cx="8283600" cy="42552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2" name="" descr=""/>
            <p:cNvPicPr/>
            <p:nvPr/>
          </p:nvPicPr>
          <p:blipFill>
            <a:blip r:embed="rId5"/>
            <a:stretch/>
          </p:blipFill>
          <p:spPr>
            <a:xfrm>
              <a:off x="6326280" y="1604520"/>
              <a:ext cx="2142360" cy="28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3" name=""/>
            <p:cNvSpPr/>
            <p:nvPr/>
          </p:nvSpPr>
          <p:spPr>
            <a:xfrm>
              <a:off x="6145200" y="1514520"/>
              <a:ext cx="1440" cy="4651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4" name="PlaceHolder 1"/>
          <p:cNvSpPr>
            <a:spLocks noGrp="1"/>
          </p:cNvSpPr>
          <p:nvPr>
            <p:ph type="sldNum" idx="7"/>
          </p:nvPr>
        </p:nvSpPr>
        <p:spPr>
          <a:xfrm>
            <a:off x="368280" y="605772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1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C107151A-3EB5-4B96-89BA-A0F6C6836AA3}" type="slidenum"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2" name=""/>
          <p:cNvSpPr/>
          <p:nvPr/>
        </p:nvSpPr>
        <p:spPr>
          <a:xfrm>
            <a:off x="282600" y="1428840"/>
            <a:ext cx="8494560" cy="50004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0">
            <a:noFill/>
          </a:ln>
          <a:effectLst>
            <a:outerShdw dist="109865" dir="634411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293760" y="345960"/>
            <a:ext cx="8496360" cy="9874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7d8496"/>
              </a:gs>
              <a:gs pos="100000">
                <a:srgbClr val="e6e6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4" name="" descr=""/>
          <p:cNvPicPr/>
          <p:nvPr/>
        </p:nvPicPr>
        <p:blipFill>
          <a:blip r:embed="rId3"/>
          <a:stretch/>
        </p:blipFill>
        <p:spPr>
          <a:xfrm>
            <a:off x="7324560" y="5962680"/>
            <a:ext cx="1256040" cy="3697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375" name=""/>
          <p:cNvGrpSpPr/>
          <p:nvPr/>
        </p:nvGrpSpPr>
        <p:grpSpPr>
          <a:xfrm>
            <a:off x="398520" y="442800"/>
            <a:ext cx="1312920" cy="779400"/>
            <a:chOff x="398520" y="442800"/>
            <a:chExt cx="1312920" cy="779400"/>
          </a:xfrm>
        </p:grpSpPr>
        <p:grpSp>
          <p:nvGrpSpPr>
            <p:cNvPr id="376" name=""/>
            <p:cNvGrpSpPr/>
            <p:nvPr/>
          </p:nvGrpSpPr>
          <p:grpSpPr>
            <a:xfrm>
              <a:off x="398520" y="442800"/>
              <a:ext cx="1312920" cy="779400"/>
              <a:chOff x="398520" y="442800"/>
              <a:chExt cx="1312920" cy="779400"/>
            </a:xfrm>
          </p:grpSpPr>
          <p:sp>
            <p:nvSpPr>
              <p:cNvPr id="377" name=""/>
              <p:cNvSpPr/>
              <p:nvPr/>
            </p:nvSpPr>
            <p:spPr>
              <a:xfrm>
                <a:off x="398520" y="442800"/>
                <a:ext cx="1312920" cy="779400"/>
              </a:xfrm>
              <a:prstGeom prst="roundRect">
                <a:avLst>
                  <a:gd name="adj" fmla="val 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bfbfbf"/>
                  </a:gs>
                </a:gsLst>
                <a:lin ang="20400000"/>
              </a:gradFill>
              <a:ln w="0">
                <a:noFill/>
              </a:ln>
              <a:effectLst>
                <a:outerShdw dist="38183" dir="81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78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420480" y="468000"/>
                <a:ext cx="1258920" cy="7282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79" name=""/>
            <p:cNvGrpSpPr/>
            <p:nvPr/>
          </p:nvGrpSpPr>
          <p:grpSpPr>
            <a:xfrm>
              <a:off x="438120" y="453960"/>
              <a:ext cx="1238400" cy="731520"/>
              <a:chOff x="438120" y="453960"/>
              <a:chExt cx="1238400" cy="731520"/>
            </a:xfrm>
          </p:grpSpPr>
          <p:sp>
            <p:nvSpPr>
              <p:cNvPr id="380" name=""/>
              <p:cNvSpPr/>
              <p:nvPr/>
            </p:nvSpPr>
            <p:spPr>
              <a:xfrm>
                <a:off x="438120" y="453960"/>
                <a:ext cx="1238400" cy="250200"/>
              </a:xfrm>
              <a:prstGeom prst="rect">
                <a:avLst/>
              </a:prstGeom>
              <a:solidFill>
                <a:srgbClr val="66cc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438120" y="694440"/>
                <a:ext cx="1238400" cy="250200"/>
              </a:xfrm>
              <a:prstGeom prst="rect">
                <a:avLst/>
              </a:prstGeom>
              <a:solidFill>
                <a:srgbClr val="ffff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438120" y="935640"/>
                <a:ext cx="1238400" cy="249840"/>
              </a:xfrm>
              <a:prstGeom prst="rect">
                <a:avLst/>
              </a:prstGeom>
              <a:solidFill>
                <a:srgbClr val="66cc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83" name=""/>
          <p:cNvGrpSpPr/>
          <p:nvPr/>
        </p:nvGrpSpPr>
        <p:grpSpPr>
          <a:xfrm>
            <a:off x="357120" y="1514520"/>
            <a:ext cx="8283600" cy="465120"/>
            <a:chOff x="357120" y="1514520"/>
            <a:chExt cx="8283600" cy="465120"/>
          </a:xfrm>
        </p:grpSpPr>
        <p:sp>
          <p:nvSpPr>
            <p:cNvPr id="384" name=""/>
            <p:cNvSpPr/>
            <p:nvPr/>
          </p:nvSpPr>
          <p:spPr>
            <a:xfrm>
              <a:off x="357120" y="1530000"/>
              <a:ext cx="8283600" cy="42552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85" name="" descr=""/>
            <p:cNvPicPr/>
            <p:nvPr/>
          </p:nvPicPr>
          <p:blipFill>
            <a:blip r:embed="rId5"/>
            <a:stretch/>
          </p:blipFill>
          <p:spPr>
            <a:xfrm>
              <a:off x="6326280" y="1604520"/>
              <a:ext cx="2142360" cy="28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6" name=""/>
            <p:cNvSpPr/>
            <p:nvPr/>
          </p:nvSpPr>
          <p:spPr>
            <a:xfrm>
              <a:off x="6145200" y="1514520"/>
              <a:ext cx="1440" cy="4651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7" name="PlaceHolder 1"/>
          <p:cNvSpPr>
            <a:spLocks noGrp="1"/>
          </p:cNvSpPr>
          <p:nvPr>
            <p:ph type="sldNum" idx="8"/>
          </p:nvPr>
        </p:nvSpPr>
        <p:spPr>
          <a:xfrm>
            <a:off x="368280" y="605772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1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74C83DC3-63AF-45A4-8D67-0F151351E424}" type="slidenum"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6"/>
    <p:sldLayoutId id="2147483741" r:id="rId7"/>
    <p:sldLayoutId id="2147483742" r:id="rId8"/>
    <p:sldLayoutId id="2147483743" r:id="rId9"/>
    <p:sldLayoutId id="2147483744" r:id="rId10"/>
    <p:sldLayoutId id="2147483745" r:id="rId11"/>
    <p:sldLayoutId id="2147483746" r:id="rId12"/>
    <p:sldLayoutId id="2147483747" r:id="rId13"/>
    <p:sldLayoutId id="2147483748" r:id="rId14"/>
    <p:sldLayoutId id="2147483749" r:id="rId15"/>
    <p:sldLayoutId id="2147483750" r:id="rId16"/>
    <p:sldLayoutId id="2147483751" r:id="rId17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5" name=""/>
          <p:cNvSpPr/>
          <p:nvPr/>
        </p:nvSpPr>
        <p:spPr>
          <a:xfrm>
            <a:off x="282600" y="1428840"/>
            <a:ext cx="8494560" cy="50004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0">
            <a:noFill/>
          </a:ln>
          <a:effectLst>
            <a:outerShdw dist="109865" dir="634411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293760" y="345960"/>
            <a:ext cx="8496360" cy="9874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7d8496"/>
              </a:gs>
              <a:gs pos="100000">
                <a:srgbClr val="e6e6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" descr=""/>
          <p:cNvPicPr/>
          <p:nvPr/>
        </p:nvPicPr>
        <p:blipFill>
          <a:blip r:embed="rId3"/>
          <a:stretch/>
        </p:blipFill>
        <p:spPr>
          <a:xfrm>
            <a:off x="7324560" y="5962680"/>
            <a:ext cx="1256040" cy="3697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428" name=""/>
          <p:cNvGrpSpPr/>
          <p:nvPr/>
        </p:nvGrpSpPr>
        <p:grpSpPr>
          <a:xfrm>
            <a:off x="398520" y="442800"/>
            <a:ext cx="1312920" cy="779400"/>
            <a:chOff x="398520" y="442800"/>
            <a:chExt cx="1312920" cy="779400"/>
          </a:xfrm>
        </p:grpSpPr>
        <p:grpSp>
          <p:nvGrpSpPr>
            <p:cNvPr id="429" name=""/>
            <p:cNvGrpSpPr/>
            <p:nvPr/>
          </p:nvGrpSpPr>
          <p:grpSpPr>
            <a:xfrm>
              <a:off x="398520" y="442800"/>
              <a:ext cx="1312920" cy="779400"/>
              <a:chOff x="398520" y="442800"/>
              <a:chExt cx="1312920" cy="779400"/>
            </a:xfrm>
          </p:grpSpPr>
          <p:sp>
            <p:nvSpPr>
              <p:cNvPr id="430" name=""/>
              <p:cNvSpPr/>
              <p:nvPr/>
            </p:nvSpPr>
            <p:spPr>
              <a:xfrm>
                <a:off x="398520" y="442800"/>
                <a:ext cx="1312920" cy="779400"/>
              </a:xfrm>
              <a:prstGeom prst="roundRect">
                <a:avLst>
                  <a:gd name="adj" fmla="val 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bfbfbf"/>
                  </a:gs>
                </a:gsLst>
                <a:lin ang="20400000"/>
              </a:gradFill>
              <a:ln w="0">
                <a:noFill/>
              </a:ln>
              <a:effectLst>
                <a:outerShdw dist="38183" dir="81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431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420480" y="468000"/>
                <a:ext cx="1258920" cy="7282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32" name=""/>
            <p:cNvGrpSpPr/>
            <p:nvPr/>
          </p:nvGrpSpPr>
          <p:grpSpPr>
            <a:xfrm>
              <a:off x="438120" y="453960"/>
              <a:ext cx="1238400" cy="731520"/>
              <a:chOff x="438120" y="453960"/>
              <a:chExt cx="1238400" cy="731520"/>
            </a:xfrm>
          </p:grpSpPr>
          <p:sp>
            <p:nvSpPr>
              <p:cNvPr id="433" name=""/>
              <p:cNvSpPr/>
              <p:nvPr/>
            </p:nvSpPr>
            <p:spPr>
              <a:xfrm>
                <a:off x="438120" y="453960"/>
                <a:ext cx="1238400" cy="250200"/>
              </a:xfrm>
              <a:prstGeom prst="rect">
                <a:avLst/>
              </a:prstGeom>
              <a:solidFill>
                <a:srgbClr val="66cc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438120" y="694440"/>
                <a:ext cx="1238400" cy="250200"/>
              </a:xfrm>
              <a:prstGeom prst="rect">
                <a:avLst/>
              </a:prstGeom>
              <a:solidFill>
                <a:srgbClr val="ffff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438120" y="935640"/>
                <a:ext cx="1238400" cy="249840"/>
              </a:xfrm>
              <a:prstGeom prst="rect">
                <a:avLst/>
              </a:prstGeom>
              <a:solidFill>
                <a:srgbClr val="66cc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36" name=""/>
          <p:cNvGrpSpPr/>
          <p:nvPr/>
        </p:nvGrpSpPr>
        <p:grpSpPr>
          <a:xfrm>
            <a:off x="357120" y="1514520"/>
            <a:ext cx="8283600" cy="465120"/>
            <a:chOff x="357120" y="1514520"/>
            <a:chExt cx="8283600" cy="465120"/>
          </a:xfrm>
        </p:grpSpPr>
        <p:sp>
          <p:nvSpPr>
            <p:cNvPr id="437" name=""/>
            <p:cNvSpPr/>
            <p:nvPr/>
          </p:nvSpPr>
          <p:spPr>
            <a:xfrm>
              <a:off x="357120" y="1530000"/>
              <a:ext cx="8283600" cy="42552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38" name="" descr=""/>
            <p:cNvPicPr/>
            <p:nvPr/>
          </p:nvPicPr>
          <p:blipFill>
            <a:blip r:embed="rId5"/>
            <a:stretch/>
          </p:blipFill>
          <p:spPr>
            <a:xfrm>
              <a:off x="6326280" y="1604520"/>
              <a:ext cx="2142360" cy="28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9" name=""/>
            <p:cNvSpPr/>
            <p:nvPr/>
          </p:nvSpPr>
          <p:spPr>
            <a:xfrm>
              <a:off x="6145200" y="1514520"/>
              <a:ext cx="1440" cy="4651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0" name="PlaceHolder 1"/>
          <p:cNvSpPr>
            <a:spLocks noGrp="1"/>
          </p:cNvSpPr>
          <p:nvPr>
            <p:ph type="sldNum" idx="9"/>
          </p:nvPr>
        </p:nvSpPr>
        <p:spPr>
          <a:xfrm>
            <a:off x="368280" y="605772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1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7A924F9C-6CBF-4B27-A3FD-AE7120EF250C}" type="slidenum"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hyperlink" Target="http://www.nauticexpo.com.mx/prod/barcos-cientificos-45639.html?&amp;idvisite=97816&amp;RefCat=PA" TargetMode="External"/><Relationship Id="rId4" Type="http://schemas.openxmlformats.org/officeDocument/2006/relationships/image" Target="../media/image7.jpe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hyperlink" Target="http://www.nauticexpo.com.mx/prod/barcos-cientificos-45639.html?&amp;idvisite=97816&amp;RefCat=PA" TargetMode="External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"/>
          <p:cNvSpPr/>
          <p:nvPr/>
        </p:nvSpPr>
        <p:spPr>
          <a:xfrm>
            <a:off x="368280" y="605808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CFA3DE-CC1E-4E63-BCBA-C83F9B93E030}" type="slidenum">
              <a:rPr b="1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"/>
          <p:cNvSpPr/>
          <p:nvPr/>
        </p:nvSpPr>
        <p:spPr>
          <a:xfrm>
            <a:off x="441360" y="368280"/>
            <a:ext cx="775188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"/>
          <p:cNvSpPr/>
          <p:nvPr/>
        </p:nvSpPr>
        <p:spPr>
          <a:xfrm>
            <a:off x="900000" y="395280"/>
            <a:ext cx="77518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7000"/>
              </a:lnSpc>
              <a:spcBef>
                <a:spcPts val="17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800" spc="-1" strike="noStrike" u="sng">
                <a:solidFill>
                  <a:srgbClr val="000000"/>
                </a:solidFill>
                <a:uFillTx/>
                <a:latin typeface="Arial"/>
              </a:rPr>
              <a:t>6TO. MÉTODO – FECHA D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7000"/>
              </a:lnSpc>
              <a:spcBef>
                <a:spcPts val="17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800" spc="-1" strike="noStrike" u="sng">
                <a:solidFill>
                  <a:srgbClr val="000000"/>
                </a:solidFill>
                <a:uFillTx/>
                <a:latin typeface="Arial"/>
              </a:rPr>
              <a:t>EMBARQUE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0" name=""/>
          <p:cNvGrpSpPr/>
          <p:nvPr/>
        </p:nvGrpSpPr>
        <p:grpSpPr>
          <a:xfrm>
            <a:off x="774720" y="1988640"/>
            <a:ext cx="7939800" cy="865440"/>
            <a:chOff x="774720" y="1988640"/>
            <a:chExt cx="7939800" cy="865440"/>
          </a:xfrm>
        </p:grpSpPr>
        <p:grpSp>
          <p:nvGrpSpPr>
            <p:cNvPr id="1141" name=""/>
            <p:cNvGrpSpPr/>
            <p:nvPr/>
          </p:nvGrpSpPr>
          <p:grpSpPr>
            <a:xfrm>
              <a:off x="1805040" y="2205000"/>
              <a:ext cx="6909480" cy="649080"/>
              <a:chOff x="1805040" y="2205000"/>
              <a:chExt cx="6909480" cy="649080"/>
            </a:xfrm>
          </p:grpSpPr>
          <p:sp>
            <p:nvSpPr>
              <p:cNvPr id="1142" name=""/>
              <p:cNvSpPr/>
              <p:nvPr/>
            </p:nvSpPr>
            <p:spPr>
              <a:xfrm>
                <a:off x="1805040" y="2205000"/>
                <a:ext cx="6909480" cy="649080"/>
              </a:xfrm>
              <a:prstGeom prst="roundRect">
                <a:avLst>
                  <a:gd name="adj" fmla="val 16810"/>
                </a:avLst>
              </a:prstGeom>
              <a:solidFill>
                <a:srgbClr val="000000"/>
              </a:solidFill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3" name=""/>
              <p:cNvSpPr/>
              <p:nvPr/>
            </p:nvSpPr>
            <p:spPr>
              <a:xfrm>
                <a:off x="1856160" y="2351520"/>
                <a:ext cx="680724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>
                  <a:lnSpc>
                    <a:spcPct val="93000"/>
                  </a:lnSpc>
                  <a:spcBef>
                    <a:spcPts val="561"/>
                  </a:spcBef>
                  <a:spcAft>
                    <a:spcPts val="451"/>
                  </a:spcAft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ffffff"/>
                    </a:solidFill>
                    <a:latin typeface="Frutiger-Bold"/>
                  </a:rPr>
                  <a:t>LA MAYORÍAIA EN PARAISOS FISCALE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44" name=""/>
            <p:cNvSpPr/>
            <p:nvPr/>
          </p:nvSpPr>
          <p:spPr>
            <a:xfrm flipV="1">
              <a:off x="774720" y="1988280"/>
              <a:ext cx="1030320" cy="705240"/>
            </a:xfrm>
            <a:custGeom>
              <a:avLst/>
              <a:gdLst>
                <a:gd name="textAreaLeft" fmla="*/ 0 w 1030320"/>
                <a:gd name="textAreaRight" fmla="*/ 1030680 w 1030320"/>
                <a:gd name="textAreaTop" fmla="*/ -360 h 705240"/>
                <a:gd name="textAreaBottom" fmla="*/ 705240 h 705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260" stAng="10800000" swAng="5400000"/>
                  <a:lnTo>
                    <a:pt x="15100" y="2900"/>
                  </a:lnTo>
                  <a:lnTo>
                    <a:pt x="15100" y="0"/>
                  </a:lnTo>
                  <a:lnTo>
                    <a:pt x="21600" y="6079"/>
                  </a:lnTo>
                  <a:lnTo>
                    <a:pt x="15100" y="12158"/>
                  </a:lnTo>
                  <a:lnTo>
                    <a:pt x="15100" y="9258"/>
                  </a:lnTo>
                  <a:lnTo>
                    <a:pt x="12427" y="9258"/>
                  </a:lnTo>
                  <a:arcTo wR="6069" hR="2902" stAng="16200000" swAng="-5400000"/>
                  <a:lnTo>
                    <a:pt x="6358" y="216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5" name=""/>
          <p:cNvGrpSpPr/>
          <p:nvPr/>
        </p:nvGrpSpPr>
        <p:grpSpPr>
          <a:xfrm>
            <a:off x="774720" y="2062080"/>
            <a:ext cx="7920720" cy="1510920"/>
            <a:chOff x="774720" y="2062080"/>
            <a:chExt cx="7920720" cy="1510920"/>
          </a:xfrm>
        </p:grpSpPr>
        <p:grpSp>
          <p:nvGrpSpPr>
            <p:cNvPr id="1146" name=""/>
            <p:cNvGrpSpPr/>
            <p:nvPr/>
          </p:nvGrpSpPr>
          <p:grpSpPr>
            <a:xfrm>
              <a:off x="1805040" y="2933280"/>
              <a:ext cx="6890400" cy="639720"/>
              <a:chOff x="1805040" y="2933280"/>
              <a:chExt cx="6890400" cy="639720"/>
            </a:xfrm>
          </p:grpSpPr>
          <p:sp>
            <p:nvSpPr>
              <p:cNvPr id="1147" name=""/>
              <p:cNvSpPr/>
              <p:nvPr/>
            </p:nvSpPr>
            <p:spPr>
              <a:xfrm>
                <a:off x="1805040" y="2933280"/>
                <a:ext cx="6890400" cy="639720"/>
              </a:xfrm>
              <a:prstGeom prst="roundRect">
                <a:avLst>
                  <a:gd name="adj" fmla="val 16593"/>
                </a:avLst>
              </a:prstGeom>
              <a:solidFill>
                <a:srgbClr val="000000"/>
              </a:solidFill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>
                <a:off x="1855800" y="3079080"/>
                <a:ext cx="678852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>
                  <a:lnSpc>
                    <a:spcPct val="93000"/>
                  </a:lnSpc>
                  <a:spcBef>
                    <a:spcPts val="561"/>
                  </a:spcBef>
                  <a:spcAft>
                    <a:spcPts val="451"/>
                  </a:spcAft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Frutiger-Bold"/>
                  </a:rPr>
                  <a:t>SIN PATRIMONIO ACORDE AL VOLUMEN OPERAD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9" name=""/>
            <p:cNvGrpSpPr/>
            <p:nvPr/>
          </p:nvGrpSpPr>
          <p:grpSpPr>
            <a:xfrm>
              <a:off x="774720" y="2062080"/>
              <a:ext cx="1029960" cy="1395360"/>
              <a:chOff x="774720" y="2062080"/>
              <a:chExt cx="1029960" cy="1395360"/>
            </a:xfrm>
          </p:grpSpPr>
          <p:sp>
            <p:nvSpPr>
              <p:cNvPr id="1150" name=""/>
              <p:cNvSpPr/>
              <p:nvPr/>
            </p:nvSpPr>
            <p:spPr>
              <a:xfrm flipV="1">
                <a:off x="774720" y="2701440"/>
                <a:ext cx="1029960" cy="756000"/>
              </a:xfrm>
              <a:custGeom>
                <a:avLst/>
                <a:gdLst>
                  <a:gd name="textAreaLeft" fmla="*/ 0 w 1029960"/>
                  <a:gd name="textAreaRight" fmla="*/ 1030320 w 1029960"/>
                  <a:gd name="textAreaTop" fmla="*/ 360 h 756000"/>
                  <a:gd name="textAreaBottom" fmla="*/ 756720 h 756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lnTo>
                      <a:pt x="0" y="12160"/>
                    </a:lnTo>
                    <a:arcTo wR="12427" hR="9260" stAng="10800000" swAng="5400000"/>
                    <a:lnTo>
                      <a:pt x="15100" y="2900"/>
                    </a:lnTo>
                    <a:lnTo>
                      <a:pt x="15100" y="0"/>
                    </a:lnTo>
                    <a:lnTo>
                      <a:pt x="21600" y="6079"/>
                    </a:lnTo>
                    <a:lnTo>
                      <a:pt x="15100" y="12158"/>
                    </a:lnTo>
                    <a:lnTo>
                      <a:pt x="15100" y="9258"/>
                    </a:lnTo>
                    <a:lnTo>
                      <a:pt x="12427" y="9258"/>
                    </a:lnTo>
                    <a:arcTo wR="6069" hR="2902" stAng="16200000" swAng="-5400000"/>
                    <a:lnTo>
                      <a:pt x="6358" y="216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>
                <a:off x="774720" y="2062080"/>
                <a:ext cx="315720" cy="7560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52" name=""/>
          <p:cNvGrpSpPr/>
          <p:nvPr/>
        </p:nvGrpSpPr>
        <p:grpSpPr>
          <a:xfrm>
            <a:off x="755640" y="2997360"/>
            <a:ext cx="7921080" cy="1296720"/>
            <a:chOff x="755640" y="2997360"/>
            <a:chExt cx="7921080" cy="1296720"/>
          </a:xfrm>
        </p:grpSpPr>
        <p:grpSp>
          <p:nvGrpSpPr>
            <p:cNvPr id="1153" name=""/>
            <p:cNvGrpSpPr/>
            <p:nvPr/>
          </p:nvGrpSpPr>
          <p:grpSpPr>
            <a:xfrm>
              <a:off x="1785960" y="3670920"/>
              <a:ext cx="6890760" cy="623160"/>
              <a:chOff x="1785960" y="3670920"/>
              <a:chExt cx="6890760" cy="623160"/>
            </a:xfrm>
          </p:grpSpPr>
          <p:sp>
            <p:nvSpPr>
              <p:cNvPr id="1154" name=""/>
              <p:cNvSpPr/>
              <p:nvPr/>
            </p:nvSpPr>
            <p:spPr>
              <a:xfrm>
                <a:off x="1785960" y="3670920"/>
                <a:ext cx="6890760" cy="623160"/>
              </a:xfrm>
              <a:prstGeom prst="roundRect">
                <a:avLst>
                  <a:gd name="adj" fmla="val 16593"/>
                </a:avLst>
              </a:prstGeom>
              <a:solidFill>
                <a:srgbClr val="000000"/>
              </a:solidFill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>
                <a:off x="1836720" y="3811320"/>
                <a:ext cx="678888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>
                  <a:lnSpc>
                    <a:spcPct val="93000"/>
                  </a:lnSpc>
                  <a:spcBef>
                    <a:spcPts val="561"/>
                  </a:spcBef>
                  <a:spcAft>
                    <a:spcPts val="451"/>
                  </a:spcAft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Frutiger-Bold"/>
                  </a:rPr>
                  <a:t>EN ALGUNOS CASOS SIN EMPLEADO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6" name=""/>
            <p:cNvGrpSpPr/>
            <p:nvPr/>
          </p:nvGrpSpPr>
          <p:grpSpPr>
            <a:xfrm>
              <a:off x="755640" y="2997360"/>
              <a:ext cx="1029960" cy="1140840"/>
              <a:chOff x="755640" y="2997360"/>
              <a:chExt cx="1029960" cy="1140840"/>
            </a:xfrm>
          </p:grpSpPr>
          <p:sp>
            <p:nvSpPr>
              <p:cNvPr id="1157" name=""/>
              <p:cNvSpPr/>
              <p:nvPr/>
            </p:nvSpPr>
            <p:spPr>
              <a:xfrm flipV="1">
                <a:off x="755640" y="3463560"/>
                <a:ext cx="1029960" cy="674640"/>
              </a:xfrm>
              <a:custGeom>
                <a:avLst/>
                <a:gdLst>
                  <a:gd name="textAreaLeft" fmla="*/ 0 w 1029960"/>
                  <a:gd name="textAreaRight" fmla="*/ 1030320 w 1029960"/>
                  <a:gd name="textAreaTop" fmla="*/ 360 h 674640"/>
                  <a:gd name="textAreaBottom" fmla="*/ 675360 h 674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lnTo>
                      <a:pt x="0" y="12160"/>
                    </a:lnTo>
                    <a:arcTo wR="12427" hR="9260" stAng="10800000" swAng="5400000"/>
                    <a:lnTo>
                      <a:pt x="15100" y="2900"/>
                    </a:lnTo>
                    <a:lnTo>
                      <a:pt x="15100" y="0"/>
                    </a:lnTo>
                    <a:lnTo>
                      <a:pt x="21600" y="6079"/>
                    </a:lnTo>
                    <a:lnTo>
                      <a:pt x="15100" y="12158"/>
                    </a:lnTo>
                    <a:lnTo>
                      <a:pt x="15100" y="9258"/>
                    </a:lnTo>
                    <a:lnTo>
                      <a:pt x="12427" y="9258"/>
                    </a:lnTo>
                    <a:arcTo wR="6069" hR="2902" stAng="16200000" swAng="-5400000"/>
                    <a:lnTo>
                      <a:pt x="6358" y="216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>
                <a:off x="755640" y="2997360"/>
                <a:ext cx="315720" cy="674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59" name=""/>
          <p:cNvGrpSpPr/>
          <p:nvPr/>
        </p:nvGrpSpPr>
        <p:grpSpPr>
          <a:xfrm>
            <a:off x="755640" y="3716280"/>
            <a:ext cx="7921080" cy="1297080"/>
            <a:chOff x="755640" y="3716280"/>
            <a:chExt cx="7921080" cy="1297080"/>
          </a:xfrm>
        </p:grpSpPr>
        <p:grpSp>
          <p:nvGrpSpPr>
            <p:cNvPr id="1160" name=""/>
            <p:cNvGrpSpPr/>
            <p:nvPr/>
          </p:nvGrpSpPr>
          <p:grpSpPr>
            <a:xfrm>
              <a:off x="1785960" y="4390560"/>
              <a:ext cx="6890760" cy="622800"/>
              <a:chOff x="1785960" y="4390560"/>
              <a:chExt cx="6890760" cy="622800"/>
            </a:xfrm>
          </p:grpSpPr>
          <p:sp>
            <p:nvSpPr>
              <p:cNvPr id="1161" name=""/>
              <p:cNvSpPr/>
              <p:nvPr/>
            </p:nvSpPr>
            <p:spPr>
              <a:xfrm>
                <a:off x="1785960" y="4390560"/>
                <a:ext cx="6890760" cy="622800"/>
              </a:xfrm>
              <a:prstGeom prst="roundRect">
                <a:avLst>
                  <a:gd name="adj" fmla="val 16593"/>
                </a:avLst>
              </a:prstGeom>
              <a:solidFill>
                <a:srgbClr val="000000"/>
              </a:solidFill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>
                <a:off x="1836720" y="4532400"/>
                <a:ext cx="678888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>
                  <a:lnSpc>
                    <a:spcPct val="93000"/>
                  </a:lnSpc>
                  <a:spcBef>
                    <a:spcPts val="561"/>
                  </a:spcBef>
                  <a:spcAft>
                    <a:spcPts val="451"/>
                  </a:spcAft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Frutiger-Bold"/>
                  </a:rPr>
                  <a:t>NO AGREGABAN VALOR A LA CADENA COMERCIAL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3" name=""/>
            <p:cNvGrpSpPr/>
            <p:nvPr/>
          </p:nvGrpSpPr>
          <p:grpSpPr>
            <a:xfrm>
              <a:off x="755640" y="3716280"/>
              <a:ext cx="1029960" cy="1140120"/>
              <a:chOff x="755640" y="3716280"/>
              <a:chExt cx="1029960" cy="1140120"/>
            </a:xfrm>
          </p:grpSpPr>
          <p:sp>
            <p:nvSpPr>
              <p:cNvPr id="1164" name=""/>
              <p:cNvSpPr/>
              <p:nvPr/>
            </p:nvSpPr>
            <p:spPr>
              <a:xfrm flipV="1">
                <a:off x="755640" y="4181760"/>
                <a:ext cx="1029960" cy="674280"/>
              </a:xfrm>
              <a:custGeom>
                <a:avLst/>
                <a:gdLst>
                  <a:gd name="textAreaLeft" fmla="*/ 0 w 1029960"/>
                  <a:gd name="textAreaRight" fmla="*/ 1030320 w 1029960"/>
                  <a:gd name="textAreaTop" fmla="*/ -360 h 674280"/>
                  <a:gd name="textAreaBottom" fmla="*/ 674280 h 674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lnTo>
                      <a:pt x="0" y="12160"/>
                    </a:lnTo>
                    <a:arcTo wR="12427" hR="9260" stAng="10800000" swAng="5400000"/>
                    <a:lnTo>
                      <a:pt x="15100" y="2900"/>
                    </a:lnTo>
                    <a:lnTo>
                      <a:pt x="15100" y="0"/>
                    </a:lnTo>
                    <a:lnTo>
                      <a:pt x="21600" y="6079"/>
                    </a:lnTo>
                    <a:lnTo>
                      <a:pt x="15100" y="12158"/>
                    </a:lnTo>
                    <a:lnTo>
                      <a:pt x="15100" y="9258"/>
                    </a:lnTo>
                    <a:lnTo>
                      <a:pt x="12427" y="9258"/>
                    </a:lnTo>
                    <a:arcTo wR="6069" hR="2902" stAng="16200000" swAng="-5400000"/>
                    <a:lnTo>
                      <a:pt x="6358" y="216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>
                <a:off x="755640" y="3716280"/>
                <a:ext cx="315720" cy="674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6" name=""/>
          <p:cNvGrpSpPr/>
          <p:nvPr/>
        </p:nvGrpSpPr>
        <p:grpSpPr>
          <a:xfrm>
            <a:off x="774720" y="4438800"/>
            <a:ext cx="7920720" cy="1287360"/>
            <a:chOff x="774720" y="4438800"/>
            <a:chExt cx="7920720" cy="1287360"/>
          </a:xfrm>
        </p:grpSpPr>
        <p:grpSp>
          <p:nvGrpSpPr>
            <p:cNvPr id="1167" name=""/>
            <p:cNvGrpSpPr/>
            <p:nvPr/>
          </p:nvGrpSpPr>
          <p:grpSpPr>
            <a:xfrm>
              <a:off x="1805040" y="5108040"/>
              <a:ext cx="6890400" cy="618120"/>
              <a:chOff x="1805040" y="5108040"/>
              <a:chExt cx="6890400" cy="618120"/>
            </a:xfrm>
          </p:grpSpPr>
          <p:sp>
            <p:nvSpPr>
              <p:cNvPr id="1168" name=""/>
              <p:cNvSpPr/>
              <p:nvPr/>
            </p:nvSpPr>
            <p:spPr>
              <a:xfrm>
                <a:off x="1805040" y="5108040"/>
                <a:ext cx="6890400" cy="618120"/>
              </a:xfrm>
              <a:prstGeom prst="roundRect">
                <a:avLst>
                  <a:gd name="adj" fmla="val 16593"/>
                </a:avLst>
              </a:prstGeom>
              <a:solidFill>
                <a:srgbClr val="000000"/>
              </a:solidFill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>
                <a:off x="1855800" y="5243040"/>
                <a:ext cx="6788520" cy="3474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>
                  <a:lnSpc>
                    <a:spcPct val="93000"/>
                  </a:lnSpc>
                  <a:spcBef>
                    <a:spcPts val="561"/>
                  </a:spcBef>
                  <a:spcAft>
                    <a:spcPts val="451"/>
                  </a:spcAft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ffffff"/>
                    </a:solidFill>
                    <a:latin typeface="Frutiger-Bold"/>
                  </a:rPr>
                  <a:t>NO LOCALIZABAN  CLIENTES NUEVO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70" name=""/>
            <p:cNvGrpSpPr/>
            <p:nvPr/>
          </p:nvGrpSpPr>
          <p:grpSpPr>
            <a:xfrm>
              <a:off x="774720" y="4438800"/>
              <a:ext cx="1029960" cy="1131480"/>
              <a:chOff x="774720" y="4438800"/>
              <a:chExt cx="1029960" cy="1131480"/>
            </a:xfrm>
          </p:grpSpPr>
          <p:sp>
            <p:nvSpPr>
              <p:cNvPr id="1171" name=""/>
              <p:cNvSpPr/>
              <p:nvPr/>
            </p:nvSpPr>
            <p:spPr>
              <a:xfrm flipV="1">
                <a:off x="774720" y="4901400"/>
                <a:ext cx="1029960" cy="668880"/>
              </a:xfrm>
              <a:custGeom>
                <a:avLst/>
                <a:gdLst>
                  <a:gd name="textAreaLeft" fmla="*/ 0 w 1029960"/>
                  <a:gd name="textAreaRight" fmla="*/ 1030320 w 1029960"/>
                  <a:gd name="textAreaTop" fmla="*/ 360 h 668880"/>
                  <a:gd name="textAreaBottom" fmla="*/ 669600 h 668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lnTo>
                      <a:pt x="0" y="12160"/>
                    </a:lnTo>
                    <a:arcTo wR="12427" hR="9260" stAng="10800000" swAng="5400000"/>
                    <a:lnTo>
                      <a:pt x="15100" y="2900"/>
                    </a:lnTo>
                    <a:lnTo>
                      <a:pt x="15100" y="0"/>
                    </a:lnTo>
                    <a:lnTo>
                      <a:pt x="21600" y="6079"/>
                    </a:lnTo>
                    <a:lnTo>
                      <a:pt x="15100" y="12158"/>
                    </a:lnTo>
                    <a:lnTo>
                      <a:pt x="15100" y="9258"/>
                    </a:lnTo>
                    <a:lnTo>
                      <a:pt x="12427" y="9258"/>
                    </a:lnTo>
                    <a:arcTo wR="6069" hR="2902" stAng="16200000" swAng="-5400000"/>
                    <a:lnTo>
                      <a:pt x="6358" y="216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>
                <a:off x="774720" y="4438800"/>
                <a:ext cx="315720" cy="668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73" name=""/>
          <p:cNvGrpSpPr/>
          <p:nvPr/>
        </p:nvGrpSpPr>
        <p:grpSpPr>
          <a:xfrm>
            <a:off x="250920" y="1268280"/>
            <a:ext cx="8476560" cy="733320"/>
            <a:chOff x="250920" y="1268280"/>
            <a:chExt cx="8476560" cy="733320"/>
          </a:xfrm>
        </p:grpSpPr>
        <p:sp>
          <p:nvSpPr>
            <p:cNvPr id="1174" name=""/>
            <p:cNvSpPr/>
            <p:nvPr/>
          </p:nvSpPr>
          <p:spPr>
            <a:xfrm>
              <a:off x="250920" y="1268280"/>
              <a:ext cx="8476560" cy="733320"/>
            </a:xfrm>
            <a:prstGeom prst="roundRect">
              <a:avLst>
                <a:gd name="adj" fmla="val 16764"/>
              </a:avLst>
            </a:prstGeom>
            <a:solidFill>
              <a:srgbClr val="000000"/>
            </a:solidFill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331920" y="1405800"/>
              <a:ext cx="83221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ff"/>
                  </a:solidFill>
                  <a:latin typeface="Frutiger-Bold"/>
                </a:rPr>
                <a:t>5- CARACTERÍSTICAS DE LOS INTERMEDIARI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6" name=""/>
          <p:cNvGrpSpPr/>
          <p:nvPr/>
        </p:nvGrpSpPr>
        <p:grpSpPr>
          <a:xfrm>
            <a:off x="755640" y="5157720"/>
            <a:ext cx="7921080" cy="1295640"/>
            <a:chOff x="755640" y="5157720"/>
            <a:chExt cx="7921080" cy="1295640"/>
          </a:xfrm>
        </p:grpSpPr>
        <p:grpSp>
          <p:nvGrpSpPr>
            <p:cNvPr id="1177" name=""/>
            <p:cNvGrpSpPr/>
            <p:nvPr/>
          </p:nvGrpSpPr>
          <p:grpSpPr>
            <a:xfrm>
              <a:off x="1785960" y="5831280"/>
              <a:ext cx="6890760" cy="622080"/>
              <a:chOff x="1785960" y="5831280"/>
              <a:chExt cx="6890760" cy="622080"/>
            </a:xfrm>
          </p:grpSpPr>
          <p:sp>
            <p:nvSpPr>
              <p:cNvPr id="1178" name=""/>
              <p:cNvSpPr/>
              <p:nvPr/>
            </p:nvSpPr>
            <p:spPr>
              <a:xfrm>
                <a:off x="1785960" y="5831280"/>
                <a:ext cx="6890760" cy="622080"/>
              </a:xfrm>
              <a:prstGeom prst="roundRect">
                <a:avLst>
                  <a:gd name="adj" fmla="val 16593"/>
                </a:avLst>
              </a:prstGeom>
              <a:solidFill>
                <a:srgbClr val="000000"/>
              </a:solidFill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>
                <a:off x="1836720" y="5842440"/>
                <a:ext cx="6788880" cy="60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>
                  <a:lnSpc>
                    <a:spcPct val="93000"/>
                  </a:lnSpc>
                  <a:spcBef>
                    <a:spcPts val="561"/>
                  </a:spcBef>
                  <a:spcAft>
                    <a:spcPts val="451"/>
                  </a:spcAft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Frutiger-Bold"/>
                  </a:rPr>
                  <a:t>NO REALIZABAN UNA VERDADERA FUNCION DE COMERCIALIZACIO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0" name=""/>
            <p:cNvGrpSpPr/>
            <p:nvPr/>
          </p:nvGrpSpPr>
          <p:grpSpPr>
            <a:xfrm>
              <a:off x="755640" y="5157720"/>
              <a:ext cx="1029960" cy="1138680"/>
              <a:chOff x="755640" y="5157720"/>
              <a:chExt cx="1029960" cy="1138680"/>
            </a:xfrm>
          </p:grpSpPr>
          <p:sp>
            <p:nvSpPr>
              <p:cNvPr id="1181" name=""/>
              <p:cNvSpPr/>
              <p:nvPr/>
            </p:nvSpPr>
            <p:spPr>
              <a:xfrm flipV="1">
                <a:off x="755640" y="5623200"/>
                <a:ext cx="1029960" cy="673200"/>
              </a:xfrm>
              <a:custGeom>
                <a:avLst/>
                <a:gdLst>
                  <a:gd name="textAreaLeft" fmla="*/ 0 w 1029960"/>
                  <a:gd name="textAreaRight" fmla="*/ 1030320 w 1029960"/>
                  <a:gd name="textAreaTop" fmla="*/ 360 h 673200"/>
                  <a:gd name="textAreaBottom" fmla="*/ 673920 h 673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lnTo>
                      <a:pt x="0" y="12160"/>
                    </a:lnTo>
                    <a:arcTo wR="12427" hR="9260" stAng="10800000" swAng="5400000"/>
                    <a:lnTo>
                      <a:pt x="15100" y="2900"/>
                    </a:lnTo>
                    <a:lnTo>
                      <a:pt x="15100" y="0"/>
                    </a:lnTo>
                    <a:lnTo>
                      <a:pt x="21600" y="6079"/>
                    </a:lnTo>
                    <a:lnTo>
                      <a:pt x="15100" y="12158"/>
                    </a:lnTo>
                    <a:lnTo>
                      <a:pt x="15100" y="9258"/>
                    </a:lnTo>
                    <a:lnTo>
                      <a:pt x="12427" y="9258"/>
                    </a:lnTo>
                    <a:arcTo wR="6069" hR="2902" stAng="16200000" swAng="-5400000"/>
                    <a:lnTo>
                      <a:pt x="6358" y="216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>
                <a:off x="755640" y="5157720"/>
                <a:ext cx="315720" cy="6732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"/>
          <p:cNvSpPr/>
          <p:nvPr/>
        </p:nvSpPr>
        <p:spPr>
          <a:xfrm>
            <a:off x="441360" y="368280"/>
            <a:ext cx="775188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4" name=""/>
          <p:cNvGrpSpPr/>
          <p:nvPr/>
        </p:nvGrpSpPr>
        <p:grpSpPr>
          <a:xfrm>
            <a:off x="774720" y="2160360"/>
            <a:ext cx="7939800" cy="1512360"/>
            <a:chOff x="774720" y="2160360"/>
            <a:chExt cx="7939800" cy="1512360"/>
          </a:xfrm>
        </p:grpSpPr>
        <p:grpSp>
          <p:nvGrpSpPr>
            <p:cNvPr id="1185" name=""/>
            <p:cNvGrpSpPr/>
            <p:nvPr/>
          </p:nvGrpSpPr>
          <p:grpSpPr>
            <a:xfrm>
              <a:off x="1805040" y="2538720"/>
              <a:ext cx="6909480" cy="1134000"/>
              <a:chOff x="1805040" y="2538720"/>
              <a:chExt cx="6909480" cy="1134000"/>
            </a:xfrm>
          </p:grpSpPr>
          <p:sp>
            <p:nvSpPr>
              <p:cNvPr id="1186" name=""/>
              <p:cNvSpPr/>
              <p:nvPr/>
            </p:nvSpPr>
            <p:spPr>
              <a:xfrm>
                <a:off x="1805040" y="2538720"/>
                <a:ext cx="6909480" cy="1134000"/>
              </a:xfrm>
              <a:prstGeom prst="roundRect">
                <a:avLst>
                  <a:gd name="adj" fmla="val 16810"/>
                </a:avLst>
              </a:prstGeom>
              <a:solidFill>
                <a:srgbClr val="000000"/>
              </a:solidFill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>
                <a:off x="1856160" y="2796840"/>
                <a:ext cx="6807240" cy="60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>
                  <a:lnSpc>
                    <a:spcPct val="93000"/>
                  </a:lnSpc>
                  <a:spcBef>
                    <a:spcPts val="561"/>
                  </a:spcBef>
                  <a:spcAft>
                    <a:spcPts val="451"/>
                  </a:spcAft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ffffff"/>
                    </a:solidFill>
                    <a:latin typeface="Frutiger-Bold"/>
                  </a:rPr>
                  <a:t>RECIBÍAN ANTICIPOS DE EXPORTACIONES Y PRÉSTAMOS</a:t>
                </a:r>
                <a:r>
                  <a:rPr b="1" lang="en-GB" sz="1800" spc="-1" strike="noStrike">
                    <a:solidFill>
                      <a:srgbClr val="333333"/>
                    </a:solidFill>
                    <a:latin typeface="Frutiger-Bold"/>
                  </a:rPr>
                  <a:t> </a:t>
                </a:r>
                <a:r>
                  <a:rPr b="1" lang="en-GB" sz="1800" spc="-1" strike="noStrike">
                    <a:solidFill>
                      <a:srgbClr val="ffffff"/>
                    </a:solidFill>
                    <a:latin typeface="Frutiger-Bold"/>
                  </a:rPr>
                  <a:t>DESPROPORCIONADOS EN RELACIÓN A SU PATRIMONI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88" name=""/>
            <p:cNvSpPr/>
            <p:nvPr/>
          </p:nvSpPr>
          <p:spPr>
            <a:xfrm flipV="1">
              <a:off x="774720" y="2160000"/>
              <a:ext cx="1030320" cy="1232280"/>
            </a:xfrm>
            <a:custGeom>
              <a:avLst/>
              <a:gdLst>
                <a:gd name="textAreaLeft" fmla="*/ 0 w 1030320"/>
                <a:gd name="textAreaRight" fmla="*/ 1030680 w 1030320"/>
                <a:gd name="textAreaTop" fmla="*/ -360 h 1232280"/>
                <a:gd name="textAreaBottom" fmla="*/ 1232280 h 123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260" stAng="10800000" swAng="5400000"/>
                  <a:lnTo>
                    <a:pt x="15100" y="2900"/>
                  </a:lnTo>
                  <a:lnTo>
                    <a:pt x="15100" y="0"/>
                  </a:lnTo>
                  <a:lnTo>
                    <a:pt x="21600" y="6079"/>
                  </a:lnTo>
                  <a:lnTo>
                    <a:pt x="15100" y="12158"/>
                  </a:lnTo>
                  <a:lnTo>
                    <a:pt x="15100" y="9258"/>
                  </a:lnTo>
                  <a:lnTo>
                    <a:pt x="12427" y="9258"/>
                  </a:lnTo>
                  <a:arcTo wR="6069" hR="2902" stAng="16200000" swAng="-5400000"/>
                  <a:lnTo>
                    <a:pt x="6358" y="216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9" name=""/>
          <p:cNvGrpSpPr/>
          <p:nvPr/>
        </p:nvGrpSpPr>
        <p:grpSpPr>
          <a:xfrm>
            <a:off x="774720" y="2374920"/>
            <a:ext cx="7920720" cy="2736000"/>
            <a:chOff x="774720" y="2374920"/>
            <a:chExt cx="7920720" cy="2736000"/>
          </a:xfrm>
        </p:grpSpPr>
        <p:grpSp>
          <p:nvGrpSpPr>
            <p:cNvPr id="1190" name=""/>
            <p:cNvGrpSpPr/>
            <p:nvPr/>
          </p:nvGrpSpPr>
          <p:grpSpPr>
            <a:xfrm>
              <a:off x="1805040" y="3952800"/>
              <a:ext cx="6890400" cy="1158120"/>
              <a:chOff x="1805040" y="3952800"/>
              <a:chExt cx="6890400" cy="1158120"/>
            </a:xfrm>
          </p:grpSpPr>
          <p:sp>
            <p:nvSpPr>
              <p:cNvPr id="1191" name=""/>
              <p:cNvSpPr/>
              <p:nvPr/>
            </p:nvSpPr>
            <p:spPr>
              <a:xfrm>
                <a:off x="1805040" y="3952800"/>
                <a:ext cx="6890400" cy="1158120"/>
              </a:xfrm>
              <a:prstGeom prst="roundRect">
                <a:avLst>
                  <a:gd name="adj" fmla="val 16593"/>
                </a:avLst>
              </a:prstGeom>
              <a:solidFill>
                <a:srgbClr val="000000"/>
              </a:solidFill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1855800" y="4101480"/>
                <a:ext cx="6788520" cy="85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just">
                  <a:lnSpc>
                    <a:spcPct val="93000"/>
                  </a:lnSpc>
                  <a:spcBef>
                    <a:spcPts val="561"/>
                  </a:spcBef>
                  <a:spcAft>
                    <a:spcPts val="451"/>
                  </a:spcAft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ffffff"/>
                    </a:solidFill>
                    <a:latin typeface="Frutiger-Bold"/>
                  </a:rPr>
                  <a:t>LAS VENTAS LAS REALIZABAN EN SU MAYORIA A SUJETOS VINCULADOS DEL EXPORTADOR ARGENTINO O A OTROS INTERMEDIARIOS EN PARAÍSOS FISCALE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93" name=""/>
            <p:cNvGrpSpPr/>
            <p:nvPr/>
          </p:nvGrpSpPr>
          <p:grpSpPr>
            <a:xfrm>
              <a:off x="774720" y="2374920"/>
              <a:ext cx="1029960" cy="2527200"/>
              <a:chOff x="774720" y="2374920"/>
              <a:chExt cx="1029960" cy="2527200"/>
            </a:xfrm>
          </p:grpSpPr>
          <p:sp>
            <p:nvSpPr>
              <p:cNvPr id="1194" name=""/>
              <p:cNvSpPr/>
              <p:nvPr/>
            </p:nvSpPr>
            <p:spPr>
              <a:xfrm flipV="1">
                <a:off x="774720" y="3532680"/>
                <a:ext cx="1029960" cy="1369440"/>
              </a:xfrm>
              <a:custGeom>
                <a:avLst/>
                <a:gdLst>
                  <a:gd name="textAreaLeft" fmla="*/ 0 w 1029960"/>
                  <a:gd name="textAreaRight" fmla="*/ 1030320 w 1029960"/>
                  <a:gd name="textAreaTop" fmla="*/ 360 h 1369440"/>
                  <a:gd name="textAreaBottom" fmla="*/ 1370160 h 13694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lnTo>
                      <a:pt x="0" y="12160"/>
                    </a:lnTo>
                    <a:arcTo wR="12427" hR="9260" stAng="10800000" swAng="5400000"/>
                    <a:lnTo>
                      <a:pt x="15100" y="2900"/>
                    </a:lnTo>
                    <a:lnTo>
                      <a:pt x="15100" y="0"/>
                    </a:lnTo>
                    <a:lnTo>
                      <a:pt x="21600" y="6079"/>
                    </a:lnTo>
                    <a:lnTo>
                      <a:pt x="15100" y="12158"/>
                    </a:lnTo>
                    <a:lnTo>
                      <a:pt x="15100" y="9258"/>
                    </a:lnTo>
                    <a:lnTo>
                      <a:pt x="12427" y="9258"/>
                    </a:lnTo>
                    <a:arcTo wR="6069" hR="2902" stAng="16200000" swAng="-5400000"/>
                    <a:lnTo>
                      <a:pt x="6358" y="216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>
                <a:off x="774720" y="2374920"/>
                <a:ext cx="315720" cy="1369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96" name=""/>
          <p:cNvGrpSpPr/>
          <p:nvPr/>
        </p:nvGrpSpPr>
        <p:grpSpPr>
          <a:xfrm>
            <a:off x="271440" y="1484280"/>
            <a:ext cx="8476560" cy="732960"/>
            <a:chOff x="271440" y="1484280"/>
            <a:chExt cx="8476560" cy="732960"/>
          </a:xfrm>
        </p:grpSpPr>
        <p:sp>
          <p:nvSpPr>
            <p:cNvPr id="1197" name=""/>
            <p:cNvSpPr/>
            <p:nvPr/>
          </p:nvSpPr>
          <p:spPr>
            <a:xfrm>
              <a:off x="271440" y="1484280"/>
              <a:ext cx="8476560" cy="732960"/>
            </a:xfrm>
            <a:prstGeom prst="roundRect">
              <a:avLst>
                <a:gd name="adj" fmla="val 16764"/>
              </a:avLst>
            </a:prstGeom>
            <a:solidFill>
              <a:srgbClr val="000000"/>
            </a:solidFill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352440" y="1621800"/>
              <a:ext cx="83221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080" bIns="46080" anchor="ctr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ff"/>
                  </a:solidFill>
                  <a:latin typeface="Arial"/>
                </a:rPr>
                <a:t>5- CARACTERÍSTICAS DE LOS INTERMEDIARIOS (cont.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9" name=""/>
          <p:cNvSpPr/>
          <p:nvPr/>
        </p:nvSpPr>
        <p:spPr>
          <a:xfrm>
            <a:off x="2195640" y="404640"/>
            <a:ext cx="5976720" cy="8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800" spc="-1" strike="noStrike" u="sng">
                <a:solidFill>
                  <a:srgbClr val="000000"/>
                </a:solidFill>
                <a:uFillTx/>
                <a:latin typeface="Arial"/>
              </a:rPr>
              <a:t>6TO. MÉTODO – FECHA D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800" spc="-1" strike="noStrike" u="sng">
                <a:solidFill>
                  <a:srgbClr val="000000"/>
                </a:solidFill>
                <a:uFillTx/>
                <a:latin typeface="Arial"/>
              </a:rPr>
              <a:t>EMBARQUE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"/>
          <p:cNvSpPr/>
          <p:nvPr/>
        </p:nvSpPr>
        <p:spPr>
          <a:xfrm>
            <a:off x="971640" y="0"/>
            <a:ext cx="716256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1" name=""/>
          <p:cNvGrpSpPr/>
          <p:nvPr/>
        </p:nvGrpSpPr>
        <p:grpSpPr>
          <a:xfrm>
            <a:off x="754200" y="2133360"/>
            <a:ext cx="7939800" cy="1294920"/>
            <a:chOff x="754200" y="2133360"/>
            <a:chExt cx="7939800" cy="1294920"/>
          </a:xfrm>
        </p:grpSpPr>
        <p:grpSp>
          <p:nvGrpSpPr>
            <p:cNvPr id="1202" name=""/>
            <p:cNvGrpSpPr/>
            <p:nvPr/>
          </p:nvGrpSpPr>
          <p:grpSpPr>
            <a:xfrm>
              <a:off x="1784520" y="2457360"/>
              <a:ext cx="6909480" cy="970920"/>
              <a:chOff x="1784520" y="2457360"/>
              <a:chExt cx="6909480" cy="970920"/>
            </a:xfrm>
          </p:grpSpPr>
          <p:sp>
            <p:nvSpPr>
              <p:cNvPr id="1203" name=""/>
              <p:cNvSpPr/>
              <p:nvPr/>
            </p:nvSpPr>
            <p:spPr>
              <a:xfrm>
                <a:off x="1784520" y="2457360"/>
                <a:ext cx="6909480" cy="970920"/>
              </a:xfrm>
              <a:prstGeom prst="roundRect">
                <a:avLst>
                  <a:gd name="adj" fmla="val 16810"/>
                </a:avLst>
              </a:prstGeom>
              <a:solidFill>
                <a:srgbClr val="000000"/>
              </a:solidFill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1835640" y="2635200"/>
                <a:ext cx="6807240" cy="602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just">
                  <a:lnSpc>
                    <a:spcPct val="93000"/>
                  </a:lnSpc>
                  <a:spcBef>
                    <a:spcPts val="561"/>
                  </a:spcBef>
                  <a:spcAft>
                    <a:spcPts val="451"/>
                  </a:spcAft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ffffff"/>
                    </a:solidFill>
                    <a:latin typeface="Frutiger-Bold"/>
                  </a:rPr>
                  <a:t>NO REALIZABAN CONTRATOS DE EXPORTACIÓN CON TANTA ANTICIPACION  A LA FECHA DE EMBARQU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5" name=""/>
            <p:cNvSpPr/>
            <p:nvPr/>
          </p:nvSpPr>
          <p:spPr>
            <a:xfrm flipV="1">
              <a:off x="754200" y="2133000"/>
              <a:ext cx="1030320" cy="1055160"/>
            </a:xfrm>
            <a:custGeom>
              <a:avLst/>
              <a:gdLst>
                <a:gd name="textAreaLeft" fmla="*/ 0 w 1030320"/>
                <a:gd name="textAreaRight" fmla="*/ 1030680 w 1030320"/>
                <a:gd name="textAreaTop" fmla="*/ -360 h 1055160"/>
                <a:gd name="textAreaBottom" fmla="*/ 1055160 h 1055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260" stAng="10800000" swAng="5400000"/>
                  <a:lnTo>
                    <a:pt x="15100" y="2900"/>
                  </a:lnTo>
                  <a:lnTo>
                    <a:pt x="15100" y="0"/>
                  </a:lnTo>
                  <a:lnTo>
                    <a:pt x="21600" y="6079"/>
                  </a:lnTo>
                  <a:lnTo>
                    <a:pt x="15100" y="12158"/>
                  </a:lnTo>
                  <a:lnTo>
                    <a:pt x="15100" y="9258"/>
                  </a:lnTo>
                  <a:lnTo>
                    <a:pt x="12427" y="9258"/>
                  </a:lnTo>
                  <a:arcTo wR="6069" hR="2902" stAng="16200000" swAng="-5400000"/>
                  <a:lnTo>
                    <a:pt x="6358" y="216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6" name=""/>
          <p:cNvGrpSpPr/>
          <p:nvPr/>
        </p:nvGrpSpPr>
        <p:grpSpPr>
          <a:xfrm>
            <a:off x="755640" y="2205000"/>
            <a:ext cx="7921080" cy="2302560"/>
            <a:chOff x="755640" y="2205000"/>
            <a:chExt cx="7921080" cy="2302560"/>
          </a:xfrm>
        </p:grpSpPr>
        <p:grpSp>
          <p:nvGrpSpPr>
            <p:cNvPr id="1207" name=""/>
            <p:cNvGrpSpPr/>
            <p:nvPr/>
          </p:nvGrpSpPr>
          <p:grpSpPr>
            <a:xfrm>
              <a:off x="1785960" y="3533040"/>
              <a:ext cx="6890760" cy="974520"/>
              <a:chOff x="1785960" y="3533040"/>
              <a:chExt cx="6890760" cy="974520"/>
            </a:xfrm>
          </p:grpSpPr>
          <p:sp>
            <p:nvSpPr>
              <p:cNvPr id="1208" name=""/>
              <p:cNvSpPr/>
              <p:nvPr/>
            </p:nvSpPr>
            <p:spPr>
              <a:xfrm>
                <a:off x="1785960" y="3533040"/>
                <a:ext cx="6890760" cy="974520"/>
              </a:xfrm>
              <a:prstGeom prst="roundRect">
                <a:avLst>
                  <a:gd name="adj" fmla="val 16593"/>
                </a:avLst>
              </a:prstGeom>
              <a:solidFill>
                <a:srgbClr val="000000"/>
              </a:solidFill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>
                <a:off x="1836720" y="3716640"/>
                <a:ext cx="6788880" cy="60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just">
                  <a:lnSpc>
                    <a:spcPct val="93000"/>
                  </a:lnSpc>
                  <a:spcBef>
                    <a:spcPts val="561"/>
                  </a:spcBef>
                  <a:spcAft>
                    <a:spcPts val="451"/>
                  </a:spcAft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Frutiger-Bold"/>
                  </a:rPr>
                  <a:t>EL PRECIO SE PACTABA A FECHA CERCANA A LA DE EMBARQU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0" name=""/>
            <p:cNvGrpSpPr/>
            <p:nvPr/>
          </p:nvGrpSpPr>
          <p:grpSpPr>
            <a:xfrm>
              <a:off x="755640" y="2205000"/>
              <a:ext cx="1029960" cy="2127240"/>
              <a:chOff x="755640" y="2205000"/>
              <a:chExt cx="1029960" cy="2127240"/>
            </a:xfrm>
          </p:grpSpPr>
          <p:sp>
            <p:nvSpPr>
              <p:cNvPr id="1211" name=""/>
              <p:cNvSpPr/>
              <p:nvPr/>
            </p:nvSpPr>
            <p:spPr>
              <a:xfrm flipV="1">
                <a:off x="755640" y="3179520"/>
                <a:ext cx="1029960" cy="1152720"/>
              </a:xfrm>
              <a:custGeom>
                <a:avLst/>
                <a:gdLst>
                  <a:gd name="textAreaLeft" fmla="*/ 0 w 1029960"/>
                  <a:gd name="textAreaRight" fmla="*/ 1030320 w 1029960"/>
                  <a:gd name="textAreaTop" fmla="*/ 360 h 1152720"/>
                  <a:gd name="textAreaBottom" fmla="*/ 1153440 h 1152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lnTo>
                      <a:pt x="0" y="12160"/>
                    </a:lnTo>
                    <a:arcTo wR="12427" hR="9260" stAng="10800000" swAng="5400000"/>
                    <a:lnTo>
                      <a:pt x="15100" y="2900"/>
                    </a:lnTo>
                    <a:lnTo>
                      <a:pt x="15100" y="0"/>
                    </a:lnTo>
                    <a:lnTo>
                      <a:pt x="21600" y="6079"/>
                    </a:lnTo>
                    <a:lnTo>
                      <a:pt x="15100" y="12158"/>
                    </a:lnTo>
                    <a:lnTo>
                      <a:pt x="15100" y="9258"/>
                    </a:lnTo>
                    <a:lnTo>
                      <a:pt x="12427" y="9258"/>
                    </a:lnTo>
                    <a:arcTo wR="6069" hR="2902" stAng="16200000" swAng="-5400000"/>
                    <a:lnTo>
                      <a:pt x="6358" y="216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755640" y="2205000"/>
                <a:ext cx="315720" cy="115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13" name=""/>
          <p:cNvGrpSpPr/>
          <p:nvPr/>
        </p:nvGrpSpPr>
        <p:grpSpPr>
          <a:xfrm>
            <a:off x="250920" y="1340280"/>
            <a:ext cx="8476560" cy="824040"/>
            <a:chOff x="250920" y="1340280"/>
            <a:chExt cx="8476560" cy="824040"/>
          </a:xfrm>
        </p:grpSpPr>
        <p:sp>
          <p:nvSpPr>
            <p:cNvPr id="1214" name=""/>
            <p:cNvSpPr/>
            <p:nvPr/>
          </p:nvSpPr>
          <p:spPr>
            <a:xfrm>
              <a:off x="250920" y="1384920"/>
              <a:ext cx="8476560" cy="734040"/>
            </a:xfrm>
            <a:prstGeom prst="roundRect">
              <a:avLst>
                <a:gd name="adj" fmla="val 16764"/>
              </a:avLst>
            </a:prstGeom>
            <a:solidFill>
              <a:srgbClr val="000000"/>
            </a:solidFill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331920" y="1340280"/>
              <a:ext cx="83221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ff"/>
                  </a:solidFill>
                  <a:latin typeface="Frutiger-Bold"/>
                </a:rPr>
                <a:t>6- COMPARABILIDAD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ff"/>
                  </a:solidFill>
                  <a:latin typeface="Frutiger-Bold"/>
                </a:rPr>
                <a:t>¿CÓMO OPERABAN LOS INDEPENDIENTES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6" name=""/>
          <p:cNvGrpSpPr/>
          <p:nvPr/>
        </p:nvGrpSpPr>
        <p:grpSpPr>
          <a:xfrm>
            <a:off x="754200" y="3284640"/>
            <a:ext cx="7920720" cy="2304360"/>
            <a:chOff x="754200" y="3284640"/>
            <a:chExt cx="7920720" cy="2304360"/>
          </a:xfrm>
        </p:grpSpPr>
        <p:grpSp>
          <p:nvGrpSpPr>
            <p:cNvPr id="1217" name=""/>
            <p:cNvGrpSpPr/>
            <p:nvPr/>
          </p:nvGrpSpPr>
          <p:grpSpPr>
            <a:xfrm>
              <a:off x="1784520" y="4613760"/>
              <a:ext cx="6890400" cy="975240"/>
              <a:chOff x="1784520" y="4613760"/>
              <a:chExt cx="6890400" cy="975240"/>
            </a:xfrm>
          </p:grpSpPr>
          <p:sp>
            <p:nvSpPr>
              <p:cNvPr id="1218" name=""/>
              <p:cNvSpPr/>
              <p:nvPr/>
            </p:nvSpPr>
            <p:spPr>
              <a:xfrm>
                <a:off x="1784520" y="4613760"/>
                <a:ext cx="6890400" cy="975240"/>
              </a:xfrm>
              <a:prstGeom prst="roundRect">
                <a:avLst>
                  <a:gd name="adj" fmla="val 16593"/>
                </a:avLst>
              </a:prstGeom>
              <a:solidFill>
                <a:srgbClr val="000000"/>
              </a:solidFill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>
                <a:off x="1835280" y="4674600"/>
                <a:ext cx="6788520" cy="857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just">
                  <a:lnSpc>
                    <a:spcPct val="93000"/>
                  </a:lnSpc>
                  <a:spcBef>
                    <a:spcPts val="561"/>
                  </a:spcBef>
                  <a:spcAft>
                    <a:spcPts val="451"/>
                  </a:spcAft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ffffff"/>
                    </a:solidFill>
                    <a:latin typeface="Frutiger-Bold"/>
                  </a:rPr>
                  <a:t>SE COMPROBÓ QUE LOS INDEPENDIENTES OBTENÍAN POR SIMILARES EXPORTACIONES EL PRECIO DE MERCADO A FECHA DE EMBARQUE O SUPERIO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20" name=""/>
            <p:cNvGrpSpPr/>
            <p:nvPr/>
          </p:nvGrpSpPr>
          <p:grpSpPr>
            <a:xfrm>
              <a:off x="754200" y="3284640"/>
              <a:ext cx="1029960" cy="2127600"/>
              <a:chOff x="754200" y="3284640"/>
              <a:chExt cx="1029960" cy="2127600"/>
            </a:xfrm>
          </p:grpSpPr>
          <p:sp>
            <p:nvSpPr>
              <p:cNvPr id="1221" name=""/>
              <p:cNvSpPr/>
              <p:nvPr/>
            </p:nvSpPr>
            <p:spPr>
              <a:xfrm flipV="1">
                <a:off x="754200" y="4258800"/>
                <a:ext cx="1029960" cy="1153080"/>
              </a:xfrm>
              <a:custGeom>
                <a:avLst/>
                <a:gdLst>
                  <a:gd name="textAreaLeft" fmla="*/ 0 w 1029960"/>
                  <a:gd name="textAreaRight" fmla="*/ 1030320 w 1029960"/>
                  <a:gd name="textAreaTop" fmla="*/ -360 h 1153080"/>
                  <a:gd name="textAreaBottom" fmla="*/ 1153080 h 1153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lnTo>
                      <a:pt x="0" y="12160"/>
                    </a:lnTo>
                    <a:arcTo wR="12427" hR="9260" stAng="10800000" swAng="5400000"/>
                    <a:lnTo>
                      <a:pt x="15100" y="2900"/>
                    </a:lnTo>
                    <a:lnTo>
                      <a:pt x="15100" y="0"/>
                    </a:lnTo>
                    <a:lnTo>
                      <a:pt x="21600" y="6079"/>
                    </a:lnTo>
                    <a:lnTo>
                      <a:pt x="15100" y="12158"/>
                    </a:lnTo>
                    <a:lnTo>
                      <a:pt x="15100" y="9258"/>
                    </a:lnTo>
                    <a:lnTo>
                      <a:pt x="12427" y="9258"/>
                    </a:lnTo>
                    <a:arcTo wR="6069" hR="2902" stAng="16200000" swAng="-5400000"/>
                    <a:lnTo>
                      <a:pt x="6358" y="216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>
                <a:off x="754200" y="3284640"/>
                <a:ext cx="315720" cy="1153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23" name=""/>
          <p:cNvSpPr/>
          <p:nvPr/>
        </p:nvSpPr>
        <p:spPr>
          <a:xfrm>
            <a:off x="2195640" y="404640"/>
            <a:ext cx="5976720" cy="8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800" spc="-1" strike="noStrike" u="sng">
                <a:solidFill>
                  <a:srgbClr val="000000"/>
                </a:solidFill>
                <a:uFillTx/>
                <a:latin typeface="Arial"/>
              </a:rPr>
              <a:t>6TO. MÉTODO – FECHA D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800" spc="-1" strike="noStrike" u="sng">
                <a:solidFill>
                  <a:srgbClr val="000000"/>
                </a:solidFill>
                <a:uFillTx/>
                <a:latin typeface="Arial"/>
              </a:rPr>
              <a:t>EMBARQUE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1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1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1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1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"/>
          <p:cNvSpPr/>
          <p:nvPr/>
        </p:nvSpPr>
        <p:spPr>
          <a:xfrm>
            <a:off x="990720" y="152280"/>
            <a:ext cx="7162560" cy="5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"/>
          <p:cNvSpPr/>
          <p:nvPr/>
        </p:nvSpPr>
        <p:spPr>
          <a:xfrm>
            <a:off x="609480" y="304920"/>
            <a:ext cx="716292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"/>
          <p:cNvSpPr/>
          <p:nvPr/>
        </p:nvSpPr>
        <p:spPr>
          <a:xfrm>
            <a:off x="900000" y="0"/>
            <a:ext cx="71629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7" name=""/>
          <p:cNvGrpSpPr/>
          <p:nvPr/>
        </p:nvGrpSpPr>
        <p:grpSpPr>
          <a:xfrm>
            <a:off x="733320" y="1898640"/>
            <a:ext cx="7416720" cy="2565720"/>
            <a:chOff x="733320" y="1898640"/>
            <a:chExt cx="7416720" cy="2565720"/>
          </a:xfrm>
        </p:grpSpPr>
        <p:pic>
          <p:nvPicPr>
            <p:cNvPr id="1228" name="" descr=""/>
            <p:cNvPicPr/>
            <p:nvPr/>
          </p:nvPicPr>
          <p:blipFill>
            <a:blip r:embed="rId1"/>
            <a:stretch/>
          </p:blipFill>
          <p:spPr>
            <a:xfrm>
              <a:off x="733320" y="1898640"/>
              <a:ext cx="7416720" cy="230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9" name=""/>
            <p:cNvSpPr/>
            <p:nvPr/>
          </p:nvSpPr>
          <p:spPr>
            <a:xfrm>
              <a:off x="1020600" y="2332080"/>
              <a:ext cx="6840720" cy="21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1360" indent="-171360" algn="just">
                <a:lnSpc>
                  <a:spcPct val="93000"/>
                </a:lnSpc>
                <a:spcBef>
                  <a:spcPts val="1001"/>
                </a:spcBef>
                <a:buClr>
                  <a:srgbClr val="3bb0ff"/>
                </a:buClr>
                <a:buFont typeface="Wingdings" charset="2"/>
                <a:buChar char=""/>
                <a:tabLst>
                  <a:tab algn="l" pos="171360"/>
                  <a:tab algn="l" pos="619200"/>
                  <a:tab algn="l" pos="1068480"/>
                  <a:tab algn="l" pos="1517760"/>
                  <a:tab algn="l" pos="1967040"/>
                  <a:tab algn="l" pos="2416320"/>
                  <a:tab algn="l" pos="2865600"/>
                  <a:tab algn="l" pos="3314880"/>
                  <a:tab algn="l" pos="3763800"/>
                  <a:tab algn="l" pos="4213080"/>
                  <a:tab algn="l" pos="4662360"/>
                  <a:tab algn="l" pos="5111640"/>
                  <a:tab algn="l" pos="5560920"/>
                  <a:tab algn="l" pos="6010200"/>
                  <a:tab algn="l" pos="6459480"/>
                  <a:tab algn="l" pos="6908760"/>
                  <a:tab algn="l" pos="7358040"/>
                  <a:tab algn="l" pos="7807320"/>
                  <a:tab algn="l" pos="8256600"/>
                  <a:tab algn="l" pos="8705880"/>
                  <a:tab algn="l" pos="915516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NORMA ANTIELUSION. INTRODUCE UN NUEVO METODO DE PRECIOS DE TRANSFERENCI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171360" algn="just">
                <a:lnSpc>
                  <a:spcPct val="93000"/>
                </a:lnSpc>
                <a:spcBef>
                  <a:spcPts val="1001"/>
                </a:spcBef>
                <a:buClr>
                  <a:srgbClr val="3bb0ff"/>
                </a:buClr>
                <a:buFont typeface="Wingdings" charset="2"/>
                <a:buChar char=""/>
                <a:tabLst>
                  <a:tab algn="l" pos="171360"/>
                  <a:tab algn="l" pos="619200"/>
                  <a:tab algn="l" pos="1068480"/>
                  <a:tab algn="l" pos="1517760"/>
                  <a:tab algn="l" pos="1967040"/>
                  <a:tab algn="l" pos="2416320"/>
                  <a:tab algn="l" pos="2865600"/>
                  <a:tab algn="l" pos="3314880"/>
                  <a:tab algn="l" pos="3763800"/>
                  <a:tab algn="l" pos="4213080"/>
                  <a:tab algn="l" pos="4662360"/>
                  <a:tab algn="l" pos="5111640"/>
                  <a:tab algn="l" pos="5560920"/>
                  <a:tab algn="l" pos="6010200"/>
                  <a:tab algn="l" pos="6459480"/>
                  <a:tab algn="l" pos="6908760"/>
                  <a:tab algn="l" pos="7358040"/>
                  <a:tab algn="l" pos="7807320"/>
                  <a:tab algn="l" pos="8256600"/>
                  <a:tab algn="l" pos="8705880"/>
                  <a:tab algn="l" pos="915516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EN TODAS LAS OPERACIONES DE EXPORTACION EN LAS QUE INTERVENGA UN INTERMEDIARIO “PANTALLA” SE CONSIDERARA QUE NO SE ENCUENTRAN CELEBRADAS COMO ENTRE PARTES INDEPENDIENT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171360">
                <a:lnSpc>
                  <a:spcPct val="93000"/>
                </a:lnSpc>
                <a:spcBef>
                  <a:spcPts val="1001"/>
                </a:spcBef>
                <a:buClr>
                  <a:srgbClr val="3bb0ff"/>
                </a:buClr>
                <a:buFont typeface="Wingdings" charset="2"/>
                <a:buChar char=""/>
                <a:tabLst>
                  <a:tab algn="l" pos="171360"/>
                  <a:tab algn="l" pos="619200"/>
                  <a:tab algn="l" pos="1068480"/>
                  <a:tab algn="l" pos="1517760"/>
                  <a:tab algn="l" pos="1967040"/>
                  <a:tab algn="l" pos="2416320"/>
                  <a:tab algn="l" pos="2865600"/>
                  <a:tab algn="l" pos="3314880"/>
                  <a:tab algn="l" pos="3763800"/>
                  <a:tab algn="l" pos="4213080"/>
                  <a:tab algn="l" pos="4662360"/>
                  <a:tab algn="l" pos="5111640"/>
                  <a:tab algn="l" pos="5560920"/>
                  <a:tab algn="l" pos="6010200"/>
                  <a:tab algn="l" pos="6459480"/>
                  <a:tab algn="l" pos="6908760"/>
                  <a:tab algn="l" pos="7358040"/>
                  <a:tab algn="l" pos="7807320"/>
                  <a:tab algn="l" pos="8256600"/>
                  <a:tab algn="l" pos="8705880"/>
                  <a:tab algn="l" pos="915516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0" name=""/>
          <p:cNvSpPr/>
          <p:nvPr/>
        </p:nvSpPr>
        <p:spPr>
          <a:xfrm>
            <a:off x="2050920" y="333360"/>
            <a:ext cx="5185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6TO.  MÉTODO - FECHA 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EMBAR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1" name=""/>
          <p:cNvGrpSpPr/>
          <p:nvPr/>
        </p:nvGrpSpPr>
        <p:grpSpPr>
          <a:xfrm>
            <a:off x="733320" y="4923000"/>
            <a:ext cx="7416720" cy="1674000"/>
            <a:chOff x="733320" y="4923000"/>
            <a:chExt cx="7416720" cy="1674000"/>
          </a:xfrm>
        </p:grpSpPr>
        <p:pic>
          <p:nvPicPr>
            <p:cNvPr id="1232" name="" descr=""/>
            <p:cNvPicPr/>
            <p:nvPr/>
          </p:nvPicPr>
          <p:blipFill>
            <a:blip r:embed="rId2"/>
            <a:stretch/>
          </p:blipFill>
          <p:spPr>
            <a:xfrm>
              <a:off x="733320" y="4923000"/>
              <a:ext cx="7416720" cy="151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3" name=""/>
            <p:cNvSpPr/>
            <p:nvPr/>
          </p:nvSpPr>
          <p:spPr>
            <a:xfrm>
              <a:off x="1020600" y="5356440"/>
              <a:ext cx="6840720" cy="12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1360" indent="-171360" algn="just">
                <a:lnSpc>
                  <a:spcPct val="93000"/>
                </a:lnSpc>
                <a:spcBef>
                  <a:spcPts val="1001"/>
                </a:spcBef>
                <a:buClr>
                  <a:srgbClr val="3bb0ff"/>
                </a:buClr>
                <a:buFont typeface="Wingdings" charset="2"/>
                <a:buChar char=""/>
                <a:tabLst>
                  <a:tab algn="l" pos="171360"/>
                  <a:tab algn="l" pos="619200"/>
                  <a:tab algn="l" pos="1068480"/>
                  <a:tab algn="l" pos="1517760"/>
                  <a:tab algn="l" pos="1967040"/>
                  <a:tab algn="l" pos="2416320"/>
                  <a:tab algn="l" pos="2865600"/>
                  <a:tab algn="l" pos="3314880"/>
                  <a:tab algn="l" pos="3763800"/>
                  <a:tab algn="l" pos="4213080"/>
                  <a:tab algn="l" pos="4662360"/>
                  <a:tab algn="l" pos="5111640"/>
                  <a:tab algn="l" pos="5560920"/>
                  <a:tab algn="l" pos="6010200"/>
                  <a:tab algn="l" pos="6459480"/>
                  <a:tab algn="l" pos="6908760"/>
                  <a:tab algn="l" pos="7358040"/>
                  <a:tab algn="l" pos="7807320"/>
                  <a:tab algn="l" pos="8256600"/>
                  <a:tab algn="l" pos="8705880"/>
                  <a:tab algn="l" pos="915516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EVITAR Y DESALENTAR LA REALIZACION DE MANIOBRAS QUE PROVOCAN EL AHUECAMIENTO DE LA BASE IMPONIBLE NACION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171360">
                <a:lnSpc>
                  <a:spcPct val="93000"/>
                </a:lnSpc>
                <a:spcBef>
                  <a:spcPts val="1001"/>
                </a:spcBef>
                <a:buClr>
                  <a:srgbClr val="3bb0ff"/>
                </a:buClr>
                <a:buFont typeface="Wingdings" charset="2"/>
                <a:buChar char=""/>
                <a:tabLst>
                  <a:tab algn="l" pos="171360"/>
                  <a:tab algn="l" pos="619200"/>
                  <a:tab algn="l" pos="1068480"/>
                  <a:tab algn="l" pos="1517760"/>
                  <a:tab algn="l" pos="1967040"/>
                  <a:tab algn="l" pos="2416320"/>
                  <a:tab algn="l" pos="2865600"/>
                  <a:tab algn="l" pos="3314880"/>
                  <a:tab algn="l" pos="3763800"/>
                  <a:tab algn="l" pos="4213080"/>
                  <a:tab algn="l" pos="4662360"/>
                  <a:tab algn="l" pos="5111640"/>
                  <a:tab algn="l" pos="5560920"/>
                  <a:tab algn="l" pos="6010200"/>
                  <a:tab algn="l" pos="6459480"/>
                  <a:tab algn="l" pos="6908760"/>
                  <a:tab algn="l" pos="7358040"/>
                  <a:tab algn="l" pos="7807320"/>
                  <a:tab algn="l" pos="8256600"/>
                  <a:tab algn="l" pos="8705880"/>
                  <a:tab algn="l" pos="915516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4" name=""/>
          <p:cNvGrpSpPr/>
          <p:nvPr/>
        </p:nvGrpSpPr>
        <p:grpSpPr>
          <a:xfrm>
            <a:off x="12600" y="1324080"/>
            <a:ext cx="5689440" cy="987120"/>
            <a:chOff x="12600" y="1324080"/>
            <a:chExt cx="5689440" cy="987120"/>
          </a:xfrm>
        </p:grpSpPr>
        <p:grpSp>
          <p:nvGrpSpPr>
            <p:cNvPr id="1235" name=""/>
            <p:cNvGrpSpPr/>
            <p:nvPr/>
          </p:nvGrpSpPr>
          <p:grpSpPr>
            <a:xfrm>
              <a:off x="12600" y="1324080"/>
              <a:ext cx="5689440" cy="987120"/>
              <a:chOff x="12600" y="1324080"/>
              <a:chExt cx="5689440" cy="987120"/>
            </a:xfrm>
          </p:grpSpPr>
          <p:pic>
            <p:nvPicPr>
              <p:cNvPr id="123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12600" y="1324080"/>
                <a:ext cx="5689440" cy="987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37" name=""/>
              <p:cNvSpPr/>
              <p:nvPr/>
            </p:nvSpPr>
            <p:spPr>
              <a:xfrm>
                <a:off x="372960" y="1496880"/>
                <a:ext cx="4781520" cy="634680"/>
              </a:xfrm>
              <a:prstGeom prst="roundRect">
                <a:avLst>
                  <a:gd name="adj" fmla="val 11250"/>
                </a:avLst>
              </a:prstGeom>
              <a:gradFill rotWithShape="0">
                <a:gsLst>
                  <a:gs pos="0">
                    <a:srgbClr val="fefefe"/>
                  </a:gs>
                  <a:gs pos="100000">
                    <a:srgbClr val="5b9d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38" name=""/>
            <p:cNvSpPr/>
            <p:nvPr/>
          </p:nvSpPr>
          <p:spPr>
            <a:xfrm>
              <a:off x="388800" y="1635120"/>
              <a:ext cx="4545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NATURALEZA DE LA NORM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9" name=""/>
          <p:cNvGrpSpPr/>
          <p:nvPr/>
        </p:nvGrpSpPr>
        <p:grpSpPr>
          <a:xfrm>
            <a:off x="12600" y="4346640"/>
            <a:ext cx="5689440" cy="987480"/>
            <a:chOff x="12600" y="4346640"/>
            <a:chExt cx="5689440" cy="987480"/>
          </a:xfrm>
        </p:grpSpPr>
        <p:grpSp>
          <p:nvGrpSpPr>
            <p:cNvPr id="1240" name=""/>
            <p:cNvGrpSpPr/>
            <p:nvPr/>
          </p:nvGrpSpPr>
          <p:grpSpPr>
            <a:xfrm>
              <a:off x="12600" y="4346640"/>
              <a:ext cx="5689440" cy="987480"/>
              <a:chOff x="12600" y="4346640"/>
              <a:chExt cx="5689440" cy="987480"/>
            </a:xfrm>
          </p:grpSpPr>
          <p:pic>
            <p:nvPicPr>
              <p:cNvPr id="1241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12600" y="4346640"/>
                <a:ext cx="5689440" cy="987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2" name=""/>
              <p:cNvSpPr/>
              <p:nvPr/>
            </p:nvSpPr>
            <p:spPr>
              <a:xfrm>
                <a:off x="372960" y="4519800"/>
                <a:ext cx="4781520" cy="635040"/>
              </a:xfrm>
              <a:prstGeom prst="roundRect">
                <a:avLst>
                  <a:gd name="adj" fmla="val 11250"/>
                </a:avLst>
              </a:prstGeom>
              <a:gradFill rotWithShape="0">
                <a:gsLst>
                  <a:gs pos="0">
                    <a:srgbClr val="fefefe"/>
                  </a:gs>
                  <a:gs pos="100000">
                    <a:srgbClr val="5b9d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43" name=""/>
            <p:cNvSpPr/>
            <p:nvPr/>
          </p:nvSpPr>
          <p:spPr>
            <a:xfrm>
              <a:off x="388800" y="4657680"/>
              <a:ext cx="4545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FINALIDA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1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1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1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1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1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1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1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"/>
          <p:cNvSpPr/>
          <p:nvPr/>
        </p:nvSpPr>
        <p:spPr>
          <a:xfrm>
            <a:off x="2411280" y="409680"/>
            <a:ext cx="531036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6TO.  MÉTODO - FECHA 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EMBAR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"/>
          <p:cNvSpPr/>
          <p:nvPr/>
        </p:nvSpPr>
        <p:spPr>
          <a:xfrm>
            <a:off x="609480" y="304920"/>
            <a:ext cx="716292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6" name="" descr=""/>
          <p:cNvPicPr/>
          <p:nvPr/>
        </p:nvPicPr>
        <p:blipFill>
          <a:blip r:embed="rId1"/>
          <a:stretch/>
        </p:blipFill>
        <p:spPr>
          <a:xfrm>
            <a:off x="755640" y="1700280"/>
            <a:ext cx="7416720" cy="4392720"/>
          </a:xfrm>
          <a:prstGeom prst="rect">
            <a:avLst/>
          </a:prstGeom>
          <a:ln w="0">
            <a:noFill/>
          </a:ln>
        </p:spPr>
      </p:pic>
      <p:sp>
        <p:nvSpPr>
          <p:cNvPr id="1247" name=""/>
          <p:cNvSpPr/>
          <p:nvPr/>
        </p:nvSpPr>
        <p:spPr>
          <a:xfrm>
            <a:off x="1020600" y="2206800"/>
            <a:ext cx="6840720" cy="36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 algn="just">
              <a:lnSpc>
                <a:spcPct val="93000"/>
              </a:lnSpc>
              <a:spcBef>
                <a:spcPts val="1001"/>
              </a:spcBef>
              <a:buClr>
                <a:srgbClr val="3bb0ff"/>
              </a:buClr>
              <a:buFont typeface="Wingdings" charset="2"/>
              <a:buChar char=""/>
              <a:tabLst>
                <a:tab algn="l" pos="171360"/>
                <a:tab algn="l" pos="619200"/>
                <a:tab algn="l" pos="1068480"/>
                <a:tab algn="l" pos="1517760"/>
                <a:tab algn="l" pos="1967040"/>
                <a:tab algn="l" pos="2416320"/>
                <a:tab algn="l" pos="2865600"/>
                <a:tab algn="l" pos="3314880"/>
                <a:tab algn="l" pos="3763800"/>
                <a:tab algn="l" pos="4213080"/>
                <a:tab algn="l" pos="4662360"/>
                <a:tab algn="l" pos="5111640"/>
                <a:tab algn="l" pos="5560920"/>
                <a:tab algn="l" pos="6010200"/>
                <a:tab algn="l" pos="6459480"/>
                <a:tab algn="l" pos="6908760"/>
                <a:tab algn="l" pos="7358040"/>
                <a:tab algn="l" pos="7807320"/>
                <a:tab algn="l" pos="8256600"/>
                <a:tab algn="l" pos="8705880"/>
                <a:tab algn="l" pos="9155160"/>
                <a:tab algn="l" pos="10058400"/>
              </a:tabLst>
            </a:pPr>
            <a:r>
              <a:rPr b="1" lang="en-GB" sz="1800" spc="-1" strike="noStrike">
                <a:solidFill>
                  <a:srgbClr val="333333"/>
                </a:solidFill>
                <a:latin typeface="Arial"/>
              </a:rPr>
              <a:t>ALCANZA EXCLUSIVAMENTE A LOS SUJETOS QUE EXPORTAN TRIANGULANDO OPERACIONES A TRAVÉS DE SUJETOS DEL EXTERIOR SIN SUSTANCIA ECONÓMICA (FANTASMAS O PANTALL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just">
              <a:lnSpc>
                <a:spcPct val="93000"/>
              </a:lnSpc>
              <a:spcBef>
                <a:spcPts val="1001"/>
              </a:spcBef>
              <a:buClr>
                <a:srgbClr val="3bb0ff"/>
              </a:buClr>
              <a:buFont typeface="Wingdings" charset="2"/>
              <a:buChar char=""/>
              <a:tabLst>
                <a:tab algn="l" pos="171360"/>
                <a:tab algn="l" pos="619200"/>
                <a:tab algn="l" pos="1068480"/>
                <a:tab algn="l" pos="1517760"/>
                <a:tab algn="l" pos="1967040"/>
                <a:tab algn="l" pos="2416320"/>
                <a:tab algn="l" pos="2865600"/>
                <a:tab algn="l" pos="3314880"/>
                <a:tab algn="l" pos="3763800"/>
                <a:tab algn="l" pos="4213080"/>
                <a:tab algn="l" pos="4662360"/>
                <a:tab algn="l" pos="5111640"/>
                <a:tab algn="l" pos="5560920"/>
                <a:tab algn="l" pos="6010200"/>
                <a:tab algn="l" pos="6459480"/>
                <a:tab algn="l" pos="6908760"/>
                <a:tab algn="l" pos="7358040"/>
                <a:tab algn="l" pos="7807320"/>
                <a:tab algn="l" pos="8256600"/>
                <a:tab algn="l" pos="8705880"/>
                <a:tab algn="l" pos="9155160"/>
                <a:tab algn="l" pos="10058400"/>
              </a:tabLst>
            </a:pPr>
            <a:r>
              <a:rPr b="1" lang="en-GB" sz="1800" spc="-1" strike="noStrike">
                <a:solidFill>
                  <a:srgbClr val="333333"/>
                </a:solidFill>
                <a:latin typeface="Arial"/>
              </a:rPr>
              <a:t>SE TRATA DE EXPORTACIONES EN LAS QUE INTERVENGA UN INTERMEDIARIO INTERNACIONAL QUE NO SEA EL DESTINATARIO EFECTIVO DE LOS BIE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just">
              <a:lnSpc>
                <a:spcPct val="93000"/>
              </a:lnSpc>
              <a:spcBef>
                <a:spcPts val="1001"/>
              </a:spcBef>
              <a:buClr>
                <a:srgbClr val="3bb0ff"/>
              </a:buClr>
              <a:buFont typeface="Wingdings" charset="2"/>
              <a:buChar char=""/>
              <a:tabLst>
                <a:tab algn="l" pos="171360"/>
                <a:tab algn="l" pos="619200"/>
                <a:tab algn="l" pos="1068480"/>
                <a:tab algn="l" pos="1517760"/>
                <a:tab algn="l" pos="1967040"/>
                <a:tab algn="l" pos="2416320"/>
                <a:tab algn="l" pos="2865600"/>
                <a:tab algn="l" pos="3314880"/>
                <a:tab algn="l" pos="3763800"/>
                <a:tab algn="l" pos="4213080"/>
                <a:tab algn="l" pos="4662360"/>
                <a:tab algn="l" pos="5111640"/>
                <a:tab algn="l" pos="5560920"/>
                <a:tab algn="l" pos="6010200"/>
                <a:tab algn="l" pos="6459480"/>
                <a:tab algn="l" pos="6908760"/>
                <a:tab algn="l" pos="7358040"/>
                <a:tab algn="l" pos="7807320"/>
                <a:tab algn="l" pos="8256600"/>
                <a:tab algn="l" pos="8705880"/>
                <a:tab algn="l" pos="9155160"/>
                <a:tab algn="l" pos="10058400"/>
              </a:tabLst>
            </a:pPr>
            <a:r>
              <a:rPr b="1" lang="en-GB" sz="1800" spc="-1" strike="noStrike">
                <a:solidFill>
                  <a:srgbClr val="333333"/>
                </a:solidFill>
                <a:latin typeface="Arial"/>
              </a:rPr>
              <a:t>NO ALCANZA A LAS EXPORTACIONES REALIZADAS A TRAVES DE INTERMEDIARIOS GENUINOS EFECTUADAS PO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Bef>
                <a:spcPts val="1001"/>
              </a:spcBef>
              <a:buClr>
                <a:srgbClr val="3bb0ff"/>
              </a:buClr>
              <a:buFont typeface="Wingdings" charset="2"/>
              <a:buChar char=""/>
              <a:tabLst>
                <a:tab algn="l" pos="171360"/>
                <a:tab algn="l" pos="619200"/>
                <a:tab algn="l" pos="1068480"/>
                <a:tab algn="l" pos="1517760"/>
                <a:tab algn="l" pos="1967040"/>
                <a:tab algn="l" pos="2416320"/>
                <a:tab algn="l" pos="2865600"/>
                <a:tab algn="l" pos="3314880"/>
                <a:tab algn="l" pos="3763800"/>
                <a:tab algn="l" pos="4213080"/>
                <a:tab algn="l" pos="4662360"/>
                <a:tab algn="l" pos="5111640"/>
                <a:tab algn="l" pos="5560920"/>
                <a:tab algn="l" pos="6010200"/>
                <a:tab algn="l" pos="6459480"/>
                <a:tab algn="l" pos="6908760"/>
                <a:tab algn="l" pos="7358040"/>
                <a:tab algn="l" pos="7807320"/>
                <a:tab algn="l" pos="8256600"/>
                <a:tab algn="l" pos="8705880"/>
                <a:tab algn="l" pos="9155160"/>
                <a:tab algn="l" pos="10058400"/>
              </a:tabLst>
            </a:pPr>
            <a:r>
              <a:rPr b="1" lang="en-GB" sz="1800" spc="-1" strike="noStrike">
                <a:solidFill>
                  <a:srgbClr val="333333"/>
                </a:solidFill>
                <a:latin typeface="Arial"/>
                <a:ea typeface="Lucida Sans Unicode"/>
              </a:rPr>
              <a:t>SUJETOS INDEPENDIE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Bef>
                <a:spcPts val="1001"/>
              </a:spcBef>
              <a:buClr>
                <a:srgbClr val="3bb0ff"/>
              </a:buClr>
              <a:buFont typeface="Wingdings" charset="2"/>
              <a:buChar char=""/>
              <a:tabLst>
                <a:tab algn="l" pos="171360"/>
                <a:tab algn="l" pos="619200"/>
                <a:tab algn="l" pos="1068480"/>
                <a:tab algn="l" pos="1517760"/>
                <a:tab algn="l" pos="1967040"/>
                <a:tab algn="l" pos="2416320"/>
                <a:tab algn="l" pos="2865600"/>
                <a:tab algn="l" pos="3314880"/>
                <a:tab algn="l" pos="3763800"/>
                <a:tab algn="l" pos="4213080"/>
                <a:tab algn="l" pos="4662360"/>
                <a:tab algn="l" pos="5111640"/>
                <a:tab algn="l" pos="5560920"/>
                <a:tab algn="l" pos="6010200"/>
                <a:tab algn="l" pos="6459480"/>
                <a:tab algn="l" pos="6908760"/>
                <a:tab algn="l" pos="7358040"/>
                <a:tab algn="l" pos="7807320"/>
                <a:tab algn="l" pos="8256600"/>
                <a:tab algn="l" pos="8705880"/>
                <a:tab algn="l" pos="9155160"/>
                <a:tab algn="l" pos="10058400"/>
              </a:tabLst>
            </a:pPr>
            <a:r>
              <a:rPr b="1" lang="en-GB" sz="1800" spc="-1" strike="noStrike">
                <a:solidFill>
                  <a:srgbClr val="333333"/>
                </a:solidFill>
                <a:latin typeface="Arial"/>
                <a:ea typeface="Lucida Sans Unicode"/>
              </a:rPr>
              <a:t>SUJETOS VINCUL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8" name=""/>
          <p:cNvGrpSpPr/>
          <p:nvPr/>
        </p:nvGrpSpPr>
        <p:grpSpPr>
          <a:xfrm>
            <a:off x="12600" y="1198440"/>
            <a:ext cx="5689440" cy="987120"/>
            <a:chOff x="12600" y="1198440"/>
            <a:chExt cx="5689440" cy="987120"/>
          </a:xfrm>
        </p:grpSpPr>
        <p:grpSp>
          <p:nvGrpSpPr>
            <p:cNvPr id="1249" name=""/>
            <p:cNvGrpSpPr/>
            <p:nvPr/>
          </p:nvGrpSpPr>
          <p:grpSpPr>
            <a:xfrm>
              <a:off x="12600" y="1198440"/>
              <a:ext cx="5689440" cy="987120"/>
              <a:chOff x="12600" y="1198440"/>
              <a:chExt cx="5689440" cy="987120"/>
            </a:xfrm>
          </p:grpSpPr>
          <p:pic>
            <p:nvPicPr>
              <p:cNvPr id="1250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2600" y="1198440"/>
                <a:ext cx="5689440" cy="987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51" name=""/>
              <p:cNvSpPr/>
              <p:nvPr/>
            </p:nvSpPr>
            <p:spPr>
              <a:xfrm>
                <a:off x="372960" y="1371240"/>
                <a:ext cx="4781520" cy="634680"/>
              </a:xfrm>
              <a:prstGeom prst="roundRect">
                <a:avLst>
                  <a:gd name="adj" fmla="val 11250"/>
                </a:avLst>
              </a:prstGeom>
              <a:gradFill rotWithShape="0">
                <a:gsLst>
                  <a:gs pos="0">
                    <a:srgbClr val="fefefe"/>
                  </a:gs>
                  <a:gs pos="100000">
                    <a:srgbClr val="5b9d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52" name=""/>
            <p:cNvSpPr/>
            <p:nvPr/>
          </p:nvSpPr>
          <p:spPr>
            <a:xfrm>
              <a:off x="388800" y="1509480"/>
              <a:ext cx="4545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APLICACIÓ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1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1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1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1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1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1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1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1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1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1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1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1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1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1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1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1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1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1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1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1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1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1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1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1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1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1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1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1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"/>
          <p:cNvSpPr/>
          <p:nvPr/>
        </p:nvSpPr>
        <p:spPr>
          <a:xfrm>
            <a:off x="609480" y="304920"/>
            <a:ext cx="716292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"/>
          <p:cNvSpPr/>
          <p:nvPr/>
        </p:nvSpPr>
        <p:spPr>
          <a:xfrm>
            <a:off x="914400" y="0"/>
            <a:ext cx="71629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5" name="" descr=""/>
          <p:cNvPicPr/>
          <p:nvPr/>
        </p:nvPicPr>
        <p:blipFill>
          <a:blip r:embed="rId1"/>
          <a:stretch/>
        </p:blipFill>
        <p:spPr>
          <a:xfrm>
            <a:off x="733320" y="2008080"/>
            <a:ext cx="7417080" cy="2737080"/>
          </a:xfrm>
          <a:prstGeom prst="rect">
            <a:avLst/>
          </a:prstGeom>
          <a:ln w="0">
            <a:noFill/>
          </a:ln>
        </p:spPr>
      </p:pic>
      <p:sp>
        <p:nvSpPr>
          <p:cNvPr id="1256" name=""/>
          <p:cNvSpPr/>
          <p:nvPr/>
        </p:nvSpPr>
        <p:spPr>
          <a:xfrm>
            <a:off x="1020600" y="2441520"/>
            <a:ext cx="6840720" cy="21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93000"/>
              </a:lnSpc>
              <a:spcBef>
                <a:spcPts val="1001"/>
              </a:spcBef>
              <a:buClr>
                <a:srgbClr val="3bb0ff"/>
              </a:buClr>
              <a:buFont typeface="Wingdings" charset="2"/>
              <a:buChar char=""/>
              <a:tabLst>
                <a:tab algn="l" pos="171360"/>
                <a:tab algn="l" pos="619200"/>
                <a:tab algn="l" pos="1068480"/>
                <a:tab algn="l" pos="1517760"/>
                <a:tab algn="l" pos="1967040"/>
                <a:tab algn="l" pos="2416320"/>
                <a:tab algn="l" pos="2865600"/>
                <a:tab algn="l" pos="3314880"/>
                <a:tab algn="l" pos="3763800"/>
                <a:tab algn="l" pos="4213080"/>
                <a:tab algn="l" pos="4662360"/>
                <a:tab algn="l" pos="5111640"/>
                <a:tab algn="l" pos="5560920"/>
                <a:tab algn="l" pos="6010200"/>
                <a:tab algn="l" pos="6459480"/>
                <a:tab algn="l" pos="6908760"/>
                <a:tab algn="l" pos="7358040"/>
                <a:tab algn="l" pos="7807320"/>
                <a:tab algn="l" pos="8256600"/>
                <a:tab algn="l" pos="8705880"/>
                <a:tab algn="l" pos="9155160"/>
                <a:tab algn="l" pos="10058400"/>
              </a:tabLst>
            </a:pPr>
            <a:r>
              <a:rPr b="1" lang="en-GB" sz="1800" spc="-1" strike="noStrike">
                <a:solidFill>
                  <a:srgbClr val="333333"/>
                </a:solidFill>
                <a:latin typeface="Arial"/>
              </a:rPr>
              <a:t>CEREALES, OLEAGINOS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93000"/>
              </a:lnSpc>
              <a:spcBef>
                <a:spcPts val="1001"/>
              </a:spcBef>
              <a:buClr>
                <a:srgbClr val="3bb0ff"/>
              </a:buClr>
              <a:buFont typeface="Wingdings" charset="2"/>
              <a:buChar char=""/>
              <a:tabLst>
                <a:tab algn="l" pos="171360"/>
                <a:tab algn="l" pos="619200"/>
                <a:tab algn="l" pos="1068480"/>
                <a:tab algn="l" pos="1517760"/>
                <a:tab algn="l" pos="1967040"/>
                <a:tab algn="l" pos="2416320"/>
                <a:tab algn="l" pos="2865600"/>
                <a:tab algn="l" pos="3314880"/>
                <a:tab algn="l" pos="3763800"/>
                <a:tab algn="l" pos="4213080"/>
                <a:tab algn="l" pos="4662360"/>
                <a:tab algn="l" pos="5111640"/>
                <a:tab algn="l" pos="5560920"/>
                <a:tab algn="l" pos="6010200"/>
                <a:tab algn="l" pos="6459480"/>
                <a:tab algn="l" pos="6908760"/>
                <a:tab algn="l" pos="7358040"/>
                <a:tab algn="l" pos="7807320"/>
                <a:tab algn="l" pos="8256600"/>
                <a:tab algn="l" pos="8705880"/>
                <a:tab algn="l" pos="9155160"/>
                <a:tab algn="l" pos="10058400"/>
              </a:tabLst>
            </a:pPr>
            <a:r>
              <a:rPr b="1" lang="en-GB" sz="1800" spc="-1" strike="noStrike">
                <a:solidFill>
                  <a:srgbClr val="333333"/>
                </a:solidFill>
                <a:latin typeface="Arial"/>
              </a:rPr>
              <a:t>DEMÁS PRODUCTOS DE LA TIER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93000"/>
              </a:lnSpc>
              <a:spcBef>
                <a:spcPts val="1001"/>
              </a:spcBef>
              <a:buClr>
                <a:srgbClr val="3bb0ff"/>
              </a:buClr>
              <a:buFont typeface="Wingdings" charset="2"/>
              <a:buChar char=""/>
              <a:tabLst>
                <a:tab algn="l" pos="171360"/>
                <a:tab algn="l" pos="619200"/>
                <a:tab algn="l" pos="1068480"/>
                <a:tab algn="l" pos="1517760"/>
                <a:tab algn="l" pos="1967040"/>
                <a:tab algn="l" pos="2416320"/>
                <a:tab algn="l" pos="2865600"/>
                <a:tab algn="l" pos="3314880"/>
                <a:tab algn="l" pos="3763800"/>
                <a:tab algn="l" pos="4213080"/>
                <a:tab algn="l" pos="4662360"/>
                <a:tab algn="l" pos="5111640"/>
                <a:tab algn="l" pos="5560920"/>
                <a:tab algn="l" pos="6010200"/>
                <a:tab algn="l" pos="6459480"/>
                <a:tab algn="l" pos="6908760"/>
                <a:tab algn="l" pos="7358040"/>
                <a:tab algn="l" pos="7807320"/>
                <a:tab algn="l" pos="8256600"/>
                <a:tab algn="l" pos="8705880"/>
                <a:tab algn="l" pos="9155160"/>
                <a:tab algn="l" pos="10058400"/>
              </a:tabLst>
            </a:pPr>
            <a:r>
              <a:rPr b="1" lang="en-GB" sz="1800" spc="-1" strike="noStrike">
                <a:solidFill>
                  <a:srgbClr val="333333"/>
                </a:solidFill>
                <a:latin typeface="Arial"/>
              </a:rPr>
              <a:t>HIDROCARBUROS Y SUS DERIVADOS 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93000"/>
              </a:lnSpc>
              <a:spcBef>
                <a:spcPts val="1001"/>
              </a:spcBef>
              <a:buClr>
                <a:srgbClr val="3bb0ff"/>
              </a:buClr>
              <a:buFont typeface="Wingdings" charset="2"/>
              <a:buChar char=""/>
              <a:tabLst>
                <a:tab algn="l" pos="171360"/>
                <a:tab algn="l" pos="619200"/>
                <a:tab algn="l" pos="1068480"/>
                <a:tab algn="l" pos="1517760"/>
                <a:tab algn="l" pos="1967040"/>
                <a:tab algn="l" pos="2416320"/>
                <a:tab algn="l" pos="2865600"/>
                <a:tab algn="l" pos="3314880"/>
                <a:tab algn="l" pos="3763800"/>
                <a:tab algn="l" pos="4213080"/>
                <a:tab algn="l" pos="4662360"/>
                <a:tab algn="l" pos="5111640"/>
                <a:tab algn="l" pos="5560920"/>
                <a:tab algn="l" pos="6010200"/>
                <a:tab algn="l" pos="6459480"/>
                <a:tab algn="l" pos="6908760"/>
                <a:tab algn="l" pos="7358040"/>
                <a:tab algn="l" pos="7807320"/>
                <a:tab algn="l" pos="8256600"/>
                <a:tab algn="l" pos="8705880"/>
                <a:tab algn="l" pos="9155160"/>
                <a:tab algn="l" pos="10058400"/>
              </a:tabLst>
            </a:pPr>
            <a:r>
              <a:rPr b="1" lang="en-GB" sz="1800" spc="-1" strike="noStrike">
                <a:solidFill>
                  <a:srgbClr val="333333"/>
                </a:solidFill>
                <a:latin typeface="Arial"/>
              </a:rPr>
              <a:t>EN GENERA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171360"/>
                <a:tab algn="l" pos="619200"/>
                <a:tab algn="l" pos="1068480"/>
                <a:tab algn="l" pos="1517760"/>
                <a:tab algn="l" pos="1967040"/>
                <a:tab algn="l" pos="2416320"/>
                <a:tab algn="l" pos="2865600"/>
                <a:tab algn="l" pos="3314880"/>
                <a:tab algn="l" pos="3763800"/>
                <a:tab algn="l" pos="4213080"/>
                <a:tab algn="l" pos="4662360"/>
                <a:tab algn="l" pos="5111640"/>
                <a:tab algn="l" pos="5560920"/>
                <a:tab algn="l" pos="6010200"/>
                <a:tab algn="l" pos="6459480"/>
                <a:tab algn="l" pos="6908760"/>
                <a:tab algn="l" pos="7358040"/>
                <a:tab algn="l" pos="7807320"/>
                <a:tab algn="l" pos="8256600"/>
                <a:tab algn="l" pos="8705880"/>
                <a:tab algn="l" pos="9155160"/>
                <a:tab algn="l" pos="10058400"/>
              </a:tabLst>
            </a:pPr>
            <a:r>
              <a:rPr b="1" lang="en-GB" sz="1800" spc="-1" strike="noStrike">
                <a:solidFill>
                  <a:srgbClr val="333333"/>
                </a:solidFill>
                <a:latin typeface="Arial"/>
                <a:ea typeface="Lucida Sans Unicode"/>
              </a:rPr>
              <a:t>BIENES CON COTIZACIÓN CONOCIDA EN MERCADOS TRANSPARE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7" name=""/>
          <p:cNvGrpSpPr/>
          <p:nvPr/>
        </p:nvGrpSpPr>
        <p:grpSpPr>
          <a:xfrm>
            <a:off x="12600" y="1433520"/>
            <a:ext cx="5689440" cy="987120"/>
            <a:chOff x="12600" y="1433520"/>
            <a:chExt cx="5689440" cy="987120"/>
          </a:xfrm>
        </p:grpSpPr>
        <p:grpSp>
          <p:nvGrpSpPr>
            <p:cNvPr id="1258" name=""/>
            <p:cNvGrpSpPr/>
            <p:nvPr/>
          </p:nvGrpSpPr>
          <p:grpSpPr>
            <a:xfrm>
              <a:off x="12600" y="1433520"/>
              <a:ext cx="5689440" cy="987120"/>
              <a:chOff x="12600" y="1433520"/>
              <a:chExt cx="5689440" cy="987120"/>
            </a:xfrm>
          </p:grpSpPr>
          <p:pic>
            <p:nvPicPr>
              <p:cNvPr id="1259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2600" y="1433520"/>
                <a:ext cx="5689440" cy="987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60" name=""/>
              <p:cNvSpPr/>
              <p:nvPr/>
            </p:nvSpPr>
            <p:spPr>
              <a:xfrm>
                <a:off x="372960" y="1606320"/>
                <a:ext cx="4781520" cy="634680"/>
              </a:xfrm>
              <a:prstGeom prst="roundRect">
                <a:avLst>
                  <a:gd name="adj" fmla="val 11250"/>
                </a:avLst>
              </a:prstGeom>
              <a:gradFill rotWithShape="0">
                <a:gsLst>
                  <a:gs pos="0">
                    <a:srgbClr val="fefefe"/>
                  </a:gs>
                  <a:gs pos="100000">
                    <a:srgbClr val="5b9d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61" name=""/>
            <p:cNvSpPr/>
            <p:nvPr/>
          </p:nvSpPr>
          <p:spPr>
            <a:xfrm>
              <a:off x="388800" y="1744560"/>
              <a:ext cx="4545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BIENES ALCANZADO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2" name=""/>
          <p:cNvSpPr/>
          <p:nvPr/>
        </p:nvSpPr>
        <p:spPr>
          <a:xfrm>
            <a:off x="2592360" y="476280"/>
            <a:ext cx="4932360" cy="8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6TO.  MÉTODO - FECHA 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EMBAR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66" dur="indefinite" restart="never" nodeType="tmRoot">
          <p:childTnLst>
            <p:seq>
              <p:cTn id="567" dur="indefinite" nodeType="mainSeq">
                <p:childTnLst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1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1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1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1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1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1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1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1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1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1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1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1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1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1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1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1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1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1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1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1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1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1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1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1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1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1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1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1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"/>
          <p:cNvSpPr/>
          <p:nvPr/>
        </p:nvSpPr>
        <p:spPr>
          <a:xfrm>
            <a:off x="990720" y="152280"/>
            <a:ext cx="7162560" cy="5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"/>
          <p:cNvSpPr/>
          <p:nvPr/>
        </p:nvSpPr>
        <p:spPr>
          <a:xfrm>
            <a:off x="2193840" y="404640"/>
            <a:ext cx="52578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6TO.  MÉTODO - FECHA 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EMBAR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5" name="" descr=""/>
          <p:cNvPicPr/>
          <p:nvPr/>
        </p:nvPicPr>
        <p:blipFill>
          <a:blip r:embed="rId1"/>
          <a:stretch/>
        </p:blipFill>
        <p:spPr>
          <a:xfrm>
            <a:off x="804960" y="2008080"/>
            <a:ext cx="7416720" cy="3816360"/>
          </a:xfrm>
          <a:prstGeom prst="rect">
            <a:avLst/>
          </a:prstGeom>
          <a:ln w="0">
            <a:noFill/>
          </a:ln>
        </p:spPr>
      </p:pic>
      <p:sp>
        <p:nvSpPr>
          <p:cNvPr id="1266" name=""/>
          <p:cNvSpPr/>
          <p:nvPr/>
        </p:nvSpPr>
        <p:spPr>
          <a:xfrm>
            <a:off x="1092240" y="2441520"/>
            <a:ext cx="6840360" cy="315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 algn="just">
              <a:lnSpc>
                <a:spcPct val="93000"/>
              </a:lnSpc>
              <a:spcBef>
                <a:spcPts val="1001"/>
              </a:spcBef>
              <a:buClr>
                <a:srgbClr val="3bb0ff"/>
              </a:buClr>
              <a:buFont typeface="Wingdings" charset="2"/>
              <a:buChar char=""/>
              <a:tabLst>
                <a:tab algn="l" pos="171360"/>
                <a:tab algn="l" pos="619200"/>
                <a:tab algn="l" pos="1068480"/>
                <a:tab algn="l" pos="1517760"/>
                <a:tab algn="l" pos="1967040"/>
                <a:tab algn="l" pos="2416320"/>
                <a:tab algn="l" pos="2865600"/>
                <a:tab algn="l" pos="3314880"/>
                <a:tab algn="l" pos="3763800"/>
                <a:tab algn="l" pos="4213080"/>
                <a:tab algn="l" pos="4662360"/>
                <a:tab algn="l" pos="5111640"/>
                <a:tab algn="l" pos="5560920"/>
                <a:tab algn="l" pos="6010200"/>
                <a:tab algn="l" pos="6459480"/>
                <a:tab algn="l" pos="6908760"/>
                <a:tab algn="l" pos="7358040"/>
                <a:tab algn="l" pos="7807320"/>
                <a:tab algn="l" pos="8256600"/>
                <a:tab algn="l" pos="8705880"/>
                <a:tab algn="l" pos="9155160"/>
                <a:tab algn="l" pos="10058400"/>
              </a:tabLst>
            </a:pPr>
            <a:r>
              <a:rPr b="1" lang="en-GB" sz="1800" spc="-1" strike="noStrike">
                <a:solidFill>
                  <a:srgbClr val="333333"/>
                </a:solidFill>
                <a:latin typeface="Arial"/>
              </a:rPr>
              <a:t>ANTE LA UTILIZACIÓN DE INTERMEDIARIOS INTERNACIONALES SIN SUSTANCIA ECONÓMICA (PANTALLAS O FANTASMA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just">
              <a:lnSpc>
                <a:spcPct val="93000"/>
              </a:lnSpc>
              <a:spcBef>
                <a:spcPts val="1001"/>
              </a:spcBef>
              <a:buClr>
                <a:srgbClr val="3bb0ff"/>
              </a:buClr>
              <a:buFont typeface="Wingdings" charset="2"/>
              <a:buChar char=""/>
              <a:tabLst>
                <a:tab algn="l" pos="171360"/>
                <a:tab algn="l" pos="619200"/>
                <a:tab algn="l" pos="1068480"/>
                <a:tab algn="l" pos="1517760"/>
                <a:tab algn="l" pos="1967040"/>
                <a:tab algn="l" pos="2416320"/>
                <a:tab algn="l" pos="2865600"/>
                <a:tab algn="l" pos="3314880"/>
                <a:tab algn="l" pos="3763800"/>
                <a:tab algn="l" pos="4213080"/>
                <a:tab algn="l" pos="4662360"/>
                <a:tab algn="l" pos="5111640"/>
                <a:tab algn="l" pos="5560920"/>
                <a:tab algn="l" pos="6010200"/>
                <a:tab algn="l" pos="6459480"/>
                <a:tab algn="l" pos="6908760"/>
                <a:tab algn="l" pos="7358040"/>
                <a:tab algn="l" pos="7807320"/>
                <a:tab algn="l" pos="8256600"/>
                <a:tab algn="l" pos="8705880"/>
                <a:tab algn="l" pos="9155160"/>
                <a:tab algn="l" pos="10058400"/>
              </a:tabLst>
            </a:pPr>
            <a:r>
              <a:rPr b="1" lang="en-GB" sz="1800" spc="-1" strike="noStrike">
                <a:solidFill>
                  <a:srgbClr val="333333"/>
                </a:solidFill>
                <a:latin typeface="Arial"/>
              </a:rPr>
              <a:t>SE DEBERÁ TOMAR COMO PRECIO DE LA EXPORTACIÓN EL VALOR DE COTIZACIÓN DEL BIEN EN EL MERCADO TRANSPARENTE DEL DÍA DE LA CARGA DE LA MERCADER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just">
              <a:lnSpc>
                <a:spcPct val="93000"/>
              </a:lnSpc>
              <a:spcBef>
                <a:spcPts val="1001"/>
              </a:spcBef>
              <a:buClr>
                <a:srgbClr val="3bb0ff"/>
              </a:buClr>
              <a:buFont typeface="Wingdings" charset="2"/>
              <a:buChar char=""/>
              <a:tabLst>
                <a:tab algn="l" pos="171360"/>
                <a:tab algn="l" pos="619200"/>
                <a:tab algn="l" pos="1068480"/>
                <a:tab algn="l" pos="1517760"/>
                <a:tab algn="l" pos="1967040"/>
                <a:tab algn="l" pos="2416320"/>
                <a:tab algn="l" pos="2865600"/>
                <a:tab algn="l" pos="3314880"/>
                <a:tab algn="l" pos="3763800"/>
                <a:tab algn="l" pos="4213080"/>
                <a:tab algn="l" pos="4662360"/>
                <a:tab algn="l" pos="5111640"/>
                <a:tab algn="l" pos="5560920"/>
                <a:tab algn="l" pos="6010200"/>
                <a:tab algn="l" pos="6459480"/>
                <a:tab algn="l" pos="6908760"/>
                <a:tab algn="l" pos="7358040"/>
                <a:tab algn="l" pos="7807320"/>
                <a:tab algn="l" pos="8256600"/>
                <a:tab algn="l" pos="8705880"/>
                <a:tab algn="l" pos="9155160"/>
                <a:tab algn="l" pos="10058400"/>
              </a:tabLst>
            </a:pPr>
            <a:r>
              <a:rPr b="1" lang="en-GB" sz="1800" spc="-1" strike="noStrike">
                <a:solidFill>
                  <a:srgbClr val="333333"/>
                </a:solidFill>
                <a:latin typeface="Arial"/>
              </a:rPr>
              <a:t>SI EL PRECIO CONVENIDO CON EL INTERMEDIARIO DEL EXTERIOR SIN SUSTANCIA ECONÓMICA FUERA MAYOR AL PRECIO DE COTIZACIÓN VIGENTE A LA FECHA DE CARGA, SE TOMAR´S EL PRIME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"/>
          <p:cNvSpPr/>
          <p:nvPr/>
        </p:nvSpPr>
        <p:spPr>
          <a:xfrm>
            <a:off x="-612720" y="260280"/>
            <a:ext cx="792324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8" name=""/>
          <p:cNvGrpSpPr/>
          <p:nvPr/>
        </p:nvGrpSpPr>
        <p:grpSpPr>
          <a:xfrm>
            <a:off x="84240" y="1433520"/>
            <a:ext cx="5689440" cy="987120"/>
            <a:chOff x="84240" y="1433520"/>
            <a:chExt cx="5689440" cy="987120"/>
          </a:xfrm>
        </p:grpSpPr>
        <p:grpSp>
          <p:nvGrpSpPr>
            <p:cNvPr id="1269" name=""/>
            <p:cNvGrpSpPr/>
            <p:nvPr/>
          </p:nvGrpSpPr>
          <p:grpSpPr>
            <a:xfrm>
              <a:off x="84240" y="1433520"/>
              <a:ext cx="5689440" cy="987120"/>
              <a:chOff x="84240" y="1433520"/>
              <a:chExt cx="5689440" cy="987120"/>
            </a:xfrm>
          </p:grpSpPr>
          <p:pic>
            <p:nvPicPr>
              <p:cNvPr id="1270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84240" y="1433520"/>
                <a:ext cx="5689440" cy="987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71" name=""/>
              <p:cNvSpPr/>
              <p:nvPr/>
            </p:nvSpPr>
            <p:spPr>
              <a:xfrm>
                <a:off x="444600" y="1606320"/>
                <a:ext cx="4781520" cy="634680"/>
              </a:xfrm>
              <a:prstGeom prst="roundRect">
                <a:avLst>
                  <a:gd name="adj" fmla="val 11250"/>
                </a:avLst>
              </a:prstGeom>
              <a:gradFill rotWithShape="0">
                <a:gsLst>
                  <a:gs pos="0">
                    <a:srgbClr val="fefefe"/>
                  </a:gs>
                  <a:gs pos="100000">
                    <a:srgbClr val="5b9d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72" name=""/>
            <p:cNvSpPr/>
            <p:nvPr/>
          </p:nvSpPr>
          <p:spPr>
            <a:xfrm>
              <a:off x="460440" y="1744560"/>
              <a:ext cx="4545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ESQUEMA DEL NUEVO MÉTOD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622" dur="indefinite" restart="never" nodeType="tmRoot">
          <p:childTnLst>
            <p:seq>
              <p:cTn id="623" dur="indefinite" nodeType="mainSeq">
                <p:childTnLst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1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1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1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1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2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1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1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1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1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1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1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1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1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1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1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1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1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1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1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1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1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"/>
          <p:cNvSpPr/>
          <p:nvPr/>
        </p:nvSpPr>
        <p:spPr>
          <a:xfrm>
            <a:off x="609480" y="304920"/>
            <a:ext cx="716292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"/>
          <p:cNvSpPr/>
          <p:nvPr/>
        </p:nvSpPr>
        <p:spPr>
          <a:xfrm>
            <a:off x="914400" y="0"/>
            <a:ext cx="71629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5" name="" descr=""/>
          <p:cNvPicPr/>
          <p:nvPr/>
        </p:nvPicPr>
        <p:blipFill>
          <a:blip r:embed="rId1"/>
          <a:stretch/>
        </p:blipFill>
        <p:spPr>
          <a:xfrm>
            <a:off x="539640" y="2421000"/>
            <a:ext cx="7417080" cy="3384360"/>
          </a:xfrm>
          <a:prstGeom prst="rect">
            <a:avLst/>
          </a:prstGeom>
          <a:ln w="0">
            <a:noFill/>
          </a:ln>
        </p:spPr>
      </p:pic>
      <p:sp>
        <p:nvSpPr>
          <p:cNvPr id="1276" name=""/>
          <p:cNvSpPr/>
          <p:nvPr/>
        </p:nvSpPr>
        <p:spPr>
          <a:xfrm>
            <a:off x="684360" y="2852640"/>
            <a:ext cx="6840360" cy="264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 algn="just">
              <a:lnSpc>
                <a:spcPct val="93000"/>
              </a:lnSpc>
              <a:spcBef>
                <a:spcPts val="1001"/>
              </a:spcBef>
              <a:buClr>
                <a:srgbClr val="3bb0ff"/>
              </a:buClr>
              <a:buFont typeface="Wingdings" charset="2"/>
              <a:buChar char=""/>
              <a:tabLst>
                <a:tab algn="l" pos="171360"/>
                <a:tab algn="l" pos="619200"/>
                <a:tab algn="l" pos="1068480"/>
                <a:tab algn="l" pos="1517760"/>
                <a:tab algn="l" pos="1967040"/>
                <a:tab algn="l" pos="2416320"/>
                <a:tab algn="l" pos="2865600"/>
                <a:tab algn="l" pos="3314880"/>
                <a:tab algn="l" pos="3763800"/>
                <a:tab algn="l" pos="4213080"/>
                <a:tab algn="l" pos="4662360"/>
                <a:tab algn="l" pos="5111640"/>
                <a:tab algn="l" pos="5560920"/>
                <a:tab algn="l" pos="6010200"/>
                <a:tab algn="l" pos="6459480"/>
                <a:tab algn="l" pos="6908760"/>
                <a:tab algn="l" pos="7358040"/>
                <a:tab algn="l" pos="7807320"/>
                <a:tab algn="l" pos="8256600"/>
                <a:tab algn="l" pos="8705880"/>
                <a:tab algn="l" pos="9155160"/>
                <a:tab algn="l" pos="10058400"/>
              </a:tabLst>
            </a:pPr>
            <a:r>
              <a:rPr b="1" lang="en-GB" sz="1800" spc="-1" strike="noStrike">
                <a:solidFill>
                  <a:srgbClr val="333333"/>
                </a:solidFill>
                <a:latin typeface="Arial"/>
              </a:rPr>
              <a:t>NO POSEA REAL PRESENCIA EN EL TERRITORIO DE RESIDEN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just">
              <a:lnSpc>
                <a:spcPct val="93000"/>
              </a:lnSpc>
              <a:spcBef>
                <a:spcPts val="1001"/>
              </a:spcBef>
              <a:buClr>
                <a:srgbClr val="3bb0ff"/>
              </a:buClr>
              <a:buFont typeface="Wingdings" charset="2"/>
              <a:buChar char=""/>
              <a:tabLst>
                <a:tab algn="l" pos="171360"/>
                <a:tab algn="l" pos="619200"/>
                <a:tab algn="l" pos="1068480"/>
                <a:tab algn="l" pos="1517760"/>
                <a:tab algn="l" pos="1967040"/>
                <a:tab algn="l" pos="2416320"/>
                <a:tab algn="l" pos="2865600"/>
                <a:tab algn="l" pos="3314880"/>
                <a:tab algn="l" pos="3763800"/>
                <a:tab algn="l" pos="4213080"/>
                <a:tab algn="l" pos="4662360"/>
                <a:tab algn="l" pos="5111640"/>
                <a:tab algn="l" pos="5560920"/>
                <a:tab algn="l" pos="6010200"/>
                <a:tab algn="l" pos="6459480"/>
                <a:tab algn="l" pos="6908760"/>
                <a:tab algn="l" pos="7358040"/>
                <a:tab algn="l" pos="7807320"/>
                <a:tab algn="l" pos="8256600"/>
                <a:tab algn="l" pos="8705880"/>
                <a:tab algn="l" pos="9155160"/>
                <a:tab algn="l" pos="10058400"/>
              </a:tabLst>
            </a:pPr>
            <a:r>
              <a:rPr b="1" lang="en-GB" sz="1800" spc="-1" strike="noStrike">
                <a:solidFill>
                  <a:srgbClr val="333333"/>
                </a:solidFill>
                <a:latin typeface="Arial"/>
              </a:rPr>
              <a:t>NO CUMPLA CON LOS REQUISITOS LEGALES DE CONSTITUCIÓN, INSCRIPCIÓN Y PRESENTACIÓN DE BALA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just">
              <a:lnSpc>
                <a:spcPct val="93000"/>
              </a:lnSpc>
              <a:spcBef>
                <a:spcPts val="1001"/>
              </a:spcBef>
              <a:buClr>
                <a:srgbClr val="3bb0ff"/>
              </a:buClr>
              <a:buFont typeface="Wingdings" charset="2"/>
              <a:buChar char=""/>
              <a:tabLst>
                <a:tab algn="l" pos="171360"/>
                <a:tab algn="l" pos="619200"/>
                <a:tab algn="l" pos="1068480"/>
                <a:tab algn="l" pos="1517760"/>
                <a:tab algn="l" pos="1967040"/>
                <a:tab algn="l" pos="2416320"/>
                <a:tab algn="l" pos="2865600"/>
                <a:tab algn="l" pos="3314880"/>
                <a:tab algn="l" pos="3763800"/>
                <a:tab algn="l" pos="4213080"/>
                <a:tab algn="l" pos="4662360"/>
                <a:tab algn="l" pos="5111640"/>
                <a:tab algn="l" pos="5560920"/>
                <a:tab algn="l" pos="6010200"/>
                <a:tab algn="l" pos="6459480"/>
                <a:tab algn="l" pos="6908760"/>
                <a:tab algn="l" pos="7358040"/>
                <a:tab algn="l" pos="7807320"/>
                <a:tab algn="l" pos="8256600"/>
                <a:tab algn="l" pos="8705880"/>
                <a:tab algn="l" pos="9155160"/>
                <a:tab algn="l" pos="10058400"/>
              </a:tabLst>
            </a:pPr>
            <a:r>
              <a:rPr b="1" lang="en-GB" sz="1800" spc="-1" strike="noStrike">
                <a:solidFill>
                  <a:srgbClr val="333333"/>
                </a:solidFill>
                <a:latin typeface="Arial"/>
              </a:rPr>
              <a:t>LOS ACTIVOS, RIESGOS Y FUNCIONES DE LA INTERMEDIARIA INTERNACIONAL NO RESULTEN ACORDES CON EL VOLUMEN DE LAS OPERACIONES QUE SE LE ASIGN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7" name=""/>
          <p:cNvGrpSpPr/>
          <p:nvPr/>
        </p:nvGrpSpPr>
        <p:grpSpPr>
          <a:xfrm>
            <a:off x="-36360" y="1341360"/>
            <a:ext cx="7344720" cy="1582200"/>
            <a:chOff x="-36360" y="1341360"/>
            <a:chExt cx="7344720" cy="1582200"/>
          </a:xfrm>
        </p:grpSpPr>
        <p:grpSp>
          <p:nvGrpSpPr>
            <p:cNvPr id="1278" name=""/>
            <p:cNvGrpSpPr/>
            <p:nvPr/>
          </p:nvGrpSpPr>
          <p:grpSpPr>
            <a:xfrm>
              <a:off x="-36360" y="1341360"/>
              <a:ext cx="7344720" cy="1582200"/>
              <a:chOff x="-36360" y="1341360"/>
              <a:chExt cx="7344720" cy="1582200"/>
            </a:xfrm>
          </p:grpSpPr>
          <p:pic>
            <p:nvPicPr>
              <p:cNvPr id="1279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-36360" y="1341360"/>
                <a:ext cx="7344720" cy="1582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0" name=""/>
              <p:cNvSpPr/>
              <p:nvPr/>
            </p:nvSpPr>
            <p:spPr>
              <a:xfrm>
                <a:off x="428760" y="1618560"/>
                <a:ext cx="6172560" cy="1017360"/>
              </a:xfrm>
              <a:prstGeom prst="roundRect">
                <a:avLst>
                  <a:gd name="adj" fmla="val 11250"/>
                </a:avLst>
              </a:prstGeom>
              <a:gradFill rotWithShape="0">
                <a:gsLst>
                  <a:gs pos="0">
                    <a:srgbClr val="fefefe"/>
                  </a:gs>
                  <a:gs pos="100000">
                    <a:srgbClr val="5b9d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81" name=""/>
            <p:cNvSpPr/>
            <p:nvPr/>
          </p:nvSpPr>
          <p:spPr>
            <a:xfrm>
              <a:off x="466560" y="1555560"/>
              <a:ext cx="648144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¿CUÁNDO UN INTERMEDIARIO INTERNACIONAL CARECE DE SUSTANCIA ECONÓMIC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(ES FANTASMA O PANTALLA)?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2" name=""/>
          <p:cNvSpPr/>
          <p:nvPr/>
        </p:nvSpPr>
        <p:spPr>
          <a:xfrm>
            <a:off x="2286000" y="333360"/>
            <a:ext cx="5094360" cy="14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6TO.  MÉTODO - FECHA 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EMBAR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62" dur="indefinite" restart="never" nodeType="tmRoot">
          <p:childTnLst>
            <p:seq>
              <p:cTn id="663" dur="indefinite" nodeType="mainSeq">
                <p:childTnLst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1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1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1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1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2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1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1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1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1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1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500" fill="hold"/>
                                        <p:tgtEl>
                                          <p:spTgt spid="1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1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1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1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500" fill="hold"/>
                                        <p:tgtEl>
                                          <p:spTgt spid="1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1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1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1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500" fill="hold"/>
                                        <p:tgtEl>
                                          <p:spTgt spid="1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500" fill="hold"/>
                                        <p:tgtEl>
                                          <p:spTgt spid="1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500" fill="hold"/>
                                        <p:tgtEl>
                                          <p:spTgt spid="1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"/>
          <p:cNvSpPr/>
          <p:nvPr/>
        </p:nvSpPr>
        <p:spPr>
          <a:xfrm>
            <a:off x="990720" y="152280"/>
            <a:ext cx="7162560" cy="5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"/>
          <p:cNvSpPr/>
          <p:nvPr/>
        </p:nvSpPr>
        <p:spPr>
          <a:xfrm>
            <a:off x="609480" y="304920"/>
            <a:ext cx="716292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"/>
          <p:cNvSpPr/>
          <p:nvPr/>
        </p:nvSpPr>
        <p:spPr>
          <a:xfrm>
            <a:off x="914400" y="0"/>
            <a:ext cx="71629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6" name="" descr=""/>
          <p:cNvPicPr/>
          <p:nvPr/>
        </p:nvPicPr>
        <p:blipFill>
          <a:blip r:embed="rId1"/>
          <a:stretch/>
        </p:blipFill>
        <p:spPr>
          <a:xfrm>
            <a:off x="755640" y="2421000"/>
            <a:ext cx="7416720" cy="3384360"/>
          </a:xfrm>
          <a:prstGeom prst="rect">
            <a:avLst/>
          </a:prstGeom>
          <a:ln w="0">
            <a:noFill/>
          </a:ln>
        </p:spPr>
      </p:pic>
      <p:sp>
        <p:nvSpPr>
          <p:cNvPr id="1287" name=""/>
          <p:cNvSpPr/>
          <p:nvPr/>
        </p:nvSpPr>
        <p:spPr>
          <a:xfrm>
            <a:off x="971640" y="2924280"/>
            <a:ext cx="6840360" cy="264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 algn="just">
              <a:lnSpc>
                <a:spcPct val="93000"/>
              </a:lnSpc>
              <a:spcBef>
                <a:spcPts val="1001"/>
              </a:spcBef>
              <a:buClr>
                <a:srgbClr val="3bb0ff"/>
              </a:buClr>
              <a:buFont typeface="Wingdings" charset="2"/>
              <a:buChar char=""/>
              <a:tabLst>
                <a:tab algn="l" pos="171360"/>
                <a:tab algn="l" pos="619200"/>
                <a:tab algn="l" pos="1068480"/>
                <a:tab algn="l" pos="1517760"/>
                <a:tab algn="l" pos="1967040"/>
                <a:tab algn="l" pos="2416320"/>
                <a:tab algn="l" pos="2865600"/>
                <a:tab algn="l" pos="3314880"/>
                <a:tab algn="l" pos="3763800"/>
                <a:tab algn="l" pos="4213080"/>
                <a:tab algn="l" pos="4662360"/>
                <a:tab algn="l" pos="5111640"/>
                <a:tab algn="l" pos="5560920"/>
                <a:tab algn="l" pos="6010200"/>
                <a:tab algn="l" pos="6459480"/>
                <a:tab algn="l" pos="6908760"/>
                <a:tab algn="l" pos="7358040"/>
                <a:tab algn="l" pos="7807320"/>
                <a:tab algn="l" pos="8256600"/>
                <a:tab algn="l" pos="8705880"/>
                <a:tab algn="l" pos="9155160"/>
                <a:tab algn="l" pos="10058400"/>
              </a:tabLst>
            </a:pPr>
            <a:r>
              <a:rPr b="1" lang="en-GB" sz="1800" spc="-1" strike="noStrike">
                <a:solidFill>
                  <a:srgbClr val="333333"/>
                </a:solidFill>
                <a:latin typeface="Arial"/>
              </a:rPr>
              <a:t>SU ACTIVIDAD PRINCIPAL CONSISTA EN LA OBTENCIÓN DE RENTAS PASIV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just">
              <a:lnSpc>
                <a:spcPct val="93000"/>
              </a:lnSpc>
              <a:spcBef>
                <a:spcPts val="1001"/>
              </a:spcBef>
              <a:buClr>
                <a:srgbClr val="3bb0ff"/>
              </a:buClr>
              <a:buFont typeface="Wingdings" charset="2"/>
              <a:buChar char=""/>
              <a:tabLst>
                <a:tab algn="l" pos="171360"/>
                <a:tab algn="l" pos="619200"/>
                <a:tab algn="l" pos="1068480"/>
                <a:tab algn="l" pos="1517760"/>
                <a:tab algn="l" pos="1967040"/>
                <a:tab algn="l" pos="2416320"/>
                <a:tab algn="l" pos="2865600"/>
                <a:tab algn="l" pos="3314880"/>
                <a:tab algn="l" pos="3763800"/>
                <a:tab algn="l" pos="4213080"/>
                <a:tab algn="l" pos="4662360"/>
                <a:tab algn="l" pos="5111640"/>
                <a:tab algn="l" pos="5560920"/>
                <a:tab algn="l" pos="6010200"/>
                <a:tab algn="l" pos="6459480"/>
                <a:tab algn="l" pos="6908760"/>
                <a:tab algn="l" pos="7358040"/>
                <a:tab algn="l" pos="7807320"/>
                <a:tab algn="l" pos="8256600"/>
                <a:tab algn="l" pos="8705880"/>
                <a:tab algn="l" pos="9155160"/>
                <a:tab algn="l" pos="10058400"/>
              </a:tabLst>
            </a:pPr>
            <a:r>
              <a:rPr b="1" lang="en-GB" sz="1800" spc="-1" strike="noStrike">
                <a:solidFill>
                  <a:srgbClr val="333333"/>
                </a:solidFill>
                <a:latin typeface="Arial"/>
              </a:rPr>
              <a:t>SU ACTIVIDAD PRINCIPAL CONSISTA EN LA INTERMEDIACION EN LA COMERCIALIZACIÓN DE BIENES DESDE O HACIA ARGENTINA, O CON INTERMEDIARIOS DEL GRUPO ECONÓMICAMENTE VINCUL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just">
              <a:lnSpc>
                <a:spcPct val="93000"/>
              </a:lnSpc>
              <a:spcBef>
                <a:spcPts val="1001"/>
              </a:spcBef>
              <a:buClr>
                <a:srgbClr val="3bb0ff"/>
              </a:buClr>
              <a:buFont typeface="Wingdings" charset="2"/>
              <a:buChar char=""/>
              <a:tabLst>
                <a:tab algn="l" pos="171360"/>
                <a:tab algn="l" pos="619200"/>
                <a:tab algn="l" pos="1068480"/>
                <a:tab algn="l" pos="1517760"/>
                <a:tab algn="l" pos="1967040"/>
                <a:tab algn="l" pos="2416320"/>
                <a:tab algn="l" pos="2865600"/>
                <a:tab algn="l" pos="3314880"/>
                <a:tab algn="l" pos="3763800"/>
                <a:tab algn="l" pos="4213080"/>
                <a:tab algn="l" pos="4662360"/>
                <a:tab algn="l" pos="5111640"/>
                <a:tab algn="l" pos="5560920"/>
                <a:tab algn="l" pos="6010200"/>
                <a:tab algn="l" pos="6459480"/>
                <a:tab algn="l" pos="6908760"/>
                <a:tab algn="l" pos="7358040"/>
                <a:tab algn="l" pos="7807320"/>
                <a:tab algn="l" pos="8256600"/>
                <a:tab algn="l" pos="8705880"/>
                <a:tab algn="l" pos="9155160"/>
                <a:tab algn="l" pos="10058400"/>
              </a:tabLst>
            </a:pPr>
            <a:r>
              <a:rPr b="1" lang="en-GB" sz="1800" spc="-1" strike="noStrike">
                <a:solidFill>
                  <a:srgbClr val="333333"/>
                </a:solidFill>
                <a:latin typeface="Arial"/>
              </a:rPr>
              <a:t>LAS OPERACIONES DE COMERCIO INTERNACIONAL CON OTROS INTEGRANTES DEL GRUPO ECONOMICO SUPEREN EL 3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"/>
          <p:cNvSpPr/>
          <p:nvPr/>
        </p:nvSpPr>
        <p:spPr>
          <a:xfrm>
            <a:off x="2195640" y="333360"/>
            <a:ext cx="5933880" cy="16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6TO.  MÉTODO - FECHA 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EMBAR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9" name=""/>
          <p:cNvGrpSpPr/>
          <p:nvPr/>
        </p:nvGrpSpPr>
        <p:grpSpPr>
          <a:xfrm>
            <a:off x="0" y="1413000"/>
            <a:ext cx="7345080" cy="1582200"/>
            <a:chOff x="0" y="1413000"/>
            <a:chExt cx="7345080" cy="1582200"/>
          </a:xfrm>
        </p:grpSpPr>
        <p:grpSp>
          <p:nvGrpSpPr>
            <p:cNvPr id="1290" name=""/>
            <p:cNvGrpSpPr/>
            <p:nvPr/>
          </p:nvGrpSpPr>
          <p:grpSpPr>
            <a:xfrm>
              <a:off x="0" y="1413000"/>
              <a:ext cx="7345080" cy="1582200"/>
              <a:chOff x="0" y="1413000"/>
              <a:chExt cx="7345080" cy="1582200"/>
            </a:xfrm>
          </p:grpSpPr>
          <p:pic>
            <p:nvPicPr>
              <p:cNvPr id="1291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1413000"/>
                <a:ext cx="7345080" cy="1582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2" name=""/>
              <p:cNvSpPr/>
              <p:nvPr/>
            </p:nvSpPr>
            <p:spPr>
              <a:xfrm>
                <a:off x="465120" y="1690200"/>
                <a:ext cx="6172920" cy="1017360"/>
              </a:xfrm>
              <a:prstGeom prst="roundRect">
                <a:avLst>
                  <a:gd name="adj" fmla="val 11250"/>
                </a:avLst>
              </a:prstGeom>
              <a:gradFill rotWithShape="0">
                <a:gsLst>
                  <a:gs pos="0">
                    <a:srgbClr val="fefefe"/>
                  </a:gs>
                  <a:gs pos="100000">
                    <a:srgbClr val="5b9d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93" name=""/>
            <p:cNvSpPr/>
            <p:nvPr/>
          </p:nvSpPr>
          <p:spPr>
            <a:xfrm>
              <a:off x="503280" y="1627200"/>
              <a:ext cx="648180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¿CUÁNDO UN INTERMEDIARIO INTERNACIONAL CARECE DE SUSTANCIA ECONOMIC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(ES FANTASMA O PANTALLA)? (CONT.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702" dur="indefinite" restart="never" nodeType="tmRoot">
          <p:childTnLst>
            <p:seq>
              <p:cTn id="703" dur="indefinite" nodeType="mainSeq">
                <p:childTnLst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1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1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500" fill="hold"/>
                                        <p:tgtEl>
                                          <p:spTgt spid="1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500" fill="hold"/>
                                        <p:tgtEl>
                                          <p:spTgt spid="1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2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1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1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500" fill="hold"/>
                                        <p:tgtEl>
                                          <p:spTgt spid="1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500" fill="hold"/>
                                        <p:tgtEl>
                                          <p:spTgt spid="1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2" dur="500" fill="hold"/>
                                        <p:tgtEl>
                                          <p:spTgt spid="1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1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1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500" fill="hold"/>
                                        <p:tgtEl>
                                          <p:spTgt spid="1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0" dur="500" fill="hold"/>
                                        <p:tgtEl>
                                          <p:spTgt spid="1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500" fill="hold"/>
                                        <p:tgtEl>
                                          <p:spTgt spid="1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500" fill="hold"/>
                                        <p:tgtEl>
                                          <p:spTgt spid="1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500" fill="hold"/>
                                        <p:tgtEl>
                                          <p:spTgt spid="1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8" dur="500" fill="hold"/>
                                        <p:tgtEl>
                                          <p:spTgt spid="1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500" fill="hold"/>
                                        <p:tgtEl>
                                          <p:spTgt spid="1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500" fill="hold"/>
                                        <p:tgtEl>
                                          <p:spTgt spid="1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500" fill="hold"/>
                                        <p:tgtEl>
                                          <p:spTgt spid="1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"/>
          <p:cNvSpPr/>
          <p:nvPr/>
        </p:nvSpPr>
        <p:spPr>
          <a:xfrm>
            <a:off x="990720" y="152280"/>
            <a:ext cx="7162560" cy="5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"/>
          <p:cNvSpPr/>
          <p:nvPr/>
        </p:nvSpPr>
        <p:spPr>
          <a:xfrm>
            <a:off x="609480" y="304920"/>
            <a:ext cx="716292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"/>
          <p:cNvSpPr/>
          <p:nvPr/>
        </p:nvSpPr>
        <p:spPr>
          <a:xfrm>
            <a:off x="900000" y="0"/>
            <a:ext cx="71629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7" name="" descr=""/>
          <p:cNvPicPr/>
          <p:nvPr/>
        </p:nvPicPr>
        <p:blipFill>
          <a:blip r:embed="rId1"/>
          <a:stretch/>
        </p:blipFill>
        <p:spPr>
          <a:xfrm>
            <a:off x="733320" y="2008080"/>
            <a:ext cx="7417080" cy="2376720"/>
          </a:xfrm>
          <a:prstGeom prst="rect">
            <a:avLst/>
          </a:prstGeom>
          <a:ln w="0">
            <a:noFill/>
          </a:ln>
        </p:spPr>
      </p:pic>
      <p:sp>
        <p:nvSpPr>
          <p:cNvPr id="1298" name=""/>
          <p:cNvSpPr/>
          <p:nvPr/>
        </p:nvSpPr>
        <p:spPr>
          <a:xfrm>
            <a:off x="1020600" y="2441520"/>
            <a:ext cx="6840720" cy="175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 algn="just">
              <a:lnSpc>
                <a:spcPct val="93000"/>
              </a:lnSpc>
              <a:spcBef>
                <a:spcPts val="1001"/>
              </a:spcBef>
              <a:buClr>
                <a:srgbClr val="3bb0ff"/>
              </a:buClr>
              <a:buFont typeface="Wingdings" charset="2"/>
              <a:buChar char=""/>
              <a:tabLst>
                <a:tab algn="l" pos="171360"/>
                <a:tab algn="l" pos="619200"/>
                <a:tab algn="l" pos="1068480"/>
                <a:tab algn="l" pos="1517760"/>
                <a:tab algn="l" pos="1967040"/>
                <a:tab algn="l" pos="2416320"/>
                <a:tab algn="l" pos="2865600"/>
                <a:tab algn="l" pos="3314880"/>
                <a:tab algn="l" pos="3763800"/>
                <a:tab algn="l" pos="4213080"/>
                <a:tab algn="l" pos="4662360"/>
                <a:tab algn="l" pos="5111640"/>
                <a:tab algn="l" pos="5560920"/>
                <a:tab algn="l" pos="6010200"/>
                <a:tab algn="l" pos="6459480"/>
                <a:tab algn="l" pos="6908760"/>
                <a:tab algn="l" pos="7358040"/>
                <a:tab algn="l" pos="7807320"/>
                <a:tab algn="l" pos="8256600"/>
                <a:tab algn="l" pos="8705880"/>
                <a:tab algn="l" pos="9155160"/>
                <a:tab algn="l" pos="10058400"/>
              </a:tabLst>
            </a:pPr>
            <a:r>
              <a:rPr b="1" lang="en-GB" sz="1800" spc="-1" strike="noStrike">
                <a:solidFill>
                  <a:srgbClr val="333333"/>
                </a:solidFill>
                <a:latin typeface="Arial"/>
              </a:rPr>
              <a:t>DELIMITAR LA APLICACIÓN DEL MÉTODO CUANDO HUBIEREN CESADO LAS CAUSAS QUE LO ORIGIN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just">
              <a:lnSpc>
                <a:spcPct val="93000"/>
              </a:lnSpc>
              <a:spcBef>
                <a:spcPts val="1001"/>
              </a:spcBef>
              <a:buClr>
                <a:srgbClr val="3bb0ff"/>
              </a:buClr>
              <a:buFont typeface="Wingdings" charset="2"/>
              <a:buChar char=""/>
              <a:tabLst>
                <a:tab algn="l" pos="171360"/>
                <a:tab algn="l" pos="619200"/>
                <a:tab algn="l" pos="1068480"/>
                <a:tab algn="l" pos="1517760"/>
                <a:tab algn="l" pos="1967040"/>
                <a:tab algn="l" pos="2416320"/>
                <a:tab algn="l" pos="2865600"/>
                <a:tab algn="l" pos="3314880"/>
                <a:tab algn="l" pos="3763800"/>
                <a:tab algn="l" pos="4213080"/>
                <a:tab algn="l" pos="4662360"/>
                <a:tab algn="l" pos="5111640"/>
                <a:tab algn="l" pos="5560920"/>
                <a:tab algn="l" pos="6010200"/>
                <a:tab algn="l" pos="6459480"/>
                <a:tab algn="l" pos="6908760"/>
                <a:tab algn="l" pos="7358040"/>
                <a:tab algn="l" pos="7807320"/>
                <a:tab algn="l" pos="8256600"/>
                <a:tab algn="l" pos="8705880"/>
                <a:tab algn="l" pos="9155160"/>
                <a:tab algn="l" pos="10058400"/>
              </a:tabLst>
            </a:pPr>
            <a:r>
              <a:rPr b="1" lang="en-GB" sz="1800" spc="-1" strike="noStrike">
                <a:solidFill>
                  <a:srgbClr val="333333"/>
                </a:solidFill>
                <a:latin typeface="Arial"/>
              </a:rPr>
              <a:t>APLICAR EL MÉTODO A OTRAS EXPORTACIONES DE BIENES CUANDO LA NATURALEZA Y CARACTERÍSTICAS DE LAS OPERACIONES INTERNACIONALES ASÍ LO JUSTIFIQU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9" name=""/>
          <p:cNvGrpSpPr/>
          <p:nvPr/>
        </p:nvGrpSpPr>
        <p:grpSpPr>
          <a:xfrm>
            <a:off x="12600" y="1433520"/>
            <a:ext cx="5689440" cy="987120"/>
            <a:chOff x="12600" y="1433520"/>
            <a:chExt cx="5689440" cy="987120"/>
          </a:xfrm>
        </p:grpSpPr>
        <p:grpSp>
          <p:nvGrpSpPr>
            <p:cNvPr id="1300" name=""/>
            <p:cNvGrpSpPr/>
            <p:nvPr/>
          </p:nvGrpSpPr>
          <p:grpSpPr>
            <a:xfrm>
              <a:off x="12600" y="1433520"/>
              <a:ext cx="5689440" cy="987120"/>
              <a:chOff x="12600" y="1433520"/>
              <a:chExt cx="5689440" cy="987120"/>
            </a:xfrm>
          </p:grpSpPr>
          <p:pic>
            <p:nvPicPr>
              <p:cNvPr id="1301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2600" y="1433520"/>
                <a:ext cx="5689440" cy="987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02" name=""/>
              <p:cNvSpPr/>
              <p:nvPr/>
            </p:nvSpPr>
            <p:spPr>
              <a:xfrm>
                <a:off x="372960" y="1606320"/>
                <a:ext cx="4781520" cy="634680"/>
              </a:xfrm>
              <a:prstGeom prst="roundRect">
                <a:avLst>
                  <a:gd name="adj" fmla="val 11250"/>
                </a:avLst>
              </a:prstGeom>
              <a:gradFill rotWithShape="0">
                <a:gsLst>
                  <a:gs pos="0">
                    <a:srgbClr val="fefefe"/>
                  </a:gs>
                  <a:gs pos="100000">
                    <a:srgbClr val="5b9d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03" name=""/>
            <p:cNvSpPr/>
            <p:nvPr/>
          </p:nvSpPr>
          <p:spPr>
            <a:xfrm>
              <a:off x="388800" y="1744560"/>
              <a:ext cx="4545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FACULTADES DE LA AFI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4" name=""/>
          <p:cNvSpPr/>
          <p:nvPr/>
        </p:nvSpPr>
        <p:spPr>
          <a:xfrm>
            <a:off x="2411280" y="476280"/>
            <a:ext cx="5040360" cy="14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6TO.  MÉTODO - FECHA 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EMBAR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42" dur="indefinite" restart="never" nodeType="tmRoot">
          <p:childTnLst>
            <p:seq>
              <p:cTn id="743" dur="indefinite" nodeType="mainSeq">
                <p:childTnLst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8" dur="500" fill="hold"/>
                                        <p:tgtEl>
                                          <p:spTgt spid="1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500" fill="hold"/>
                                        <p:tgtEl>
                                          <p:spTgt spid="1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500" fill="hold"/>
                                        <p:tgtEl>
                                          <p:spTgt spid="1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500" fill="hold"/>
                                        <p:tgtEl>
                                          <p:spTgt spid="1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2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4" dur="500" fill="hold"/>
                                        <p:tgtEl>
                                          <p:spTgt spid="1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500" fill="hold"/>
                                        <p:tgtEl>
                                          <p:spTgt spid="1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500" fill="hold"/>
                                        <p:tgtEl>
                                          <p:spTgt spid="1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500" fill="hold"/>
                                        <p:tgtEl>
                                          <p:spTgt spid="1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2" dur="500" fill="hold"/>
                                        <p:tgtEl>
                                          <p:spTgt spid="1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500" fill="hold"/>
                                        <p:tgtEl>
                                          <p:spTgt spid="1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500" fill="hold"/>
                                        <p:tgtEl>
                                          <p:spTgt spid="1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500" fill="hold"/>
                                        <p:tgtEl>
                                          <p:spTgt spid="1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0" dur="500" fill="hold"/>
                                        <p:tgtEl>
                                          <p:spTgt spid="1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500" fill="hold"/>
                                        <p:tgtEl>
                                          <p:spTgt spid="1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500" fill="hold"/>
                                        <p:tgtEl>
                                          <p:spTgt spid="1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500" fill="hold"/>
                                        <p:tgtEl>
                                          <p:spTgt spid="1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"/>
          <p:cNvSpPr/>
          <p:nvPr/>
        </p:nvSpPr>
        <p:spPr>
          <a:xfrm>
            <a:off x="1835280" y="404640"/>
            <a:ext cx="6769080" cy="8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7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800" spc="-1" strike="noStrike" u="sng">
                <a:solidFill>
                  <a:srgbClr val="000000"/>
                </a:solidFill>
                <a:uFillTx/>
                <a:latin typeface="Arial"/>
              </a:rPr>
              <a:t>6TO. MÉTODO – FECHA DE EMBARQUE 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0" name=""/>
          <p:cNvGrpSpPr/>
          <p:nvPr/>
        </p:nvGrpSpPr>
        <p:grpSpPr>
          <a:xfrm>
            <a:off x="468360" y="1915920"/>
            <a:ext cx="7939800" cy="1007640"/>
            <a:chOff x="468360" y="1915920"/>
            <a:chExt cx="7939800" cy="1007640"/>
          </a:xfrm>
        </p:grpSpPr>
        <p:grpSp>
          <p:nvGrpSpPr>
            <p:cNvPr id="861" name=""/>
            <p:cNvGrpSpPr/>
            <p:nvPr/>
          </p:nvGrpSpPr>
          <p:grpSpPr>
            <a:xfrm>
              <a:off x="1498680" y="2167920"/>
              <a:ext cx="6909480" cy="755640"/>
              <a:chOff x="1498680" y="2167920"/>
              <a:chExt cx="6909480" cy="755640"/>
            </a:xfrm>
          </p:grpSpPr>
          <p:sp>
            <p:nvSpPr>
              <p:cNvPr id="862" name=""/>
              <p:cNvSpPr/>
              <p:nvPr/>
            </p:nvSpPr>
            <p:spPr>
              <a:xfrm>
                <a:off x="1498680" y="2167920"/>
                <a:ext cx="6909480" cy="755640"/>
              </a:xfrm>
              <a:prstGeom prst="roundRect">
                <a:avLst>
                  <a:gd name="adj" fmla="val 16810"/>
                </a:avLst>
              </a:prstGeom>
              <a:solidFill>
                <a:srgbClr val="000000"/>
              </a:solidFill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1549800" y="2367000"/>
                <a:ext cx="6807240" cy="3474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>
                  <a:lnSpc>
                    <a:spcPct val="93000"/>
                  </a:lnSpc>
                  <a:spcBef>
                    <a:spcPts val="561"/>
                  </a:spcBef>
                  <a:spcAft>
                    <a:spcPts val="451"/>
                  </a:spcAft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Frutiger-Bold"/>
                  </a:rPr>
                  <a:t>7 EMPRESAS DURANTE 5 AÑO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4" name=""/>
            <p:cNvSpPr/>
            <p:nvPr/>
          </p:nvSpPr>
          <p:spPr>
            <a:xfrm flipV="1">
              <a:off x="468360" y="1915560"/>
              <a:ext cx="1030320" cy="821160"/>
            </a:xfrm>
            <a:custGeom>
              <a:avLst/>
              <a:gdLst>
                <a:gd name="textAreaLeft" fmla="*/ 0 w 1030320"/>
                <a:gd name="textAreaRight" fmla="*/ 1030680 w 1030320"/>
                <a:gd name="textAreaTop" fmla="*/ -360 h 821160"/>
                <a:gd name="textAreaBottom" fmla="*/ 821160 h 821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260" stAng="10800000" swAng="5400000"/>
                  <a:lnTo>
                    <a:pt x="15100" y="2900"/>
                  </a:lnTo>
                  <a:lnTo>
                    <a:pt x="15100" y="0"/>
                  </a:lnTo>
                  <a:lnTo>
                    <a:pt x="21600" y="6079"/>
                  </a:lnTo>
                  <a:lnTo>
                    <a:pt x="15100" y="12158"/>
                  </a:lnTo>
                  <a:lnTo>
                    <a:pt x="15100" y="9258"/>
                  </a:lnTo>
                  <a:lnTo>
                    <a:pt x="12427" y="9258"/>
                  </a:lnTo>
                  <a:arcTo wR="6069" hR="2902" stAng="16200000" swAng="-5400000"/>
                  <a:lnTo>
                    <a:pt x="6358" y="216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5" name=""/>
          <p:cNvGrpSpPr/>
          <p:nvPr/>
        </p:nvGrpSpPr>
        <p:grpSpPr>
          <a:xfrm>
            <a:off x="395280" y="1989000"/>
            <a:ext cx="7921080" cy="1726560"/>
            <a:chOff x="395280" y="1989000"/>
            <a:chExt cx="7921080" cy="1726560"/>
          </a:xfrm>
        </p:grpSpPr>
        <p:grpSp>
          <p:nvGrpSpPr>
            <p:cNvPr id="866" name=""/>
            <p:cNvGrpSpPr/>
            <p:nvPr/>
          </p:nvGrpSpPr>
          <p:grpSpPr>
            <a:xfrm>
              <a:off x="1425600" y="2984760"/>
              <a:ext cx="6890760" cy="730800"/>
              <a:chOff x="1425600" y="2984760"/>
              <a:chExt cx="6890760" cy="730800"/>
            </a:xfrm>
          </p:grpSpPr>
          <p:sp>
            <p:nvSpPr>
              <p:cNvPr id="867" name=""/>
              <p:cNvSpPr/>
              <p:nvPr/>
            </p:nvSpPr>
            <p:spPr>
              <a:xfrm>
                <a:off x="1425600" y="2984760"/>
                <a:ext cx="6890760" cy="730800"/>
              </a:xfrm>
              <a:prstGeom prst="roundRect">
                <a:avLst>
                  <a:gd name="adj" fmla="val 16593"/>
                </a:avLst>
              </a:prstGeom>
              <a:solidFill>
                <a:srgbClr val="000000"/>
              </a:solidFill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1476360" y="3175200"/>
                <a:ext cx="6788880" cy="3474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>
                  <a:lnSpc>
                    <a:spcPct val="93000"/>
                  </a:lnSpc>
                  <a:spcBef>
                    <a:spcPts val="561"/>
                  </a:spcBef>
                  <a:spcAft>
                    <a:spcPts val="451"/>
                  </a:spcAft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Frutiger-Bold"/>
                  </a:rPr>
                  <a:t>VENDIERON</a:t>
                </a:r>
                <a:r>
                  <a:rPr b="1" lang="en-US" sz="1800" spc="-1" strike="noStrike">
                    <a:solidFill>
                      <a:srgbClr val="ffffff"/>
                    </a:solidFill>
                    <a:latin typeface="Frutiger-Bold"/>
                  </a:rPr>
                  <a:t>	</a:t>
                </a:r>
                <a:r>
                  <a:rPr b="1" lang="en-US" sz="1800" spc="-1" strike="noStrike">
                    <a:solidFill>
                      <a:srgbClr val="ffffff"/>
                    </a:solidFill>
                    <a:latin typeface="Frutiger-Bold"/>
                  </a:rPr>
                  <a:t>	</a:t>
                </a:r>
                <a:r>
                  <a:rPr b="1" lang="en-US" sz="1800" spc="-1" strike="noStrike">
                    <a:solidFill>
                      <a:srgbClr val="ffffff"/>
                    </a:solidFill>
                    <a:latin typeface="Frutiger-Bold"/>
                  </a:rPr>
                  <a:t>	</a:t>
                </a:r>
                <a:r>
                  <a:rPr b="1" lang="en-US" sz="1800" spc="-1" strike="noStrike">
                    <a:solidFill>
                      <a:srgbClr val="ffffff"/>
                    </a:solidFill>
                    <a:latin typeface="Frutiger-Bold"/>
                  </a:rPr>
                  <a:t>	</a:t>
                </a:r>
                <a:r>
                  <a:rPr b="1" lang="en-US" sz="1800" spc="-1" strike="noStrike">
                    <a:solidFill>
                      <a:srgbClr val="ffffff"/>
                    </a:solidFill>
                    <a:latin typeface="Frutiger-Bold"/>
                  </a:rPr>
                  <a:t>	</a:t>
                </a:r>
                <a:r>
                  <a:rPr b="1" lang="en-US" sz="1800" spc="-1" strike="noStrike">
                    <a:solidFill>
                      <a:srgbClr val="ffffff"/>
                    </a:solidFill>
                    <a:latin typeface="Frutiger-Bold"/>
                  </a:rPr>
                  <a:t>	</a:t>
                </a:r>
                <a:r>
                  <a:rPr b="1" lang="en-US" sz="1800" spc="-1" strike="noStrike">
                    <a:solidFill>
                      <a:srgbClr val="ffffff"/>
                    </a:solidFill>
                    <a:latin typeface="Frutiger-Bold"/>
                  </a:rPr>
                  <a:t>       U$S 22.500.000.00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9" name=""/>
            <p:cNvGrpSpPr/>
            <p:nvPr/>
          </p:nvGrpSpPr>
          <p:grpSpPr>
            <a:xfrm>
              <a:off x="395280" y="1989000"/>
              <a:ext cx="1029960" cy="1594800"/>
              <a:chOff x="395280" y="1989000"/>
              <a:chExt cx="1029960" cy="1594800"/>
            </a:xfrm>
          </p:grpSpPr>
          <p:sp>
            <p:nvSpPr>
              <p:cNvPr id="870" name=""/>
              <p:cNvSpPr/>
              <p:nvPr/>
            </p:nvSpPr>
            <p:spPr>
              <a:xfrm flipV="1">
                <a:off x="395280" y="2719080"/>
                <a:ext cx="1029960" cy="864360"/>
              </a:xfrm>
              <a:custGeom>
                <a:avLst/>
                <a:gdLst>
                  <a:gd name="textAreaLeft" fmla="*/ 0 w 1029960"/>
                  <a:gd name="textAreaRight" fmla="*/ 1030320 w 1029960"/>
                  <a:gd name="textAreaTop" fmla="*/ -360 h 864360"/>
                  <a:gd name="textAreaBottom" fmla="*/ 864360 h 864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lnTo>
                      <a:pt x="0" y="12160"/>
                    </a:lnTo>
                    <a:arcTo wR="12427" hR="9260" stAng="10800000" swAng="5400000"/>
                    <a:lnTo>
                      <a:pt x="15100" y="2900"/>
                    </a:lnTo>
                    <a:lnTo>
                      <a:pt x="15100" y="0"/>
                    </a:lnTo>
                    <a:lnTo>
                      <a:pt x="21600" y="6079"/>
                    </a:lnTo>
                    <a:lnTo>
                      <a:pt x="15100" y="12158"/>
                    </a:lnTo>
                    <a:lnTo>
                      <a:pt x="15100" y="9258"/>
                    </a:lnTo>
                    <a:lnTo>
                      <a:pt x="12427" y="9258"/>
                    </a:lnTo>
                    <a:arcTo wR="6069" hR="2902" stAng="16200000" swAng="-5400000"/>
                    <a:lnTo>
                      <a:pt x="6358" y="216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395280" y="1989000"/>
                <a:ext cx="315720" cy="864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72" name=""/>
          <p:cNvGrpSpPr/>
          <p:nvPr/>
        </p:nvGrpSpPr>
        <p:grpSpPr>
          <a:xfrm>
            <a:off x="395280" y="3070080"/>
            <a:ext cx="7921080" cy="1510560"/>
            <a:chOff x="395280" y="3070080"/>
            <a:chExt cx="7921080" cy="1510560"/>
          </a:xfrm>
        </p:grpSpPr>
        <p:grpSp>
          <p:nvGrpSpPr>
            <p:cNvPr id="873" name=""/>
            <p:cNvGrpSpPr/>
            <p:nvPr/>
          </p:nvGrpSpPr>
          <p:grpSpPr>
            <a:xfrm>
              <a:off x="1425600" y="3854880"/>
              <a:ext cx="6890760" cy="725760"/>
              <a:chOff x="1425600" y="3854880"/>
              <a:chExt cx="6890760" cy="725760"/>
            </a:xfrm>
          </p:grpSpPr>
          <p:sp>
            <p:nvSpPr>
              <p:cNvPr id="874" name=""/>
              <p:cNvSpPr/>
              <p:nvPr/>
            </p:nvSpPr>
            <p:spPr>
              <a:xfrm>
                <a:off x="1425600" y="3854880"/>
                <a:ext cx="6890760" cy="725760"/>
              </a:xfrm>
              <a:prstGeom prst="roundRect">
                <a:avLst>
                  <a:gd name="adj" fmla="val 16593"/>
                </a:avLst>
              </a:prstGeom>
              <a:solidFill>
                <a:srgbClr val="000000"/>
              </a:solidFill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1476360" y="4047840"/>
                <a:ext cx="6788880" cy="3474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>
                  <a:lnSpc>
                    <a:spcPct val="93000"/>
                  </a:lnSpc>
                  <a:spcBef>
                    <a:spcPts val="561"/>
                  </a:spcBef>
                  <a:spcAft>
                    <a:spcPts val="451"/>
                  </a:spcAft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Frutiger-Bold"/>
                  </a:rPr>
                  <a:t>PAGARON IMP. A LAS GANANCIAS         U$S          1.900.00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6" name=""/>
            <p:cNvGrpSpPr/>
            <p:nvPr/>
          </p:nvGrpSpPr>
          <p:grpSpPr>
            <a:xfrm>
              <a:off x="395280" y="3070080"/>
              <a:ext cx="1029960" cy="1329840"/>
              <a:chOff x="395280" y="3070080"/>
              <a:chExt cx="1029960" cy="1329840"/>
            </a:xfrm>
          </p:grpSpPr>
          <p:sp>
            <p:nvSpPr>
              <p:cNvPr id="877" name=""/>
              <p:cNvSpPr/>
              <p:nvPr/>
            </p:nvSpPr>
            <p:spPr>
              <a:xfrm flipV="1">
                <a:off x="395280" y="3613680"/>
                <a:ext cx="1029960" cy="786240"/>
              </a:xfrm>
              <a:custGeom>
                <a:avLst/>
                <a:gdLst>
                  <a:gd name="textAreaLeft" fmla="*/ 0 w 1029960"/>
                  <a:gd name="textAreaRight" fmla="*/ 1030320 w 1029960"/>
                  <a:gd name="textAreaTop" fmla="*/ 360 h 786240"/>
                  <a:gd name="textAreaBottom" fmla="*/ 786960 h 786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lnTo>
                      <a:pt x="0" y="12160"/>
                    </a:lnTo>
                    <a:arcTo wR="12427" hR="9260" stAng="10800000" swAng="5400000"/>
                    <a:lnTo>
                      <a:pt x="15100" y="2900"/>
                    </a:lnTo>
                    <a:lnTo>
                      <a:pt x="15100" y="0"/>
                    </a:lnTo>
                    <a:lnTo>
                      <a:pt x="21600" y="6079"/>
                    </a:lnTo>
                    <a:lnTo>
                      <a:pt x="15100" y="12158"/>
                    </a:lnTo>
                    <a:lnTo>
                      <a:pt x="15100" y="9258"/>
                    </a:lnTo>
                    <a:lnTo>
                      <a:pt x="12427" y="9258"/>
                    </a:lnTo>
                    <a:arcTo wR="6069" hR="2902" stAng="16200000" swAng="-5400000"/>
                    <a:lnTo>
                      <a:pt x="6358" y="216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395280" y="3070080"/>
                <a:ext cx="315720" cy="786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79" name=""/>
          <p:cNvGrpSpPr/>
          <p:nvPr/>
        </p:nvGrpSpPr>
        <p:grpSpPr>
          <a:xfrm>
            <a:off x="395280" y="3933720"/>
            <a:ext cx="7921080" cy="1512720"/>
            <a:chOff x="395280" y="3933720"/>
            <a:chExt cx="7921080" cy="1512720"/>
          </a:xfrm>
        </p:grpSpPr>
        <p:grpSp>
          <p:nvGrpSpPr>
            <p:cNvPr id="880" name=""/>
            <p:cNvGrpSpPr/>
            <p:nvPr/>
          </p:nvGrpSpPr>
          <p:grpSpPr>
            <a:xfrm>
              <a:off x="1425600" y="4720320"/>
              <a:ext cx="6890760" cy="726120"/>
              <a:chOff x="1425600" y="4720320"/>
              <a:chExt cx="6890760" cy="726120"/>
            </a:xfrm>
          </p:grpSpPr>
          <p:sp>
            <p:nvSpPr>
              <p:cNvPr id="881" name=""/>
              <p:cNvSpPr/>
              <p:nvPr/>
            </p:nvSpPr>
            <p:spPr>
              <a:xfrm>
                <a:off x="1425600" y="4720320"/>
                <a:ext cx="6890760" cy="726120"/>
              </a:xfrm>
              <a:prstGeom prst="roundRect">
                <a:avLst>
                  <a:gd name="adj" fmla="val 16593"/>
                </a:avLst>
              </a:prstGeom>
              <a:solidFill>
                <a:srgbClr val="000000"/>
              </a:solidFill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1476360" y="4911840"/>
                <a:ext cx="6788880" cy="3474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>
                  <a:lnSpc>
                    <a:spcPct val="93000"/>
                  </a:lnSpc>
                  <a:spcBef>
                    <a:spcPts val="561"/>
                  </a:spcBef>
                  <a:spcAft>
                    <a:spcPts val="451"/>
                  </a:spcAft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ffffff"/>
                    </a:solidFill>
                    <a:latin typeface="Frutiger-Bold"/>
                  </a:rPr>
                  <a:t>RELACIÓN IMPUESTO/VENTAS </a:t>
                </a:r>
                <a:r>
                  <a:rPr b="1" lang="en-GB" sz="1800" spc="-1" strike="noStrike">
                    <a:solidFill>
                      <a:srgbClr val="ffffff"/>
                    </a:solidFill>
                    <a:latin typeface="Frutiger-Bold"/>
                  </a:rPr>
                  <a:t>	</a:t>
                </a:r>
                <a:r>
                  <a:rPr b="1" lang="en-GB" sz="1800" spc="-1" strike="noStrike">
                    <a:solidFill>
                      <a:srgbClr val="ffffff"/>
                    </a:solidFill>
                    <a:latin typeface="Frutiger-Bold"/>
                  </a:rPr>
                  <a:t>	</a:t>
                </a:r>
                <a:r>
                  <a:rPr b="1" lang="en-GB" sz="1800" spc="-1" strike="noStrike">
                    <a:solidFill>
                      <a:srgbClr val="ffffff"/>
                    </a:solidFill>
                    <a:latin typeface="Frutiger-Bold"/>
                  </a:rPr>
                  <a:t>	</a:t>
                </a:r>
                <a:r>
                  <a:rPr b="1" lang="en-GB" sz="1800" spc="-1" strike="noStrike">
                    <a:solidFill>
                      <a:srgbClr val="ffffff"/>
                    </a:solidFill>
                    <a:latin typeface="Frutiger-Bold"/>
                  </a:rPr>
                  <a:t>	</a:t>
                </a:r>
                <a:r>
                  <a:rPr b="1" lang="en-GB" sz="1800" spc="-1" strike="noStrike">
                    <a:solidFill>
                      <a:srgbClr val="ffffff"/>
                    </a:solidFill>
                    <a:latin typeface="Frutiger-Bold"/>
                  </a:rPr>
                  <a:t>	</a:t>
                </a:r>
                <a:r>
                  <a:rPr b="1" lang="en-GB" sz="1800" spc="-1" strike="noStrike">
                    <a:solidFill>
                      <a:srgbClr val="ffffff"/>
                    </a:solidFill>
                    <a:latin typeface="Frutiger-Bold"/>
                  </a:rPr>
                  <a:t>      0,008%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3" name=""/>
            <p:cNvGrpSpPr/>
            <p:nvPr/>
          </p:nvGrpSpPr>
          <p:grpSpPr>
            <a:xfrm>
              <a:off x="395280" y="3933720"/>
              <a:ext cx="1029960" cy="1329840"/>
              <a:chOff x="395280" y="3933720"/>
              <a:chExt cx="1029960" cy="1329840"/>
            </a:xfrm>
          </p:grpSpPr>
          <p:sp>
            <p:nvSpPr>
              <p:cNvPr id="884" name=""/>
              <p:cNvSpPr/>
              <p:nvPr/>
            </p:nvSpPr>
            <p:spPr>
              <a:xfrm flipV="1">
                <a:off x="395280" y="4477320"/>
                <a:ext cx="1029960" cy="786240"/>
              </a:xfrm>
              <a:custGeom>
                <a:avLst/>
                <a:gdLst>
                  <a:gd name="textAreaLeft" fmla="*/ 0 w 1029960"/>
                  <a:gd name="textAreaRight" fmla="*/ 1030320 w 1029960"/>
                  <a:gd name="textAreaTop" fmla="*/ 360 h 786240"/>
                  <a:gd name="textAreaBottom" fmla="*/ 786960 h 786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lnTo>
                      <a:pt x="0" y="12160"/>
                    </a:lnTo>
                    <a:arcTo wR="12427" hR="9260" stAng="10800000" swAng="5400000"/>
                    <a:lnTo>
                      <a:pt x="15100" y="2900"/>
                    </a:lnTo>
                    <a:lnTo>
                      <a:pt x="15100" y="0"/>
                    </a:lnTo>
                    <a:lnTo>
                      <a:pt x="21600" y="6079"/>
                    </a:lnTo>
                    <a:lnTo>
                      <a:pt x="15100" y="12158"/>
                    </a:lnTo>
                    <a:lnTo>
                      <a:pt x="15100" y="9258"/>
                    </a:lnTo>
                    <a:lnTo>
                      <a:pt x="12427" y="9258"/>
                    </a:lnTo>
                    <a:arcTo wR="6069" hR="2902" stAng="16200000" swAng="-5400000"/>
                    <a:lnTo>
                      <a:pt x="6358" y="216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395280" y="3933720"/>
                <a:ext cx="315720" cy="786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86" name=""/>
          <p:cNvGrpSpPr/>
          <p:nvPr/>
        </p:nvGrpSpPr>
        <p:grpSpPr>
          <a:xfrm>
            <a:off x="395280" y="4797360"/>
            <a:ext cx="7921080" cy="1512720"/>
            <a:chOff x="395280" y="4797360"/>
            <a:chExt cx="7921080" cy="1512720"/>
          </a:xfrm>
        </p:grpSpPr>
        <p:grpSp>
          <p:nvGrpSpPr>
            <p:cNvPr id="887" name=""/>
            <p:cNvGrpSpPr/>
            <p:nvPr/>
          </p:nvGrpSpPr>
          <p:grpSpPr>
            <a:xfrm>
              <a:off x="1425600" y="5583960"/>
              <a:ext cx="6890760" cy="726120"/>
              <a:chOff x="1425600" y="5583960"/>
              <a:chExt cx="6890760" cy="726120"/>
            </a:xfrm>
          </p:grpSpPr>
          <p:sp>
            <p:nvSpPr>
              <p:cNvPr id="888" name=""/>
              <p:cNvSpPr/>
              <p:nvPr/>
            </p:nvSpPr>
            <p:spPr>
              <a:xfrm>
                <a:off x="1425600" y="5583960"/>
                <a:ext cx="6890760" cy="726120"/>
              </a:xfrm>
              <a:prstGeom prst="roundRect">
                <a:avLst>
                  <a:gd name="adj" fmla="val 16593"/>
                </a:avLst>
              </a:prstGeom>
              <a:solidFill>
                <a:srgbClr val="000000"/>
              </a:solidFill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1476360" y="5647320"/>
                <a:ext cx="6788880" cy="602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>
                  <a:lnSpc>
                    <a:spcPct val="93000"/>
                  </a:lnSpc>
                  <a:spcBef>
                    <a:spcPts val="561"/>
                  </a:spcBef>
                  <a:spcAft>
                    <a:spcPts val="451"/>
                  </a:spcAft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ffffff"/>
                    </a:solidFill>
                    <a:latin typeface="Frutiger-Bold"/>
                  </a:rPr>
                  <a:t>RELACIÓN IMPUESTO/VENTAS</a:t>
                </a:r>
                <a:r>
                  <a:rPr b="1" lang="en-GB" sz="1800" spc="-1" strike="noStrike">
                    <a:solidFill>
                      <a:srgbClr val="ffffff"/>
                    </a:solidFill>
                    <a:latin typeface="Frutiger-Bold"/>
                  </a:rPr>
                  <a:t>	</a:t>
                </a:r>
                <a:r>
                  <a:rPr b="1" lang="en-GB" sz="1800" spc="-1" strike="noStrike">
                    <a:solidFill>
                      <a:srgbClr val="ffffff"/>
                    </a:solidFill>
                    <a:latin typeface="Frutiger-Bold"/>
                  </a:rPr>
                  <a:t>	</a:t>
                </a:r>
                <a:r>
                  <a:rPr b="1" lang="en-GB" sz="1800" spc="-1" strike="noStrike">
                    <a:solidFill>
                      <a:srgbClr val="ffffff"/>
                    </a:solidFill>
                    <a:latin typeface="Frutiger-Bold"/>
                  </a:rPr>
                  <a:t>	</a:t>
                </a:r>
                <a:r>
                  <a:rPr b="1" lang="en-GB" sz="1800" spc="-1" strike="noStrike">
                    <a:solidFill>
                      <a:srgbClr val="ffffff"/>
                    </a:solidFill>
                    <a:latin typeface="Frutiger-Bold"/>
                  </a:rPr>
                  <a:t>	</a:t>
                </a:r>
                <a:r>
                  <a:rPr b="1" lang="en-GB" sz="1800" spc="-1" strike="noStrike">
                    <a:solidFill>
                      <a:srgbClr val="ffffff"/>
                    </a:solidFill>
                    <a:latin typeface="Frutiger-Bold"/>
                  </a:rPr>
                  <a:t>	</a:t>
                </a:r>
                <a:r>
                  <a:rPr b="1" lang="en-GB" sz="1800" spc="-1" strike="noStrike">
                    <a:solidFill>
                      <a:srgbClr val="ffffff"/>
                    </a:solidFill>
                    <a:latin typeface="Frutiger-Bold"/>
                  </a:rPr>
                  <a:t>	</a:t>
                </a:r>
                <a:r>
                  <a:rPr b="1" lang="en-GB" sz="1800" spc="-1" strike="noStrike">
                    <a:solidFill>
                      <a:srgbClr val="ffffff"/>
                    </a:solidFill>
                    <a:latin typeface="Frutiger-Bold"/>
                  </a:rPr>
                  <a:t>   1,6% RESTO DE LA ECONOMÍ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90" name=""/>
            <p:cNvGrpSpPr/>
            <p:nvPr/>
          </p:nvGrpSpPr>
          <p:grpSpPr>
            <a:xfrm>
              <a:off x="395280" y="4797360"/>
              <a:ext cx="1029960" cy="1329840"/>
              <a:chOff x="395280" y="4797360"/>
              <a:chExt cx="1029960" cy="1329840"/>
            </a:xfrm>
          </p:grpSpPr>
          <p:sp>
            <p:nvSpPr>
              <p:cNvPr id="891" name=""/>
              <p:cNvSpPr/>
              <p:nvPr/>
            </p:nvSpPr>
            <p:spPr>
              <a:xfrm flipV="1">
                <a:off x="395280" y="5340960"/>
                <a:ext cx="1029960" cy="786240"/>
              </a:xfrm>
              <a:custGeom>
                <a:avLst/>
                <a:gdLst>
                  <a:gd name="textAreaLeft" fmla="*/ 0 w 1029960"/>
                  <a:gd name="textAreaRight" fmla="*/ 1030320 w 1029960"/>
                  <a:gd name="textAreaTop" fmla="*/ 360 h 786240"/>
                  <a:gd name="textAreaBottom" fmla="*/ 786960 h 786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lnTo>
                      <a:pt x="0" y="12160"/>
                    </a:lnTo>
                    <a:arcTo wR="12427" hR="9260" stAng="10800000" swAng="5400000"/>
                    <a:lnTo>
                      <a:pt x="15100" y="2900"/>
                    </a:lnTo>
                    <a:lnTo>
                      <a:pt x="15100" y="0"/>
                    </a:lnTo>
                    <a:lnTo>
                      <a:pt x="21600" y="6079"/>
                    </a:lnTo>
                    <a:lnTo>
                      <a:pt x="15100" y="12158"/>
                    </a:lnTo>
                    <a:lnTo>
                      <a:pt x="15100" y="9258"/>
                    </a:lnTo>
                    <a:lnTo>
                      <a:pt x="12427" y="9258"/>
                    </a:lnTo>
                    <a:arcTo wR="6069" hR="2902" stAng="16200000" swAng="-5400000"/>
                    <a:lnTo>
                      <a:pt x="6358" y="216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395280" y="4797360"/>
                <a:ext cx="315720" cy="786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93" name=""/>
          <p:cNvGrpSpPr/>
          <p:nvPr/>
        </p:nvGrpSpPr>
        <p:grpSpPr>
          <a:xfrm>
            <a:off x="324000" y="1341360"/>
            <a:ext cx="8424000" cy="733320"/>
            <a:chOff x="324000" y="1341360"/>
            <a:chExt cx="8424000" cy="733320"/>
          </a:xfrm>
        </p:grpSpPr>
        <p:sp>
          <p:nvSpPr>
            <p:cNvPr id="894" name=""/>
            <p:cNvSpPr/>
            <p:nvPr/>
          </p:nvSpPr>
          <p:spPr>
            <a:xfrm>
              <a:off x="324000" y="1341360"/>
              <a:ext cx="8424000" cy="733320"/>
            </a:xfrm>
            <a:prstGeom prst="roundRect">
              <a:avLst>
                <a:gd name="adj" fmla="val 16764"/>
              </a:avLst>
            </a:prstGeom>
            <a:solidFill>
              <a:srgbClr val="000000"/>
            </a:solidFill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404280" y="1478880"/>
              <a:ext cx="8270640" cy="458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Frutiger-Bold"/>
                </a:rPr>
                <a:t>1- DESCRIPCION DEL CONTEXT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8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8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8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8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8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8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"/>
          <p:cNvSpPr/>
          <p:nvPr/>
        </p:nvSpPr>
        <p:spPr>
          <a:xfrm>
            <a:off x="1025640" y="162000"/>
            <a:ext cx="760392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"/>
          <p:cNvSpPr/>
          <p:nvPr/>
        </p:nvSpPr>
        <p:spPr>
          <a:xfrm>
            <a:off x="990720" y="152280"/>
            <a:ext cx="7162560" cy="5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7" name="" descr=""/>
          <p:cNvPicPr/>
          <p:nvPr/>
        </p:nvPicPr>
        <p:blipFill>
          <a:blip r:embed="rId1"/>
          <a:stretch/>
        </p:blipFill>
        <p:spPr>
          <a:xfrm>
            <a:off x="660240" y="2009880"/>
            <a:ext cx="7417080" cy="1800000"/>
          </a:xfrm>
          <a:prstGeom prst="rect">
            <a:avLst/>
          </a:prstGeom>
          <a:ln w="0">
            <a:noFill/>
          </a:ln>
        </p:spPr>
      </p:pic>
      <p:sp>
        <p:nvSpPr>
          <p:cNvPr id="1308" name=""/>
          <p:cNvSpPr/>
          <p:nvPr/>
        </p:nvSpPr>
        <p:spPr>
          <a:xfrm>
            <a:off x="1020600" y="2368440"/>
            <a:ext cx="6840720" cy="12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93000"/>
              </a:lnSpc>
              <a:spcBef>
                <a:spcPts val="1001"/>
              </a:spcBef>
              <a:buClr>
                <a:srgbClr val="3bb0ff"/>
              </a:buClr>
              <a:buFont typeface="Wingdings" charset="2"/>
              <a:buChar char=""/>
              <a:tabLst>
                <a:tab algn="l" pos="171360"/>
                <a:tab algn="l" pos="619200"/>
                <a:tab algn="l" pos="1068480"/>
                <a:tab algn="l" pos="1517760"/>
                <a:tab algn="l" pos="1967040"/>
                <a:tab algn="l" pos="2416320"/>
                <a:tab algn="l" pos="2865600"/>
                <a:tab algn="l" pos="3314880"/>
                <a:tab algn="l" pos="3763800"/>
                <a:tab algn="l" pos="4213080"/>
                <a:tab algn="l" pos="4662360"/>
                <a:tab algn="l" pos="5111640"/>
                <a:tab algn="l" pos="5560920"/>
                <a:tab algn="l" pos="6010200"/>
                <a:tab algn="l" pos="6459480"/>
                <a:tab algn="l" pos="6908760"/>
                <a:tab algn="l" pos="7358040"/>
                <a:tab algn="l" pos="7807320"/>
                <a:tab algn="l" pos="8256600"/>
                <a:tab algn="l" pos="8705880"/>
                <a:tab algn="l" pos="9155160"/>
                <a:tab algn="l" pos="10058400"/>
              </a:tabLst>
            </a:pPr>
            <a:r>
              <a:rPr b="1" lang="en-GB" sz="1800" spc="-1" strike="noStrike">
                <a:solidFill>
                  <a:srgbClr val="333333"/>
                </a:solidFill>
                <a:latin typeface="Arial"/>
              </a:rPr>
              <a:t>EL DÍA DE FINALIZACION DE LA CAR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just">
              <a:lnSpc>
                <a:spcPct val="93000"/>
              </a:lnSpc>
              <a:spcBef>
                <a:spcPts val="1001"/>
              </a:spcBef>
              <a:buClr>
                <a:srgbClr val="3bb0ff"/>
              </a:buClr>
              <a:buFont typeface="Wingdings" charset="2"/>
              <a:buChar char=""/>
              <a:tabLst>
                <a:tab algn="l" pos="171360"/>
                <a:tab algn="l" pos="619200"/>
                <a:tab algn="l" pos="1068480"/>
                <a:tab algn="l" pos="1517760"/>
                <a:tab algn="l" pos="1967040"/>
                <a:tab algn="l" pos="2416320"/>
                <a:tab algn="l" pos="2865600"/>
                <a:tab algn="l" pos="3314880"/>
                <a:tab algn="l" pos="3763800"/>
                <a:tab algn="l" pos="4213080"/>
                <a:tab algn="l" pos="4662360"/>
                <a:tab algn="l" pos="5111640"/>
                <a:tab algn="l" pos="5560920"/>
                <a:tab algn="l" pos="6010200"/>
                <a:tab algn="l" pos="6459480"/>
                <a:tab algn="l" pos="6908760"/>
                <a:tab algn="l" pos="7358040"/>
                <a:tab algn="l" pos="7807320"/>
                <a:tab algn="l" pos="8256600"/>
                <a:tab algn="l" pos="8705880"/>
                <a:tab algn="l" pos="9155160"/>
                <a:tab algn="l" pos="10058400"/>
              </a:tabLst>
            </a:pPr>
            <a:r>
              <a:rPr b="1" lang="en-GB" sz="1800" spc="-1" strike="noStrike">
                <a:solidFill>
                  <a:srgbClr val="333333"/>
                </a:solidFill>
                <a:latin typeface="Arial"/>
              </a:rPr>
              <a:t>LA AFIP PODRÁ FIJAR PAUTAS PARA SITUACIONES ESPECIALES DE TRANSPORTR POR MEDIOS NO CONVENCION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9" name=""/>
          <p:cNvGrpSpPr/>
          <p:nvPr/>
        </p:nvGrpSpPr>
        <p:grpSpPr>
          <a:xfrm>
            <a:off x="12600" y="1362240"/>
            <a:ext cx="6840360" cy="1005840"/>
            <a:chOff x="12600" y="1362240"/>
            <a:chExt cx="6840360" cy="1005840"/>
          </a:xfrm>
        </p:grpSpPr>
        <p:grpSp>
          <p:nvGrpSpPr>
            <p:cNvPr id="1310" name=""/>
            <p:cNvGrpSpPr/>
            <p:nvPr/>
          </p:nvGrpSpPr>
          <p:grpSpPr>
            <a:xfrm>
              <a:off x="12600" y="1362240"/>
              <a:ext cx="6840360" cy="1005840"/>
              <a:chOff x="12600" y="1362240"/>
              <a:chExt cx="6840360" cy="1005840"/>
            </a:xfrm>
          </p:grpSpPr>
          <p:pic>
            <p:nvPicPr>
              <p:cNvPr id="1311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2600" y="1362240"/>
                <a:ext cx="6840360" cy="1005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12" name=""/>
              <p:cNvSpPr/>
              <p:nvPr/>
            </p:nvSpPr>
            <p:spPr>
              <a:xfrm>
                <a:off x="445680" y="1538640"/>
                <a:ext cx="5748840" cy="646920"/>
              </a:xfrm>
              <a:prstGeom prst="roundRect">
                <a:avLst>
                  <a:gd name="adj" fmla="val 11250"/>
                </a:avLst>
              </a:prstGeom>
              <a:gradFill rotWithShape="0">
                <a:gsLst>
                  <a:gs pos="0">
                    <a:srgbClr val="fefefe"/>
                  </a:gs>
                  <a:gs pos="100000">
                    <a:srgbClr val="5b9d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13" name=""/>
            <p:cNvSpPr/>
            <p:nvPr/>
          </p:nvSpPr>
          <p:spPr>
            <a:xfrm>
              <a:off x="480960" y="1498320"/>
              <a:ext cx="60361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FIJACIÓN DEL VALOR DE COTIZACIÓN DEL BIÉN EN EL MERCADO TRANSPARENT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14" name="" descr=""/>
          <p:cNvPicPr/>
          <p:nvPr/>
        </p:nvPicPr>
        <p:blipFill>
          <a:blip r:embed="rId3"/>
          <a:stretch/>
        </p:blipFill>
        <p:spPr>
          <a:xfrm>
            <a:off x="660240" y="4529160"/>
            <a:ext cx="7417080" cy="1655640"/>
          </a:xfrm>
          <a:prstGeom prst="rect">
            <a:avLst/>
          </a:prstGeom>
          <a:ln w="0">
            <a:noFill/>
          </a:ln>
        </p:spPr>
      </p:pic>
      <p:sp>
        <p:nvSpPr>
          <p:cNvPr id="1315" name=""/>
          <p:cNvSpPr/>
          <p:nvPr/>
        </p:nvSpPr>
        <p:spPr>
          <a:xfrm>
            <a:off x="1020600" y="4888080"/>
            <a:ext cx="6840720" cy="11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 algn="just">
              <a:lnSpc>
                <a:spcPct val="93000"/>
              </a:lnSpc>
              <a:spcBef>
                <a:spcPts val="1001"/>
              </a:spcBef>
              <a:buClr>
                <a:srgbClr val="3bb0ff"/>
              </a:buClr>
              <a:buFont typeface="Wingdings" charset="2"/>
              <a:buChar char=""/>
              <a:tabLst>
                <a:tab algn="l" pos="171360"/>
                <a:tab algn="l" pos="619200"/>
                <a:tab algn="l" pos="1068480"/>
                <a:tab algn="l" pos="1517760"/>
                <a:tab algn="l" pos="1967040"/>
                <a:tab algn="l" pos="2416320"/>
                <a:tab algn="l" pos="2865600"/>
                <a:tab algn="l" pos="3314880"/>
                <a:tab algn="l" pos="3763800"/>
                <a:tab algn="l" pos="4213080"/>
                <a:tab algn="l" pos="4662360"/>
                <a:tab algn="l" pos="5111640"/>
                <a:tab algn="l" pos="5560920"/>
                <a:tab algn="l" pos="6010200"/>
                <a:tab algn="l" pos="6459480"/>
                <a:tab algn="l" pos="6908760"/>
                <a:tab algn="l" pos="7358040"/>
                <a:tab algn="l" pos="7807320"/>
                <a:tab algn="l" pos="8256600"/>
                <a:tab algn="l" pos="8705880"/>
                <a:tab algn="l" pos="9155160"/>
                <a:tab algn="l" pos="10058400"/>
              </a:tabLst>
            </a:pPr>
            <a:r>
              <a:rPr b="1" lang="en-GB" sz="1800" spc="-1" strike="noStrike">
                <a:solidFill>
                  <a:srgbClr val="333333"/>
                </a:solidFill>
                <a:latin typeface="Arial"/>
              </a:rPr>
              <a:t>DEBERA FUNDARSE EN COMPROBANTES FEHACIENTES Y CONCRETOS, CARECIENDO DE VIRTUALIDAD TODA APRECIACIÓN O FUNDAMENTACIÓN DE CARÁCTER GENERAL O BASADAS EN HECHOS GENER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6" name=""/>
          <p:cNvGrpSpPr/>
          <p:nvPr/>
        </p:nvGrpSpPr>
        <p:grpSpPr>
          <a:xfrm>
            <a:off x="12600" y="3881520"/>
            <a:ext cx="6840360" cy="1006200"/>
            <a:chOff x="12600" y="3881520"/>
            <a:chExt cx="6840360" cy="1006200"/>
          </a:xfrm>
        </p:grpSpPr>
        <p:grpSp>
          <p:nvGrpSpPr>
            <p:cNvPr id="1317" name=""/>
            <p:cNvGrpSpPr/>
            <p:nvPr/>
          </p:nvGrpSpPr>
          <p:grpSpPr>
            <a:xfrm>
              <a:off x="12600" y="3881520"/>
              <a:ext cx="6840360" cy="1006200"/>
              <a:chOff x="12600" y="3881520"/>
              <a:chExt cx="6840360" cy="1006200"/>
            </a:xfrm>
          </p:grpSpPr>
          <p:pic>
            <p:nvPicPr>
              <p:cNvPr id="1318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12600" y="3881520"/>
                <a:ext cx="6840360" cy="1006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19" name=""/>
              <p:cNvSpPr/>
              <p:nvPr/>
            </p:nvSpPr>
            <p:spPr>
              <a:xfrm>
                <a:off x="445680" y="4057920"/>
                <a:ext cx="5748840" cy="647280"/>
              </a:xfrm>
              <a:prstGeom prst="roundRect">
                <a:avLst>
                  <a:gd name="adj" fmla="val 11250"/>
                </a:avLst>
              </a:prstGeom>
              <a:gradFill rotWithShape="0">
                <a:gsLst>
                  <a:gs pos="0">
                    <a:srgbClr val="fefefe"/>
                  </a:gs>
                  <a:gs pos="100000">
                    <a:srgbClr val="5b9d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20" name=""/>
            <p:cNvSpPr/>
            <p:nvPr/>
          </p:nvSpPr>
          <p:spPr>
            <a:xfrm>
              <a:off x="480960" y="4017600"/>
              <a:ext cx="60361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PROBANZA DE LOS REQUISITOS DEL INAPLICABILIDAD DEL MÉTOD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1" name=""/>
          <p:cNvSpPr/>
          <p:nvPr/>
        </p:nvSpPr>
        <p:spPr>
          <a:xfrm>
            <a:off x="2286000" y="476280"/>
            <a:ext cx="4878360" cy="14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6TO.  MÉTODO - FECHA 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EMBAR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4" dur="indefinite" restart="never" nodeType="tmRoot">
          <p:childTnLst>
            <p:seq>
              <p:cTn id="775" dur="indefinite" nodeType="mainSeq">
                <p:childTnLst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0" dur="500" fill="hold"/>
                                        <p:tgtEl>
                                          <p:spTgt spid="1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500" fill="hold"/>
                                        <p:tgtEl>
                                          <p:spTgt spid="1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500" fill="hold"/>
                                        <p:tgtEl>
                                          <p:spTgt spid="1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500" fill="hold"/>
                                        <p:tgtEl>
                                          <p:spTgt spid="1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4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6" dur="500" fill="hold"/>
                                        <p:tgtEl>
                                          <p:spTgt spid="1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500" fill="hold"/>
                                        <p:tgtEl>
                                          <p:spTgt spid="1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500" fill="hold"/>
                                        <p:tgtEl>
                                          <p:spTgt spid="1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500" fill="hold"/>
                                        <p:tgtEl>
                                          <p:spTgt spid="1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4" dur="500" fill="hold"/>
                                        <p:tgtEl>
                                          <p:spTgt spid="1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500" fill="hold"/>
                                        <p:tgtEl>
                                          <p:spTgt spid="1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500" fill="hold"/>
                                        <p:tgtEl>
                                          <p:spTgt spid="1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500" fill="hold"/>
                                        <p:tgtEl>
                                          <p:spTgt spid="1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2" dur="500" fill="hold"/>
                                        <p:tgtEl>
                                          <p:spTgt spid="1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500" fill="hold"/>
                                        <p:tgtEl>
                                          <p:spTgt spid="1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500" fill="hold"/>
                                        <p:tgtEl>
                                          <p:spTgt spid="1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500" fill="hold"/>
                                        <p:tgtEl>
                                          <p:spTgt spid="1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0" dur="500" fill="hold"/>
                                        <p:tgtEl>
                                          <p:spTgt spid="1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500" fill="hold"/>
                                        <p:tgtEl>
                                          <p:spTgt spid="1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500" fill="hold"/>
                                        <p:tgtEl>
                                          <p:spTgt spid="1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500" fill="hold"/>
                                        <p:tgtEl>
                                          <p:spTgt spid="1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4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6" dur="500" fill="hold"/>
                                        <p:tgtEl>
                                          <p:spTgt spid="1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500" fill="hold"/>
                                        <p:tgtEl>
                                          <p:spTgt spid="1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500" fill="hold"/>
                                        <p:tgtEl>
                                          <p:spTgt spid="1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500" fill="hold"/>
                                        <p:tgtEl>
                                          <p:spTgt spid="1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4" dur="500" fill="hold"/>
                                        <p:tgtEl>
                                          <p:spTgt spid="1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500" fill="hold"/>
                                        <p:tgtEl>
                                          <p:spTgt spid="1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500" fill="hold"/>
                                        <p:tgtEl>
                                          <p:spTgt spid="1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500" fill="hold"/>
                                        <p:tgtEl>
                                          <p:spTgt spid="1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2" name=""/>
          <p:cNvSpPr/>
          <p:nvPr/>
        </p:nvSpPr>
        <p:spPr>
          <a:xfrm>
            <a:off x="1025640" y="162000"/>
            <a:ext cx="760392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3" name=""/>
          <p:cNvGrpSpPr/>
          <p:nvPr/>
        </p:nvGrpSpPr>
        <p:grpSpPr>
          <a:xfrm>
            <a:off x="660240" y="2008080"/>
            <a:ext cx="7416720" cy="1225440"/>
            <a:chOff x="660240" y="2008080"/>
            <a:chExt cx="7416720" cy="1225440"/>
          </a:xfrm>
        </p:grpSpPr>
        <p:pic>
          <p:nvPicPr>
            <p:cNvPr id="1324" name="" descr=""/>
            <p:cNvPicPr/>
            <p:nvPr/>
          </p:nvPicPr>
          <p:blipFill>
            <a:blip r:embed="rId1"/>
            <a:stretch/>
          </p:blipFill>
          <p:spPr>
            <a:xfrm>
              <a:off x="660240" y="2008080"/>
              <a:ext cx="7416720" cy="122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5" name=""/>
            <p:cNvSpPr/>
            <p:nvPr/>
          </p:nvSpPr>
          <p:spPr>
            <a:xfrm>
              <a:off x="947520" y="2441520"/>
              <a:ext cx="6840720" cy="60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1360" indent="-171360" algn="just">
                <a:lnSpc>
                  <a:spcPct val="93000"/>
                </a:lnSpc>
                <a:spcBef>
                  <a:spcPts val="1001"/>
                </a:spcBef>
                <a:buClr>
                  <a:srgbClr val="3bb0ff"/>
                </a:buClr>
                <a:buFont typeface="Wingdings" charset="2"/>
                <a:buChar char=""/>
                <a:tabLst>
                  <a:tab algn="l" pos="171360"/>
                  <a:tab algn="l" pos="619200"/>
                  <a:tab algn="l" pos="1068480"/>
                  <a:tab algn="l" pos="1517760"/>
                  <a:tab algn="l" pos="1967040"/>
                  <a:tab algn="l" pos="2416320"/>
                  <a:tab algn="l" pos="2865600"/>
                  <a:tab algn="l" pos="3314880"/>
                  <a:tab algn="l" pos="3763800"/>
                  <a:tab algn="l" pos="4213080"/>
                  <a:tab algn="l" pos="4662360"/>
                  <a:tab algn="l" pos="5111640"/>
                  <a:tab algn="l" pos="5560920"/>
                  <a:tab algn="l" pos="6010200"/>
                  <a:tab algn="l" pos="6459480"/>
                  <a:tab algn="l" pos="6908760"/>
                  <a:tab algn="l" pos="7358040"/>
                  <a:tab algn="l" pos="7807320"/>
                  <a:tab algn="l" pos="8256600"/>
                  <a:tab algn="l" pos="8705880"/>
                  <a:tab algn="l" pos="9155160"/>
                  <a:tab algn="l" pos="10058400"/>
                </a:tabLst>
              </a:pPr>
              <a:r>
                <a:rPr b="1" lang="en-GB" sz="1800" spc="-1" strike="noStrike">
                  <a:solidFill>
                    <a:srgbClr val="333333"/>
                  </a:solidFill>
                  <a:latin typeface="Arial"/>
                </a:rPr>
                <a:t>LAS DEFINIDAS POR LA LEY DEL IMPUESTO A LAS GANANCIAS Y SU DECRETO REGLAMENTARIO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6" name=""/>
          <p:cNvGrpSpPr/>
          <p:nvPr/>
        </p:nvGrpSpPr>
        <p:grpSpPr>
          <a:xfrm>
            <a:off x="660240" y="4097160"/>
            <a:ext cx="7416720" cy="1440000"/>
            <a:chOff x="660240" y="4097160"/>
            <a:chExt cx="7416720" cy="1440000"/>
          </a:xfrm>
        </p:grpSpPr>
        <p:pic>
          <p:nvPicPr>
            <p:cNvPr id="1327" name="" descr=""/>
            <p:cNvPicPr/>
            <p:nvPr/>
          </p:nvPicPr>
          <p:blipFill>
            <a:blip r:embed="rId2"/>
            <a:stretch/>
          </p:blipFill>
          <p:spPr>
            <a:xfrm>
              <a:off x="660240" y="4097160"/>
              <a:ext cx="7416720" cy="144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8" name=""/>
            <p:cNvSpPr/>
            <p:nvPr/>
          </p:nvSpPr>
          <p:spPr>
            <a:xfrm>
              <a:off x="947520" y="4530600"/>
              <a:ext cx="6840720" cy="85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1360" indent="-171360" algn="just">
                <a:lnSpc>
                  <a:spcPct val="93000"/>
                </a:lnSpc>
                <a:spcBef>
                  <a:spcPts val="1001"/>
                </a:spcBef>
                <a:buClr>
                  <a:srgbClr val="3bb0ff"/>
                </a:buClr>
                <a:buFont typeface="Wingdings" charset="2"/>
                <a:buChar char=""/>
                <a:tabLst>
                  <a:tab algn="l" pos="171360"/>
                  <a:tab algn="l" pos="619200"/>
                  <a:tab algn="l" pos="1068480"/>
                  <a:tab algn="l" pos="1517760"/>
                  <a:tab algn="l" pos="1967040"/>
                  <a:tab algn="l" pos="2416320"/>
                  <a:tab algn="l" pos="2865600"/>
                  <a:tab algn="l" pos="3314880"/>
                  <a:tab algn="l" pos="3763800"/>
                  <a:tab algn="l" pos="4213080"/>
                  <a:tab algn="l" pos="4662360"/>
                  <a:tab algn="l" pos="5111640"/>
                  <a:tab algn="l" pos="5560920"/>
                  <a:tab algn="l" pos="6010200"/>
                  <a:tab algn="l" pos="6459480"/>
                  <a:tab algn="l" pos="6908760"/>
                  <a:tab algn="l" pos="7358040"/>
                  <a:tab algn="l" pos="7807320"/>
                  <a:tab algn="l" pos="8256600"/>
                  <a:tab algn="l" pos="8705880"/>
                  <a:tab algn="l" pos="9155160"/>
                  <a:tab algn="l" pos="10058400"/>
                </a:tabLst>
              </a:pPr>
              <a:r>
                <a:rPr b="1" lang="en-GB" sz="1800" spc="-1" strike="noStrike">
                  <a:solidFill>
                    <a:srgbClr val="333333"/>
                  </a:solidFill>
                  <a:latin typeface="Arial"/>
                </a:rPr>
                <a:t>DEBERÁN RELACIONARSE LAS COMPRAS Y LAS VENTAS REALIZADAS CON ARGENTINA, CON LAS COMPRAS Y VENTAS TOTALES DEL INTERMEDIARI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9" name=""/>
          <p:cNvGrpSpPr/>
          <p:nvPr/>
        </p:nvGrpSpPr>
        <p:grpSpPr>
          <a:xfrm>
            <a:off x="-60480" y="1433520"/>
            <a:ext cx="7200360" cy="987120"/>
            <a:chOff x="-60480" y="1433520"/>
            <a:chExt cx="7200360" cy="987120"/>
          </a:xfrm>
        </p:grpSpPr>
        <p:grpSp>
          <p:nvGrpSpPr>
            <p:cNvPr id="1330" name=""/>
            <p:cNvGrpSpPr/>
            <p:nvPr/>
          </p:nvGrpSpPr>
          <p:grpSpPr>
            <a:xfrm>
              <a:off x="-60480" y="1433520"/>
              <a:ext cx="7200360" cy="987120"/>
              <a:chOff x="-60480" y="1433520"/>
              <a:chExt cx="7200360" cy="987120"/>
            </a:xfrm>
          </p:grpSpPr>
          <p:pic>
            <p:nvPicPr>
              <p:cNvPr id="133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-60480" y="1433520"/>
                <a:ext cx="7200360" cy="987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32" name=""/>
              <p:cNvSpPr/>
              <p:nvPr/>
            </p:nvSpPr>
            <p:spPr>
              <a:xfrm>
                <a:off x="395280" y="1606320"/>
                <a:ext cx="6051240" cy="634680"/>
              </a:xfrm>
              <a:prstGeom prst="roundRect">
                <a:avLst>
                  <a:gd name="adj" fmla="val 11250"/>
                </a:avLst>
              </a:prstGeom>
              <a:gradFill rotWithShape="0">
                <a:gsLst>
                  <a:gs pos="0">
                    <a:srgbClr val="fefefe"/>
                  </a:gs>
                  <a:gs pos="100000">
                    <a:srgbClr val="5b9d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33" name=""/>
            <p:cNvSpPr/>
            <p:nvPr/>
          </p:nvSpPr>
          <p:spPr>
            <a:xfrm>
              <a:off x="415440" y="1744560"/>
              <a:ext cx="5752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ENTAS PASIVA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4" name=""/>
          <p:cNvGrpSpPr/>
          <p:nvPr/>
        </p:nvGrpSpPr>
        <p:grpSpPr>
          <a:xfrm>
            <a:off x="-60480" y="3522600"/>
            <a:ext cx="7200360" cy="987480"/>
            <a:chOff x="-60480" y="3522600"/>
            <a:chExt cx="7200360" cy="987480"/>
          </a:xfrm>
        </p:grpSpPr>
        <p:grpSp>
          <p:nvGrpSpPr>
            <p:cNvPr id="1335" name=""/>
            <p:cNvGrpSpPr/>
            <p:nvPr/>
          </p:nvGrpSpPr>
          <p:grpSpPr>
            <a:xfrm>
              <a:off x="-60480" y="3522600"/>
              <a:ext cx="7200360" cy="987480"/>
              <a:chOff x="-60480" y="3522600"/>
              <a:chExt cx="7200360" cy="987480"/>
            </a:xfrm>
          </p:grpSpPr>
          <p:pic>
            <p:nvPicPr>
              <p:cNvPr id="1336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-60480" y="3522600"/>
                <a:ext cx="7200360" cy="987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37" name=""/>
              <p:cNvSpPr/>
              <p:nvPr/>
            </p:nvSpPr>
            <p:spPr>
              <a:xfrm>
                <a:off x="395280" y="3695760"/>
                <a:ext cx="6051240" cy="635040"/>
              </a:xfrm>
              <a:prstGeom prst="roundRect">
                <a:avLst>
                  <a:gd name="adj" fmla="val 11250"/>
                </a:avLst>
              </a:prstGeom>
              <a:gradFill rotWithShape="0">
                <a:gsLst>
                  <a:gs pos="0">
                    <a:srgbClr val="fefefe"/>
                  </a:gs>
                  <a:gs pos="100000">
                    <a:srgbClr val="5b9d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38" name=""/>
            <p:cNvSpPr/>
            <p:nvPr/>
          </p:nvSpPr>
          <p:spPr>
            <a:xfrm>
              <a:off x="415440" y="3833640"/>
              <a:ext cx="5752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CTIVIDAD PRINCIPAL DEL INTERMEDIARI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9" name=""/>
          <p:cNvSpPr/>
          <p:nvPr/>
        </p:nvSpPr>
        <p:spPr>
          <a:xfrm>
            <a:off x="2286000" y="404640"/>
            <a:ext cx="5022720" cy="14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6TO.  MÉTODO - FECHA 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EMBAR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8" dur="indefinite" restart="never" nodeType="tmRoot">
          <p:childTnLst>
            <p:seq>
              <p:cTn id="829" dur="indefinite" nodeType="mainSeq">
                <p:childTnLst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4" dur="500" fill="hold"/>
                                        <p:tgtEl>
                                          <p:spTgt spid="1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500" fill="hold"/>
                                        <p:tgtEl>
                                          <p:spTgt spid="1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500" fill="hold"/>
                                        <p:tgtEl>
                                          <p:spTgt spid="1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500" fill="hold"/>
                                        <p:tgtEl>
                                          <p:spTgt spid="1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2" dur="500" fill="hold"/>
                                        <p:tgtEl>
                                          <p:spTgt spid="1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500" fill="hold"/>
                                        <p:tgtEl>
                                          <p:spTgt spid="1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500" fill="hold"/>
                                        <p:tgtEl>
                                          <p:spTgt spid="1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500" fill="hold"/>
                                        <p:tgtEl>
                                          <p:spTgt spid="1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0" dur="500" fill="hold"/>
                                        <p:tgtEl>
                                          <p:spTgt spid="1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500" fill="hold"/>
                                        <p:tgtEl>
                                          <p:spTgt spid="1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500" fill="hold"/>
                                        <p:tgtEl>
                                          <p:spTgt spid="1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500" fill="hold"/>
                                        <p:tgtEl>
                                          <p:spTgt spid="1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8" dur="500" fill="hold"/>
                                        <p:tgtEl>
                                          <p:spTgt spid="1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500" fill="hold"/>
                                        <p:tgtEl>
                                          <p:spTgt spid="1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500" fill="hold"/>
                                        <p:tgtEl>
                                          <p:spTgt spid="1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500" fill="hold"/>
                                        <p:tgtEl>
                                          <p:spTgt spid="1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"/>
          <p:cNvSpPr/>
          <p:nvPr/>
        </p:nvSpPr>
        <p:spPr>
          <a:xfrm>
            <a:off x="1025640" y="162000"/>
            <a:ext cx="760392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"/>
          <p:cNvSpPr/>
          <p:nvPr/>
        </p:nvSpPr>
        <p:spPr>
          <a:xfrm>
            <a:off x="990720" y="152280"/>
            <a:ext cx="7162560" cy="5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"/>
          <p:cNvSpPr/>
          <p:nvPr/>
        </p:nvSpPr>
        <p:spPr>
          <a:xfrm>
            <a:off x="1835280" y="404640"/>
            <a:ext cx="6769080" cy="8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7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800" spc="-1" strike="noStrike" u="sng">
                <a:solidFill>
                  <a:srgbClr val="000000"/>
                </a:solidFill>
                <a:uFillTx/>
                <a:latin typeface="Arial"/>
              </a:rPr>
              <a:t>6TO. MÉTODO – FECHA DE EMBARQUE 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7" name=""/>
          <p:cNvGrpSpPr/>
          <p:nvPr/>
        </p:nvGrpSpPr>
        <p:grpSpPr>
          <a:xfrm>
            <a:off x="468360" y="1915920"/>
            <a:ext cx="7939800" cy="1007640"/>
            <a:chOff x="468360" y="1915920"/>
            <a:chExt cx="7939800" cy="1007640"/>
          </a:xfrm>
        </p:grpSpPr>
        <p:grpSp>
          <p:nvGrpSpPr>
            <p:cNvPr id="898" name=""/>
            <p:cNvGrpSpPr/>
            <p:nvPr/>
          </p:nvGrpSpPr>
          <p:grpSpPr>
            <a:xfrm>
              <a:off x="1498680" y="2167920"/>
              <a:ext cx="6909480" cy="755640"/>
              <a:chOff x="1498680" y="2167920"/>
              <a:chExt cx="6909480" cy="755640"/>
            </a:xfrm>
          </p:grpSpPr>
          <p:sp>
            <p:nvSpPr>
              <p:cNvPr id="899" name=""/>
              <p:cNvSpPr/>
              <p:nvPr/>
            </p:nvSpPr>
            <p:spPr>
              <a:xfrm>
                <a:off x="1498680" y="2167920"/>
                <a:ext cx="6909480" cy="755640"/>
              </a:xfrm>
              <a:prstGeom prst="roundRect">
                <a:avLst>
                  <a:gd name="adj" fmla="val 16810"/>
                </a:avLst>
              </a:prstGeom>
              <a:solidFill>
                <a:srgbClr val="000000"/>
              </a:solidFill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1549800" y="2367000"/>
                <a:ext cx="6807240" cy="3474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>
                  <a:lnSpc>
                    <a:spcPct val="93000"/>
                  </a:lnSpc>
                  <a:spcBef>
                    <a:spcPts val="561"/>
                  </a:spcBef>
                  <a:spcAft>
                    <a:spcPts val="451"/>
                  </a:spcAft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Frutiger-Bold"/>
                  </a:rPr>
                  <a:t>7 EMPRESAS DURANTE 5 AÑO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01" name=""/>
            <p:cNvSpPr/>
            <p:nvPr/>
          </p:nvSpPr>
          <p:spPr>
            <a:xfrm flipV="1">
              <a:off x="468360" y="1915560"/>
              <a:ext cx="1030320" cy="821160"/>
            </a:xfrm>
            <a:custGeom>
              <a:avLst/>
              <a:gdLst>
                <a:gd name="textAreaLeft" fmla="*/ 0 w 1030320"/>
                <a:gd name="textAreaRight" fmla="*/ 1030680 w 1030320"/>
                <a:gd name="textAreaTop" fmla="*/ -360 h 821160"/>
                <a:gd name="textAreaBottom" fmla="*/ 821160 h 821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260" stAng="10800000" swAng="5400000"/>
                  <a:lnTo>
                    <a:pt x="15100" y="2900"/>
                  </a:lnTo>
                  <a:lnTo>
                    <a:pt x="15100" y="0"/>
                  </a:lnTo>
                  <a:lnTo>
                    <a:pt x="21600" y="6079"/>
                  </a:lnTo>
                  <a:lnTo>
                    <a:pt x="15100" y="12158"/>
                  </a:lnTo>
                  <a:lnTo>
                    <a:pt x="15100" y="9258"/>
                  </a:lnTo>
                  <a:lnTo>
                    <a:pt x="12427" y="9258"/>
                  </a:lnTo>
                  <a:arcTo wR="6069" hR="2902" stAng="16200000" swAng="-5400000"/>
                  <a:lnTo>
                    <a:pt x="6358" y="216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2" name=""/>
          <p:cNvGrpSpPr/>
          <p:nvPr/>
        </p:nvGrpSpPr>
        <p:grpSpPr>
          <a:xfrm>
            <a:off x="395280" y="1989000"/>
            <a:ext cx="7921080" cy="1726560"/>
            <a:chOff x="395280" y="1989000"/>
            <a:chExt cx="7921080" cy="1726560"/>
          </a:xfrm>
        </p:grpSpPr>
        <p:grpSp>
          <p:nvGrpSpPr>
            <p:cNvPr id="903" name=""/>
            <p:cNvGrpSpPr/>
            <p:nvPr/>
          </p:nvGrpSpPr>
          <p:grpSpPr>
            <a:xfrm>
              <a:off x="1425600" y="2984760"/>
              <a:ext cx="6890760" cy="730800"/>
              <a:chOff x="1425600" y="2984760"/>
              <a:chExt cx="6890760" cy="730800"/>
            </a:xfrm>
          </p:grpSpPr>
          <p:sp>
            <p:nvSpPr>
              <p:cNvPr id="904" name=""/>
              <p:cNvSpPr/>
              <p:nvPr/>
            </p:nvSpPr>
            <p:spPr>
              <a:xfrm>
                <a:off x="1425600" y="2984760"/>
                <a:ext cx="6890760" cy="730800"/>
              </a:xfrm>
              <a:prstGeom prst="roundRect">
                <a:avLst>
                  <a:gd name="adj" fmla="val 16593"/>
                </a:avLst>
              </a:prstGeom>
              <a:solidFill>
                <a:srgbClr val="000000"/>
              </a:solidFill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1476360" y="3175200"/>
                <a:ext cx="6788880" cy="3474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>
                  <a:lnSpc>
                    <a:spcPct val="93000"/>
                  </a:lnSpc>
                  <a:spcBef>
                    <a:spcPts val="561"/>
                  </a:spcBef>
                  <a:spcAft>
                    <a:spcPts val="451"/>
                  </a:spcAft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Frutiger-Bold"/>
                  </a:rPr>
                  <a:t>VENDIERON</a:t>
                </a:r>
                <a:r>
                  <a:rPr b="1" lang="en-US" sz="1800" spc="-1" strike="noStrike">
                    <a:solidFill>
                      <a:srgbClr val="ffffff"/>
                    </a:solidFill>
                    <a:latin typeface="Frutiger-Bold"/>
                  </a:rPr>
                  <a:t>	</a:t>
                </a:r>
                <a:r>
                  <a:rPr b="1" lang="en-US" sz="1800" spc="-1" strike="noStrike">
                    <a:solidFill>
                      <a:srgbClr val="ffffff"/>
                    </a:solidFill>
                    <a:latin typeface="Frutiger-Bold"/>
                  </a:rPr>
                  <a:t>	</a:t>
                </a:r>
                <a:r>
                  <a:rPr b="1" lang="en-US" sz="1800" spc="-1" strike="noStrike">
                    <a:solidFill>
                      <a:srgbClr val="ffffff"/>
                    </a:solidFill>
                    <a:latin typeface="Frutiger-Bold"/>
                  </a:rPr>
                  <a:t>	</a:t>
                </a:r>
                <a:r>
                  <a:rPr b="1" lang="en-US" sz="1800" spc="-1" strike="noStrike">
                    <a:solidFill>
                      <a:srgbClr val="ffffff"/>
                    </a:solidFill>
                    <a:latin typeface="Frutiger-Bold"/>
                  </a:rPr>
                  <a:t>	</a:t>
                </a:r>
                <a:r>
                  <a:rPr b="1" lang="en-US" sz="1800" spc="-1" strike="noStrike">
                    <a:solidFill>
                      <a:srgbClr val="ffffff"/>
                    </a:solidFill>
                    <a:latin typeface="Frutiger-Bold"/>
                  </a:rPr>
                  <a:t>	</a:t>
                </a:r>
                <a:r>
                  <a:rPr b="1" lang="en-US" sz="1800" spc="-1" strike="noStrike">
                    <a:solidFill>
                      <a:srgbClr val="ffffff"/>
                    </a:solidFill>
                    <a:latin typeface="Frutiger-Bold"/>
                  </a:rPr>
                  <a:t>	</a:t>
                </a:r>
                <a:r>
                  <a:rPr b="1" lang="en-US" sz="1800" spc="-1" strike="noStrike">
                    <a:solidFill>
                      <a:srgbClr val="ffffff"/>
                    </a:solidFill>
                    <a:latin typeface="Frutiger-Bold"/>
                  </a:rPr>
                  <a:t>       U$S 22.500.000.00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6" name=""/>
            <p:cNvGrpSpPr/>
            <p:nvPr/>
          </p:nvGrpSpPr>
          <p:grpSpPr>
            <a:xfrm>
              <a:off x="395280" y="1989000"/>
              <a:ext cx="1029960" cy="1594800"/>
              <a:chOff x="395280" y="1989000"/>
              <a:chExt cx="1029960" cy="1594800"/>
            </a:xfrm>
          </p:grpSpPr>
          <p:sp>
            <p:nvSpPr>
              <p:cNvPr id="907" name=""/>
              <p:cNvSpPr/>
              <p:nvPr/>
            </p:nvSpPr>
            <p:spPr>
              <a:xfrm flipV="1">
                <a:off x="395280" y="2719080"/>
                <a:ext cx="1029960" cy="864360"/>
              </a:xfrm>
              <a:custGeom>
                <a:avLst/>
                <a:gdLst>
                  <a:gd name="textAreaLeft" fmla="*/ 0 w 1029960"/>
                  <a:gd name="textAreaRight" fmla="*/ 1030320 w 1029960"/>
                  <a:gd name="textAreaTop" fmla="*/ -360 h 864360"/>
                  <a:gd name="textAreaBottom" fmla="*/ 864360 h 864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lnTo>
                      <a:pt x="0" y="12160"/>
                    </a:lnTo>
                    <a:arcTo wR="12427" hR="9260" stAng="10800000" swAng="5400000"/>
                    <a:lnTo>
                      <a:pt x="15100" y="2900"/>
                    </a:lnTo>
                    <a:lnTo>
                      <a:pt x="15100" y="0"/>
                    </a:lnTo>
                    <a:lnTo>
                      <a:pt x="21600" y="6079"/>
                    </a:lnTo>
                    <a:lnTo>
                      <a:pt x="15100" y="12158"/>
                    </a:lnTo>
                    <a:lnTo>
                      <a:pt x="15100" y="9258"/>
                    </a:lnTo>
                    <a:lnTo>
                      <a:pt x="12427" y="9258"/>
                    </a:lnTo>
                    <a:arcTo wR="6069" hR="2902" stAng="16200000" swAng="-5400000"/>
                    <a:lnTo>
                      <a:pt x="6358" y="216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395280" y="1989000"/>
                <a:ext cx="315720" cy="864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09" name=""/>
          <p:cNvGrpSpPr/>
          <p:nvPr/>
        </p:nvGrpSpPr>
        <p:grpSpPr>
          <a:xfrm>
            <a:off x="395280" y="3070080"/>
            <a:ext cx="7921080" cy="1510560"/>
            <a:chOff x="395280" y="3070080"/>
            <a:chExt cx="7921080" cy="1510560"/>
          </a:xfrm>
        </p:grpSpPr>
        <p:grpSp>
          <p:nvGrpSpPr>
            <p:cNvPr id="910" name=""/>
            <p:cNvGrpSpPr/>
            <p:nvPr/>
          </p:nvGrpSpPr>
          <p:grpSpPr>
            <a:xfrm>
              <a:off x="1425600" y="3854880"/>
              <a:ext cx="6890760" cy="725760"/>
              <a:chOff x="1425600" y="3854880"/>
              <a:chExt cx="6890760" cy="725760"/>
            </a:xfrm>
          </p:grpSpPr>
          <p:sp>
            <p:nvSpPr>
              <p:cNvPr id="911" name=""/>
              <p:cNvSpPr/>
              <p:nvPr/>
            </p:nvSpPr>
            <p:spPr>
              <a:xfrm>
                <a:off x="1425600" y="3854880"/>
                <a:ext cx="6890760" cy="725760"/>
              </a:xfrm>
              <a:prstGeom prst="roundRect">
                <a:avLst>
                  <a:gd name="adj" fmla="val 16593"/>
                </a:avLst>
              </a:prstGeom>
              <a:solidFill>
                <a:srgbClr val="000000"/>
              </a:solidFill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1476360" y="4047840"/>
                <a:ext cx="6788880" cy="3474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>
                  <a:lnSpc>
                    <a:spcPct val="93000"/>
                  </a:lnSpc>
                  <a:spcBef>
                    <a:spcPts val="561"/>
                  </a:spcBef>
                  <a:spcAft>
                    <a:spcPts val="451"/>
                  </a:spcAft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Frutiger-Bold"/>
                  </a:rPr>
                  <a:t>PAGARON IMP. A LAS GANANCIAS         U$S          1.900.00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3" name=""/>
            <p:cNvGrpSpPr/>
            <p:nvPr/>
          </p:nvGrpSpPr>
          <p:grpSpPr>
            <a:xfrm>
              <a:off x="395280" y="3070080"/>
              <a:ext cx="1029960" cy="1329840"/>
              <a:chOff x="395280" y="3070080"/>
              <a:chExt cx="1029960" cy="1329840"/>
            </a:xfrm>
          </p:grpSpPr>
          <p:sp>
            <p:nvSpPr>
              <p:cNvPr id="914" name=""/>
              <p:cNvSpPr/>
              <p:nvPr/>
            </p:nvSpPr>
            <p:spPr>
              <a:xfrm flipV="1">
                <a:off x="395280" y="3613680"/>
                <a:ext cx="1029960" cy="786240"/>
              </a:xfrm>
              <a:custGeom>
                <a:avLst/>
                <a:gdLst>
                  <a:gd name="textAreaLeft" fmla="*/ 0 w 1029960"/>
                  <a:gd name="textAreaRight" fmla="*/ 1030320 w 1029960"/>
                  <a:gd name="textAreaTop" fmla="*/ 360 h 786240"/>
                  <a:gd name="textAreaBottom" fmla="*/ 786960 h 786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lnTo>
                      <a:pt x="0" y="12160"/>
                    </a:lnTo>
                    <a:arcTo wR="12427" hR="9260" stAng="10800000" swAng="5400000"/>
                    <a:lnTo>
                      <a:pt x="15100" y="2900"/>
                    </a:lnTo>
                    <a:lnTo>
                      <a:pt x="15100" y="0"/>
                    </a:lnTo>
                    <a:lnTo>
                      <a:pt x="21600" y="6079"/>
                    </a:lnTo>
                    <a:lnTo>
                      <a:pt x="15100" y="12158"/>
                    </a:lnTo>
                    <a:lnTo>
                      <a:pt x="15100" y="9258"/>
                    </a:lnTo>
                    <a:lnTo>
                      <a:pt x="12427" y="9258"/>
                    </a:lnTo>
                    <a:arcTo wR="6069" hR="2902" stAng="16200000" swAng="-5400000"/>
                    <a:lnTo>
                      <a:pt x="6358" y="216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395280" y="3070080"/>
                <a:ext cx="315720" cy="786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16" name=""/>
          <p:cNvGrpSpPr/>
          <p:nvPr/>
        </p:nvGrpSpPr>
        <p:grpSpPr>
          <a:xfrm>
            <a:off x="395280" y="3933720"/>
            <a:ext cx="7921080" cy="1512720"/>
            <a:chOff x="395280" y="3933720"/>
            <a:chExt cx="7921080" cy="1512720"/>
          </a:xfrm>
        </p:grpSpPr>
        <p:grpSp>
          <p:nvGrpSpPr>
            <p:cNvPr id="917" name=""/>
            <p:cNvGrpSpPr/>
            <p:nvPr/>
          </p:nvGrpSpPr>
          <p:grpSpPr>
            <a:xfrm>
              <a:off x="1425600" y="4720320"/>
              <a:ext cx="6890760" cy="726120"/>
              <a:chOff x="1425600" y="4720320"/>
              <a:chExt cx="6890760" cy="726120"/>
            </a:xfrm>
          </p:grpSpPr>
          <p:sp>
            <p:nvSpPr>
              <p:cNvPr id="918" name=""/>
              <p:cNvSpPr/>
              <p:nvPr/>
            </p:nvSpPr>
            <p:spPr>
              <a:xfrm>
                <a:off x="1425600" y="4720320"/>
                <a:ext cx="6890760" cy="726120"/>
              </a:xfrm>
              <a:prstGeom prst="roundRect">
                <a:avLst>
                  <a:gd name="adj" fmla="val 16593"/>
                </a:avLst>
              </a:prstGeom>
              <a:solidFill>
                <a:srgbClr val="000000"/>
              </a:solidFill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1476360" y="4911840"/>
                <a:ext cx="6788880" cy="3474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>
                  <a:lnSpc>
                    <a:spcPct val="93000"/>
                  </a:lnSpc>
                  <a:spcBef>
                    <a:spcPts val="561"/>
                  </a:spcBef>
                  <a:spcAft>
                    <a:spcPts val="451"/>
                  </a:spcAft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ffffff"/>
                    </a:solidFill>
                    <a:latin typeface="Frutiger-Bold"/>
                  </a:rPr>
                  <a:t>RELACIÓN IMPUESTO/VENTAS </a:t>
                </a:r>
                <a:r>
                  <a:rPr b="1" lang="en-GB" sz="1800" spc="-1" strike="noStrike">
                    <a:solidFill>
                      <a:srgbClr val="ffffff"/>
                    </a:solidFill>
                    <a:latin typeface="Frutiger-Bold"/>
                  </a:rPr>
                  <a:t>	</a:t>
                </a:r>
                <a:r>
                  <a:rPr b="1" lang="en-GB" sz="1800" spc="-1" strike="noStrike">
                    <a:solidFill>
                      <a:srgbClr val="ffffff"/>
                    </a:solidFill>
                    <a:latin typeface="Frutiger-Bold"/>
                  </a:rPr>
                  <a:t>	</a:t>
                </a:r>
                <a:r>
                  <a:rPr b="1" lang="en-GB" sz="1800" spc="-1" strike="noStrike">
                    <a:solidFill>
                      <a:srgbClr val="ffffff"/>
                    </a:solidFill>
                    <a:latin typeface="Frutiger-Bold"/>
                  </a:rPr>
                  <a:t>	</a:t>
                </a:r>
                <a:r>
                  <a:rPr b="1" lang="en-GB" sz="1800" spc="-1" strike="noStrike">
                    <a:solidFill>
                      <a:srgbClr val="ffffff"/>
                    </a:solidFill>
                    <a:latin typeface="Frutiger-Bold"/>
                  </a:rPr>
                  <a:t>	</a:t>
                </a:r>
                <a:r>
                  <a:rPr b="1" lang="en-GB" sz="1800" spc="-1" strike="noStrike">
                    <a:solidFill>
                      <a:srgbClr val="ffffff"/>
                    </a:solidFill>
                    <a:latin typeface="Frutiger-Bold"/>
                  </a:rPr>
                  <a:t>	</a:t>
                </a:r>
                <a:r>
                  <a:rPr b="1" lang="en-GB" sz="1800" spc="-1" strike="noStrike">
                    <a:solidFill>
                      <a:srgbClr val="ffffff"/>
                    </a:solidFill>
                    <a:latin typeface="Frutiger-Bold"/>
                  </a:rPr>
                  <a:t>      0,008%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20" name=""/>
            <p:cNvGrpSpPr/>
            <p:nvPr/>
          </p:nvGrpSpPr>
          <p:grpSpPr>
            <a:xfrm>
              <a:off x="395280" y="3933720"/>
              <a:ext cx="1029960" cy="1329840"/>
              <a:chOff x="395280" y="3933720"/>
              <a:chExt cx="1029960" cy="1329840"/>
            </a:xfrm>
          </p:grpSpPr>
          <p:sp>
            <p:nvSpPr>
              <p:cNvPr id="921" name=""/>
              <p:cNvSpPr/>
              <p:nvPr/>
            </p:nvSpPr>
            <p:spPr>
              <a:xfrm flipV="1">
                <a:off x="395280" y="4477320"/>
                <a:ext cx="1029960" cy="786240"/>
              </a:xfrm>
              <a:custGeom>
                <a:avLst/>
                <a:gdLst>
                  <a:gd name="textAreaLeft" fmla="*/ 0 w 1029960"/>
                  <a:gd name="textAreaRight" fmla="*/ 1030320 w 1029960"/>
                  <a:gd name="textAreaTop" fmla="*/ 360 h 786240"/>
                  <a:gd name="textAreaBottom" fmla="*/ 786960 h 786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lnTo>
                      <a:pt x="0" y="12160"/>
                    </a:lnTo>
                    <a:arcTo wR="12427" hR="9260" stAng="10800000" swAng="5400000"/>
                    <a:lnTo>
                      <a:pt x="15100" y="2900"/>
                    </a:lnTo>
                    <a:lnTo>
                      <a:pt x="15100" y="0"/>
                    </a:lnTo>
                    <a:lnTo>
                      <a:pt x="21600" y="6079"/>
                    </a:lnTo>
                    <a:lnTo>
                      <a:pt x="15100" y="12158"/>
                    </a:lnTo>
                    <a:lnTo>
                      <a:pt x="15100" y="9258"/>
                    </a:lnTo>
                    <a:lnTo>
                      <a:pt x="12427" y="9258"/>
                    </a:lnTo>
                    <a:arcTo wR="6069" hR="2902" stAng="16200000" swAng="-5400000"/>
                    <a:lnTo>
                      <a:pt x="6358" y="216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395280" y="3933720"/>
                <a:ext cx="315720" cy="786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23" name=""/>
          <p:cNvGrpSpPr/>
          <p:nvPr/>
        </p:nvGrpSpPr>
        <p:grpSpPr>
          <a:xfrm>
            <a:off x="395280" y="4797360"/>
            <a:ext cx="7921080" cy="1512720"/>
            <a:chOff x="395280" y="4797360"/>
            <a:chExt cx="7921080" cy="1512720"/>
          </a:xfrm>
        </p:grpSpPr>
        <p:grpSp>
          <p:nvGrpSpPr>
            <p:cNvPr id="924" name=""/>
            <p:cNvGrpSpPr/>
            <p:nvPr/>
          </p:nvGrpSpPr>
          <p:grpSpPr>
            <a:xfrm>
              <a:off x="1425600" y="5583960"/>
              <a:ext cx="6890760" cy="726120"/>
              <a:chOff x="1425600" y="5583960"/>
              <a:chExt cx="6890760" cy="726120"/>
            </a:xfrm>
          </p:grpSpPr>
          <p:sp>
            <p:nvSpPr>
              <p:cNvPr id="925" name=""/>
              <p:cNvSpPr/>
              <p:nvPr/>
            </p:nvSpPr>
            <p:spPr>
              <a:xfrm>
                <a:off x="1425600" y="5583960"/>
                <a:ext cx="6890760" cy="726120"/>
              </a:xfrm>
              <a:prstGeom prst="roundRect">
                <a:avLst>
                  <a:gd name="adj" fmla="val 16593"/>
                </a:avLst>
              </a:prstGeom>
              <a:solidFill>
                <a:srgbClr val="000000"/>
              </a:solidFill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1476360" y="5647320"/>
                <a:ext cx="6788880" cy="602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>
                  <a:lnSpc>
                    <a:spcPct val="93000"/>
                  </a:lnSpc>
                  <a:spcBef>
                    <a:spcPts val="561"/>
                  </a:spcBef>
                  <a:spcAft>
                    <a:spcPts val="451"/>
                  </a:spcAft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ffffff"/>
                    </a:solidFill>
                    <a:latin typeface="Frutiger-Bold"/>
                  </a:rPr>
                  <a:t>RELACIÓN IMPUESTO/VENTAS</a:t>
                </a:r>
                <a:r>
                  <a:rPr b="1" lang="en-GB" sz="1800" spc="-1" strike="noStrike">
                    <a:solidFill>
                      <a:srgbClr val="ffffff"/>
                    </a:solidFill>
                    <a:latin typeface="Frutiger-Bold"/>
                  </a:rPr>
                  <a:t>	</a:t>
                </a:r>
                <a:r>
                  <a:rPr b="1" lang="en-GB" sz="1800" spc="-1" strike="noStrike">
                    <a:solidFill>
                      <a:srgbClr val="ffffff"/>
                    </a:solidFill>
                    <a:latin typeface="Frutiger-Bold"/>
                  </a:rPr>
                  <a:t>	</a:t>
                </a:r>
                <a:r>
                  <a:rPr b="1" lang="en-GB" sz="1800" spc="-1" strike="noStrike">
                    <a:solidFill>
                      <a:srgbClr val="ffffff"/>
                    </a:solidFill>
                    <a:latin typeface="Frutiger-Bold"/>
                  </a:rPr>
                  <a:t>	</a:t>
                </a:r>
                <a:r>
                  <a:rPr b="1" lang="en-GB" sz="1800" spc="-1" strike="noStrike">
                    <a:solidFill>
                      <a:srgbClr val="ffffff"/>
                    </a:solidFill>
                    <a:latin typeface="Frutiger-Bold"/>
                  </a:rPr>
                  <a:t>	</a:t>
                </a:r>
                <a:r>
                  <a:rPr b="1" lang="en-GB" sz="1800" spc="-1" strike="noStrike">
                    <a:solidFill>
                      <a:srgbClr val="ffffff"/>
                    </a:solidFill>
                    <a:latin typeface="Frutiger-Bold"/>
                  </a:rPr>
                  <a:t>	</a:t>
                </a:r>
                <a:r>
                  <a:rPr b="1" lang="en-GB" sz="1800" spc="-1" strike="noStrike">
                    <a:solidFill>
                      <a:srgbClr val="ffffff"/>
                    </a:solidFill>
                    <a:latin typeface="Frutiger-Bold"/>
                  </a:rPr>
                  <a:t>	</a:t>
                </a:r>
                <a:r>
                  <a:rPr b="1" lang="en-GB" sz="1800" spc="-1" strike="noStrike">
                    <a:solidFill>
                      <a:srgbClr val="ffffff"/>
                    </a:solidFill>
                    <a:latin typeface="Frutiger-Bold"/>
                  </a:rPr>
                  <a:t>   1,6% RESTO DE LA ECONOMÍ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27" name=""/>
            <p:cNvGrpSpPr/>
            <p:nvPr/>
          </p:nvGrpSpPr>
          <p:grpSpPr>
            <a:xfrm>
              <a:off x="395280" y="4797360"/>
              <a:ext cx="1029960" cy="1329840"/>
              <a:chOff x="395280" y="4797360"/>
              <a:chExt cx="1029960" cy="1329840"/>
            </a:xfrm>
          </p:grpSpPr>
          <p:sp>
            <p:nvSpPr>
              <p:cNvPr id="928" name=""/>
              <p:cNvSpPr/>
              <p:nvPr/>
            </p:nvSpPr>
            <p:spPr>
              <a:xfrm flipV="1">
                <a:off x="395280" y="5340960"/>
                <a:ext cx="1029960" cy="786240"/>
              </a:xfrm>
              <a:custGeom>
                <a:avLst/>
                <a:gdLst>
                  <a:gd name="textAreaLeft" fmla="*/ 0 w 1029960"/>
                  <a:gd name="textAreaRight" fmla="*/ 1030320 w 1029960"/>
                  <a:gd name="textAreaTop" fmla="*/ 360 h 786240"/>
                  <a:gd name="textAreaBottom" fmla="*/ 786960 h 786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lnTo>
                      <a:pt x="0" y="12160"/>
                    </a:lnTo>
                    <a:arcTo wR="12427" hR="9260" stAng="10800000" swAng="5400000"/>
                    <a:lnTo>
                      <a:pt x="15100" y="2900"/>
                    </a:lnTo>
                    <a:lnTo>
                      <a:pt x="15100" y="0"/>
                    </a:lnTo>
                    <a:lnTo>
                      <a:pt x="21600" y="6079"/>
                    </a:lnTo>
                    <a:lnTo>
                      <a:pt x="15100" y="12158"/>
                    </a:lnTo>
                    <a:lnTo>
                      <a:pt x="15100" y="9258"/>
                    </a:lnTo>
                    <a:lnTo>
                      <a:pt x="12427" y="9258"/>
                    </a:lnTo>
                    <a:arcTo wR="6069" hR="2902" stAng="16200000" swAng="-5400000"/>
                    <a:lnTo>
                      <a:pt x="6358" y="216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395280" y="4797360"/>
                <a:ext cx="315720" cy="786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30" name=""/>
          <p:cNvGrpSpPr/>
          <p:nvPr/>
        </p:nvGrpSpPr>
        <p:grpSpPr>
          <a:xfrm>
            <a:off x="324000" y="1341360"/>
            <a:ext cx="8424000" cy="733320"/>
            <a:chOff x="324000" y="1341360"/>
            <a:chExt cx="8424000" cy="733320"/>
          </a:xfrm>
        </p:grpSpPr>
        <p:sp>
          <p:nvSpPr>
            <p:cNvPr id="931" name=""/>
            <p:cNvSpPr/>
            <p:nvPr/>
          </p:nvSpPr>
          <p:spPr>
            <a:xfrm>
              <a:off x="324000" y="1341360"/>
              <a:ext cx="8424000" cy="733320"/>
            </a:xfrm>
            <a:prstGeom prst="roundRect">
              <a:avLst>
                <a:gd name="adj" fmla="val 16764"/>
              </a:avLst>
            </a:prstGeom>
            <a:solidFill>
              <a:srgbClr val="000000"/>
            </a:solidFill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404280" y="1478880"/>
              <a:ext cx="8270640" cy="458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Frutiger-Bold"/>
                </a:rPr>
                <a:t>1- DESCRIPCION DEL CONTEXT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9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9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9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9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9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9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9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9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9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9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9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9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9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9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3" name=""/>
          <p:cNvGrpSpPr/>
          <p:nvPr/>
        </p:nvGrpSpPr>
        <p:grpSpPr>
          <a:xfrm>
            <a:off x="611280" y="1916280"/>
            <a:ext cx="7939800" cy="864720"/>
            <a:chOff x="611280" y="1916280"/>
            <a:chExt cx="7939800" cy="864720"/>
          </a:xfrm>
        </p:grpSpPr>
        <p:grpSp>
          <p:nvGrpSpPr>
            <p:cNvPr id="934" name=""/>
            <p:cNvGrpSpPr/>
            <p:nvPr/>
          </p:nvGrpSpPr>
          <p:grpSpPr>
            <a:xfrm>
              <a:off x="1641600" y="2132280"/>
              <a:ext cx="6909480" cy="648720"/>
              <a:chOff x="1641600" y="2132280"/>
              <a:chExt cx="6909480" cy="648720"/>
            </a:xfrm>
          </p:grpSpPr>
          <p:sp>
            <p:nvSpPr>
              <p:cNvPr id="935" name=""/>
              <p:cNvSpPr/>
              <p:nvPr/>
            </p:nvSpPr>
            <p:spPr>
              <a:xfrm>
                <a:off x="1641600" y="2132280"/>
                <a:ext cx="6909480" cy="648720"/>
              </a:xfrm>
              <a:prstGeom prst="roundRect">
                <a:avLst>
                  <a:gd name="adj" fmla="val 16810"/>
                </a:avLst>
              </a:prstGeom>
              <a:solidFill>
                <a:srgbClr val="000000"/>
              </a:solidFill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1692720" y="2278440"/>
                <a:ext cx="680724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>
                  <a:lnSpc>
                    <a:spcPct val="93000"/>
                  </a:lnSpc>
                  <a:spcBef>
                    <a:spcPts val="561"/>
                  </a:spcBef>
                  <a:spcAft>
                    <a:spcPts val="451"/>
                  </a:spcAft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ffffff"/>
                    </a:solidFill>
                    <a:latin typeface="Frutiger-Bold"/>
                  </a:rPr>
                  <a:t>A TRAVÉS DE INTERMEDIARIOS INTERNACIONALE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37" name=""/>
            <p:cNvSpPr/>
            <p:nvPr/>
          </p:nvSpPr>
          <p:spPr>
            <a:xfrm flipV="1">
              <a:off x="611280" y="1916280"/>
              <a:ext cx="1030320" cy="704880"/>
            </a:xfrm>
            <a:custGeom>
              <a:avLst/>
              <a:gdLst>
                <a:gd name="textAreaLeft" fmla="*/ 0 w 1030320"/>
                <a:gd name="textAreaRight" fmla="*/ 1030680 w 1030320"/>
                <a:gd name="textAreaTop" fmla="*/ 0 h 704880"/>
                <a:gd name="textAreaBottom" fmla="*/ 704880 h 704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260" stAng="10800000" swAng="5400000"/>
                  <a:lnTo>
                    <a:pt x="15100" y="2900"/>
                  </a:lnTo>
                  <a:lnTo>
                    <a:pt x="15100" y="0"/>
                  </a:lnTo>
                  <a:lnTo>
                    <a:pt x="21600" y="6079"/>
                  </a:lnTo>
                  <a:lnTo>
                    <a:pt x="15100" y="12158"/>
                  </a:lnTo>
                  <a:lnTo>
                    <a:pt x="15100" y="9258"/>
                  </a:lnTo>
                  <a:lnTo>
                    <a:pt x="12427" y="9258"/>
                  </a:lnTo>
                  <a:arcTo wR="6069" hR="2902" stAng="16200000" swAng="-5400000"/>
                  <a:lnTo>
                    <a:pt x="6358" y="216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8" name=""/>
          <p:cNvGrpSpPr/>
          <p:nvPr/>
        </p:nvGrpSpPr>
        <p:grpSpPr>
          <a:xfrm>
            <a:off x="539640" y="1989000"/>
            <a:ext cx="7921080" cy="1510920"/>
            <a:chOff x="539640" y="1989000"/>
            <a:chExt cx="7921080" cy="1510920"/>
          </a:xfrm>
        </p:grpSpPr>
        <p:grpSp>
          <p:nvGrpSpPr>
            <p:cNvPr id="939" name=""/>
            <p:cNvGrpSpPr/>
            <p:nvPr/>
          </p:nvGrpSpPr>
          <p:grpSpPr>
            <a:xfrm>
              <a:off x="1569960" y="2860200"/>
              <a:ext cx="6890760" cy="639720"/>
              <a:chOff x="1569960" y="2860200"/>
              <a:chExt cx="6890760" cy="639720"/>
            </a:xfrm>
          </p:grpSpPr>
          <p:sp>
            <p:nvSpPr>
              <p:cNvPr id="940" name=""/>
              <p:cNvSpPr/>
              <p:nvPr/>
            </p:nvSpPr>
            <p:spPr>
              <a:xfrm>
                <a:off x="1569960" y="2860200"/>
                <a:ext cx="6890760" cy="639720"/>
              </a:xfrm>
              <a:prstGeom prst="roundRect">
                <a:avLst>
                  <a:gd name="adj" fmla="val 16593"/>
                </a:avLst>
              </a:prstGeom>
              <a:solidFill>
                <a:srgbClr val="000000"/>
              </a:solidFill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1620720" y="2879280"/>
                <a:ext cx="6788880" cy="602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>
                  <a:lnSpc>
                    <a:spcPct val="93000"/>
                  </a:lnSpc>
                  <a:spcBef>
                    <a:spcPts val="561"/>
                  </a:spcBef>
                  <a:spcAft>
                    <a:spcPts val="451"/>
                  </a:spcAft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ffffff"/>
                    </a:solidFill>
                    <a:latin typeface="Frutiger-Bold"/>
                  </a:rPr>
                  <a:t>FECHA DE CONTRATO DE LA OPERACIÓN: 180 A 500 DÍAS ANTES DEL EMBARQU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2" name=""/>
            <p:cNvGrpSpPr/>
            <p:nvPr/>
          </p:nvGrpSpPr>
          <p:grpSpPr>
            <a:xfrm>
              <a:off x="539640" y="1989000"/>
              <a:ext cx="1029960" cy="1395360"/>
              <a:chOff x="539640" y="1989000"/>
              <a:chExt cx="1029960" cy="1395360"/>
            </a:xfrm>
          </p:grpSpPr>
          <p:sp>
            <p:nvSpPr>
              <p:cNvPr id="943" name=""/>
              <p:cNvSpPr/>
              <p:nvPr/>
            </p:nvSpPr>
            <p:spPr>
              <a:xfrm flipV="1">
                <a:off x="539640" y="2628360"/>
                <a:ext cx="1029960" cy="756000"/>
              </a:xfrm>
              <a:custGeom>
                <a:avLst/>
                <a:gdLst>
                  <a:gd name="textAreaLeft" fmla="*/ 0 w 1029960"/>
                  <a:gd name="textAreaRight" fmla="*/ 1030320 w 1029960"/>
                  <a:gd name="textAreaTop" fmla="*/ 360 h 756000"/>
                  <a:gd name="textAreaBottom" fmla="*/ 756720 h 756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lnTo>
                      <a:pt x="0" y="12160"/>
                    </a:lnTo>
                    <a:arcTo wR="12427" hR="9260" stAng="10800000" swAng="5400000"/>
                    <a:lnTo>
                      <a:pt x="15100" y="2900"/>
                    </a:lnTo>
                    <a:lnTo>
                      <a:pt x="15100" y="0"/>
                    </a:lnTo>
                    <a:lnTo>
                      <a:pt x="21600" y="6079"/>
                    </a:lnTo>
                    <a:lnTo>
                      <a:pt x="15100" y="12158"/>
                    </a:lnTo>
                    <a:lnTo>
                      <a:pt x="15100" y="9258"/>
                    </a:lnTo>
                    <a:lnTo>
                      <a:pt x="12427" y="9258"/>
                    </a:lnTo>
                    <a:arcTo wR="6069" hR="2902" stAng="16200000" swAng="-5400000"/>
                    <a:lnTo>
                      <a:pt x="6358" y="216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539640" y="1989000"/>
                <a:ext cx="315720" cy="7560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45" name=""/>
          <p:cNvGrpSpPr/>
          <p:nvPr/>
        </p:nvGrpSpPr>
        <p:grpSpPr>
          <a:xfrm>
            <a:off x="539640" y="2924280"/>
            <a:ext cx="7921080" cy="1296720"/>
            <a:chOff x="539640" y="2924280"/>
            <a:chExt cx="7921080" cy="1296720"/>
          </a:xfrm>
        </p:grpSpPr>
        <p:grpSp>
          <p:nvGrpSpPr>
            <p:cNvPr id="946" name=""/>
            <p:cNvGrpSpPr/>
            <p:nvPr/>
          </p:nvGrpSpPr>
          <p:grpSpPr>
            <a:xfrm>
              <a:off x="1569960" y="3597840"/>
              <a:ext cx="6890760" cy="623160"/>
              <a:chOff x="1569960" y="3597840"/>
              <a:chExt cx="6890760" cy="623160"/>
            </a:xfrm>
          </p:grpSpPr>
          <p:sp>
            <p:nvSpPr>
              <p:cNvPr id="947" name=""/>
              <p:cNvSpPr/>
              <p:nvPr/>
            </p:nvSpPr>
            <p:spPr>
              <a:xfrm>
                <a:off x="1569960" y="3597840"/>
                <a:ext cx="6890760" cy="623160"/>
              </a:xfrm>
              <a:prstGeom prst="roundRect">
                <a:avLst>
                  <a:gd name="adj" fmla="val 16593"/>
                </a:avLst>
              </a:prstGeom>
              <a:solidFill>
                <a:srgbClr val="000000"/>
              </a:solidFill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1620720" y="3738240"/>
                <a:ext cx="6788880" cy="3474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>
                  <a:lnSpc>
                    <a:spcPct val="93000"/>
                  </a:lnSpc>
                  <a:spcBef>
                    <a:spcPts val="561"/>
                  </a:spcBef>
                  <a:spcAft>
                    <a:spcPts val="451"/>
                  </a:spcAft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ffffff"/>
                    </a:solidFill>
                    <a:latin typeface="Frutiger-Bold"/>
                  </a:rPr>
                  <a:t>FIJACIÓN DEL PRECIO A FECHA DE CONTRAT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9" name=""/>
            <p:cNvGrpSpPr/>
            <p:nvPr/>
          </p:nvGrpSpPr>
          <p:grpSpPr>
            <a:xfrm>
              <a:off x="539640" y="2924280"/>
              <a:ext cx="1029960" cy="1140840"/>
              <a:chOff x="539640" y="2924280"/>
              <a:chExt cx="1029960" cy="1140840"/>
            </a:xfrm>
          </p:grpSpPr>
          <p:sp>
            <p:nvSpPr>
              <p:cNvPr id="950" name=""/>
              <p:cNvSpPr/>
              <p:nvPr/>
            </p:nvSpPr>
            <p:spPr>
              <a:xfrm flipV="1">
                <a:off x="539640" y="3390480"/>
                <a:ext cx="1029960" cy="674640"/>
              </a:xfrm>
              <a:custGeom>
                <a:avLst/>
                <a:gdLst>
                  <a:gd name="textAreaLeft" fmla="*/ 0 w 1029960"/>
                  <a:gd name="textAreaRight" fmla="*/ 1030320 w 1029960"/>
                  <a:gd name="textAreaTop" fmla="*/ 360 h 674640"/>
                  <a:gd name="textAreaBottom" fmla="*/ 675360 h 674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lnTo>
                      <a:pt x="0" y="12160"/>
                    </a:lnTo>
                    <a:arcTo wR="12427" hR="9260" stAng="10800000" swAng="5400000"/>
                    <a:lnTo>
                      <a:pt x="15100" y="2900"/>
                    </a:lnTo>
                    <a:lnTo>
                      <a:pt x="15100" y="0"/>
                    </a:lnTo>
                    <a:lnTo>
                      <a:pt x="21600" y="6079"/>
                    </a:lnTo>
                    <a:lnTo>
                      <a:pt x="15100" y="12158"/>
                    </a:lnTo>
                    <a:lnTo>
                      <a:pt x="15100" y="9258"/>
                    </a:lnTo>
                    <a:lnTo>
                      <a:pt x="12427" y="9258"/>
                    </a:lnTo>
                    <a:arcTo wR="6069" hR="2902" stAng="16200000" swAng="-5400000"/>
                    <a:lnTo>
                      <a:pt x="6358" y="216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539640" y="2924280"/>
                <a:ext cx="315720" cy="674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52" name=""/>
          <p:cNvGrpSpPr/>
          <p:nvPr/>
        </p:nvGrpSpPr>
        <p:grpSpPr>
          <a:xfrm>
            <a:off x="539640" y="3645000"/>
            <a:ext cx="7921080" cy="1296360"/>
            <a:chOff x="539640" y="3645000"/>
            <a:chExt cx="7921080" cy="1296360"/>
          </a:xfrm>
        </p:grpSpPr>
        <p:grpSp>
          <p:nvGrpSpPr>
            <p:cNvPr id="953" name=""/>
            <p:cNvGrpSpPr/>
            <p:nvPr/>
          </p:nvGrpSpPr>
          <p:grpSpPr>
            <a:xfrm>
              <a:off x="1569960" y="4318920"/>
              <a:ext cx="6890760" cy="622440"/>
              <a:chOff x="1569960" y="4318920"/>
              <a:chExt cx="6890760" cy="622440"/>
            </a:xfrm>
          </p:grpSpPr>
          <p:sp>
            <p:nvSpPr>
              <p:cNvPr id="954" name=""/>
              <p:cNvSpPr/>
              <p:nvPr/>
            </p:nvSpPr>
            <p:spPr>
              <a:xfrm>
                <a:off x="1569960" y="4318920"/>
                <a:ext cx="6890760" cy="622440"/>
              </a:xfrm>
              <a:prstGeom prst="roundRect">
                <a:avLst>
                  <a:gd name="adj" fmla="val 16593"/>
                </a:avLst>
              </a:prstGeom>
              <a:solidFill>
                <a:srgbClr val="000000"/>
              </a:solidFill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1620720" y="4460040"/>
                <a:ext cx="6788880" cy="3474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>
                  <a:lnSpc>
                    <a:spcPct val="93000"/>
                  </a:lnSpc>
                  <a:spcBef>
                    <a:spcPts val="561"/>
                  </a:spcBef>
                  <a:spcAft>
                    <a:spcPts val="451"/>
                  </a:spcAft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ffffff"/>
                    </a:solidFill>
                    <a:latin typeface="Frutiger-Bold"/>
                  </a:rPr>
                  <a:t>INTERMEDIARIOS: LA MAYORIA EN PARAÍSOS FISCALE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56" name=""/>
            <p:cNvGrpSpPr/>
            <p:nvPr/>
          </p:nvGrpSpPr>
          <p:grpSpPr>
            <a:xfrm>
              <a:off x="539640" y="3645000"/>
              <a:ext cx="1029960" cy="1139760"/>
              <a:chOff x="539640" y="3645000"/>
              <a:chExt cx="1029960" cy="1139760"/>
            </a:xfrm>
          </p:grpSpPr>
          <p:sp>
            <p:nvSpPr>
              <p:cNvPr id="957" name=""/>
              <p:cNvSpPr/>
              <p:nvPr/>
            </p:nvSpPr>
            <p:spPr>
              <a:xfrm flipV="1">
                <a:off x="539640" y="4110840"/>
                <a:ext cx="1029960" cy="673920"/>
              </a:xfrm>
              <a:custGeom>
                <a:avLst/>
                <a:gdLst>
                  <a:gd name="textAreaLeft" fmla="*/ 0 w 1029960"/>
                  <a:gd name="textAreaRight" fmla="*/ 1030320 w 1029960"/>
                  <a:gd name="textAreaTop" fmla="*/ 360 h 673920"/>
                  <a:gd name="textAreaBottom" fmla="*/ 674640 h 673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lnTo>
                      <a:pt x="0" y="12160"/>
                    </a:lnTo>
                    <a:arcTo wR="12427" hR="9260" stAng="10800000" swAng="5400000"/>
                    <a:lnTo>
                      <a:pt x="15100" y="2900"/>
                    </a:lnTo>
                    <a:lnTo>
                      <a:pt x="15100" y="0"/>
                    </a:lnTo>
                    <a:lnTo>
                      <a:pt x="21600" y="6079"/>
                    </a:lnTo>
                    <a:lnTo>
                      <a:pt x="15100" y="12158"/>
                    </a:lnTo>
                    <a:lnTo>
                      <a:pt x="15100" y="9258"/>
                    </a:lnTo>
                    <a:lnTo>
                      <a:pt x="12427" y="9258"/>
                    </a:lnTo>
                    <a:arcTo wR="6069" hR="2902" stAng="16200000" swAng="-5400000"/>
                    <a:lnTo>
                      <a:pt x="6358" y="216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539640" y="3645000"/>
                <a:ext cx="315720" cy="673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59" name=""/>
          <p:cNvGrpSpPr/>
          <p:nvPr/>
        </p:nvGrpSpPr>
        <p:grpSpPr>
          <a:xfrm>
            <a:off x="539640" y="4365720"/>
            <a:ext cx="7921080" cy="1287360"/>
            <a:chOff x="539640" y="4365720"/>
            <a:chExt cx="7921080" cy="1287360"/>
          </a:xfrm>
        </p:grpSpPr>
        <p:grpSp>
          <p:nvGrpSpPr>
            <p:cNvPr id="960" name=""/>
            <p:cNvGrpSpPr/>
            <p:nvPr/>
          </p:nvGrpSpPr>
          <p:grpSpPr>
            <a:xfrm>
              <a:off x="1569960" y="5034960"/>
              <a:ext cx="6890760" cy="618120"/>
              <a:chOff x="1569960" y="5034960"/>
              <a:chExt cx="6890760" cy="618120"/>
            </a:xfrm>
          </p:grpSpPr>
          <p:sp>
            <p:nvSpPr>
              <p:cNvPr id="961" name=""/>
              <p:cNvSpPr/>
              <p:nvPr/>
            </p:nvSpPr>
            <p:spPr>
              <a:xfrm>
                <a:off x="1569960" y="5034960"/>
                <a:ext cx="6890760" cy="618120"/>
              </a:xfrm>
              <a:prstGeom prst="roundRect">
                <a:avLst>
                  <a:gd name="adj" fmla="val 16593"/>
                </a:avLst>
              </a:prstGeom>
              <a:solidFill>
                <a:srgbClr val="000000"/>
              </a:solidFill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1620720" y="5043240"/>
                <a:ext cx="6788880" cy="602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>
                  <a:lnSpc>
                    <a:spcPct val="93000"/>
                  </a:lnSpc>
                  <a:spcBef>
                    <a:spcPts val="561"/>
                  </a:spcBef>
                  <a:spcAft>
                    <a:spcPts val="451"/>
                  </a:spcAft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ffffff"/>
                    </a:solidFill>
                    <a:latin typeface="Frutiger-Bold"/>
                  </a:rPr>
                  <a:t>DOCUMENTACIÓN DE LA EXPORTACIÓN: FACTURA AL INTERMEDIARI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63" name=""/>
            <p:cNvGrpSpPr/>
            <p:nvPr/>
          </p:nvGrpSpPr>
          <p:grpSpPr>
            <a:xfrm>
              <a:off x="539640" y="4365720"/>
              <a:ext cx="1029960" cy="1131480"/>
              <a:chOff x="539640" y="4365720"/>
              <a:chExt cx="1029960" cy="1131480"/>
            </a:xfrm>
          </p:grpSpPr>
          <p:sp>
            <p:nvSpPr>
              <p:cNvPr id="964" name=""/>
              <p:cNvSpPr/>
              <p:nvPr/>
            </p:nvSpPr>
            <p:spPr>
              <a:xfrm flipV="1">
                <a:off x="539640" y="4828320"/>
                <a:ext cx="1029960" cy="668880"/>
              </a:xfrm>
              <a:custGeom>
                <a:avLst/>
                <a:gdLst>
                  <a:gd name="textAreaLeft" fmla="*/ 0 w 1029960"/>
                  <a:gd name="textAreaRight" fmla="*/ 1030320 w 1029960"/>
                  <a:gd name="textAreaTop" fmla="*/ 360 h 668880"/>
                  <a:gd name="textAreaBottom" fmla="*/ 669600 h 668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lnTo>
                      <a:pt x="0" y="12160"/>
                    </a:lnTo>
                    <a:arcTo wR="12427" hR="9260" stAng="10800000" swAng="5400000"/>
                    <a:lnTo>
                      <a:pt x="15100" y="2900"/>
                    </a:lnTo>
                    <a:lnTo>
                      <a:pt x="15100" y="0"/>
                    </a:lnTo>
                    <a:lnTo>
                      <a:pt x="21600" y="6079"/>
                    </a:lnTo>
                    <a:lnTo>
                      <a:pt x="15100" y="12158"/>
                    </a:lnTo>
                    <a:lnTo>
                      <a:pt x="15100" y="9258"/>
                    </a:lnTo>
                    <a:lnTo>
                      <a:pt x="12427" y="9258"/>
                    </a:lnTo>
                    <a:arcTo wR="6069" hR="2902" stAng="16200000" swAng="-5400000"/>
                    <a:lnTo>
                      <a:pt x="6358" y="216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539640" y="4365720"/>
                <a:ext cx="315720" cy="668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66" name=""/>
          <p:cNvGrpSpPr/>
          <p:nvPr/>
        </p:nvGrpSpPr>
        <p:grpSpPr>
          <a:xfrm>
            <a:off x="250920" y="1341360"/>
            <a:ext cx="8476560" cy="733320"/>
            <a:chOff x="250920" y="1341360"/>
            <a:chExt cx="8476560" cy="733320"/>
          </a:xfrm>
        </p:grpSpPr>
        <p:sp>
          <p:nvSpPr>
            <p:cNvPr id="967" name=""/>
            <p:cNvSpPr/>
            <p:nvPr/>
          </p:nvSpPr>
          <p:spPr>
            <a:xfrm>
              <a:off x="250920" y="1341360"/>
              <a:ext cx="8476560" cy="733320"/>
            </a:xfrm>
            <a:prstGeom prst="roundRect">
              <a:avLst>
                <a:gd name="adj" fmla="val 16764"/>
              </a:avLst>
            </a:prstGeom>
            <a:solidFill>
              <a:srgbClr val="000000"/>
            </a:solidFill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331920" y="1478880"/>
              <a:ext cx="8322120" cy="458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ff"/>
                  </a:solidFill>
                  <a:latin typeface="Frutiger-Bold"/>
                </a:rPr>
                <a:t>2- MODALIDAD COMERCIAL DE LA EXPORTACIÓ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9" name=""/>
          <p:cNvGrpSpPr/>
          <p:nvPr/>
        </p:nvGrpSpPr>
        <p:grpSpPr>
          <a:xfrm>
            <a:off x="539640" y="5084640"/>
            <a:ext cx="7921080" cy="1295640"/>
            <a:chOff x="539640" y="5084640"/>
            <a:chExt cx="7921080" cy="1295640"/>
          </a:xfrm>
        </p:grpSpPr>
        <p:grpSp>
          <p:nvGrpSpPr>
            <p:cNvPr id="970" name=""/>
            <p:cNvGrpSpPr/>
            <p:nvPr/>
          </p:nvGrpSpPr>
          <p:grpSpPr>
            <a:xfrm>
              <a:off x="1569960" y="5758200"/>
              <a:ext cx="6890760" cy="622080"/>
              <a:chOff x="1569960" y="5758200"/>
              <a:chExt cx="6890760" cy="622080"/>
            </a:xfrm>
          </p:grpSpPr>
          <p:sp>
            <p:nvSpPr>
              <p:cNvPr id="971" name=""/>
              <p:cNvSpPr/>
              <p:nvPr/>
            </p:nvSpPr>
            <p:spPr>
              <a:xfrm>
                <a:off x="1569960" y="5758200"/>
                <a:ext cx="6890760" cy="622080"/>
              </a:xfrm>
              <a:prstGeom prst="roundRect">
                <a:avLst>
                  <a:gd name="adj" fmla="val 16593"/>
                </a:avLst>
              </a:prstGeom>
              <a:solidFill>
                <a:srgbClr val="00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1620720" y="5770080"/>
                <a:ext cx="6788880" cy="6022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>
                  <a:lnSpc>
                    <a:spcPct val="93000"/>
                  </a:lnSpc>
                  <a:spcBef>
                    <a:spcPts val="561"/>
                  </a:spcBef>
                  <a:spcAft>
                    <a:spcPts val="451"/>
                  </a:spcAft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ffffff"/>
                    </a:solidFill>
                    <a:latin typeface="Frutiger-Bold"/>
                  </a:rPr>
                  <a:t>DESTINO DE LA MERCADERIA: PAÍS DISTINTO AL DEL INTERMEDIARI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3" name=""/>
            <p:cNvGrpSpPr/>
            <p:nvPr/>
          </p:nvGrpSpPr>
          <p:grpSpPr>
            <a:xfrm>
              <a:off x="539640" y="5084640"/>
              <a:ext cx="1029960" cy="1138680"/>
              <a:chOff x="539640" y="5084640"/>
              <a:chExt cx="1029960" cy="1138680"/>
            </a:xfrm>
          </p:grpSpPr>
          <p:sp>
            <p:nvSpPr>
              <p:cNvPr id="974" name=""/>
              <p:cNvSpPr/>
              <p:nvPr/>
            </p:nvSpPr>
            <p:spPr>
              <a:xfrm flipV="1">
                <a:off x="539640" y="5550120"/>
                <a:ext cx="1029960" cy="673200"/>
              </a:xfrm>
              <a:custGeom>
                <a:avLst/>
                <a:gdLst>
                  <a:gd name="textAreaLeft" fmla="*/ 0 w 1029960"/>
                  <a:gd name="textAreaRight" fmla="*/ 1030320 w 1029960"/>
                  <a:gd name="textAreaTop" fmla="*/ 360 h 673200"/>
                  <a:gd name="textAreaBottom" fmla="*/ 673920 h 673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lnTo>
                      <a:pt x="0" y="12160"/>
                    </a:lnTo>
                    <a:arcTo wR="12427" hR="9260" stAng="10800000" swAng="5400000"/>
                    <a:lnTo>
                      <a:pt x="15100" y="2900"/>
                    </a:lnTo>
                    <a:lnTo>
                      <a:pt x="15100" y="0"/>
                    </a:lnTo>
                    <a:lnTo>
                      <a:pt x="21600" y="6079"/>
                    </a:lnTo>
                    <a:lnTo>
                      <a:pt x="15100" y="12158"/>
                    </a:lnTo>
                    <a:lnTo>
                      <a:pt x="15100" y="9258"/>
                    </a:lnTo>
                    <a:lnTo>
                      <a:pt x="12427" y="9258"/>
                    </a:lnTo>
                    <a:arcTo wR="6069" hR="2902" stAng="16200000" swAng="-5400000"/>
                    <a:lnTo>
                      <a:pt x="6358" y="2160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539640" y="5084640"/>
                <a:ext cx="315720" cy="6732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76" name=""/>
          <p:cNvSpPr/>
          <p:nvPr/>
        </p:nvSpPr>
        <p:spPr>
          <a:xfrm>
            <a:off x="1835280" y="404640"/>
            <a:ext cx="6769080" cy="8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7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800" spc="-1" strike="noStrike" u="sng">
                <a:solidFill>
                  <a:srgbClr val="000000"/>
                </a:solidFill>
                <a:uFillTx/>
                <a:latin typeface="Arial"/>
              </a:rPr>
              <a:t>6TO. MÉTODO – FECHA DE EMBARQUE 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9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9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9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9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9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9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9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9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9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9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9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9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9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9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9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9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9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9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"/>
          <p:cNvSpPr/>
          <p:nvPr/>
        </p:nvSpPr>
        <p:spPr>
          <a:xfrm>
            <a:off x="1835280" y="404640"/>
            <a:ext cx="6769080" cy="8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7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800" spc="-1" strike="noStrike" u="sng">
                <a:solidFill>
                  <a:srgbClr val="000000"/>
                </a:solidFill>
                <a:uFillTx/>
                <a:latin typeface="Arial"/>
              </a:rPr>
              <a:t>6TO. METODO – FECHA DE EMBARQUE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8" name=""/>
          <p:cNvGrpSpPr/>
          <p:nvPr/>
        </p:nvGrpSpPr>
        <p:grpSpPr>
          <a:xfrm>
            <a:off x="179280" y="1411920"/>
            <a:ext cx="8640000" cy="824040"/>
            <a:chOff x="179280" y="1411920"/>
            <a:chExt cx="8640000" cy="824040"/>
          </a:xfrm>
        </p:grpSpPr>
        <p:sp>
          <p:nvSpPr>
            <p:cNvPr id="979" name=""/>
            <p:cNvSpPr/>
            <p:nvPr/>
          </p:nvSpPr>
          <p:spPr>
            <a:xfrm>
              <a:off x="179280" y="1456560"/>
              <a:ext cx="8640000" cy="734040"/>
            </a:xfrm>
            <a:prstGeom prst="roundRect">
              <a:avLst>
                <a:gd name="adj" fmla="val 16764"/>
              </a:avLst>
            </a:prstGeom>
            <a:gradFill rotWithShape="0">
              <a:gsLst>
                <a:gs pos="0">
                  <a:srgbClr val="ffcc00"/>
                </a:gs>
                <a:gs pos="100000">
                  <a:srgbClr val="fef1c0"/>
                </a:gs>
              </a:gsLst>
              <a:lin ang="5400000"/>
            </a:gradFill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261720" y="1411920"/>
              <a:ext cx="8482680" cy="82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ff"/>
                  </a:solidFill>
                  <a:latin typeface="Frutiger-Bold"/>
                </a:rPr>
                <a:t>3- TRIANGULACIÓN DE EXPORTACIONE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ff"/>
                  </a:solidFill>
                  <a:latin typeface="Frutiger-Bold"/>
                </a:rPr>
                <a:t> </a:t>
              </a:r>
              <a:r>
                <a:rPr b="1" lang="en-GB" sz="2400" spc="-1" strike="noStrike">
                  <a:solidFill>
                    <a:srgbClr val="ffffff"/>
                  </a:solidFill>
                  <a:latin typeface="Frutiger-Bold"/>
                </a:rPr>
                <a:t>REFACTURACIÓ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981" name=""/>
          <p:cNvGraphicFramePr/>
          <p:nvPr/>
        </p:nvGraphicFramePr>
        <p:xfrm>
          <a:off x="395280" y="2924280"/>
          <a:ext cx="8209080" cy="2604960"/>
        </p:xfrm>
        <a:graphic>
          <a:graphicData uri="http://schemas.openxmlformats.org/drawingml/2006/table">
            <a:tbl>
              <a:tblPr/>
              <a:tblGrid>
                <a:gridCol w="2667600"/>
                <a:gridCol w="2873160"/>
                <a:gridCol w="2668320"/>
              </a:tblGrid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IS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PORTAD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IS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TERMEDIARI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IS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STINATARI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02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82" name=""/>
          <p:cNvSpPr/>
          <p:nvPr/>
        </p:nvSpPr>
        <p:spPr>
          <a:xfrm>
            <a:off x="7485120" y="3932280"/>
            <a:ext cx="896760" cy="633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>
            <a:off x="4605480" y="3932280"/>
            <a:ext cx="863280" cy="647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4" name=""/>
          <p:cNvGrpSpPr/>
          <p:nvPr/>
        </p:nvGrpSpPr>
        <p:grpSpPr>
          <a:xfrm>
            <a:off x="2484360" y="3932280"/>
            <a:ext cx="2121120" cy="770760"/>
            <a:chOff x="2484360" y="3932280"/>
            <a:chExt cx="2121120" cy="770760"/>
          </a:xfrm>
        </p:grpSpPr>
        <p:grpSp>
          <p:nvGrpSpPr>
            <p:cNvPr id="985" name=""/>
            <p:cNvGrpSpPr/>
            <p:nvPr/>
          </p:nvGrpSpPr>
          <p:grpSpPr>
            <a:xfrm>
              <a:off x="2556000" y="3932280"/>
              <a:ext cx="1296720" cy="770760"/>
              <a:chOff x="2556000" y="3932280"/>
              <a:chExt cx="1296720" cy="770760"/>
            </a:xfrm>
          </p:grpSpPr>
          <p:sp>
            <p:nvSpPr>
              <p:cNvPr id="986" name=""/>
              <p:cNvSpPr/>
              <p:nvPr/>
            </p:nvSpPr>
            <p:spPr>
              <a:xfrm>
                <a:off x="2556000" y="4365720"/>
                <a:ext cx="1296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ACTUR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2660400" y="3932280"/>
                <a:ext cx="936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VENT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88" name=""/>
            <p:cNvSpPr/>
            <p:nvPr/>
          </p:nvSpPr>
          <p:spPr>
            <a:xfrm>
              <a:off x="2484360" y="4292640"/>
              <a:ext cx="2121120" cy="0"/>
            </a:xfrm>
            <a:prstGeom prst="line">
              <a:avLst/>
            </a:prstGeom>
            <a:ln w="5724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9" name=""/>
          <p:cNvGrpSpPr/>
          <p:nvPr/>
        </p:nvGrpSpPr>
        <p:grpSpPr>
          <a:xfrm>
            <a:off x="2052720" y="4579920"/>
            <a:ext cx="5865480" cy="842400"/>
            <a:chOff x="2052720" y="4579920"/>
            <a:chExt cx="5865480" cy="842400"/>
          </a:xfrm>
        </p:grpSpPr>
        <p:sp>
          <p:nvSpPr>
            <p:cNvPr id="990" name=""/>
            <p:cNvSpPr/>
            <p:nvPr/>
          </p:nvSpPr>
          <p:spPr>
            <a:xfrm>
              <a:off x="4100400" y="5085000"/>
              <a:ext cx="2374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TRÁNSITO FÍSIC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91" name=""/>
            <p:cNvGrpSpPr/>
            <p:nvPr/>
          </p:nvGrpSpPr>
          <p:grpSpPr>
            <a:xfrm>
              <a:off x="2052720" y="4579920"/>
              <a:ext cx="5865480" cy="433440"/>
              <a:chOff x="2052720" y="4579920"/>
              <a:chExt cx="5865480" cy="433440"/>
            </a:xfrm>
          </p:grpSpPr>
          <p:grpSp>
            <p:nvGrpSpPr>
              <p:cNvPr id="992" name=""/>
              <p:cNvGrpSpPr/>
              <p:nvPr/>
            </p:nvGrpSpPr>
            <p:grpSpPr>
              <a:xfrm>
                <a:off x="2052720" y="4581720"/>
                <a:ext cx="5864040" cy="431640"/>
                <a:chOff x="2052720" y="4581720"/>
                <a:chExt cx="5864040" cy="431640"/>
              </a:xfrm>
            </p:grpSpPr>
            <p:sp>
              <p:nvSpPr>
                <p:cNvPr id="993" name=""/>
                <p:cNvSpPr/>
                <p:nvPr/>
              </p:nvSpPr>
              <p:spPr>
                <a:xfrm flipV="1">
                  <a:off x="2052720" y="5011920"/>
                  <a:ext cx="5864040" cy="144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87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4" name=""/>
                <p:cNvSpPr/>
                <p:nvPr/>
              </p:nvSpPr>
              <p:spPr>
                <a:xfrm>
                  <a:off x="2052720" y="4581720"/>
                  <a:ext cx="0" cy="43164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87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95" name=""/>
              <p:cNvSpPr/>
              <p:nvPr/>
            </p:nvSpPr>
            <p:spPr>
              <a:xfrm flipH="1" flipV="1">
                <a:off x="7916400" y="4579920"/>
                <a:ext cx="1800" cy="4334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96" name=""/>
          <p:cNvGrpSpPr/>
          <p:nvPr/>
        </p:nvGrpSpPr>
        <p:grpSpPr>
          <a:xfrm>
            <a:off x="5468760" y="3932280"/>
            <a:ext cx="2016360" cy="770760"/>
            <a:chOff x="5468760" y="3932280"/>
            <a:chExt cx="2016360" cy="770760"/>
          </a:xfrm>
        </p:grpSpPr>
        <p:sp>
          <p:nvSpPr>
            <p:cNvPr id="997" name=""/>
            <p:cNvSpPr/>
            <p:nvPr/>
          </p:nvSpPr>
          <p:spPr>
            <a:xfrm>
              <a:off x="5468760" y="4292640"/>
              <a:ext cx="2016360" cy="0"/>
            </a:xfrm>
            <a:prstGeom prst="line">
              <a:avLst/>
            </a:prstGeom>
            <a:ln w="5724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98" name=""/>
            <p:cNvGrpSpPr/>
            <p:nvPr/>
          </p:nvGrpSpPr>
          <p:grpSpPr>
            <a:xfrm>
              <a:off x="5724360" y="3932280"/>
              <a:ext cx="1297080" cy="770760"/>
              <a:chOff x="5724360" y="3932280"/>
              <a:chExt cx="1297080" cy="770760"/>
            </a:xfrm>
          </p:grpSpPr>
          <p:sp>
            <p:nvSpPr>
              <p:cNvPr id="999" name=""/>
              <p:cNvSpPr/>
              <p:nvPr/>
            </p:nvSpPr>
            <p:spPr>
              <a:xfrm>
                <a:off x="5724360" y="4365720"/>
                <a:ext cx="1297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ACTUR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5829120" y="3932280"/>
                <a:ext cx="936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VENT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1" name=""/>
          <p:cNvSpPr/>
          <p:nvPr/>
        </p:nvSpPr>
        <p:spPr>
          <a:xfrm>
            <a:off x="1619280" y="3932280"/>
            <a:ext cx="863640" cy="647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9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9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9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9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0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0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9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9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9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9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9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9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9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9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9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9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9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9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02" name=""/>
          <p:cNvGraphicFramePr/>
          <p:nvPr/>
        </p:nvGraphicFramePr>
        <p:xfrm>
          <a:off x="179280" y="1557360"/>
          <a:ext cx="8640720" cy="4732200"/>
        </p:xfrm>
        <a:graphic>
          <a:graphicData uri="http://schemas.openxmlformats.org/drawingml/2006/table">
            <a:tbl>
              <a:tblPr/>
              <a:tblGrid>
                <a:gridCol w="1656000"/>
                <a:gridCol w="1955520"/>
                <a:gridCol w="1982880"/>
                <a:gridCol w="1751040"/>
                <a:gridCol w="1295280"/>
              </a:tblGrid>
              <a:tr h="510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AIS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EXPORTADO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AIS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NTERMEDIARI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AIS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NTERMEDIARI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AIS 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NTERMEDIARI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AIS 5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DESTINATARI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922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DETERMINACION DE LA RENT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DETERMINACION DE LA RENT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DETERMINACION DE LA RENT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DETERMINACION DE LA RENT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3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TA AL PAIS 2         10   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MPRA LOCAL    </a:t>
                      </a:r>
                      <a:r>
                        <a:rPr b="0" lang="en-US" sz="11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(9)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TILIDAD                  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TA AL PAIS 3             12     COMPRA AL PAIS 1   </a:t>
                      </a:r>
                      <a:r>
                        <a:rPr b="0" lang="en-US" sz="11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(10)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TILIDAD                      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TA AL PAIS 4             14     COMPRA AL PAIS 2   </a:t>
                      </a:r>
                      <a:r>
                        <a:rPr b="0" lang="en-US" sz="11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(12)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TILIDAD                      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TA AL PAIS 5           15     COMP PAIS 3           </a:t>
                      </a:r>
                      <a:r>
                        <a:rPr b="0" lang="en-US" sz="11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(14)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TILIDAD                    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03" name=""/>
          <p:cNvSpPr/>
          <p:nvPr/>
        </p:nvSpPr>
        <p:spPr>
          <a:xfrm>
            <a:off x="1692360" y="333360"/>
            <a:ext cx="6950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2800" spc="-1" strike="noStrike" u="sng">
                <a:solidFill>
                  <a:srgbClr val="000000"/>
                </a:solidFill>
                <a:uFillTx/>
                <a:latin typeface="Frutiger-Bold"/>
              </a:rPr>
              <a:t> </a:t>
            </a:r>
            <a:r>
              <a:rPr b="1" lang="es-AR" sz="2800" spc="-1" strike="noStrike" u="sng">
                <a:solidFill>
                  <a:srgbClr val="000000"/>
                </a:solidFill>
                <a:uFillTx/>
                <a:latin typeface="Arial"/>
              </a:rPr>
              <a:t>EXPORTACIONES VERIFICADAS POR AF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>
            <a:off x="1460520" y="1415880"/>
            <a:ext cx="1244520" cy="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460520" y="1415880"/>
            <a:ext cx="1244520" cy="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"/>
          <p:cNvSpPr/>
          <p:nvPr/>
        </p:nvSpPr>
        <p:spPr>
          <a:xfrm>
            <a:off x="1460520" y="1415880"/>
            <a:ext cx="1244520" cy="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"/>
          <p:cNvSpPr/>
          <p:nvPr/>
        </p:nvSpPr>
        <p:spPr>
          <a:xfrm>
            <a:off x="433440" y="2217600"/>
            <a:ext cx="898560" cy="617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2327400" y="2705040"/>
            <a:ext cx="896760" cy="633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"/>
          <p:cNvSpPr/>
          <p:nvPr/>
        </p:nvSpPr>
        <p:spPr>
          <a:xfrm>
            <a:off x="4284720" y="3195720"/>
            <a:ext cx="863640" cy="647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"/>
          <p:cNvSpPr/>
          <p:nvPr/>
        </p:nvSpPr>
        <p:spPr>
          <a:xfrm>
            <a:off x="6219720" y="3697200"/>
            <a:ext cx="897120" cy="606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"/>
          <p:cNvSpPr/>
          <p:nvPr/>
        </p:nvSpPr>
        <p:spPr>
          <a:xfrm>
            <a:off x="7885080" y="4203720"/>
            <a:ext cx="898560" cy="606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2" name=""/>
          <p:cNvGrpSpPr/>
          <p:nvPr/>
        </p:nvGrpSpPr>
        <p:grpSpPr>
          <a:xfrm>
            <a:off x="1042920" y="2762280"/>
            <a:ext cx="1224000" cy="524160"/>
            <a:chOff x="1042920" y="2762280"/>
            <a:chExt cx="1224000" cy="524160"/>
          </a:xfrm>
        </p:grpSpPr>
        <p:sp>
          <p:nvSpPr>
            <p:cNvPr id="1013" name=""/>
            <p:cNvSpPr/>
            <p:nvPr/>
          </p:nvSpPr>
          <p:spPr>
            <a:xfrm>
              <a:off x="1042920" y="2762280"/>
              <a:ext cx="1224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FACTURA $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1293840" y="3009960"/>
              <a:ext cx="720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VEN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5" name=""/>
          <p:cNvGrpSpPr/>
          <p:nvPr/>
        </p:nvGrpSpPr>
        <p:grpSpPr>
          <a:xfrm>
            <a:off x="900000" y="2835360"/>
            <a:ext cx="1424160" cy="207360"/>
            <a:chOff x="900000" y="2835360"/>
            <a:chExt cx="1424160" cy="207360"/>
          </a:xfrm>
        </p:grpSpPr>
        <p:sp>
          <p:nvSpPr>
            <p:cNvPr id="1016" name=""/>
            <p:cNvSpPr/>
            <p:nvPr/>
          </p:nvSpPr>
          <p:spPr>
            <a:xfrm>
              <a:off x="900000" y="2835360"/>
              <a:ext cx="0" cy="20736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900000" y="3033720"/>
              <a:ext cx="1424160" cy="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8" name=""/>
          <p:cNvGrpSpPr/>
          <p:nvPr/>
        </p:nvGrpSpPr>
        <p:grpSpPr>
          <a:xfrm>
            <a:off x="2916360" y="3267000"/>
            <a:ext cx="1223640" cy="522360"/>
            <a:chOff x="2916360" y="3267000"/>
            <a:chExt cx="1223640" cy="522360"/>
          </a:xfrm>
        </p:grpSpPr>
        <p:sp>
          <p:nvSpPr>
            <p:cNvPr id="1019" name=""/>
            <p:cNvSpPr/>
            <p:nvPr/>
          </p:nvSpPr>
          <p:spPr>
            <a:xfrm>
              <a:off x="2916360" y="3267000"/>
              <a:ext cx="1223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FACTURA $1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3238560" y="3512880"/>
              <a:ext cx="720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VEN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1" name=""/>
          <p:cNvGrpSpPr/>
          <p:nvPr/>
        </p:nvGrpSpPr>
        <p:grpSpPr>
          <a:xfrm>
            <a:off x="2771640" y="3338640"/>
            <a:ext cx="1508040" cy="207360"/>
            <a:chOff x="2771640" y="3338640"/>
            <a:chExt cx="1508040" cy="207360"/>
          </a:xfrm>
        </p:grpSpPr>
        <p:sp>
          <p:nvSpPr>
            <p:cNvPr id="1022" name=""/>
            <p:cNvSpPr/>
            <p:nvPr/>
          </p:nvSpPr>
          <p:spPr>
            <a:xfrm>
              <a:off x="2771640" y="3338640"/>
              <a:ext cx="0" cy="20736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2771640" y="3537000"/>
              <a:ext cx="1508040" cy="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4" name=""/>
          <p:cNvGrpSpPr/>
          <p:nvPr/>
        </p:nvGrpSpPr>
        <p:grpSpPr>
          <a:xfrm>
            <a:off x="4859280" y="3772080"/>
            <a:ext cx="1224000" cy="522720"/>
            <a:chOff x="4859280" y="3772080"/>
            <a:chExt cx="1224000" cy="522720"/>
          </a:xfrm>
        </p:grpSpPr>
        <p:sp>
          <p:nvSpPr>
            <p:cNvPr id="1025" name=""/>
            <p:cNvSpPr/>
            <p:nvPr/>
          </p:nvSpPr>
          <p:spPr>
            <a:xfrm>
              <a:off x="4859280" y="3772080"/>
              <a:ext cx="1224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FACTURA $1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5183280" y="4018320"/>
              <a:ext cx="718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VEN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7" name=""/>
          <p:cNvGrpSpPr/>
          <p:nvPr/>
        </p:nvGrpSpPr>
        <p:grpSpPr>
          <a:xfrm>
            <a:off x="4716360" y="3843360"/>
            <a:ext cx="1508040" cy="213840"/>
            <a:chOff x="4716360" y="3843360"/>
            <a:chExt cx="1508040" cy="213840"/>
          </a:xfrm>
        </p:grpSpPr>
        <p:sp>
          <p:nvSpPr>
            <p:cNvPr id="1028" name=""/>
            <p:cNvSpPr/>
            <p:nvPr/>
          </p:nvSpPr>
          <p:spPr>
            <a:xfrm>
              <a:off x="4716360" y="3843360"/>
              <a:ext cx="0" cy="21384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4716360" y="4047840"/>
              <a:ext cx="1508040" cy="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0" name=""/>
          <p:cNvGrpSpPr/>
          <p:nvPr/>
        </p:nvGrpSpPr>
        <p:grpSpPr>
          <a:xfrm>
            <a:off x="6838920" y="4233960"/>
            <a:ext cx="1297080" cy="563760"/>
            <a:chOff x="6838920" y="4233960"/>
            <a:chExt cx="1297080" cy="563760"/>
          </a:xfrm>
        </p:grpSpPr>
        <p:sp>
          <p:nvSpPr>
            <p:cNvPr id="1031" name=""/>
            <p:cNvSpPr/>
            <p:nvPr/>
          </p:nvSpPr>
          <p:spPr>
            <a:xfrm>
              <a:off x="6838920" y="4233960"/>
              <a:ext cx="1297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FACTURA $1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7128000" y="4521240"/>
              <a:ext cx="718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VEN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3" name=""/>
          <p:cNvGrpSpPr/>
          <p:nvPr/>
        </p:nvGrpSpPr>
        <p:grpSpPr>
          <a:xfrm>
            <a:off x="6675480" y="4313160"/>
            <a:ext cx="1511280" cy="209520"/>
            <a:chOff x="6675480" y="4313160"/>
            <a:chExt cx="1511280" cy="209520"/>
          </a:xfrm>
        </p:grpSpPr>
        <p:sp>
          <p:nvSpPr>
            <p:cNvPr id="1034" name=""/>
            <p:cNvSpPr/>
            <p:nvPr/>
          </p:nvSpPr>
          <p:spPr>
            <a:xfrm>
              <a:off x="6675480" y="4313160"/>
              <a:ext cx="0" cy="20952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6675480" y="4513320"/>
              <a:ext cx="1511280" cy="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6" name=""/>
          <p:cNvGrpSpPr/>
          <p:nvPr/>
        </p:nvGrpSpPr>
        <p:grpSpPr>
          <a:xfrm>
            <a:off x="1187280" y="2187720"/>
            <a:ext cx="7286400" cy="2036160"/>
            <a:chOff x="1187280" y="2187720"/>
            <a:chExt cx="7286400" cy="2036160"/>
          </a:xfrm>
        </p:grpSpPr>
        <p:sp>
          <p:nvSpPr>
            <p:cNvPr id="1037" name=""/>
            <p:cNvSpPr/>
            <p:nvPr/>
          </p:nvSpPr>
          <p:spPr>
            <a:xfrm>
              <a:off x="1187280" y="2525400"/>
              <a:ext cx="727200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8473680" y="2525400"/>
              <a:ext cx="0" cy="16984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2255400" y="2187720"/>
              <a:ext cx="4932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EXPORTACION - MOVIMIENTO FISICO DE LA MERCADERI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0" name=""/>
          <p:cNvSpPr/>
          <p:nvPr/>
        </p:nvSpPr>
        <p:spPr>
          <a:xfrm>
            <a:off x="463680" y="6219720"/>
            <a:ext cx="151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1400" spc="-1" strike="noStrike" u="sng">
                <a:solidFill>
                  <a:srgbClr val="00ff00"/>
                </a:solidFill>
                <a:uFillTx/>
                <a:latin typeface="Times New Roman"/>
              </a:rPr>
              <a:t>FACTURA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>
            <a:off x="1979640" y="6380280"/>
            <a:ext cx="431640" cy="1440"/>
          </a:xfrm>
          <a:prstGeom prst="line">
            <a:avLst/>
          </a:prstGeom>
          <a:ln w="284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>
            <a:off x="2699640" y="6237360"/>
            <a:ext cx="395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1400" spc="-1" strike="noStrike" u="sng">
                <a:solidFill>
                  <a:srgbClr val="ff0000"/>
                </a:solidFill>
                <a:uFillTx/>
                <a:latin typeface="Times New Roman"/>
              </a:rPr>
              <a:t>MOVIMIENTO FÍSICO DE LA MERCAD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"/>
          <p:cNvSpPr/>
          <p:nvPr/>
        </p:nvSpPr>
        <p:spPr>
          <a:xfrm>
            <a:off x="6659640" y="6381720"/>
            <a:ext cx="433440" cy="14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" dur="500"/>
                                        <p:tgtEl>
                                          <p:spTgt spid="10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5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5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5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"/>
          <p:cNvSpPr/>
          <p:nvPr/>
        </p:nvSpPr>
        <p:spPr>
          <a:xfrm>
            <a:off x="437040" y="1486080"/>
            <a:ext cx="28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REFACTUR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5" name=""/>
          <p:cNvGrpSpPr/>
          <p:nvPr/>
        </p:nvGrpSpPr>
        <p:grpSpPr>
          <a:xfrm>
            <a:off x="1371600" y="2198520"/>
            <a:ext cx="7010280" cy="4110120"/>
            <a:chOff x="1371600" y="2198520"/>
            <a:chExt cx="7010280" cy="4110120"/>
          </a:xfrm>
        </p:grpSpPr>
        <p:sp>
          <p:nvSpPr>
            <p:cNvPr id="1046" name=""/>
            <p:cNvSpPr/>
            <p:nvPr/>
          </p:nvSpPr>
          <p:spPr>
            <a:xfrm>
              <a:off x="2439000" y="4243320"/>
              <a:ext cx="120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s-ES" sz="1400" spc="-1" strike="noStrike">
                  <a:solidFill>
                    <a:srgbClr val="ffffff"/>
                  </a:solidFill>
                  <a:latin typeface="Times New Roman"/>
                </a:rPr>
                <a:t>OFF SHO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7" name=""/>
            <p:cNvGrpSpPr/>
            <p:nvPr/>
          </p:nvGrpSpPr>
          <p:grpSpPr>
            <a:xfrm>
              <a:off x="1371600" y="2198520"/>
              <a:ext cx="7010280" cy="4110120"/>
              <a:chOff x="1371600" y="2198520"/>
              <a:chExt cx="7010280" cy="4110120"/>
            </a:xfrm>
          </p:grpSpPr>
          <p:grpSp>
            <p:nvGrpSpPr>
              <p:cNvPr id="1048" name=""/>
              <p:cNvGrpSpPr/>
              <p:nvPr/>
            </p:nvGrpSpPr>
            <p:grpSpPr>
              <a:xfrm>
                <a:off x="1371600" y="2198520"/>
                <a:ext cx="7010280" cy="4110120"/>
                <a:chOff x="1371600" y="2198520"/>
                <a:chExt cx="7010280" cy="4110120"/>
              </a:xfrm>
            </p:grpSpPr>
            <p:pic>
              <p:nvPicPr>
                <p:cNvPr id="1049" name="" descr=""/>
                <p:cNvPicPr/>
                <p:nvPr/>
              </p:nvPicPr>
              <p:blipFill>
                <a:blip r:embed="rId1"/>
                <a:srcRect l="14655" t="4632" r="56898" b="18123"/>
                <a:stretch/>
              </p:blipFill>
              <p:spPr>
                <a:xfrm>
                  <a:off x="1371600" y="2198520"/>
                  <a:ext cx="2514600" cy="41101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50" name="" descr=""/>
                <p:cNvPicPr/>
                <p:nvPr/>
              </p:nvPicPr>
              <p:blipFill>
                <a:blip r:embed="rId2"/>
                <a:srcRect l="42242" t="4632" r="29311" b="18123"/>
                <a:stretch/>
              </p:blipFill>
              <p:spPr>
                <a:xfrm>
                  <a:off x="5867280" y="2198520"/>
                  <a:ext cx="2514600" cy="41101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051" name=""/>
              <p:cNvSpPr/>
              <p:nvPr/>
            </p:nvSpPr>
            <p:spPr>
              <a:xfrm>
                <a:off x="2209680" y="4327200"/>
                <a:ext cx="114480" cy="1065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2679840" y="5601960"/>
                <a:ext cx="7596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53" name=""/>
          <p:cNvGrpSpPr/>
          <p:nvPr/>
        </p:nvGrpSpPr>
        <p:grpSpPr>
          <a:xfrm>
            <a:off x="2705040" y="3870360"/>
            <a:ext cx="3670200" cy="2049120"/>
            <a:chOff x="2705040" y="3870360"/>
            <a:chExt cx="3670200" cy="2049120"/>
          </a:xfrm>
        </p:grpSpPr>
        <p:sp>
          <p:nvSpPr>
            <p:cNvPr id="1054" name=""/>
            <p:cNvSpPr/>
            <p:nvPr/>
          </p:nvSpPr>
          <p:spPr>
            <a:xfrm>
              <a:off x="4079520" y="4937040"/>
              <a:ext cx="1195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Times New Roman"/>
                </a:rPr>
                <a:t>Mercaderí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55" name=""/>
            <p:cNvGrpSpPr/>
            <p:nvPr/>
          </p:nvGrpSpPr>
          <p:grpSpPr>
            <a:xfrm>
              <a:off x="2705040" y="3870360"/>
              <a:ext cx="3670200" cy="2049120"/>
              <a:chOff x="2705040" y="3870360"/>
              <a:chExt cx="3670200" cy="2049120"/>
            </a:xfrm>
          </p:grpSpPr>
          <p:grpSp>
            <p:nvGrpSpPr>
              <p:cNvPr id="1056" name=""/>
              <p:cNvGrpSpPr/>
              <p:nvPr/>
            </p:nvGrpSpPr>
            <p:grpSpPr>
              <a:xfrm>
                <a:off x="2705040" y="3870360"/>
                <a:ext cx="3670200" cy="2049120"/>
                <a:chOff x="2705040" y="3870360"/>
                <a:chExt cx="3670200" cy="2049120"/>
              </a:xfrm>
            </p:grpSpPr>
            <p:sp>
              <p:nvSpPr>
                <p:cNvPr id="1057" name=""/>
                <p:cNvSpPr/>
                <p:nvPr/>
              </p:nvSpPr>
              <p:spPr>
                <a:xfrm>
                  <a:off x="2705040" y="3870360"/>
                  <a:ext cx="3670200" cy="1769760"/>
                </a:xfrm>
                <a:custGeom>
                  <a:avLst/>
                  <a:gdLst/>
                  <a:ahLst/>
                  <a:rect l="l" t="t" r="r" b="b"/>
                  <a:pathLst>
                    <a:path w="2312" h="1115">
                      <a:moveTo>
                        <a:pt x="0" y="1115"/>
                      </a:moveTo>
                      <a:lnTo>
                        <a:pt x="2312" y="0"/>
                      </a:ln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87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8" name=""/>
                <p:cNvSpPr/>
                <p:nvPr/>
              </p:nvSpPr>
              <p:spPr>
                <a:xfrm>
                  <a:off x="2745000" y="5551200"/>
                  <a:ext cx="4093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r>
                    <a:rPr b="1" lang="es-ES" sz="1800" spc="-1" strike="noStrike">
                      <a:solidFill>
                        <a:srgbClr val="ffffff"/>
                      </a:solidFill>
                      <a:latin typeface="Times New Roman"/>
                    </a:rPr>
                    <a:t>10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9" name=""/>
                <p:cNvSpPr/>
                <p:nvPr/>
              </p:nvSpPr>
              <p:spPr>
                <a:xfrm>
                  <a:off x="5869080" y="4103640"/>
                  <a:ext cx="4093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r>
                    <a:rPr b="1" lang="es-ES" sz="1800" spc="-1" strike="noStrike">
                      <a:solidFill>
                        <a:srgbClr val="ffffff"/>
                      </a:solidFill>
                      <a:latin typeface="Times New Roman"/>
                    </a:rPr>
                    <a:t>15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060" name="" descr="Royal-Denship barcos cientificos">
                <a:hlinkClick r:id="rId3"/>
              </p:cNvPr>
              <p:cNvPicPr/>
              <p:nvPr/>
            </p:nvPicPr>
            <p:blipFill>
              <a:blip r:embed="rId4"/>
              <a:stretch/>
            </p:blipFill>
            <p:spPr>
              <a:xfrm>
                <a:off x="4419720" y="4636800"/>
                <a:ext cx="457200" cy="3250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061" name=""/>
          <p:cNvGrpSpPr/>
          <p:nvPr/>
        </p:nvGrpSpPr>
        <p:grpSpPr>
          <a:xfrm>
            <a:off x="1399680" y="4383000"/>
            <a:ext cx="1269000" cy="1450080"/>
            <a:chOff x="1399680" y="4383000"/>
            <a:chExt cx="1269000" cy="1450080"/>
          </a:xfrm>
        </p:grpSpPr>
        <p:pic>
          <p:nvPicPr>
            <p:cNvPr id="1062" name="" descr=""/>
            <p:cNvPicPr/>
            <p:nvPr/>
          </p:nvPicPr>
          <p:blipFill>
            <a:blip r:embed="rId5"/>
            <a:stretch/>
          </p:blipFill>
          <p:spPr>
            <a:xfrm>
              <a:off x="1568520" y="4937040"/>
              <a:ext cx="457200" cy="60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3" name=""/>
            <p:cNvSpPr/>
            <p:nvPr/>
          </p:nvSpPr>
          <p:spPr>
            <a:xfrm>
              <a:off x="1524960" y="5127480"/>
              <a:ext cx="537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Times New Roman"/>
                </a:rPr>
                <a:t>$ 1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2031840" y="4383000"/>
              <a:ext cx="636840" cy="1231920"/>
            </a:xfrm>
            <a:custGeom>
              <a:avLst/>
              <a:gdLst/>
              <a:ahLst/>
              <a:rect l="l" t="t" r="r" b="b"/>
              <a:pathLst>
                <a:path w="401" h="776">
                  <a:moveTo>
                    <a:pt x="401" y="776"/>
                  </a:moveTo>
                  <a:cubicBezTo>
                    <a:pt x="340" y="712"/>
                    <a:pt x="66" y="521"/>
                    <a:pt x="33" y="392"/>
                  </a:cubicBezTo>
                  <a:cubicBezTo>
                    <a:pt x="0" y="263"/>
                    <a:pt x="166" y="82"/>
                    <a:pt x="201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1399680" y="5495760"/>
              <a:ext cx="867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Times New Roman"/>
                </a:rPr>
                <a:t>Factur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6" name=""/>
          <p:cNvGrpSpPr/>
          <p:nvPr/>
        </p:nvGrpSpPr>
        <p:grpSpPr>
          <a:xfrm>
            <a:off x="2362320" y="2943360"/>
            <a:ext cx="4000320" cy="1465200"/>
            <a:chOff x="2362320" y="2943360"/>
            <a:chExt cx="4000320" cy="1465200"/>
          </a:xfrm>
        </p:grpSpPr>
        <p:pic>
          <p:nvPicPr>
            <p:cNvPr id="1067" name="" descr=""/>
            <p:cNvPicPr/>
            <p:nvPr/>
          </p:nvPicPr>
          <p:blipFill>
            <a:blip r:embed="rId6"/>
            <a:stretch/>
          </p:blipFill>
          <p:spPr>
            <a:xfrm>
              <a:off x="3619440" y="3260880"/>
              <a:ext cx="457200" cy="60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8" name=""/>
            <p:cNvSpPr/>
            <p:nvPr/>
          </p:nvSpPr>
          <p:spPr>
            <a:xfrm>
              <a:off x="3576240" y="3451320"/>
              <a:ext cx="537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Times New Roman"/>
                </a:rPr>
                <a:t>$ 1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2362320" y="3768840"/>
              <a:ext cx="4000320" cy="639720"/>
            </a:xfrm>
            <a:custGeom>
              <a:avLst/>
              <a:gdLst/>
              <a:ahLst/>
              <a:rect l="l" t="t" r="r" b="b"/>
              <a:pathLst>
                <a:path w="2520" h="403">
                  <a:moveTo>
                    <a:pt x="2520" y="0"/>
                  </a:moveTo>
                  <a:cubicBezTo>
                    <a:pt x="2232" y="27"/>
                    <a:pt x="1212" y="104"/>
                    <a:pt x="792" y="171"/>
                  </a:cubicBezTo>
                  <a:cubicBezTo>
                    <a:pt x="372" y="238"/>
                    <a:pt x="165" y="355"/>
                    <a:pt x="0" y="403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prstDash val="sysDot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3458520" y="2943360"/>
              <a:ext cx="867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Times New Roman"/>
                </a:rPr>
                <a:t>Factur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1" name=""/>
          <p:cNvSpPr/>
          <p:nvPr/>
        </p:nvSpPr>
        <p:spPr>
          <a:xfrm>
            <a:off x="2034360" y="522360"/>
            <a:ext cx="500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2800" spc="-1" strike="noStrike" u="sng">
                <a:solidFill>
                  <a:srgbClr val="000000"/>
                </a:solidFill>
                <a:uFillTx/>
                <a:latin typeface="Arial"/>
              </a:rPr>
              <a:t>OPERATORIA FISCALIZ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5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89" dur="5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94" dur="500"/>
                                        <p:tgtEl>
                                          <p:spTgt spid="10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99" dur="5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"/>
          <p:cNvSpPr/>
          <p:nvPr/>
        </p:nvSpPr>
        <p:spPr>
          <a:xfrm>
            <a:off x="441360" y="368280"/>
            <a:ext cx="775188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"/>
          <p:cNvSpPr/>
          <p:nvPr/>
        </p:nvSpPr>
        <p:spPr>
          <a:xfrm>
            <a:off x="1773720" y="598320"/>
            <a:ext cx="611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AR" sz="2800" spc="-1" strike="noStrike" u="sng">
                <a:solidFill>
                  <a:srgbClr val="000000"/>
                </a:solidFill>
                <a:uFillTx/>
                <a:latin typeface="Arial"/>
              </a:rPr>
              <a:t>OTRA OPERATORIA FISCALIZ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4" name=""/>
          <p:cNvGrpSpPr/>
          <p:nvPr/>
        </p:nvGrpSpPr>
        <p:grpSpPr>
          <a:xfrm>
            <a:off x="1587600" y="1668600"/>
            <a:ext cx="7010280" cy="4109760"/>
            <a:chOff x="1587600" y="1668600"/>
            <a:chExt cx="7010280" cy="4109760"/>
          </a:xfrm>
        </p:grpSpPr>
        <p:pic>
          <p:nvPicPr>
            <p:cNvPr id="1075" name="" descr=""/>
            <p:cNvPicPr/>
            <p:nvPr/>
          </p:nvPicPr>
          <p:blipFill>
            <a:blip r:embed="rId1"/>
            <a:srcRect l="14655" t="4632" r="56898" b="18123"/>
            <a:stretch/>
          </p:blipFill>
          <p:spPr>
            <a:xfrm>
              <a:off x="1587600" y="1668600"/>
              <a:ext cx="2514600" cy="4109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6" name="" descr=""/>
            <p:cNvPicPr/>
            <p:nvPr/>
          </p:nvPicPr>
          <p:blipFill>
            <a:blip r:embed="rId2"/>
            <a:srcRect l="42242" t="4632" r="29311" b="18123"/>
            <a:stretch/>
          </p:blipFill>
          <p:spPr>
            <a:xfrm>
              <a:off x="6083280" y="1668600"/>
              <a:ext cx="2514600" cy="410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7" name=""/>
            <p:cNvSpPr/>
            <p:nvPr/>
          </p:nvSpPr>
          <p:spPr>
            <a:xfrm>
              <a:off x="2425680" y="3796920"/>
              <a:ext cx="15264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2895840" y="5071680"/>
              <a:ext cx="7596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2654280" y="5397120"/>
              <a:ext cx="7632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3002040" y="40255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1" name=""/>
          <p:cNvSpPr/>
          <p:nvPr/>
        </p:nvSpPr>
        <p:spPr>
          <a:xfrm>
            <a:off x="315360" y="1531800"/>
            <a:ext cx="461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400" spc="-1" strike="noStrike" u="sng">
                <a:solidFill>
                  <a:srgbClr val="ffffff"/>
                </a:solidFill>
                <a:uFillTx/>
                <a:latin typeface="Arial"/>
              </a:rPr>
              <a:t>REFACTRUACIÓN COMPLE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2" name=""/>
          <p:cNvGrpSpPr/>
          <p:nvPr/>
        </p:nvGrpSpPr>
        <p:grpSpPr>
          <a:xfrm>
            <a:off x="1123560" y="3672000"/>
            <a:ext cx="1822320" cy="1640880"/>
            <a:chOff x="1123560" y="3672000"/>
            <a:chExt cx="1822320" cy="1640880"/>
          </a:xfrm>
        </p:grpSpPr>
        <p:grpSp>
          <p:nvGrpSpPr>
            <p:cNvPr id="1083" name=""/>
            <p:cNvGrpSpPr/>
            <p:nvPr/>
          </p:nvGrpSpPr>
          <p:grpSpPr>
            <a:xfrm>
              <a:off x="1130040" y="4178520"/>
              <a:ext cx="1066320" cy="1134360"/>
              <a:chOff x="1130040" y="4178520"/>
              <a:chExt cx="1066320" cy="1134360"/>
            </a:xfrm>
          </p:grpSpPr>
          <p:pic>
            <p:nvPicPr>
              <p:cNvPr id="1084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1440720" y="4178520"/>
                <a:ext cx="456840" cy="608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5" name=""/>
              <p:cNvSpPr/>
              <p:nvPr/>
            </p:nvSpPr>
            <p:spPr>
              <a:xfrm>
                <a:off x="1396800" y="4368960"/>
                <a:ext cx="589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1" lang="es-ES" sz="1600" spc="-1" strike="noStrike">
                    <a:solidFill>
                      <a:srgbClr val="000000"/>
                    </a:solidFill>
                    <a:latin typeface="Times New Roman"/>
                  </a:rPr>
                  <a:t>$10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1130040" y="4762440"/>
                <a:ext cx="1066320" cy="55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1" lang="es-ES" sz="1500" spc="-1" strike="noStrike">
                    <a:solidFill>
                      <a:srgbClr val="000000"/>
                    </a:solidFill>
                    <a:latin typeface="Times New Roman"/>
                  </a:rPr>
                  <a:t>Vende empresa A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7" name=""/>
            <p:cNvSpPr/>
            <p:nvPr/>
          </p:nvSpPr>
          <p:spPr>
            <a:xfrm>
              <a:off x="2131920" y="3936960"/>
              <a:ext cx="813960" cy="1181160"/>
            </a:xfrm>
            <a:custGeom>
              <a:avLst/>
              <a:gdLst/>
              <a:ahLst/>
              <a:rect l="l" t="t" r="r" b="b"/>
              <a:pathLst>
                <a:path w="513" h="744">
                  <a:moveTo>
                    <a:pt x="513" y="744"/>
                  </a:moveTo>
                  <a:cubicBezTo>
                    <a:pt x="460" y="732"/>
                    <a:pt x="274" y="723"/>
                    <a:pt x="193" y="672"/>
                  </a:cubicBezTo>
                  <a:cubicBezTo>
                    <a:pt x="112" y="621"/>
                    <a:pt x="50" y="520"/>
                    <a:pt x="25" y="440"/>
                  </a:cubicBezTo>
                  <a:cubicBezTo>
                    <a:pt x="0" y="360"/>
                    <a:pt x="14" y="265"/>
                    <a:pt x="41" y="192"/>
                  </a:cubicBezTo>
                  <a:cubicBezTo>
                    <a:pt x="68" y="119"/>
                    <a:pt x="155" y="40"/>
                    <a:pt x="185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1123560" y="3672000"/>
              <a:ext cx="1495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Times New Roman"/>
                </a:rPr>
                <a:t>OFF SHORE 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9" name=""/>
          <p:cNvGrpSpPr/>
          <p:nvPr/>
        </p:nvGrpSpPr>
        <p:grpSpPr>
          <a:xfrm>
            <a:off x="2286000" y="2425680"/>
            <a:ext cx="2204640" cy="1812240"/>
            <a:chOff x="2286000" y="2425680"/>
            <a:chExt cx="2204640" cy="1812240"/>
          </a:xfrm>
        </p:grpSpPr>
        <p:pic>
          <p:nvPicPr>
            <p:cNvPr id="1090" name="" descr=""/>
            <p:cNvPicPr/>
            <p:nvPr/>
          </p:nvPicPr>
          <p:blipFill>
            <a:blip r:embed="rId4"/>
            <a:stretch/>
          </p:blipFill>
          <p:spPr>
            <a:xfrm>
              <a:off x="2589120" y="2946600"/>
              <a:ext cx="456840" cy="60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1" name=""/>
            <p:cNvSpPr/>
            <p:nvPr/>
          </p:nvSpPr>
          <p:spPr>
            <a:xfrm>
              <a:off x="2544840" y="3137040"/>
              <a:ext cx="589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Times New Roman"/>
                </a:rPr>
                <a:t>$12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2286000" y="2425680"/>
              <a:ext cx="11300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Times New Roman"/>
                </a:rPr>
                <a:t>Factura Off Shore 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2994840" y="3900600"/>
              <a:ext cx="1495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Times New Roman"/>
                </a:rPr>
                <a:t>OFF SHORE 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2577960" y="3716280"/>
              <a:ext cx="610560" cy="373320"/>
            </a:xfrm>
            <a:custGeom>
              <a:avLst/>
              <a:gdLst/>
              <a:ahLst/>
              <a:rect l="l" t="t" r="r" b="b"/>
              <a:pathLst>
                <a:path w="385" h="235">
                  <a:moveTo>
                    <a:pt x="0" y="43"/>
                  </a:moveTo>
                  <a:cubicBezTo>
                    <a:pt x="28" y="34"/>
                    <a:pt x="115" y="0"/>
                    <a:pt x="168" y="3"/>
                  </a:cubicBezTo>
                  <a:cubicBezTo>
                    <a:pt x="221" y="6"/>
                    <a:pt x="284" y="39"/>
                    <a:pt x="320" y="59"/>
                  </a:cubicBezTo>
                  <a:cubicBezTo>
                    <a:pt x="356" y="79"/>
                    <a:pt x="383" y="94"/>
                    <a:pt x="384" y="123"/>
                  </a:cubicBezTo>
                  <a:cubicBezTo>
                    <a:pt x="385" y="152"/>
                    <a:pt x="340" y="212"/>
                    <a:pt x="328" y="235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5" name=""/>
          <p:cNvGrpSpPr/>
          <p:nvPr/>
        </p:nvGrpSpPr>
        <p:grpSpPr>
          <a:xfrm>
            <a:off x="2705040" y="3263760"/>
            <a:ext cx="3911760" cy="2328120"/>
            <a:chOff x="2705040" y="3263760"/>
            <a:chExt cx="3911760" cy="2328120"/>
          </a:xfrm>
        </p:grpSpPr>
        <p:sp>
          <p:nvSpPr>
            <p:cNvPr id="1096" name=""/>
            <p:cNvSpPr/>
            <p:nvPr/>
          </p:nvSpPr>
          <p:spPr>
            <a:xfrm>
              <a:off x="2705040" y="5094000"/>
              <a:ext cx="3759480" cy="328680"/>
            </a:xfrm>
            <a:custGeom>
              <a:avLst/>
              <a:gdLst/>
              <a:ahLst/>
              <a:rect l="l" t="t" r="r" b="b"/>
              <a:pathLst>
                <a:path w="2368" h="207">
                  <a:moveTo>
                    <a:pt x="0" y="207"/>
                  </a:moveTo>
                  <a:lnTo>
                    <a:pt x="2368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"/>
            <p:cNvSpPr/>
            <p:nvPr/>
          </p:nvSpPr>
          <p:spPr>
            <a:xfrm flipV="1">
              <a:off x="6464520" y="3263760"/>
              <a:ext cx="152280" cy="182880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8" name=""/>
            <p:cNvGrpSpPr/>
            <p:nvPr/>
          </p:nvGrpSpPr>
          <p:grpSpPr>
            <a:xfrm>
              <a:off x="5461200" y="4457520"/>
              <a:ext cx="1066680" cy="1134360"/>
              <a:chOff x="5461200" y="4457520"/>
              <a:chExt cx="1066680" cy="1134360"/>
            </a:xfrm>
          </p:grpSpPr>
          <p:pic>
            <p:nvPicPr>
              <p:cNvPr id="1099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5772240" y="4457520"/>
                <a:ext cx="457200" cy="608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0" name=""/>
              <p:cNvSpPr/>
              <p:nvPr/>
            </p:nvSpPr>
            <p:spPr>
              <a:xfrm>
                <a:off x="5728320" y="4647960"/>
                <a:ext cx="589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1" lang="es-ES" sz="1600" spc="-1" strike="noStrike">
                    <a:solidFill>
                      <a:srgbClr val="000000"/>
                    </a:solidFill>
                    <a:latin typeface="Times New Roman"/>
                  </a:rPr>
                  <a:t>$14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>
                <a:off x="5461200" y="5041440"/>
                <a:ext cx="1066680" cy="55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1" lang="es-ES" sz="1500" spc="-1" strike="noStrike">
                    <a:solidFill>
                      <a:srgbClr val="000000"/>
                    </a:solidFill>
                    <a:latin typeface="Times New Roman"/>
                  </a:rPr>
                  <a:t>Vende empresa B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02" name=""/>
          <p:cNvGrpSpPr/>
          <p:nvPr/>
        </p:nvGrpSpPr>
        <p:grpSpPr>
          <a:xfrm>
            <a:off x="2057760" y="2986200"/>
            <a:ext cx="3090960" cy="3465000"/>
            <a:chOff x="2057760" y="2986200"/>
            <a:chExt cx="3090960" cy="3465000"/>
          </a:xfrm>
        </p:grpSpPr>
        <p:grpSp>
          <p:nvGrpSpPr>
            <p:cNvPr id="1103" name=""/>
            <p:cNvGrpSpPr/>
            <p:nvPr/>
          </p:nvGrpSpPr>
          <p:grpSpPr>
            <a:xfrm>
              <a:off x="2679840" y="2986200"/>
              <a:ext cx="2468880" cy="3465000"/>
              <a:chOff x="2679840" y="2986200"/>
              <a:chExt cx="2468880" cy="3465000"/>
            </a:xfrm>
          </p:grpSpPr>
          <p:sp>
            <p:nvSpPr>
              <p:cNvPr id="1104" name=""/>
              <p:cNvSpPr/>
              <p:nvPr/>
            </p:nvSpPr>
            <p:spPr>
              <a:xfrm>
                <a:off x="2679840" y="3492720"/>
                <a:ext cx="1299960" cy="1942920"/>
              </a:xfrm>
              <a:custGeom>
                <a:avLst/>
                <a:gdLst/>
                <a:ahLst/>
                <a:rect l="l" t="t" r="r" b="b"/>
                <a:pathLst>
                  <a:path w="819" h="1224">
                    <a:moveTo>
                      <a:pt x="768" y="0"/>
                    </a:moveTo>
                    <a:cubicBezTo>
                      <a:pt x="775" y="81"/>
                      <a:pt x="813" y="357"/>
                      <a:pt x="816" y="488"/>
                    </a:cubicBezTo>
                    <a:cubicBezTo>
                      <a:pt x="819" y="619"/>
                      <a:pt x="812" y="679"/>
                      <a:pt x="784" y="784"/>
                    </a:cubicBezTo>
                    <a:cubicBezTo>
                      <a:pt x="756" y="889"/>
                      <a:pt x="779" y="1047"/>
                      <a:pt x="648" y="1120"/>
                    </a:cubicBezTo>
                    <a:cubicBezTo>
                      <a:pt x="517" y="1193"/>
                      <a:pt x="135" y="1202"/>
                      <a:pt x="0" y="1224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prstDash val="sysDot"/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3124440" y="3363840"/>
                <a:ext cx="685800" cy="636840"/>
              </a:xfrm>
              <a:custGeom>
                <a:avLst/>
                <a:gdLst/>
                <a:ahLst/>
                <a:rect l="l" t="t" r="r" b="b"/>
                <a:pathLst>
                  <a:path w="432" h="401">
                    <a:moveTo>
                      <a:pt x="0" y="401"/>
                    </a:moveTo>
                    <a:cubicBezTo>
                      <a:pt x="7" y="361"/>
                      <a:pt x="11" y="222"/>
                      <a:pt x="40" y="161"/>
                    </a:cubicBezTo>
                    <a:cubicBezTo>
                      <a:pt x="69" y="100"/>
                      <a:pt x="128" y="58"/>
                      <a:pt x="176" y="33"/>
                    </a:cubicBezTo>
                    <a:cubicBezTo>
                      <a:pt x="224" y="8"/>
                      <a:pt x="285" y="0"/>
                      <a:pt x="328" y="9"/>
                    </a:cubicBezTo>
                    <a:cubicBezTo>
                      <a:pt x="371" y="18"/>
                      <a:pt x="410" y="72"/>
                      <a:pt x="432" y="89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prstDash val="sysDot"/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 flipV="1">
                <a:off x="3645000" y="3264120"/>
                <a:ext cx="380880" cy="38088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 flipV="1">
                <a:off x="3721320" y="3339720"/>
                <a:ext cx="380880" cy="38124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 flipV="1">
                <a:off x="3683160" y="3302280"/>
                <a:ext cx="380880" cy="38088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>
                <a:off x="3404520" y="2986200"/>
                <a:ext cx="1744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1" lang="es-ES" sz="1600" spc="-1" strike="noStrike">
                    <a:solidFill>
                      <a:srgbClr val="000000"/>
                    </a:solidFill>
                    <a:latin typeface="Times New Roman"/>
                  </a:rPr>
                  <a:t>OFF SHORE “N”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10" name=""/>
              <p:cNvGrpSpPr/>
              <p:nvPr/>
            </p:nvGrpSpPr>
            <p:grpSpPr>
              <a:xfrm>
                <a:off x="3187800" y="5286600"/>
                <a:ext cx="1600200" cy="1164600"/>
                <a:chOff x="3187800" y="5286600"/>
                <a:chExt cx="1600200" cy="1164600"/>
              </a:xfrm>
            </p:grpSpPr>
            <p:pic>
              <p:nvPicPr>
                <p:cNvPr id="1111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3727440" y="5286600"/>
                  <a:ext cx="457200" cy="6080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12" name=""/>
                <p:cNvSpPr/>
                <p:nvPr/>
              </p:nvSpPr>
              <p:spPr>
                <a:xfrm>
                  <a:off x="3683520" y="5477040"/>
                  <a:ext cx="5893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r>
                    <a:rPr b="1" lang="es-ES" sz="1600" spc="-1" strike="noStrike">
                      <a:solidFill>
                        <a:srgbClr val="000000"/>
                      </a:solidFill>
                      <a:latin typeface="Times New Roman"/>
                    </a:rPr>
                    <a:t>$160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3" name=""/>
                <p:cNvSpPr/>
                <p:nvPr/>
              </p:nvSpPr>
              <p:spPr>
                <a:xfrm>
                  <a:off x="3187800" y="5870520"/>
                  <a:ext cx="1600200" cy="58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r>
                    <a:rPr b="1" lang="es-ES" sz="1600" spc="-1" strike="noStrike">
                      <a:solidFill>
                        <a:srgbClr val="000000"/>
                      </a:solidFill>
                      <a:latin typeface="Times New Roman"/>
                    </a:rPr>
                    <a:t>Compra empresa 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14" name=""/>
            <p:cNvSpPr/>
            <p:nvPr/>
          </p:nvSpPr>
          <p:spPr>
            <a:xfrm>
              <a:off x="2057760" y="5435640"/>
              <a:ext cx="1145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Times New Roman"/>
                </a:rPr>
                <a:t>Empresa 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5" name=""/>
          <p:cNvGrpSpPr/>
          <p:nvPr/>
        </p:nvGrpSpPr>
        <p:grpSpPr>
          <a:xfrm>
            <a:off x="2921040" y="2933640"/>
            <a:ext cx="3656520" cy="2171880"/>
            <a:chOff x="2921040" y="2933640"/>
            <a:chExt cx="3656520" cy="2171880"/>
          </a:xfrm>
        </p:grpSpPr>
        <p:grpSp>
          <p:nvGrpSpPr>
            <p:cNvPr id="1116" name=""/>
            <p:cNvGrpSpPr/>
            <p:nvPr/>
          </p:nvGrpSpPr>
          <p:grpSpPr>
            <a:xfrm>
              <a:off x="2921040" y="3111480"/>
              <a:ext cx="3619440" cy="1994040"/>
              <a:chOff x="2921040" y="3111480"/>
              <a:chExt cx="3619440" cy="1994040"/>
            </a:xfrm>
          </p:grpSpPr>
          <p:sp>
            <p:nvSpPr>
              <p:cNvPr id="1117" name=""/>
              <p:cNvSpPr/>
              <p:nvPr/>
            </p:nvSpPr>
            <p:spPr>
              <a:xfrm>
                <a:off x="5121000" y="3111480"/>
                <a:ext cx="11955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1" lang="es-ES" sz="1600" spc="-1" strike="noStrike">
                    <a:solidFill>
                      <a:srgbClr val="000000"/>
                    </a:solidFill>
                    <a:latin typeface="Times New Roman"/>
                  </a:rPr>
                  <a:t>Mercaderí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18" name="" descr="Royal-Denship barcos cientificos">
                <a:hlinkClick r:id="rId7"/>
              </p:cNvPr>
              <p:cNvPicPr/>
              <p:nvPr/>
            </p:nvPicPr>
            <p:blipFill>
              <a:blip r:embed="rId8"/>
              <a:stretch/>
            </p:blipFill>
            <p:spPr>
              <a:xfrm>
                <a:off x="4788000" y="3416400"/>
                <a:ext cx="609480" cy="433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9" name=""/>
              <p:cNvSpPr/>
              <p:nvPr/>
            </p:nvSpPr>
            <p:spPr>
              <a:xfrm>
                <a:off x="2921040" y="3264120"/>
                <a:ext cx="3619440" cy="1841400"/>
              </a:xfrm>
              <a:custGeom>
                <a:avLst/>
                <a:gdLst/>
                <a:ahLst/>
                <a:rect l="l" t="t" r="r" b="b"/>
                <a:pathLst>
                  <a:path w="2280" h="1160">
                    <a:moveTo>
                      <a:pt x="0" y="1160"/>
                    </a:moveTo>
                    <a:lnTo>
                      <a:pt x="2280" y="0"/>
                    </a:lnTo>
                  </a:path>
                </a:pathLst>
              </a:custGeom>
              <a:noFill/>
              <a:ln w="5724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20" name=""/>
            <p:cNvSpPr/>
            <p:nvPr/>
          </p:nvSpPr>
          <p:spPr>
            <a:xfrm>
              <a:off x="3029760" y="4572000"/>
              <a:ext cx="487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Times New Roman"/>
                </a:rPr>
                <a:t>10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6090480" y="2933640"/>
              <a:ext cx="487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Times New Roman"/>
                </a:rPr>
                <a:t>14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" dur="500"/>
                                        <p:tgtEl>
                                          <p:spTgt spid="10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11" dur="500"/>
                                        <p:tgtEl>
                                          <p:spTgt spid="10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16" dur="500"/>
                                        <p:tgtEl>
                                          <p:spTgt spid="10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21" dur="500"/>
                                        <p:tgtEl>
                                          <p:spTgt spid="1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26" dur="500"/>
                                        <p:tgtEl>
                                          <p:spTgt spid="10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31" dur="500"/>
                                        <p:tgtEl>
                                          <p:spTgt spid="1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"/>
          <p:cNvSpPr/>
          <p:nvPr/>
        </p:nvSpPr>
        <p:spPr>
          <a:xfrm>
            <a:off x="900000" y="395280"/>
            <a:ext cx="77518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7000"/>
              </a:lnSpc>
              <a:spcBef>
                <a:spcPts val="17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800" spc="-1" strike="noStrike" u="sng">
                <a:solidFill>
                  <a:srgbClr val="000000"/>
                </a:solidFill>
                <a:uFillTx/>
                <a:latin typeface="Arial"/>
              </a:rPr>
              <a:t>6TO. MÉTODO – FECHA D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7000"/>
              </a:lnSpc>
              <a:spcBef>
                <a:spcPts val="17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800" spc="-1" strike="noStrike" u="sng">
                <a:solidFill>
                  <a:srgbClr val="000000"/>
                </a:solidFill>
                <a:uFillTx/>
                <a:latin typeface="Arial"/>
              </a:rPr>
              <a:t>EMBARQUE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3" name=""/>
          <p:cNvGrpSpPr/>
          <p:nvPr/>
        </p:nvGrpSpPr>
        <p:grpSpPr>
          <a:xfrm>
            <a:off x="684360" y="2205000"/>
            <a:ext cx="7939800" cy="1512360"/>
            <a:chOff x="684360" y="2205000"/>
            <a:chExt cx="7939800" cy="1512360"/>
          </a:xfrm>
        </p:grpSpPr>
        <p:grpSp>
          <p:nvGrpSpPr>
            <p:cNvPr id="1124" name=""/>
            <p:cNvGrpSpPr/>
            <p:nvPr/>
          </p:nvGrpSpPr>
          <p:grpSpPr>
            <a:xfrm>
              <a:off x="1714680" y="2583000"/>
              <a:ext cx="6909480" cy="1134360"/>
              <a:chOff x="1714680" y="2583000"/>
              <a:chExt cx="6909480" cy="1134360"/>
            </a:xfrm>
          </p:grpSpPr>
          <p:sp>
            <p:nvSpPr>
              <p:cNvPr id="1125" name=""/>
              <p:cNvSpPr/>
              <p:nvPr/>
            </p:nvSpPr>
            <p:spPr>
              <a:xfrm>
                <a:off x="1714680" y="2583000"/>
                <a:ext cx="6909480" cy="1134360"/>
              </a:xfrm>
              <a:prstGeom prst="roundRect">
                <a:avLst>
                  <a:gd name="adj" fmla="val 16810"/>
                </a:avLst>
              </a:prstGeom>
              <a:solidFill>
                <a:srgbClr val="000000"/>
              </a:solidFill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>
                <a:off x="1765800" y="2714040"/>
                <a:ext cx="6807240" cy="85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>
                  <a:lnSpc>
                    <a:spcPct val="93000"/>
                  </a:lnSpc>
                  <a:spcBef>
                    <a:spcPts val="561"/>
                  </a:spcBef>
                  <a:spcAft>
                    <a:spcPts val="451"/>
                  </a:spcAft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ffffff"/>
                    </a:solidFill>
                    <a:latin typeface="Frutiger-Bold"/>
                  </a:rPr>
                  <a:t>EMPRESAS CONSIDERABAN COMO COMPARABLE EL PRECIO DE MERCADO DEL COMMODITIE A FECHA DE CONTRAT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27" name=""/>
            <p:cNvSpPr/>
            <p:nvPr/>
          </p:nvSpPr>
          <p:spPr>
            <a:xfrm flipV="1">
              <a:off x="684360" y="2205000"/>
              <a:ext cx="1030320" cy="1232640"/>
            </a:xfrm>
            <a:custGeom>
              <a:avLst/>
              <a:gdLst>
                <a:gd name="textAreaLeft" fmla="*/ 0 w 1030320"/>
                <a:gd name="textAreaRight" fmla="*/ 1030680 w 1030320"/>
                <a:gd name="textAreaTop" fmla="*/ 360 h 1232640"/>
                <a:gd name="textAreaBottom" fmla="*/ 1233360 h 1232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260" stAng="10800000" swAng="5400000"/>
                  <a:lnTo>
                    <a:pt x="15100" y="2900"/>
                  </a:lnTo>
                  <a:lnTo>
                    <a:pt x="15100" y="0"/>
                  </a:lnTo>
                  <a:lnTo>
                    <a:pt x="21600" y="6079"/>
                  </a:lnTo>
                  <a:lnTo>
                    <a:pt x="15100" y="12158"/>
                  </a:lnTo>
                  <a:lnTo>
                    <a:pt x="15100" y="9258"/>
                  </a:lnTo>
                  <a:lnTo>
                    <a:pt x="12427" y="9258"/>
                  </a:lnTo>
                  <a:arcTo wR="6069" hR="2902" stAng="16200000" swAng="-5400000"/>
                  <a:lnTo>
                    <a:pt x="6358" y="216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8" name=""/>
          <p:cNvGrpSpPr/>
          <p:nvPr/>
        </p:nvGrpSpPr>
        <p:grpSpPr>
          <a:xfrm>
            <a:off x="682560" y="2708280"/>
            <a:ext cx="7921080" cy="2736000"/>
            <a:chOff x="682560" y="2708280"/>
            <a:chExt cx="7921080" cy="2736000"/>
          </a:xfrm>
        </p:grpSpPr>
        <p:grpSp>
          <p:nvGrpSpPr>
            <p:cNvPr id="1129" name=""/>
            <p:cNvGrpSpPr/>
            <p:nvPr/>
          </p:nvGrpSpPr>
          <p:grpSpPr>
            <a:xfrm>
              <a:off x="1712880" y="4286160"/>
              <a:ext cx="6890760" cy="1158120"/>
              <a:chOff x="1712880" y="4286160"/>
              <a:chExt cx="6890760" cy="1158120"/>
            </a:xfrm>
          </p:grpSpPr>
          <p:sp>
            <p:nvSpPr>
              <p:cNvPr id="1130" name=""/>
              <p:cNvSpPr/>
              <p:nvPr/>
            </p:nvSpPr>
            <p:spPr>
              <a:xfrm>
                <a:off x="1712880" y="4286160"/>
                <a:ext cx="6890760" cy="1158120"/>
              </a:xfrm>
              <a:prstGeom prst="roundRect">
                <a:avLst>
                  <a:gd name="adj" fmla="val 16593"/>
                </a:avLst>
              </a:prstGeom>
              <a:solidFill>
                <a:srgbClr val="000000"/>
              </a:solidFill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>
                <a:off x="1763640" y="4562640"/>
                <a:ext cx="6788880" cy="602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>
                  <a:lnSpc>
                    <a:spcPct val="93000"/>
                  </a:lnSpc>
                  <a:spcBef>
                    <a:spcPts val="561"/>
                  </a:spcBef>
                  <a:spcAft>
                    <a:spcPts val="451"/>
                  </a:spcAft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ffffff"/>
                    </a:solidFill>
                    <a:latin typeface="Frutiger-Bold"/>
                  </a:rPr>
                  <a:t>EL VALOR DE LA EXPORTACION COINCIDÍA CON EL PRECIO DEL MERCADO A FECHA DE CONTRAT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2" name=""/>
            <p:cNvGrpSpPr/>
            <p:nvPr/>
          </p:nvGrpSpPr>
          <p:grpSpPr>
            <a:xfrm>
              <a:off x="682560" y="2708280"/>
              <a:ext cx="1029960" cy="2527200"/>
              <a:chOff x="682560" y="2708280"/>
              <a:chExt cx="1029960" cy="2527200"/>
            </a:xfrm>
          </p:grpSpPr>
          <p:sp>
            <p:nvSpPr>
              <p:cNvPr id="1133" name=""/>
              <p:cNvSpPr/>
              <p:nvPr/>
            </p:nvSpPr>
            <p:spPr>
              <a:xfrm flipV="1">
                <a:off x="682560" y="3866040"/>
                <a:ext cx="1029960" cy="1369440"/>
              </a:xfrm>
              <a:custGeom>
                <a:avLst/>
                <a:gdLst>
                  <a:gd name="textAreaLeft" fmla="*/ 0 w 1029960"/>
                  <a:gd name="textAreaRight" fmla="*/ 1030320 w 1029960"/>
                  <a:gd name="textAreaTop" fmla="*/ 360 h 1369440"/>
                  <a:gd name="textAreaBottom" fmla="*/ 1370160 h 13694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lnTo>
                      <a:pt x="0" y="12160"/>
                    </a:lnTo>
                    <a:arcTo wR="12427" hR="9260" stAng="10800000" swAng="5400000"/>
                    <a:lnTo>
                      <a:pt x="15100" y="2900"/>
                    </a:lnTo>
                    <a:lnTo>
                      <a:pt x="15100" y="0"/>
                    </a:lnTo>
                    <a:lnTo>
                      <a:pt x="21600" y="6079"/>
                    </a:lnTo>
                    <a:lnTo>
                      <a:pt x="15100" y="12158"/>
                    </a:lnTo>
                    <a:lnTo>
                      <a:pt x="15100" y="9258"/>
                    </a:lnTo>
                    <a:lnTo>
                      <a:pt x="12427" y="9258"/>
                    </a:lnTo>
                    <a:arcTo wR="6069" hR="2902" stAng="16200000" swAng="-5400000"/>
                    <a:lnTo>
                      <a:pt x="6358" y="216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>
                <a:off x="682560" y="2708280"/>
                <a:ext cx="315720" cy="1369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35" name=""/>
          <p:cNvGrpSpPr/>
          <p:nvPr/>
        </p:nvGrpSpPr>
        <p:grpSpPr>
          <a:xfrm>
            <a:off x="250920" y="1484280"/>
            <a:ext cx="8476560" cy="732960"/>
            <a:chOff x="250920" y="1484280"/>
            <a:chExt cx="8476560" cy="732960"/>
          </a:xfrm>
        </p:grpSpPr>
        <p:sp>
          <p:nvSpPr>
            <p:cNvPr id="1136" name=""/>
            <p:cNvSpPr/>
            <p:nvPr/>
          </p:nvSpPr>
          <p:spPr>
            <a:xfrm>
              <a:off x="250920" y="1484280"/>
              <a:ext cx="8476560" cy="732960"/>
            </a:xfrm>
            <a:prstGeom prst="roundRect">
              <a:avLst>
                <a:gd name="adj" fmla="val 16764"/>
              </a:avLst>
            </a:prstGeom>
            <a:solidFill>
              <a:srgbClr val="000000"/>
            </a:solidFill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331920" y="1621800"/>
              <a:ext cx="83221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ff"/>
                  </a:solidFill>
                  <a:latin typeface="Frutiger-Bold"/>
                </a:rPr>
                <a:t>4- JUSTIFICACIÓNN DE PRECIOS DE TRANSFERENCI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ecilia</cp:lastModifiedBy>
  <dcterms:modified xsi:type="dcterms:W3CDTF">2013-07-18T15:54:14Z</dcterms:modified>
  <cp:revision>168</cp:revision>
  <dc:subject/>
  <dc:title>Diapositiva 1</dc:title>
</cp:coreProperties>
</file>