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dt" idx="17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18"/>
          </p:nvPr>
        </p:nvSpPr>
        <p:spPr>
          <a:xfrm>
            <a:off x="384948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2FC9A-1AED-4871-BD52-221A3E1653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878C-BBF6-4F8A-94BE-115C5344E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A0EA-5AB8-4998-833E-7D960AE653C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2BE1-7672-4104-8BE1-43A04632185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EB7EA-1C0B-4CFA-BD66-D9FDA01618F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E843F-1544-4F55-B488-A89225D4142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0B06-2E9E-433B-ADD6-7F3F93D21CE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EEFB8-9ED3-437E-8E64-18AE3B77CE8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89D2-E8EB-4FF6-AD02-27ABFA72AFD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DA29E-1F72-43A8-88A6-E092C452F4C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AA6E8-5201-4C7F-A9C6-A8F5B5FC3D9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C072D-247A-42B7-9337-D9307F00DCC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D5219-C101-4FC0-A596-A38FF2516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542E-053D-42F7-BD10-D07782ECF06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DCAB02-2EE1-4EF0-8464-C82A6AC373F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0E5E74-B021-4DF5-AEC2-32D545006B6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A16B83-D816-47D4-9F61-0A21E2C8157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33309-858D-44C2-BB86-D01D5B8BC4B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B5CC90-35E6-4242-9FAF-ACDAFDE78F8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99ED39-2A0B-4F9E-A415-B522A33114F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AB6BFD-47CC-4202-AC0C-5B2BD82B38A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72F036-EF2D-4F02-9094-B03E67E3DDE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7ACA1F-DA9D-4E45-B701-03DD2C87B36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C96FF9-1441-4F06-A327-28BE9A5A8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6263-94F0-4878-B9B8-498A1510037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F5C6C2-F76B-42E0-9F99-31A6B15F888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DCB65F-E6FC-4150-AF6D-194E978A418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56F60-C9F0-4F4D-8FE5-318269BDF3D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1178C-0F54-4ECF-9663-08EF1689651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CB0329-56C2-4246-BF8A-F900C4578D9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BBC15-2DAA-4CDE-85CE-DB5AEAEDC78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F376F-B5CA-4CD2-9EC1-639B9C9FA67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1610B0-6AE3-4DCC-8B71-CF25A9B629D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E31101-FA49-4D04-B041-A14303C119E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EBC36-000E-4EA8-BC9F-81983D305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041B-03A8-4371-8D7B-6BB9418B44C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DDE203-2F28-401B-8BDC-0A3749FB97C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460A3B-BB0D-4EAA-BFFE-EF1591A81C1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587DBB-4365-41E3-9D18-D5C88EF8EE9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31DFC-B486-46DC-8300-77EABF2E025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6D910-45D9-4E1E-990C-E76F78EB613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8B15F-3E50-438F-8BB4-3FFAE769FA1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623BF-6222-41AB-94DB-87F959533F1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36BE4-D1F8-42CC-A763-47B5FF03EE2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D5186-58A5-408D-851B-DBA951FF7BA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52972-415A-4565-B2E1-9BC3B86C59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CB9E-D0C7-43E9-B15B-B33482CC4AF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4D59F-D99D-4A73-85AC-5DBD6CFA881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6475E-B97B-43C9-A5E6-01E9B9AC360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97ECF-54FB-4A89-9B55-FE41FE6FFF8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39E34-3094-471C-820C-2CAAA0BDD17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A006C-0237-44E1-9A6D-7208C261BF8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B63A10-22A9-4F53-8AAA-B440BCAC8B0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C24E3A-A71D-4590-8E62-2703C2584DD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9D132B-54DA-456C-A4CC-406321C1D1F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1E519F-E3B6-4218-B568-1121CF3F783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7CD827-86EA-4439-A1BD-4C4FF66241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2DB6E-FA71-423F-BF53-6D361C0D740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4E92E4-9681-4364-AED3-0AACBF19113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01F568-5E4E-47A0-84A1-0D2A409C71F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BFEDBE-C364-4BE0-91AA-021775A63C8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9461E5-AEC9-463D-A5D0-736DBA52732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696A4C-DBEF-42DE-B4F0-087557077E3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E06548-E839-43CE-AD00-4345DF9B0C6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250921-74CD-4530-BB85-F5E578BFD73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5B5E2-3CBA-45B1-B043-E77A06B2D79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7BBAD-2116-4250-AEC2-7102FE8EDE8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3B737-9033-402E-B503-1ACD3A8396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1AC8-0DD0-4262-903E-028D2CCDE74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C7FED-BF4E-4EBC-8C91-046F55AD32E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6A018-6C5F-46CE-AED4-DB2B7A65461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D8E5B-5BA8-440F-B7BB-38EE45E17B7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9D04D-B13D-426E-B155-6974211E22B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7AFCA3-D60C-4D6A-BFAE-52F01FB8D61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6CC7C-56EB-40C8-8869-CA18AE7623F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099584-6ACA-4410-A2FC-4BDEE7D7F3A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28BC6-D71F-473E-A9A7-FF21417619E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3F923-FB3C-46E1-B558-C390D6E0F3A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ADAED-F3A0-47F2-96FD-44F498C643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9D915-D8CC-400C-9DE2-B0106D84010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89EC9-63E1-46C0-B97F-AAD08EB4990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72639-6F78-4105-8B47-F7752AF463D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F1DE1-F729-46DA-977E-10A343C8174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1C708-C661-4804-842D-FD61E5AC269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D8A08-8B18-4CEC-8113-B8678439D72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E2B1D-01DA-4FA8-A131-31B7A512DB0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A7085-5EB2-4A07-9AE9-CA98D67F666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DF099-560E-4909-B9DA-291BEBC06D6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D160D-B839-419D-9F78-2D3EFDE106B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256D2-488C-4592-A7AD-11720E54C4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2F95-06BA-43AB-AD24-BA294B0F791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51F83-1034-4955-BB50-0AEF8C8614B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501E1B-D82B-4E8B-9417-88AFE600FB0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C4FC35-E7D7-4171-B968-CCAC30135C6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C80ED3-FA7F-4899-9817-EE90CEB93E9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B2A31E-E490-4264-9527-0CA7D9823DF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6E735B-6474-4FFE-9A9C-B711F18A500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EFA6B6-F9EE-4C24-A1A6-CEE0DA7C544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90E307-50DA-4B87-A46A-F0C23012555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84B919-DE8B-4DC7-880F-A8431258AC0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295717-6098-4499-8B5F-E4A75D3F64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0F4B5-0B37-4648-9E5A-4B973A9C552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23EF25-0736-44CE-B871-9AC45CC5831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C1F68B-9009-44B8-8EC7-DDC6B194E62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C37F85-4D01-4817-8253-C256D871B9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C2C8-5B2C-417D-890C-856C0C165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119E9-BD10-49EE-9C0C-37AAF08014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B0ACB-7735-4C9C-BC4C-7D097632C6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CD86-B0F0-402C-A3C8-9030D7BB6F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D413A-EFE0-431A-A81B-FC55D91F1C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2117-86F7-401B-8C4D-7D1EECA5BC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865-CDA6-48C0-B082-575F491999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03A-2152-4A7B-A3BF-61F75C85A8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0C4-A925-4DE7-8444-3B28F1BF6C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9E7F-1828-460E-82C8-CC7C619AD6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3E2-73D4-4A2E-A80A-8F623935D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1375-8E75-430A-8523-38EF032D66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CA0-9F67-4EF5-A52C-CEAA8475DF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B1A-62E6-4DF9-9E86-720FE85B6E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61F-423E-48CE-B25C-BF8FDE631C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A9A-217D-44C9-8971-4BBC88234A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D67-A157-42AB-8290-F1507D6D70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FC5-C363-4396-87AD-5091726CCF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7BF-B597-4C01-A133-16150E9FA2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10D82-A29F-4221-8585-340B1EB04B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7D072-D315-4D4D-A49D-348944AF49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B6EBF-82F6-452C-8F7E-F25637BE5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01BD-1BE1-4FB8-902D-2CD27F80D0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1FBD3-DF6A-463D-A53A-157927EA4F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9BEE5-C319-4E31-B970-85B139BB9B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A5BF0-B8F6-4DB1-A349-825ECD8F5B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018FE-923A-4E38-B91C-12EDD7C78D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0EC24-DD0E-4A98-BBFC-A77242F176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32EF6-E0FD-4343-A974-1A9ECDE2B4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35409-3E29-4BF4-B501-4BB615C22A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D96DB-BFE9-45D0-A90D-D9695F245C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9BFAC-E3D4-4FA0-8DC3-6960CD0F7CD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EEC1D-9803-438E-B7B6-DB4829C12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F999-259A-480F-BB17-5F619856BD5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870B4-D3DE-431E-8F24-D716A45F94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BF15D-4293-4AB8-8D53-3BA0574912C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CFB08-F8A6-4ACD-939B-C827EC0ED67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CA1CB-5A01-4301-9721-6388DC966D4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4702A-A977-402D-A3C1-981D800A4E8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1D10E-2D34-404D-9D91-C9283BD9488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7C84E-B08A-4C10-B29F-94F6D9F6F3F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DD596-869C-49DD-86FD-BC87BC67BE6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9D8FA-F47A-4FCC-93D2-4EF0FE57CED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65284-67A8-4A9A-A7CB-1978FE3E4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FE82-4896-46EC-9759-B2BAACF4818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4A21F-1E77-4339-8365-A8796D6D7AD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B260-A8C6-4DA8-9B97-02018C18656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8C98-46B1-48AB-8A00-0533E535B35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5795-275D-400E-B95A-21834989805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D380-CE5F-43F1-BBD1-D777A585727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229C-1CFD-49EE-903D-2F45E981303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D6E3-A408-460D-8DA5-C0EE2980A98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F93F-C383-4C33-AA92-0EA7A7F771E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EA06-0DEC-45FA-B8EB-A62683D574A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F860-5208-45E4-A0E0-FA2086A87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92F4-5829-46E6-9978-0329E3F50B5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53ED-FCEE-456F-A0B8-7A594638AF7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826F-05E6-480F-B717-B15C999AC89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D17C-EEDD-4138-8A69-1260A13B95C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15B497-E9E1-437E-AB4B-766758B843B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4ABFAF-5E9B-4395-8AA6-5E11E6582BF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4646D8-FA4D-44BF-B31C-6FB5F1568A4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80B28F-E02C-4E3D-9D09-C2C739F3917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FF8C07-0179-4134-AB50-5376241E865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82E685-38EE-462C-B8AA-7E569BC4486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370859-93A5-4215-B2F5-3F337683B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ECDB-44E2-42EB-86AD-9E1420BF1B8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F5369-75DD-46FF-B7B4-8296B9B4CE8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E904A6-B259-430A-81CC-66BE2FD3143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441D7C-9739-445E-A4A4-3FD5190D8D6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F6E972-45D7-466F-8206-2164D871A2C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5CDEE-9F3E-4C59-8746-4B306BD62B1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CC34A-747E-4255-A37E-5FA2E9F263E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24F25-0AE5-4436-94A5-5A6121BD24E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8B8A6-4F2C-4946-9663-7E5004CBFB7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A068B-9990-4CA9-90F4-6DC063501CB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7F5F9-CE46-4891-9D1D-62B807FB1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DAB4-DE6D-4AE5-B7E8-0D1B406C046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E44F1-6454-4DFF-A2FD-1C5BDE2D5B0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08CE6-F684-4AE5-BE9A-6666D66EF92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05E93-4DFF-49F8-956C-567C5977B54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C71EE-7E76-47A1-B2A4-4F6DD570C92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9B164-96F5-48D5-9D72-8655A24A2AA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53C90-CAA6-4F12-BC87-105EDB817F5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F0BFF-0B42-4486-B9BF-95044929FC5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45047-D51C-4AE5-87A3-ACE5FD03D6A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BEF89-6763-44AA-B16D-D23E815CD70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67EA-01E3-4695-B315-ED123E520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sldNum" idx="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265DE5-64AA-4108-AE37-DFF4AAB8D8D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81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82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83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86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90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sldNum" idx="10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49C02F1-B458-4404-B7EB-1D74A260F3A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3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3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3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3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4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sldNum" idx="1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DBAED1-6A2C-4C5F-A19D-3D2CF73F1BC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8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8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9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9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sldNum" idx="1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7FF2DD-7DCB-40EB-8D46-69193C27FDC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4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4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4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4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sldNum" idx="1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9246565-359A-4F9B-A531-1885D8E4DD9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9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9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9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0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sldNum" idx="1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4303E6A-71B4-4BBC-9F98-D03852EF50E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74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74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75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5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sldNum" idx="1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9AA86D0-4ADC-4F2A-AAF2-EF583890BED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9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80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80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80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sldNum" idx="1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57816B-EBA2-4D08-A735-A5E69CD8674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sldNum" idx="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F11810D-057C-4036-B7A7-8C755071D43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1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1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1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sldNum" idx="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460F25-E195-4647-9087-12AD1DBC671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6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6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6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6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7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sldNum" idx="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239A64-7F5B-4425-A13D-65445BB3A35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1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1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2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2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sldNum" idx="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ADBE60F-99D9-4AF8-B946-08DE78185DE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6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7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7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7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A1C09F4-DBF9-460C-AE94-CC2B8763F86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22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23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24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27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31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sldNum" idx="7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D9DC29D-6517-437F-BE1D-B28177EBC2F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5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76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77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80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84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sldNum" idx="8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DFB2C67-3577-489B-A7BD-AB27C99F52E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28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29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30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2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37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sldNum" idx="9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EB75BE1-28B6-4E2F-99BB-7C4BD822428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hyperlink" Target="http://www.nauticexpo.com.mx/prod/barcos-cientificos-45639.html?&amp;idvisite=97816&amp;RefCat=PA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hyperlink" Target="http://www.nauticexpo.com.mx/prod/barcos-cientificos-45639.html?&amp;idvisite=97816&amp;RefCat=PA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368280" y="60580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06C06-36DD-4AE0-8FBE-00406D3E9FA7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441360" y="368280"/>
            <a:ext cx="7751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900000" y="395280"/>
            <a:ext cx="775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774720" y="1988640"/>
            <a:ext cx="7939800" cy="865440"/>
            <a:chOff x="774720" y="1988640"/>
            <a:chExt cx="7939800" cy="865440"/>
          </a:xfrm>
        </p:grpSpPr>
        <p:grpSp>
          <p:nvGrpSpPr>
            <p:cNvPr id="1141" name=""/>
            <p:cNvGrpSpPr/>
            <p:nvPr/>
          </p:nvGrpSpPr>
          <p:grpSpPr>
            <a:xfrm>
              <a:off x="1805040" y="2205000"/>
              <a:ext cx="6909480" cy="649080"/>
              <a:chOff x="1805040" y="2205000"/>
              <a:chExt cx="6909480" cy="649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1805040" y="2205000"/>
                <a:ext cx="6909480" cy="64908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856160" y="2351520"/>
                <a:ext cx="68072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LA MAYORÍAIA EN PARAISOS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 flipV="1">
              <a:off x="774720" y="1988280"/>
              <a:ext cx="1030320" cy="7052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-360 h 705240"/>
                <a:gd name="textAreaBottom" fmla="*/ 705240 h 70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774720" y="2062080"/>
            <a:ext cx="7920720" cy="1510920"/>
            <a:chOff x="774720" y="2062080"/>
            <a:chExt cx="7920720" cy="1510920"/>
          </a:xfrm>
        </p:grpSpPr>
        <p:grpSp>
          <p:nvGrpSpPr>
            <p:cNvPr id="1146" name=""/>
            <p:cNvGrpSpPr/>
            <p:nvPr/>
          </p:nvGrpSpPr>
          <p:grpSpPr>
            <a:xfrm>
              <a:off x="1805040" y="2933280"/>
              <a:ext cx="6890400" cy="639720"/>
              <a:chOff x="1805040" y="2933280"/>
              <a:chExt cx="6890400" cy="639720"/>
            </a:xfrm>
          </p:grpSpPr>
          <p:sp>
            <p:nvSpPr>
              <p:cNvPr id="1147" name=""/>
              <p:cNvSpPr/>
              <p:nvPr/>
            </p:nvSpPr>
            <p:spPr>
              <a:xfrm>
                <a:off x="1805040" y="2933280"/>
                <a:ext cx="6890400" cy="6397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855800" y="3079080"/>
                <a:ext cx="67885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SIN PATRIMONIO ACORDE AL VOLUMEN OPERAD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774720" y="2062080"/>
              <a:ext cx="1029960" cy="1395360"/>
              <a:chOff x="774720" y="2062080"/>
              <a:chExt cx="1029960" cy="1395360"/>
            </a:xfrm>
          </p:grpSpPr>
          <p:sp>
            <p:nvSpPr>
              <p:cNvPr id="1150" name=""/>
              <p:cNvSpPr/>
              <p:nvPr/>
            </p:nvSpPr>
            <p:spPr>
              <a:xfrm flipV="1">
                <a:off x="774720" y="2701440"/>
                <a:ext cx="1029960" cy="75600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56000"/>
                  <a:gd name="textAreaBottom" fmla="*/ 756720 h 75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74720" y="2062080"/>
                <a:ext cx="315720" cy="756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2" name=""/>
          <p:cNvGrpSpPr/>
          <p:nvPr/>
        </p:nvGrpSpPr>
        <p:grpSpPr>
          <a:xfrm>
            <a:off x="755640" y="2997360"/>
            <a:ext cx="7921080" cy="1296720"/>
            <a:chOff x="755640" y="2997360"/>
            <a:chExt cx="7921080" cy="1296720"/>
          </a:xfrm>
        </p:grpSpPr>
        <p:grpSp>
          <p:nvGrpSpPr>
            <p:cNvPr id="1153" name=""/>
            <p:cNvGrpSpPr/>
            <p:nvPr/>
          </p:nvGrpSpPr>
          <p:grpSpPr>
            <a:xfrm>
              <a:off x="1785960" y="3670920"/>
              <a:ext cx="6890760" cy="623160"/>
              <a:chOff x="1785960" y="3670920"/>
              <a:chExt cx="6890760" cy="623160"/>
            </a:xfrm>
          </p:grpSpPr>
          <p:sp>
            <p:nvSpPr>
              <p:cNvPr id="1154" name=""/>
              <p:cNvSpPr/>
              <p:nvPr/>
            </p:nvSpPr>
            <p:spPr>
              <a:xfrm>
                <a:off x="1785960" y="3670920"/>
                <a:ext cx="6890760" cy="62316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836720" y="3811320"/>
                <a:ext cx="67888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EN ALGUNOS CASOS SIN EMPLEAD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755640" y="2997360"/>
              <a:ext cx="1029960" cy="1140840"/>
              <a:chOff x="755640" y="2997360"/>
              <a:chExt cx="1029960" cy="1140840"/>
            </a:xfrm>
          </p:grpSpPr>
          <p:sp>
            <p:nvSpPr>
              <p:cNvPr id="1157" name=""/>
              <p:cNvSpPr/>
              <p:nvPr/>
            </p:nvSpPr>
            <p:spPr>
              <a:xfrm flipV="1">
                <a:off x="755640" y="3463560"/>
                <a:ext cx="1029960" cy="6746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74640"/>
                  <a:gd name="textAreaBottom" fmla="*/ 675360 h 67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55640" y="2997360"/>
                <a:ext cx="315720" cy="67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9" name=""/>
          <p:cNvGrpSpPr/>
          <p:nvPr/>
        </p:nvGrpSpPr>
        <p:grpSpPr>
          <a:xfrm>
            <a:off x="755640" y="3716280"/>
            <a:ext cx="7921080" cy="1297080"/>
            <a:chOff x="755640" y="3716280"/>
            <a:chExt cx="7921080" cy="1297080"/>
          </a:xfrm>
        </p:grpSpPr>
        <p:grpSp>
          <p:nvGrpSpPr>
            <p:cNvPr id="1160" name=""/>
            <p:cNvGrpSpPr/>
            <p:nvPr/>
          </p:nvGrpSpPr>
          <p:grpSpPr>
            <a:xfrm>
              <a:off x="1785960" y="4390560"/>
              <a:ext cx="6890760" cy="622800"/>
              <a:chOff x="1785960" y="4390560"/>
              <a:chExt cx="6890760" cy="622800"/>
            </a:xfrm>
          </p:grpSpPr>
          <p:sp>
            <p:nvSpPr>
              <p:cNvPr id="1161" name=""/>
              <p:cNvSpPr/>
              <p:nvPr/>
            </p:nvSpPr>
            <p:spPr>
              <a:xfrm>
                <a:off x="1785960" y="4390560"/>
                <a:ext cx="6890760" cy="62280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836720" y="4532400"/>
                <a:ext cx="67888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NO AGREGABAN VALOR A LA CADENA COMERC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755640" y="3716280"/>
              <a:ext cx="1029960" cy="1140120"/>
              <a:chOff x="755640" y="3716280"/>
              <a:chExt cx="1029960" cy="1140120"/>
            </a:xfrm>
          </p:grpSpPr>
          <p:sp>
            <p:nvSpPr>
              <p:cNvPr id="1164" name=""/>
              <p:cNvSpPr/>
              <p:nvPr/>
            </p:nvSpPr>
            <p:spPr>
              <a:xfrm flipV="1">
                <a:off x="755640" y="4181760"/>
                <a:ext cx="1029960" cy="67428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-360 h 674280"/>
                  <a:gd name="textAreaBottom" fmla="*/ 674280 h 67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55640" y="3716280"/>
                <a:ext cx="315720" cy="67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6" name=""/>
          <p:cNvGrpSpPr/>
          <p:nvPr/>
        </p:nvGrpSpPr>
        <p:grpSpPr>
          <a:xfrm>
            <a:off x="774720" y="4438800"/>
            <a:ext cx="7920720" cy="1287360"/>
            <a:chOff x="774720" y="4438800"/>
            <a:chExt cx="7920720" cy="1287360"/>
          </a:xfrm>
        </p:grpSpPr>
        <p:grpSp>
          <p:nvGrpSpPr>
            <p:cNvPr id="1167" name=""/>
            <p:cNvGrpSpPr/>
            <p:nvPr/>
          </p:nvGrpSpPr>
          <p:grpSpPr>
            <a:xfrm>
              <a:off x="1805040" y="5108040"/>
              <a:ext cx="6890400" cy="618120"/>
              <a:chOff x="1805040" y="5108040"/>
              <a:chExt cx="6890400" cy="618120"/>
            </a:xfrm>
          </p:grpSpPr>
          <p:sp>
            <p:nvSpPr>
              <p:cNvPr id="1168" name=""/>
              <p:cNvSpPr/>
              <p:nvPr/>
            </p:nvSpPr>
            <p:spPr>
              <a:xfrm>
                <a:off x="1805040" y="5108040"/>
                <a:ext cx="6890400" cy="618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855800" y="5243040"/>
                <a:ext cx="678852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NO LOCALIZABAN  CLIENTES NUE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774720" y="4438800"/>
              <a:ext cx="1029960" cy="1131480"/>
              <a:chOff x="774720" y="4438800"/>
              <a:chExt cx="1029960" cy="1131480"/>
            </a:xfrm>
          </p:grpSpPr>
          <p:sp>
            <p:nvSpPr>
              <p:cNvPr id="1171" name=""/>
              <p:cNvSpPr/>
              <p:nvPr/>
            </p:nvSpPr>
            <p:spPr>
              <a:xfrm flipV="1">
                <a:off x="774720" y="4901400"/>
                <a:ext cx="1029960" cy="66888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68880"/>
                  <a:gd name="textAreaBottom" fmla="*/ 669600 h 66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74720" y="4438800"/>
                <a:ext cx="315720" cy="668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"/>
          <p:cNvGrpSpPr/>
          <p:nvPr/>
        </p:nvGrpSpPr>
        <p:grpSpPr>
          <a:xfrm>
            <a:off x="250920" y="1268280"/>
            <a:ext cx="8476560" cy="733320"/>
            <a:chOff x="250920" y="1268280"/>
            <a:chExt cx="8476560" cy="733320"/>
          </a:xfrm>
        </p:grpSpPr>
        <p:sp>
          <p:nvSpPr>
            <p:cNvPr id="1174" name=""/>
            <p:cNvSpPr/>
            <p:nvPr/>
          </p:nvSpPr>
          <p:spPr>
            <a:xfrm>
              <a:off x="250920" y="1268280"/>
              <a:ext cx="8476560" cy="73332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31920" y="1405800"/>
              <a:ext cx="832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5- CARACTERÍSTICAS DE LOS INTERMEDIAR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755640" y="5157720"/>
            <a:ext cx="7921080" cy="1295640"/>
            <a:chOff x="755640" y="5157720"/>
            <a:chExt cx="7921080" cy="1295640"/>
          </a:xfrm>
        </p:grpSpPr>
        <p:grpSp>
          <p:nvGrpSpPr>
            <p:cNvPr id="1177" name=""/>
            <p:cNvGrpSpPr/>
            <p:nvPr/>
          </p:nvGrpSpPr>
          <p:grpSpPr>
            <a:xfrm>
              <a:off x="1785960" y="5831280"/>
              <a:ext cx="6890760" cy="622080"/>
              <a:chOff x="1785960" y="5831280"/>
              <a:chExt cx="6890760" cy="622080"/>
            </a:xfrm>
          </p:grpSpPr>
          <p:sp>
            <p:nvSpPr>
              <p:cNvPr id="1178" name=""/>
              <p:cNvSpPr/>
              <p:nvPr/>
            </p:nvSpPr>
            <p:spPr>
              <a:xfrm>
                <a:off x="1785960" y="5831280"/>
                <a:ext cx="6890760" cy="62208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836720" y="5842440"/>
                <a:ext cx="678888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NO REALIZABAN UNA VERDADERA FUNCION DE COMERCIALIZAC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755640" y="5157720"/>
              <a:ext cx="1029960" cy="1138680"/>
              <a:chOff x="755640" y="5157720"/>
              <a:chExt cx="1029960" cy="1138680"/>
            </a:xfrm>
          </p:grpSpPr>
          <p:sp>
            <p:nvSpPr>
              <p:cNvPr id="1181" name=""/>
              <p:cNvSpPr/>
              <p:nvPr/>
            </p:nvSpPr>
            <p:spPr>
              <a:xfrm flipV="1">
                <a:off x="755640" y="5623200"/>
                <a:ext cx="1029960" cy="67320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73200"/>
                  <a:gd name="textAreaBottom" fmla="*/ 673920 h 67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55640" y="5157720"/>
                <a:ext cx="315720" cy="673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441360" y="368280"/>
            <a:ext cx="7751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774720" y="2160360"/>
            <a:ext cx="7939800" cy="1512360"/>
            <a:chOff x="774720" y="2160360"/>
            <a:chExt cx="7939800" cy="1512360"/>
          </a:xfrm>
        </p:grpSpPr>
        <p:grpSp>
          <p:nvGrpSpPr>
            <p:cNvPr id="1185" name=""/>
            <p:cNvGrpSpPr/>
            <p:nvPr/>
          </p:nvGrpSpPr>
          <p:grpSpPr>
            <a:xfrm>
              <a:off x="1805040" y="2538720"/>
              <a:ext cx="6909480" cy="1134000"/>
              <a:chOff x="1805040" y="2538720"/>
              <a:chExt cx="6909480" cy="1134000"/>
            </a:xfrm>
          </p:grpSpPr>
          <p:sp>
            <p:nvSpPr>
              <p:cNvPr id="1186" name=""/>
              <p:cNvSpPr/>
              <p:nvPr/>
            </p:nvSpPr>
            <p:spPr>
              <a:xfrm>
                <a:off x="1805040" y="2538720"/>
                <a:ext cx="6909480" cy="113400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856160" y="2796840"/>
                <a:ext cx="680724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RECIBÍAN ANTICIPOS DE EXPORTACIONES Y PRÉSTAMOS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Frutiger-Bold"/>
                  </a:rPr>
                  <a:t>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DESPROPORCIONADOS EN RELACIÓN A SU PATRIMON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 flipV="1">
              <a:off x="774720" y="2160000"/>
              <a:ext cx="1030320" cy="123228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-360 h 1232280"/>
                <a:gd name="textAreaBottom" fmla="*/ 1232280 h 123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774720" y="2374920"/>
            <a:ext cx="7920720" cy="2736000"/>
            <a:chOff x="774720" y="2374920"/>
            <a:chExt cx="7920720" cy="2736000"/>
          </a:xfrm>
        </p:grpSpPr>
        <p:grpSp>
          <p:nvGrpSpPr>
            <p:cNvPr id="1190" name=""/>
            <p:cNvGrpSpPr/>
            <p:nvPr/>
          </p:nvGrpSpPr>
          <p:grpSpPr>
            <a:xfrm>
              <a:off x="1805040" y="3952800"/>
              <a:ext cx="6890400" cy="1158120"/>
              <a:chOff x="1805040" y="3952800"/>
              <a:chExt cx="6890400" cy="1158120"/>
            </a:xfrm>
          </p:grpSpPr>
          <p:sp>
            <p:nvSpPr>
              <p:cNvPr id="1191" name=""/>
              <p:cNvSpPr/>
              <p:nvPr/>
            </p:nvSpPr>
            <p:spPr>
              <a:xfrm>
                <a:off x="1805040" y="3952800"/>
                <a:ext cx="6890400" cy="1158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855800" y="4101480"/>
                <a:ext cx="6788520" cy="85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just"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LAS VENTAS LAS REALIZABAN EN SU MAYORIA A SUJETOS VINCULADOS DEL EXPORTADOR ARGENTINO O A OTROS INTERMEDIARIOS EN PARAÍSOS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774720" y="2374920"/>
              <a:ext cx="1029960" cy="2527200"/>
              <a:chOff x="774720" y="2374920"/>
              <a:chExt cx="1029960" cy="2527200"/>
            </a:xfrm>
          </p:grpSpPr>
          <p:sp>
            <p:nvSpPr>
              <p:cNvPr id="1194" name=""/>
              <p:cNvSpPr/>
              <p:nvPr/>
            </p:nvSpPr>
            <p:spPr>
              <a:xfrm flipV="1">
                <a:off x="774720" y="3532680"/>
                <a:ext cx="1029960" cy="13694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1369440"/>
                  <a:gd name="textAreaBottom" fmla="*/ 1370160 h 13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74720" y="2374920"/>
                <a:ext cx="315720" cy="136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"/>
          <p:cNvGrpSpPr/>
          <p:nvPr/>
        </p:nvGrpSpPr>
        <p:grpSpPr>
          <a:xfrm>
            <a:off x="271440" y="1484280"/>
            <a:ext cx="8476560" cy="732960"/>
            <a:chOff x="271440" y="1484280"/>
            <a:chExt cx="8476560" cy="732960"/>
          </a:xfrm>
        </p:grpSpPr>
        <p:sp>
          <p:nvSpPr>
            <p:cNvPr id="1197" name=""/>
            <p:cNvSpPr/>
            <p:nvPr/>
          </p:nvSpPr>
          <p:spPr>
            <a:xfrm>
              <a:off x="271440" y="1484280"/>
              <a:ext cx="8476560" cy="73296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52440" y="1621800"/>
              <a:ext cx="832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5- CARACTERÍSTICAS DE LOS INTERMEDIARIOS (cont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2195640" y="404640"/>
            <a:ext cx="59767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971640" y="0"/>
            <a:ext cx="7162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754200" y="2133360"/>
            <a:ext cx="7939800" cy="1294920"/>
            <a:chOff x="754200" y="2133360"/>
            <a:chExt cx="7939800" cy="1294920"/>
          </a:xfrm>
        </p:grpSpPr>
        <p:grpSp>
          <p:nvGrpSpPr>
            <p:cNvPr id="1202" name=""/>
            <p:cNvGrpSpPr/>
            <p:nvPr/>
          </p:nvGrpSpPr>
          <p:grpSpPr>
            <a:xfrm>
              <a:off x="1784520" y="2457360"/>
              <a:ext cx="6909480" cy="970920"/>
              <a:chOff x="1784520" y="2457360"/>
              <a:chExt cx="6909480" cy="970920"/>
            </a:xfrm>
          </p:grpSpPr>
          <p:sp>
            <p:nvSpPr>
              <p:cNvPr id="1203" name=""/>
              <p:cNvSpPr/>
              <p:nvPr/>
            </p:nvSpPr>
            <p:spPr>
              <a:xfrm>
                <a:off x="1784520" y="2457360"/>
                <a:ext cx="6909480" cy="97092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835640" y="2635200"/>
                <a:ext cx="680724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just"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NO REALIZABAN CONTRATOS DE EXPORTACIÓN CON TANTA ANTICIPACION  A LA FECHA DE EMBAR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5" name=""/>
            <p:cNvSpPr/>
            <p:nvPr/>
          </p:nvSpPr>
          <p:spPr>
            <a:xfrm flipV="1">
              <a:off x="754200" y="2133000"/>
              <a:ext cx="1030320" cy="105516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-360 h 1055160"/>
                <a:gd name="textAreaBottom" fmla="*/ 1055160 h 105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755640" y="2205000"/>
            <a:ext cx="7921080" cy="2302560"/>
            <a:chOff x="755640" y="2205000"/>
            <a:chExt cx="7921080" cy="2302560"/>
          </a:xfrm>
        </p:grpSpPr>
        <p:grpSp>
          <p:nvGrpSpPr>
            <p:cNvPr id="1207" name=""/>
            <p:cNvGrpSpPr/>
            <p:nvPr/>
          </p:nvGrpSpPr>
          <p:grpSpPr>
            <a:xfrm>
              <a:off x="1785960" y="3533040"/>
              <a:ext cx="6890760" cy="974520"/>
              <a:chOff x="1785960" y="3533040"/>
              <a:chExt cx="6890760" cy="974520"/>
            </a:xfrm>
          </p:grpSpPr>
          <p:sp>
            <p:nvSpPr>
              <p:cNvPr id="1208" name=""/>
              <p:cNvSpPr/>
              <p:nvPr/>
            </p:nvSpPr>
            <p:spPr>
              <a:xfrm>
                <a:off x="1785960" y="3533040"/>
                <a:ext cx="6890760" cy="9745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836720" y="3716640"/>
                <a:ext cx="678888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just"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EL PRECIO SE PACTABA A FECHA CERCANA A LA DE EMBAR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55640" y="2205000"/>
              <a:ext cx="1029960" cy="2127240"/>
              <a:chOff x="755640" y="2205000"/>
              <a:chExt cx="1029960" cy="2127240"/>
            </a:xfrm>
          </p:grpSpPr>
          <p:sp>
            <p:nvSpPr>
              <p:cNvPr id="1211" name=""/>
              <p:cNvSpPr/>
              <p:nvPr/>
            </p:nvSpPr>
            <p:spPr>
              <a:xfrm flipV="1">
                <a:off x="755640" y="3179520"/>
                <a:ext cx="1029960" cy="115272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1152720"/>
                  <a:gd name="textAreaBottom" fmla="*/ 1153440 h 115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55640" y="2205000"/>
                <a:ext cx="315720" cy="115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3" name=""/>
          <p:cNvGrpSpPr/>
          <p:nvPr/>
        </p:nvGrpSpPr>
        <p:grpSpPr>
          <a:xfrm>
            <a:off x="250920" y="1340280"/>
            <a:ext cx="8476560" cy="824040"/>
            <a:chOff x="250920" y="1340280"/>
            <a:chExt cx="8476560" cy="824040"/>
          </a:xfrm>
        </p:grpSpPr>
        <p:sp>
          <p:nvSpPr>
            <p:cNvPr id="1214" name=""/>
            <p:cNvSpPr/>
            <p:nvPr/>
          </p:nvSpPr>
          <p:spPr>
            <a:xfrm>
              <a:off x="250920" y="1384920"/>
              <a:ext cx="8476560" cy="73404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31920" y="1340280"/>
              <a:ext cx="832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6- COMPARABIL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¿CÓMO OPERABAN LOS INDEPENDIENTE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754200" y="3284640"/>
            <a:ext cx="7920720" cy="2304360"/>
            <a:chOff x="754200" y="3284640"/>
            <a:chExt cx="7920720" cy="2304360"/>
          </a:xfrm>
        </p:grpSpPr>
        <p:grpSp>
          <p:nvGrpSpPr>
            <p:cNvPr id="1217" name=""/>
            <p:cNvGrpSpPr/>
            <p:nvPr/>
          </p:nvGrpSpPr>
          <p:grpSpPr>
            <a:xfrm>
              <a:off x="1784520" y="4613760"/>
              <a:ext cx="6890400" cy="975240"/>
              <a:chOff x="1784520" y="4613760"/>
              <a:chExt cx="6890400" cy="975240"/>
            </a:xfrm>
          </p:grpSpPr>
          <p:sp>
            <p:nvSpPr>
              <p:cNvPr id="1218" name=""/>
              <p:cNvSpPr/>
              <p:nvPr/>
            </p:nvSpPr>
            <p:spPr>
              <a:xfrm>
                <a:off x="1784520" y="4613760"/>
                <a:ext cx="6890400" cy="9752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835280" y="4674600"/>
                <a:ext cx="6788520" cy="857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just"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SE COMPROBÓ QUE LOS INDEPENDIENTES OBTENÍAN POR SIMILARES EXPORTACIONES EL PRECIO DE MERCADO A FECHA DE EMBARQUE O SUPERI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754200" y="3284640"/>
              <a:ext cx="1029960" cy="2127600"/>
              <a:chOff x="754200" y="3284640"/>
              <a:chExt cx="1029960" cy="2127600"/>
            </a:xfrm>
          </p:grpSpPr>
          <p:sp>
            <p:nvSpPr>
              <p:cNvPr id="1221" name=""/>
              <p:cNvSpPr/>
              <p:nvPr/>
            </p:nvSpPr>
            <p:spPr>
              <a:xfrm flipV="1">
                <a:off x="754200" y="4258800"/>
                <a:ext cx="1029960" cy="115308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-360 h 1153080"/>
                  <a:gd name="textAreaBottom" fmla="*/ 1153080 h 115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54200" y="3284640"/>
                <a:ext cx="315720" cy="115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3" name=""/>
          <p:cNvSpPr/>
          <p:nvPr/>
        </p:nvSpPr>
        <p:spPr>
          <a:xfrm>
            <a:off x="2195640" y="404640"/>
            <a:ext cx="59767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9000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733320" y="1898640"/>
            <a:ext cx="7416720" cy="2565720"/>
            <a:chOff x="733320" y="1898640"/>
            <a:chExt cx="7416720" cy="2565720"/>
          </a:xfrm>
        </p:grpSpPr>
        <p:pic>
          <p:nvPicPr>
            <p:cNvPr id="1228" name="" descr=""/>
            <p:cNvPicPr/>
            <p:nvPr/>
          </p:nvPicPr>
          <p:blipFill>
            <a:blip r:embed="rId1"/>
            <a:stretch/>
          </p:blipFill>
          <p:spPr>
            <a:xfrm>
              <a:off x="733320" y="1898640"/>
              <a:ext cx="741672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1020600" y="2332080"/>
              <a:ext cx="6840720" cy="21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just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NORMA ANTIELUSION. INTRODUCE UN NUEVO METODO DE PRECIOS DE TRANSFER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 algn="just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N TODAS LAS OPERACIONES DE EXPORTACION EN LAS QUE INTERVENGA UN INTERMEDIARIO “PANTALLA” SE CONSIDERARA QUE NO SE ENCUENTRAN CELEBRADAS COMO ENTRE PARTES INDEPEND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050920" y="333360"/>
            <a:ext cx="51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733320" y="4923000"/>
            <a:ext cx="7416720" cy="1674000"/>
            <a:chOff x="733320" y="4923000"/>
            <a:chExt cx="7416720" cy="1674000"/>
          </a:xfrm>
        </p:grpSpPr>
        <p:pic>
          <p:nvPicPr>
            <p:cNvPr id="1232" name="" descr=""/>
            <p:cNvPicPr/>
            <p:nvPr/>
          </p:nvPicPr>
          <p:blipFill>
            <a:blip r:embed="rId2"/>
            <a:stretch/>
          </p:blipFill>
          <p:spPr>
            <a:xfrm>
              <a:off x="733320" y="4923000"/>
              <a:ext cx="741672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>
              <a:off x="1020600" y="5356440"/>
              <a:ext cx="6840720" cy="12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just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VITAR Y DESALENTAR LA REALIZACION DE MANIOBRAS QUE PROVOCAN EL AHUECAMIENTO DE LA BASE IMPONIBLE 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12600" y="1324080"/>
            <a:ext cx="5689440" cy="987120"/>
            <a:chOff x="12600" y="1324080"/>
            <a:chExt cx="5689440" cy="987120"/>
          </a:xfrm>
        </p:grpSpPr>
        <p:grpSp>
          <p:nvGrpSpPr>
            <p:cNvPr id="1235" name=""/>
            <p:cNvGrpSpPr/>
            <p:nvPr/>
          </p:nvGrpSpPr>
          <p:grpSpPr>
            <a:xfrm>
              <a:off x="12600" y="1324080"/>
              <a:ext cx="5689440" cy="987120"/>
              <a:chOff x="12600" y="1324080"/>
              <a:chExt cx="5689440" cy="987120"/>
            </a:xfrm>
          </p:grpSpPr>
          <p:pic>
            <p:nvPicPr>
              <p:cNvPr id="123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600" y="1324080"/>
                <a:ext cx="568944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7" name=""/>
              <p:cNvSpPr/>
              <p:nvPr/>
            </p:nvSpPr>
            <p:spPr>
              <a:xfrm>
                <a:off x="372960" y="1496880"/>
                <a:ext cx="478152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8" name=""/>
            <p:cNvSpPr/>
            <p:nvPr/>
          </p:nvSpPr>
          <p:spPr>
            <a:xfrm>
              <a:off x="388800" y="163512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TURALEZA DE LA NOR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2600" y="4346640"/>
            <a:ext cx="5689440" cy="987480"/>
            <a:chOff x="12600" y="4346640"/>
            <a:chExt cx="5689440" cy="987480"/>
          </a:xfrm>
        </p:grpSpPr>
        <p:grpSp>
          <p:nvGrpSpPr>
            <p:cNvPr id="1240" name=""/>
            <p:cNvGrpSpPr/>
            <p:nvPr/>
          </p:nvGrpSpPr>
          <p:grpSpPr>
            <a:xfrm>
              <a:off x="12600" y="4346640"/>
              <a:ext cx="5689440" cy="987480"/>
              <a:chOff x="12600" y="4346640"/>
              <a:chExt cx="5689440" cy="987480"/>
            </a:xfrm>
          </p:grpSpPr>
          <p:pic>
            <p:nvPicPr>
              <p:cNvPr id="12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600" y="4346640"/>
                <a:ext cx="5689440" cy="98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2" name=""/>
              <p:cNvSpPr/>
              <p:nvPr/>
            </p:nvSpPr>
            <p:spPr>
              <a:xfrm>
                <a:off x="372960" y="4519800"/>
                <a:ext cx="4781520" cy="6350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3" name=""/>
            <p:cNvSpPr/>
            <p:nvPr/>
          </p:nvSpPr>
          <p:spPr>
            <a:xfrm>
              <a:off x="388800" y="465768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NA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2411280" y="409680"/>
            <a:ext cx="5310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6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16720" cy="4392720"/>
          </a:xfrm>
          <a:prstGeom prst="rect">
            <a:avLst/>
          </a:prstGeom>
          <a:ln w="0">
            <a:noFill/>
          </a:ln>
        </p:spPr>
      </p:pic>
      <p:sp>
        <p:nvSpPr>
          <p:cNvPr id="1247" name=""/>
          <p:cNvSpPr/>
          <p:nvPr/>
        </p:nvSpPr>
        <p:spPr>
          <a:xfrm>
            <a:off x="1020600" y="2206800"/>
            <a:ext cx="684072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ALCANZA EXCLUSIVAMENTE A LOS SUJETOS QUE EXPORTAN TRIANGULANDO OPERACIONES A TRAVÉS DE SUJETOS DEL EXTERIOR SIN SUSTANCIA ECONÓMICA (FANTASMAS O PANTAL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SE TRATA DE EXPORTACIONES EN LAS QUE INTERVENGA UN INTERMEDIARIO INTERNACIONAL QUE NO SEA EL DESTINATARIO EFECTIVO DE LOS B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NO ALCANZA A LAS EXPORTACIONES REALIZADAS A TRAVES DE INTERMEDIARIOS GENUINOS EFECTUADAS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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SUJETOS INDEPE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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SUJETOS VINCU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12600" y="1198440"/>
            <a:ext cx="5689440" cy="987120"/>
            <a:chOff x="12600" y="1198440"/>
            <a:chExt cx="5689440" cy="987120"/>
          </a:xfrm>
        </p:grpSpPr>
        <p:grpSp>
          <p:nvGrpSpPr>
            <p:cNvPr id="1249" name=""/>
            <p:cNvGrpSpPr/>
            <p:nvPr/>
          </p:nvGrpSpPr>
          <p:grpSpPr>
            <a:xfrm>
              <a:off x="12600" y="1198440"/>
              <a:ext cx="5689440" cy="987120"/>
              <a:chOff x="12600" y="1198440"/>
              <a:chExt cx="5689440" cy="987120"/>
            </a:xfrm>
          </p:grpSpPr>
          <p:pic>
            <p:nvPicPr>
              <p:cNvPr id="12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00" y="1198440"/>
                <a:ext cx="568944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"/>
              <p:cNvSpPr/>
              <p:nvPr/>
            </p:nvSpPr>
            <p:spPr>
              <a:xfrm>
                <a:off x="372960" y="1371240"/>
                <a:ext cx="478152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388800" y="150948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APLIC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5" name="" descr=""/>
          <p:cNvPicPr/>
          <p:nvPr/>
        </p:nvPicPr>
        <p:blipFill>
          <a:blip r:embed="rId1"/>
          <a:stretch/>
        </p:blipFill>
        <p:spPr>
          <a:xfrm>
            <a:off x="733320" y="2008080"/>
            <a:ext cx="7417080" cy="2737080"/>
          </a:xfrm>
          <a:prstGeom prst="rect">
            <a:avLst/>
          </a:prstGeom>
          <a:ln w="0">
            <a:noFill/>
          </a:ln>
        </p:spPr>
      </p:pic>
      <p:sp>
        <p:nvSpPr>
          <p:cNvPr id="1256" name=""/>
          <p:cNvSpPr/>
          <p:nvPr/>
        </p:nvSpPr>
        <p:spPr>
          <a:xfrm>
            <a:off x="1020600" y="2441520"/>
            <a:ext cx="6840720" cy="21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CEREALES, OLEAGIN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DEMÁS PRODUCTOS DE LA 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HIDROCARBUROS Y SUS DERIVADO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EN GENE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BIENES CON COTIZACIÓN CONOCIDA EN MERCADOS TRANSPA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2600" y="1433520"/>
            <a:ext cx="5689440" cy="987120"/>
            <a:chOff x="12600" y="1433520"/>
            <a:chExt cx="5689440" cy="987120"/>
          </a:xfrm>
        </p:grpSpPr>
        <p:grpSp>
          <p:nvGrpSpPr>
            <p:cNvPr id="1258" name=""/>
            <p:cNvGrpSpPr/>
            <p:nvPr/>
          </p:nvGrpSpPr>
          <p:grpSpPr>
            <a:xfrm>
              <a:off x="12600" y="1433520"/>
              <a:ext cx="5689440" cy="987120"/>
              <a:chOff x="12600" y="1433520"/>
              <a:chExt cx="5689440" cy="987120"/>
            </a:xfrm>
          </p:grpSpPr>
          <p:pic>
            <p:nvPicPr>
              <p:cNvPr id="125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00" y="1433520"/>
                <a:ext cx="568944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>
                <a:off x="372960" y="1606320"/>
                <a:ext cx="478152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388800" y="174456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ENES ALCANZA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2592360" y="476280"/>
            <a:ext cx="493236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2193840" y="404640"/>
            <a:ext cx="5257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5" name="" descr=""/>
          <p:cNvPicPr/>
          <p:nvPr/>
        </p:nvPicPr>
        <p:blipFill>
          <a:blip r:embed="rId1"/>
          <a:stretch/>
        </p:blipFill>
        <p:spPr>
          <a:xfrm>
            <a:off x="804960" y="2008080"/>
            <a:ext cx="7416720" cy="3816360"/>
          </a:xfrm>
          <a:prstGeom prst="rect">
            <a:avLst/>
          </a:prstGeom>
          <a:ln w="0">
            <a:noFill/>
          </a:ln>
        </p:spPr>
      </p:pic>
      <p:sp>
        <p:nvSpPr>
          <p:cNvPr id="1266" name=""/>
          <p:cNvSpPr/>
          <p:nvPr/>
        </p:nvSpPr>
        <p:spPr>
          <a:xfrm>
            <a:off x="1092240" y="2441520"/>
            <a:ext cx="684036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ANTE LA UTILIZACIÓN DE INTERMEDIARIOS INTERNACIONALES SIN SUSTANCIA ECONÓMICA (PANTALLAS O FANTAS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SE DEBERÁ TOMAR COMO PRECIO DE LA EXPORTACIÓN EL VALOR DE COTIZACIÓN DEL BIEN EN EL MERCADO TRANSPARENTE DEL DÍA DE LA CARGA DE LA MERCAD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SI EL PRECIO CONVENIDO CON EL INTERMEDIARIO DEL EXTERIOR SIN SUSTANCIA ECONÓMICA FUERA MAYOR AL PRECIO DE COTIZACIÓN VIGENTE A LA FECHA DE CARGA, SE TOMAR´S EL PRI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-612720" y="260280"/>
            <a:ext cx="7923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84240" y="1433520"/>
            <a:ext cx="5689440" cy="987120"/>
            <a:chOff x="84240" y="1433520"/>
            <a:chExt cx="5689440" cy="987120"/>
          </a:xfrm>
        </p:grpSpPr>
        <p:grpSp>
          <p:nvGrpSpPr>
            <p:cNvPr id="1269" name=""/>
            <p:cNvGrpSpPr/>
            <p:nvPr/>
          </p:nvGrpSpPr>
          <p:grpSpPr>
            <a:xfrm>
              <a:off x="84240" y="1433520"/>
              <a:ext cx="5689440" cy="987120"/>
              <a:chOff x="84240" y="1433520"/>
              <a:chExt cx="5689440" cy="987120"/>
            </a:xfrm>
          </p:grpSpPr>
          <p:pic>
            <p:nvPicPr>
              <p:cNvPr id="12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240" y="1433520"/>
                <a:ext cx="568944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1" name=""/>
              <p:cNvSpPr/>
              <p:nvPr/>
            </p:nvSpPr>
            <p:spPr>
              <a:xfrm>
                <a:off x="444600" y="1606320"/>
                <a:ext cx="478152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>
              <a:off x="460440" y="174456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ESQUEMA DEL NUEVO MÉTO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5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7417080" cy="3384360"/>
          </a:xfrm>
          <a:prstGeom prst="rect">
            <a:avLst/>
          </a:prstGeom>
          <a:ln w="0">
            <a:noFill/>
          </a:ln>
        </p:spPr>
      </p:pic>
      <p:sp>
        <p:nvSpPr>
          <p:cNvPr id="1276" name=""/>
          <p:cNvSpPr/>
          <p:nvPr/>
        </p:nvSpPr>
        <p:spPr>
          <a:xfrm>
            <a:off x="684360" y="2852640"/>
            <a:ext cx="6840360" cy="26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NO POSEA REAL PRESENCIA EN EL TERRITORIO DE RESI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NO CUMPLA CON LOS REQUISITOS LEGALES DE CONSTITUCIÓN, INSCRIPCIÓN Y PRESENTACIÓN DE BAL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LOS ACTIVOS, RIESGOS Y FUNCIONES DE LA INTERMEDIARIA INTERNACIONAL NO RESULTEN ACORDES CON EL VOLUMEN DE LAS OPERACIONES QUE SE LE ASIG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-36360" y="1341360"/>
            <a:ext cx="7344720" cy="1582200"/>
            <a:chOff x="-36360" y="1341360"/>
            <a:chExt cx="7344720" cy="1582200"/>
          </a:xfrm>
        </p:grpSpPr>
        <p:grpSp>
          <p:nvGrpSpPr>
            <p:cNvPr id="1278" name=""/>
            <p:cNvGrpSpPr/>
            <p:nvPr/>
          </p:nvGrpSpPr>
          <p:grpSpPr>
            <a:xfrm>
              <a:off x="-36360" y="1341360"/>
              <a:ext cx="7344720" cy="1582200"/>
              <a:chOff x="-36360" y="1341360"/>
              <a:chExt cx="7344720" cy="1582200"/>
            </a:xfrm>
          </p:grpSpPr>
          <p:pic>
            <p:nvPicPr>
              <p:cNvPr id="12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-36360" y="1341360"/>
                <a:ext cx="7344720" cy="158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0" name=""/>
              <p:cNvSpPr/>
              <p:nvPr/>
            </p:nvSpPr>
            <p:spPr>
              <a:xfrm>
                <a:off x="428760" y="1618560"/>
                <a:ext cx="6172560" cy="101736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>
              <a:off x="466560" y="1555560"/>
              <a:ext cx="648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¿CUÁNDO UN INTERMEDIARIO INTERNACIONAL CARECE DE SUSTANCIA ECONÓM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ES FANTASMA O PANTALLA)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2286000" y="333360"/>
            <a:ext cx="50943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6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7416720" cy="3384360"/>
          </a:xfrm>
          <a:prstGeom prst="rect">
            <a:avLst/>
          </a:prstGeom>
          <a:ln w="0">
            <a:noFill/>
          </a:ln>
        </p:spPr>
      </p:pic>
      <p:sp>
        <p:nvSpPr>
          <p:cNvPr id="1287" name=""/>
          <p:cNvSpPr/>
          <p:nvPr/>
        </p:nvSpPr>
        <p:spPr>
          <a:xfrm>
            <a:off x="971640" y="2924280"/>
            <a:ext cx="6840360" cy="26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SU ACTIVIDAD PRINCIPAL CONSISTA EN LA OBTENCIÓN DE RENTAS PAS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SU ACTIVIDAD PRINCIPAL CONSISTA EN LA INTERMEDIACION EN LA COMERCIALIZACIÓN DE BIENES DESDE O HACIA ARGENTINA, O CON INTERMEDIARIOS DEL GRUPO ECONÓMICAMENTE VINCU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LAS OPERACIONES DE COMERCIO INTERNACIONAL CON OTROS INTEGRANTES DEL GRUPO ECONOMICO SUPEREN EL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195640" y="333360"/>
            <a:ext cx="59338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0" y="1413000"/>
            <a:ext cx="7345080" cy="1582200"/>
            <a:chOff x="0" y="1413000"/>
            <a:chExt cx="7345080" cy="1582200"/>
          </a:xfrm>
        </p:grpSpPr>
        <p:grpSp>
          <p:nvGrpSpPr>
            <p:cNvPr id="1290" name=""/>
            <p:cNvGrpSpPr/>
            <p:nvPr/>
          </p:nvGrpSpPr>
          <p:grpSpPr>
            <a:xfrm>
              <a:off x="0" y="1413000"/>
              <a:ext cx="7345080" cy="1582200"/>
              <a:chOff x="0" y="1413000"/>
              <a:chExt cx="7345080" cy="1582200"/>
            </a:xfrm>
          </p:grpSpPr>
          <p:pic>
            <p:nvPicPr>
              <p:cNvPr id="12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413000"/>
                <a:ext cx="7345080" cy="158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2" name=""/>
              <p:cNvSpPr/>
              <p:nvPr/>
            </p:nvSpPr>
            <p:spPr>
              <a:xfrm>
                <a:off x="465120" y="1690200"/>
                <a:ext cx="6172920" cy="101736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>
              <a:off x="503280" y="1627200"/>
              <a:ext cx="6481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¿CUÁNDO UN INTERMEDIARIO INTERNACIONAL CARECE DE SUSTANCIA ECONOM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ES FANTASMA O PANTALLA)? (CONT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9000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1"/>
          <a:stretch/>
        </p:blipFill>
        <p:spPr>
          <a:xfrm>
            <a:off x="733320" y="2008080"/>
            <a:ext cx="7417080" cy="237672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>
            <a:off x="1020600" y="2441520"/>
            <a:ext cx="6840720" cy="17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DELIMITAR LA APLICACIÓN DEL MÉTODO CUANDO HUBIEREN CESADO LAS CAUSAS QUE LO ORIGI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APLICAR EL MÉTODO A OTRAS EXPORTACIONES DE BIENES CUANDO LA NATURALEZA Y CARACTERÍSTICAS DE LAS OPERACIONES INTERNACIONALES ASÍ LO JUSTIFIQ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12600" y="1433520"/>
            <a:ext cx="5689440" cy="987120"/>
            <a:chOff x="12600" y="1433520"/>
            <a:chExt cx="5689440" cy="987120"/>
          </a:xfrm>
        </p:grpSpPr>
        <p:grpSp>
          <p:nvGrpSpPr>
            <p:cNvPr id="1300" name=""/>
            <p:cNvGrpSpPr/>
            <p:nvPr/>
          </p:nvGrpSpPr>
          <p:grpSpPr>
            <a:xfrm>
              <a:off x="12600" y="1433520"/>
              <a:ext cx="5689440" cy="987120"/>
              <a:chOff x="12600" y="1433520"/>
              <a:chExt cx="5689440" cy="987120"/>
            </a:xfrm>
          </p:grpSpPr>
          <p:pic>
            <p:nvPicPr>
              <p:cNvPr id="13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00" y="1433520"/>
                <a:ext cx="568944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2" name=""/>
              <p:cNvSpPr/>
              <p:nvPr/>
            </p:nvSpPr>
            <p:spPr>
              <a:xfrm>
                <a:off x="372960" y="1606320"/>
                <a:ext cx="478152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3" name=""/>
            <p:cNvSpPr/>
            <p:nvPr/>
          </p:nvSpPr>
          <p:spPr>
            <a:xfrm>
              <a:off x="388800" y="174456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CULTADES DE LA AF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411280" y="476280"/>
            <a:ext cx="50403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835280" y="404640"/>
            <a:ext cx="6769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EMBARQU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468360" y="1915920"/>
            <a:ext cx="7939800" cy="1007640"/>
            <a:chOff x="468360" y="1915920"/>
            <a:chExt cx="7939800" cy="1007640"/>
          </a:xfrm>
        </p:grpSpPr>
        <p:grpSp>
          <p:nvGrpSpPr>
            <p:cNvPr id="861" name=""/>
            <p:cNvGrpSpPr/>
            <p:nvPr/>
          </p:nvGrpSpPr>
          <p:grpSpPr>
            <a:xfrm>
              <a:off x="1498680" y="2167920"/>
              <a:ext cx="6909480" cy="755640"/>
              <a:chOff x="1498680" y="2167920"/>
              <a:chExt cx="6909480" cy="755640"/>
            </a:xfrm>
          </p:grpSpPr>
          <p:sp>
            <p:nvSpPr>
              <p:cNvPr id="862" name=""/>
              <p:cNvSpPr/>
              <p:nvPr/>
            </p:nvSpPr>
            <p:spPr>
              <a:xfrm>
                <a:off x="1498680" y="2167920"/>
                <a:ext cx="6909480" cy="75564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549800" y="2367000"/>
                <a:ext cx="680724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7 EMPRESAS DURANTE 5 AÑ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 flipV="1">
              <a:off x="468360" y="1915560"/>
              <a:ext cx="1030320" cy="82116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-360 h 821160"/>
                <a:gd name="textAreaBottom" fmla="*/ 821160 h 82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95280" y="1989000"/>
            <a:ext cx="7921080" cy="1726560"/>
            <a:chOff x="395280" y="1989000"/>
            <a:chExt cx="7921080" cy="1726560"/>
          </a:xfrm>
        </p:grpSpPr>
        <p:grpSp>
          <p:nvGrpSpPr>
            <p:cNvPr id="866" name=""/>
            <p:cNvGrpSpPr/>
            <p:nvPr/>
          </p:nvGrpSpPr>
          <p:grpSpPr>
            <a:xfrm>
              <a:off x="1425600" y="2984760"/>
              <a:ext cx="6890760" cy="730800"/>
              <a:chOff x="1425600" y="2984760"/>
              <a:chExt cx="6890760" cy="730800"/>
            </a:xfrm>
          </p:grpSpPr>
          <p:sp>
            <p:nvSpPr>
              <p:cNvPr id="867" name=""/>
              <p:cNvSpPr/>
              <p:nvPr/>
            </p:nvSpPr>
            <p:spPr>
              <a:xfrm>
                <a:off x="1425600" y="2984760"/>
                <a:ext cx="6890760" cy="73080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476360" y="317520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VENDIERON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       U$S 22.500.00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395280" y="1989000"/>
              <a:ext cx="1029960" cy="1594800"/>
              <a:chOff x="395280" y="1989000"/>
              <a:chExt cx="1029960" cy="1594800"/>
            </a:xfrm>
          </p:grpSpPr>
          <p:sp>
            <p:nvSpPr>
              <p:cNvPr id="870" name=""/>
              <p:cNvSpPr/>
              <p:nvPr/>
            </p:nvSpPr>
            <p:spPr>
              <a:xfrm flipV="1">
                <a:off x="395280" y="2719080"/>
                <a:ext cx="1029960" cy="86436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-360 h 864360"/>
                  <a:gd name="textAreaBottom" fmla="*/ 864360 h 86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95280" y="1989000"/>
                <a:ext cx="315720" cy="86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2" name=""/>
          <p:cNvGrpSpPr/>
          <p:nvPr/>
        </p:nvGrpSpPr>
        <p:grpSpPr>
          <a:xfrm>
            <a:off x="395280" y="3070080"/>
            <a:ext cx="7921080" cy="1510560"/>
            <a:chOff x="395280" y="3070080"/>
            <a:chExt cx="7921080" cy="1510560"/>
          </a:xfrm>
        </p:grpSpPr>
        <p:grpSp>
          <p:nvGrpSpPr>
            <p:cNvPr id="873" name=""/>
            <p:cNvGrpSpPr/>
            <p:nvPr/>
          </p:nvGrpSpPr>
          <p:grpSpPr>
            <a:xfrm>
              <a:off x="1425600" y="3854880"/>
              <a:ext cx="6890760" cy="725760"/>
              <a:chOff x="1425600" y="3854880"/>
              <a:chExt cx="6890760" cy="725760"/>
            </a:xfrm>
          </p:grpSpPr>
          <p:sp>
            <p:nvSpPr>
              <p:cNvPr id="874" name=""/>
              <p:cNvSpPr/>
              <p:nvPr/>
            </p:nvSpPr>
            <p:spPr>
              <a:xfrm>
                <a:off x="1425600" y="3854880"/>
                <a:ext cx="6890760" cy="72576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476360" y="40478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PAGARON IMP. A LAS GANANCIAS         U$S          1.90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395280" y="3070080"/>
              <a:ext cx="1029960" cy="1329840"/>
              <a:chOff x="395280" y="3070080"/>
              <a:chExt cx="1029960" cy="1329840"/>
            </a:xfrm>
          </p:grpSpPr>
          <p:sp>
            <p:nvSpPr>
              <p:cNvPr id="877" name=""/>
              <p:cNvSpPr/>
              <p:nvPr/>
            </p:nvSpPr>
            <p:spPr>
              <a:xfrm flipV="1">
                <a:off x="395280" y="361368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95280" y="307008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9" name=""/>
          <p:cNvGrpSpPr/>
          <p:nvPr/>
        </p:nvGrpSpPr>
        <p:grpSpPr>
          <a:xfrm>
            <a:off x="395280" y="3933720"/>
            <a:ext cx="7921080" cy="1512720"/>
            <a:chOff x="395280" y="3933720"/>
            <a:chExt cx="7921080" cy="1512720"/>
          </a:xfrm>
        </p:grpSpPr>
        <p:grpSp>
          <p:nvGrpSpPr>
            <p:cNvPr id="880" name=""/>
            <p:cNvGrpSpPr/>
            <p:nvPr/>
          </p:nvGrpSpPr>
          <p:grpSpPr>
            <a:xfrm>
              <a:off x="1425600" y="4720320"/>
              <a:ext cx="6890760" cy="726120"/>
              <a:chOff x="1425600" y="4720320"/>
              <a:chExt cx="6890760" cy="726120"/>
            </a:xfrm>
          </p:grpSpPr>
          <p:sp>
            <p:nvSpPr>
              <p:cNvPr id="881" name=""/>
              <p:cNvSpPr/>
              <p:nvPr/>
            </p:nvSpPr>
            <p:spPr>
              <a:xfrm>
                <a:off x="1425600" y="4720320"/>
                <a:ext cx="6890760" cy="726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476360" y="49118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RELACIÓN IMPUESTO/VENTAS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      0,008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395280" y="3933720"/>
              <a:ext cx="1029960" cy="1329840"/>
              <a:chOff x="395280" y="3933720"/>
              <a:chExt cx="1029960" cy="1329840"/>
            </a:xfrm>
          </p:grpSpPr>
          <p:sp>
            <p:nvSpPr>
              <p:cNvPr id="884" name=""/>
              <p:cNvSpPr/>
              <p:nvPr/>
            </p:nvSpPr>
            <p:spPr>
              <a:xfrm flipV="1">
                <a:off x="395280" y="447732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95280" y="393372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6" name=""/>
          <p:cNvGrpSpPr/>
          <p:nvPr/>
        </p:nvGrpSpPr>
        <p:grpSpPr>
          <a:xfrm>
            <a:off x="395280" y="4797360"/>
            <a:ext cx="7921080" cy="1512720"/>
            <a:chOff x="395280" y="4797360"/>
            <a:chExt cx="7921080" cy="1512720"/>
          </a:xfrm>
        </p:grpSpPr>
        <p:grpSp>
          <p:nvGrpSpPr>
            <p:cNvPr id="887" name=""/>
            <p:cNvGrpSpPr/>
            <p:nvPr/>
          </p:nvGrpSpPr>
          <p:grpSpPr>
            <a:xfrm>
              <a:off x="1425600" y="5583960"/>
              <a:ext cx="6890760" cy="726120"/>
              <a:chOff x="1425600" y="5583960"/>
              <a:chExt cx="6890760" cy="726120"/>
            </a:xfrm>
          </p:grpSpPr>
          <p:sp>
            <p:nvSpPr>
              <p:cNvPr id="888" name=""/>
              <p:cNvSpPr/>
              <p:nvPr/>
            </p:nvSpPr>
            <p:spPr>
              <a:xfrm>
                <a:off x="1425600" y="5583960"/>
                <a:ext cx="6890760" cy="726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476360" y="564732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RELACIÓN IMPUESTO/VENTAS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   1,6% RESTO DE LA ECONOMÍ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395280" y="4797360"/>
              <a:ext cx="1029960" cy="1329840"/>
              <a:chOff x="395280" y="4797360"/>
              <a:chExt cx="1029960" cy="1329840"/>
            </a:xfrm>
          </p:grpSpPr>
          <p:sp>
            <p:nvSpPr>
              <p:cNvPr id="891" name=""/>
              <p:cNvSpPr/>
              <p:nvPr/>
            </p:nvSpPr>
            <p:spPr>
              <a:xfrm flipV="1">
                <a:off x="395280" y="534096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95280" y="479736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3" name=""/>
          <p:cNvGrpSpPr/>
          <p:nvPr/>
        </p:nvGrpSpPr>
        <p:grpSpPr>
          <a:xfrm>
            <a:off x="324000" y="1341360"/>
            <a:ext cx="8424000" cy="733320"/>
            <a:chOff x="324000" y="1341360"/>
            <a:chExt cx="8424000" cy="733320"/>
          </a:xfrm>
        </p:grpSpPr>
        <p:sp>
          <p:nvSpPr>
            <p:cNvPr id="894" name=""/>
            <p:cNvSpPr/>
            <p:nvPr/>
          </p:nvSpPr>
          <p:spPr>
            <a:xfrm>
              <a:off x="324000" y="1341360"/>
              <a:ext cx="8424000" cy="73332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04280" y="1478880"/>
              <a:ext cx="827064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Frutiger-Bold"/>
                </a:rPr>
                <a:t>1- DESCRIPCION DEL CONTEX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1"/>
          <a:stretch/>
        </p:blipFill>
        <p:spPr>
          <a:xfrm>
            <a:off x="660240" y="2009880"/>
            <a:ext cx="7417080" cy="1800000"/>
          </a:xfrm>
          <a:prstGeom prst="rect">
            <a:avLst/>
          </a:prstGeom>
          <a:ln w="0">
            <a:noFill/>
          </a:ln>
        </p:spPr>
      </p:pic>
      <p:sp>
        <p:nvSpPr>
          <p:cNvPr id="1308" name=""/>
          <p:cNvSpPr/>
          <p:nvPr/>
        </p:nvSpPr>
        <p:spPr>
          <a:xfrm>
            <a:off x="1020600" y="2368440"/>
            <a:ext cx="684072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EL DÍA DE FINALIZACION DE LA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LA AFIP PODRÁ FIJAR PAUTAS PARA SITUACIONES ESPECIALES DE TRANSPORTR POR MEDIOS NO CONVEN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12600" y="1362240"/>
            <a:ext cx="6840360" cy="1005840"/>
            <a:chOff x="12600" y="1362240"/>
            <a:chExt cx="6840360" cy="1005840"/>
          </a:xfrm>
        </p:grpSpPr>
        <p:grpSp>
          <p:nvGrpSpPr>
            <p:cNvPr id="1310" name=""/>
            <p:cNvGrpSpPr/>
            <p:nvPr/>
          </p:nvGrpSpPr>
          <p:grpSpPr>
            <a:xfrm>
              <a:off x="12600" y="1362240"/>
              <a:ext cx="6840360" cy="1005840"/>
              <a:chOff x="12600" y="1362240"/>
              <a:chExt cx="6840360" cy="1005840"/>
            </a:xfrm>
          </p:grpSpPr>
          <p:pic>
            <p:nvPicPr>
              <p:cNvPr id="13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00" y="1362240"/>
                <a:ext cx="684036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2" name=""/>
              <p:cNvSpPr/>
              <p:nvPr/>
            </p:nvSpPr>
            <p:spPr>
              <a:xfrm>
                <a:off x="445680" y="1538640"/>
                <a:ext cx="5748840" cy="64692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480960" y="1498320"/>
              <a:ext cx="6036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FIJACIÓN DEL VALOR DE COTIZACIÓN DEL BIÉN EN EL MERCADO TRANSPAR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4" name="" descr=""/>
          <p:cNvPicPr/>
          <p:nvPr/>
        </p:nvPicPr>
        <p:blipFill>
          <a:blip r:embed="rId3"/>
          <a:stretch/>
        </p:blipFill>
        <p:spPr>
          <a:xfrm>
            <a:off x="660240" y="4529160"/>
            <a:ext cx="7417080" cy="165564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1020600" y="4888080"/>
            <a:ext cx="68407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DEBERA FUNDARSE EN COMPROBANTES FEHACIENTES Y CONCRETOS, CARECIENDO DE VIRTUALIDAD TODA APRECIACIÓN O FUNDAMENTACIÓN DE CARÁCTER GENERAL O BASADAS EN HECHOS GEN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12600" y="3881520"/>
            <a:ext cx="6840360" cy="1006200"/>
            <a:chOff x="12600" y="3881520"/>
            <a:chExt cx="6840360" cy="1006200"/>
          </a:xfrm>
        </p:grpSpPr>
        <p:grpSp>
          <p:nvGrpSpPr>
            <p:cNvPr id="1317" name=""/>
            <p:cNvGrpSpPr/>
            <p:nvPr/>
          </p:nvGrpSpPr>
          <p:grpSpPr>
            <a:xfrm>
              <a:off x="12600" y="3881520"/>
              <a:ext cx="6840360" cy="1006200"/>
              <a:chOff x="12600" y="3881520"/>
              <a:chExt cx="6840360" cy="1006200"/>
            </a:xfrm>
          </p:grpSpPr>
          <p:pic>
            <p:nvPicPr>
              <p:cNvPr id="131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600" y="3881520"/>
                <a:ext cx="6840360" cy="10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9" name=""/>
              <p:cNvSpPr/>
              <p:nvPr/>
            </p:nvSpPr>
            <p:spPr>
              <a:xfrm>
                <a:off x="445680" y="4057920"/>
                <a:ext cx="5748840" cy="6472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>
              <a:off x="480960" y="4017600"/>
              <a:ext cx="6036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ROBANZA DE LOS REQUISITOS DEL INAPLICABILIDAD DEL MÉTO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"/>
          <p:cNvSpPr/>
          <p:nvPr/>
        </p:nvSpPr>
        <p:spPr>
          <a:xfrm>
            <a:off x="2286000" y="476280"/>
            <a:ext cx="48783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660240" y="2008080"/>
            <a:ext cx="7416720" cy="1225440"/>
            <a:chOff x="660240" y="2008080"/>
            <a:chExt cx="7416720" cy="1225440"/>
          </a:xfrm>
        </p:grpSpPr>
        <p:pic>
          <p:nvPicPr>
            <p:cNvPr id="1324" name="" descr=""/>
            <p:cNvPicPr/>
            <p:nvPr/>
          </p:nvPicPr>
          <p:blipFill>
            <a:blip r:embed="rId1"/>
            <a:stretch/>
          </p:blipFill>
          <p:spPr>
            <a:xfrm>
              <a:off x="660240" y="2008080"/>
              <a:ext cx="74167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5" name=""/>
            <p:cNvSpPr/>
            <p:nvPr/>
          </p:nvSpPr>
          <p:spPr>
            <a:xfrm>
              <a:off x="947520" y="2441520"/>
              <a:ext cx="68407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just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r>
                <a:rPr b="1" lang="en-GB" sz="1800" spc="-1" strike="noStrike">
                  <a:solidFill>
                    <a:srgbClr val="333333"/>
                  </a:solidFill>
                  <a:latin typeface="Arial"/>
                </a:rPr>
                <a:t>LAS DEFINIDAS POR LA LEY DEL IMPUESTO A LAS GANANCIAS Y SU DECRETO REGLAMENTARI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60240" y="4097160"/>
            <a:ext cx="7416720" cy="1440000"/>
            <a:chOff x="660240" y="4097160"/>
            <a:chExt cx="7416720" cy="1440000"/>
          </a:xfrm>
        </p:grpSpPr>
        <p:pic>
          <p:nvPicPr>
            <p:cNvPr id="1327" name="" descr=""/>
            <p:cNvPicPr/>
            <p:nvPr/>
          </p:nvPicPr>
          <p:blipFill>
            <a:blip r:embed="rId2"/>
            <a:stretch/>
          </p:blipFill>
          <p:spPr>
            <a:xfrm>
              <a:off x="660240" y="4097160"/>
              <a:ext cx="7416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8" name=""/>
            <p:cNvSpPr/>
            <p:nvPr/>
          </p:nvSpPr>
          <p:spPr>
            <a:xfrm>
              <a:off x="947520" y="4530600"/>
              <a:ext cx="68407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just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r>
                <a:rPr b="1" lang="en-GB" sz="1800" spc="-1" strike="noStrike">
                  <a:solidFill>
                    <a:srgbClr val="333333"/>
                  </a:solidFill>
                  <a:latin typeface="Arial"/>
                </a:rPr>
                <a:t>DEBERÁN RELACIONARSE LAS COMPRAS Y LAS VENTAS REALIZADAS CON ARGENTINA, CON LAS COMPRAS Y VENTAS TOTALES DEL INTERMEDI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-60480" y="1433520"/>
            <a:ext cx="7200360" cy="987120"/>
            <a:chOff x="-60480" y="1433520"/>
            <a:chExt cx="7200360" cy="987120"/>
          </a:xfrm>
        </p:grpSpPr>
        <p:grpSp>
          <p:nvGrpSpPr>
            <p:cNvPr id="1330" name=""/>
            <p:cNvGrpSpPr/>
            <p:nvPr/>
          </p:nvGrpSpPr>
          <p:grpSpPr>
            <a:xfrm>
              <a:off x="-60480" y="1433520"/>
              <a:ext cx="7200360" cy="987120"/>
              <a:chOff x="-60480" y="1433520"/>
              <a:chExt cx="7200360" cy="987120"/>
            </a:xfrm>
          </p:grpSpPr>
          <p:pic>
            <p:nvPicPr>
              <p:cNvPr id="133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60480" y="1433520"/>
                <a:ext cx="720036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>
                <a:off x="395280" y="1606320"/>
                <a:ext cx="605124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3" name=""/>
            <p:cNvSpPr/>
            <p:nvPr/>
          </p:nvSpPr>
          <p:spPr>
            <a:xfrm>
              <a:off x="415440" y="1744560"/>
              <a:ext cx="57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NTAS PASIV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-60480" y="3522600"/>
            <a:ext cx="7200360" cy="987480"/>
            <a:chOff x="-60480" y="3522600"/>
            <a:chExt cx="7200360" cy="987480"/>
          </a:xfrm>
        </p:grpSpPr>
        <p:grpSp>
          <p:nvGrpSpPr>
            <p:cNvPr id="1335" name=""/>
            <p:cNvGrpSpPr/>
            <p:nvPr/>
          </p:nvGrpSpPr>
          <p:grpSpPr>
            <a:xfrm>
              <a:off x="-60480" y="3522600"/>
              <a:ext cx="7200360" cy="987480"/>
              <a:chOff x="-60480" y="3522600"/>
              <a:chExt cx="7200360" cy="987480"/>
            </a:xfrm>
          </p:grpSpPr>
          <p:pic>
            <p:nvPicPr>
              <p:cNvPr id="133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60480" y="3522600"/>
                <a:ext cx="7200360" cy="98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7" name=""/>
              <p:cNvSpPr/>
              <p:nvPr/>
            </p:nvSpPr>
            <p:spPr>
              <a:xfrm>
                <a:off x="395280" y="3695760"/>
                <a:ext cx="6051240" cy="6350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>
              <a:off x="415440" y="3833640"/>
              <a:ext cx="57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IVIDAD PRINCIPAL DEL INTERMEDIA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"/>
          <p:cNvSpPr/>
          <p:nvPr/>
        </p:nvSpPr>
        <p:spPr>
          <a:xfrm>
            <a:off x="2286000" y="404640"/>
            <a:ext cx="5022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835280" y="404640"/>
            <a:ext cx="6769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EMBARQU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468360" y="1915920"/>
            <a:ext cx="7939800" cy="1007640"/>
            <a:chOff x="468360" y="1915920"/>
            <a:chExt cx="7939800" cy="1007640"/>
          </a:xfrm>
        </p:grpSpPr>
        <p:grpSp>
          <p:nvGrpSpPr>
            <p:cNvPr id="898" name=""/>
            <p:cNvGrpSpPr/>
            <p:nvPr/>
          </p:nvGrpSpPr>
          <p:grpSpPr>
            <a:xfrm>
              <a:off x="1498680" y="2167920"/>
              <a:ext cx="6909480" cy="755640"/>
              <a:chOff x="1498680" y="2167920"/>
              <a:chExt cx="6909480" cy="755640"/>
            </a:xfrm>
          </p:grpSpPr>
          <p:sp>
            <p:nvSpPr>
              <p:cNvPr id="899" name=""/>
              <p:cNvSpPr/>
              <p:nvPr/>
            </p:nvSpPr>
            <p:spPr>
              <a:xfrm>
                <a:off x="1498680" y="2167920"/>
                <a:ext cx="6909480" cy="75564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49800" y="2367000"/>
                <a:ext cx="680724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7 EMPRESAS DURANTE 5 AÑ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 flipV="1">
              <a:off x="468360" y="1915560"/>
              <a:ext cx="1030320" cy="82116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-360 h 821160"/>
                <a:gd name="textAreaBottom" fmla="*/ 821160 h 82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395280" y="1989000"/>
            <a:ext cx="7921080" cy="1726560"/>
            <a:chOff x="395280" y="1989000"/>
            <a:chExt cx="7921080" cy="1726560"/>
          </a:xfrm>
        </p:grpSpPr>
        <p:grpSp>
          <p:nvGrpSpPr>
            <p:cNvPr id="903" name=""/>
            <p:cNvGrpSpPr/>
            <p:nvPr/>
          </p:nvGrpSpPr>
          <p:grpSpPr>
            <a:xfrm>
              <a:off x="1425600" y="2984760"/>
              <a:ext cx="6890760" cy="730800"/>
              <a:chOff x="1425600" y="2984760"/>
              <a:chExt cx="6890760" cy="730800"/>
            </a:xfrm>
          </p:grpSpPr>
          <p:sp>
            <p:nvSpPr>
              <p:cNvPr id="904" name=""/>
              <p:cNvSpPr/>
              <p:nvPr/>
            </p:nvSpPr>
            <p:spPr>
              <a:xfrm>
                <a:off x="1425600" y="2984760"/>
                <a:ext cx="6890760" cy="73080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76360" y="317520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VENDIERON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       U$S 22.500.00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395280" y="1989000"/>
              <a:ext cx="1029960" cy="1594800"/>
              <a:chOff x="395280" y="1989000"/>
              <a:chExt cx="1029960" cy="1594800"/>
            </a:xfrm>
          </p:grpSpPr>
          <p:sp>
            <p:nvSpPr>
              <p:cNvPr id="907" name=""/>
              <p:cNvSpPr/>
              <p:nvPr/>
            </p:nvSpPr>
            <p:spPr>
              <a:xfrm flipV="1">
                <a:off x="395280" y="2719080"/>
                <a:ext cx="1029960" cy="86436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-360 h 864360"/>
                  <a:gd name="textAreaBottom" fmla="*/ 864360 h 86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95280" y="1989000"/>
                <a:ext cx="315720" cy="86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9" name=""/>
          <p:cNvGrpSpPr/>
          <p:nvPr/>
        </p:nvGrpSpPr>
        <p:grpSpPr>
          <a:xfrm>
            <a:off x="395280" y="3070080"/>
            <a:ext cx="7921080" cy="1510560"/>
            <a:chOff x="395280" y="3070080"/>
            <a:chExt cx="7921080" cy="1510560"/>
          </a:xfrm>
        </p:grpSpPr>
        <p:grpSp>
          <p:nvGrpSpPr>
            <p:cNvPr id="910" name=""/>
            <p:cNvGrpSpPr/>
            <p:nvPr/>
          </p:nvGrpSpPr>
          <p:grpSpPr>
            <a:xfrm>
              <a:off x="1425600" y="3854880"/>
              <a:ext cx="6890760" cy="725760"/>
              <a:chOff x="1425600" y="3854880"/>
              <a:chExt cx="6890760" cy="725760"/>
            </a:xfrm>
          </p:grpSpPr>
          <p:sp>
            <p:nvSpPr>
              <p:cNvPr id="911" name=""/>
              <p:cNvSpPr/>
              <p:nvPr/>
            </p:nvSpPr>
            <p:spPr>
              <a:xfrm>
                <a:off x="1425600" y="3854880"/>
                <a:ext cx="6890760" cy="72576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476360" y="40478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PAGARON IMP. A LAS GANANCIAS         U$S          1.90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395280" y="3070080"/>
              <a:ext cx="1029960" cy="1329840"/>
              <a:chOff x="395280" y="3070080"/>
              <a:chExt cx="1029960" cy="1329840"/>
            </a:xfrm>
          </p:grpSpPr>
          <p:sp>
            <p:nvSpPr>
              <p:cNvPr id="914" name=""/>
              <p:cNvSpPr/>
              <p:nvPr/>
            </p:nvSpPr>
            <p:spPr>
              <a:xfrm flipV="1">
                <a:off x="395280" y="361368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95280" y="307008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"/>
          <p:cNvGrpSpPr/>
          <p:nvPr/>
        </p:nvGrpSpPr>
        <p:grpSpPr>
          <a:xfrm>
            <a:off x="395280" y="3933720"/>
            <a:ext cx="7921080" cy="1512720"/>
            <a:chOff x="395280" y="3933720"/>
            <a:chExt cx="7921080" cy="1512720"/>
          </a:xfrm>
        </p:grpSpPr>
        <p:grpSp>
          <p:nvGrpSpPr>
            <p:cNvPr id="917" name=""/>
            <p:cNvGrpSpPr/>
            <p:nvPr/>
          </p:nvGrpSpPr>
          <p:grpSpPr>
            <a:xfrm>
              <a:off x="1425600" y="4720320"/>
              <a:ext cx="6890760" cy="726120"/>
              <a:chOff x="1425600" y="4720320"/>
              <a:chExt cx="6890760" cy="726120"/>
            </a:xfrm>
          </p:grpSpPr>
          <p:sp>
            <p:nvSpPr>
              <p:cNvPr id="918" name=""/>
              <p:cNvSpPr/>
              <p:nvPr/>
            </p:nvSpPr>
            <p:spPr>
              <a:xfrm>
                <a:off x="1425600" y="4720320"/>
                <a:ext cx="6890760" cy="726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476360" y="49118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RELACIÓN IMPUESTO/VENTAS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      0,008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395280" y="3933720"/>
              <a:ext cx="1029960" cy="1329840"/>
              <a:chOff x="395280" y="3933720"/>
              <a:chExt cx="1029960" cy="1329840"/>
            </a:xfrm>
          </p:grpSpPr>
          <p:sp>
            <p:nvSpPr>
              <p:cNvPr id="921" name=""/>
              <p:cNvSpPr/>
              <p:nvPr/>
            </p:nvSpPr>
            <p:spPr>
              <a:xfrm flipV="1">
                <a:off x="395280" y="447732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95280" y="393372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3" name=""/>
          <p:cNvGrpSpPr/>
          <p:nvPr/>
        </p:nvGrpSpPr>
        <p:grpSpPr>
          <a:xfrm>
            <a:off x="395280" y="4797360"/>
            <a:ext cx="7921080" cy="1512720"/>
            <a:chOff x="395280" y="4797360"/>
            <a:chExt cx="7921080" cy="1512720"/>
          </a:xfrm>
        </p:grpSpPr>
        <p:grpSp>
          <p:nvGrpSpPr>
            <p:cNvPr id="924" name=""/>
            <p:cNvGrpSpPr/>
            <p:nvPr/>
          </p:nvGrpSpPr>
          <p:grpSpPr>
            <a:xfrm>
              <a:off x="1425600" y="5583960"/>
              <a:ext cx="6890760" cy="726120"/>
              <a:chOff x="1425600" y="5583960"/>
              <a:chExt cx="6890760" cy="726120"/>
            </a:xfrm>
          </p:grpSpPr>
          <p:sp>
            <p:nvSpPr>
              <p:cNvPr id="925" name=""/>
              <p:cNvSpPr/>
              <p:nvPr/>
            </p:nvSpPr>
            <p:spPr>
              <a:xfrm>
                <a:off x="1425600" y="5583960"/>
                <a:ext cx="6890760" cy="726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476360" y="564732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RELACIÓN IMPUESTO/VENTAS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   1,6% RESTO DE LA ECONOMÍ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395280" y="4797360"/>
              <a:ext cx="1029960" cy="1329840"/>
              <a:chOff x="395280" y="4797360"/>
              <a:chExt cx="1029960" cy="1329840"/>
            </a:xfrm>
          </p:grpSpPr>
          <p:sp>
            <p:nvSpPr>
              <p:cNvPr id="928" name=""/>
              <p:cNvSpPr/>
              <p:nvPr/>
            </p:nvSpPr>
            <p:spPr>
              <a:xfrm flipV="1">
                <a:off x="395280" y="534096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95280" y="479736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0" name=""/>
          <p:cNvGrpSpPr/>
          <p:nvPr/>
        </p:nvGrpSpPr>
        <p:grpSpPr>
          <a:xfrm>
            <a:off x="324000" y="1341360"/>
            <a:ext cx="8424000" cy="733320"/>
            <a:chOff x="324000" y="1341360"/>
            <a:chExt cx="8424000" cy="733320"/>
          </a:xfrm>
        </p:grpSpPr>
        <p:sp>
          <p:nvSpPr>
            <p:cNvPr id="931" name=""/>
            <p:cNvSpPr/>
            <p:nvPr/>
          </p:nvSpPr>
          <p:spPr>
            <a:xfrm>
              <a:off x="324000" y="1341360"/>
              <a:ext cx="8424000" cy="73332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04280" y="1478880"/>
              <a:ext cx="827064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Frutiger-Bold"/>
                </a:rPr>
                <a:t>1- DESCRIPCION DEL CONTEX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"/>
          <p:cNvGrpSpPr/>
          <p:nvPr/>
        </p:nvGrpSpPr>
        <p:grpSpPr>
          <a:xfrm>
            <a:off x="611280" y="1916280"/>
            <a:ext cx="7939800" cy="864720"/>
            <a:chOff x="611280" y="1916280"/>
            <a:chExt cx="7939800" cy="864720"/>
          </a:xfrm>
        </p:grpSpPr>
        <p:grpSp>
          <p:nvGrpSpPr>
            <p:cNvPr id="934" name=""/>
            <p:cNvGrpSpPr/>
            <p:nvPr/>
          </p:nvGrpSpPr>
          <p:grpSpPr>
            <a:xfrm>
              <a:off x="1641600" y="2132280"/>
              <a:ext cx="6909480" cy="648720"/>
              <a:chOff x="1641600" y="2132280"/>
              <a:chExt cx="6909480" cy="648720"/>
            </a:xfrm>
          </p:grpSpPr>
          <p:sp>
            <p:nvSpPr>
              <p:cNvPr id="935" name=""/>
              <p:cNvSpPr/>
              <p:nvPr/>
            </p:nvSpPr>
            <p:spPr>
              <a:xfrm>
                <a:off x="1641600" y="2132280"/>
                <a:ext cx="6909480" cy="64872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692720" y="2278440"/>
                <a:ext cx="68072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A TRAVÉS DE INTERMEDIARIOS INTERNACION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 flipV="1">
              <a:off x="611280" y="1916280"/>
              <a:ext cx="1030320" cy="70488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704880"/>
                <a:gd name="textAreaBottom" fmla="*/ 704880 h 70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539640" y="1989000"/>
            <a:ext cx="7921080" cy="1510920"/>
            <a:chOff x="539640" y="1989000"/>
            <a:chExt cx="7921080" cy="1510920"/>
          </a:xfrm>
        </p:grpSpPr>
        <p:grpSp>
          <p:nvGrpSpPr>
            <p:cNvPr id="939" name=""/>
            <p:cNvGrpSpPr/>
            <p:nvPr/>
          </p:nvGrpSpPr>
          <p:grpSpPr>
            <a:xfrm>
              <a:off x="1569960" y="2860200"/>
              <a:ext cx="6890760" cy="639720"/>
              <a:chOff x="1569960" y="2860200"/>
              <a:chExt cx="6890760" cy="639720"/>
            </a:xfrm>
          </p:grpSpPr>
          <p:sp>
            <p:nvSpPr>
              <p:cNvPr id="940" name=""/>
              <p:cNvSpPr/>
              <p:nvPr/>
            </p:nvSpPr>
            <p:spPr>
              <a:xfrm>
                <a:off x="1569960" y="2860200"/>
                <a:ext cx="6890760" cy="6397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620720" y="287928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FECHA DE CONTRATO DE LA OPERACIÓN: 180 A 500 DÍAS ANTES DEL EMBAR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539640" y="1989000"/>
              <a:ext cx="1029960" cy="1395360"/>
              <a:chOff x="539640" y="1989000"/>
              <a:chExt cx="1029960" cy="1395360"/>
            </a:xfrm>
          </p:grpSpPr>
          <p:sp>
            <p:nvSpPr>
              <p:cNvPr id="943" name=""/>
              <p:cNvSpPr/>
              <p:nvPr/>
            </p:nvSpPr>
            <p:spPr>
              <a:xfrm flipV="1">
                <a:off x="539640" y="2628360"/>
                <a:ext cx="1029960" cy="75600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56000"/>
                  <a:gd name="textAreaBottom" fmla="*/ 756720 h 75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39640" y="1989000"/>
                <a:ext cx="315720" cy="756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"/>
          <p:cNvGrpSpPr/>
          <p:nvPr/>
        </p:nvGrpSpPr>
        <p:grpSpPr>
          <a:xfrm>
            <a:off x="539640" y="2924280"/>
            <a:ext cx="7921080" cy="1296720"/>
            <a:chOff x="539640" y="2924280"/>
            <a:chExt cx="7921080" cy="1296720"/>
          </a:xfrm>
        </p:grpSpPr>
        <p:grpSp>
          <p:nvGrpSpPr>
            <p:cNvPr id="946" name=""/>
            <p:cNvGrpSpPr/>
            <p:nvPr/>
          </p:nvGrpSpPr>
          <p:grpSpPr>
            <a:xfrm>
              <a:off x="1569960" y="3597840"/>
              <a:ext cx="6890760" cy="623160"/>
              <a:chOff x="1569960" y="3597840"/>
              <a:chExt cx="6890760" cy="623160"/>
            </a:xfrm>
          </p:grpSpPr>
          <p:sp>
            <p:nvSpPr>
              <p:cNvPr id="947" name=""/>
              <p:cNvSpPr/>
              <p:nvPr/>
            </p:nvSpPr>
            <p:spPr>
              <a:xfrm>
                <a:off x="1569960" y="3597840"/>
                <a:ext cx="6890760" cy="62316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620720" y="37382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FIJACIÓN DEL PRECIO A FECHA DE CONT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539640" y="2924280"/>
              <a:ext cx="1029960" cy="1140840"/>
              <a:chOff x="539640" y="2924280"/>
              <a:chExt cx="1029960" cy="1140840"/>
            </a:xfrm>
          </p:grpSpPr>
          <p:sp>
            <p:nvSpPr>
              <p:cNvPr id="950" name=""/>
              <p:cNvSpPr/>
              <p:nvPr/>
            </p:nvSpPr>
            <p:spPr>
              <a:xfrm flipV="1">
                <a:off x="539640" y="3390480"/>
                <a:ext cx="1029960" cy="6746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74640"/>
                  <a:gd name="textAreaBottom" fmla="*/ 675360 h 67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39640" y="2924280"/>
                <a:ext cx="315720" cy="67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539640" y="3645000"/>
            <a:ext cx="7921080" cy="1296360"/>
            <a:chOff x="539640" y="3645000"/>
            <a:chExt cx="7921080" cy="1296360"/>
          </a:xfrm>
        </p:grpSpPr>
        <p:grpSp>
          <p:nvGrpSpPr>
            <p:cNvPr id="953" name=""/>
            <p:cNvGrpSpPr/>
            <p:nvPr/>
          </p:nvGrpSpPr>
          <p:grpSpPr>
            <a:xfrm>
              <a:off x="1569960" y="4318920"/>
              <a:ext cx="6890760" cy="622440"/>
              <a:chOff x="1569960" y="4318920"/>
              <a:chExt cx="6890760" cy="622440"/>
            </a:xfrm>
          </p:grpSpPr>
          <p:sp>
            <p:nvSpPr>
              <p:cNvPr id="954" name=""/>
              <p:cNvSpPr/>
              <p:nvPr/>
            </p:nvSpPr>
            <p:spPr>
              <a:xfrm>
                <a:off x="1569960" y="4318920"/>
                <a:ext cx="6890760" cy="6224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620720" y="44600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INTERMEDIARIOS: LA MAYORIA EN PARAÍSOS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539640" y="3645000"/>
              <a:ext cx="1029960" cy="1139760"/>
              <a:chOff x="539640" y="3645000"/>
              <a:chExt cx="1029960" cy="1139760"/>
            </a:xfrm>
          </p:grpSpPr>
          <p:sp>
            <p:nvSpPr>
              <p:cNvPr id="957" name=""/>
              <p:cNvSpPr/>
              <p:nvPr/>
            </p:nvSpPr>
            <p:spPr>
              <a:xfrm flipV="1">
                <a:off x="539640" y="4110840"/>
                <a:ext cx="1029960" cy="67392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73920"/>
                  <a:gd name="textAreaBottom" fmla="*/ 674640 h 67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39640" y="3645000"/>
                <a:ext cx="315720" cy="673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9" name=""/>
          <p:cNvGrpSpPr/>
          <p:nvPr/>
        </p:nvGrpSpPr>
        <p:grpSpPr>
          <a:xfrm>
            <a:off x="539640" y="4365720"/>
            <a:ext cx="7921080" cy="1287360"/>
            <a:chOff x="539640" y="4365720"/>
            <a:chExt cx="7921080" cy="1287360"/>
          </a:xfrm>
        </p:grpSpPr>
        <p:grpSp>
          <p:nvGrpSpPr>
            <p:cNvPr id="960" name=""/>
            <p:cNvGrpSpPr/>
            <p:nvPr/>
          </p:nvGrpSpPr>
          <p:grpSpPr>
            <a:xfrm>
              <a:off x="1569960" y="5034960"/>
              <a:ext cx="6890760" cy="618120"/>
              <a:chOff x="1569960" y="5034960"/>
              <a:chExt cx="6890760" cy="618120"/>
            </a:xfrm>
          </p:grpSpPr>
          <p:sp>
            <p:nvSpPr>
              <p:cNvPr id="961" name=""/>
              <p:cNvSpPr/>
              <p:nvPr/>
            </p:nvSpPr>
            <p:spPr>
              <a:xfrm>
                <a:off x="1569960" y="5034960"/>
                <a:ext cx="6890760" cy="618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620720" y="504324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DOCUMENTACIÓN DE LA EXPORTACIÓN: FACTURA AL INTERMEDI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539640" y="4365720"/>
              <a:ext cx="1029960" cy="1131480"/>
              <a:chOff x="539640" y="4365720"/>
              <a:chExt cx="1029960" cy="1131480"/>
            </a:xfrm>
          </p:grpSpPr>
          <p:sp>
            <p:nvSpPr>
              <p:cNvPr id="964" name=""/>
              <p:cNvSpPr/>
              <p:nvPr/>
            </p:nvSpPr>
            <p:spPr>
              <a:xfrm flipV="1">
                <a:off x="539640" y="4828320"/>
                <a:ext cx="1029960" cy="66888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68880"/>
                  <a:gd name="textAreaBottom" fmla="*/ 669600 h 66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39640" y="4365720"/>
                <a:ext cx="315720" cy="668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6" name=""/>
          <p:cNvGrpSpPr/>
          <p:nvPr/>
        </p:nvGrpSpPr>
        <p:grpSpPr>
          <a:xfrm>
            <a:off x="250920" y="1341360"/>
            <a:ext cx="8476560" cy="733320"/>
            <a:chOff x="250920" y="1341360"/>
            <a:chExt cx="8476560" cy="733320"/>
          </a:xfrm>
        </p:grpSpPr>
        <p:sp>
          <p:nvSpPr>
            <p:cNvPr id="967" name=""/>
            <p:cNvSpPr/>
            <p:nvPr/>
          </p:nvSpPr>
          <p:spPr>
            <a:xfrm>
              <a:off x="250920" y="1341360"/>
              <a:ext cx="8476560" cy="73332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31920" y="1478880"/>
              <a:ext cx="832212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2- MODALIDAD COMERCIAL DE LA EXPORT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539640" y="5084640"/>
            <a:ext cx="7921080" cy="1295640"/>
            <a:chOff x="539640" y="5084640"/>
            <a:chExt cx="7921080" cy="1295640"/>
          </a:xfrm>
        </p:grpSpPr>
        <p:grpSp>
          <p:nvGrpSpPr>
            <p:cNvPr id="970" name=""/>
            <p:cNvGrpSpPr/>
            <p:nvPr/>
          </p:nvGrpSpPr>
          <p:grpSpPr>
            <a:xfrm>
              <a:off x="1569960" y="5758200"/>
              <a:ext cx="6890760" cy="622080"/>
              <a:chOff x="1569960" y="5758200"/>
              <a:chExt cx="6890760" cy="622080"/>
            </a:xfrm>
          </p:grpSpPr>
          <p:sp>
            <p:nvSpPr>
              <p:cNvPr id="971" name=""/>
              <p:cNvSpPr/>
              <p:nvPr/>
            </p:nvSpPr>
            <p:spPr>
              <a:xfrm>
                <a:off x="1569960" y="5758200"/>
                <a:ext cx="6890760" cy="62208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620720" y="577008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DESTINO DE LA MERCADERIA: PAÍS DISTINTO AL DEL INTERMEDI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539640" y="5084640"/>
              <a:ext cx="1029960" cy="1138680"/>
              <a:chOff x="539640" y="5084640"/>
              <a:chExt cx="1029960" cy="1138680"/>
            </a:xfrm>
          </p:grpSpPr>
          <p:sp>
            <p:nvSpPr>
              <p:cNvPr id="974" name=""/>
              <p:cNvSpPr/>
              <p:nvPr/>
            </p:nvSpPr>
            <p:spPr>
              <a:xfrm flipV="1">
                <a:off x="539640" y="5550120"/>
                <a:ext cx="1029960" cy="67320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73200"/>
                  <a:gd name="textAreaBottom" fmla="*/ 673920 h 67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39640" y="5084640"/>
                <a:ext cx="315720" cy="67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6" name=""/>
          <p:cNvSpPr/>
          <p:nvPr/>
        </p:nvSpPr>
        <p:spPr>
          <a:xfrm>
            <a:off x="1835280" y="404640"/>
            <a:ext cx="6769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EMBARQU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1835280" y="404640"/>
            <a:ext cx="6769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ETODO – FECHA DE EMBARQU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179280" y="1411920"/>
            <a:ext cx="8640000" cy="824040"/>
            <a:chOff x="179280" y="1411920"/>
            <a:chExt cx="8640000" cy="824040"/>
          </a:xfrm>
        </p:grpSpPr>
        <p:sp>
          <p:nvSpPr>
            <p:cNvPr id="979" name=""/>
            <p:cNvSpPr/>
            <p:nvPr/>
          </p:nvSpPr>
          <p:spPr>
            <a:xfrm>
              <a:off x="179280" y="1456560"/>
              <a:ext cx="8640000" cy="734040"/>
            </a:xfrm>
            <a:prstGeom prst="roundRect">
              <a:avLst>
                <a:gd name="adj" fmla="val 16764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f1c0"/>
                </a:gs>
              </a:gsLst>
              <a:lin ang="5400000"/>
            </a:gra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1720" y="1411920"/>
              <a:ext cx="8482680" cy="82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3- TRIANGULACIÓN DE EXPORTACION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 </a:t>
              </a: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REFACTU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81" name=""/>
          <p:cNvGraphicFramePr/>
          <p:nvPr/>
        </p:nvGraphicFramePr>
        <p:xfrm>
          <a:off x="395280" y="2924280"/>
          <a:ext cx="8209080" cy="2604960"/>
        </p:xfrm>
        <a:graphic>
          <a:graphicData uri="http://schemas.openxmlformats.org/drawingml/2006/table">
            <a:tbl>
              <a:tblPr/>
              <a:tblGrid>
                <a:gridCol w="2667600"/>
                <a:gridCol w="2873160"/>
                <a:gridCol w="26683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IS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RT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I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MEDI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IS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TINAT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2" name=""/>
          <p:cNvSpPr/>
          <p:nvPr/>
        </p:nvSpPr>
        <p:spPr>
          <a:xfrm>
            <a:off x="7485120" y="3932280"/>
            <a:ext cx="896760" cy="63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605480" y="3932280"/>
            <a:ext cx="863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2484360" y="3932280"/>
            <a:ext cx="2121120" cy="770760"/>
            <a:chOff x="2484360" y="3932280"/>
            <a:chExt cx="2121120" cy="770760"/>
          </a:xfrm>
        </p:grpSpPr>
        <p:grpSp>
          <p:nvGrpSpPr>
            <p:cNvPr id="985" name=""/>
            <p:cNvGrpSpPr/>
            <p:nvPr/>
          </p:nvGrpSpPr>
          <p:grpSpPr>
            <a:xfrm>
              <a:off x="2556000" y="3932280"/>
              <a:ext cx="1296720" cy="770760"/>
              <a:chOff x="2556000" y="3932280"/>
              <a:chExt cx="1296720" cy="770760"/>
            </a:xfrm>
          </p:grpSpPr>
          <p:sp>
            <p:nvSpPr>
              <p:cNvPr id="986" name=""/>
              <p:cNvSpPr/>
              <p:nvPr/>
            </p:nvSpPr>
            <p:spPr>
              <a:xfrm>
                <a:off x="2556000" y="4365720"/>
                <a:ext cx="1296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C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660400" y="3932280"/>
                <a:ext cx="93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NT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>
              <a:off x="2484360" y="4292640"/>
              <a:ext cx="21211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2052720" y="4579920"/>
            <a:ext cx="5865480" cy="842400"/>
            <a:chOff x="2052720" y="4579920"/>
            <a:chExt cx="5865480" cy="842400"/>
          </a:xfrm>
        </p:grpSpPr>
        <p:sp>
          <p:nvSpPr>
            <p:cNvPr id="990" name=""/>
            <p:cNvSpPr/>
            <p:nvPr/>
          </p:nvSpPr>
          <p:spPr>
            <a:xfrm>
              <a:off x="4100400" y="508500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ÁNSITO FÍS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2052720" y="4579920"/>
              <a:ext cx="5865480" cy="433440"/>
              <a:chOff x="2052720" y="4579920"/>
              <a:chExt cx="5865480" cy="433440"/>
            </a:xfrm>
          </p:grpSpPr>
          <p:grpSp>
            <p:nvGrpSpPr>
              <p:cNvPr id="992" name=""/>
              <p:cNvGrpSpPr/>
              <p:nvPr/>
            </p:nvGrpSpPr>
            <p:grpSpPr>
              <a:xfrm>
                <a:off x="2052720" y="4581720"/>
                <a:ext cx="5864040" cy="431640"/>
                <a:chOff x="2052720" y="4581720"/>
                <a:chExt cx="5864040" cy="431640"/>
              </a:xfrm>
            </p:grpSpPr>
            <p:sp>
              <p:nvSpPr>
                <p:cNvPr id="993" name=""/>
                <p:cNvSpPr/>
                <p:nvPr/>
              </p:nvSpPr>
              <p:spPr>
                <a:xfrm flipV="1">
                  <a:off x="2052720" y="5011920"/>
                  <a:ext cx="58640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2052720" y="4581720"/>
                  <a:ext cx="0" cy="4316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5" name=""/>
              <p:cNvSpPr/>
              <p:nvPr/>
            </p:nvSpPr>
            <p:spPr>
              <a:xfrm flipH="1" flipV="1">
                <a:off x="7916400" y="4579920"/>
                <a:ext cx="1800" cy="433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6" name=""/>
          <p:cNvGrpSpPr/>
          <p:nvPr/>
        </p:nvGrpSpPr>
        <p:grpSpPr>
          <a:xfrm>
            <a:off x="5468760" y="3932280"/>
            <a:ext cx="2016360" cy="770760"/>
            <a:chOff x="5468760" y="3932280"/>
            <a:chExt cx="2016360" cy="770760"/>
          </a:xfrm>
        </p:grpSpPr>
        <p:sp>
          <p:nvSpPr>
            <p:cNvPr id="997" name=""/>
            <p:cNvSpPr/>
            <p:nvPr/>
          </p:nvSpPr>
          <p:spPr>
            <a:xfrm>
              <a:off x="5468760" y="4292640"/>
              <a:ext cx="201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5724360" y="3932280"/>
              <a:ext cx="1297080" cy="770760"/>
              <a:chOff x="5724360" y="3932280"/>
              <a:chExt cx="1297080" cy="770760"/>
            </a:xfrm>
          </p:grpSpPr>
          <p:sp>
            <p:nvSpPr>
              <p:cNvPr id="999" name=""/>
              <p:cNvSpPr/>
              <p:nvPr/>
            </p:nvSpPr>
            <p:spPr>
              <a:xfrm>
                <a:off x="5724360" y="436572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C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829120" y="3932280"/>
                <a:ext cx="936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ENT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1" name=""/>
          <p:cNvSpPr/>
          <p:nvPr/>
        </p:nvSpPr>
        <p:spPr>
          <a:xfrm>
            <a:off x="1619280" y="3932280"/>
            <a:ext cx="863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2" name=""/>
          <p:cNvGraphicFramePr/>
          <p:nvPr/>
        </p:nvGraphicFramePr>
        <p:xfrm>
          <a:off x="179280" y="1557360"/>
          <a:ext cx="8640720" cy="4732200"/>
        </p:xfrm>
        <a:graphic>
          <a:graphicData uri="http://schemas.openxmlformats.org/drawingml/2006/table">
            <a:tbl>
              <a:tblPr/>
              <a:tblGrid>
                <a:gridCol w="1656000"/>
                <a:gridCol w="1955520"/>
                <a:gridCol w="1982880"/>
                <a:gridCol w="1751040"/>
                <a:gridCol w="1295280"/>
              </a:tblGrid>
              <a:tr h="51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ORT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MEDI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MEDI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MEDI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 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STINAT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ETERMINACION DE LA REN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ETERMINACION DE LA REN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ETERMINACION DE LA REN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ETERMINACION DE LA REN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TA AL PAIS 2         10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RA LOCAL    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(9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                 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TA AL PAIS 3             12     COMPRA AL PAIS 1   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(10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                     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TA AL PAIS 4             14     COMPRA AL PAIS 2   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(12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                     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TA AL PAIS 5           15     COMP PAIS 3           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(14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                   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3" name=""/>
          <p:cNvSpPr/>
          <p:nvPr/>
        </p:nvSpPr>
        <p:spPr>
          <a:xfrm>
            <a:off x="1692360" y="333360"/>
            <a:ext cx="69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Frutiger-Bold"/>
              </a:rPr>
              <a:t> 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EXPORTACIONES VERIFICADAS POR AF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460520" y="1415880"/>
            <a:ext cx="12445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460520" y="1415880"/>
            <a:ext cx="12445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460520" y="1415880"/>
            <a:ext cx="12445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33440" y="2217600"/>
            <a:ext cx="898560" cy="61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327400" y="2705040"/>
            <a:ext cx="896760" cy="63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284720" y="3195720"/>
            <a:ext cx="863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219720" y="3697200"/>
            <a:ext cx="897120" cy="60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885080" y="4203720"/>
            <a:ext cx="898560" cy="606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042920" y="2762280"/>
            <a:ext cx="1224000" cy="524160"/>
            <a:chOff x="1042920" y="2762280"/>
            <a:chExt cx="1224000" cy="524160"/>
          </a:xfrm>
        </p:grpSpPr>
        <p:sp>
          <p:nvSpPr>
            <p:cNvPr id="1013" name=""/>
            <p:cNvSpPr/>
            <p:nvPr/>
          </p:nvSpPr>
          <p:spPr>
            <a:xfrm>
              <a:off x="1042920" y="276228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CTURA $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93840" y="300996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900000" y="2835360"/>
            <a:ext cx="1424160" cy="207360"/>
            <a:chOff x="900000" y="2835360"/>
            <a:chExt cx="1424160" cy="207360"/>
          </a:xfrm>
        </p:grpSpPr>
        <p:sp>
          <p:nvSpPr>
            <p:cNvPr id="1016" name=""/>
            <p:cNvSpPr/>
            <p:nvPr/>
          </p:nvSpPr>
          <p:spPr>
            <a:xfrm>
              <a:off x="900000" y="2835360"/>
              <a:ext cx="0" cy="207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900000" y="3033720"/>
              <a:ext cx="1424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2916360" y="3267000"/>
            <a:ext cx="1223640" cy="522360"/>
            <a:chOff x="2916360" y="3267000"/>
            <a:chExt cx="1223640" cy="522360"/>
          </a:xfrm>
        </p:grpSpPr>
        <p:sp>
          <p:nvSpPr>
            <p:cNvPr id="1019" name=""/>
            <p:cNvSpPr/>
            <p:nvPr/>
          </p:nvSpPr>
          <p:spPr>
            <a:xfrm>
              <a:off x="2916360" y="3267000"/>
              <a:ext cx="122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CTURA $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238560" y="351288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2771640" y="3338640"/>
            <a:ext cx="1508040" cy="207360"/>
            <a:chOff x="2771640" y="3338640"/>
            <a:chExt cx="1508040" cy="207360"/>
          </a:xfrm>
        </p:grpSpPr>
        <p:sp>
          <p:nvSpPr>
            <p:cNvPr id="1022" name=""/>
            <p:cNvSpPr/>
            <p:nvPr/>
          </p:nvSpPr>
          <p:spPr>
            <a:xfrm>
              <a:off x="2771640" y="3338640"/>
              <a:ext cx="0" cy="207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71640" y="3537000"/>
              <a:ext cx="15080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859280" y="3772080"/>
            <a:ext cx="1224000" cy="522720"/>
            <a:chOff x="4859280" y="3772080"/>
            <a:chExt cx="1224000" cy="522720"/>
          </a:xfrm>
        </p:grpSpPr>
        <p:sp>
          <p:nvSpPr>
            <p:cNvPr id="1025" name=""/>
            <p:cNvSpPr/>
            <p:nvPr/>
          </p:nvSpPr>
          <p:spPr>
            <a:xfrm>
              <a:off x="4859280" y="377208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CTURA $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83280" y="401832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4716360" y="3843360"/>
            <a:ext cx="1508040" cy="213840"/>
            <a:chOff x="4716360" y="3843360"/>
            <a:chExt cx="1508040" cy="213840"/>
          </a:xfrm>
        </p:grpSpPr>
        <p:sp>
          <p:nvSpPr>
            <p:cNvPr id="1028" name=""/>
            <p:cNvSpPr/>
            <p:nvPr/>
          </p:nvSpPr>
          <p:spPr>
            <a:xfrm>
              <a:off x="4716360" y="3843360"/>
              <a:ext cx="0" cy="2138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716360" y="4047840"/>
              <a:ext cx="15080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838920" y="4233960"/>
            <a:ext cx="1297080" cy="563760"/>
            <a:chOff x="6838920" y="4233960"/>
            <a:chExt cx="1297080" cy="563760"/>
          </a:xfrm>
        </p:grpSpPr>
        <p:sp>
          <p:nvSpPr>
            <p:cNvPr id="1031" name=""/>
            <p:cNvSpPr/>
            <p:nvPr/>
          </p:nvSpPr>
          <p:spPr>
            <a:xfrm>
              <a:off x="6838920" y="4233960"/>
              <a:ext cx="129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CTURA $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28000" y="452124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6675480" y="4313160"/>
            <a:ext cx="1511280" cy="209520"/>
            <a:chOff x="6675480" y="4313160"/>
            <a:chExt cx="1511280" cy="209520"/>
          </a:xfrm>
        </p:grpSpPr>
        <p:sp>
          <p:nvSpPr>
            <p:cNvPr id="1034" name=""/>
            <p:cNvSpPr/>
            <p:nvPr/>
          </p:nvSpPr>
          <p:spPr>
            <a:xfrm>
              <a:off x="6675480" y="4313160"/>
              <a:ext cx="0" cy="2095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675480" y="4513320"/>
              <a:ext cx="15112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1187280" y="2187720"/>
            <a:ext cx="7286400" cy="2036160"/>
            <a:chOff x="1187280" y="2187720"/>
            <a:chExt cx="7286400" cy="2036160"/>
          </a:xfrm>
        </p:grpSpPr>
        <p:sp>
          <p:nvSpPr>
            <p:cNvPr id="1037" name=""/>
            <p:cNvSpPr/>
            <p:nvPr/>
          </p:nvSpPr>
          <p:spPr>
            <a:xfrm>
              <a:off x="1187280" y="2525400"/>
              <a:ext cx="7272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473680" y="2525400"/>
              <a:ext cx="0" cy="1698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255400" y="2187720"/>
              <a:ext cx="49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ORTACION - MOVIMIENTO FISICO DE LA MERCADE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463680" y="6219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400" spc="-1" strike="noStrike" u="sng">
                <a:solidFill>
                  <a:srgbClr val="00ff00"/>
                </a:solidFill>
                <a:uFillTx/>
                <a:latin typeface="Times New Roman"/>
              </a:rPr>
              <a:t>FACTU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979640" y="6380280"/>
            <a:ext cx="431640" cy="14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699640" y="6237360"/>
            <a:ext cx="39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400" spc="-1" strike="noStrike" u="sng">
                <a:solidFill>
                  <a:srgbClr val="ff0000"/>
                </a:solidFill>
                <a:uFillTx/>
                <a:latin typeface="Times New Roman"/>
              </a:rPr>
              <a:t>MOVIMIENTO FÍSICO DE LA MERCAD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659640" y="6381720"/>
            <a:ext cx="43344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437040" y="148608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FACT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1371600" y="2198520"/>
            <a:ext cx="7010280" cy="4110120"/>
            <a:chOff x="1371600" y="2198520"/>
            <a:chExt cx="7010280" cy="4110120"/>
          </a:xfrm>
        </p:grpSpPr>
        <p:sp>
          <p:nvSpPr>
            <p:cNvPr id="1046" name=""/>
            <p:cNvSpPr/>
            <p:nvPr/>
          </p:nvSpPr>
          <p:spPr>
            <a:xfrm>
              <a:off x="2439000" y="4243320"/>
              <a:ext cx="12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imes New Roman"/>
                </a:rPr>
                <a:t>OFF SH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1371600" y="2198520"/>
              <a:ext cx="7010280" cy="4110120"/>
              <a:chOff x="1371600" y="2198520"/>
              <a:chExt cx="7010280" cy="4110120"/>
            </a:xfrm>
          </p:grpSpPr>
          <p:grpSp>
            <p:nvGrpSpPr>
              <p:cNvPr id="1048" name=""/>
              <p:cNvGrpSpPr/>
              <p:nvPr/>
            </p:nvGrpSpPr>
            <p:grpSpPr>
              <a:xfrm>
                <a:off x="1371600" y="2198520"/>
                <a:ext cx="7010280" cy="4110120"/>
                <a:chOff x="1371600" y="2198520"/>
                <a:chExt cx="7010280" cy="4110120"/>
              </a:xfrm>
            </p:grpSpPr>
            <p:pic>
              <p:nvPicPr>
                <p:cNvPr id="1049" name="" descr=""/>
                <p:cNvPicPr/>
                <p:nvPr/>
              </p:nvPicPr>
              <p:blipFill>
                <a:blip r:embed="rId1"/>
                <a:srcRect l="14655" t="4632" r="56898" b="18123"/>
                <a:stretch/>
              </p:blipFill>
              <p:spPr>
                <a:xfrm>
                  <a:off x="1371600" y="2198520"/>
                  <a:ext cx="2514600" cy="411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0" name="" descr=""/>
                <p:cNvPicPr/>
                <p:nvPr/>
              </p:nvPicPr>
              <p:blipFill>
                <a:blip r:embed="rId2"/>
                <a:srcRect l="42242" t="4632" r="29311" b="18123"/>
                <a:stretch/>
              </p:blipFill>
              <p:spPr>
                <a:xfrm>
                  <a:off x="5867280" y="2198520"/>
                  <a:ext cx="2514600" cy="411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51" name=""/>
              <p:cNvSpPr/>
              <p:nvPr/>
            </p:nvSpPr>
            <p:spPr>
              <a:xfrm>
                <a:off x="2209680" y="4327200"/>
                <a:ext cx="11448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679840" y="5601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3" name=""/>
          <p:cNvGrpSpPr/>
          <p:nvPr/>
        </p:nvGrpSpPr>
        <p:grpSpPr>
          <a:xfrm>
            <a:off x="2705040" y="3870360"/>
            <a:ext cx="3670200" cy="2049120"/>
            <a:chOff x="2705040" y="3870360"/>
            <a:chExt cx="3670200" cy="2049120"/>
          </a:xfrm>
        </p:grpSpPr>
        <p:sp>
          <p:nvSpPr>
            <p:cNvPr id="1054" name=""/>
            <p:cNvSpPr/>
            <p:nvPr/>
          </p:nvSpPr>
          <p:spPr>
            <a:xfrm>
              <a:off x="4079520" y="4937040"/>
              <a:ext cx="11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rcader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2705040" y="3870360"/>
              <a:ext cx="3670200" cy="2049120"/>
              <a:chOff x="2705040" y="3870360"/>
              <a:chExt cx="3670200" cy="204912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2705040" y="3870360"/>
                <a:ext cx="3670200" cy="2049120"/>
                <a:chOff x="2705040" y="3870360"/>
                <a:chExt cx="3670200" cy="204912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2705040" y="3870360"/>
                  <a:ext cx="3670200" cy="1769760"/>
                </a:xfrm>
                <a:custGeom>
                  <a:avLst/>
                  <a:gdLst/>
                  <a:ahLst/>
                  <a:rect l="l" t="t" r="r" b="b"/>
                  <a:pathLst>
                    <a:path w="2312" h="1115">
                      <a:moveTo>
                        <a:pt x="0" y="1115"/>
                      </a:moveTo>
                      <a:lnTo>
                        <a:pt x="2312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2745000" y="5551200"/>
                  <a:ext cx="409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s-ES" sz="1800" spc="-1" strike="noStrike">
                      <a:solidFill>
                        <a:srgbClr val="ffffff"/>
                      </a:solidFill>
                      <a:latin typeface="Times New Roman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5869080" y="4103640"/>
                  <a:ext cx="409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s-ES" sz="1800" spc="-1" strike="noStrike">
                      <a:solidFill>
                        <a:srgbClr val="ffffff"/>
                      </a:solidFill>
                      <a:latin typeface="Times New Roman"/>
                    </a:rPr>
                    <a:t>1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60" name="" descr="Royal-Denship barcos cientificos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4419720" y="4636800"/>
                <a:ext cx="457200" cy="325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61" name=""/>
          <p:cNvGrpSpPr/>
          <p:nvPr/>
        </p:nvGrpSpPr>
        <p:grpSpPr>
          <a:xfrm>
            <a:off x="1399680" y="4383000"/>
            <a:ext cx="1269000" cy="1450080"/>
            <a:chOff x="1399680" y="4383000"/>
            <a:chExt cx="1269000" cy="1450080"/>
          </a:xfrm>
        </p:grpSpPr>
        <p:pic>
          <p:nvPicPr>
            <p:cNvPr id="1062" name="" descr=""/>
            <p:cNvPicPr/>
            <p:nvPr/>
          </p:nvPicPr>
          <p:blipFill>
            <a:blip r:embed="rId5"/>
            <a:stretch/>
          </p:blipFill>
          <p:spPr>
            <a:xfrm>
              <a:off x="1568520" y="4937040"/>
              <a:ext cx="45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/>
            <p:cNvSpPr/>
            <p:nvPr/>
          </p:nvSpPr>
          <p:spPr>
            <a:xfrm>
              <a:off x="1524960" y="512748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$ 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31840" y="4383000"/>
              <a:ext cx="636840" cy="1231920"/>
            </a:xfrm>
            <a:custGeom>
              <a:avLst/>
              <a:gdLst/>
              <a:ahLst/>
              <a:rect l="l" t="t" r="r" b="b"/>
              <a:pathLst>
                <a:path w="401" h="776">
                  <a:moveTo>
                    <a:pt x="401" y="776"/>
                  </a:moveTo>
                  <a:cubicBezTo>
                    <a:pt x="340" y="712"/>
                    <a:pt x="66" y="521"/>
                    <a:pt x="33" y="392"/>
                  </a:cubicBezTo>
                  <a:cubicBezTo>
                    <a:pt x="0" y="263"/>
                    <a:pt x="166" y="82"/>
                    <a:pt x="201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399680" y="54957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Fac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2362320" y="2943360"/>
            <a:ext cx="4000320" cy="1465200"/>
            <a:chOff x="2362320" y="2943360"/>
            <a:chExt cx="4000320" cy="1465200"/>
          </a:xfrm>
        </p:grpSpPr>
        <p:pic>
          <p:nvPicPr>
            <p:cNvPr id="1067" name="" descr=""/>
            <p:cNvPicPr/>
            <p:nvPr/>
          </p:nvPicPr>
          <p:blipFill>
            <a:blip r:embed="rId6"/>
            <a:stretch/>
          </p:blipFill>
          <p:spPr>
            <a:xfrm>
              <a:off x="3619440" y="3260880"/>
              <a:ext cx="45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3576240" y="34513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$ 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362320" y="3768840"/>
              <a:ext cx="4000320" cy="639720"/>
            </a:xfrm>
            <a:custGeom>
              <a:avLst/>
              <a:gdLst/>
              <a:ahLst/>
              <a:rect l="l" t="t" r="r" b="b"/>
              <a:pathLst>
                <a:path w="2520" h="403">
                  <a:moveTo>
                    <a:pt x="2520" y="0"/>
                  </a:moveTo>
                  <a:cubicBezTo>
                    <a:pt x="2232" y="27"/>
                    <a:pt x="1212" y="104"/>
                    <a:pt x="792" y="171"/>
                  </a:cubicBezTo>
                  <a:cubicBezTo>
                    <a:pt x="372" y="238"/>
                    <a:pt x="165" y="355"/>
                    <a:pt x="0" y="40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458520" y="2943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Fac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1" name=""/>
          <p:cNvSpPr/>
          <p:nvPr/>
        </p:nvSpPr>
        <p:spPr>
          <a:xfrm>
            <a:off x="2034360" y="522360"/>
            <a:ext cx="50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OPERATORIA FISC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441360" y="368280"/>
            <a:ext cx="7751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773720" y="598320"/>
            <a:ext cx="61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OTRA OPERATORIA FISC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1587600" y="1668600"/>
            <a:ext cx="7010280" cy="4109760"/>
            <a:chOff x="1587600" y="1668600"/>
            <a:chExt cx="7010280" cy="4109760"/>
          </a:xfrm>
        </p:grpSpPr>
        <p:pic>
          <p:nvPicPr>
            <p:cNvPr id="1075" name="" descr=""/>
            <p:cNvPicPr/>
            <p:nvPr/>
          </p:nvPicPr>
          <p:blipFill>
            <a:blip r:embed="rId1"/>
            <a:srcRect l="14655" t="4632" r="56898" b="18123"/>
            <a:stretch/>
          </p:blipFill>
          <p:spPr>
            <a:xfrm>
              <a:off x="1587600" y="1668600"/>
              <a:ext cx="2514600" cy="41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" descr=""/>
            <p:cNvPicPr/>
            <p:nvPr/>
          </p:nvPicPr>
          <p:blipFill>
            <a:blip r:embed="rId2"/>
            <a:srcRect l="42242" t="4632" r="29311" b="18123"/>
            <a:stretch/>
          </p:blipFill>
          <p:spPr>
            <a:xfrm>
              <a:off x="6083280" y="1668600"/>
              <a:ext cx="25146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2425680" y="3796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95840" y="5071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54280" y="5397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02040" y="4025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315360" y="1531800"/>
            <a:ext cx="461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FACTRUACIÓN COMPLE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1123560" y="3672000"/>
            <a:ext cx="1822320" cy="1640880"/>
            <a:chOff x="1123560" y="3672000"/>
            <a:chExt cx="1822320" cy="1640880"/>
          </a:xfrm>
        </p:grpSpPr>
        <p:grpSp>
          <p:nvGrpSpPr>
            <p:cNvPr id="1083" name=""/>
            <p:cNvGrpSpPr/>
            <p:nvPr/>
          </p:nvGrpSpPr>
          <p:grpSpPr>
            <a:xfrm>
              <a:off x="1130040" y="4178520"/>
              <a:ext cx="1066320" cy="1134360"/>
              <a:chOff x="1130040" y="4178520"/>
              <a:chExt cx="1066320" cy="1134360"/>
            </a:xfrm>
          </p:grpSpPr>
          <p:pic>
            <p:nvPicPr>
              <p:cNvPr id="10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0720" y="4178520"/>
                <a:ext cx="456840" cy="60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1396800" y="4368960"/>
                <a:ext cx="58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$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040" y="4762440"/>
                <a:ext cx="10663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500" spc="-1" strike="noStrike">
                    <a:solidFill>
                      <a:srgbClr val="000000"/>
                    </a:solidFill>
                    <a:latin typeface="Times New Roman"/>
                  </a:rPr>
                  <a:t>Vende empresa 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7" name=""/>
            <p:cNvSpPr/>
            <p:nvPr/>
          </p:nvSpPr>
          <p:spPr>
            <a:xfrm>
              <a:off x="2131920" y="3936960"/>
              <a:ext cx="813960" cy="1181160"/>
            </a:xfrm>
            <a:custGeom>
              <a:avLst/>
              <a:gdLst/>
              <a:ahLst/>
              <a:rect l="l" t="t" r="r" b="b"/>
              <a:pathLst>
                <a:path w="513" h="744">
                  <a:moveTo>
                    <a:pt x="513" y="744"/>
                  </a:moveTo>
                  <a:cubicBezTo>
                    <a:pt x="460" y="732"/>
                    <a:pt x="274" y="723"/>
                    <a:pt x="193" y="672"/>
                  </a:cubicBezTo>
                  <a:cubicBezTo>
                    <a:pt x="112" y="621"/>
                    <a:pt x="50" y="520"/>
                    <a:pt x="25" y="440"/>
                  </a:cubicBezTo>
                  <a:cubicBezTo>
                    <a:pt x="0" y="360"/>
                    <a:pt x="14" y="265"/>
                    <a:pt x="41" y="192"/>
                  </a:cubicBezTo>
                  <a:cubicBezTo>
                    <a:pt x="68" y="119"/>
                    <a:pt x="155" y="40"/>
                    <a:pt x="185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123560" y="3672000"/>
              <a:ext cx="149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OFF SHORE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2286000" y="2425680"/>
            <a:ext cx="2204640" cy="1812240"/>
            <a:chOff x="2286000" y="2425680"/>
            <a:chExt cx="2204640" cy="1812240"/>
          </a:xfrm>
        </p:grpSpPr>
        <p:pic>
          <p:nvPicPr>
            <p:cNvPr id="1090" name="" descr=""/>
            <p:cNvPicPr/>
            <p:nvPr/>
          </p:nvPicPr>
          <p:blipFill>
            <a:blip r:embed="rId4"/>
            <a:stretch/>
          </p:blipFill>
          <p:spPr>
            <a:xfrm>
              <a:off x="2589120" y="2946600"/>
              <a:ext cx="45684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>
              <a:off x="2544840" y="313704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$1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286000" y="2425680"/>
              <a:ext cx="1130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Factura Off Shore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994840" y="3900600"/>
              <a:ext cx="149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OFF SHORE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577960" y="3716280"/>
              <a:ext cx="610560" cy="373320"/>
            </a:xfrm>
            <a:custGeom>
              <a:avLst/>
              <a:gdLst/>
              <a:ahLst/>
              <a:rect l="l" t="t" r="r" b="b"/>
              <a:pathLst>
                <a:path w="385" h="235">
                  <a:moveTo>
                    <a:pt x="0" y="43"/>
                  </a:moveTo>
                  <a:cubicBezTo>
                    <a:pt x="28" y="34"/>
                    <a:pt x="115" y="0"/>
                    <a:pt x="168" y="3"/>
                  </a:cubicBezTo>
                  <a:cubicBezTo>
                    <a:pt x="221" y="6"/>
                    <a:pt x="284" y="39"/>
                    <a:pt x="320" y="59"/>
                  </a:cubicBezTo>
                  <a:cubicBezTo>
                    <a:pt x="356" y="79"/>
                    <a:pt x="383" y="94"/>
                    <a:pt x="384" y="123"/>
                  </a:cubicBezTo>
                  <a:cubicBezTo>
                    <a:pt x="385" y="152"/>
                    <a:pt x="340" y="212"/>
                    <a:pt x="328" y="2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2705040" y="3263760"/>
            <a:ext cx="3911760" cy="2328120"/>
            <a:chOff x="2705040" y="3263760"/>
            <a:chExt cx="3911760" cy="2328120"/>
          </a:xfrm>
        </p:grpSpPr>
        <p:sp>
          <p:nvSpPr>
            <p:cNvPr id="1096" name=""/>
            <p:cNvSpPr/>
            <p:nvPr/>
          </p:nvSpPr>
          <p:spPr>
            <a:xfrm>
              <a:off x="2705040" y="5094000"/>
              <a:ext cx="3759480" cy="328680"/>
            </a:xfrm>
            <a:custGeom>
              <a:avLst/>
              <a:gdLst/>
              <a:ahLst/>
              <a:rect l="l" t="t" r="r" b="b"/>
              <a:pathLst>
                <a:path w="2368" h="207">
                  <a:moveTo>
                    <a:pt x="0" y="207"/>
                  </a:moveTo>
                  <a:lnTo>
                    <a:pt x="2368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6464520" y="3263760"/>
              <a:ext cx="152280" cy="18288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5461200" y="4457520"/>
              <a:ext cx="1066680" cy="1134360"/>
              <a:chOff x="5461200" y="4457520"/>
              <a:chExt cx="1066680" cy="1134360"/>
            </a:xfrm>
          </p:grpSpPr>
          <p:pic>
            <p:nvPicPr>
              <p:cNvPr id="10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772240" y="4457520"/>
                <a:ext cx="457200" cy="60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"/>
              <p:cNvSpPr/>
              <p:nvPr/>
            </p:nvSpPr>
            <p:spPr>
              <a:xfrm>
                <a:off x="5728320" y="4647960"/>
                <a:ext cx="58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$14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461200" y="5041440"/>
                <a:ext cx="10666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500" spc="-1" strike="noStrike">
                    <a:solidFill>
                      <a:srgbClr val="000000"/>
                    </a:solidFill>
                    <a:latin typeface="Times New Roman"/>
                  </a:rPr>
                  <a:t>Vende empresa 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2" name=""/>
          <p:cNvGrpSpPr/>
          <p:nvPr/>
        </p:nvGrpSpPr>
        <p:grpSpPr>
          <a:xfrm>
            <a:off x="2057760" y="2986200"/>
            <a:ext cx="3090960" cy="3465000"/>
            <a:chOff x="2057760" y="2986200"/>
            <a:chExt cx="3090960" cy="3465000"/>
          </a:xfrm>
        </p:grpSpPr>
        <p:grpSp>
          <p:nvGrpSpPr>
            <p:cNvPr id="1103" name=""/>
            <p:cNvGrpSpPr/>
            <p:nvPr/>
          </p:nvGrpSpPr>
          <p:grpSpPr>
            <a:xfrm>
              <a:off x="2679840" y="2986200"/>
              <a:ext cx="2468880" cy="3465000"/>
              <a:chOff x="2679840" y="2986200"/>
              <a:chExt cx="2468880" cy="3465000"/>
            </a:xfrm>
          </p:grpSpPr>
          <p:sp>
            <p:nvSpPr>
              <p:cNvPr id="1104" name=""/>
              <p:cNvSpPr/>
              <p:nvPr/>
            </p:nvSpPr>
            <p:spPr>
              <a:xfrm>
                <a:off x="2679840" y="3492720"/>
                <a:ext cx="1299960" cy="1942920"/>
              </a:xfrm>
              <a:custGeom>
                <a:avLst/>
                <a:gdLst/>
                <a:ahLst/>
                <a:rect l="l" t="t" r="r" b="b"/>
                <a:pathLst>
                  <a:path w="819" h="1224">
                    <a:moveTo>
                      <a:pt x="768" y="0"/>
                    </a:moveTo>
                    <a:cubicBezTo>
                      <a:pt x="775" y="81"/>
                      <a:pt x="813" y="357"/>
                      <a:pt x="816" y="488"/>
                    </a:cubicBezTo>
                    <a:cubicBezTo>
                      <a:pt x="819" y="619"/>
                      <a:pt x="812" y="679"/>
                      <a:pt x="784" y="784"/>
                    </a:cubicBezTo>
                    <a:cubicBezTo>
                      <a:pt x="756" y="889"/>
                      <a:pt x="779" y="1047"/>
                      <a:pt x="648" y="1120"/>
                    </a:cubicBezTo>
                    <a:cubicBezTo>
                      <a:pt x="517" y="1193"/>
                      <a:pt x="135" y="1202"/>
                      <a:pt x="0" y="12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124440" y="3363840"/>
                <a:ext cx="685800" cy="636840"/>
              </a:xfrm>
              <a:custGeom>
                <a:avLst/>
                <a:gdLst/>
                <a:ahLst/>
                <a:rect l="l" t="t" r="r" b="b"/>
                <a:pathLst>
                  <a:path w="432" h="401">
                    <a:moveTo>
                      <a:pt x="0" y="401"/>
                    </a:moveTo>
                    <a:cubicBezTo>
                      <a:pt x="7" y="361"/>
                      <a:pt x="11" y="222"/>
                      <a:pt x="40" y="161"/>
                    </a:cubicBezTo>
                    <a:cubicBezTo>
                      <a:pt x="69" y="100"/>
                      <a:pt x="128" y="58"/>
                      <a:pt x="176" y="33"/>
                    </a:cubicBezTo>
                    <a:cubicBezTo>
                      <a:pt x="224" y="8"/>
                      <a:pt x="285" y="0"/>
                      <a:pt x="328" y="9"/>
                    </a:cubicBezTo>
                    <a:cubicBezTo>
                      <a:pt x="371" y="18"/>
                      <a:pt x="410" y="72"/>
                      <a:pt x="432" y="89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V="1">
                <a:off x="3645000" y="3264120"/>
                <a:ext cx="380880" cy="380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3721320" y="3339720"/>
                <a:ext cx="380880" cy="381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3683160" y="3302280"/>
                <a:ext cx="380880" cy="380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404520" y="2986200"/>
                <a:ext cx="174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OFF SHORE “N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0" name=""/>
              <p:cNvGrpSpPr/>
              <p:nvPr/>
            </p:nvGrpSpPr>
            <p:grpSpPr>
              <a:xfrm>
                <a:off x="3187800" y="5286600"/>
                <a:ext cx="1600200" cy="1164600"/>
                <a:chOff x="3187800" y="5286600"/>
                <a:chExt cx="1600200" cy="1164600"/>
              </a:xfrm>
            </p:grpSpPr>
            <p:pic>
              <p:nvPicPr>
                <p:cNvPr id="111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727440" y="5286600"/>
                  <a:ext cx="45720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2" name=""/>
                <p:cNvSpPr/>
                <p:nvPr/>
              </p:nvSpPr>
              <p:spPr>
                <a:xfrm>
                  <a:off x="3683520" y="5477040"/>
                  <a:ext cx="589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$16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3187800" y="5870520"/>
                  <a:ext cx="16002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Compra empresa 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4" name=""/>
            <p:cNvSpPr/>
            <p:nvPr/>
          </p:nvSpPr>
          <p:spPr>
            <a:xfrm>
              <a:off x="2057760" y="5435640"/>
              <a:ext cx="114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mpresa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2921040" y="2933640"/>
            <a:ext cx="3656520" cy="2171880"/>
            <a:chOff x="2921040" y="2933640"/>
            <a:chExt cx="3656520" cy="2171880"/>
          </a:xfrm>
        </p:grpSpPr>
        <p:grpSp>
          <p:nvGrpSpPr>
            <p:cNvPr id="1116" name=""/>
            <p:cNvGrpSpPr/>
            <p:nvPr/>
          </p:nvGrpSpPr>
          <p:grpSpPr>
            <a:xfrm>
              <a:off x="2921040" y="3111480"/>
              <a:ext cx="3619440" cy="1994040"/>
              <a:chOff x="2921040" y="3111480"/>
              <a:chExt cx="3619440" cy="1994040"/>
            </a:xfrm>
          </p:grpSpPr>
          <p:sp>
            <p:nvSpPr>
              <p:cNvPr id="1117" name=""/>
              <p:cNvSpPr/>
              <p:nvPr/>
            </p:nvSpPr>
            <p:spPr>
              <a:xfrm>
                <a:off x="5121000" y="3111480"/>
                <a:ext cx="1195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ercaderí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8" name="" descr="Royal-Denship barcos cientificos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4788000" y="3416400"/>
                <a:ext cx="60948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9" name=""/>
              <p:cNvSpPr/>
              <p:nvPr/>
            </p:nvSpPr>
            <p:spPr>
              <a:xfrm>
                <a:off x="2921040" y="3264120"/>
                <a:ext cx="3619440" cy="1841400"/>
              </a:xfrm>
              <a:custGeom>
                <a:avLst/>
                <a:gdLst/>
                <a:ahLst/>
                <a:rect l="l" t="t" r="r" b="b"/>
                <a:pathLst>
                  <a:path w="2280" h="1160">
                    <a:moveTo>
                      <a:pt x="0" y="1160"/>
                    </a:moveTo>
                    <a:lnTo>
                      <a:pt x="2280" y="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3029760" y="457200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90480" y="293364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6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900000" y="395280"/>
            <a:ext cx="775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84360" y="2205000"/>
            <a:ext cx="7939800" cy="1512360"/>
            <a:chOff x="684360" y="2205000"/>
            <a:chExt cx="7939800" cy="1512360"/>
          </a:xfrm>
        </p:grpSpPr>
        <p:grpSp>
          <p:nvGrpSpPr>
            <p:cNvPr id="1124" name=""/>
            <p:cNvGrpSpPr/>
            <p:nvPr/>
          </p:nvGrpSpPr>
          <p:grpSpPr>
            <a:xfrm>
              <a:off x="1714680" y="2583000"/>
              <a:ext cx="6909480" cy="1134360"/>
              <a:chOff x="1714680" y="2583000"/>
              <a:chExt cx="6909480" cy="1134360"/>
            </a:xfrm>
          </p:grpSpPr>
          <p:sp>
            <p:nvSpPr>
              <p:cNvPr id="1125" name=""/>
              <p:cNvSpPr/>
              <p:nvPr/>
            </p:nvSpPr>
            <p:spPr>
              <a:xfrm>
                <a:off x="1714680" y="2583000"/>
                <a:ext cx="6909480" cy="113436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765800" y="2714040"/>
                <a:ext cx="6807240" cy="85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EMPRESAS CONSIDERABAN COMO COMPARABLE EL PRECIO DE MERCADO DEL COMMODITIE A FECHA DE CONT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 flipV="1">
              <a:off x="684360" y="2205000"/>
              <a:ext cx="1030320" cy="1232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360 h 1232640"/>
                <a:gd name="textAreaBottom" fmla="*/ 1233360 h 123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682560" y="2708280"/>
            <a:ext cx="7921080" cy="2736000"/>
            <a:chOff x="682560" y="2708280"/>
            <a:chExt cx="7921080" cy="2736000"/>
          </a:xfrm>
        </p:grpSpPr>
        <p:grpSp>
          <p:nvGrpSpPr>
            <p:cNvPr id="1129" name=""/>
            <p:cNvGrpSpPr/>
            <p:nvPr/>
          </p:nvGrpSpPr>
          <p:grpSpPr>
            <a:xfrm>
              <a:off x="1712880" y="4286160"/>
              <a:ext cx="6890760" cy="1158120"/>
              <a:chOff x="1712880" y="4286160"/>
              <a:chExt cx="6890760" cy="1158120"/>
            </a:xfrm>
          </p:grpSpPr>
          <p:sp>
            <p:nvSpPr>
              <p:cNvPr id="1130" name=""/>
              <p:cNvSpPr/>
              <p:nvPr/>
            </p:nvSpPr>
            <p:spPr>
              <a:xfrm>
                <a:off x="1712880" y="4286160"/>
                <a:ext cx="6890760" cy="1158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763640" y="456264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EL VALOR DE LA EXPORTACION COINCIDÍA CON EL PRECIO DEL MERCADO A FECHA DE CONT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682560" y="2708280"/>
              <a:ext cx="1029960" cy="2527200"/>
              <a:chOff x="682560" y="2708280"/>
              <a:chExt cx="1029960" cy="2527200"/>
            </a:xfrm>
          </p:grpSpPr>
          <p:sp>
            <p:nvSpPr>
              <p:cNvPr id="1133" name=""/>
              <p:cNvSpPr/>
              <p:nvPr/>
            </p:nvSpPr>
            <p:spPr>
              <a:xfrm flipV="1">
                <a:off x="682560" y="3866040"/>
                <a:ext cx="1029960" cy="13694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1369440"/>
                  <a:gd name="textAreaBottom" fmla="*/ 1370160 h 13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2560" y="2708280"/>
                <a:ext cx="315720" cy="136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5" name=""/>
          <p:cNvGrpSpPr/>
          <p:nvPr/>
        </p:nvGrpSpPr>
        <p:grpSpPr>
          <a:xfrm>
            <a:off x="250920" y="1484280"/>
            <a:ext cx="8476560" cy="732960"/>
            <a:chOff x="250920" y="1484280"/>
            <a:chExt cx="8476560" cy="732960"/>
          </a:xfrm>
        </p:grpSpPr>
        <p:sp>
          <p:nvSpPr>
            <p:cNvPr id="1136" name=""/>
            <p:cNvSpPr/>
            <p:nvPr/>
          </p:nvSpPr>
          <p:spPr>
            <a:xfrm>
              <a:off x="250920" y="1484280"/>
              <a:ext cx="8476560" cy="73296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31920" y="1621800"/>
              <a:ext cx="832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4- JUSTIFICACIÓNN DE PRECIOS DE TRANS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cilia</cp:lastModifiedBy>
  <dcterms:modified xsi:type="dcterms:W3CDTF">2013-07-18T15:54:14Z</dcterms:modified>
  <cp:revision>168</cp:revision>
  <dc:subject/>
  <dc:title>Diapositiva 1</dc:title>
</cp:coreProperties>
</file>