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C089-D05A-4530-9496-466C3B04F4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0C9E-1523-4AFC-AB6C-154F361993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F675-7117-45A6-9901-A2983A2781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AB0B-7282-4F9F-80FF-8C48EE4F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4432-0450-4674-BD2F-F626E87E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CE78-72AA-42FC-81C5-98C57D7A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0C5A-A820-4428-9236-21CD2557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403-1DF8-4CD7-8D5F-47CDDED9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F2CC-30E7-4F56-B287-05A2909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E50D-0D53-443C-9C31-6DA1215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AAC-29F7-4E89-84B9-51398F37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D89-4FBA-4A97-A163-F9900598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DD53-7FD7-47A0-8952-B130EF8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912B-CF75-49C6-9F84-F0F281E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B848-F803-45C0-B27C-3FD61D17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74F5-7CFA-4C07-8CAC-1CA912E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8B3D-96E7-4138-A650-629811E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D6C-6B10-49BC-97E8-85B2786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009-DADF-4374-9334-80F0D447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82F-92B6-4791-ACDE-1E3C336E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5C58-8633-4896-B914-F9D6183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5ED1-3037-4138-9930-BC7F41D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BE7E-AA5E-4CC9-89C2-47E10B8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EC0E-3680-4F4F-B1E5-904EB85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1D69-952C-4FF4-A493-ADF776F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2F3D-E405-48EF-A9D9-DB50E5A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B4CD-C9B7-4CE5-9190-571E276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A59-328D-4521-B1C9-2DC8D89E5F4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BC06-61B4-4FDD-90F5-B1D37004B96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ervicios de Información y Asistencia al Contribuy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i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ogo"/>
          <p:cNvPicPr/>
          <p:nvPr/>
        </p:nvPicPr>
        <p:blipFill>
          <a:blip r:embed="rId1"/>
          <a:stretch/>
        </p:blipFill>
        <p:spPr>
          <a:xfrm>
            <a:off x="5940360" y="115920"/>
            <a:ext cx="30243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11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a vez que llega una comunicación a la bandeja se genera un correo que se envía a la dirección electrónica del domicilio constituido avisando que tiene una nueva comunicación para ser leí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7383" r="0" b="29532"/>
          <a:stretch/>
        </p:blipFill>
        <p:spPr>
          <a:xfrm>
            <a:off x="468360" y="1557360"/>
            <a:ext cx="8207280" cy="4751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18458" r="2952" b="29532"/>
          <a:stretch/>
        </p:blipFill>
        <p:spPr>
          <a:xfrm>
            <a:off x="468360" y="1557360"/>
            <a:ext cx="813600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uncionario tiene acceso en producción a la consulta de la bandeja de cada contribuy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5113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7383" r="0" b="18458"/>
          <a:stretch/>
        </p:blipFill>
        <p:spPr>
          <a:xfrm>
            <a:off x="468360" y="1628640"/>
            <a:ext cx="8207280" cy="4608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2068200"/>
            <a:ext cx="807408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SE GENERÓ ESA COMUNIC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CVA Bandeja de Entrada – se analizan las solicitudes de renovación de C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renuevan o se recha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rechazan se elige de un combo el motivo de rechazo, y escribiendo si corresponde el deta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GI adqui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Ate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un sistema que compren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Tu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una solución para la Automatización y Optimización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al Públ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stión inteligente de las colas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Pau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además una solución para la comunicación visual en el punto de atención del cliente, emisión de pautas publicitarias e información institucional. Permite desplegar los números de atención al público de manera integrada con diferentes contenidos en dispositivos de exhibición como: pantallas LCD, plasma o LED, pantallas gigantes, monitores y cañones, instalados en los Centros de atención al cliente y la gestión de venta de estas pautas publicit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all Center comienza a funcionar en el año 2007 cuando se implementa en el Uruguay la reforma tribu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ami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1: I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2: IRPF/I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3: Otros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5: Trá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8: Solicitud CV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mes de junio 2013 se sustituye el software instalado y se amplía el hardware del Call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nuevo software permite generar nuevos informes históricos y de tiempo real tabulares y gráficos, alertas y notificaciones y obtener datos estadísticos que hasta el momento no se disponí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iciativas a impleme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 Back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amadas abandonadas en cola que no han logrado ser atendidas por un agente, quedan registradas en un listado de llamadas a ser devuel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stas de satisfacción automáticas, al finalizar la llamada , el agente le consulta al contribuyente si quiere contestar una encuesta y en caso de respuesta afirmativa, deriva la llamada al IV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es de calidad, se realizaran escuchas en las ll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la atención al contribuyente, así como facilitar la gestión estadística de los puestos de atención beneficiando la gestión ger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la eficiencia de los puestos de atención mediante el monitoreo y la toma de decisiones en tiempo r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el control de los puestos de atención llevando registro de números y trámites atend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btener registro de datos estadísticos, como ser tiempo de espera promedio por trámite, tiempo de atención, etc. que permitan realizar mejoras en el proceso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r mayor libertad al contribuyente, permitiendo utilizar el tiempo de espera para realizar otras ac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trega de núm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puede realizar en varias modal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ga Asistida de Números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enta con una interfase a través de la cuál el operador (funcionario de la Institución) solicita la emisión de un número de atención para entregar a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ga de Números en modalidad Auto-Atención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capaz de interactuar con terminales de autoservicio, de forma que el contribuyente pueda solicitar directamente la emisión de un número de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erva de Números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realizar la reserva de Números de Atención por parte de un contribuyent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Experiencia piloto en campaña IRPF 2012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estión de números de atenció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llamado de los números se realiza por orden de llegada, pudiendo definirse además un orden de prioridad por tipo de trá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emás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iterar el llamado de un número de atención y en caso de que el contribuyente no se presente ponerlo en una cola de atrasados para ser llamado más ta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ir al cliente a otro puesto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alizar un llamado automático de los números atrasados cada cierto tiempo (configurab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emplar los casos de clientes que requieren una atención prioritaria (ej.embarazad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ulta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realizar diferentes consultas para obtener información sobre la gestión de atención que se está realizando en un centro de atención específico, en un conjunto o en el total de los centros de aten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números entregados y números sin 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trámites at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tiempos de espera y tiempos de 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puestos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r las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ilitar información a contribuy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er el secret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andeja de Comunicaciones es una herramienta para informar situaciones en las que la Administración debe salvaguardar el secreto tributario sin que el contribuyente deba concurrir a la of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LOTO – Rechazos de Solicitud de CV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dualmente se incorporarán distintos servicios, incluyendo comunicaciones masivas que ahora se realizan a través de citaciones en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CESO - a través de servicios en línea, previamente logueado, con pin o con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0" t="7383" r="0" b="0"/>
          <a:stretch/>
        </p:blipFill>
        <p:spPr>
          <a:xfrm>
            <a:off x="826920" y="1484280"/>
            <a:ext cx="7701120" cy="4897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5:04:59Z</dcterms:created>
  <dc:creator>Ana</dc:creator>
  <dc:description/>
  <dc:language>en-US</dc:language>
  <cp:lastModifiedBy>María S. López</cp:lastModifiedBy>
  <dcterms:modified xsi:type="dcterms:W3CDTF">2013-09-27T15:06:32Z</dcterms:modified>
  <cp:revision>14</cp:revision>
  <dc:subject/>
  <dc:title>Gestión de colas de espera</dc:title>
</cp:coreProperties>
</file>