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EF7-304F-4354-8E40-7829BC5BBB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D48B-39B4-4443-9077-FB3701820B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F08C-1816-4E3E-A4F4-3D6C3EC018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46A5D-4B25-4920-85B5-A9FCD212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6CED-B332-4DD1-AFD7-F67C0294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50B7-A556-4826-ABA0-6622ACCD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A119-E44C-484D-A768-A03FCA4A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FC47-B13E-4AAE-A126-C6F5B3E1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061A-7B3A-46FF-B2BA-6760B9A6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9B81-1A2E-4352-AC85-FB2FAEE7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7B14-6A67-4C04-B69A-28496F00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1514-B86C-4F86-9AF7-8A915CBD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3E05-6489-4EA7-9295-7E2478FA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2013-5D71-45A5-ABAA-6303A5C2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FDE8-277A-42C1-AC23-C266D61C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BB5E-596B-45E7-9D64-524096B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CDC9-4ED7-43A5-B123-ACA3C246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FD52-21C6-4F3F-A1BB-F01D32A6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CE47-6CCF-426F-91D9-997F68DC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56B3-4C0F-4CBF-9D11-290FC873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6266-C355-4532-951D-5C49A972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25FE-21F2-4224-8910-5C0994D4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07ED-D541-412C-B737-D4323F46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CA15-51AC-4CF8-A5E2-610CBF4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63DC-7C8C-4A2B-A0FD-6D2377B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3CA4-57E0-4A65-9F6E-236AD20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DF34-CCE8-4AB7-9750-6E9AFA1E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C269-371C-4672-9B79-9760A15EFB0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6DA8-C7C2-4B0E-B6B9-A2D85294185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ervicios de Información y Asistencia al Contribuy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ti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ogo"/>
          <p:cNvPicPr/>
          <p:nvPr/>
        </p:nvPicPr>
        <p:blipFill>
          <a:blip r:embed="rId1"/>
          <a:stretch/>
        </p:blipFill>
        <p:spPr>
          <a:xfrm>
            <a:off x="5940360" y="115920"/>
            <a:ext cx="302436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1196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da vez que llega una comunicación a la bandeja se genera un correo que se envía a la dirección electrónica del domicilio constituido avisando que tiene una nueva comunicación para ser leí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7383" r="0" b="29532"/>
          <a:stretch/>
        </p:blipFill>
        <p:spPr>
          <a:xfrm>
            <a:off x="468360" y="1557360"/>
            <a:ext cx="8207280" cy="4751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0" t="18458" r="2952" b="29532"/>
          <a:stretch/>
        </p:blipFill>
        <p:spPr>
          <a:xfrm>
            <a:off x="468360" y="1557360"/>
            <a:ext cx="8136000" cy="4896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funcionario tiene acceso en producción a la consulta de la bandeja de cada contribuy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0" t="0" r="0" b="29532"/>
          <a:stretch/>
        </p:blipFill>
        <p:spPr>
          <a:xfrm>
            <a:off x="468360" y="1557360"/>
            <a:ext cx="8064360" cy="5113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0" t="0" r="0" b="29532"/>
          <a:stretch/>
        </p:blipFill>
        <p:spPr>
          <a:xfrm>
            <a:off x="468360" y="1557360"/>
            <a:ext cx="80643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rcRect l="0" t="0" r="0" b="29532"/>
          <a:stretch/>
        </p:blipFill>
        <p:spPr>
          <a:xfrm>
            <a:off x="468360" y="1557360"/>
            <a:ext cx="806436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0" t="7383" r="0" b="18458"/>
          <a:stretch/>
        </p:blipFill>
        <p:spPr>
          <a:xfrm>
            <a:off x="468360" y="1628640"/>
            <a:ext cx="8207280" cy="4608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2068200"/>
            <a:ext cx="807408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SE GENERÓ ESA COMUNIC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CVA Bandeja de Entrada – se analizan las solicitudes de renovación de C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renuevan o se rechaz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rechazan se elige de un combo el motivo de rechazo, y escribiendo si corresponde el deta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GI adqui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Ate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un sistema que compren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Tur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una solución para la Automatización y Optimización d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ención al Públic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nt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stión inteligente de las colas de esp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Pau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además una solución para la comunicación visual en el punto de atención del cliente, emisión de pautas publicitarias e información institucional. Permite desplegar los números de atención al público de manera integrada con diferentes contenidos en dispositivos de exhibición como: pantallas LCD, plasma o LED, pantallas gigantes, monitores y cañones, instalados en los Centros de atención al cliente y la gestión de venta de estas pautas publicitar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l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all Center comienza a funcionar en el año 2007 cuando se implementa en el Uruguay la reforma tribu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cionamie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1: I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2: IRPF/I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3: Otros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5: Trám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ción 8: Solicitud CV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l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mes de junio 2013 se sustituye el software instalado y se amplía el hardware del Call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nuevo software permite generar nuevos informes históricos y de tiempo real tabulares y gráficos, alertas y notificaciones y obtener datos estadísticos que hasta el momento no se disponí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iciativas a implemen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l Back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amadas abandonadas en cola que no han logrado ser atendidas por un agente, quedan registradas en un listado de llamadas a ser devuel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uestas de satisfacción automáticas, al finalizar la llamada , el agente le consulta al contribuyente si quiere contestar una encuesta y en caso de respuesta afirmativa, deriva la llamada al IV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oles de calidad, se realizaran escuchas en las llam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jorar la atención al contribuyente, así como facilitar la gestión estadística de los puestos de atención beneficiando la gestión geren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jorar la eficiencia de los puestos de atención mediante el monitoreo y la toma de decisiones en tiempo r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jorar el control de los puestos de atención llevando registro de números y trámites atend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btener registro de datos estadísticos, como ser tiempo de espera promedio por trámite, tiempo de atención, etc. que permitan realizar mejoras en el proceso de aten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r mayor libertad al contribuyente, permitiendo utilizar el tiempo de espera para realizar otras activ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trega de núm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puede realizar en varias modali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rega Asistida de Números: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enta con una interfase a través de la cuál el operador (funcionario de la Institución) solicita la emisión de un número de atención para entregar al contribuy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rega de Números en modalidad Auto-Atención: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capaz de interactuar con terminales de autoservicio, de forma que el contribuyente pueda solicitar directamente la emisión de un número de at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erva de Números: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mite realizar la reserva de Números de Atención por parte de un contribuyent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Experiencia piloto en campaña IRPF 2012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Gestión de números de atenció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llamado de los números se realiza por orden de llegada, pudiendo definirse además un orden de prioridad por tipo de trám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emás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iterar el llamado de un número de atención y en caso de que el contribuyente no se presente ponerlo en una cola de atrasados para ser llamado más tar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ferir al cliente a otro puesto de aten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alizar un llamado automático de los números atrasados cada cierto tiempo (configurabl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emplar los casos de clientes que requieren una atención prioritaria (ej.embarazad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de colas de es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sulta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EOAten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mite realizar diferentes consultas para obtener información sobre la gestión de atención que se está realizando en un centro de atención específico, en un conjunto o en el total de los centros de aten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números entregados y números sin 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trámites aten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tiempos de espera y tiempos de 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ulta de puestos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r las 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cilitar información a contribuy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er el secret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andeja de Comunicaciones es una herramienta para informar situaciones en las que la Administración debe salvaguardar el secreto tributario sin que el contribuyente deba concurrir a la of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LOTO – Rechazos de Solicitud de CV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adualmente se incorporarán distintos servicios, incluyendo comunicaciones masivas que ahora se realizan a través de citaciones en pa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CESO - a través de servicios en línea, previamente logueado, con pin o cont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ción General Impositiva - 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0" t="7383" r="0" b="0"/>
          <a:stretch/>
        </p:blipFill>
        <p:spPr>
          <a:xfrm>
            <a:off x="826920" y="1484280"/>
            <a:ext cx="7701120" cy="4897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ndeja de comun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5:04:59Z</dcterms:created>
  <dc:creator>Ana</dc:creator>
  <dc:description/>
  <dc:language>en-US</dc:language>
  <cp:lastModifiedBy>María S. López</cp:lastModifiedBy>
  <dcterms:modified xsi:type="dcterms:W3CDTF">2013-09-27T15:06:32Z</dcterms:modified>
  <cp:revision>14</cp:revision>
  <dc:subject/>
  <dc:title>Gestión de colas de espera</dc:title>
</cp:coreProperties>
</file>