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6.jpeg" ContentType="image/jpeg"/>
  <Override PartName="/ppt/media/image5.wmf" ContentType="image/x-wmf"/>
  <Override PartName="/ppt/media/image12.jpeg" ContentType="image/jpeg"/>
  <Override PartName="/ppt/media/image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79413-F0A6-4A35-A1AD-E1F5287BD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78434-B3A8-456F-A671-B200399A2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B2C1D-78F3-402B-AD9E-32267C0DC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CD74E-D3A3-4C2B-AFBC-9A3980A9E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21F03-FF19-48FA-BB73-1438D2E2D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46B8E-A175-42A5-8DD8-90C4E4CE4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CEF56-1BA0-4EE1-97A5-2B8E7B48C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5D4F1-0F6D-42EE-BC78-33F40C29F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5268C-0034-4375-B006-265DA92F8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AA1D0-F25B-4519-91AC-1659A96E8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55F17-301B-4755-B7DC-6C177214F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C633C-9569-4F9B-B041-AF7AC2B81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4E323-8CC3-4BA2-97D8-849539D53F94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85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1f497d"/>
                </a:solidFill>
                <a:latin typeface="Calibri"/>
              </a:rPr>
              <a:t>EUROsociAL II</a:t>
            </a:r>
            <a:br>
              <a:rPr sz="2000"/>
            </a:br>
            <a:r>
              <a:rPr b="1" lang="es-ES" sz="2000" spc="-1" strike="noStrike">
                <a:solidFill>
                  <a:srgbClr val="1f497d"/>
                </a:solidFill>
                <a:latin typeface="Calibri"/>
              </a:rPr>
              <a:t>Visita de Intercambio de experiencias Sur-Sur entre AATT sobre servicios de Información y Asistencia Tributaria</a:t>
            </a:r>
            <a:br>
              <a:rPr sz="2000"/>
            </a:br>
            <a:r>
              <a:rPr b="1" lang="es-ES" sz="2000" spc="-1" strike="noStrike">
                <a:solidFill>
                  <a:srgbClr val="1f497d"/>
                </a:solidFill>
                <a:latin typeface="Calibri"/>
              </a:rPr>
              <a:t>Buenos Aires, 11 a 13 de septiembre 201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4 Marcador de contenido" descr="DSC09370.JPG"/>
          <p:cNvPicPr/>
          <p:nvPr/>
        </p:nvPicPr>
        <p:blipFill>
          <a:blip r:embed="rId1"/>
          <a:stretch/>
        </p:blipFill>
        <p:spPr>
          <a:xfrm>
            <a:off x="1714680" y="1714680"/>
            <a:ext cx="2571480" cy="1928520"/>
          </a:xfrm>
          <a:prstGeom prst="rect">
            <a:avLst/>
          </a:prstGeom>
          <a:ln w="0">
            <a:noFill/>
          </a:ln>
        </p:spPr>
      </p:pic>
      <p:pic>
        <p:nvPicPr>
          <p:cNvPr id="43" name="3 Imagen" descr="DSC09375.JPG"/>
          <p:cNvPicPr/>
          <p:nvPr/>
        </p:nvPicPr>
        <p:blipFill>
          <a:blip r:embed="rId2"/>
          <a:stretch/>
        </p:blipFill>
        <p:spPr>
          <a:xfrm>
            <a:off x="6286680" y="1714680"/>
            <a:ext cx="2619360" cy="1963440"/>
          </a:xfrm>
          <a:prstGeom prst="rect">
            <a:avLst/>
          </a:prstGeom>
          <a:ln w="0">
            <a:noFill/>
          </a:ln>
        </p:spPr>
      </p:pic>
      <p:pic>
        <p:nvPicPr>
          <p:cNvPr id="44" name="5 Imagen" descr="DSC09373.JPG"/>
          <p:cNvPicPr/>
          <p:nvPr/>
        </p:nvPicPr>
        <p:blipFill>
          <a:blip r:embed="rId3"/>
          <a:stretch/>
        </p:blipFill>
        <p:spPr>
          <a:xfrm>
            <a:off x="571680" y="4071960"/>
            <a:ext cx="2643120" cy="1982880"/>
          </a:xfrm>
          <a:prstGeom prst="rect">
            <a:avLst/>
          </a:prstGeom>
          <a:ln w="0">
            <a:noFill/>
          </a:ln>
        </p:spPr>
      </p:pic>
      <p:pic>
        <p:nvPicPr>
          <p:cNvPr id="45" name="6 Imagen" descr="DSC09359.JPG"/>
          <p:cNvPicPr/>
          <p:nvPr/>
        </p:nvPicPr>
        <p:blipFill>
          <a:blip r:embed="rId4"/>
          <a:stretch/>
        </p:blipFill>
        <p:spPr>
          <a:xfrm>
            <a:off x="4500720" y="3929040"/>
            <a:ext cx="390492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1f497d"/>
                </a:solidFill>
                <a:latin typeface="Calibri"/>
              </a:rPr>
              <a:t>DGT COSTA R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Casi 600.000 contribuyentes, 10 administraciones y una de grandes contribuyentes (500) agrupadas en 4 Regional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0000"/>
                </a:solidFill>
                <a:latin typeface="Calibri"/>
              </a:rPr>
              <a:t>Homogeneidad</a:t>
            </a: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: Principal objetivo del servicio al contribuyent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Canales habituales más supuestos artículos 102 y 119 del Código tributario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Se habían priorizado tareas de control pero a partir de 2013 nuevo impulso a I y 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Importante peso atención telefónica 60%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Ausencia medios de monitoreo y evaluación atención telefónic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Ausencia de uniformidad en atencón telefónic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3 Imagen" descr="DSC03147.JPG"/>
          <p:cNvPicPr/>
          <p:nvPr/>
        </p:nvPicPr>
        <p:blipFill>
          <a:blip r:embed="rId1"/>
          <a:stretch/>
        </p:blipFill>
        <p:spPr>
          <a:xfrm>
            <a:off x="8572680" y="6429240"/>
            <a:ext cx="571320" cy="428760"/>
          </a:xfrm>
          <a:prstGeom prst="rect">
            <a:avLst/>
          </a:prstGeom>
          <a:ln w="0">
            <a:noFill/>
          </a:ln>
        </p:spPr>
      </p:pic>
      <p:pic>
        <p:nvPicPr>
          <p:cNvPr id="70" name="4 Imagen" descr="DSC05614.JPG"/>
          <p:cNvPicPr/>
          <p:nvPr/>
        </p:nvPicPr>
        <p:blipFill>
          <a:blip r:embed="rId2"/>
          <a:stretch/>
        </p:blipFill>
        <p:spPr>
          <a:xfrm>
            <a:off x="6643800" y="4983120"/>
            <a:ext cx="2500200" cy="18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1f497d"/>
                </a:solidFill>
                <a:latin typeface="Calibri"/>
              </a:rPr>
              <a:t>DGT Costa R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1f497d"/>
                </a:solidFill>
                <a:latin typeface="Calibri"/>
              </a:rPr>
              <a:t>Ret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Creación de un centro de llamadas con número único y una base de FAQs. Previsto para octub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Selección, promoción y capacitación del personal human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Reducir rotación del personal de 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1f497d"/>
                </a:solidFill>
                <a:latin typeface="Calibri"/>
              </a:rPr>
              <a:t>SUNAT Per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21428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1f497d"/>
                </a:solidFill>
                <a:latin typeface="Calibri"/>
              </a:rPr>
              <a:t>Elementos a destac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Objetivo del 16% de presión fisc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Ley de Fortalecimiento 2011 introduce novedades muy relevantes en materia de gestión y planificación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Una de las estrategias es el fomento del CV q actualmente suponen el 90% de los ingreso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Vinculación objetivos a sistema de bonos (Plan estratégico y plan operativo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Gran aceptación de facebook, capta el sentir de la calle y permite reaccionar con rapidez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Buzón electrónico y notificación electrónic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55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3 Imagen" descr="DSC05531.JPG"/>
          <p:cNvPicPr/>
          <p:nvPr/>
        </p:nvPicPr>
        <p:blipFill>
          <a:blip r:embed="rId1"/>
          <a:stretch/>
        </p:blipFill>
        <p:spPr>
          <a:xfrm>
            <a:off x="6429240" y="4822920"/>
            <a:ext cx="2714760" cy="203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1f497d"/>
                </a:solidFill>
                <a:latin typeface="Calibri"/>
              </a:rPr>
              <a:t>SUNAT Per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500040" y="1428480"/>
            <a:ext cx="8229600" cy="46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1f497d"/>
                </a:solidFill>
                <a:latin typeface="Calibri"/>
              </a:rPr>
              <a:t>Proyect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Potenciar declaraciones virtuales: problema cobertura geográfic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Nuevos servicios en el Port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Sitio integrado de todas las AAPP, proyecto a nivel estat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Diseño e implantación de un sistema de FAQs siguendo modelo del INFORM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1f497d"/>
                </a:solidFill>
                <a:latin typeface="Calibri"/>
              </a:rPr>
              <a:t>SAT Méxic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1f497d"/>
                </a:solidFill>
                <a:latin typeface="Calibri"/>
              </a:rPr>
              <a:t>A destac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Certificación ISO 9000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Enfoque de procesos no de personas o área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Un solo </a:t>
            </a:r>
            <a:r>
              <a:rPr b="1" lang="es-ES" sz="2200" spc="-1" strike="noStrike">
                <a:solidFill>
                  <a:srgbClr val="000000"/>
                </a:solidFill>
                <a:latin typeface="Calibri"/>
              </a:rPr>
              <a:t>modelo</a:t>
            </a: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 de atención: </a:t>
            </a:r>
            <a:r>
              <a:rPr b="1" lang="es-ES" sz="2200" spc="-1" strike="noStrike">
                <a:solidFill>
                  <a:srgbClr val="c00000"/>
                </a:solidFill>
                <a:latin typeface="Calibri"/>
              </a:rPr>
              <a:t>canal único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buClr>
                <a:srgbClr val="c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c00000"/>
                </a:solidFill>
                <a:latin typeface="Calibri"/>
              </a:rPr>
              <a:t>Sistema de calidad totalmente electrónico, no hay pap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Fundamental medición de resultado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Citas y turnos: sistema con desarrollo propio, importancia de la planificació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Objetivo de reducción atención presenci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3 Imagen" descr="Diego Rivera.jpg"/>
          <p:cNvPicPr/>
          <p:nvPr/>
        </p:nvPicPr>
        <p:blipFill>
          <a:blip r:embed="rId1"/>
          <a:stretch/>
        </p:blipFill>
        <p:spPr>
          <a:xfrm>
            <a:off x="6429240" y="4822920"/>
            <a:ext cx="2714760" cy="203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1f497d"/>
                </a:solidFill>
                <a:latin typeface="Calibri"/>
              </a:rPr>
              <a:t>SAT Méxic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50012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1f497d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1f497d"/>
                </a:solidFill>
                <a:latin typeface="Calibri"/>
              </a:rPr>
              <a:t>Objetivos y compromis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Impulso Redes sociales: canal de ida y vuelt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Unificación oficinas Federales y Central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Contabilidad digital (modelo brasileño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Fortalecer FAQ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Recopilación y cruces de datos para mejorar la calidad de la infromació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Esquema de colaboradores para ampliar la capacidad de los servicio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1f497d"/>
                </a:solidFill>
                <a:latin typeface="Calibri"/>
              </a:rPr>
              <a:t>DGI El Salvad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28556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0000"/>
                </a:solidFill>
                <a:latin typeface="Calibri"/>
              </a:rPr>
              <a:t>Declaración IRPF sugerida: gran novedad 201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Nuevos servicios on lin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- presentación declaració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- pago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- solicitud de aplazamiento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- conocer estado devolucion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- calculo preliminar del IRPF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Posibilidad modificar declaración sugerida: incorporación ingresos y gasto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3 Imagen" descr="DSC03149.JPG"/>
          <p:cNvPicPr/>
          <p:nvPr/>
        </p:nvPicPr>
        <p:blipFill>
          <a:blip r:embed="rId1"/>
          <a:stretch/>
        </p:blipFill>
        <p:spPr>
          <a:xfrm>
            <a:off x="6381720" y="4572000"/>
            <a:ext cx="2762280" cy="20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1f497d"/>
                </a:solidFill>
                <a:latin typeface="Calibri"/>
              </a:rPr>
              <a:t>DGI El Salvad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Sencillo proceso para el registro por Interne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Utilización de kioskos de autoservicio solventar brecha digit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f497d"/>
                </a:solidFill>
                <a:latin typeface="Calibri"/>
              </a:rPr>
              <a:t>Compromis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Valorar la implantación de servicios en teléfonos móviles a semejanza del SIN de Bolivia (octubre 2013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Presentación de declaraciones a cer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1f497d"/>
                </a:solidFill>
                <a:latin typeface="Calibri"/>
              </a:rPr>
              <a:t>AFIP Argenti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1f497d"/>
                </a:solidFill>
                <a:latin typeface="Calibri"/>
              </a:rPr>
              <a:t>Página we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50 millones de media de accesos mensual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Muestra información de manera sencill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Permanente actualizació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Conviven firma digital y clave fiscal (cuatro niveles de seguridad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17 millones de accesos mensuales con clave fisc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Gran variedad de servicios y productos: Guías paso a paso, mi orientación (simuladores), micrositios, ABC, folletería.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Muy novedoso: Data Fisc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3 Imagen" descr="DSC09377.JPG"/>
          <p:cNvPicPr/>
          <p:nvPr/>
        </p:nvPicPr>
        <p:blipFill>
          <a:blip r:embed="rId1"/>
          <a:stretch/>
        </p:blipFill>
        <p:spPr>
          <a:xfrm>
            <a:off x="4714920" y="4786200"/>
            <a:ext cx="2500200" cy="18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1f497d"/>
                </a:solidFill>
                <a:latin typeface="Calibri"/>
              </a:rPr>
              <a:t>AFIP Argenti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50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1f497d"/>
                </a:solidFill>
                <a:latin typeface="Calibri"/>
              </a:rPr>
              <a:t>AB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Servicio más utilizado de la web: 600.000 visitas/m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Dos grupos: normativo y aplicativo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Alimentación fundamental por call cent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Completos menús para acotar búsqueda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1f497d"/>
                </a:solidFill>
                <a:latin typeface="Calibri"/>
              </a:rPr>
              <a:t>Otros servicio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Muy novedoso, mi celular: envios de sms por suscripción o petició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Folletería: web y en papel. Manual institucional de image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Web interna para personal, especialmente de asistenci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Campañas de información e inducció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Cartas de bienvenid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Campañas salient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5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s-ES" sz="4000" spc="-1" strike="noStrike">
                <a:solidFill>
                  <a:srgbClr val="1f497d"/>
                </a:solidFill>
                <a:latin typeface="Calibri"/>
              </a:rPr>
              <a:t>Relatorí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f497d"/>
                </a:solidFill>
                <a:latin typeface="Calibri"/>
              </a:rPr>
              <a:t>Elementos comun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Rentabilidad de las actuaciones de I y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Multiplicidad de canales: presencial, telefónico, Intern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Orientación al ciudadano: lenguaje sencill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Búsqueda de nuevas vías de ayuda: oficinas móviles, s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Reducción de asistencia en oficinas y eliminación pap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Potenciación de los servicios telemátic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Dificultad de la tarea: normativa compleja y cambian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Necesaria alta cualificación del person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Alto compromiso institucion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1f497d"/>
                </a:solidFill>
                <a:latin typeface="Calibri"/>
              </a:rPr>
              <a:t>SII Ch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Asistencia telefónica tercerizada: se quiere cambiar modelo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Reto esencial: Impuslar autoasistenci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ff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0000"/>
                </a:solidFill>
                <a:latin typeface="Calibri"/>
              </a:rPr>
              <a:t>Desarrollar una web especial exclusiva de asistenci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Aunque ya cuenta con muchos servicios en la web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Demos educativo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Preguntas frecuent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Cómo se hace par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Aprenda sobr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3 Imagen" descr="DSC05007.JPG"/>
          <p:cNvPicPr/>
          <p:nvPr/>
        </p:nvPicPr>
        <p:blipFill>
          <a:blip r:embed="rId1"/>
          <a:stretch/>
        </p:blipFill>
        <p:spPr>
          <a:xfrm>
            <a:off x="5524560" y="4143240"/>
            <a:ext cx="361944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1f497d"/>
                </a:solidFill>
                <a:latin typeface="Calibri"/>
              </a:rPr>
              <a:t>SII Chi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7146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Cuenta con FAQs organizado en forma de árbo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Trámites en línea: </a:t>
            </a:r>
            <a:r>
              <a:rPr b="1" lang="es-ES" sz="2400" spc="-1" strike="noStrike">
                <a:solidFill>
                  <a:srgbClr val="ff0000"/>
                </a:solidFill>
                <a:latin typeface="Calibri"/>
              </a:rPr>
              <a:t>operativa la posibilidad de constituir una empresa en un dí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Proyecto de Ley para la extensión de la factura electrónic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Otros servicios on line: situación tributaria, boletas de honorarios, tasación de vehículos, libros contables, pago de infracciones, condonacion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Smartphone para trámites, asistencia y ayud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ff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ff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1f497d"/>
                </a:solidFill>
                <a:latin typeface="Calibri"/>
              </a:rPr>
              <a:t>AEAT Españ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1426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Censo de 55 millones de los que 8 son empresarios  o profesionales con obligaciones de retenció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Elevado número de declaraciones: 20 millones de IRPF, 3,5de IVA y 1,5 de I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Múltiples obligaciones formales accesoria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Controles a posteriori con información de tercero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Modelo autoliquidación e informativas exige altos niveles de I y 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Estratega de reducir presencia en oficinas y de organizar afluenci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Especial asistencia en campaña de IRPF: 2,6 millones de cita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Servicios telefónicos: CAT, ITB y VRU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Consultas vinculantes son emitidas por la DG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613 millones accesos/año a web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Sede electrónic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3 Imagen" descr="DSC05494.JPG"/>
          <p:cNvPicPr/>
          <p:nvPr/>
        </p:nvPicPr>
        <p:blipFill>
          <a:blip r:embed="rId1"/>
          <a:stretch/>
        </p:blipFill>
        <p:spPr>
          <a:xfrm>
            <a:off x="6477120" y="4786200"/>
            <a:ext cx="2666880" cy="20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1f497d"/>
                </a:solidFill>
                <a:latin typeface="Calibri"/>
              </a:rPr>
              <a:t>AEAT Españ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1f497d"/>
                </a:solidFill>
                <a:latin typeface="Calibri"/>
              </a:rPr>
              <a:t>Sede Electrónica e </a:t>
            </a: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1" lang="es-ES" sz="2200" spc="-1" strike="noStrike">
                <a:solidFill>
                  <a:srgbClr val="1f497d"/>
                </a:solidFill>
                <a:latin typeface="Calibri"/>
              </a:rPr>
              <a:t>NFORM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just">
              <a:spcBef>
                <a:spcPts val="55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Derecho de los ciudadanos de relacionarse con las AAPP de manera electrónica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just">
              <a:spcBef>
                <a:spcPts val="55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SE: permite hacer una gran variedad de trámites: cambiar de domicilio, modificar datos censales, cambiar regímenes tribitarios opcionales, atender requerimientos, consultar expedientes o procedimientos de comprobación, presentar y pagar declaraciones, solicitar aplazamientos, presentar recursos… </a:t>
            </a:r>
            <a:r>
              <a:rPr b="1" lang="es-ES" sz="2200" spc="-1" strike="noStrike">
                <a:solidFill>
                  <a:srgbClr val="ff0000"/>
                </a:solidFill>
                <a:latin typeface="Calibri"/>
              </a:rPr>
              <a:t>DELEGACIÓN VIRTU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just">
              <a:spcBef>
                <a:spcPts val="550"/>
              </a:spcBef>
              <a:buClr>
                <a:srgbClr val="ff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0000"/>
                </a:solidFill>
                <a:latin typeface="Calibri"/>
              </a:rPr>
              <a:t>Firmas digitales. Avanzadas, nº de referencia, CSV y proyecto de PIN 24H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just">
              <a:spcBef>
                <a:spcPts val="55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INFORMA: homogeneidad cualquiera q sea el canal por el q se accede a la informació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just">
              <a:spcBef>
                <a:spcPts val="55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Permanente actualización y caridad respuest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just">
              <a:spcBef>
                <a:spcPts val="55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Parte interna para funcionarios con consultorio y más servicio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just">
              <a:spcBef>
                <a:spcPts val="55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Experiencia muy satisfactori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1f497d"/>
                </a:solidFill>
                <a:latin typeface="Calibri"/>
              </a:rPr>
              <a:t>DGI Urugua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285920"/>
            <a:ext cx="822960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Cambio trascendental reforma tributaria de 2007 q introduce el IRPF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Urgentes necesidades de información. Supuso creación de call center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Apoyo en FAQs, solo informa no asesor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Continuo y significativo incremento nº llamada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5 líneas fundamentales: respuesta automática, opción IRPF, no IRPF, opción trámites, opción renovación certificados (éste último atendido por invident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Proyecto cambiar software y hardware: el actual no permite evaluación, estadísticas ni monitoreo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3 Imagen" descr="DSC04496.JPG"/>
          <p:cNvPicPr/>
          <p:nvPr/>
        </p:nvPicPr>
        <p:blipFill>
          <a:blip r:embed="rId1"/>
          <a:stretch/>
        </p:blipFill>
        <p:spPr>
          <a:xfrm>
            <a:off x="9144000" y="6858000"/>
            <a:ext cx="60480" cy="460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06" name="4 Imagen" descr="DSC04479.JPG"/>
          <p:cNvPicPr/>
          <p:nvPr/>
        </p:nvPicPr>
        <p:blipFill>
          <a:blip r:embed="rId2"/>
          <a:stretch/>
        </p:blipFill>
        <p:spPr>
          <a:xfrm>
            <a:off x="6143760" y="4608360"/>
            <a:ext cx="3000240" cy="2249640"/>
          </a:xfrm>
          <a:prstGeom prst="rect">
            <a:avLst/>
          </a:prstGeom>
          <a:ln w="0">
            <a:noFill/>
          </a:ln>
        </p:spPr>
      </p:pic>
      <p:pic>
        <p:nvPicPr>
          <p:cNvPr id="107" name="5 Imagen" descr="DSC04527.JPG"/>
          <p:cNvPicPr/>
          <p:nvPr/>
        </p:nvPicPr>
        <p:blipFill>
          <a:blip r:embed="rId3"/>
          <a:stretch/>
        </p:blipFill>
        <p:spPr>
          <a:xfrm>
            <a:off x="6189840" y="4643280"/>
            <a:ext cx="2954160" cy="22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1f497d"/>
                </a:solidFill>
                <a:latin typeface="Calibri"/>
              </a:rPr>
              <a:t>DGI Urugua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1f497d"/>
                </a:solidFill>
                <a:latin typeface="Calibri"/>
              </a:rPr>
              <a:t>Administración de colas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Sistema con dos módulos: uno de atención y otro de información que se ofrece al contribuyente mientras esper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Sistema de agenda para campaña de renta con reserva previ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Sistema ofrece información: promedios de espera, promedios de atenció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Permite rellamad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1f497d"/>
                </a:solidFill>
                <a:latin typeface="Calibri"/>
              </a:rPr>
              <a:t>Bandeja de comunicacion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De reciente implantación, permite la colocación de información de interés para el contribuyente. Plan piloto para solicitudes de certificado único rechazada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550"/>
              </a:spcBef>
              <a:buClr>
                <a:srgbClr val="1f497d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550"/>
              </a:spcBef>
              <a:buClr>
                <a:srgbClr val="1f497d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1f497d"/>
                </a:solidFill>
                <a:latin typeface="Calibri"/>
              </a:rPr>
              <a:t>AFIP Agencias móvi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599840"/>
            <a:ext cx="822960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00000"/>
                </a:solidFill>
                <a:latin typeface="Calibri"/>
              </a:rPr>
              <a:t>En la vida solo hay dos cosas inevitables: la muerte y los impuest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00000"/>
                </a:solidFill>
                <a:latin typeface="Calibri"/>
              </a:rPr>
              <a:t>Atender: acoger favorablemente, satisfacer un deseo, un rueg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AGENCIAS MÓVILES: dar asistencia a donde no llegan las oficin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Consultas, información, resolución trámites y asistencia en presentación y pago de declaraciones, registro de datos biométricos, gestión de claves fiscales (principal uso), se reciben documentación y denunci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Atendido por funcionarios de AFIP: equipos de 2 o 3 person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Equipamiento completo 4 camionetas, se llegará a 14 a fin de año. Objetivo q cada provincia tenga1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1f497d"/>
                </a:solidFill>
                <a:latin typeface="Calibri"/>
              </a:rPr>
              <a:t>AFIP Agencias móvi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71680" y="1357200"/>
            <a:ext cx="822960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4.600 kms en 25 semana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17.000 contribuyentes atendidos y 19.000 consultas resuelta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1f497d"/>
                </a:solidFill>
                <a:latin typeface="Calibri"/>
              </a:rPr>
              <a:t>Espacios AFIP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Presencia en lugares de concurrencia masiv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Menos servicio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Objetivo: inclusión en el sistem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1f497d"/>
                </a:solidFill>
                <a:latin typeface="Calibri"/>
              </a:rPr>
              <a:t>Centros de Atenció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90 centros: permanentes o itinerant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Personal de AFIP pero colaboración municipalidades en infraestructur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Varios servicio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Incluye puestos de autogestió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152.000 contribuyentes atendido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1f497d"/>
                </a:solidFill>
                <a:latin typeface="Calibri"/>
              </a:rPr>
              <a:t>AFIP</a:t>
            </a:r>
            <a:r>
              <a:rPr b="0" lang="es-ES" sz="4400" spc="-1" strike="noStrike">
                <a:solidFill>
                  <a:srgbClr val="1f497d"/>
                </a:solidFill>
                <a:latin typeface="Calibri"/>
              </a:rPr>
              <a:t> ¿cómo atendemo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21428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Ejes rectores: Estado, tecnología y capacitació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Estado: Ruptura de feudo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Tecnología: on line y estandarizació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Capacitación: vincular con humanida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1f497d"/>
                </a:solidFill>
                <a:latin typeface="Calibri"/>
              </a:rPr>
              <a:t>AEAT: Asistencia a grandes empres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1f497d"/>
                </a:solidFill>
                <a:latin typeface="Calibri"/>
              </a:rPr>
              <a:t>Delegación Central Grandes Contribuyent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Apuesta por mayor eficacia, coordinación e integración. Competencia nacion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Interlocutor único G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1f497d"/>
                </a:solidFill>
                <a:latin typeface="Calibri"/>
              </a:rPr>
              <a:t>Foro Grandes Empres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Órgano de relación cooperativa AEAT y GGC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Se determinan cuestiones comunes objeto de discusión: simplificación obligaciones formales, estudio cambios normativo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Grupos de trabajo: Código de buenas prácticas, precios de tranferencia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1f497d"/>
                </a:solidFill>
                <a:latin typeface="Calibri"/>
              </a:rPr>
              <a:t>AFIP Argentin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21428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1f497d"/>
                </a:solidFill>
                <a:latin typeface="Calibri"/>
              </a:rPr>
              <a:t>SG de SERVICIOS AL CONTRIBUYENTE DE AFI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Gran variedad de servicios y constante introducción de nuevas ví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Tres canales principales: telefónico, web y correo electrónic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Relevancia capacitación del capital human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CENTRO DE INFORMACIÓN TELEFÓNICA (CIT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ff0000"/>
                </a:solidFill>
                <a:latin typeface="Calibri"/>
              </a:rPr>
              <a:t>“</a:t>
            </a:r>
            <a:r>
              <a:rPr b="1" i="1" lang="es-ES" sz="2000" spc="-1" strike="noStrike">
                <a:solidFill>
                  <a:srgbClr val="ff0000"/>
                </a:solidFill>
                <a:latin typeface="Calibri"/>
              </a:rPr>
              <a:t>TERMOMETRO DE LO QUE OCURRE EN LA CALLE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- Personal combina teléfono con emai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- Canales gratuitos para temas sensibles (regularización trabajo en hogar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- Reciben denunci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- Llamadas salientes en determinadas campañas o cuando respuesta no es inmedia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- Alta preparación operadores por capacitación y baja rotació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C:\Program Files\Microsoft Office\MEDIA\CAGCAT10\j0332268.wmf"/>
          <p:cNvPicPr/>
          <p:nvPr/>
        </p:nvPicPr>
        <p:blipFill>
          <a:blip r:embed="rId1"/>
          <a:stretch/>
        </p:blipFill>
        <p:spPr>
          <a:xfrm>
            <a:off x="7543800" y="2500200"/>
            <a:ext cx="1600200" cy="18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1f497d"/>
                </a:solidFill>
                <a:latin typeface="Calibri"/>
              </a:rPr>
              <a:t>AEAT Cita prev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214280"/>
            <a:ext cx="822960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00000"/>
                </a:solidFill>
                <a:latin typeface="Calibri"/>
              </a:rPr>
              <a:t>OBLIGATORIA en campaña de Renta, proyecto de generalizació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00000"/>
                </a:solidFill>
                <a:latin typeface="Calibri"/>
              </a:rPr>
              <a:t>Gestor de colas con desarrollo propio: ATENEO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CP IRPF: modificación y presentación borradores y declaracion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Canales petición de cita: VRU, teléfono con operadores (externalizado), Interne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51% de las citas por Internet, 46% por operador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Aplicativo gestor único: definir centros, configuración servicio flexible (puestos, horarios, intervalos de prestación de servicio) parámetros comun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Apertura progresiva automática de agenda: reducir no concurrenci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Sólo colectivo más necesitado de ayuda: perfil de contribuyente (conexión BD para no dar cita si no reúne requisito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1f497d"/>
                </a:solidFill>
                <a:latin typeface="Calibri"/>
              </a:rPr>
              <a:t>AEAT cita prev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214280"/>
            <a:ext cx="8229600" cy="542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0000"/>
                </a:solidFill>
                <a:latin typeface="Calibri"/>
              </a:rPr>
              <a:t>Proyecto de generalizació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Proyecto piloto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Progresiva incorporación de servicios: primero sólo para procedimientos de contro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0000"/>
                </a:solidFill>
                <a:latin typeface="Calibri"/>
              </a:rPr>
              <a:t>Gestión de colas: ATENEO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Herramienta fundamental para toma de decision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Gestión de colas y direccionamiento ordenado de contribuyent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Necesario sólo pantalla de servicio (o kiosko) y pantalla informativ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Conectado con la aplicación de CP y aplicativo muy flexible (varias sed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Información en tiempo real de la situación en oficinas (anticipar toma de decisiones) y facilita estadísticas por servicios a cualquier nivel territorial (mismas categorías a nivel nacional), importante a efectos de comparación y de asignación de recurso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1f497d"/>
                </a:solidFill>
                <a:latin typeface="Calibri"/>
              </a:rPr>
              <a:t>SIN Boliv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142640"/>
            <a:ext cx="82296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1f497d"/>
                </a:solidFill>
                <a:latin typeface="Calibri"/>
              </a:rPr>
              <a:t>Oficina Móvi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0000"/>
                </a:solidFill>
                <a:latin typeface="Calibri"/>
              </a:rPr>
              <a:t>“</a:t>
            </a:r>
            <a:r>
              <a:rPr b="1" lang="es-ES" sz="2200" spc="-1" strike="noStrike">
                <a:solidFill>
                  <a:srgbClr val="ff0000"/>
                </a:solidFill>
                <a:latin typeface="Calibri"/>
              </a:rPr>
              <a:t>Quien no arriesga no gana</a:t>
            </a:r>
            <a:r>
              <a:rPr b="0" lang="es-ES" sz="2200" spc="-1" strike="noStrike">
                <a:solidFill>
                  <a:srgbClr val="ff0000"/>
                </a:solidFill>
                <a:latin typeface="Calibri"/>
              </a:rPr>
              <a:t>”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00000"/>
                </a:solidFill>
                <a:latin typeface="Calibri"/>
              </a:rPr>
              <a:t>Datos interesant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Bajo índice de conectividad por elevados costos de conexió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Banda ancha móvil contribuye a reducir la brecha: 150 millones de personas en AL, penetración del 20% y cobertura del 78% y crecient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Base de la pirámid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Los analfabetos digitales buscan a personas cercana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Razones de la brecha: contenido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Desarrollo para presentación declaraciones con movimiento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1f497d"/>
                </a:solidFill>
                <a:latin typeface="Calibri"/>
              </a:rPr>
              <a:t>SIN Boliv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Los datos muestran el crecimiento exponencial de smartphones (Bolivia 58% para 2014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50 millones de ciudadanos en el mundo tienen teléfono móvil pero no electricidad en cas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0000"/>
                </a:solidFill>
                <a:latin typeface="Calibri"/>
              </a:rPr>
              <a:t>OFICINA MÓVI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Obligación de I y A en Ley de Impuestos Nacional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Se inicia en 2012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Presentación de declaraciones, comunicación deudas pendientes, información de situación tributaria, presentación de denuncias, consulta normativa actualizada, vencimiento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Aspiración: normativamente establecer notificación electrónic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1f497d"/>
                </a:solidFill>
                <a:latin typeface="Calibri"/>
              </a:rPr>
              <a:t>AFIP Educación Fisc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071360"/>
            <a:ext cx="822960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Programa integr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Alcanza a todos los niveles del sistema educativo: principalmente Secundaria y Universitari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Valores compartidos educadores: vocación de servicio, responsabilidad social, integridad…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Equipo multidisciplinario: contadores, abogados, comunicadores, psicólogos, ingenieros de sistema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Capacitación a docentes. “multiplicador”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3 Imagen" descr="DSC01705.JPG"/>
          <p:cNvPicPr/>
          <p:nvPr/>
        </p:nvPicPr>
        <p:blipFill>
          <a:blip r:embed="rId1"/>
          <a:stretch/>
        </p:blipFill>
        <p:spPr>
          <a:xfrm>
            <a:off x="5214960" y="4429080"/>
            <a:ext cx="3238560" cy="2428920"/>
          </a:xfrm>
          <a:prstGeom prst="rect">
            <a:avLst/>
          </a:prstGeom>
          <a:ln w="0">
            <a:noFill/>
          </a:ln>
        </p:spPr>
      </p:pic>
      <p:pic>
        <p:nvPicPr>
          <p:cNvPr id="129" name="4 Imagen" descr="DSC01665.JPG"/>
          <p:cNvPicPr/>
          <p:nvPr/>
        </p:nvPicPr>
        <p:blipFill>
          <a:blip r:embed="rId2"/>
          <a:stretch/>
        </p:blipFill>
        <p:spPr>
          <a:xfrm>
            <a:off x="785880" y="4357800"/>
            <a:ext cx="333360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1f497d"/>
                </a:solidFill>
                <a:latin typeface="Calibri"/>
              </a:rPr>
              <a:t>AFIP Educación Fisc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143000"/>
            <a:ext cx="822960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Socios estratégicos: Educación y Rentas (municipalidades, provincia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Objetivos: visualizar al tributo como pilar sistema democrático, fortalecer relación contribuyente, reflexión sentido social de los impuestos y combatir evasión y fraud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Ejes del programa educativo: formación en valores, ciudadanía y cultura tributari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Equipo en BA y Red de Referentes provincial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Estrategias educativas: seminarios universidades, cursos capacitación docente, materiales educativos, dispositivos on line, talleres y eventos especiales, AFIP bajo el sol, Museo Histórico AFIP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1f497d"/>
                </a:solidFill>
                <a:latin typeface="Calibri"/>
              </a:rPr>
              <a:t>Muchas gracias por su atenció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3 Marcador de contenido" descr="DSC09369.JPG"/>
          <p:cNvPicPr/>
          <p:nvPr/>
        </p:nvPicPr>
        <p:blipFill>
          <a:blip r:embed="rId1"/>
          <a:stretch/>
        </p:blipFill>
        <p:spPr>
          <a:xfrm>
            <a:off x="1285920" y="1285920"/>
            <a:ext cx="6707160" cy="498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1f497d"/>
                </a:solidFill>
                <a:latin typeface="Calibri"/>
              </a:rPr>
              <a:t>Reclamos y Sugerencias AFI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599840"/>
            <a:ext cx="822960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Búsqueda de calida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No se trata de defender sino de asisti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Canal único con 600 asistent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Estandarización de contenidos y  tiempos medios de respuest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Especial perfil del personal “vocacional”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No interrumpen vías de recurso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Tipología: quejas, reclamos y sugerencia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Formulario tipo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Canales de recepción :web (principal), teléfono y presenci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Canales de respuesta: email (principal), presencial y telefónic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ff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0000"/>
                </a:solidFill>
                <a:latin typeface="Calibri"/>
              </a:rPr>
              <a:t>Difusión y homogeneidad: </a:t>
            </a: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Boletín de asistencia al ciudadano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1.500 mensuales, 82% resuelto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3 Imagen" descr="DSC09356.JPG"/>
          <p:cNvPicPr/>
          <p:nvPr/>
        </p:nvPicPr>
        <p:blipFill>
          <a:blip r:embed="rId1"/>
          <a:stretch/>
        </p:blipFill>
        <p:spPr>
          <a:xfrm>
            <a:off x="6143760" y="1143000"/>
            <a:ext cx="2333520" cy="17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9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Incluye también Aduanas y S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Respuesta no vinculante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Alimentan el ABC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Variadas ayudas para operadores: ABC, biblioteca electrónica, BO, Guías paso a paso…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Existencia de protocolos de atenció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Personal Referent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Derivación a servicios centrales supuestos mayor complejida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Completo sistema de monitoreo y seguimiento: evaluación, estadísticas e Inform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Se atiende el 71% de las llamadas ingresada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C:\Program Files\Microsoft Office\MEDIA\CAGCAT10\j0332268.wmf"/>
          <p:cNvPicPr/>
          <p:nvPr/>
        </p:nvPicPr>
        <p:blipFill>
          <a:blip r:embed="rId1"/>
          <a:stretch/>
        </p:blipFill>
        <p:spPr>
          <a:xfrm>
            <a:off x="7715160" y="1428840"/>
            <a:ext cx="1028880" cy="116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1f497d"/>
                </a:solidFill>
                <a:latin typeface="Calibri"/>
              </a:rPr>
              <a:t>SAT GUATEMAL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4 Imagen" descr="Atitlán (5).jpg"/>
          <p:cNvPicPr/>
          <p:nvPr/>
        </p:nvPicPr>
        <p:blipFill>
          <a:blip r:embed="rId1"/>
          <a:stretch/>
        </p:blipFill>
        <p:spPr>
          <a:xfrm>
            <a:off x="6072120" y="3571920"/>
            <a:ext cx="2643120" cy="19828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 txBox="1"/>
          <p:nvPr/>
        </p:nvSpPr>
        <p:spPr>
          <a:xfrm>
            <a:off x="457200" y="1599840"/>
            <a:ext cx="82296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1f497d"/>
                </a:solidFill>
                <a:latin typeface="Calibri"/>
              </a:rPr>
              <a:t>Estrategia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Reducir incumplimiento tributario y aduanero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Modernización por medio de personas, procesos y tecnologí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0000"/>
                </a:solidFill>
                <a:latin typeface="Calibri"/>
              </a:rPr>
              <a:t>Facilitar y fomentar el cumplimiento voluntario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- Simplificar sistemas y procedimiento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Reducir formalidades declaraciones tributarias y aduanera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Facilitar el pago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Mejorar los servicios de atención e informació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Potenciar la información y su divulgació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Orientación al contribuyent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Mejorar capacitación person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Intensas acciones formativas a contribuyentes en todo el país: charla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422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928440"/>
            <a:ext cx="8229600" cy="51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Servicios disponibles: tradicionales y facebook, twiter, chats, youtub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1f497d"/>
                </a:solidFill>
                <a:latin typeface="Calibri"/>
              </a:rPr>
              <a:t>Desafío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Simplificación procedimientos y normati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Estandarización de la información que se sumisitr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Calibri"/>
              </a:rPr>
              <a:t>Romper la </a:t>
            </a:r>
            <a:r>
              <a:rPr b="1" lang="es-ES" sz="2200" spc="-1" strike="noStrike">
                <a:solidFill>
                  <a:srgbClr val="ff0000"/>
                </a:solidFill>
                <a:latin typeface="Calibri"/>
              </a:rPr>
              <a:t>brecha</a:t>
            </a:r>
            <a:r>
              <a:rPr b="1" lang="es-ES" sz="2400" spc="-1" strike="noStrike">
                <a:solidFill>
                  <a:srgbClr val="ff0000"/>
                </a:solidFill>
                <a:latin typeface="Calibri"/>
              </a:rPr>
              <a:t> digital para una SAT virtu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Implantación del Ateneo para cita prev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Ordenación de filas, mejor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Servicio de llamadas en periodos pico aumentando el outsours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Eliminación del pap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1f497d"/>
                </a:solidFill>
                <a:latin typeface="Calibri"/>
              </a:rPr>
              <a:t>RF BRASI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285560"/>
            <a:ext cx="82296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0000"/>
                </a:solidFill>
                <a:latin typeface="Calibri"/>
              </a:rPr>
              <a:t>El país de las grandes cifras</a:t>
            </a: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66 millones de servicios con firma electrónic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20 millones atendidos en oficina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11 millones atendidos a través de instituciones asociad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9 millones de llamada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150.000 correos electrónico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alibri"/>
              </a:rPr>
              <a:t>Dificultad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Frecuentes cambios normativo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Difícil encontrar experto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Aumento tiempos medios y caídas productivida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Limitación de recursos y capacidad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3 Imagen" descr="Brasil 021.jpg"/>
          <p:cNvPicPr/>
          <p:nvPr/>
        </p:nvPicPr>
        <p:blipFill>
          <a:blip r:embed="rId1"/>
          <a:stretch/>
        </p:blipFill>
        <p:spPr>
          <a:xfrm>
            <a:off x="6500880" y="4518000"/>
            <a:ext cx="2643120" cy="19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1f497d"/>
                </a:solidFill>
                <a:latin typeface="Calibri"/>
              </a:rPr>
              <a:t>RFB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42680"/>
            <a:ext cx="822960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1f497d"/>
                </a:solidFill>
                <a:latin typeface="Calibri"/>
              </a:rPr>
              <a:t>Objetiv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Eliminar papel para los servicios mas complej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Permitir atención en cualquier oficin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Eliminar fila virtu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Llegar al procedimiento completamente digital: q toda la documentación q presente el contribuyente sea digital: dossier digit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Diseño e implantación del INFORM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12T21:25:13Z</dcterms:created>
  <dc:creator>g00200rz</dc:creator>
  <dc:description/>
  <dc:language>en-US</dc:language>
  <cp:lastModifiedBy>afernandez</cp:lastModifiedBy>
  <dcterms:modified xsi:type="dcterms:W3CDTF">2013-09-23T09:42:06Z</dcterms:modified>
  <cp:revision>71</cp:revision>
  <dc:subject/>
  <dc:title>EUROsociAL II Visita de Intercambio de experiencias Sur-Sur entre AATT sobre servicios de Información y Asistencia Tributaria Buenos Aires, 11 a 13 de septiembre 2013</dc:title>
</cp:coreProperties>
</file>