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3003213" cy="97520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0000"/>
              </a:solidFill>
              <a:latin typeface="Gill Sans"/>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16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4"/>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PlaceHolder 6"/>
          <p:cNvSpPr>
            <a:spLocks noGrp="1"/>
          </p:cNvSpPr>
          <p:nvPr>
            <p:ph type="sldNum" idx="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84B1-70F3-4DF4-81AB-54C03C26CAFB}"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D27C-CAB0-4CE1-AC4C-7B26DF57C9EB}" type="slidenum">
              <a:rPr b="0" lang="es-ES" sz="1200" spc="-1" strike="noStrike">
                <a:solidFill>
                  <a:srgbClr val="000000"/>
                </a:solidFill>
                <a:latin typeface="Gill Sans"/>
                <a:ea typeface="小塚ゴシック Pr6N EL"/>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F3CB4-4FB2-49F6-AAD2-1E47A9221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0FD0B657-E117-4FEB-BD52-373D5A3D7F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FBE0131-F013-473B-BFB5-7C9861392F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2887ADE2-D975-4E83-8AF2-36B5965CC4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66F856B2-0712-4D62-9343-1160107CD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072AA0B8-1C0E-4D00-93CB-78B72550DF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1401EB0F-FA22-4A58-BCCD-D6CD86A060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964797BA-6037-4CD5-81CD-211F23091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738610E8-22E0-4DB2-8F84-C249FD0FB4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FF47523B-9B9D-407D-B910-4F637390CF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608CB820-84C2-4752-9261-08BBD323C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1D553BF4-8568-465D-8B4C-1F5127BE2F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62DE37-7C6B-4C4A-9DDB-87E43E60BB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2D0FCC1A-DAA4-4CB7-AD2A-89A0A06D26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D87DB608-1FB9-4FC8-BC9F-9FCA489DC0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D351C403-226F-46BA-9A64-302AB695C5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F068139C-2E35-4CE9-88E9-23949DBFE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8317A1B9-1734-42CF-B592-85979E3369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365918AC-25E4-4CBA-A410-5F517FB791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2651EC92-9CC6-4588-8BD3-7EFE7BA328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B3995176-5AA7-46FD-9C0A-15F780A29E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4D0A355E-6585-4116-823B-27744BDF31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1FD53385-CC4B-464B-9FAC-68B48C0871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B38B1A04-774D-4121-A06B-BB09504BF6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6899-DFEF-4B0B-80F7-280CC08E1FD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D727-AFFF-450C-8D2D-922A7F1CF12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
          <p:cNvPicPr/>
          <p:nvPr/>
        </p:nvPicPr>
        <p:blipFill>
          <a:blip r:embed="rId2"/>
          <a:stretch/>
        </p:blipFill>
        <p:spPr>
          <a:xfrm>
            <a:off x="0" y="0"/>
            <a:ext cx="13004640" cy="4876920"/>
          </a:xfrm>
          <a:prstGeom prst="rect">
            <a:avLst/>
          </a:prstGeom>
          <a:ln w="0">
            <a:noFill/>
          </a:ln>
        </p:spPr>
      </p:pic>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12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0" y="0"/>
            <a:ext cx="13004640" cy="9753480"/>
          </a:xfrm>
          <a:prstGeom prst="rect">
            <a:avLst/>
          </a:prstGeom>
          <a:ln w="0">
            <a:noFill/>
          </a:ln>
        </p:spPr>
      </p:pic>
      <p:sp>
        <p:nvSpPr>
          <p:cNvPr id="165"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6"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167" name="PlaceHolder 1"/>
          <p:cNvSpPr>
            <a:spLocks noGrp="1"/>
          </p:cNvSpPr>
          <p:nvPr>
            <p:ph type="title"/>
          </p:nvPr>
        </p:nvSpPr>
        <p:spPr>
          <a:xfrm>
            <a:off x="0" y="48769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d4c92"/>
                </a:solidFill>
                <a:latin typeface="Gill Sans MT"/>
              </a:rPr>
              <a:t>El área de finanzas públicas del Programa EUROsociAL-II</a:t>
            </a:r>
            <a:br>
              <a:rPr sz="4400"/>
            </a:br>
            <a:br>
              <a:rPr sz="4400"/>
            </a:br>
            <a:br>
              <a:rPr sz="4400"/>
            </a:br>
            <a:r>
              <a:rPr b="0" lang="es-ES" sz="2600" spc="-1" strike="noStrike">
                <a:solidFill>
                  <a:srgbClr val="f2f2f2"/>
                </a:solidFill>
                <a:latin typeface="Gill Sans MT"/>
                <a:ea typeface="MS PGothic"/>
              </a:rPr>
              <a:t> Fundación Internacional y para Iberoamérica de Administración y Políticas Públicas</a:t>
            </a:r>
            <a:br>
              <a:rPr sz="2600"/>
            </a:br>
            <a:r>
              <a:rPr b="0" lang="es-ES" sz="2600" spc="-1" strike="noStrike">
                <a:solidFill>
                  <a:srgbClr val="f2f2f2"/>
                </a:solidFill>
                <a:latin typeface="Gill Sans MT"/>
                <a:ea typeface="MS PGothic"/>
              </a:rPr>
              <a:t>(</a:t>
            </a:r>
            <a:r>
              <a:rPr b="0" lang="en-US" sz="2600" spc="-1" strike="noStrike">
                <a:solidFill>
                  <a:srgbClr val="f2f2f2"/>
                </a:solidFill>
                <a:latin typeface="Gill Sans MT"/>
                <a:ea typeface="MS PGothic"/>
              </a:rPr>
              <a:t>FIIAPP)</a:t>
            </a:r>
            <a:br>
              <a:rPr sz="2400"/>
            </a:br>
            <a:br>
              <a:rPr sz="2800"/>
            </a:br>
            <a:br>
              <a:rPr sz="4000"/>
            </a:br>
            <a:endParaRPr b="0" lang="en-US" sz="2600" spc="-1" strike="noStrike">
              <a:solidFill>
                <a:srgbClr val="ffffff"/>
              </a:solidFill>
              <a:latin typeface="Gill Sans MT"/>
            </a:endParaRPr>
          </a:p>
        </p:txBody>
      </p:sp>
      <p:sp>
        <p:nvSpPr>
          <p:cNvPr id="168" name="6 Rectángulo"/>
          <p:cNvSpPr/>
          <p:nvPr/>
        </p:nvSpPr>
        <p:spPr>
          <a:xfrm>
            <a:off x="0" y="0"/>
            <a:ext cx="1300464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Gill Sans MT"/>
                <a:ea typeface="MS PGothic"/>
              </a:rPr>
              <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ill Sans MT"/>
                <a:ea typeface="MS PGothic"/>
              </a:rPr>
              <a:t>Buenos Aires, 11 de septiembre 2013</a:t>
            </a:r>
            <a:endParaRPr b="0" lang="en-US" sz="2400" spc="-1" strike="noStrike">
              <a:solidFill>
                <a:srgbClr val="000000"/>
              </a:solidFill>
              <a:latin typeface="Gill Sans"/>
            </a:endParaRPr>
          </a:p>
        </p:txBody>
      </p:sp>
      <p:pic>
        <p:nvPicPr>
          <p:cNvPr id="169"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598320" y="8190000"/>
            <a:ext cx="11782440" cy="13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CCB9-C063-4AB2-8F60-37BBF15A506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4"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5"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s un aárea coordinada por la FIIAPP. En este momento los socios operativos del finanzas públicas son:</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Instituto de Estudios Fiscales (IEF)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Oficina de Planeamiento y Presupuesto (OPP) - Uruguay</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sociación Internacional de Presupuesto Público (ASIP) – OOII</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de Cooperación Técnica Internacional de los Ministerios de Economía y Hacienda (ADETEF) - Franci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Estatal de Administración Tributaria (AEAT)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Centro Interamericano de Administraciones Tributarias (CIAT) - OOII</a:t>
            </a:r>
            <a:endParaRPr b="0" lang="en-US" sz="3200" spc="-1" strike="noStrike">
              <a:solidFill>
                <a:srgbClr val="000000"/>
              </a:solidFill>
              <a:latin typeface="Gill Sans"/>
            </a:endParaRPr>
          </a:p>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B6F8-17CB-47BF-A73D-CB51EA9A922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7"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8" name="13 Rectángulo"/>
          <p:cNvSpPr/>
          <p:nvPr/>
        </p:nvSpPr>
        <p:spPr>
          <a:xfrm>
            <a:off x="870120" y="2214720"/>
            <a:ext cx="11571120" cy="5572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8b647"/>
                </a:solidFill>
                <a:latin typeface="Gill Sans MT"/>
              </a:rPr>
              <a:t>Importancia de los resultados</a:t>
            </a:r>
            <a:endParaRPr b="0" lang="en-US" sz="2800" spc="-1" strike="noStrike">
              <a:solidFill>
                <a:srgbClr val="000000"/>
              </a:solidFill>
              <a:latin typeface="Gill Sans"/>
            </a:endParaRPr>
          </a:p>
        </p:txBody>
      </p:sp>
      <p:sp>
        <p:nvSpPr>
          <p:cNvPr id="209" name="1 Rectángulo"/>
          <p:cNvSpPr/>
          <p:nvPr/>
        </p:nvSpPr>
        <p:spPr>
          <a:xfrm>
            <a:off x="870120" y="3147840"/>
            <a:ext cx="11571120" cy="4641480"/>
          </a:xfrm>
          <a:prstGeom prst="rect">
            <a:avLst/>
          </a:prstGeom>
          <a:noFill/>
          <a:ln w="0">
            <a:noFill/>
          </a:ln>
        </p:spPr>
        <p:style>
          <a:lnRef idx="0"/>
          <a:fillRef idx="0"/>
          <a:effectRef idx="0"/>
          <a:fontRef idx="minor"/>
        </p:style>
        <p:txBody>
          <a:bodyPr lIns="90000" rIns="90000" tIns="46800" bIns="46800" anchor="t">
            <a:spAutoFit/>
          </a:bodyPr>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Las tres R: Resultados, Resultados y Resultad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Tipos de resultados: reformas políticas, cambios organizacionales, mejoras legislativas, refuerzo de capacidade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 </a:t>
            </a:r>
            <a:r>
              <a:rPr b="0" lang="es-ES" sz="3200" spc="-1" strike="noStrike">
                <a:solidFill>
                  <a:srgbClr val="0d4c92"/>
                </a:solidFill>
                <a:latin typeface="Gill Sans MT"/>
                <a:ea typeface="小塚ゴシック Pr6N EL"/>
              </a:rPr>
              <a:t>Acompañar procesos hasta que se transformen en cambi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Comunicar resultados como constante a lo largo de la ejecución</a:t>
            </a:r>
            <a:endParaRPr b="0" lang="en-US" sz="32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6BB5-560F-4D87-9C9B-7E750FD13E1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1"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
        <p:nvSpPr>
          <p:cNvPr id="212" name="13 Rectángulo"/>
          <p:cNvSpPr/>
          <p:nvPr/>
        </p:nvSpPr>
        <p:spPr>
          <a:xfrm>
            <a:off x="870120" y="2214720"/>
            <a:ext cx="11571120" cy="39700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d2e92"/>
                </a:solidFill>
                <a:latin typeface="Gill Sans MT"/>
              </a:rPr>
              <a:t>OBJETIVO</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d2e92"/>
                </a:solidFill>
                <a:latin typeface="Gill Sans MT"/>
              </a:rPr>
              <a:t>Fomento del cumplimiento por los ciudadanos de sus obligaciones fiscales. Para ello se desarrollan dos líneas de actuación: por una parte la prestación de servicios de información y asistencia al contribuyente y, por otra parte, la detección y regularización de los incumplimientos tributarios, mediante actuaciones de control</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7850-3C94-4168-8D91-18742B92278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4"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FIIAPP es el socio coordinador, AEAT y CIAT los socios operativos técnicos y el IEF el socio operativo gestor.</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acción parte del trabajo realizado por Eurosocial-I y trata de ir más allá en cuanto a los objetivos en términos de las reformas apoyada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Para recoger la demanda se mandó por carta un cuestionario a todas la AATT de América Latina para que reflejaran sus áreas interé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Respondieron trece países: Argentina, Bolivia, Brasil, Chile, Colombia, Costa Rica, Ecuador, El Salvador, Guatemala, México, Paraguay, Perú y Uruguay. </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xpusieron sus áreas de reformas en marcha y los objetivos esperados del apoyo de Eurosocial-II.</a:t>
            </a:r>
            <a:endParaRPr b="0" lang="en-US" sz="3200" spc="-1" strike="noStrike">
              <a:solidFill>
                <a:srgbClr val="000000"/>
              </a:solidFill>
              <a:latin typeface="Gill Sans"/>
            </a:endParaRPr>
          </a:p>
          <a:p>
            <a:pPr lvl="1" marL="870120" indent="-48744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lvl="1" marL="870120" indent="-48744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870120" indent="-48744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15"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Rectángulo"/>
          <p:cNvSpPr/>
          <p:nvPr/>
        </p:nvSpPr>
        <p:spPr>
          <a:xfrm>
            <a:off x="1951560" y="4376880"/>
            <a:ext cx="9448200" cy="1099440"/>
          </a:xfrm>
          <a:prstGeom prst="rect">
            <a:avLst/>
          </a:prstGeom>
          <a:solidFill>
            <a:srgbClr val="e8b64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d4c92"/>
                </a:solidFill>
                <a:latin typeface="Gill Sans MT"/>
              </a:rPr>
              <a:t>Gracias por su atención</a:t>
            </a:r>
            <a:endParaRPr b="0" lang="en-US" sz="6600" spc="-1" strike="noStrike">
              <a:solidFill>
                <a:srgbClr val="000000"/>
              </a:solidFill>
              <a:latin typeface="Gill Sans"/>
            </a:endParaRPr>
          </a:p>
        </p:txBody>
      </p:sp>
      <p:pic>
        <p:nvPicPr>
          <p:cNvPr id="217" name="Picture 11" descr="LOGO_FIIAPP_AZUL.jpg"/>
          <p:cNvPicPr/>
          <p:nvPr/>
        </p:nvPicPr>
        <p:blipFill>
          <a:blip r:embed="rId1"/>
          <a:stretch/>
        </p:blipFill>
        <p:spPr>
          <a:xfrm>
            <a:off x="3287880" y="6519960"/>
            <a:ext cx="6011640" cy="2428920"/>
          </a:xfrm>
          <a:prstGeom prst="rect">
            <a:avLst/>
          </a:prstGeom>
          <a:ln w="0">
            <a:noFill/>
          </a:ln>
        </p:spPr>
      </p:pic>
      <p:sp>
        <p:nvSpPr>
          <p:cNvPr id="218" name="5 CuadroTexto"/>
          <p:cNvSpPr/>
          <p:nvPr/>
        </p:nvSpPr>
        <p:spPr>
          <a:xfrm>
            <a:off x="5216400" y="8163000"/>
            <a:ext cx="39290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b4585"/>
                </a:solidFill>
                <a:latin typeface="Gill Sans MT"/>
              </a:rPr>
              <a:t>Cooperación española</a:t>
            </a:r>
            <a:endParaRPr b="0" lang="en-US" sz="21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AA65-A670-4960-8D36-748B1EE8D20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1" name="Rectangle 1"/>
          <p:cNvSpPr/>
          <p:nvPr/>
        </p:nvSpPr>
        <p:spPr>
          <a:xfrm>
            <a:off x="1317600" y="3724200"/>
            <a:ext cx="11036160" cy="162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FIIAP </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Programa Eurosocial II</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área de finanzas públicas</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acción de Cumplimiento Voluntario</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Rectangle 2"/>
          <p:cNvSpPr/>
          <p:nvPr/>
        </p:nvSpPr>
        <p:spPr>
          <a:xfrm>
            <a:off x="669960" y="2451240"/>
            <a:ext cx="523800" cy="417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171">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A159-5BE5-49C0-9CC1-13105659D6D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4"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sp>
        <p:nvSpPr>
          <p:cNvPr id="175" name="Rectangle 2"/>
          <p:cNvSpPr/>
          <p:nvPr/>
        </p:nvSpPr>
        <p:spPr>
          <a:xfrm>
            <a:off x="647640" y="2376360"/>
            <a:ext cx="11709360" cy="629136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La Fundación Internacional y para Iberoamérica de Administración y Políticas Públicas (FIIAPP) es una institución pública española, creada en el año 1997 como instrumento para la Acción Exterior en el ámbito de la cooperación para la gobernabilidad democrática y la reforma institucional. </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Moviliza el “saber hacer” de los funcionarios-empleados públicos y las buenas prácticas de las Administraciones Públicas españolas.</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Es el primer operador público de la Unión Europea en Asistencia técnica pública.</a:t>
            </a:r>
            <a:endParaRPr b="0" lang="en-US" sz="32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1ABB-4587-4228-9F63-AFD3B12E3E5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7"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grpSp>
        <p:nvGrpSpPr>
          <p:cNvPr id="178" name="13 Grupo"/>
          <p:cNvGrpSpPr/>
          <p:nvPr/>
        </p:nvGrpSpPr>
        <p:grpSpPr>
          <a:xfrm>
            <a:off x="1882800" y="4444920"/>
            <a:ext cx="8823240" cy="4678560"/>
            <a:chOff x="1882800" y="4444920"/>
            <a:chExt cx="8823240" cy="4678560"/>
          </a:xfrm>
        </p:grpSpPr>
        <p:sp>
          <p:nvSpPr>
            <p:cNvPr id="179" name="5 Rectángulo"/>
            <p:cNvSpPr/>
            <p:nvPr/>
          </p:nvSpPr>
          <p:spPr>
            <a:xfrm>
              <a:off x="1882800" y="444492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71b6"/>
                  </a:solidFill>
                  <a:latin typeface="Gill Sans MT"/>
                </a:rPr>
                <a:t>MÁS DE </a:t>
              </a:r>
              <a:r>
                <a:rPr b="0" lang="es-ES" sz="3200" spc="-1" strike="noStrike">
                  <a:solidFill>
                    <a:srgbClr val="0071b6"/>
                  </a:solidFill>
                  <a:latin typeface="Gill Sans MT"/>
                </a:rPr>
                <a:t>200</a:t>
              </a:r>
              <a:r>
                <a:rPr b="0" lang="es-ES" sz="1400" spc="-1" strike="noStrike">
                  <a:solidFill>
                    <a:srgbClr val="0071b6"/>
                  </a:solidFill>
                  <a:latin typeface="Gill Sans MT"/>
                </a:rPr>
                <a:t> MILLONES DE EUROS GESTIONADOS</a:t>
              </a:r>
              <a:endParaRPr b="0" lang="en-US" sz="1400" spc="-1" strike="noStrike">
                <a:solidFill>
                  <a:srgbClr val="000000"/>
                </a:solidFill>
                <a:latin typeface="Gill Sans"/>
              </a:endParaRPr>
            </a:p>
          </p:txBody>
        </p:sp>
        <p:sp>
          <p:nvSpPr>
            <p:cNvPr id="180" name="6 Rectángulo"/>
            <p:cNvSpPr/>
            <p:nvPr/>
          </p:nvSpPr>
          <p:spPr>
            <a:xfrm>
              <a:off x="1882800" y="687276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71b6"/>
                  </a:solidFill>
                  <a:latin typeface="Gill Sans MT"/>
                </a:rPr>
                <a:t>10.000</a:t>
              </a:r>
              <a:r>
                <a:rPr b="0" lang="es-ES" sz="1400" spc="-1" strike="noStrike">
                  <a:solidFill>
                    <a:srgbClr val="0071b6"/>
                  </a:solidFill>
                  <a:latin typeface="Gill Sans MT"/>
                </a:rPr>
                <a:t>  FUNCIONARIOS Y FUNCIONARIAS MOVILIZADOS</a:t>
              </a:r>
              <a:endParaRPr b="0" lang="en-US" sz="1400" spc="-1" strike="noStrike">
                <a:solidFill>
                  <a:srgbClr val="000000"/>
                </a:solidFill>
                <a:latin typeface="Gill Sans"/>
              </a:endParaRPr>
            </a:p>
          </p:txBody>
        </p:sp>
        <p:sp>
          <p:nvSpPr>
            <p:cNvPr id="181" name="7 Rectángulo"/>
            <p:cNvSpPr/>
            <p:nvPr/>
          </p:nvSpPr>
          <p:spPr>
            <a:xfrm>
              <a:off x="1882800" y="5658840"/>
              <a:ext cx="3184920" cy="103464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150 </a:t>
              </a:r>
              <a:r>
                <a:rPr b="0" lang="es-ES" sz="1400" spc="-1" strike="noStrike">
                  <a:solidFill>
                    <a:srgbClr val="ffffff"/>
                  </a:solidFill>
                  <a:latin typeface="Gill Sans MT"/>
                </a:rPr>
                <a:t> EMPLEADOS</a:t>
              </a:r>
              <a:endParaRPr b="0" lang="en-US" sz="1400" spc="-1" strike="noStrike">
                <a:solidFill>
                  <a:srgbClr val="000000"/>
                </a:solidFill>
                <a:latin typeface="Gill Sans"/>
              </a:endParaRPr>
            </a:p>
          </p:txBody>
        </p:sp>
        <p:sp>
          <p:nvSpPr>
            <p:cNvPr id="182" name="8 Rectángulo"/>
            <p:cNvSpPr/>
            <p:nvPr/>
          </p:nvSpPr>
          <p:spPr>
            <a:xfrm>
              <a:off x="5163120" y="5658840"/>
              <a:ext cx="5535000" cy="1034640"/>
            </a:xfrm>
            <a:prstGeom prst="rect">
              <a:avLst/>
            </a:prstGeom>
            <a:solidFill>
              <a:srgbClr val="0071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300</a:t>
              </a:r>
              <a:r>
                <a:rPr b="0" lang="es-ES" sz="1400" spc="-1" strike="noStrike">
                  <a:solidFill>
                    <a:srgbClr val="ffffff"/>
                  </a:solidFill>
                  <a:latin typeface="Gill Sans MT"/>
                </a:rPr>
                <a:t>  PROGRAMAS DE COOPERACIÓN</a:t>
              </a:r>
              <a:endParaRPr b="0" lang="en-US" sz="1400" spc="-1" strike="noStrike">
                <a:solidFill>
                  <a:srgbClr val="000000"/>
                </a:solidFill>
                <a:latin typeface="Gill Sans"/>
              </a:endParaRPr>
            </a:p>
          </p:txBody>
        </p:sp>
        <p:pic>
          <p:nvPicPr>
            <p:cNvPr id="183" name="9 Grupo" descr=""/>
            <p:cNvPicPr/>
            <p:nvPr/>
          </p:nvPicPr>
          <p:blipFill>
            <a:blip r:embed="rId1"/>
            <a:stretch/>
          </p:blipFill>
          <p:spPr>
            <a:xfrm>
              <a:off x="1883520" y="8087760"/>
              <a:ext cx="8822520" cy="1035720"/>
            </a:xfrm>
            <a:prstGeom prst="rect">
              <a:avLst/>
            </a:prstGeom>
            <a:ln w="0">
              <a:noFill/>
            </a:ln>
          </p:spPr>
        </p:pic>
      </p:grpSp>
      <p:sp>
        <p:nvSpPr>
          <p:cNvPr id="184" name="13 Rectángulo"/>
          <p:cNvSpPr/>
          <p:nvPr/>
        </p:nvSpPr>
        <p:spPr>
          <a:xfrm>
            <a:off x="525600" y="2212920"/>
            <a:ext cx="1180944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776"/>
                </a:solidFill>
                <a:latin typeface="Gill Sans MT"/>
              </a:rPr>
              <a:t>El Patronato: La presidenta es la Vicepresidenta del Gobierno de España, y entre sus vocales figuran el Ministro de Asuntos Exteriores y de Cooperación, el Ministro de Justicia, la Ministra de Sanidad, Servicios Sociales e Igualdad, varios Subsecretarios, y el Director de la Agencia Española de Cooperación Internacional para el Desarrollo (AECID) entre otros. </a:t>
            </a: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Gill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260D-49A7-44A5-9FED-CC3F8C2E8CA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6"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87" name="Rectangle 6"/>
          <p:cNvSpPr/>
          <p:nvPr/>
        </p:nvSpPr>
        <p:spPr>
          <a:xfrm>
            <a:off x="784080" y="2160720"/>
            <a:ext cx="11277720" cy="649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IÁLOGO EURO-LATINOAMERICANO DE POLÍTICAS PÚBLICAS EN TORNO A LA COHESIÓN SOCIAL</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Objetivo: apoyar políticas públicas nacionales dirigidas a mejorar los niveles de cohesión social, fortaleciendo también las instituciones que las llevan a cabo</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ograma regional de la Comisión Europea.  Acordado en las Cumbre Jefes de Estado y de Gobierno UE –AL: </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uración: 4 años (2011-2014), tras una primera fase (2004- 2009)</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esupuesto: 40 M€. Destinatarios: 18 países de América Latina</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Ejecución: consorcio conformado por instituciones públicas UE y AL liderado por la FIIAPP</a:t>
            </a:r>
            <a:br>
              <a:rPr sz="2800"/>
            </a:br>
            <a:r>
              <a:rPr b="0" lang="es-ES" sz="2800" spc="-1" strike="noStrike">
                <a:solidFill>
                  <a:srgbClr val="0d4c92"/>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7C04-A3B7-4921-A1BE-A3703DC0198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9"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UROsociAL-II pretende consolidar un espacio de diálogo euro-latinoamericano de políticas públicas en torno a la cohesión social. </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s un programa de cooperación horizontal, institucional y de carácter regional: moviliza el </a:t>
            </a:r>
            <a:r>
              <a:rPr b="0" i="1" lang="es-ES" sz="2800" spc="-1" strike="noStrike">
                <a:solidFill>
                  <a:srgbClr val="0d4c92"/>
                </a:solidFill>
                <a:latin typeface="Gill Sans MT"/>
                <a:ea typeface="小塚ゴシック Pr6N EL"/>
              </a:rPr>
              <a:t>expertise</a:t>
            </a:r>
            <a:r>
              <a:rPr b="0" lang="es-ES" sz="2800" spc="-1" strike="noStrike">
                <a:solidFill>
                  <a:srgbClr val="0d4c92"/>
                </a:solidFill>
                <a:latin typeface="Gill Sans MT"/>
                <a:ea typeface="小塚ゴシック Pr6N EL"/>
              </a:rPr>
              <a:t> público europeo y latinoamericano en un ejercicio de aprendizaje entre pares (a través de AT, Pasantías, Visitas de Estudios, Seminarios..), con enfoque regional de trabajo colaborativo, para afrontar retos comunes en el diseño, formulación, implementación, gestión y evaluación de políticas públicas que tengan impacto sobre mejoras en la cohesión social.</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91" name="0 Imagen" descr="logo_eurosocial_rgb.jpg"/>
          <p:cNvPicPr/>
          <p:nvPr/>
        </p:nvPicPr>
        <p:blipFill>
          <a:blip r:embed="rId1"/>
          <a:stretch/>
        </p:blipFill>
        <p:spPr>
          <a:xfrm>
            <a:off x="4846680" y="6431040"/>
            <a:ext cx="3441600" cy="14461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D2B7-70ED-47BF-ACF9-E57E41D16DC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3"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4" name=""/>
          <p:cNvSpPr txBox="1"/>
          <p:nvPr/>
        </p:nvSpPr>
        <p:spPr>
          <a:xfrm>
            <a:off x="1333080" y="1479600"/>
            <a:ext cx="5559480" cy="371520"/>
          </a:xfrm>
          <a:prstGeom prst="rect">
            <a:avLst/>
          </a:prstGeom>
          <a:noFill/>
          <a:ln w="0">
            <a:noFill/>
          </a:ln>
        </p:spPr>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Orientaciones estratégicas</a:t>
            </a:r>
            <a:endParaRPr b="0" lang="en-US" sz="3200" spc="-1" strike="noStrike">
              <a:solidFill>
                <a:srgbClr val="333333"/>
              </a:solidFill>
              <a:latin typeface="Gill Sans MT"/>
            </a:endParaRPr>
          </a:p>
        </p:txBody>
      </p:sp>
      <p:pic>
        <p:nvPicPr>
          <p:cNvPr id="195" name="5 Diagrama" descr=""/>
          <p:cNvPicPr/>
          <p:nvPr/>
        </p:nvPicPr>
        <p:blipFill>
          <a:blip r:embed="rId1"/>
          <a:stretch/>
        </p:blipFill>
        <p:spPr>
          <a:xfrm>
            <a:off x="1463760" y="2651040"/>
            <a:ext cx="10337760" cy="6419880"/>
          </a:xfrm>
          <a:prstGeom prst="rect">
            <a:avLst/>
          </a:prstGeom>
          <a:ln w="0">
            <a:noFill/>
          </a:ln>
        </p:spPr>
      </p:pic>
    </p:spTree>
  </p:cSld>
  <p:transition spd="med">
    <p:fade thruBlk="tru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95"/>
                                        </p:tgtEl>
                                        <p:attrNameLst>
                                          <p:attrName>style.visibility</p:attrName>
                                        </p:attrNameLst>
                                      </p:cBhvr>
                                      <p:to>
                                        <p:strVal val="visible"/>
                                      </p:to>
                                    </p:set>
                                    <p:animEffect filter="randombar(horizontal)" transition="in">
                                      <p:cBhvr additive="repl">
                                        <p:cTn id="1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6553-EC18-4300-8B9C-CF9D1F222AC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7"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8" name="5 Rectángulo"/>
          <p:cNvSpPr/>
          <p:nvPr/>
        </p:nvSpPr>
        <p:spPr>
          <a:xfrm>
            <a:off x="1749600" y="1852560"/>
            <a:ext cx="9216720" cy="459720"/>
          </a:xfrm>
          <a:prstGeom prst="rect">
            <a:avLst/>
          </a:prstGeom>
          <a:noFill/>
          <a:ln w="0">
            <a:noFill/>
          </a:ln>
        </p:spPr>
        <p:style>
          <a:lnRef idx="0"/>
          <a:fillRef idx="0"/>
          <a:effectRef idx="0"/>
          <a:fontRef idx="minor"/>
        </p:style>
        <p:txBody>
          <a:bodyPr lIns="90000" rIns="90000" tIns="46800" bIns="46800" anchor="t">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647"/>
                </a:solidFill>
                <a:latin typeface="Gill Sans MT"/>
              </a:rPr>
              <a:t>Estructura institucional</a:t>
            </a:r>
            <a:endParaRPr b="0" lang="en-US" sz="2400" spc="-1" strike="noStrike">
              <a:solidFill>
                <a:srgbClr val="000000"/>
              </a:solidFill>
              <a:latin typeface="Gill Sans"/>
            </a:endParaRPr>
          </a:p>
        </p:txBody>
      </p:sp>
      <p:pic>
        <p:nvPicPr>
          <p:cNvPr id="199" name="Picture 2" descr=""/>
          <p:cNvPicPr/>
          <p:nvPr/>
        </p:nvPicPr>
        <p:blipFill>
          <a:blip r:embed="rId1"/>
          <a:stretch/>
        </p:blipFill>
        <p:spPr>
          <a:xfrm>
            <a:off x="2038320" y="2530440"/>
            <a:ext cx="10296720" cy="62341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E03F-2DB8-4EC0-9223-B6CCF1DC728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1"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2"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La política fiscal puede fortalecer procesos de crecimiento económico con equidad, por lo que las finanzas públicas son un elemento relevante para la mejora de la cohesión social. En este marco, conviene analizar la progresividad o regresividad de los ingresos y del gasto, así como tener en cuenta los temas de la calidad y eficacia del gasto.</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n este contexto las acciones incluidas dentro del temática de finanzas públicas son:</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Vinculación Plan-Presupuesto</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Apoyo a las reforma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Cumplimiento voluntario de las obligacione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ducación fiscal</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gn="ctr">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Eugenia Cebrian</dc:creator>
  <dc:description/>
  <dc:language>en-US</dc:language>
  <cp:lastModifiedBy>Monica Alonso</cp:lastModifiedBy>
  <cp:lastPrinted>2013-01-11T11:05:33Z</cp:lastPrinted>
  <dcterms:modified xsi:type="dcterms:W3CDTF">2013-09-19T17:06:11Z</dcterms:modified>
  <cp:revision>94</cp:revision>
  <dc:subject/>
  <dc:title>Titulo de la presentación -Subtítulo de la presentación-</dc:title>
</cp:coreProperties>
</file>