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4C30-63A0-4C1C-82F0-769C63715CF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867-2F3B-4C6F-9AF5-0AD89D3FE214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609-13F1-4FE8-AF0A-94325A4F2845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2D2-2A46-46F9-84AA-974FFFA514CA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66B-C3BD-4E7F-9ACB-F41E45E9021C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A37-E588-4AEE-8F0C-0F86E28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3F0-1804-447B-AACB-5EB68A69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2DA-F373-4574-85F5-940DCBBB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9E4-E9F6-48AC-ABF3-AFC32DD7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0FD-CF06-4D9B-AA2C-4700F3A8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3F90-CA68-424F-924E-4AEBCC2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858E-5CE3-412F-8F37-09FB7DB7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87B4-6CB8-40AE-9159-27F4DAA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1EE-E0CF-46C0-B031-25D74290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520C-3BDE-49D9-9783-39712FDC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C10-BB19-47F1-AF43-50B9F1F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456-DE59-4B75-A7C4-71C87C9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AEC-72F5-48CD-B388-2F39E24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E50-C692-498D-9586-78CF605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3FC1-1E19-497A-8F03-A828BC6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7A8-7C7C-40C7-A997-1056E0E8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615-00B9-4635-BB7C-046510D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3613-8211-49D6-A28D-B708FD32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6F83-43E7-41C7-ABF4-C6A2B8B6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8CFB-5D42-4802-8F09-B3F91B21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ECE0-2426-430A-8C9D-E6D5D77C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9AA4-F473-4EB8-86EC-6EC91590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1CD-C1A8-40C3-9B0C-6CE78DE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D66C-D649-4002-A6B4-42D1F69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A00E-2C95-42E0-B39A-D51981C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F415-88DD-4DD7-8D89-AD61713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ECF1-6D44-488B-9DE4-B2561D7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A747-D970-4943-87FB-0BA5B27D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0E34-7FE5-46FA-B10D-86603EBA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EF1C-F8EA-4CA6-B8B7-4AB452FA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BC0-D240-456D-95E5-8DC7A56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14F-D77B-4DFF-ABBA-7AB19EF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7E0-449A-48AD-8A3F-0D93B97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696-CAC7-4B3A-BFAF-7000576B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AD3-DC66-4E62-A106-B94E762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690-38B2-4D43-A4D6-2B7A6B8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BC3F-99A3-4C1D-B428-BCEEA7D04A3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3F4-B76D-4E20-ADD1-D75B6531369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096-EA21-4D1E-9FA8-D88D3D0699E5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1AA-350B-441B-A395-2F7FED8F956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89F-8DF3-427F-A1E5-B9A7931FB69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C152-AEB0-4420-A77A-857C938932D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SISTENCIA EN EL SITIO WEB DEL SERVICIO DE IMPUESTOS INT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Otras Aplicaciones de Asistenci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martphone, que permiten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ámites en Línea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Declaraciones de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Emitir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ón de IVA sin movimient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Situación Tributaria de tercero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sistencia y Ayudas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Calendario Tributari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Circulares y Resolucion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Oficinas y H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Preguntas Frecuente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ara lo cual, deben digitar: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.sii.cl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A5B-CE68-471B-B66B-8CA83FF97AE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71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71B4-4D57-47C9-B296-735CC98B09D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787320"/>
            <a:ext cx="810432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CONO AYU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nde encuentra los siguientes contenidos de asistencia, para que el ciudadano se autoas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- Preguntas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- ¿Cómo se Hace Pa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- Demo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- Calendario Tribu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.- Material In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- Aprenda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71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eguntas Frecuentes (PF)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preparan en un lenguaje fácil, para los diferentes conceptos tributarios, en base a la Ley e instrucciones tributarias.  Adicionalmente, en base a las aplicaciones de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 se pueden ubicar en base al recorrido del árbol y ramas, esto es:</a:t>
            </a:r>
            <a:br>
              <a:rPr sz="1800"/>
            </a:br>
            <a:br>
              <a:rPr sz="18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.- Inicio de actividades, clave secreta y timbraje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2.- Rent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3.- Impuestos mensuales (IVA)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4.- Declaraciones jurada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5.- Boleta de honor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6.- Bienes raíce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7.- Factura electrónic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8.- Situación tributari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9.- Beneficios tribut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0.- Otros impuest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1.- Preguntas general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, también se encuentran desde el buscador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67E-4135-42AE-8C94-38EC49AF238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n estas guías, paso a paso, para los trámites tributarios, se contestan las siguientes pregunta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. Descripción del trámite paso a pa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 ¿A qué se refier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 ¿Quiénes deben realizar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 ¿Cuándo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5. ¿Dónde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6. Requisitos para efectuar 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7. Observacion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8. Normativa relacionada a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9. Preguntas frecuentes d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0. Formularios relacionados al trámite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os trámites descritos comprenden todo el ciclo de vida tributario, desde el inicio al Término de Gi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97D7-B13E-4850-89A7-98AEE196C8F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mos Educativ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ara trámites, se muestran las pantallas del sitio web, paso a paso, esto e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btención de Clave Secret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nicio de Actividades y Término de Gir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de impuestos mensual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oleta de Honorarios Electrónic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Factura Electrónica Mipyme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lendario Tributari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diante esta aplicación, se muestra mensualmente, los diferentes vencimientos de pagos de impuestos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29 (IVA)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50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Juradas de Operación Rent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52D-8EAE-4332-BD43-1852B8C7786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aterial Informativ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mprende la folletería en papel que se entrega a los ciudadanos en las unidades del país, ante requerimientos de información tributaria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Vida del Contribuyent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ortal Tributario Mipym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de Impuestos, Renta e IV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ienes Raíces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enidos descriptivos de contribuyentes, impuestos, fiscalización, entre otros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yente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 los Impuest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es procesos Tributari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iccionario tributario contable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387-7FCD-4A21-9B13-D73679C1DE9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o que no se puede responder en línea, se deriva a un área de negocio, quienes deben preparar una respuesta en un plazo de 3 día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24E1-237D-455B-BBD5-E73244EA484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sistencia en línea desde el web del S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047-3439-4735-9E5A-D2817C94DF7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6 Imagen" descr=""/>
          <p:cNvPicPr/>
          <p:nvPr/>
        </p:nvPicPr>
        <p:blipFill>
          <a:blip r:embed="rId1"/>
          <a:stretch/>
        </p:blipFill>
        <p:spPr>
          <a:xfrm>
            <a:off x="1249200" y="2205000"/>
            <a:ext cx="56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sde los siguientes Menú del sitio web se realizan trámites en línea, para lo cual, se entrega asistencia, en cada menú de trámites, esto es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Registro de Contribuy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Portal Mipym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ones de Impuest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Factura Electrónic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5.-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6.-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7.- Declaraciones Jurad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8.- Bienes Raíc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9.- Situación Tributari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0.- Tasación de Vehícul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1.- Libros Contabl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2.- Infracciones y Condonacione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07C-B5A8-4963-8B88-C094C25D102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5:56:15Z</dcterms:modified>
  <cp:revision>331</cp:revision>
  <dc:subject/>
  <dc:title>Cuenta Pública 2010 SII</dc:title>
</cp:coreProperties>
</file>