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008813" cy="1112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111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1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347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293480" y="490680"/>
            <a:ext cx="4422600" cy="331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77A8-26A5-4057-8640-9AE7B1EA6C85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20AB-F0A5-472F-94B7-DCE23509AED8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7124-5A3E-487E-8E65-EE119E738245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7DA2-5FE1-45B8-AA5C-802807CF4D3D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1DB8-509D-4D7D-954C-FB05DC5582A1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812-A4C1-43A2-866B-5F8E43C0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B1C-7AE3-4633-A6EB-3B04DB01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507-EE2D-4FB2-A891-DEC3A622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B26-F218-45E7-8C6C-CB916F46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F5EB-541C-41F3-BCDB-334D7D6D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F859-DC73-4C26-8CB1-96A38D24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C113-4772-4C2D-9A83-E2A6EB0A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89E3-14BA-4341-8D17-C35753C9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4CAB-01E9-4296-AA19-FC7A9FA9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E350-7FC7-4E77-9760-39A3BF17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A43B-72D6-4C68-BCD1-F55F1CFC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C6D-BB81-4AEC-AB85-142C0816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C665-D6DD-4C2D-B378-6F6C427A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6C0B-33A4-40B5-B196-A5D86DF6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0963-3132-4F57-8119-5C73AC12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4E1C-A62E-41CA-9492-25C560DC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015D-271C-40F3-9DF8-373D7E24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9E5D-E1AF-428F-9A71-F3D4735D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0CBBA-0D9D-4299-BC70-D791FE43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1256B-C82C-4725-BD51-5720621A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CBB5-E57F-45B4-889D-042E151B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2E95A-F0A8-44F6-98BD-115713BC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E60-D12A-4CC5-87D4-B81155CA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EBA93-BB28-47D5-AEFE-F280F064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E40AE-A729-4F34-BE69-C4CC6284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D29C-87CD-4193-9D8C-515812A9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67562-12E8-477C-A098-E34EF1B1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29E52-A5E4-4BE6-A634-139F2A1B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64888-E265-4BE0-936B-3048DE29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D568E-BBBE-44B1-9B61-EEFA7ACF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CD8-5023-4982-A49E-44CFD343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8C6-EE8D-4F37-926F-EEBA0F79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4C9-A882-4641-BDAB-73463719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156-CE95-49FB-BCB5-FB6AA18D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023-B06C-4616-B033-7BCC6E8F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EB1-669F-4DE0-A199-9C6F9F8F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248F-51B6-4972-8C59-DBFB1A2E9529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433E-16A5-4206-B7AF-5CB60C47DA22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C2E5-3047-4502-A5F6-4CC0DA45C9F2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5BF5-C780-46F5-999D-7CB7DFBE6F28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9EBA-A377-498C-A2DA-5C3D9262E68C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4351-72D9-4143-94DB-5545A96718D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logo_sii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6643800" y="5500800"/>
            <a:ext cx="2119320" cy="1073160"/>
          </a:xfrm>
          <a:prstGeom prst="rect">
            <a:avLst/>
          </a:prstGeom>
          <a:ln w="0">
            <a:noFill/>
          </a:ln>
        </p:spPr>
      </p:pic>
      <p:sp>
        <p:nvSpPr>
          <p:cNvPr id="131" name="1 Título"/>
          <p:cNvSpPr/>
          <p:nvPr/>
        </p:nvSpPr>
        <p:spPr>
          <a:xfrm>
            <a:off x="611280" y="2205000"/>
            <a:ext cx="81039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ASISTENCIA EN EL SITIO WEB DEL SERVICIO DE IMPUESTOS INTER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Otras Aplicaciones de Asistencia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Smartphone, que permiten: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Trámites en Línea: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.- Declaraciones de Rent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2.- Emitir Boletas de Honorario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3.- Declaración de IVA sin movimient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4.- Situación Tributaria de terceros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Asistencia y Ayudas: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.- Calendario Tributari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2.- Circulares y Resolucion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3.- Oficinas y Horario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4.- Preguntas Frecuentes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Para lo cual, deben digitar: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m.sii.cl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87E1-8BD5-4DF3-8B41-4AA90AC7C62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logo_sii"/>
          <p:cNvPicPr/>
          <p:nvPr/>
        </p:nvPicPr>
        <p:blipFill>
          <a:blip r:embed="rId2"/>
          <a:stretch/>
        </p:blipFill>
        <p:spPr>
          <a:xfrm>
            <a:off x="6929280" y="5500800"/>
            <a:ext cx="1552680" cy="785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71" name="1 Título"/>
          <p:cNvSpPr/>
          <p:nvPr/>
        </p:nvSpPr>
        <p:spPr>
          <a:xfrm>
            <a:off x="611280" y="2637000"/>
            <a:ext cx="8103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1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ED61-976C-4AFB-BFFD-9AE9E5507324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7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 Título"/>
          <p:cNvSpPr/>
          <p:nvPr/>
        </p:nvSpPr>
        <p:spPr>
          <a:xfrm>
            <a:off x="500040" y="3000240"/>
            <a:ext cx="7772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 Título"/>
          <p:cNvSpPr/>
          <p:nvPr/>
        </p:nvSpPr>
        <p:spPr>
          <a:xfrm>
            <a:off x="395280" y="787320"/>
            <a:ext cx="810432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CONO AYU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nde encuentra los siguientes contenidos de asistencia, para que el ciudadano se autoasi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.- Preguntas Frec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.- ¿Cómo se Hace Pa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3.- Demos Edu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4.- Calendario Tribu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5.- Material Inf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6.- Aprenda S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2712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eguntas Frecuentes (PF)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e preparan en un lenguaje fácil, para los diferentes conceptos tributarios, en base a la Ley e instrucciones tributarias.  Adicionalmente, en base a las aplicaciones de trámites en línea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s PF se pueden ubicar en base al recorrido del árbol y ramas, esto es:</a:t>
            </a:r>
            <a:br>
              <a:rPr sz="1800"/>
            </a:br>
            <a:br>
              <a:rPr sz="18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1.- Inicio de actividades, clave secreta y timbraje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2.- Renta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3.- Impuestos mensuales (IVA)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4.- Declaraciones jurada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5.- Boleta de honorari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6.- Bienes raíce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7.- Factura electrónica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8.- Situación tributaria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9.- Beneficios tributari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10.- Otros impuest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11.- Preguntas generales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s PF, también se encuentran desde el buscador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0A9D-410B-4404-9CF5-0B6E6205988C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¿Cómo se Hace Para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n estas guías, paso a paso, para los trámites tributarios, se contestan las siguientes preguntas: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1. Descripción del trámite paso a pas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2. ¿A qué se refiere este trámite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3. ¿Quiénes deben realizar este trámite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4. ¿Cuándo se hace este trámite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5. ¿Dónde se hace este trámite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6. Requisitos para efectuar el trámit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7. Observacion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8. Normativa relacionada al trámit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9. Preguntas frecuentes del trámit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10. Formularios relacionados al trámite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os trámites descritos comprenden todo el ciclo de vida tributario, desde el inicio al Término de Gir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7DC0-2A09-4AD4-AAB9-E901D8AEC22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62712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mos Educativos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ara trámites, se muestran las pantallas del sitio web, paso a paso, esto es: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Obtención de Clave Secreta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Inicio de Actividades y Término de Gir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claración de impuestos mensual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Boleta de Honorarios Electrónica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Factura Electrónica Mipyme </a:t>
            </a: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alendario Tributario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ediante esta aplicación, se muestra mensualmente, los diferentes vencimientos de pagos de impuestos, entre otros: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claración Mensual en Formulario 29 (IVA)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claración Mensual en Formulario 50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claraciones Juradas de Operación Renta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6727-AD47-4029-A0DC-EE1E4611D6F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aterial Informativo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mprende la folletería en papel que se entrega a los ciudadanos en las unidades del país, ante requerimientos de información tributaria, entre otros: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iclo de Vida del Contribuyente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ortal Tributario Mipyme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claraciones de Impuestos, Renta e IVA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Bienes Raíces </a:t>
            </a: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prenda Sobr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enidos descriptivos de contribuyentes, impuestos, fiscalización, entre otros: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ribuyentes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prenda sobre los Impuestos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incipales procesos Tributarios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iccionario tributario contable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E8D7-D426-43FC-97BF-C9A07850CDDF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Contáctenos del sitio web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Aplicación del sitio web que permite a los ciudadanos, ingresar consultas, reclamos, Audiencias con Directivos del SII, Denuncias de Evasión.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Se responde a los ciudadanos, en línea, al día siguiente del ingreso, en base a los contenidos publicados en el sitio web del SII, como: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a.- Preguntas Frecuent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b.- Guías, ¿Cómo se Hace Para?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c.- Aplicaciones web para trámites en línea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Lo que no se puede responder en línea, se deriva a un área de negocio, quienes deben preparar una respuesta en un plazo de 3 días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EFFA-E03F-4538-86A0-10D4A0F020C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sistencia en línea desde el web del SII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BC09-B73F-4424-95DA-E85E5221E5B2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6 Imagen" descr=""/>
          <p:cNvPicPr/>
          <p:nvPr/>
        </p:nvPicPr>
        <p:blipFill>
          <a:blip r:embed="rId1"/>
          <a:stretch/>
        </p:blipFill>
        <p:spPr>
          <a:xfrm>
            <a:off x="1249200" y="2205000"/>
            <a:ext cx="56102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787320"/>
            <a:ext cx="8229600" cy="53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esde los siguientes Menú del sitio web se realizan trámites en línea, para lo cual, se entrega asistencia, en cada menú de trámites, esto es: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.- Registro de Contribuyent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2.- Portal Mipym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3.- Declaraciones de Impuesto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4.- Factura Electrónic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5.- Boletas de Honorario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6.- Rent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7.- Declaraciones Jurad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8.- Bienes Raíc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9.- Situación Tributari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0.- Tasación de Vehículo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1.- Libros Contabl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12.- Infracciones y Condonacione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51D6-C822-4BD7-8737-7E5DD8C29C20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5:26:36Z</dcterms:created>
  <dc:creator>OPCGI-SDE</dc:creator>
  <dc:description/>
  <dc:language>en-US</dc:language>
  <cp:lastModifiedBy>Juan Arnoldo Montecinos Salvo</cp:lastModifiedBy>
  <cp:lastPrinted>2011-03-21T21:02:27Z</cp:lastPrinted>
  <dcterms:modified xsi:type="dcterms:W3CDTF">2013-08-26T15:56:15Z</dcterms:modified>
  <cp:revision>331</cp:revision>
  <dc:subject/>
  <dc:title>Cuenta Pública 2010 SII</dc:title>
</cp:coreProperties>
</file>