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1112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111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1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347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93480" y="490680"/>
            <a:ext cx="4422600" cy="331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B91-713B-45B2-8541-0E33326245E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E396-C94D-4C53-80AB-BE19FAA39D98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CE6-747D-437B-B238-D4EB016460D8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9946-497A-4275-ACEC-4CC732EF18F2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93840" y="490680"/>
            <a:ext cx="4422600" cy="3317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04360" y="3848040"/>
            <a:ext cx="6000840" cy="67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970440" y="10706040"/>
            <a:ext cx="3038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B3E-AA80-4E38-9955-DBF072F01CAA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3DD-56FF-4DCC-8D0C-ADBE8CE9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14F-61CD-4EFF-8CCD-95DE5874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E37-C31A-488F-93F7-F61C74C2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091-AD1C-4942-A9D5-82BB1719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BFB7-27A6-48CD-95D4-5B3DF85F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38AA-6CED-4E35-AB97-E1E8EAE0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1D87-A3E8-4CFA-9A05-91B55666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3428-7062-48FF-81AB-FD9BBFF6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BFD8-4DD1-4474-8621-A00CCE3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9469-DF85-43C7-BEBF-EFA29CCA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A4D9-A663-4BFC-A9E1-637DF305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43A-5589-43F4-BF87-73C0FF28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EEDC-C84F-46E0-8976-48AB62C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5D83-5714-4B4C-821E-AF582E4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E7E3-F738-4F04-808B-C805D4C3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D24A-7D14-4ADD-95CB-9EAA10FB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AB23-6A2F-4345-BA9F-3FF1B17E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FD6A-E8B8-4EF4-A335-A7262399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E15E-EAC3-48D2-B81D-C33447FE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ADC5-9BB3-4D7B-9740-30314C32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7ABF-131D-4AEA-9BCD-54279D33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3135-625F-4913-ADBD-E44E6F30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FC6-4EAD-4CE0-BE24-1090243C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5C5C-6076-4B1B-BBD6-D3AD74B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AC0B-0C60-444B-9D96-9799710F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44CA-6639-4EDC-B3A2-04C8FC6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3333-C40B-4132-89F9-C51DCC9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7BE4-5A24-4C78-80F9-4B01D95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9712-7A27-42D4-88ED-2F1CC112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588A-8235-478C-B174-07F37D45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D89-A8F3-465B-97CC-C19097DF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278-675E-4429-8CF0-803ABDD9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663-BB76-4D57-A6A7-CC61617B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EA9-1EAB-419A-8B74-7B9798F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8CD-5DDD-4514-AF9E-A02662B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D9E-204C-48E9-BAD4-B2AA3B4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4A47-895B-4340-8F82-82E6BB77134C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EECD-B955-4391-B1B7-C8055ABDDA4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92E9-D271-49CB-9A45-3A2000EFE956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6AF7-8093-4A5D-9EA2-68FD96B72FC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E7AA-4982-47C9-9281-4F8C88398D79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FB56-1C65-49F1-9613-D4B5F2A4988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3.sii.cl/inicioactividades/index.html#menuInicio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logo_sii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643800" y="5500800"/>
            <a:ext cx="2119320" cy="1073160"/>
          </a:xfrm>
          <a:prstGeom prst="rect">
            <a:avLst/>
          </a:prstGeom>
          <a:ln w="0">
            <a:noFill/>
          </a:ln>
        </p:spPr>
      </p:pic>
      <p:sp>
        <p:nvSpPr>
          <p:cNvPr id="131" name="1 Título"/>
          <p:cNvSpPr/>
          <p:nvPr/>
        </p:nvSpPr>
        <p:spPr>
          <a:xfrm>
            <a:off x="611280" y="2205000"/>
            <a:ext cx="8103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EPARTAMENTO DE ATENCION Y ASISTENCIA  DE CONTRIBUYENTES DEL S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1EE9-3D9E-4B67-BD11-E9120E4DA8C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7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50004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395280" y="627120"/>
            <a:ext cx="81043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ne a su cargo los canales de asistencia que se entregan a los ciudadanos, en forma presencial y en forma electr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Área de Plataform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Unidades del SII de atención de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instrucciones, verifica aplicaciones, que existen en las unidades del país, que atienden a contribuyentes en sus trámites tributarios en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 el sistema de gestión de Filas, TotalP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mente, esta a cargo de aplicaciones electrónicas, que permiten realizar trámites en línea desde el sitio web del SII, esto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Menú Registro de Contribuyentes: para , Aviso de Inicio d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Actividades, Modificaciones y Término de G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Menú Situación Tributaria: para, Solicitudes (documentos e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formatos especiales, certific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pecial mención al Aviso de Inicio de Actividades para empresas en 1 día: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Arial"/>
                <a:ea typeface="Lucida Sans Unicode"/>
                <a:hlinkClick r:id="rId1"/>
              </a:rPr>
              <a:t>Inicio de actividades y consultas de contribuyentes acogidos al registro de empresas y sociedades (RES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2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esa de Ayuda Telefónic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sponden en línea a las consultas tributarias y de aplicaciones electrónicas. Los contenidos de respuesta, los entrega el SII.</a:t>
            </a:r>
            <a:br>
              <a:rPr sz="1800"/>
            </a:br>
            <a:br>
              <a:rPr sz="20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empresa externa, por lo que el SII, la debe supervisar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capacita a los operari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monitorea las llamada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l SII, prepara informes de gest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AB1-CC50-4743-A033-BE5900AB466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3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áctenos del sitio web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plicación del sitio web que permite a los ciudadanos, ingresar consultas, reclamos, Audiencias con Directivos del SII, Denuncias de Evasión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 responde a los ciudadanos, en línea, al día siguiente del ingreso, en base a los contenidos publicados en el sitio web del SII, como: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.- Preguntas Frecuent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.- Guías, ¿Cómo se Hace Para?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.- Aplicaciones web para trámites en líne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que no se puede responder en línea, se deriva a un área de negocio, quienes deben preparar una respuesta en un plazo de 3 día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61B-A9A7-43C6-A49D-167178101AC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712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4.- Documentos Tributarios Electrónico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ta área esta a cargo de la gestión del Portal Mipyme, con: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a.- Sistema de emisión, gratuito de DT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b.- Sistema de Tributación Simplificad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.- Sistema de Contabilidad Completa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 el sistema de Factura Electrónica, con software comprados en el mercado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 el Registro de Cesión de DT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520E-9A33-41F3-A37E-8079D8FA6AA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Proceso"/>
          <p:cNvSpPr/>
          <p:nvPr/>
        </p:nvSpPr>
        <p:spPr>
          <a:xfrm>
            <a:off x="0" y="555480"/>
            <a:ext cx="8109000" cy="71640"/>
          </a:xfrm>
          <a:prstGeom prst="flowChartProcess">
            <a:avLst/>
          </a:prstGeom>
          <a:gradFill rotWithShape="0">
            <a:gsLst>
              <a:gs pos="0">
                <a:srgbClr val="c6d9f1"/>
              </a:gs>
              <a:gs pos="100000">
                <a:srgbClr val="c6d9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92600" y="115920"/>
            <a:ext cx="4451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partamento de Atención y Asistencia de Contribuy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bdirección de Fisc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15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Juan Arnoldo Montecinos Salvo</cp:lastModifiedBy>
  <cp:lastPrinted>2011-03-21T21:02:27Z</cp:lastPrinted>
  <dcterms:modified xsi:type="dcterms:W3CDTF">2013-08-26T13:19:25Z</dcterms:modified>
  <cp:revision>298</cp:revision>
  <dc:subject/>
  <dc:title>Cuenta Pública 2010 SII</dc:title>
</cp:coreProperties>
</file>