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008813" cy="11123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111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1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347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293480" y="490680"/>
            <a:ext cx="4422600" cy="331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4734-6EF8-4736-BF4B-13E7FAB8BD0F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6386-0FD2-422D-9CE1-02BEBAC24984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A865-3406-42E6-A660-F5BFAC083540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5ECA-2388-427D-8F01-D4B2491A2536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C959-AF4B-492E-9F61-981FAC37CE82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237-A3DA-40DF-81AD-03C96BE2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86E-79B1-44CD-A293-EC6AC610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A7C6-4258-41EE-BA4A-87A1FD6C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C55-7075-4E07-B988-FA816A1B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B927-76C9-41B3-8DE8-0A9D7F66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1BF9-7299-4558-97BA-E1A19175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1F08-E19A-4C4F-B58B-678DF959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7B99-88F4-4D57-B9BD-B63F0A4C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077C-F992-4A73-8C46-09532799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1B47-9C6A-4839-BC17-1328120F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D5F7-CF1F-45A8-A42A-8A40B46E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54C-B5A4-4C19-8A61-D3D409B9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AB40-A4B2-4488-B5D3-711BE327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CA16-A11C-47D2-9A48-DCBBB8B2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0591-6327-4B6B-9441-4C07E3F1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848C-6AF5-4998-97DC-000ECE98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35A9-805E-4A84-AE0B-610D81F3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8037A-919A-41CB-8DD9-58614880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F7022-87F7-4620-9FD7-FF0B09F4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CC1E3-F56F-452D-9F10-3D1C87FC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05B45-D098-41D9-B8A7-EC0A1038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5FA41-9549-4595-B650-E93B4F0F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BBD9-D710-4CBB-AE04-46D76658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1E663-19AA-430E-87FB-7E2AFF0A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2BBD5-DB76-43D9-8766-9042E25B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2C394-2EEB-4FAE-AB13-8ABA63E5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AAE53-9692-4091-BFA6-E31AFA82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4B99E-71D9-48ED-A635-F8F2A156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B348C-5D18-449A-B7BB-E4A82984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C1B46-B930-46F6-859F-2BCD07CF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3E39-A314-4EAF-B9F8-5D522980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99FD-BB3B-4744-BD8D-0159C8FD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B86-1AEA-4E4B-ABB3-A4172CF5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DF9-8566-4EF3-BC4D-BCA868D6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7E99-0B18-4394-B621-83299449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768-22F2-460F-AB53-3DFE365C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2552-5733-469E-BF43-6FFBB4AEDDA0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DFBF-C0DB-447B-B341-06BBD6A0C44A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7464-5DD3-49EC-9BF8-AA4AECBE6214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B2BF-6ED3-42F3-8CCA-1F768785EC5D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F8B1-3560-4D6D-88ED-688B5452171E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64E7-ABB3-483D-9E6F-1DEDFF55448B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3.sii.cl/inicioactividades/index.html#menuInicio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logo_sii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6643800" y="5500800"/>
            <a:ext cx="2119320" cy="1073160"/>
          </a:xfrm>
          <a:prstGeom prst="rect">
            <a:avLst/>
          </a:prstGeom>
          <a:ln w="0">
            <a:noFill/>
          </a:ln>
        </p:spPr>
      </p:pic>
      <p:sp>
        <p:nvSpPr>
          <p:cNvPr id="131" name="1 Título"/>
          <p:cNvSpPr/>
          <p:nvPr/>
        </p:nvSpPr>
        <p:spPr>
          <a:xfrm>
            <a:off x="611280" y="2205000"/>
            <a:ext cx="81039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DEPARTAMENTO DE ATENCION Y ASISTENCIA  DE CONTRIBUYENTES DEL S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1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2C28-C8D8-423F-A9B0-A5C309780EEB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7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 Título"/>
          <p:cNvSpPr/>
          <p:nvPr/>
        </p:nvSpPr>
        <p:spPr>
          <a:xfrm>
            <a:off x="500040" y="3000240"/>
            <a:ext cx="7772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 Título"/>
          <p:cNvSpPr/>
          <p:nvPr/>
        </p:nvSpPr>
        <p:spPr>
          <a:xfrm>
            <a:off x="395280" y="627120"/>
            <a:ext cx="810432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ne a su cargo los canales de asistencia que se entregan a los ciudadanos, en forma presencial y en forma electr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Área de Plataform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Unidades del SII de atención de públ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ga instrucciones, verifica aplicaciones, que existen en las unidades del país, que atienden a contribuyentes en sus trámites tributarios en pap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ministra el sistema de gestión de Filas, TotalP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icionalmente, esta a cargo de aplicaciones electrónicas, que permiten realizar trámites en línea desde el sitio web del SII, esto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Menú Registro de Contribuyentes: para , Aviso de Inicio de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Actividades, Modificaciones y Término de Gi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Menú Situación Tributaria: para, Solicitudes (documentos e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formatos especiales, certific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pecial mención al Aviso de Inicio de Actividades para empresas en 1 día: </a:t>
            </a:r>
            <a:r>
              <a:rPr b="0" lang="es-CL" sz="1800" spc="-1" strike="noStrike" u="sng">
                <a:solidFill>
                  <a:srgbClr val="0000ff"/>
                </a:solidFill>
                <a:uFillTx/>
                <a:latin typeface="Arial"/>
                <a:ea typeface="Lucida Sans Unicode"/>
                <a:hlinkClick r:id="rId1"/>
              </a:rPr>
              <a:t>Inicio de actividades y consultas de contribuyentes acogidos al registro de empresas y sociedades (RES)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2.-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esa de Ayuda Telefónica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esponden en línea a las consultas tributarias y de aplicaciones electrónicas. Los contenidos de respuesta, los entrega el SII.</a:t>
            </a:r>
            <a:br>
              <a:rPr sz="1800"/>
            </a:br>
            <a:br>
              <a:rPr sz="20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s una empresa externa, por lo que el SII, la debe supervisar.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l SII, capacita a los operari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l SII, monitorea las llamada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l SII, prepara informes de gest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E240-676C-4213-BCB6-C393BB12A529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3.-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áctenos del sitio web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Aplicación del sitio web que permite a los ciudadanos, ingresar consultas, reclamos, Audiencias con Directivos del SII, Denuncias de Evasión.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e responde a los ciudadanos, en línea, al día siguiente del ingreso, en base a los contenidos publicados en el sitio web del SII, como: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a.- Preguntas Frecuente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b.- Guías, ¿Cómo se Hace Para?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.- Aplicaciones web para trámites en línea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que no se puede responder en línea, se deriva a un área de negocio, quienes deben preparar una respuesta en un plazo de 3 días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3A38-60DD-4C33-AB54-0B4D6C530CFE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627120"/>
            <a:ext cx="8229600" cy="53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4.- Documentos Tributarios Electrónicos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sta área esta a cargo de la gestión del Portal Mipyme, con: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a.- Sistema de emisión, gratuito de DT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b.- Sistema de Tributación Simplificad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.- Sistema de Contabilidad Completa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rola el sistema de Factura Electrónica, con software comprados en el mercado.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rola el Registro de Cesión de DT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FA48-AA26-4A40-8DC6-19A53CE69F2F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logo_sii"/>
          <p:cNvPicPr/>
          <p:nvPr/>
        </p:nvPicPr>
        <p:blipFill>
          <a:blip r:embed="rId2"/>
          <a:stretch/>
        </p:blipFill>
        <p:spPr>
          <a:xfrm>
            <a:off x="6929280" y="5500800"/>
            <a:ext cx="1552680" cy="785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150" name="1 Título"/>
          <p:cNvSpPr/>
          <p:nvPr/>
        </p:nvSpPr>
        <p:spPr>
          <a:xfrm>
            <a:off x="611280" y="2637000"/>
            <a:ext cx="8103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5:26:36Z</dcterms:created>
  <dc:creator>OPCGI-SDE</dc:creator>
  <dc:description/>
  <dc:language>en-US</dc:language>
  <cp:lastModifiedBy>Juan Arnoldo Montecinos Salvo</cp:lastModifiedBy>
  <cp:lastPrinted>2011-03-21T21:02:27Z</cp:lastPrinted>
  <dcterms:modified xsi:type="dcterms:W3CDTF">2013-08-26T13:19:25Z</dcterms:modified>
  <cp:revision>298</cp:revision>
  <dc:subject/>
  <dc:title>Cuenta Pública 2010 SII</dc:title>
</cp:coreProperties>
</file>