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907588" cy="6858000"/>
  <p:notesSz cx="6886575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9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44640" y="691920"/>
            <a:ext cx="4998960" cy="34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90384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384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CD5127-797F-4F4E-BE4E-8F2E05FC77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4EB-C312-4558-B449-BAAA8D59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0B9-8380-4D65-9423-67423234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C87-0986-48C3-8109-A8D4A327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197-8383-488E-8CD4-C8E02E05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0D6E-1E58-406E-B2FD-D78425DB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176D-E558-4DB1-8FEE-D3B06DA9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27C-C592-4D85-95C7-C4FC748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D9EB-DDF2-4F5E-BC19-D22FC6ED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BC35-8693-4137-927E-A0D163A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A1E-7874-4CEC-9EE7-7B722FC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69A2-E0B7-4B9F-ABA1-28A13EB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2D6-AD5A-4BB1-B748-8EE456E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665-882F-4FBB-AC3D-4C5DADA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793F-E8D1-4103-B323-E120099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D868-2482-4183-9B11-DC477524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C130-3401-4BD5-AED3-C7E22B7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118E-10CE-4720-8BAC-2FF65631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AC6-94F6-4F89-805A-A81BBC5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6A3-5B41-4677-B511-3D58ED3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8ED-0367-49E7-A713-50C06C9D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116-2D07-4D17-82A4-240D489F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C53-D570-4313-9A63-B78470F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9F9-F670-4401-A3F5-809C3E4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AA3-F747-4D25-A9F7-D0082AD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629400"/>
            <a:ext cx="379728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334-8667-4034-934E-5B28DF8809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2438280"/>
            <a:ext cx="916128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7C1C-1366-489B-AE40-7ABB1E860B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8880" y="1773360"/>
            <a:ext cx="8425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 EL PROGRAMA DE EDUCACIÓN DE LA AFIP?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849240" y="1773360"/>
            <a:ext cx="7777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2852640"/>
            <a:ext cx="7850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s una propuesta pedagógica integral que ofrece la Administración Federal desde 1998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canza los niveles educa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iversi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Terci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Secund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im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nicia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76160" y="3068640"/>
            <a:ext cx="8420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  <a:ea typeface="宋体"/>
              </a:rPr>
              <a:t>Desplegamos acciones combinadas articulando:</a:t>
            </a:r>
            <a:br>
              <a:rPr sz="22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a Ley de Educación Nacional,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el Plan Estratégico y la Política de Calidad del Organismo,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os Objetivos y los Ejes de nuestro progra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50524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ÓMO LO HACE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0520" y="1844640"/>
            <a:ext cx="3600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48880" y="2742840"/>
            <a:ext cx="7272360" cy="31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en la Ciudad de Buenos Ai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RED de REFERENTES en todo 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宋体"/>
              </a:rPr>
              <a:t>Las acciones se coordinan desde el equipo de la Ciudad de Bs As y se desarrollan a través de un representante (denominado “referente”) en cada una de las provincias d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279252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3440" y="1844640"/>
            <a:ext cx="360036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653" t="23757" r="18012" b="11157"/>
          <a:stretch/>
        </p:blipFill>
        <p:spPr>
          <a:xfrm>
            <a:off x="1496880" y="1844640"/>
            <a:ext cx="676908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64880" y="2636640"/>
            <a:ext cx="82818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eminarios en universidades (S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ursos de capacitación docente (C1, C2 y C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reación de materiales educativos (para docentes y alumn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spositivos educativos on line (AFIP Simulada / Espacio Ciudada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alleres y eventos especia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FIP Bajo el 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isitas al Museo Histórico AFIP (MH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5240" y="191772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TRATEGIAS EDUCATIVAS DESARROLLA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0880" y="1844640"/>
            <a:ext cx="8208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88880" y="2997360"/>
            <a:ext cx="468000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res cursos de capacitación docente (C1, C2 y C3) para trabajar contenidos c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inicial (4 y 5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primario (6 a 12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Jóvenes del nivel secundario (13 a 17-18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2360520" y="1917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CAPACITACIÓN DOC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16160" y="1844640"/>
            <a:ext cx="4103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rcRect l="8778" t="0" r="0" b="15599"/>
          <a:stretch/>
        </p:blipFill>
        <p:spPr>
          <a:xfrm>
            <a:off x="5168880" y="3500280"/>
            <a:ext cx="4390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31440" y="2995200"/>
            <a:ext cx="5257800" cy="29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rigido a alumnos de carreras universitarias o terciarias, próximos a desempeñarse como profesion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stituciones educativas de gestión pública y privad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enidos transvers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apacitación en el campo técnico y de concientización soc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9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85960" y="191772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SEMINARIOS EN UNIVERS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1600" y="1844640"/>
            <a:ext cx="5111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rcRect l="0" t="0" r="0" b="11072"/>
          <a:stretch/>
        </p:blipFill>
        <p:spPr>
          <a:xfrm>
            <a:off x="5600880" y="3213000"/>
            <a:ext cx="396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04880" y="3070080"/>
            <a:ext cx="51847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dernización de la muestra y de la visita guiad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uestra histórico referencial,  especialmente diseñada para interactuar sobre las tópicas de impuestos, aduana y seguridad soci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rigida a alumnos del nivel secundario y público en gener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0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1352520" y="1917720"/>
            <a:ext cx="431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bcbcb"/>
                </a:solidFill>
                <a:latin typeface="Arial"/>
              </a:rPr>
              <a:t>MUSEO HISTÓRICO AF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08160" y="1844640"/>
            <a:ext cx="4319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392880" y="4076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961240" y="2133720"/>
            <a:ext cx="288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07800" y="2997000"/>
            <a:ext cx="721188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On line, ingresando a: </a:t>
            </a:r>
            <a:r>
              <a:rPr b="1" lang="es-ES_tradnl" sz="2200" spc="-1" strike="noStrike">
                <a:solidFill>
                  <a:srgbClr val="00ffcc"/>
                </a:solidFill>
                <a:latin typeface="Arial"/>
              </a:rPr>
              <a:t>www.afip.gob.ar/educacio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or mail: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educacion@afip.gob.ar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857240" y="206064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DÓNDE PUEDEN CONTACTARN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2880" y="1987560"/>
            <a:ext cx="5616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184428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NORMATIVA DE EDUCACIÓN EN LA REPÚBLICA ARGENTINA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49240" y="285264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Ley de Educación Nacional establece la educación obligatoria para todos los niños y jóvenes de entre 5 y 18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n cada provincia, los contenidos obligatorios se reformulan de acuerdo a la realidad lo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56052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76160" y="2924280"/>
            <a:ext cx="835344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dministrar la aplicación, percepción, control y fiscalización de los tributos nacionales, los recursos de la seguridad social y las actividades relacionadas con el comercio exterior; promoviendo el cumplimiento voluntario, el desarrollo económico y la inclusión so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4520" y="2852280"/>
            <a:ext cx="52560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Arial"/>
              </a:rPr>
              <a:t>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OCACIÓN DE 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FESI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AC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ONSABIL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76160" y="2781000"/>
            <a:ext cx="806616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etar los principios de excelencia, eficiencia y mejora 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stimular la proactividad y el trabajo en equi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otenciar la capacidad de crear valor en cada t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281240" y="1773360"/>
            <a:ext cx="662436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4160" y="184464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DEFINE LA “POLÍTICA DE CALIDAD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08160" y="2852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interdisciplinario integrado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adore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sicólo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bo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unicadores So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genieros en Sist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415800" y="1773360"/>
            <a:ext cx="9001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440" y="184464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CONFORMAN EL PROGRAMA DE EDUCACIÓN AFIP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04520" y="2997360"/>
            <a:ext cx="878508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Fundamentalmente son los jóvenes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lumnos de escuelas Secund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Futuros profesionales Univers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88880" y="1989000"/>
            <a:ext cx="90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N LOS PRINCIPALES DESTINATARIOS DE LAS ACCIONES DEL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5800" y="1844640"/>
            <a:ext cx="9001080" cy="936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04520" y="2852640"/>
            <a:ext cx="849636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isualizar al tributo como pilar fundamental para el sostenimiento del Estado democrát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ortalecer la relación fisco – contribuy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stalar en la población la reflexión sobre el sentido social de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alentar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trabajo no registrad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contraban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a evas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633240" y="1917720"/>
            <a:ext cx="828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OBJETIVOS TIENE EL PROGRAMA DE EDUCACIÓN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520" y="1844640"/>
            <a:ext cx="83534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15800" y="278136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   - Formación en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  - Ciudada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I - Cultura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272880" y="1917720"/>
            <a:ext cx="92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UÁLES SON LOS EJES DE NUESTRO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160" y="1844640"/>
            <a:ext cx="928980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20:16:31Z</dcterms:created>
  <dc:creator>Maria Fernanda</dc:creator>
  <dc:description/>
  <dc:language>en-US</dc:language>
  <cp:lastModifiedBy>User</cp:lastModifiedBy>
  <dcterms:modified xsi:type="dcterms:W3CDTF">2013-09-04T19:53:10Z</dcterms:modified>
  <cp:revision>104</cp:revision>
  <dc:subject/>
  <dc:title>Información general de la tesis</dc:title>
</cp:coreProperties>
</file>