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907588" cy="6858000"/>
  <p:notesSz cx="6886575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9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44640" y="691920"/>
            <a:ext cx="4998960" cy="34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903840" y="-360"/>
            <a:ext cx="2984400" cy="46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3840" y="8766000"/>
            <a:ext cx="2984400" cy="462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A85ACE-4DEE-40D4-99EA-5A6A8C4376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4640" y="692280"/>
            <a:ext cx="4998960" cy="3460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383000"/>
            <a:ext cx="5050080" cy="4152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ra. María Fernanda Mob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13A-CC56-4F39-BDCF-6B904AA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1D2-6E69-42BF-8821-72F2E69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F05-AB4E-440A-BA24-59804508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5C8-B557-4DCF-B205-156AE1BF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652-12D9-4F6B-BE86-1384F339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C03F-D37F-4E08-A8AA-2C82DAA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3271-EEFD-432F-B8B2-015543C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BB57-1803-439F-9ECD-E91A0F5D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0C02-CC64-4553-B956-B8BADEA6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E72B-B3A1-40F6-8A18-86EF5573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8DA-B5D4-427A-B5EF-CCCCCAD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AA8-6573-4EF1-9049-823CDD7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215-C1A9-4F45-A806-A825A84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379C-121F-4E77-8FDA-08EC64A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9BE2-D2A0-441A-B71F-5F7CEA2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B6C-6D04-4091-9AAB-93FCD75E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6D10-9144-4041-AC9F-DEE06B84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9E5-D871-49A2-8C89-65BD2B5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0D2-6706-4031-86F9-705E290F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A46-F8BD-4F52-9492-DE209C0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609-0338-4520-A346-1DBDBFBF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55B-D665-487D-89DE-FBB35D3C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A41-736C-4420-9300-DF4D75F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D09-6A26-4151-B811-DBA4658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629400"/>
            <a:ext cx="379728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77D-CD89-45C9-B52F-28E8C3594E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2438280"/>
            <a:ext cx="916128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C742-FAFC-4BB3-8E5E-25EE59D465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8880" y="1773360"/>
            <a:ext cx="8425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 EL PROGRAMA DE EDUCACIÓN DE LA AFIP?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849240" y="1773360"/>
            <a:ext cx="7777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2852640"/>
            <a:ext cx="7850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s una propuesta pedagógica integral que ofrece la Administración Federal desde 1998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canza los niveles educa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iversi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Terci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Secund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Prim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nicia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76160" y="3068640"/>
            <a:ext cx="8420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  <a:ea typeface="宋体"/>
              </a:rPr>
              <a:t>Desplegamos acciones combinadas articulando:</a:t>
            </a:r>
            <a:br>
              <a:rPr sz="22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a Ley de Educación Nacional,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el Plan Estratégico y la Política de Calidad del Organismo,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宋体"/>
              </a:rPr>
              <a:t>-  los Objetivos y los Ejes de nuestro progra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50524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ÓMO LO HACE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0520" y="1844640"/>
            <a:ext cx="3600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48880" y="2742840"/>
            <a:ext cx="7272360" cy="31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en la Ciudad de Buenos Ai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RED de REFERENTES en todo 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宋体"/>
              </a:rPr>
              <a:t>Las acciones se coordinan desde el equipo de la Ciudad de Bs As y se desarrollan a través de un representante (denominado “referente”) en cada una de las provincias del paí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2792520" y="1917720"/>
            <a:ext cx="35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3440" y="1844640"/>
            <a:ext cx="360036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653" t="23757" r="18012" b="11157"/>
          <a:stretch/>
        </p:blipFill>
        <p:spPr>
          <a:xfrm>
            <a:off x="1496880" y="1844640"/>
            <a:ext cx="676908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064880" y="2636640"/>
            <a:ext cx="82818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eminarios en universidades (S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ursos de capacitación docente (C1, C2 y C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reación de materiales educativos (para docentes y alumn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spositivos educativos on line (AFIP Simulada / Espacio Ciudada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alleres y eventos especia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FIP Bajo el 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isitas al Museo Histórico AFIP (MH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5240" y="191772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ESTRATEGIAS EDUCATIVAS DESARROLLAMO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20880" y="1844640"/>
            <a:ext cx="8208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88880" y="2997360"/>
            <a:ext cx="468000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res cursos de capacitación docente (C1, C2 y C3) para trabajar contenidos c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inicial (4 y 5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Niños del nivel primario (6 a 12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Jóvenes del nivel secundario (13 a 17-18 añ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2360520" y="1917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CAPACITACIÓN DOC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16160" y="1844640"/>
            <a:ext cx="4103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rcRect l="8778" t="0" r="0" b="15599"/>
          <a:stretch/>
        </p:blipFill>
        <p:spPr>
          <a:xfrm>
            <a:off x="5168880" y="3500280"/>
            <a:ext cx="439092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31440" y="2995200"/>
            <a:ext cx="5257800" cy="29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irigido a alumnos de carreras universitarias o terciarias, próximos a desempeñarse como profesion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stituciones educativas de gestión pública y privad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enidos transversa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apacitación en el campo técnico y de concientización soc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95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85960" y="191772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SEMINARIOS EN UNIVERSIDA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1600" y="1844640"/>
            <a:ext cx="5111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rcRect l="0" t="0" r="0" b="11072"/>
          <a:stretch/>
        </p:blipFill>
        <p:spPr>
          <a:xfrm>
            <a:off x="5600880" y="3213000"/>
            <a:ext cx="3960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04880" y="3070080"/>
            <a:ext cx="51847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odernización de la muestra y de la visita guiad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uestra histórico referencial,  especialmente diseñada para interactuar sobre las tópicas de impuestos, aduana y seguridad soci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rigida a alumnos del nivel secundario y público en genera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0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1352520" y="1917720"/>
            <a:ext cx="431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bcbcb"/>
                </a:solidFill>
                <a:latin typeface="Arial"/>
              </a:rPr>
              <a:t>MUSEO HISTÓRICO AF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08160" y="1844640"/>
            <a:ext cx="43196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392880" y="4076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961240" y="2133720"/>
            <a:ext cx="288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07800" y="2997000"/>
            <a:ext cx="721188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On line, ingresando a: </a:t>
            </a:r>
            <a:r>
              <a:rPr b="1" lang="es-ES_tradnl" sz="2200" spc="-1" strike="noStrike">
                <a:solidFill>
                  <a:srgbClr val="00ffcc"/>
                </a:solidFill>
                <a:latin typeface="Arial"/>
              </a:rPr>
              <a:t>www.afip.gob.ar/educacio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or mail: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educacion@afip.gob.ar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857240" y="206064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DÓNDE PUEDEN CONTACTARN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2880" y="1987560"/>
            <a:ext cx="561672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800" y="184428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NORMATIVA DE EDUCACIÓN EN LA REPÚBLICA ARGENTINA</a:t>
            </a:r>
            <a:endParaRPr b="0" lang="en-US" sz="2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49240" y="285264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Ley de Educación Nacional establece la educación obligatoria para todos los niños y jóvenes de entre 5 y 18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n cada provincia, los contenidos obligatorios se reformulan de acuerdo a la realidad lo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56052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76160" y="2924280"/>
            <a:ext cx="8353440" cy="25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dministrar la aplicación, percepción, control y fiscalización de los tributos nacionales, los recursos de la seguridad social y las actividades relacionadas con el comercio exterior; promoviendo el cumplimiento voluntario, el desarrollo económico y la inclusión so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4520" y="2852280"/>
            <a:ext cx="52560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Arial"/>
              </a:rPr>
              <a:t>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EG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VOCACIÓN DE 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FESI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AC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ONSABIL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31800" y="18446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EL PLAN ESTRATÉGICO DE LA ADMINISTRACIÓN FEDER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8880" y="1773360"/>
            <a:ext cx="871380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76160" y="2781000"/>
            <a:ext cx="806616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spetar los principios de excelencia, eficiencia y mejora 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stimular la proactividad y el trabajo en equi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otenciar la capacidad de crear valor en cada t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281240" y="1773360"/>
            <a:ext cx="662436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4160" y="184464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DEFINE LA “POLÍTICA DE CALIDAD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08160" y="2852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 equipo interdisciplinario integrado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tadores Públ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sicólo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bo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unicadores So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ngenieros en Sist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415800" y="1773360"/>
            <a:ext cx="9001080" cy="79200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440" y="184464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CONFORMAN EL PROGRAMA DE EDUCACIÓN AFIP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04520" y="2997360"/>
            <a:ext cx="878508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Fundamentalmente son los jóvenes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lumnos de escuelas Secund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Futuros profesionales Univers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88880" y="1989000"/>
            <a:ext cx="90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IÉNES SON LOS PRINCIPALES DESTINATARIOS DE LAS ACCIONES DEL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5800" y="1844640"/>
            <a:ext cx="9001080" cy="936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04520" y="2852640"/>
            <a:ext cx="8496360" cy="36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isualizar al tributo como pilar fundamental para el sostenimiento del Estado democrát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ortalecer la relación fisco – contribuy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stalar en la población la reflexión sobre el sentido social de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alentar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trabajo no registrad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contraban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a evas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633240" y="1917720"/>
            <a:ext cx="828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QUÉ OBJETIVOS TIENE EL PROGRAMA DE EDUCACIÓN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520" y="1844640"/>
            <a:ext cx="835344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15800" y="278136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   - Formación en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  - Ciudada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II - Cultura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906120" cy="1268280"/>
            <a:chOff x="0" y="0"/>
            <a:chExt cx="9906120" cy="1268280"/>
          </a:xfrm>
        </p:grpSpPr>
        <p:sp>
          <p:nvSpPr>
            <p:cNvPr id="154" name=""/>
            <p:cNvSpPr/>
            <p:nvPr/>
          </p:nvSpPr>
          <p:spPr>
            <a:xfrm>
              <a:off x="0" y="0"/>
              <a:ext cx="9906120" cy="126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400880" y="115920"/>
              <a:ext cx="17985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415800" y="260280"/>
              <a:ext cx="237672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272880" y="1917720"/>
            <a:ext cx="92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bcbcb"/>
                </a:solidFill>
                <a:latin typeface="Arial"/>
              </a:rPr>
              <a:t>¿CUÁLES SON LOS EJES DE NUESTRO PROGRAMA EDUCATIVO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160" y="1844640"/>
            <a:ext cx="9289800" cy="720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20:16:31Z</dcterms:created>
  <dc:creator>Maria Fernanda</dc:creator>
  <dc:description/>
  <dc:language>en-US</dc:language>
  <cp:lastModifiedBy>User</cp:lastModifiedBy>
  <dcterms:modified xsi:type="dcterms:W3CDTF">2013-09-04T19:53:10Z</dcterms:modified>
  <cp:revision>104</cp:revision>
  <dc:subject/>
  <dc:title>Información general de la tesis</dc:title>
</cp:coreProperties>
</file>