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0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6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7B7-0186-47E6-B3A9-81BB4D94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FB1-3014-418F-BBB9-148B7436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243-E9AF-48C3-AA6A-C2C678A9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999-8927-48FC-934A-28CC234F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062-7C7F-40DB-8A38-86E39512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9F7-4EA8-4ACB-8541-7E991CE8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534-B643-47E9-A13A-61EED62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820-3522-4F83-A2B4-287AD85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318-C83E-4982-8A6D-F3076E18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04D-0618-4319-AA2F-315DB6DC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5F8-6601-4E7D-AC4D-4D3371FE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669-AC00-43EE-A0B9-32B939D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AEBB-EC4C-43F6-A397-C0E418200A5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5300640"/>
            <a:ext cx="3924360" cy="353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alibri"/>
              </a:rPr>
              <a:t>Septiembre de 20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8 Rectángulo redondeado"/>
          <p:cNvSpPr/>
          <p:nvPr/>
        </p:nvSpPr>
        <p:spPr>
          <a:xfrm>
            <a:off x="838080" y="1447920"/>
            <a:ext cx="757260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8" descr="PPT 3"/>
          <p:cNvPicPr/>
          <p:nvPr/>
        </p:nvPicPr>
        <p:blipFill>
          <a:blip r:embed="rId1"/>
          <a:stretch/>
        </p:blipFill>
        <p:spPr>
          <a:xfrm>
            <a:off x="1600200" y="1981080"/>
            <a:ext cx="5791320" cy="3918240"/>
          </a:xfrm>
          <a:prstGeom prst="rect">
            <a:avLst/>
          </a:prstGeom>
          <a:ln w="0">
            <a:noFill/>
          </a:ln>
        </p:spPr>
      </p:pic>
      <p:sp>
        <p:nvSpPr>
          <p:cNvPr id="212" name="Oval 9"/>
          <p:cNvSpPr/>
          <p:nvPr/>
        </p:nvSpPr>
        <p:spPr>
          <a:xfrm>
            <a:off x="5148360" y="2463840"/>
            <a:ext cx="239544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6324480" y="3505320"/>
            <a:ext cx="1219320" cy="5331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4248000" y="4687920"/>
            <a:ext cx="3276720" cy="6858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Rectangle 17"/>
          <p:cNvGrpSpPr/>
          <p:nvPr/>
        </p:nvGrpSpPr>
        <p:grpSpPr>
          <a:xfrm>
            <a:off x="907920" y="1494000"/>
            <a:ext cx="7266240" cy="596880"/>
            <a:chOff x="907920" y="1494000"/>
            <a:chExt cx="7266240" cy="596880"/>
          </a:xfrm>
        </p:grpSpPr>
        <p:pic>
          <p:nvPicPr>
            <p:cNvPr id="217" name="Rectangle 17" descr=""/>
            <p:cNvPicPr/>
            <p:nvPr/>
          </p:nvPicPr>
          <p:blipFill>
            <a:blip r:embed="rId2"/>
            <a:stretch/>
          </p:blipFill>
          <p:spPr>
            <a:xfrm>
              <a:off x="907920" y="1494000"/>
              <a:ext cx="72662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81000" y="1571760"/>
              <a:ext cx="7118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19"/>
          <p:cNvSpPr/>
          <p:nvPr/>
        </p:nvSpPr>
        <p:spPr>
          <a:xfrm>
            <a:off x="7299360" y="2703600"/>
            <a:ext cx="77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22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810040" cy="350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cc"/>
                </a:solidFill>
                <a:latin typeface="Arial"/>
              </a:rPr>
              <a:t>Nro tiqu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334120"/>
            <a:ext cx="1295640" cy="380880"/>
          </a:xfrm>
          <a:prstGeom prst="rect">
            <a:avLst/>
          </a:prstGeom>
          <a:solidFill>
            <a:srgbClr val="0033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N° TI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5180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523880" y="2438280"/>
            <a:ext cx="129564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1523880" y="4114800"/>
            <a:ext cx="129564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Rectangle 17"/>
          <p:cNvGrpSpPr/>
          <p:nvPr/>
        </p:nvGrpSpPr>
        <p:grpSpPr>
          <a:xfrm>
            <a:off x="900000" y="1066680"/>
            <a:ext cx="7272000" cy="474480"/>
            <a:chOff x="900000" y="1066680"/>
            <a:chExt cx="7272000" cy="474480"/>
          </a:xfrm>
        </p:grpSpPr>
        <p:pic>
          <p:nvPicPr>
            <p:cNvPr id="23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0666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981720" y="11239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RATAMIENTO DE RECLAMOS Y SUGERENCI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38 Rectángulo redondeado"/>
          <p:cNvSpPr/>
          <p:nvPr/>
        </p:nvSpPr>
        <p:spPr>
          <a:xfrm>
            <a:off x="762120" y="144792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567400"/>
            <a:ext cx="5210280" cy="368280"/>
          </a:xfrm>
          <a:prstGeom prst="rect">
            <a:avLst/>
          </a:prstGeom>
          <a:solidFill>
            <a:srgbClr val="00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HOMOGENEIDAD DE RESPUESTAS Y PROCE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15238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Ingreso de la Present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2096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Análi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266688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ferentes Subdirecci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231768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ferentes Agenci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4724280"/>
            <a:ext cx="259092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Difusión de la gestión realiz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38480"/>
            <a:ext cx="2318040" cy="3668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3399"/>
                </a:solidFill>
                <a:latin typeface="Calibri"/>
              </a:rPr>
              <a:t>Respuesta al Ciudad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276720"/>
            <a:ext cx="2895480" cy="4572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ASISTENCIA CENT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37339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51814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stCxn id="238" idx="4"/>
            <a:endCxn id="239" idx="7"/>
          </p:cNvCxnSpPr>
          <p:nvPr/>
        </p:nvCxnSpPr>
        <p:spPr>
          <a:xfrm rot="5400000">
            <a:off x="3934440" y="2067120"/>
            <a:ext cx="144720" cy="1162440"/>
          </a:xfrm>
          <a:prstGeom prst="curvedConnector5">
            <a:avLst>
              <a:gd name="adj1" fmla="val 30673"/>
              <a:gd name="adj2" fmla="val 50000"/>
              <a:gd name="adj3" fmla="val 30673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8" idx="4"/>
            <a:endCxn id="240" idx="1"/>
          </p:cNvCxnSpPr>
          <p:nvPr/>
        </p:nvCxnSpPr>
        <p:spPr>
          <a:xfrm flipH="1" rot="16200000">
            <a:off x="5020200" y="2143440"/>
            <a:ext cx="221400" cy="1086480"/>
          </a:xfrm>
          <a:prstGeom prst="curvedConnector5">
            <a:avLst>
              <a:gd name="adj1" fmla="val 37296"/>
              <a:gd name="adj2" fmla="val 49983"/>
              <a:gd name="adj3" fmla="val 3729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9" idx="5"/>
            <a:endCxn id="243" idx="0"/>
          </p:cNvCxnSpPr>
          <p:nvPr/>
        </p:nvCxnSpPr>
        <p:spPr>
          <a:xfrm flipH="1" rot="16200000">
            <a:off x="3812040" y="2592720"/>
            <a:ext cx="297720" cy="1070640"/>
          </a:xfrm>
          <a:prstGeom prst="curvedConnector5">
            <a:avLst>
              <a:gd name="adj1" fmla="val 58716"/>
              <a:gd name="adj2" fmla="val 49983"/>
              <a:gd name="adj3" fmla="val 5871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0" idx="3"/>
            <a:endCxn id="243" idx="0"/>
          </p:cNvCxnSpPr>
          <p:nvPr/>
        </p:nvCxnSpPr>
        <p:spPr>
          <a:xfrm rot="5400000">
            <a:off x="4973760" y="2577240"/>
            <a:ext cx="221400" cy="1178640"/>
          </a:xfrm>
          <a:prstGeom prst="curvedConnector5">
            <a:avLst>
              <a:gd name="adj1" fmla="val 61726"/>
              <a:gd name="adj2" fmla="val 49984"/>
              <a:gd name="adj3" fmla="val 6172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38 Rectángulo redondeado"/>
          <p:cNvSpPr/>
          <p:nvPr/>
        </p:nvSpPr>
        <p:spPr>
          <a:xfrm>
            <a:off x="685800" y="1219320"/>
            <a:ext cx="7572240" cy="50292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25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RATAMIENTO DE RECLAMOS Y SUGERENCI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14 CuadroTexto"/>
          <p:cNvSpPr/>
          <p:nvPr/>
        </p:nvSpPr>
        <p:spPr>
          <a:xfrm>
            <a:off x="3505320" y="198108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Personal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9 Imagen" descr="Boton-redondo-griss.png"/>
          <p:cNvPicPr/>
          <p:nvPr/>
        </p:nvPicPr>
        <p:blipFill>
          <a:blip r:embed="rId2"/>
          <a:stretch/>
        </p:blipFill>
        <p:spPr>
          <a:xfrm>
            <a:off x="3200400" y="1981080"/>
            <a:ext cx="223920" cy="228600"/>
          </a:xfrm>
          <a:prstGeom prst="rect">
            <a:avLst/>
          </a:prstGeom>
          <a:ln w="0">
            <a:noFill/>
          </a:ln>
        </p:spPr>
      </p:pic>
      <p:sp>
        <p:nvSpPr>
          <p:cNvPr id="259" name="14 CuadroTexto"/>
          <p:cNvSpPr/>
          <p:nvPr/>
        </p:nvSpPr>
        <p:spPr>
          <a:xfrm>
            <a:off x="3522600" y="259092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Telefónica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14 CuadroTexto"/>
          <p:cNvSpPr/>
          <p:nvPr/>
        </p:nvSpPr>
        <p:spPr>
          <a:xfrm>
            <a:off x="3522600" y="228600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14 CuadroTexto"/>
          <p:cNvSpPr/>
          <p:nvPr/>
        </p:nvSpPr>
        <p:spPr>
          <a:xfrm>
            <a:off x="3505320" y="548640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espuestas anteriores por casos simila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14 CuadroTexto"/>
          <p:cNvSpPr/>
          <p:nvPr/>
        </p:nvSpPr>
        <p:spPr>
          <a:xfrm>
            <a:off x="3505320" y="441972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imuladores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30 Grupo"/>
          <p:cNvGrpSpPr/>
          <p:nvPr/>
        </p:nvGrpSpPr>
        <p:grpSpPr>
          <a:xfrm>
            <a:off x="1219320" y="3200400"/>
            <a:ext cx="1676160" cy="2819520"/>
            <a:chOff x="1219320" y="3200400"/>
            <a:chExt cx="1676160" cy="2819520"/>
          </a:xfrm>
        </p:grpSpPr>
        <p:grpSp>
          <p:nvGrpSpPr>
            <p:cNvPr id="264" name="36 Rectángulo redondeado"/>
            <p:cNvGrpSpPr/>
            <p:nvPr/>
          </p:nvGrpSpPr>
          <p:grpSpPr>
            <a:xfrm>
              <a:off x="1219320" y="3200400"/>
              <a:ext cx="1676160" cy="2819520"/>
              <a:chOff x="1219320" y="3200400"/>
              <a:chExt cx="1676160" cy="2819520"/>
            </a:xfrm>
          </p:grpSpPr>
          <p:pic>
            <p:nvPicPr>
              <p:cNvPr id="265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3200400"/>
                <a:ext cx="1676160" cy="28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1249560" y="3372120"/>
                <a:ext cx="1617840" cy="24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7" name="37 CuadroTexto"/>
            <p:cNvSpPr/>
            <p:nvPr/>
          </p:nvSpPr>
          <p:spPr>
            <a:xfrm>
              <a:off x="1325520" y="3490920"/>
              <a:ext cx="14810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Herramienta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utilizada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14 CuadroTexto"/>
          <p:cNvSpPr/>
          <p:nvPr/>
        </p:nvSpPr>
        <p:spPr>
          <a:xfrm>
            <a:off x="3522600" y="350532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3522600" y="380988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14 CuadroTexto"/>
          <p:cNvSpPr/>
          <p:nvPr/>
        </p:nvSpPr>
        <p:spPr>
          <a:xfrm>
            <a:off x="3522600" y="4114800"/>
            <a:ext cx="18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uía de trámi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14 CuadroTexto"/>
          <p:cNvSpPr/>
          <p:nvPr/>
        </p:nvSpPr>
        <p:spPr>
          <a:xfrm>
            <a:off x="3505320" y="4724280"/>
            <a:ext cx="42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BC – Consultas y Respuestas Frecuen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14 CuadroTexto"/>
          <p:cNvSpPr/>
          <p:nvPr/>
        </p:nvSpPr>
        <p:spPr>
          <a:xfrm>
            <a:off x="3505320" y="510552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Folleteros We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9 Imagen" descr="Boton-redondo-griss.png"/>
          <p:cNvPicPr/>
          <p:nvPr/>
        </p:nvPicPr>
        <p:blipFill>
          <a:blip r:embed="rId4"/>
          <a:stretch/>
        </p:blipFill>
        <p:spPr>
          <a:xfrm>
            <a:off x="3200400" y="22860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9 Imagen" descr="Boton-redondo-griss.png"/>
          <p:cNvPicPr/>
          <p:nvPr/>
        </p:nvPicPr>
        <p:blipFill>
          <a:blip r:embed="rId5"/>
          <a:stretch/>
        </p:blipFill>
        <p:spPr>
          <a:xfrm>
            <a:off x="3200400" y="25909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9 Imagen" descr="Boton-redondo-griss.png"/>
          <p:cNvPicPr/>
          <p:nvPr/>
        </p:nvPicPr>
        <p:blipFill>
          <a:blip r:embed="rId6"/>
          <a:stretch/>
        </p:blipFill>
        <p:spPr>
          <a:xfrm>
            <a:off x="3200400" y="35053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9 Imagen" descr="Boton-redondo-griss.png"/>
          <p:cNvPicPr/>
          <p:nvPr/>
        </p:nvPicPr>
        <p:blipFill>
          <a:blip r:embed="rId7"/>
          <a:stretch/>
        </p:blipFill>
        <p:spPr>
          <a:xfrm>
            <a:off x="3200400" y="380988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9 Imagen" descr="Boton-redondo-griss.png"/>
          <p:cNvPicPr/>
          <p:nvPr/>
        </p:nvPicPr>
        <p:blipFill>
          <a:blip r:embed="rId8"/>
          <a:stretch/>
        </p:blipFill>
        <p:spPr>
          <a:xfrm>
            <a:off x="3200400" y="411480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8" name="9 Imagen" descr="Boton-redondo-griss.png"/>
          <p:cNvPicPr/>
          <p:nvPr/>
        </p:nvPicPr>
        <p:blipFill>
          <a:blip r:embed="rId9"/>
          <a:stretch/>
        </p:blipFill>
        <p:spPr>
          <a:xfrm>
            <a:off x="3200400" y="44197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79" name="9 Imagen" descr="Boton-redondo-griss.png"/>
          <p:cNvPicPr/>
          <p:nvPr/>
        </p:nvPicPr>
        <p:blipFill>
          <a:blip r:embed="rId10"/>
          <a:stretch/>
        </p:blipFill>
        <p:spPr>
          <a:xfrm>
            <a:off x="3200400" y="472428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9 Imagen" descr="Boton-redondo-griss.png"/>
          <p:cNvPicPr/>
          <p:nvPr/>
        </p:nvPicPr>
        <p:blipFill>
          <a:blip r:embed="rId11"/>
          <a:stretch/>
        </p:blipFill>
        <p:spPr>
          <a:xfrm>
            <a:off x="3200400" y="5105520"/>
            <a:ext cx="223920" cy="228600"/>
          </a:xfrm>
          <a:prstGeom prst="rect">
            <a:avLst/>
          </a:prstGeom>
          <a:ln w="0">
            <a:noFill/>
          </a:ln>
        </p:spPr>
      </p:pic>
      <p:pic>
        <p:nvPicPr>
          <p:cNvPr id="281" name="9 Imagen" descr="Boton-redondo-griss.png"/>
          <p:cNvPicPr/>
          <p:nvPr/>
        </p:nvPicPr>
        <p:blipFill>
          <a:blip r:embed="rId12"/>
          <a:stretch/>
        </p:blipFill>
        <p:spPr>
          <a:xfrm>
            <a:off x="3200400" y="5486400"/>
            <a:ext cx="223920" cy="228600"/>
          </a:xfrm>
          <a:prstGeom prst="rect">
            <a:avLst/>
          </a:prstGeom>
          <a:ln w="0">
            <a:noFill/>
          </a:ln>
        </p:spPr>
      </p:pic>
      <p:grpSp>
        <p:nvGrpSpPr>
          <p:cNvPr id="282" name="30 Grupo"/>
          <p:cNvGrpSpPr/>
          <p:nvPr/>
        </p:nvGrpSpPr>
        <p:grpSpPr>
          <a:xfrm>
            <a:off x="1219320" y="1981080"/>
            <a:ext cx="1600200" cy="914400"/>
            <a:chOff x="1219320" y="1981080"/>
            <a:chExt cx="1600200" cy="914400"/>
          </a:xfrm>
        </p:grpSpPr>
        <p:grpSp>
          <p:nvGrpSpPr>
            <p:cNvPr id="283" name="36 Rectángulo redondeado"/>
            <p:cNvGrpSpPr/>
            <p:nvPr/>
          </p:nvGrpSpPr>
          <p:grpSpPr>
            <a:xfrm>
              <a:off x="1219320" y="1981080"/>
              <a:ext cx="1600200" cy="914400"/>
              <a:chOff x="1219320" y="1981080"/>
              <a:chExt cx="1600200" cy="914400"/>
            </a:xfrm>
          </p:grpSpPr>
          <p:pic>
            <p:nvPicPr>
              <p:cNvPr id="284" name="36 Rectángulo redondeado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9320" y="1981080"/>
                <a:ext cx="16002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248120" y="2036520"/>
                <a:ext cx="154476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6" name="37 CuadroTexto"/>
            <p:cNvSpPr/>
            <p:nvPr/>
          </p:nvSpPr>
          <p:spPr>
            <a:xfrm>
              <a:off x="1320840" y="2074680"/>
              <a:ext cx="141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33cc"/>
                  </a:solidFill>
                  <a:latin typeface="Calibri"/>
                </a:rPr>
                <a:t>Vías de respuesta</a:t>
              </a:r>
              <a:r>
                <a:rPr b="1" lang="es-AR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8 Rectángulo redondeado"/>
          <p:cNvSpPr/>
          <p:nvPr/>
        </p:nvSpPr>
        <p:spPr>
          <a:xfrm>
            <a:off x="838080" y="1366920"/>
            <a:ext cx="757260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ctangle 17"/>
          <p:cNvGrpSpPr/>
          <p:nvPr/>
        </p:nvGrpSpPr>
        <p:grpSpPr>
          <a:xfrm>
            <a:off x="1054080" y="1494000"/>
            <a:ext cx="7261200" cy="596880"/>
            <a:chOff x="1054080" y="1494000"/>
            <a:chExt cx="7261200" cy="596880"/>
          </a:xfrm>
        </p:grpSpPr>
        <p:pic>
          <p:nvPicPr>
            <p:cNvPr id="290" name="Rectangle 17" descr=""/>
            <p:cNvPicPr/>
            <p:nvPr/>
          </p:nvPicPr>
          <p:blipFill>
            <a:blip r:embed="rId1"/>
            <a:stretch/>
          </p:blipFill>
          <p:spPr>
            <a:xfrm>
              <a:off x="1054080" y="1494000"/>
              <a:ext cx="7261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125360" y="1571760"/>
              <a:ext cx="7118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IFUSIÓN Y HOMOGENE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Oval 15"/>
          <p:cNvSpPr/>
          <p:nvPr/>
        </p:nvSpPr>
        <p:spPr>
          <a:xfrm>
            <a:off x="3009960" y="2803680"/>
            <a:ext cx="3527280" cy="13460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916360" y="3071880"/>
            <a:ext cx="36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oletí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Asistencia al Ciudadano</a:t>
            </a:r>
            <a:r>
              <a:rPr b="1" lang="es-ES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1 Grupo"/>
          <p:cNvGrpSpPr/>
          <p:nvPr/>
        </p:nvGrpSpPr>
        <p:grpSpPr>
          <a:xfrm>
            <a:off x="1143000" y="2057400"/>
            <a:ext cx="2664000" cy="792000"/>
            <a:chOff x="1143000" y="2057400"/>
            <a:chExt cx="2664000" cy="792000"/>
          </a:xfrm>
        </p:grpSpPr>
        <p:sp>
          <p:nvSpPr>
            <p:cNvPr id="295" name="Oval 12"/>
            <p:cNvSpPr/>
            <p:nvPr/>
          </p:nvSpPr>
          <p:spPr>
            <a:xfrm>
              <a:off x="1143000" y="2057400"/>
              <a:ext cx="2664000" cy="792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Text Box 19"/>
            <p:cNvSpPr/>
            <p:nvPr/>
          </p:nvSpPr>
          <p:spPr>
            <a:xfrm>
              <a:off x="1429560" y="2257200"/>
              <a:ext cx="189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Datos estadíst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2 Grupo"/>
          <p:cNvGrpSpPr/>
          <p:nvPr/>
        </p:nvGrpSpPr>
        <p:grpSpPr>
          <a:xfrm>
            <a:off x="5410080" y="2057400"/>
            <a:ext cx="2951280" cy="719280"/>
            <a:chOff x="5410080" y="2057400"/>
            <a:chExt cx="2951280" cy="719280"/>
          </a:xfrm>
        </p:grpSpPr>
        <p:sp>
          <p:nvSpPr>
            <p:cNvPr id="298" name="Oval 13"/>
            <p:cNvSpPr/>
            <p:nvPr/>
          </p:nvSpPr>
          <p:spPr>
            <a:xfrm>
              <a:off x="5410080" y="2057400"/>
              <a:ext cx="2881440" cy="719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5860800" y="2201760"/>
              <a:ext cx="25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Proyectos en cur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3 Grupo"/>
          <p:cNvGrpSpPr/>
          <p:nvPr/>
        </p:nvGrpSpPr>
        <p:grpSpPr>
          <a:xfrm>
            <a:off x="1143000" y="4114800"/>
            <a:ext cx="2610000" cy="865080"/>
            <a:chOff x="1143000" y="4114800"/>
            <a:chExt cx="2610000" cy="865080"/>
          </a:xfrm>
        </p:grpSpPr>
        <p:sp>
          <p:nvSpPr>
            <p:cNvPr id="301" name="Oval 11"/>
            <p:cNvSpPr/>
            <p:nvPr/>
          </p:nvSpPr>
          <p:spPr>
            <a:xfrm>
              <a:off x="1143000" y="4114800"/>
              <a:ext cx="2610000" cy="865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1447920" y="433044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Datos de interé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4 Grupo"/>
          <p:cNvGrpSpPr/>
          <p:nvPr/>
        </p:nvGrpSpPr>
        <p:grpSpPr>
          <a:xfrm>
            <a:off x="5791320" y="4221000"/>
            <a:ext cx="2597040" cy="720720"/>
            <a:chOff x="5791320" y="4221000"/>
            <a:chExt cx="2597040" cy="720720"/>
          </a:xfrm>
        </p:grpSpPr>
        <p:sp>
          <p:nvSpPr>
            <p:cNvPr id="304" name="Oval 14"/>
            <p:cNvSpPr/>
            <p:nvPr/>
          </p:nvSpPr>
          <p:spPr>
            <a:xfrm>
              <a:off x="5791320" y="4221000"/>
              <a:ext cx="2597040" cy="720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6130440" y="43891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Calibri"/>
                </a:rPr>
                <a:t>Casos relevant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AutoShape 35"/>
          <p:cNvSpPr/>
          <p:nvPr/>
        </p:nvSpPr>
        <p:spPr>
          <a:xfrm>
            <a:off x="4495680" y="4800600"/>
            <a:ext cx="505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2538360" y="5425920"/>
            <a:ext cx="4419720" cy="381240"/>
          </a:xfrm>
          <a:prstGeom prst="rect">
            <a:avLst/>
          </a:prstGeom>
          <a:solidFill>
            <a:srgbClr val="00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alibri"/>
              </a:rPr>
              <a:t>OPTIMIZAR LA CALIDAD EN EL SERVIC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AutoShape 59"/>
          <p:cNvCxnSpPr>
            <a:stCxn id="301" idx="0"/>
            <a:endCxn id="293" idx="1"/>
          </p:cNvCxnSpPr>
          <p:nvPr/>
        </p:nvCxnSpPr>
        <p:spPr>
          <a:xfrm flipH="1" flipV="1" rot="5400000">
            <a:off x="2320920" y="3519360"/>
            <a:ext cx="722520" cy="46908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09" name="AutoShape 60"/>
          <p:cNvCxnSpPr>
            <a:stCxn id="295" idx="6"/>
            <a:endCxn id="292" idx="0"/>
          </p:cNvCxnSpPr>
          <p:nvPr/>
        </p:nvCxnSpPr>
        <p:spPr>
          <a:xfrm>
            <a:off x="3806640" y="2453760"/>
            <a:ext cx="967320" cy="35028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10" name="AutoShape 63"/>
          <p:cNvCxnSpPr>
            <a:stCxn id="298" idx="4"/>
            <a:endCxn id="293" idx="3"/>
          </p:cNvCxnSpPr>
          <p:nvPr/>
        </p:nvCxnSpPr>
        <p:spPr>
          <a:xfrm rot="5400000">
            <a:off x="6385680" y="2927160"/>
            <a:ext cx="616680" cy="31500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11" name="AutoShape 64"/>
          <p:cNvCxnSpPr>
            <a:stCxn id="304" idx="2"/>
            <a:endCxn id="292" idx="4"/>
          </p:cNvCxnSpPr>
          <p:nvPr/>
        </p:nvCxnSpPr>
        <p:spPr>
          <a:xfrm rot="10800000">
            <a:off x="4772880" y="4149000"/>
            <a:ext cx="1018440" cy="432360"/>
          </a:xfrm>
          <a:prstGeom prst="curvedConnector2">
            <a:avLst/>
          </a:prstGeom>
          <a:ln w="5076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30 Grupo"/>
          <p:cNvGrpSpPr/>
          <p:nvPr/>
        </p:nvGrpSpPr>
        <p:grpSpPr>
          <a:xfrm>
            <a:off x="1116000" y="1989000"/>
            <a:ext cx="6912000" cy="624960"/>
            <a:chOff x="1116000" y="1989000"/>
            <a:chExt cx="6912000" cy="624960"/>
          </a:xfrm>
        </p:grpSpPr>
        <p:grpSp>
          <p:nvGrpSpPr>
            <p:cNvPr id="314" name="36 Rectángulo redondeado"/>
            <p:cNvGrpSpPr/>
            <p:nvPr/>
          </p:nvGrpSpPr>
          <p:grpSpPr>
            <a:xfrm>
              <a:off x="1116000" y="1989000"/>
              <a:ext cx="6912000" cy="432000"/>
              <a:chOff x="1116000" y="1989000"/>
              <a:chExt cx="6912000" cy="432000"/>
            </a:xfrm>
          </p:grpSpPr>
          <p:pic>
            <p:nvPicPr>
              <p:cNvPr id="315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989000"/>
                <a:ext cx="6912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1241280" y="2015280"/>
                <a:ext cx="66715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37 CuadroTexto"/>
            <p:cNvSpPr/>
            <p:nvPr/>
          </p:nvSpPr>
          <p:spPr>
            <a:xfrm>
              <a:off x="1555560" y="2033280"/>
              <a:ext cx="6105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¿Qué permiten conocer los reportes estadísticos del programa?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320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41480" y="2522520"/>
            <a:ext cx="5764320" cy="280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dentificar los indicadores claves para la gestión y seguimiento de la efici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enerar informes que permitan partir de lo general hasta lo particu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nalizar patrones de comportamiento interno y extern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Minimizar la posibilidad de dar tratamiento distinto a situaciones o clientes simi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9 Imagen" descr="Boton-redondo-griss.png"/>
          <p:cNvPicPr/>
          <p:nvPr/>
        </p:nvPicPr>
        <p:blipFill>
          <a:blip r:embed="rId3"/>
          <a:stretch/>
        </p:blipFill>
        <p:spPr>
          <a:xfrm>
            <a:off x="1549440" y="34416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324" name="9 Imagen" descr="Boton-redondo-griss.png"/>
          <p:cNvPicPr/>
          <p:nvPr/>
        </p:nvPicPr>
        <p:blipFill>
          <a:blip r:embed="rId4"/>
          <a:stretch/>
        </p:blipFill>
        <p:spPr>
          <a:xfrm>
            <a:off x="1549440" y="270360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9 Imagen" descr="Boton-redondo-griss.png"/>
          <p:cNvPicPr/>
          <p:nvPr/>
        </p:nvPicPr>
        <p:blipFill>
          <a:blip r:embed="rId5"/>
          <a:stretch/>
        </p:blipFill>
        <p:spPr>
          <a:xfrm>
            <a:off x="1547640" y="41274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326" name="9 Imagen" descr="Boton-redondo-griss.png"/>
          <p:cNvPicPr/>
          <p:nvPr/>
        </p:nvPicPr>
        <p:blipFill>
          <a:blip r:embed="rId6"/>
          <a:stretch/>
        </p:blipFill>
        <p:spPr>
          <a:xfrm>
            <a:off x="1549440" y="4660920"/>
            <a:ext cx="2858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330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32" name=""/>
          <p:cNvGraphicFramePr/>
          <p:nvPr/>
        </p:nvGraphicFramePr>
        <p:xfrm>
          <a:off x="2050920" y="1828800"/>
          <a:ext cx="6093000" cy="40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828800"/>
                    <a:ext cx="60930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33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ATOS ESTADÍSTIC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457200" y="1447920"/>
          <a:ext cx="5484960" cy="36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548496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419640" y="3068640"/>
          <a:ext cx="5484600" cy="36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3068640"/>
                    <a:ext cx="548460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Rectangle 17"/>
          <p:cNvGrpSpPr/>
          <p:nvPr/>
        </p:nvGrpSpPr>
        <p:grpSpPr>
          <a:xfrm>
            <a:off x="900000" y="1628640"/>
            <a:ext cx="7272000" cy="474480"/>
            <a:chOff x="900000" y="1628640"/>
            <a:chExt cx="7272000" cy="474480"/>
          </a:xfrm>
        </p:grpSpPr>
        <p:pic>
          <p:nvPicPr>
            <p:cNvPr id="346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81720" y="16858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CAPACITA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438280" y="2666880"/>
            <a:ext cx="4759560" cy="22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ctura de normativa vigente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y nove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ón de temas relevantes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entarios de casos prácticos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ertación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9 Imagen" descr="Boton-redondo-griss.png"/>
          <p:cNvPicPr/>
          <p:nvPr/>
        </p:nvPicPr>
        <p:blipFill>
          <a:blip r:embed="rId2"/>
          <a:stretch/>
        </p:blipFill>
        <p:spPr>
          <a:xfrm>
            <a:off x="1982880" y="3352680"/>
            <a:ext cx="285480" cy="292320"/>
          </a:xfrm>
          <a:prstGeom prst="rect">
            <a:avLst/>
          </a:prstGeom>
          <a:ln w="0">
            <a:noFill/>
          </a:ln>
        </p:spPr>
      </p:pic>
      <p:pic>
        <p:nvPicPr>
          <p:cNvPr id="350" name="9 Imagen" descr="Boton-redondo-griss.png"/>
          <p:cNvPicPr/>
          <p:nvPr/>
        </p:nvPicPr>
        <p:blipFill>
          <a:blip r:embed="rId3"/>
          <a:stretch/>
        </p:blipFill>
        <p:spPr>
          <a:xfrm>
            <a:off x="1982880" y="2819520"/>
            <a:ext cx="285480" cy="291960"/>
          </a:xfrm>
          <a:prstGeom prst="rect">
            <a:avLst/>
          </a:prstGeom>
          <a:ln w="0">
            <a:noFill/>
          </a:ln>
        </p:spPr>
      </p:pic>
      <p:pic>
        <p:nvPicPr>
          <p:cNvPr id="351" name="9 Imagen" descr="Boton-redondo-griss.png"/>
          <p:cNvPicPr/>
          <p:nvPr/>
        </p:nvPicPr>
        <p:blipFill>
          <a:blip r:embed="rId4"/>
          <a:stretch/>
        </p:blipFill>
        <p:spPr>
          <a:xfrm>
            <a:off x="1981080" y="388620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Boton-redondo-griss.png"/>
          <p:cNvPicPr/>
          <p:nvPr/>
        </p:nvPicPr>
        <p:blipFill>
          <a:blip r:embed="rId5"/>
          <a:stretch/>
        </p:blipFill>
        <p:spPr>
          <a:xfrm>
            <a:off x="1982880" y="4419720"/>
            <a:ext cx="2854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36 Rectángulo redondeado"/>
          <p:cNvGrpSpPr/>
          <p:nvPr/>
        </p:nvGrpSpPr>
        <p:grpSpPr>
          <a:xfrm>
            <a:off x="2057400" y="1773360"/>
            <a:ext cx="6629400" cy="863640"/>
            <a:chOff x="2057400" y="1773360"/>
            <a:chExt cx="6629400" cy="863640"/>
          </a:xfrm>
        </p:grpSpPr>
        <p:pic>
          <p:nvPicPr>
            <p:cNvPr id="354" name="3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057400" y="1773360"/>
              <a:ext cx="66294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177640" y="1825920"/>
              <a:ext cx="6398640" cy="7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36 Rectángulo redondeado"/>
          <p:cNvGrpSpPr/>
          <p:nvPr/>
        </p:nvGrpSpPr>
        <p:grpSpPr>
          <a:xfrm>
            <a:off x="2076480" y="5084640"/>
            <a:ext cx="6610320" cy="1008360"/>
            <a:chOff x="2076480" y="5084640"/>
            <a:chExt cx="6610320" cy="1008360"/>
          </a:xfrm>
        </p:grpSpPr>
        <p:pic>
          <p:nvPicPr>
            <p:cNvPr id="357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076480" y="5084640"/>
              <a:ext cx="66103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196360" y="5145840"/>
              <a:ext cx="6380280" cy="8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Rectangle 17"/>
          <p:cNvGrpSpPr/>
          <p:nvPr/>
        </p:nvGrpSpPr>
        <p:grpSpPr>
          <a:xfrm>
            <a:off x="900000" y="1197000"/>
            <a:ext cx="7272000" cy="474480"/>
            <a:chOff x="900000" y="1197000"/>
            <a:chExt cx="7272000" cy="474480"/>
          </a:xfrm>
        </p:grpSpPr>
        <p:pic>
          <p:nvPicPr>
            <p:cNvPr id="361" name="Rectangle 17" descr=""/>
            <p:cNvPicPr/>
            <p:nvPr/>
          </p:nvPicPr>
          <p:blipFill>
            <a:blip r:embed="rId3"/>
            <a:stretch/>
          </p:blipFill>
          <p:spPr>
            <a:xfrm>
              <a:off x="900000" y="119700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981720" y="125424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ASOS REPRESENTATIV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36 Rectángulo redondeado"/>
          <p:cNvGrpSpPr/>
          <p:nvPr/>
        </p:nvGrpSpPr>
        <p:grpSpPr>
          <a:xfrm>
            <a:off x="2076480" y="4038480"/>
            <a:ext cx="6534000" cy="919440"/>
            <a:chOff x="2076480" y="4038480"/>
            <a:chExt cx="6534000" cy="919440"/>
          </a:xfrm>
        </p:grpSpPr>
        <p:pic>
          <p:nvPicPr>
            <p:cNvPr id="364" name="36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076480" y="4038480"/>
              <a:ext cx="653400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194920" y="4094280"/>
              <a:ext cx="63068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36 Rectángulo redondeado"/>
          <p:cNvGrpSpPr/>
          <p:nvPr/>
        </p:nvGrpSpPr>
        <p:grpSpPr>
          <a:xfrm>
            <a:off x="2057400" y="2819520"/>
            <a:ext cx="6615000" cy="1041120"/>
            <a:chOff x="2057400" y="2819520"/>
            <a:chExt cx="6615000" cy="1041120"/>
          </a:xfrm>
        </p:grpSpPr>
        <p:pic>
          <p:nvPicPr>
            <p:cNvPr id="367" name="36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2057400" y="2819520"/>
              <a:ext cx="66150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7280" y="2882880"/>
              <a:ext cx="6384960" cy="90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50920" y="19209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DE GR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IMPACTO SOC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30002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CASOS PARTICUL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4219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TRATAMIEN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EN LÍN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19444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RELACIÓN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OT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Calibri"/>
              </a:rPr>
              <a:t>ORGANISM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1824840"/>
            <a:ext cx="6095880" cy="64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Nuevas Disposiciones o Normativ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Inconvenientes ante el vencimiento de presentacion de obligacion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2909880"/>
            <a:ext cx="518148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Situaciones no contempladas en un Sistema o Normat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2363760" y="4339440"/>
            <a:ext cx="6094440" cy="373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Inconvenientes con cobertura de Obra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>
            <a:off x="2376360" y="5101560"/>
            <a:ext cx="531972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iquidación de deudas previsional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convenientes con Obras Social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convenientes con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Entidades Bancari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9 Imagen" descr="Boton-redondo-griss.png"/>
          <p:cNvPicPr/>
          <p:nvPr/>
        </p:nvPicPr>
        <p:blipFill>
          <a:blip r:embed="rId6"/>
          <a:stretch/>
        </p:blipFill>
        <p:spPr>
          <a:xfrm>
            <a:off x="2209680" y="198108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78" name="9 Imagen" descr="Boton-redondo-griss.png"/>
          <p:cNvPicPr/>
          <p:nvPr/>
        </p:nvPicPr>
        <p:blipFill>
          <a:blip r:embed="rId7"/>
          <a:stretch/>
        </p:blipFill>
        <p:spPr>
          <a:xfrm>
            <a:off x="2209680" y="22287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79" name="9 Imagen" descr="Boton-redondo-griss.png"/>
          <p:cNvPicPr/>
          <p:nvPr/>
        </p:nvPicPr>
        <p:blipFill>
          <a:blip r:embed="rId8"/>
          <a:stretch/>
        </p:blipFill>
        <p:spPr>
          <a:xfrm>
            <a:off x="2209680" y="3295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0" name="9 Imagen" descr="Boton-redondo-griss.png"/>
          <p:cNvPicPr/>
          <p:nvPr/>
        </p:nvPicPr>
        <p:blipFill>
          <a:blip r:embed="rId9"/>
          <a:stretch/>
        </p:blipFill>
        <p:spPr>
          <a:xfrm>
            <a:off x="2209680" y="4438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1" name="9 Imagen" descr="Boton-redondo-griss.png"/>
          <p:cNvPicPr/>
          <p:nvPr/>
        </p:nvPicPr>
        <p:blipFill>
          <a:blip r:embed="rId10"/>
          <a:stretch/>
        </p:blipFill>
        <p:spPr>
          <a:xfrm>
            <a:off x="2209680" y="52578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2" name="9 Imagen" descr="Boton-redondo-griss.png"/>
          <p:cNvPicPr/>
          <p:nvPr/>
        </p:nvPicPr>
        <p:blipFill>
          <a:blip r:embed="rId11"/>
          <a:stretch/>
        </p:blipFill>
        <p:spPr>
          <a:xfrm>
            <a:off x="2209680" y="54864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83" name="9 Imagen" descr="Boton-redondo-griss.png"/>
          <p:cNvPicPr/>
          <p:nvPr/>
        </p:nvPicPr>
        <p:blipFill>
          <a:blip r:embed="rId12"/>
          <a:stretch/>
        </p:blipFill>
        <p:spPr>
          <a:xfrm>
            <a:off x="2209680" y="5734080"/>
            <a:ext cx="152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7 CuadroTexto"/>
          <p:cNvSpPr/>
          <p:nvPr/>
        </p:nvSpPr>
        <p:spPr>
          <a:xfrm>
            <a:off x="1981080" y="266688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 canal de comunicación ágil y efectivo para interactuar con los ciudada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54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TRODUC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984320" y="3740040"/>
            <a:ext cx="5311800" cy="1685160"/>
          </a:xfrm>
          <a:prstGeom prst="roundRect">
            <a:avLst>
              <a:gd name="adj" fmla="val 5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solver inconveni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decuar normas o procedimi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correr transversalmente la Organizació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ificar respuestas y procedimien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Termómetro de la Organiz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36 Rectángulo redondeado"/>
          <p:cNvGrpSpPr/>
          <p:nvPr/>
        </p:nvGrpSpPr>
        <p:grpSpPr>
          <a:xfrm>
            <a:off x="1619280" y="2060640"/>
            <a:ext cx="5688000" cy="431640"/>
            <a:chOff x="1619280" y="2060640"/>
            <a:chExt cx="5688000" cy="431640"/>
          </a:xfrm>
        </p:grpSpPr>
        <p:pic>
          <p:nvPicPr>
            <p:cNvPr id="58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619280" y="2060640"/>
              <a:ext cx="5688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22240" y="2086920"/>
              <a:ext cx="5490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37 CuadroTexto"/>
          <p:cNvSpPr/>
          <p:nvPr/>
        </p:nvSpPr>
        <p:spPr>
          <a:xfrm>
            <a:off x="1981080" y="210492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QUÉ 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30 Grupo"/>
          <p:cNvGrpSpPr/>
          <p:nvPr/>
        </p:nvGrpSpPr>
        <p:grpSpPr>
          <a:xfrm>
            <a:off x="1619280" y="3357720"/>
            <a:ext cx="5688000" cy="431640"/>
            <a:chOff x="1619280" y="3357720"/>
            <a:chExt cx="5688000" cy="431640"/>
          </a:xfrm>
        </p:grpSpPr>
        <p:grpSp>
          <p:nvGrpSpPr>
            <p:cNvPr id="62" name="36 Rectángulo redondeado"/>
            <p:cNvGrpSpPr/>
            <p:nvPr/>
          </p:nvGrpSpPr>
          <p:grpSpPr>
            <a:xfrm>
              <a:off x="1619280" y="3357720"/>
              <a:ext cx="5688000" cy="431640"/>
              <a:chOff x="1619280" y="3357720"/>
              <a:chExt cx="5688000" cy="431640"/>
            </a:xfrm>
          </p:grpSpPr>
          <p:pic>
            <p:nvPicPr>
              <p:cNvPr id="63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9280" y="335772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722240" y="338400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" name="37 CuadroTexto"/>
            <p:cNvSpPr/>
            <p:nvPr/>
          </p:nvSpPr>
          <p:spPr>
            <a:xfrm>
              <a:off x="1981080" y="340200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QUÉ PERMITE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9 Imagen" descr="Boton-redondo-griss.png"/>
          <p:cNvPicPr/>
          <p:nvPr/>
        </p:nvPicPr>
        <p:blipFill>
          <a:blip r:embed="rId4"/>
          <a:stretch/>
        </p:blipFill>
        <p:spPr>
          <a:xfrm>
            <a:off x="1752480" y="273060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67" name="9 Imagen" descr="Boton-redondo-griss.png"/>
          <p:cNvPicPr/>
          <p:nvPr/>
        </p:nvPicPr>
        <p:blipFill>
          <a:blip r:embed="rId5"/>
          <a:stretch/>
        </p:blipFill>
        <p:spPr>
          <a:xfrm>
            <a:off x="1752480" y="3949560"/>
            <a:ext cx="236520" cy="241560"/>
          </a:xfrm>
          <a:prstGeom prst="rect">
            <a:avLst/>
          </a:prstGeom>
          <a:ln w="0">
            <a:noFill/>
          </a:ln>
        </p:spPr>
      </p:pic>
      <p:pic>
        <p:nvPicPr>
          <p:cNvPr id="68" name="9 Imagen" descr="Boton-redondo-griss.png"/>
          <p:cNvPicPr/>
          <p:nvPr/>
        </p:nvPicPr>
        <p:blipFill>
          <a:blip r:embed="rId6"/>
          <a:stretch/>
        </p:blipFill>
        <p:spPr>
          <a:xfrm>
            <a:off x="1752480" y="455940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69" name="9 Imagen" descr="Boton-redondo-griss.png"/>
          <p:cNvPicPr/>
          <p:nvPr/>
        </p:nvPicPr>
        <p:blipFill>
          <a:blip r:embed="rId7"/>
          <a:stretch/>
        </p:blipFill>
        <p:spPr>
          <a:xfrm>
            <a:off x="1752480" y="425448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9 Imagen" descr="Boton-redondo-griss.png"/>
          <p:cNvPicPr/>
          <p:nvPr/>
        </p:nvPicPr>
        <p:blipFill>
          <a:blip r:embed="rId8"/>
          <a:stretch/>
        </p:blipFill>
        <p:spPr>
          <a:xfrm>
            <a:off x="1752480" y="5105520"/>
            <a:ext cx="236520" cy="241200"/>
          </a:xfrm>
          <a:prstGeom prst="rect">
            <a:avLst/>
          </a:prstGeom>
          <a:ln w="0">
            <a:noFill/>
          </a:ln>
        </p:spPr>
      </p:pic>
      <p:pic>
        <p:nvPicPr>
          <p:cNvPr id="71" name="9 Imagen" descr="Boton-redondo-griss.png"/>
          <p:cNvPicPr/>
          <p:nvPr/>
        </p:nvPicPr>
        <p:blipFill>
          <a:blip r:embed="rId9"/>
          <a:stretch/>
        </p:blipFill>
        <p:spPr>
          <a:xfrm>
            <a:off x="1752480" y="4800600"/>
            <a:ext cx="236520" cy="24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52480" y="2090880"/>
          <a:ext cx="354240" cy="347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2090880"/>
                    <a:ext cx="35424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52480" y="3386160"/>
          <a:ext cx="354240" cy="347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52480" y="3386160"/>
                    <a:ext cx="3542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38 Rectángulo redondeado"/>
          <p:cNvSpPr/>
          <p:nvPr/>
        </p:nvSpPr>
        <p:spPr>
          <a:xfrm>
            <a:off x="685800" y="129528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38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</a:rPr>
                <a:t>SISTEMA INTEGRAD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590920" y="2057400"/>
            <a:ext cx="571500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trol total de la relación del Ciudadano con el Organism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Conocimiento global y transversal del Ciudada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un modelo de gestión de toda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sinónimo de Servicio al cliente o de Gestión de clientes (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liente = Ciudadano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Herramienta diseñada a medida de las necesidades operativas de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Desarrollado utilizando exclusivamente recursos propios de la Organiz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s un sistema con distintos módul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Tiene relación otros sistem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No reemplaza a otros sistemas, es un facilitador de la aten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36 Rectángulo redondeado"/>
          <p:cNvGrpSpPr/>
          <p:nvPr/>
        </p:nvGrpSpPr>
        <p:grpSpPr>
          <a:xfrm>
            <a:off x="914400" y="2057400"/>
            <a:ext cx="1143000" cy="3733920"/>
            <a:chOff x="914400" y="2057400"/>
            <a:chExt cx="1143000" cy="3733920"/>
          </a:xfrm>
        </p:grpSpPr>
        <p:pic>
          <p:nvPicPr>
            <p:cNvPr id="391" name="3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914400" y="2057400"/>
              <a:ext cx="1143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934920" y="2284560"/>
              <a:ext cx="1103400" cy="32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ctr">
              <a:no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33520" y="2362320"/>
            <a:ext cx="1828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33cc"/>
                </a:solidFill>
                <a:latin typeface="Calibri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33cc"/>
                </a:solidFill>
                <a:latin typeface="Calibri"/>
              </a:rPr>
              <a:t>"Customer Relationship Management"</a:t>
            </a:r>
            <a:r>
              <a:rPr b="0" lang="es-AR" sz="14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9 Imagen" descr="Boton-redondo-griss.png"/>
          <p:cNvPicPr/>
          <p:nvPr/>
        </p:nvPicPr>
        <p:blipFill>
          <a:blip r:embed="rId3"/>
          <a:stretch/>
        </p:blipFill>
        <p:spPr>
          <a:xfrm>
            <a:off x="2438280" y="213372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5" name="9 Imagen" descr="Boton-redondo-griss.png"/>
          <p:cNvPicPr/>
          <p:nvPr/>
        </p:nvPicPr>
        <p:blipFill>
          <a:blip r:embed="rId4"/>
          <a:stretch/>
        </p:blipFill>
        <p:spPr>
          <a:xfrm>
            <a:off x="2438280" y="24573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96" name="9 Imagen" descr="Boton-redondo-griss.png"/>
          <p:cNvPicPr/>
          <p:nvPr/>
        </p:nvPicPr>
        <p:blipFill>
          <a:blip r:embed="rId5"/>
          <a:stretch/>
        </p:blipFill>
        <p:spPr>
          <a:xfrm>
            <a:off x="2438280" y="281952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7" name="9 Imagen" descr="Boton-redondo-griss.png"/>
          <p:cNvPicPr/>
          <p:nvPr/>
        </p:nvPicPr>
        <p:blipFill>
          <a:blip r:embed="rId6"/>
          <a:stretch/>
        </p:blipFill>
        <p:spPr>
          <a:xfrm>
            <a:off x="2438280" y="3143160"/>
            <a:ext cx="152640" cy="133560"/>
          </a:xfrm>
          <a:prstGeom prst="rect">
            <a:avLst/>
          </a:prstGeom>
          <a:ln w="0">
            <a:noFill/>
          </a:ln>
        </p:spPr>
      </p:pic>
      <p:pic>
        <p:nvPicPr>
          <p:cNvPr id="398" name="9 Imagen" descr="Boton-redondo-griss.png"/>
          <p:cNvPicPr/>
          <p:nvPr/>
        </p:nvPicPr>
        <p:blipFill>
          <a:blip r:embed="rId7"/>
          <a:stretch/>
        </p:blipFill>
        <p:spPr>
          <a:xfrm>
            <a:off x="2438280" y="367668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399" name="9 Imagen" descr="Boton-redondo-griss.png"/>
          <p:cNvPicPr/>
          <p:nvPr/>
        </p:nvPicPr>
        <p:blipFill>
          <a:blip r:embed="rId8"/>
          <a:stretch/>
        </p:blipFill>
        <p:spPr>
          <a:xfrm>
            <a:off x="2438280" y="42102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0" name="9 Imagen" descr="Boton-redondo-griss.png"/>
          <p:cNvPicPr/>
          <p:nvPr/>
        </p:nvPicPr>
        <p:blipFill>
          <a:blip r:embed="rId9"/>
          <a:stretch/>
        </p:blipFill>
        <p:spPr>
          <a:xfrm>
            <a:off x="2438280" y="45720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1" name="9 Imagen" descr="Boton-redondo-griss.png"/>
          <p:cNvPicPr/>
          <p:nvPr/>
        </p:nvPicPr>
        <p:blipFill>
          <a:blip r:embed="rId10"/>
          <a:stretch/>
        </p:blipFill>
        <p:spPr>
          <a:xfrm>
            <a:off x="2438280" y="4896000"/>
            <a:ext cx="152640" cy="133200"/>
          </a:xfrm>
          <a:prstGeom prst="rect">
            <a:avLst/>
          </a:prstGeom>
          <a:ln w="0">
            <a:noFill/>
          </a:ln>
        </p:spPr>
      </p:pic>
      <p:pic>
        <p:nvPicPr>
          <p:cNvPr id="402" name="9 Imagen" descr="Boton-redondo-griss.png"/>
          <p:cNvPicPr/>
          <p:nvPr/>
        </p:nvPicPr>
        <p:blipFill>
          <a:blip r:embed="rId11"/>
          <a:stretch/>
        </p:blipFill>
        <p:spPr>
          <a:xfrm>
            <a:off x="2438280" y="5257800"/>
            <a:ext cx="152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30 Grupo"/>
          <p:cNvGrpSpPr/>
          <p:nvPr/>
        </p:nvGrpSpPr>
        <p:grpSpPr>
          <a:xfrm>
            <a:off x="1260360" y="1940040"/>
            <a:ext cx="6480360" cy="624960"/>
            <a:chOff x="1260360" y="1940040"/>
            <a:chExt cx="6480360" cy="624960"/>
          </a:xfrm>
        </p:grpSpPr>
        <p:grpSp>
          <p:nvGrpSpPr>
            <p:cNvPr id="405" name="36 Rectángulo redondeado"/>
            <p:cNvGrpSpPr/>
            <p:nvPr/>
          </p:nvGrpSpPr>
          <p:grpSpPr>
            <a:xfrm>
              <a:off x="1260360" y="1940040"/>
              <a:ext cx="6480360" cy="431640"/>
              <a:chOff x="1260360" y="1940040"/>
              <a:chExt cx="6480360" cy="431640"/>
            </a:xfrm>
          </p:grpSpPr>
          <p:pic>
            <p:nvPicPr>
              <p:cNvPr id="40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1940040"/>
                <a:ext cx="6480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377720" y="1966320"/>
                <a:ext cx="6255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8" name="37 CuadroTexto"/>
            <p:cNvSpPr/>
            <p:nvPr/>
          </p:nvSpPr>
          <p:spPr>
            <a:xfrm>
              <a:off x="1672560" y="1984320"/>
              <a:ext cx="572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BENEFICIOS DEL USO DEL SISTEM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Rectangle 17"/>
          <p:cNvGrpSpPr/>
          <p:nvPr/>
        </p:nvGrpSpPr>
        <p:grpSpPr>
          <a:xfrm>
            <a:off x="900000" y="1484280"/>
            <a:ext cx="7272000" cy="474480"/>
            <a:chOff x="900000" y="1484280"/>
            <a:chExt cx="7272000" cy="474480"/>
          </a:xfrm>
        </p:grpSpPr>
        <p:pic>
          <p:nvPicPr>
            <p:cNvPr id="411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48428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981720" y="154152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SISTEMA INTEGRAD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785960" y="2666880"/>
            <a:ext cx="6595920" cy="307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Conocimiento integral del cliente (ciudadan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umento de la satisfacción del clientes (cumplimiento voluntari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tegración de toda la información disponi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Permite hacer campañas dirigidas a segmentos determin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oluciones en línea a través de Intern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mplementación de soluciones proactiv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54040" y="2809800"/>
            <a:ext cx="296640" cy="2752920"/>
            <a:chOff x="1454040" y="2809800"/>
            <a:chExt cx="296640" cy="2752920"/>
          </a:xfrm>
        </p:grpSpPr>
        <p:sp>
          <p:nvSpPr>
            <p:cNvPr id="415" name=""/>
            <p:cNvSpPr/>
            <p:nvPr/>
          </p:nvSpPr>
          <p:spPr>
            <a:xfrm>
              <a:off x="1569960" y="2817720"/>
              <a:ext cx="180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6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455840" y="3289320"/>
              <a:ext cx="2854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455840" y="2809800"/>
              <a:ext cx="2854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454040" y="375912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455840" y="4280040"/>
              <a:ext cx="2854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454040" y="4749840"/>
              <a:ext cx="285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9 Imagen" descr="Boton-redondo-griss.png"/>
            <p:cNvPicPr/>
            <p:nvPr/>
          </p:nvPicPr>
          <p:blipFill>
            <a:blip r:embed="rId8"/>
            <a:stretch/>
          </p:blipFill>
          <p:spPr>
            <a:xfrm>
              <a:off x="1455840" y="5270400"/>
              <a:ext cx="285480" cy="29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2997360"/>
            <a:ext cx="9144000" cy="1387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ectangle 17"/>
          <p:cNvGrpSpPr/>
          <p:nvPr/>
        </p:nvGrpSpPr>
        <p:grpSpPr>
          <a:xfrm>
            <a:off x="900000" y="1441440"/>
            <a:ext cx="7272000" cy="474480"/>
            <a:chOff x="900000" y="1441440"/>
            <a:chExt cx="7272000" cy="474480"/>
          </a:xfrm>
        </p:grpSpPr>
        <p:pic>
          <p:nvPicPr>
            <p:cNvPr id="78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44144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981720" y="149868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ÓMO SE INICIA EL PROGRAM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00200" y="4494600"/>
            <a:ext cx="6400800" cy="1553400"/>
          </a:xfrm>
          <a:prstGeom prst="roundRect">
            <a:avLst>
              <a:gd name="adj" fmla="val 13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isitas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pendencias de la AFIP y jornadas de atención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normalizan procedimientos para la gestión de reclamos y sugerencia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formaliza el programa haciéndolo exigible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30 Grupo"/>
          <p:cNvGrpSpPr/>
          <p:nvPr/>
        </p:nvGrpSpPr>
        <p:grpSpPr>
          <a:xfrm>
            <a:off x="1295280" y="2133720"/>
            <a:ext cx="6632640" cy="431640"/>
            <a:chOff x="1295280" y="2133720"/>
            <a:chExt cx="6632640" cy="431640"/>
          </a:xfrm>
        </p:grpSpPr>
        <p:grpSp>
          <p:nvGrpSpPr>
            <p:cNvPr id="82" name="36 Rectángulo redondeado"/>
            <p:cNvGrpSpPr/>
            <p:nvPr/>
          </p:nvGrpSpPr>
          <p:grpSpPr>
            <a:xfrm>
              <a:off x="1295280" y="2133720"/>
              <a:ext cx="6632640" cy="431640"/>
              <a:chOff x="1295280" y="2133720"/>
              <a:chExt cx="6632640" cy="431640"/>
            </a:xfrm>
          </p:grpSpPr>
          <p:pic>
            <p:nvPicPr>
              <p:cNvPr id="83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2133720"/>
                <a:ext cx="6632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415520" y="2160000"/>
                <a:ext cx="640188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37 CuadroTexto"/>
            <p:cNvSpPr/>
            <p:nvPr/>
          </p:nvSpPr>
          <p:spPr>
            <a:xfrm>
              <a:off x="1717200" y="2178000"/>
              <a:ext cx="58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CÓMO NACIÓ 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30 Grupo"/>
          <p:cNvGrpSpPr/>
          <p:nvPr/>
        </p:nvGrpSpPr>
        <p:grpSpPr>
          <a:xfrm>
            <a:off x="1371600" y="3962520"/>
            <a:ext cx="6556320" cy="431640"/>
            <a:chOff x="1371600" y="3962520"/>
            <a:chExt cx="6556320" cy="431640"/>
          </a:xfrm>
        </p:grpSpPr>
        <p:grpSp>
          <p:nvGrpSpPr>
            <p:cNvPr id="87" name="36 Rectángulo redondeado"/>
            <p:cNvGrpSpPr/>
            <p:nvPr/>
          </p:nvGrpSpPr>
          <p:grpSpPr>
            <a:xfrm>
              <a:off x="1371600" y="3962520"/>
              <a:ext cx="6556320" cy="431640"/>
              <a:chOff x="1371600" y="3962520"/>
              <a:chExt cx="6556320" cy="431640"/>
            </a:xfrm>
          </p:grpSpPr>
          <p:pic>
            <p:nvPicPr>
              <p:cNvPr id="88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3962520"/>
                <a:ext cx="65563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490400" y="3988800"/>
                <a:ext cx="63284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37 CuadroTexto"/>
            <p:cNvSpPr/>
            <p:nvPr/>
          </p:nvSpPr>
          <p:spPr>
            <a:xfrm>
              <a:off x="1788480" y="4006800"/>
              <a:ext cx="57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FORMALIZACIÓN DEL PROGRAM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569960" y="2561760"/>
            <a:ext cx="6497640" cy="131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pocas dependencias de la AFIP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rga manual de formulario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No existía procedimiento para la gestión de las presentaciones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9 Imagen" descr="Boton-redondo-griss.png"/>
          <p:cNvPicPr/>
          <p:nvPr/>
        </p:nvPicPr>
        <p:blipFill>
          <a:blip r:embed="rId4"/>
          <a:stretch/>
        </p:blipFill>
        <p:spPr>
          <a:xfrm>
            <a:off x="1371600" y="348300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93" name="9 Imagen" descr="Boton-redondo-griss.png"/>
          <p:cNvPicPr/>
          <p:nvPr/>
        </p:nvPicPr>
        <p:blipFill>
          <a:blip r:embed="rId5"/>
          <a:stretch/>
        </p:blipFill>
        <p:spPr>
          <a:xfrm>
            <a:off x="1371600" y="316224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4" name="9 Imagen" descr="Boton-redondo-griss.png"/>
          <p:cNvPicPr/>
          <p:nvPr/>
        </p:nvPicPr>
        <p:blipFill>
          <a:blip r:embed="rId6"/>
          <a:stretch/>
        </p:blipFill>
        <p:spPr>
          <a:xfrm>
            <a:off x="1371600" y="28414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5" name="9 Imagen" descr="Boton-redondo-griss.png"/>
          <p:cNvPicPr/>
          <p:nvPr/>
        </p:nvPicPr>
        <p:blipFill>
          <a:blip r:embed="rId7"/>
          <a:stretch/>
        </p:blipFill>
        <p:spPr>
          <a:xfrm>
            <a:off x="1371600" y="47242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96" name="9 Imagen" descr="Boton-redondo-griss.png"/>
          <p:cNvPicPr/>
          <p:nvPr/>
        </p:nvPicPr>
        <p:blipFill>
          <a:blip r:embed="rId8"/>
          <a:stretch/>
        </p:blipFill>
        <p:spPr>
          <a:xfrm>
            <a:off x="1371600" y="548640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97" name="9 Imagen" descr="Boton-redondo-griss.png"/>
          <p:cNvPicPr/>
          <p:nvPr/>
        </p:nvPicPr>
        <p:blipFill>
          <a:blip r:embed="rId9"/>
          <a:stretch/>
        </p:blipFill>
        <p:spPr>
          <a:xfrm>
            <a:off x="1371600" y="5105520"/>
            <a:ext cx="2318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8 Rectángulo redondeado"/>
          <p:cNvSpPr/>
          <p:nvPr/>
        </p:nvSpPr>
        <p:spPr>
          <a:xfrm>
            <a:off x="762120" y="16002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7"/>
          <p:cNvGrpSpPr/>
          <p:nvPr/>
        </p:nvGrpSpPr>
        <p:grpSpPr>
          <a:xfrm>
            <a:off x="838080" y="1447920"/>
            <a:ext cx="7272000" cy="474480"/>
            <a:chOff x="838080" y="1447920"/>
            <a:chExt cx="7272000" cy="474480"/>
          </a:xfrm>
        </p:grpSpPr>
        <p:pic>
          <p:nvPicPr>
            <p:cNvPr id="101" name="Rectangle 17" descr=""/>
            <p:cNvPicPr/>
            <p:nvPr/>
          </p:nvPicPr>
          <p:blipFill>
            <a:blip r:embed="rId1"/>
            <a:stretch/>
          </p:blipFill>
          <p:spPr>
            <a:xfrm>
              <a:off x="838080" y="14479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19800" y="15051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EL PROGRAMA HO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447920" y="1904040"/>
            <a:ext cx="63244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 constituye en el único canal del Organismo para la recepción de reclamos, quejas y sugerenci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tendido por personal especializado en cualquier Dependencia de Afip (Asistente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dispone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n las agencias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instalación de un espacio físico que permita una atención personalizada al ciudadano asisti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adoptan las pautas del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odelo de Atención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dentro del ejercicio de las funciones a cargo del Asist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municación del estado de la presentación dentro de las 48 hor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e definen los tiempos máximos de respuesta por parte de las distintas áreas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formación al Contribuyente sobre sus derechos y obligacio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30 Grupo"/>
          <p:cNvGrpSpPr/>
          <p:nvPr/>
        </p:nvGrpSpPr>
        <p:grpSpPr>
          <a:xfrm>
            <a:off x="1143000" y="1917720"/>
            <a:ext cx="6595920" cy="406080"/>
            <a:chOff x="1143000" y="1917720"/>
            <a:chExt cx="6595920" cy="406080"/>
          </a:xfrm>
        </p:grpSpPr>
        <p:grpSp>
          <p:nvGrpSpPr>
            <p:cNvPr id="105" name="36 Rectángulo redondeado"/>
            <p:cNvGrpSpPr/>
            <p:nvPr/>
          </p:nvGrpSpPr>
          <p:grpSpPr>
            <a:xfrm>
              <a:off x="1143000" y="1917720"/>
              <a:ext cx="6595920" cy="368280"/>
              <a:chOff x="1143000" y="1917720"/>
              <a:chExt cx="6595920" cy="368280"/>
            </a:xfrm>
          </p:grpSpPr>
          <p:pic>
            <p:nvPicPr>
              <p:cNvPr id="106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1917720"/>
                <a:ext cx="6595920" cy="3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262520" y="1940040"/>
                <a:ext cx="636660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37 CuadroTexto"/>
            <p:cNvSpPr/>
            <p:nvPr/>
          </p:nvSpPr>
          <p:spPr>
            <a:xfrm>
              <a:off x="1563120" y="1955520"/>
              <a:ext cx="582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CARACTERÍST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9 Imagen" descr="Boton-redondo-griss.png"/>
          <p:cNvPicPr/>
          <p:nvPr/>
        </p:nvPicPr>
        <p:blipFill>
          <a:blip r:embed="rId3"/>
          <a:stretch/>
        </p:blipFill>
        <p:spPr>
          <a:xfrm>
            <a:off x="1212840" y="276876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ton-redondo-griss.png"/>
          <p:cNvPicPr/>
          <p:nvPr/>
        </p:nvPicPr>
        <p:blipFill>
          <a:blip r:embed="rId4"/>
          <a:stretch/>
        </p:blipFill>
        <p:spPr>
          <a:xfrm>
            <a:off x="1212840" y="335268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111" name="9 Imagen" descr="Boton-redondo-griss.png"/>
          <p:cNvPicPr/>
          <p:nvPr/>
        </p:nvPicPr>
        <p:blipFill>
          <a:blip r:embed="rId5"/>
          <a:stretch/>
        </p:blipFill>
        <p:spPr>
          <a:xfrm>
            <a:off x="1216080" y="368316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2" name="9 Imagen" descr="Boton-redondo-griss.png"/>
          <p:cNvPicPr/>
          <p:nvPr/>
        </p:nvPicPr>
        <p:blipFill>
          <a:blip r:embed="rId6"/>
          <a:stretch/>
        </p:blipFill>
        <p:spPr>
          <a:xfrm>
            <a:off x="1216080" y="4216320"/>
            <a:ext cx="231840" cy="203400"/>
          </a:xfrm>
          <a:prstGeom prst="rect">
            <a:avLst/>
          </a:prstGeom>
          <a:ln w="0">
            <a:noFill/>
          </a:ln>
        </p:spPr>
      </p:pic>
      <p:pic>
        <p:nvPicPr>
          <p:cNvPr id="113" name="9 Imagen" descr="Boton-redondo-griss.png"/>
          <p:cNvPicPr/>
          <p:nvPr/>
        </p:nvPicPr>
        <p:blipFill>
          <a:blip r:embed="rId7"/>
          <a:stretch/>
        </p:blipFill>
        <p:spPr>
          <a:xfrm>
            <a:off x="1216080" y="474984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4" name="9 Imagen" descr="Boton-redondo-griss.png"/>
          <p:cNvPicPr/>
          <p:nvPr/>
        </p:nvPicPr>
        <p:blipFill>
          <a:blip r:embed="rId8"/>
          <a:stretch/>
        </p:blipFill>
        <p:spPr>
          <a:xfrm>
            <a:off x="1212840" y="5105520"/>
            <a:ext cx="231840" cy="203040"/>
          </a:xfrm>
          <a:prstGeom prst="rect">
            <a:avLst/>
          </a:prstGeom>
          <a:ln w="0">
            <a:noFill/>
          </a:ln>
        </p:spPr>
      </p:pic>
      <p:pic>
        <p:nvPicPr>
          <p:cNvPr id="115" name="9 Imagen" descr="Boton-redondo-griss.png"/>
          <p:cNvPicPr/>
          <p:nvPr/>
        </p:nvPicPr>
        <p:blipFill>
          <a:blip r:embed="rId9"/>
          <a:stretch/>
        </p:blipFill>
        <p:spPr>
          <a:xfrm>
            <a:off x="1216080" y="5410080"/>
            <a:ext cx="23184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36 Rectángulo redondeado"/>
          <p:cNvGrpSpPr/>
          <p:nvPr/>
        </p:nvGrpSpPr>
        <p:grpSpPr>
          <a:xfrm>
            <a:off x="2209680" y="2060640"/>
            <a:ext cx="6021360" cy="1873080"/>
            <a:chOff x="2209680" y="2060640"/>
            <a:chExt cx="6021360" cy="1873080"/>
          </a:xfrm>
        </p:grpSpPr>
        <p:pic>
          <p:nvPicPr>
            <p:cNvPr id="118" name="36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09680" y="2060640"/>
              <a:ext cx="6021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318760" y="2174400"/>
              <a:ext cx="581184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122" name="Rectangle 17" descr=""/>
            <p:cNvPicPr/>
            <p:nvPr/>
          </p:nvPicPr>
          <p:blipFill>
            <a:blip r:embed="rId2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SISTENTE AL CIUDADA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28920" y="2400840"/>
            <a:ext cx="5807160" cy="1262520"/>
          </a:xfrm>
          <a:prstGeom prst="roundRect">
            <a:avLst>
              <a:gd name="adj" fmla="val 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doneidad, Integridad y Vocación de servi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redisposición para desarrollar la tarea encomendada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ocimientos técnicos en materia: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mpositiva,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uanera y de los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cursos de la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guridad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ocial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7 CuadroTexto"/>
          <p:cNvSpPr/>
          <p:nvPr/>
        </p:nvSpPr>
        <p:spPr>
          <a:xfrm>
            <a:off x="900000" y="25653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PERF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36 Rectángulo redondeado"/>
          <p:cNvGrpSpPr/>
          <p:nvPr/>
        </p:nvGrpSpPr>
        <p:grpSpPr>
          <a:xfrm>
            <a:off x="2209680" y="4005360"/>
            <a:ext cx="6019920" cy="1944720"/>
            <a:chOff x="2209680" y="4005360"/>
            <a:chExt cx="6019920" cy="1944720"/>
          </a:xfrm>
        </p:grpSpPr>
        <p:pic>
          <p:nvPicPr>
            <p:cNvPr id="127" name="3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09680" y="4005360"/>
              <a:ext cx="601992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318760" y="4123800"/>
              <a:ext cx="581040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406600" y="4019400"/>
            <a:ext cx="6032520" cy="1747080"/>
          </a:xfrm>
          <a:prstGeom prst="roundRect">
            <a:avLst>
              <a:gd name="adj" fmla="val 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tender los reclamos y sugerenci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oteger los derechos garantías e intereses de los administrad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iciar o proseguir cualquier tramitación conducente a solucionar el reclamo present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Iniciar proyectos con objeto de incrementar la calidad en el servici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7 CuadroTexto"/>
          <p:cNvSpPr/>
          <p:nvPr/>
        </p:nvSpPr>
        <p:spPr>
          <a:xfrm>
            <a:off x="900000" y="451008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Arial"/>
              </a:rPr>
              <a:t>FUN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9 Imagen" descr="Boton-redondo-griss.png"/>
          <p:cNvPicPr/>
          <p:nvPr/>
        </p:nvPicPr>
        <p:blipFill>
          <a:blip r:embed="rId4"/>
          <a:stretch/>
        </p:blipFill>
        <p:spPr>
          <a:xfrm>
            <a:off x="2362320" y="25146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2" name="9 Imagen" descr="Boton-redondo-griss.png"/>
          <p:cNvPicPr/>
          <p:nvPr/>
        </p:nvPicPr>
        <p:blipFill>
          <a:blip r:embed="rId5"/>
          <a:stretch/>
        </p:blipFill>
        <p:spPr>
          <a:xfrm>
            <a:off x="2362320" y="28386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3" name="9 Imagen" descr="Boton-redondo-griss.png"/>
          <p:cNvPicPr/>
          <p:nvPr/>
        </p:nvPicPr>
        <p:blipFill>
          <a:blip r:embed="rId6"/>
          <a:stretch/>
        </p:blipFill>
        <p:spPr>
          <a:xfrm>
            <a:off x="2362320" y="320040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4" name="9 Imagen" descr="Boton-redondo-griss.png"/>
          <p:cNvPicPr/>
          <p:nvPr/>
        </p:nvPicPr>
        <p:blipFill>
          <a:blip r:embed="rId7"/>
          <a:stretch/>
        </p:blipFill>
        <p:spPr>
          <a:xfrm>
            <a:off x="2362320" y="4267080"/>
            <a:ext cx="152280" cy="133560"/>
          </a:xfrm>
          <a:prstGeom prst="rect">
            <a:avLst/>
          </a:prstGeom>
          <a:ln w="0">
            <a:noFill/>
          </a:ln>
        </p:spPr>
      </p:pic>
      <p:pic>
        <p:nvPicPr>
          <p:cNvPr id="135" name="9 Imagen" descr="Boton-redondo-griss.png"/>
          <p:cNvPicPr/>
          <p:nvPr/>
        </p:nvPicPr>
        <p:blipFill>
          <a:blip r:embed="rId8"/>
          <a:stretch/>
        </p:blipFill>
        <p:spPr>
          <a:xfrm>
            <a:off x="2362320" y="4591080"/>
            <a:ext cx="152280" cy="133200"/>
          </a:xfrm>
          <a:prstGeom prst="rect">
            <a:avLst/>
          </a:prstGeom>
          <a:ln w="0">
            <a:noFill/>
          </a:ln>
        </p:spPr>
      </p:pic>
      <p:pic>
        <p:nvPicPr>
          <p:cNvPr id="136" name="9 Imagen" descr="Boton-redondo-griss.png"/>
          <p:cNvPicPr/>
          <p:nvPr/>
        </p:nvPicPr>
        <p:blipFill>
          <a:blip r:embed="rId9"/>
          <a:stretch/>
        </p:blipFill>
        <p:spPr>
          <a:xfrm>
            <a:off x="2362320" y="4952880"/>
            <a:ext cx="152280" cy="1335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Boton-redondo-griss.png"/>
          <p:cNvPicPr/>
          <p:nvPr/>
        </p:nvPicPr>
        <p:blipFill>
          <a:blip r:embed="rId10"/>
          <a:stretch/>
        </p:blipFill>
        <p:spPr>
          <a:xfrm>
            <a:off x="2362320" y="5486400"/>
            <a:ext cx="1522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Rectangle 17"/>
          <p:cNvGrpSpPr/>
          <p:nvPr/>
        </p:nvGrpSpPr>
        <p:grpSpPr>
          <a:xfrm>
            <a:off x="900000" y="1585800"/>
            <a:ext cx="7272000" cy="474480"/>
            <a:chOff x="900000" y="1585800"/>
            <a:chExt cx="7272000" cy="474480"/>
          </a:xfrm>
        </p:grpSpPr>
        <p:pic>
          <p:nvPicPr>
            <p:cNvPr id="141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8580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81720" y="164304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ALC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Texto 4"/>
          <p:cNvSpPr/>
          <p:nvPr/>
        </p:nvSpPr>
        <p:spPr>
          <a:xfrm>
            <a:off x="1600200" y="2381760"/>
            <a:ext cx="631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presentación de un reclamo no interrumpe la vía recursi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sentación de un reclamo no podrá ser utilizada como medio de prueba para oponer recursos ante Afip u otra autoridad compet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ama de Asistencia al Ciudadano no recepciona denuncias impositivas, previsionales y/o aduane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9 Imagen" descr="Boton-redondo-griss.png"/>
          <p:cNvPicPr/>
          <p:nvPr/>
        </p:nvPicPr>
        <p:blipFill>
          <a:blip r:embed="rId2"/>
          <a:stretch/>
        </p:blipFill>
        <p:spPr>
          <a:xfrm>
            <a:off x="1046160" y="435600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145" name="9 Imagen" descr="Boton-redondo-griss.png"/>
          <p:cNvPicPr/>
          <p:nvPr/>
        </p:nvPicPr>
        <p:blipFill>
          <a:blip r:embed="rId3"/>
          <a:stretch/>
        </p:blipFill>
        <p:spPr>
          <a:xfrm>
            <a:off x="1066680" y="3276720"/>
            <a:ext cx="285840" cy="291960"/>
          </a:xfrm>
          <a:prstGeom prst="rect">
            <a:avLst/>
          </a:prstGeom>
          <a:ln w="0">
            <a:noFill/>
          </a:ln>
        </p:spPr>
      </p:pic>
      <p:pic>
        <p:nvPicPr>
          <p:cNvPr id="146" name="9 Imagen" descr="Boton-redondo-griss.png"/>
          <p:cNvPicPr/>
          <p:nvPr/>
        </p:nvPicPr>
        <p:blipFill>
          <a:blip r:embed="rId4"/>
          <a:stretch/>
        </p:blipFill>
        <p:spPr>
          <a:xfrm>
            <a:off x="1066680" y="2743200"/>
            <a:ext cx="2858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30 Grupo"/>
          <p:cNvGrpSpPr/>
          <p:nvPr/>
        </p:nvGrpSpPr>
        <p:grpSpPr>
          <a:xfrm>
            <a:off x="3492360" y="2924280"/>
            <a:ext cx="2016360" cy="2714400"/>
            <a:chOff x="3492360" y="2924280"/>
            <a:chExt cx="2016360" cy="2714400"/>
          </a:xfrm>
        </p:grpSpPr>
        <p:grpSp>
          <p:nvGrpSpPr>
            <p:cNvPr id="151" name="36 Rectángulo redondeado"/>
            <p:cNvGrpSpPr/>
            <p:nvPr/>
          </p:nvGrpSpPr>
          <p:grpSpPr>
            <a:xfrm>
              <a:off x="3492360" y="2924280"/>
              <a:ext cx="2016360" cy="2714400"/>
              <a:chOff x="3492360" y="2924280"/>
              <a:chExt cx="2016360" cy="2714400"/>
            </a:xfrm>
          </p:grpSpPr>
          <p:pic>
            <p:nvPicPr>
              <p:cNvPr id="152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360" y="2924280"/>
                <a:ext cx="20163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2872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37 CuadroTexto"/>
            <p:cNvSpPr/>
            <p:nvPr/>
          </p:nvSpPr>
          <p:spPr>
            <a:xfrm>
              <a:off x="3620880" y="3322440"/>
              <a:ext cx="1779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30 Grupo"/>
          <p:cNvGrpSpPr/>
          <p:nvPr/>
        </p:nvGrpSpPr>
        <p:grpSpPr>
          <a:xfrm>
            <a:off x="5651640" y="2924280"/>
            <a:ext cx="2016000" cy="2714400"/>
            <a:chOff x="5651640" y="2924280"/>
            <a:chExt cx="2016000" cy="2714400"/>
          </a:xfrm>
        </p:grpSpPr>
        <p:grpSp>
          <p:nvGrpSpPr>
            <p:cNvPr id="156" name="36 Rectángulo redondeado"/>
            <p:cNvGrpSpPr/>
            <p:nvPr/>
          </p:nvGrpSpPr>
          <p:grpSpPr>
            <a:xfrm>
              <a:off x="5651640" y="2924280"/>
              <a:ext cx="2016000" cy="2714400"/>
              <a:chOff x="5651640" y="2924280"/>
              <a:chExt cx="2016000" cy="2714400"/>
            </a:xfrm>
          </p:grpSpPr>
          <p:pic>
            <p:nvPicPr>
              <p:cNvPr id="15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2924280"/>
                <a:ext cx="201600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68800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37 CuadroTexto"/>
            <p:cNvSpPr/>
            <p:nvPr/>
          </p:nvSpPr>
          <p:spPr>
            <a:xfrm>
              <a:off x="5780160" y="3322440"/>
              <a:ext cx="1779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Rectangle 17"/>
          <p:cNvGrpSpPr/>
          <p:nvPr/>
        </p:nvGrpSpPr>
        <p:grpSpPr>
          <a:xfrm>
            <a:off x="900000" y="1628640"/>
            <a:ext cx="7078680" cy="474480"/>
            <a:chOff x="900000" y="1628640"/>
            <a:chExt cx="7078680" cy="474480"/>
          </a:xfrm>
        </p:grpSpPr>
        <p:pic>
          <p:nvPicPr>
            <p:cNvPr id="161" name="Rectangle 17" descr=""/>
            <p:cNvPicPr/>
            <p:nvPr/>
          </p:nvPicPr>
          <p:blipFill>
            <a:blip r:embed="rId3"/>
            <a:stretch/>
          </p:blipFill>
          <p:spPr>
            <a:xfrm>
              <a:off x="900000" y="162864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SIDERACIONES GENERAL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30 Grupo"/>
          <p:cNvGrpSpPr/>
          <p:nvPr/>
        </p:nvGrpSpPr>
        <p:grpSpPr>
          <a:xfrm>
            <a:off x="1330200" y="2924280"/>
            <a:ext cx="2016360" cy="2714400"/>
            <a:chOff x="1330200" y="2924280"/>
            <a:chExt cx="2016360" cy="2714400"/>
          </a:xfrm>
        </p:grpSpPr>
        <p:grpSp>
          <p:nvGrpSpPr>
            <p:cNvPr id="164" name="36 Rectángulo redondeado"/>
            <p:cNvGrpSpPr/>
            <p:nvPr/>
          </p:nvGrpSpPr>
          <p:grpSpPr>
            <a:xfrm>
              <a:off x="1330200" y="2924280"/>
              <a:ext cx="2016360" cy="2714400"/>
              <a:chOff x="1330200" y="2924280"/>
              <a:chExt cx="2016360" cy="2714400"/>
            </a:xfrm>
          </p:grpSpPr>
          <p:pic>
            <p:nvPicPr>
              <p:cNvPr id="165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0200" y="2924280"/>
                <a:ext cx="2016360" cy="27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366560" y="3089520"/>
                <a:ext cx="1946160" cy="23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37 CuadroTexto"/>
            <p:cNvSpPr/>
            <p:nvPr/>
          </p:nvSpPr>
          <p:spPr>
            <a:xfrm>
              <a:off x="1458720" y="3322440"/>
              <a:ext cx="1779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Rectangle 9"/>
          <p:cNvGrpSpPr/>
          <p:nvPr/>
        </p:nvGrpSpPr>
        <p:grpSpPr>
          <a:xfrm>
            <a:off x="1042920" y="2133720"/>
            <a:ext cx="6842160" cy="720720"/>
            <a:chOff x="1042920" y="2133720"/>
            <a:chExt cx="6842160" cy="720720"/>
          </a:xfrm>
        </p:grpSpPr>
        <p:pic>
          <p:nvPicPr>
            <p:cNvPr id="169" name="Rectangle 9" descr=""/>
            <p:cNvPicPr/>
            <p:nvPr/>
          </p:nvPicPr>
          <p:blipFill>
            <a:blip r:embed="rId5"/>
            <a:stretch/>
          </p:blipFill>
          <p:spPr>
            <a:xfrm>
              <a:off x="1042920" y="2133720"/>
              <a:ext cx="68421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287360" y="2217240"/>
              <a:ext cx="636480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ARA DISTINGUI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47920" y="3048120"/>
            <a:ext cx="18288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RECL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xpresión de disgusto, insatisfacción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isconformida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de los ciudadanos,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or cualquier inconveniente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que altere la relación Fisco-Contribuyente.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068640"/>
            <a:ext cx="1828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QUE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xpresión de desazón, producto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d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nconveniente que altera la relación Fisco-Contribuyen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5794200" y="3044880"/>
            <a:ext cx="1729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SUGERENC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niciativa formulada por los ciudadanos para mejorar la calidad de los servicios</a:t>
            </a: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8 Rectángulo redondeado"/>
          <p:cNvSpPr/>
          <p:nvPr/>
        </p:nvSpPr>
        <p:spPr>
          <a:xfrm>
            <a:off x="685800" y="13716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177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CANALES DE RECEP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CuadroTexto 17"/>
          <p:cNvSpPr/>
          <p:nvPr/>
        </p:nvSpPr>
        <p:spPr>
          <a:xfrm>
            <a:off x="2141640" y="2651040"/>
            <a:ext cx="273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afip.gob.ar/reclamo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uadroTexto 20"/>
          <p:cNvSpPr/>
          <p:nvPr/>
        </p:nvSpPr>
        <p:spPr>
          <a:xfrm>
            <a:off x="5915160" y="2666880"/>
            <a:ext cx="178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810 999 234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ción 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uadroTexto 21"/>
          <p:cNvSpPr/>
          <p:nvPr/>
        </p:nvSpPr>
        <p:spPr>
          <a:xfrm>
            <a:off x="3962520" y="396252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 todas las dependencias del paí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30 Grupo"/>
          <p:cNvGrpSpPr/>
          <p:nvPr/>
        </p:nvGrpSpPr>
        <p:grpSpPr>
          <a:xfrm>
            <a:off x="3809880" y="3429000"/>
            <a:ext cx="2449800" cy="431640"/>
            <a:chOff x="3809880" y="3429000"/>
            <a:chExt cx="2449800" cy="431640"/>
          </a:xfrm>
        </p:grpSpPr>
        <p:grpSp>
          <p:nvGrpSpPr>
            <p:cNvPr id="183" name="36 Rectángulo redondeado"/>
            <p:cNvGrpSpPr/>
            <p:nvPr/>
          </p:nvGrpSpPr>
          <p:grpSpPr>
            <a:xfrm>
              <a:off x="3809880" y="3429000"/>
              <a:ext cx="2449800" cy="431640"/>
              <a:chOff x="3809880" y="3429000"/>
              <a:chExt cx="2449800" cy="431640"/>
            </a:xfrm>
          </p:grpSpPr>
          <p:pic>
            <p:nvPicPr>
              <p:cNvPr id="184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9880" y="3429000"/>
                <a:ext cx="24498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854160" y="3455280"/>
                <a:ext cx="23648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37 CuadroTexto"/>
            <p:cNvSpPr/>
            <p:nvPr/>
          </p:nvSpPr>
          <p:spPr>
            <a:xfrm>
              <a:off x="3965400" y="3473280"/>
              <a:ext cx="21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Calibri"/>
                </a:rPr>
                <a:t>PRESENC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30 Grupo"/>
          <p:cNvGrpSpPr/>
          <p:nvPr/>
        </p:nvGrpSpPr>
        <p:grpSpPr>
          <a:xfrm>
            <a:off x="2286000" y="2286000"/>
            <a:ext cx="1962000" cy="345960"/>
            <a:chOff x="2286000" y="2286000"/>
            <a:chExt cx="1962000" cy="345960"/>
          </a:xfrm>
        </p:grpSpPr>
        <p:grpSp>
          <p:nvGrpSpPr>
            <p:cNvPr id="188" name="36 Rectángulo redondeado"/>
            <p:cNvGrpSpPr/>
            <p:nvPr/>
          </p:nvGrpSpPr>
          <p:grpSpPr>
            <a:xfrm>
              <a:off x="2286000" y="2286000"/>
              <a:ext cx="1962000" cy="345960"/>
              <a:chOff x="2286000" y="2286000"/>
              <a:chExt cx="1962000" cy="345960"/>
            </a:xfrm>
          </p:grpSpPr>
          <p:pic>
            <p:nvPicPr>
              <p:cNvPr id="189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2286000"/>
                <a:ext cx="19620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321280" y="2306880"/>
                <a:ext cx="1893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" name="37 CuadroTexto"/>
            <p:cNvSpPr/>
            <p:nvPr/>
          </p:nvSpPr>
          <p:spPr>
            <a:xfrm>
              <a:off x="2411280" y="232092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ÍA W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30 Grupo"/>
          <p:cNvGrpSpPr/>
          <p:nvPr/>
        </p:nvGrpSpPr>
        <p:grpSpPr>
          <a:xfrm>
            <a:off x="5810400" y="2209680"/>
            <a:ext cx="1962000" cy="346320"/>
            <a:chOff x="5810400" y="2209680"/>
            <a:chExt cx="1962000" cy="346320"/>
          </a:xfrm>
        </p:grpSpPr>
        <p:grpSp>
          <p:nvGrpSpPr>
            <p:cNvPr id="193" name="36 Rectángulo redondeado"/>
            <p:cNvGrpSpPr/>
            <p:nvPr/>
          </p:nvGrpSpPr>
          <p:grpSpPr>
            <a:xfrm>
              <a:off x="5810400" y="2209680"/>
              <a:ext cx="1962000" cy="346320"/>
              <a:chOff x="5810400" y="2209680"/>
              <a:chExt cx="1962000" cy="346320"/>
            </a:xfrm>
          </p:grpSpPr>
          <p:pic>
            <p:nvPicPr>
              <p:cNvPr id="194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0400" y="2209680"/>
                <a:ext cx="19620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845680" y="2230560"/>
                <a:ext cx="18939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37 CuadroTexto"/>
            <p:cNvSpPr/>
            <p:nvPr/>
          </p:nvSpPr>
          <p:spPr>
            <a:xfrm>
              <a:off x="5935680" y="2244600"/>
              <a:ext cx="173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LEFÓN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762120" y="4800600"/>
          <a:ext cx="251460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800600"/>
                    <a:ext cx="2514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0481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371600" y="217008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4952880" y="2131920"/>
            <a:ext cx="6922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GRAMA DE ASISTENCIA AL CIUDAD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8 Rectángulo redondeado"/>
          <p:cNvSpPr/>
          <p:nvPr/>
        </p:nvSpPr>
        <p:spPr>
          <a:xfrm>
            <a:off x="75564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Rectangle 17"/>
          <p:cNvGrpSpPr/>
          <p:nvPr/>
        </p:nvGrpSpPr>
        <p:grpSpPr>
          <a:xfrm>
            <a:off x="900000" y="1514520"/>
            <a:ext cx="7272000" cy="474480"/>
            <a:chOff x="900000" y="1514520"/>
            <a:chExt cx="7272000" cy="474480"/>
          </a:xfrm>
        </p:grpSpPr>
        <p:pic>
          <p:nvPicPr>
            <p:cNvPr id="20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514520"/>
              <a:ext cx="72720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981720" y="1571760"/>
              <a:ext cx="7117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ROCEDIMIENTO DE CARG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876640" cy="3800520"/>
          </a:xfrm>
          <a:prstGeom prst="rect">
            <a:avLst/>
          </a:prstGeom>
          <a:ln w="0">
            <a:noFill/>
          </a:ln>
        </p:spPr>
      </p:pic>
      <p:sp>
        <p:nvSpPr>
          <p:cNvPr id="208" name="Oval 9"/>
          <p:cNvSpPr/>
          <p:nvPr/>
        </p:nvSpPr>
        <p:spPr>
          <a:xfrm>
            <a:off x="1981080" y="2057400"/>
            <a:ext cx="297180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1981080" y="3200400"/>
            <a:ext cx="297180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5T17:07:40Z</dcterms:modified>
  <cp:revision>296</cp:revision>
  <dc:subject/>
  <dc:title>Diapositiva 1</dc:title>
</cp:coreProperties>
</file>