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04D-EA0C-46F6-B36C-CECF5C9D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C2A-0BA0-4CD7-98CA-B8DA5E70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66D-1398-4612-8BB8-7BABB043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C4D-2CD9-412B-86F1-0994DA83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4FB4-7A82-4FE1-885C-D7C2991A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1A23-BCE9-4EE7-AC10-DF3EAF61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04B1-71DE-4877-9172-FF8F8DE1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0B79-C5BB-4EEF-9DBD-BDD553AF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89E5-ECA9-47C0-A420-8872ED29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AB37-20FE-471F-AE22-3AEC692F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36D0-A74E-4FB1-A7E2-6C2AC29A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781-3FD0-4C93-8A7B-D8AB04BC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20EA-04FB-46F7-B6F7-20410D3F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37E2-2F63-4EA8-A37F-1D682446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29C5-88BC-4210-AEBB-AA733478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47E1-4B5D-4E4D-8B2A-1B159C79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9687-8078-4CC0-B976-13412CF7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F85-E337-4E09-9D82-768B13BD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C80-BE3C-45B6-A88E-A4C5FA76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54F-43B7-4001-A076-DFD4A7EE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B44-2D3B-41E2-855E-1E3C0CE6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145-F2E0-4289-8A40-B528443A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1E3-5B66-4907-B000-651F158C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61F-2955-4B7F-BC98-24430411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297B-D914-4F0D-9334-DA2F6CB75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2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53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18 Grupo" descr=""/>
          <p:cNvPicPr/>
          <p:nvPr/>
        </p:nvPicPr>
        <p:blipFill>
          <a:blip r:embed="rId5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6" name="22 Imagen" descr="Boton-redondo-griss.png"/>
          <p:cNvPicPr/>
          <p:nvPr/>
        </p:nvPicPr>
        <p:blipFill>
          <a:blip r:embed="rId6"/>
          <a:stretch/>
        </p:blipFill>
        <p:spPr>
          <a:xfrm>
            <a:off x="8429760" y="59292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23 Imagen" descr="logo AFIP TRANSP.png"/>
          <p:cNvPicPr/>
          <p:nvPr/>
        </p:nvPicPr>
        <p:blipFill>
          <a:blip r:embed="rId7"/>
          <a:stretch/>
        </p:blipFill>
        <p:spPr>
          <a:xfrm>
            <a:off x="369720" y="561960"/>
            <a:ext cx="1428840" cy="41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65C8-F8F1-41DA-B19F-877CD34CF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2771640" y="692280"/>
            <a:ext cx="577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30 Grupo"/>
          <p:cNvGrpSpPr/>
          <p:nvPr/>
        </p:nvGrpSpPr>
        <p:grpSpPr>
          <a:xfrm>
            <a:off x="1116000" y="2133720"/>
            <a:ext cx="6335640" cy="503280"/>
            <a:chOff x="1116000" y="2133720"/>
            <a:chExt cx="6335640" cy="503280"/>
          </a:xfrm>
        </p:grpSpPr>
        <p:grpSp>
          <p:nvGrpSpPr>
            <p:cNvPr id="302" name="36 Rectángulo redondeado"/>
            <p:cNvGrpSpPr/>
            <p:nvPr/>
          </p:nvGrpSpPr>
          <p:grpSpPr>
            <a:xfrm>
              <a:off x="1116000" y="2133720"/>
              <a:ext cx="6335640" cy="503280"/>
              <a:chOff x="1116000" y="2133720"/>
              <a:chExt cx="6335640" cy="503280"/>
            </a:xfrm>
          </p:grpSpPr>
          <p:pic>
            <p:nvPicPr>
              <p:cNvPr id="303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2133720"/>
                <a:ext cx="633564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1230840" y="2164320"/>
                <a:ext cx="61153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5" name="37 CuadroTexto"/>
            <p:cNvSpPr/>
            <p:nvPr/>
          </p:nvSpPr>
          <p:spPr>
            <a:xfrm>
              <a:off x="1519200" y="2185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TEMÁTIC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15 Grupo"/>
          <p:cNvGrpSpPr/>
          <p:nvPr/>
        </p:nvGrpSpPr>
        <p:grpSpPr>
          <a:xfrm>
            <a:off x="1258920" y="3068640"/>
            <a:ext cx="6680160" cy="642600"/>
            <a:chOff x="1258920" y="3068640"/>
            <a:chExt cx="6680160" cy="642600"/>
          </a:xfrm>
        </p:grpSpPr>
        <p:pic>
          <p:nvPicPr>
            <p:cNvPr id="307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258920" y="3102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14 CuadroTexto"/>
            <p:cNvSpPr/>
            <p:nvPr/>
          </p:nvSpPr>
          <p:spPr>
            <a:xfrm>
              <a:off x="1581120" y="306864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Normativa: entiende sobre normas legales, procedimientos, trámites y cuestiones generales del organism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15 Grupo"/>
          <p:cNvGrpSpPr/>
          <p:nvPr/>
        </p:nvGrpSpPr>
        <p:grpSpPr>
          <a:xfrm>
            <a:off x="1258920" y="3860640"/>
            <a:ext cx="6680160" cy="642600"/>
            <a:chOff x="1258920" y="3860640"/>
            <a:chExt cx="6680160" cy="642600"/>
          </a:xfrm>
        </p:grpSpPr>
        <p:pic>
          <p:nvPicPr>
            <p:cNvPr id="310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258920" y="3894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14 CuadroTexto"/>
            <p:cNvSpPr/>
            <p:nvPr/>
          </p:nvSpPr>
          <p:spPr>
            <a:xfrm>
              <a:off x="1581120" y="386064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Aplicativos y sistemas: entiende sobre la instalación y utilización de aplicativos, sistemas, servicios web y la resolución de errores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15 Grupo"/>
          <p:cNvGrpSpPr/>
          <p:nvPr/>
        </p:nvGrpSpPr>
        <p:grpSpPr>
          <a:xfrm>
            <a:off x="1258920" y="4653000"/>
            <a:ext cx="6680160" cy="916920"/>
            <a:chOff x="1258920" y="4653000"/>
            <a:chExt cx="6680160" cy="916920"/>
          </a:xfrm>
        </p:grpSpPr>
        <p:pic>
          <p:nvPicPr>
            <p:cNvPr id="31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258920" y="4686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14 CuadroTexto"/>
            <p:cNvSpPr/>
            <p:nvPr/>
          </p:nvSpPr>
          <p:spPr>
            <a:xfrm>
              <a:off x="1581120" y="4653000"/>
              <a:ext cx="63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Denuncias: conformado por un grupo de agentes especializados en la recepción de denuncias de índole impositiva, previsional y aduanera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2771640" y="692280"/>
            <a:ext cx="572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30 Grupo"/>
          <p:cNvGrpSpPr/>
          <p:nvPr/>
        </p:nvGrpSpPr>
        <p:grpSpPr>
          <a:xfrm>
            <a:off x="1116000" y="1844640"/>
            <a:ext cx="6335640" cy="432000"/>
            <a:chOff x="1116000" y="1844640"/>
            <a:chExt cx="6335640" cy="432000"/>
          </a:xfrm>
        </p:grpSpPr>
        <p:grpSp>
          <p:nvGrpSpPr>
            <p:cNvPr id="319" name="36 Rectángulo redondeado"/>
            <p:cNvGrpSpPr/>
            <p:nvPr/>
          </p:nvGrpSpPr>
          <p:grpSpPr>
            <a:xfrm>
              <a:off x="1116000" y="1844640"/>
              <a:ext cx="6335640" cy="432000"/>
              <a:chOff x="1116000" y="1844640"/>
              <a:chExt cx="6335640" cy="432000"/>
            </a:xfrm>
          </p:grpSpPr>
          <p:pic>
            <p:nvPicPr>
              <p:cNvPr id="320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844640"/>
                <a:ext cx="63356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1230840" y="1870920"/>
                <a:ext cx="611532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37 CuadroTexto"/>
            <p:cNvSpPr/>
            <p:nvPr/>
          </p:nvSpPr>
          <p:spPr>
            <a:xfrm>
              <a:off x="1519200" y="1888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GRUPO DE APOYO/CONTROL DE CALIDA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15 Grupo"/>
          <p:cNvGrpSpPr/>
          <p:nvPr/>
        </p:nvGrpSpPr>
        <p:grpSpPr>
          <a:xfrm>
            <a:off x="1042920" y="2852640"/>
            <a:ext cx="6842160" cy="2288520"/>
            <a:chOff x="1042920" y="2852640"/>
            <a:chExt cx="6842160" cy="2288520"/>
          </a:xfrm>
        </p:grpSpPr>
        <p:pic>
          <p:nvPicPr>
            <p:cNvPr id="324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042920" y="2886480"/>
              <a:ext cx="2926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14 CuadroTexto"/>
            <p:cNvSpPr/>
            <p:nvPr/>
          </p:nvSpPr>
          <p:spPr>
            <a:xfrm>
              <a:off x="1373040" y="2852640"/>
              <a:ext cx="6512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Existe un equipo de trabajo destinado a asistir en las tareas correspondientes al CIT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Brindando capacitaciones,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ealizando monitoreos del servicio brindado por los operadores 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enerando informes estadístico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2843280" y="692280"/>
            <a:ext cx="55864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30 Grupo"/>
          <p:cNvGrpSpPr/>
          <p:nvPr/>
        </p:nvGrpSpPr>
        <p:grpSpPr>
          <a:xfrm>
            <a:off x="1116000" y="1844640"/>
            <a:ext cx="6335640" cy="432000"/>
            <a:chOff x="1116000" y="1844640"/>
            <a:chExt cx="6335640" cy="432000"/>
          </a:xfrm>
        </p:grpSpPr>
        <p:grpSp>
          <p:nvGrpSpPr>
            <p:cNvPr id="330" name="36 Rectángulo redondeado"/>
            <p:cNvGrpSpPr/>
            <p:nvPr/>
          </p:nvGrpSpPr>
          <p:grpSpPr>
            <a:xfrm>
              <a:off x="1116000" y="1844640"/>
              <a:ext cx="6335640" cy="432000"/>
              <a:chOff x="1116000" y="1844640"/>
              <a:chExt cx="6335640" cy="432000"/>
            </a:xfrm>
          </p:grpSpPr>
          <p:pic>
            <p:nvPicPr>
              <p:cNvPr id="331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844640"/>
                <a:ext cx="63356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1230840" y="1870920"/>
                <a:ext cx="611532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3" name="37 CuadroTexto"/>
            <p:cNvSpPr/>
            <p:nvPr/>
          </p:nvSpPr>
          <p:spPr>
            <a:xfrm>
              <a:off x="1519200" y="1888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CAPITAL HUMAN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15 Grupo"/>
          <p:cNvGrpSpPr/>
          <p:nvPr/>
        </p:nvGrpSpPr>
        <p:grpSpPr>
          <a:xfrm>
            <a:off x="1116000" y="2421000"/>
            <a:ext cx="6680160" cy="642600"/>
            <a:chOff x="1116000" y="2421000"/>
            <a:chExt cx="6680160" cy="642600"/>
          </a:xfrm>
        </p:grpSpPr>
        <p:pic>
          <p:nvPicPr>
            <p:cNvPr id="33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116000" y="2454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14 CuadroTexto"/>
            <p:cNvSpPr/>
            <p:nvPr/>
          </p:nvSpPr>
          <p:spPr>
            <a:xfrm>
              <a:off x="1438200" y="2421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El personal es altamente capacitado y posee opciones de autodesarroll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15 Grupo"/>
          <p:cNvGrpSpPr/>
          <p:nvPr/>
        </p:nvGrpSpPr>
        <p:grpSpPr>
          <a:xfrm>
            <a:off x="1116000" y="3141720"/>
            <a:ext cx="6680160" cy="642600"/>
            <a:chOff x="1116000" y="3141720"/>
            <a:chExt cx="6680160" cy="642600"/>
          </a:xfrm>
        </p:grpSpPr>
        <p:pic>
          <p:nvPicPr>
            <p:cNvPr id="338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116000" y="3175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14 CuadroTexto"/>
            <p:cNvSpPr/>
            <p:nvPr/>
          </p:nvSpPr>
          <p:spPr>
            <a:xfrm>
              <a:off x="1438200" y="314172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easignación interna de personal, rotación de tareas, integración en proyectos e incentivación del trabajo en equip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15 Grupo"/>
          <p:cNvGrpSpPr/>
          <p:nvPr/>
        </p:nvGrpSpPr>
        <p:grpSpPr>
          <a:xfrm>
            <a:off x="1116000" y="4724280"/>
            <a:ext cx="6680160" cy="642600"/>
            <a:chOff x="1116000" y="4724280"/>
            <a:chExt cx="6680160" cy="642600"/>
          </a:xfrm>
        </p:grpSpPr>
        <p:pic>
          <p:nvPicPr>
            <p:cNvPr id="341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116000" y="475812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14 CuadroTexto"/>
            <p:cNvSpPr/>
            <p:nvPr/>
          </p:nvSpPr>
          <p:spPr>
            <a:xfrm>
              <a:off x="1438200" y="472428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En el área se fomenta un clima de trabajo favorable, propiciando en todo momento el trabajo en equip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15 Grupo"/>
          <p:cNvGrpSpPr/>
          <p:nvPr/>
        </p:nvGrpSpPr>
        <p:grpSpPr>
          <a:xfrm>
            <a:off x="1116000" y="3933720"/>
            <a:ext cx="6680160" cy="642600"/>
            <a:chOff x="1116000" y="3933720"/>
            <a:chExt cx="6680160" cy="642600"/>
          </a:xfrm>
        </p:grpSpPr>
        <p:pic>
          <p:nvPicPr>
            <p:cNvPr id="344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116000" y="3967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14 CuadroTexto"/>
            <p:cNvSpPr/>
            <p:nvPr/>
          </p:nvSpPr>
          <p:spPr>
            <a:xfrm>
              <a:off x="1438200" y="393372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Se identifica el perfil y potencial del personal para su  crecimiento y desarroll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8 Rectángulo redondeado"/>
          <p:cNvSpPr/>
          <p:nvPr/>
        </p:nvSpPr>
        <p:spPr>
          <a:xfrm>
            <a:off x="611280" y="1413000"/>
            <a:ext cx="7572240" cy="4824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2843280" y="692280"/>
            <a:ext cx="55864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30 Grupo"/>
          <p:cNvGrpSpPr/>
          <p:nvPr/>
        </p:nvGrpSpPr>
        <p:grpSpPr>
          <a:xfrm>
            <a:off x="1116000" y="1700280"/>
            <a:ext cx="6335640" cy="431640"/>
            <a:chOff x="1116000" y="1700280"/>
            <a:chExt cx="6335640" cy="431640"/>
          </a:xfrm>
        </p:grpSpPr>
        <p:grpSp>
          <p:nvGrpSpPr>
            <p:cNvPr id="350" name="36 Rectángulo redondeado"/>
            <p:cNvGrpSpPr/>
            <p:nvPr/>
          </p:nvGrpSpPr>
          <p:grpSpPr>
            <a:xfrm>
              <a:off x="1116000" y="1700280"/>
              <a:ext cx="6335640" cy="431640"/>
              <a:chOff x="1116000" y="1700280"/>
              <a:chExt cx="6335640" cy="431640"/>
            </a:xfrm>
          </p:grpSpPr>
          <p:pic>
            <p:nvPicPr>
              <p:cNvPr id="351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700280"/>
                <a:ext cx="6335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1230840" y="1726560"/>
                <a:ext cx="6115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3" name="37 CuadroTexto"/>
            <p:cNvSpPr/>
            <p:nvPr/>
          </p:nvSpPr>
          <p:spPr>
            <a:xfrm>
              <a:off x="1519200" y="174456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GRAMA DE CAPACITACI</a:t>
              </a: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Ó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N E INTERCAMBI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15 Grupo"/>
          <p:cNvGrpSpPr/>
          <p:nvPr/>
        </p:nvGrpSpPr>
        <p:grpSpPr>
          <a:xfrm>
            <a:off x="1042920" y="2421000"/>
            <a:ext cx="6680160" cy="642600"/>
            <a:chOff x="1042920" y="2421000"/>
            <a:chExt cx="6680160" cy="642600"/>
          </a:xfrm>
        </p:grpSpPr>
        <p:pic>
          <p:nvPicPr>
            <p:cNvPr id="35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042920" y="2454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14 CuadroTexto"/>
            <p:cNvSpPr/>
            <p:nvPr/>
          </p:nvSpPr>
          <p:spPr>
            <a:xfrm>
              <a:off x="1365120" y="2421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Se creó a partir de Noviembre de 2012 un Programa de Capacitación e Intercambio con las distintas áreas del Organism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887480" y="3521160"/>
            <a:ext cx="44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15 Grupo"/>
          <p:cNvGrpSpPr/>
          <p:nvPr/>
        </p:nvGrpSpPr>
        <p:grpSpPr>
          <a:xfrm>
            <a:off x="1042920" y="3213000"/>
            <a:ext cx="6680160" cy="3111480"/>
            <a:chOff x="1042920" y="3213000"/>
            <a:chExt cx="6680160" cy="3111480"/>
          </a:xfrm>
        </p:grpSpPr>
        <p:pic>
          <p:nvPicPr>
            <p:cNvPr id="359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042920" y="3246840"/>
              <a:ext cx="2854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14 CuadroTexto"/>
            <p:cNvSpPr/>
            <p:nvPr/>
          </p:nvSpPr>
          <p:spPr>
            <a:xfrm>
              <a:off x="1365120" y="3213000"/>
              <a:ext cx="635796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Ventajas: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Se aprovecha la estructura del CIT para las tareas de monitoreo, capacitación y seguimiento de llamada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Se trabaja en forma coordinada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El Organismo incrementa la atención de las llamadas; mientras que las Áreas capacitan a sus Agentes, para que luego vuelvan a sus puestos con nuevos conocimientos y habilidade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Fomenta la rotación del personal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0" y="3068640"/>
            <a:ext cx="9144000" cy="163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8 Rectángulo redondeado"/>
          <p:cNvSpPr/>
          <p:nvPr/>
        </p:nvSpPr>
        <p:spPr>
          <a:xfrm>
            <a:off x="539640" y="1341360"/>
            <a:ext cx="7704360" cy="46800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9"/>
          <p:cNvGrpSpPr/>
          <p:nvPr/>
        </p:nvGrpSpPr>
        <p:grpSpPr>
          <a:xfrm>
            <a:off x="1258920" y="2924280"/>
            <a:ext cx="1584360" cy="1368360"/>
            <a:chOff x="1258920" y="2924280"/>
            <a:chExt cx="1584360" cy="1368360"/>
          </a:xfrm>
        </p:grpSpPr>
        <p:pic>
          <p:nvPicPr>
            <p:cNvPr id="103" name="Rectangle 9" descr=""/>
            <p:cNvPicPr/>
            <p:nvPr/>
          </p:nvPicPr>
          <p:blipFill>
            <a:blip r:embed="rId1"/>
            <a:stretch/>
          </p:blipFill>
          <p:spPr>
            <a:xfrm>
              <a:off x="1258920" y="292428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315440" y="3082680"/>
              <a:ext cx="1473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rvicios al Contribuyente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 Box 13"/>
          <p:cNvSpPr/>
          <p:nvPr/>
        </p:nvSpPr>
        <p:spPr>
          <a:xfrm>
            <a:off x="2484360" y="692280"/>
            <a:ext cx="64087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30 Grupo"/>
          <p:cNvGrpSpPr/>
          <p:nvPr/>
        </p:nvGrpSpPr>
        <p:grpSpPr>
          <a:xfrm>
            <a:off x="3490920" y="1700280"/>
            <a:ext cx="1512720" cy="1008000"/>
            <a:chOff x="3490920" y="1700280"/>
            <a:chExt cx="1512720" cy="1008000"/>
          </a:xfrm>
        </p:grpSpPr>
        <p:grpSp>
          <p:nvGrpSpPr>
            <p:cNvPr id="107" name="36 Rectángulo redondeado"/>
            <p:cNvGrpSpPr/>
            <p:nvPr/>
          </p:nvGrpSpPr>
          <p:grpSpPr>
            <a:xfrm>
              <a:off x="3490920" y="1700280"/>
              <a:ext cx="1512720" cy="1008000"/>
              <a:chOff x="3490920" y="1700280"/>
              <a:chExt cx="1512720" cy="1008000"/>
            </a:xfrm>
          </p:grpSpPr>
          <p:pic>
            <p:nvPicPr>
              <p:cNvPr id="108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0920" y="1700280"/>
                <a:ext cx="151272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3518280" y="1761480"/>
                <a:ext cx="146016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37 CuadroTexto"/>
            <p:cNvSpPr/>
            <p:nvPr/>
          </p:nvSpPr>
          <p:spPr>
            <a:xfrm>
              <a:off x="3587760" y="184788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771640" y="3530520"/>
            <a:ext cx="79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2133720"/>
            <a:ext cx="1440" cy="2836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3060720" y="4970520"/>
            <a:ext cx="503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2133720"/>
            <a:ext cx="433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22273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1874880"/>
            <a:ext cx="0" cy="79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1874880"/>
            <a:ext cx="43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2666880"/>
            <a:ext cx="43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4932360" y="47563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4251240"/>
            <a:ext cx="0" cy="936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4251240"/>
            <a:ext cx="432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5187960"/>
            <a:ext cx="432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5732640"/>
            <a:ext cx="676908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DIRECCIÓN GENERAL                          DEPARTAMENTO                                                    DIVISIÓ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30 Grupo"/>
          <p:cNvGrpSpPr/>
          <p:nvPr/>
        </p:nvGrpSpPr>
        <p:grpSpPr>
          <a:xfrm>
            <a:off x="3492360" y="2997360"/>
            <a:ext cx="1513080" cy="1008000"/>
            <a:chOff x="3492360" y="2997360"/>
            <a:chExt cx="1513080" cy="1008000"/>
          </a:xfrm>
        </p:grpSpPr>
        <p:grpSp>
          <p:nvGrpSpPr>
            <p:cNvPr id="125" name="36 Rectángulo redondeado"/>
            <p:cNvGrpSpPr/>
            <p:nvPr/>
          </p:nvGrpSpPr>
          <p:grpSpPr>
            <a:xfrm>
              <a:off x="3492360" y="2997360"/>
              <a:ext cx="1513080" cy="1008000"/>
              <a:chOff x="3492360" y="2997360"/>
              <a:chExt cx="1513080" cy="1008000"/>
            </a:xfrm>
          </p:grpSpPr>
          <p:pic>
            <p:nvPicPr>
              <p:cNvPr id="126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360" y="2997360"/>
                <a:ext cx="151308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519720" y="3058560"/>
                <a:ext cx="146052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37 CuadroTexto"/>
            <p:cNvSpPr/>
            <p:nvPr/>
          </p:nvSpPr>
          <p:spPr>
            <a:xfrm>
              <a:off x="3589200" y="314496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592440" y="1916280"/>
            <a:ext cx="1295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Servicios al Ciudad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594240" y="3214800"/>
            <a:ext cx="129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Imagen institucion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30 Grupo"/>
          <p:cNvGrpSpPr/>
          <p:nvPr/>
        </p:nvGrpSpPr>
        <p:grpSpPr>
          <a:xfrm>
            <a:off x="3492360" y="4365720"/>
            <a:ext cx="1513080" cy="1008000"/>
            <a:chOff x="3492360" y="4365720"/>
            <a:chExt cx="1513080" cy="1008000"/>
          </a:xfrm>
        </p:grpSpPr>
        <p:grpSp>
          <p:nvGrpSpPr>
            <p:cNvPr id="132" name="36 Rectángulo redondeado"/>
            <p:cNvGrpSpPr/>
            <p:nvPr/>
          </p:nvGrpSpPr>
          <p:grpSpPr>
            <a:xfrm>
              <a:off x="3492360" y="4365720"/>
              <a:ext cx="1513080" cy="1008000"/>
              <a:chOff x="3492360" y="4365720"/>
              <a:chExt cx="1513080" cy="1008000"/>
            </a:xfrm>
          </p:grpSpPr>
          <p:pic>
            <p:nvPicPr>
              <p:cNvPr id="133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360" y="4365720"/>
                <a:ext cx="151308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3519720" y="4426920"/>
                <a:ext cx="146052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37 CuadroTexto"/>
            <p:cNvSpPr/>
            <p:nvPr/>
          </p:nvSpPr>
          <p:spPr>
            <a:xfrm>
              <a:off x="3589200" y="451332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594240" y="4583160"/>
            <a:ext cx="129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Canales de Atenció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30 Grupo"/>
          <p:cNvGrpSpPr/>
          <p:nvPr/>
        </p:nvGrpSpPr>
        <p:grpSpPr>
          <a:xfrm>
            <a:off x="6156360" y="1413000"/>
            <a:ext cx="1512720" cy="792000"/>
            <a:chOff x="6156360" y="1413000"/>
            <a:chExt cx="1512720" cy="792000"/>
          </a:xfrm>
        </p:grpSpPr>
        <p:grpSp>
          <p:nvGrpSpPr>
            <p:cNvPr id="138" name="36 Rectángulo redondeado"/>
            <p:cNvGrpSpPr/>
            <p:nvPr/>
          </p:nvGrpSpPr>
          <p:grpSpPr>
            <a:xfrm>
              <a:off x="6156360" y="1413000"/>
              <a:ext cx="1512720" cy="792000"/>
              <a:chOff x="6156360" y="1413000"/>
              <a:chExt cx="1512720" cy="792000"/>
            </a:xfrm>
          </p:grpSpPr>
          <p:pic>
            <p:nvPicPr>
              <p:cNvPr id="139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6360" y="1413000"/>
                <a:ext cx="151272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6183720" y="1461240"/>
                <a:ext cx="146016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37 CuadroTexto"/>
            <p:cNvSpPr/>
            <p:nvPr/>
          </p:nvSpPr>
          <p:spPr>
            <a:xfrm>
              <a:off x="6253200" y="152856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56360" y="141300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</a:rPr>
              <a:t>Implementación operativa de servici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30 Grupo"/>
          <p:cNvGrpSpPr/>
          <p:nvPr/>
        </p:nvGrpSpPr>
        <p:grpSpPr>
          <a:xfrm>
            <a:off x="6156360" y="2276640"/>
            <a:ext cx="1512720" cy="792000"/>
            <a:chOff x="6156360" y="2276640"/>
            <a:chExt cx="1512720" cy="792000"/>
          </a:xfrm>
        </p:grpSpPr>
        <p:grpSp>
          <p:nvGrpSpPr>
            <p:cNvPr id="144" name="36 Rectángulo redondeado"/>
            <p:cNvGrpSpPr/>
            <p:nvPr/>
          </p:nvGrpSpPr>
          <p:grpSpPr>
            <a:xfrm>
              <a:off x="6156360" y="2276640"/>
              <a:ext cx="1512720" cy="792000"/>
              <a:chOff x="6156360" y="2276640"/>
              <a:chExt cx="1512720" cy="792000"/>
            </a:xfrm>
          </p:grpSpPr>
          <p:pic>
            <p:nvPicPr>
              <p:cNvPr id="145" name="36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6360" y="2276640"/>
                <a:ext cx="151272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6183720" y="2324880"/>
                <a:ext cx="146016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" name="37 CuadroTexto"/>
            <p:cNvSpPr/>
            <p:nvPr/>
          </p:nvSpPr>
          <p:spPr>
            <a:xfrm>
              <a:off x="6253200" y="239220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156360" y="227664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</a:rPr>
              <a:t>Programación de Información tributa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30 Grupo"/>
          <p:cNvGrpSpPr/>
          <p:nvPr/>
        </p:nvGrpSpPr>
        <p:grpSpPr>
          <a:xfrm>
            <a:off x="6154560" y="3789360"/>
            <a:ext cx="1513080" cy="792000"/>
            <a:chOff x="6154560" y="3789360"/>
            <a:chExt cx="1513080" cy="792000"/>
          </a:xfrm>
        </p:grpSpPr>
        <p:grpSp>
          <p:nvGrpSpPr>
            <p:cNvPr id="150" name="36 Rectángulo redondeado"/>
            <p:cNvGrpSpPr/>
            <p:nvPr/>
          </p:nvGrpSpPr>
          <p:grpSpPr>
            <a:xfrm>
              <a:off x="6154560" y="3789360"/>
              <a:ext cx="1513080" cy="792000"/>
              <a:chOff x="6154560" y="3789360"/>
              <a:chExt cx="1513080" cy="792000"/>
            </a:xfrm>
          </p:grpSpPr>
          <p:pic>
            <p:nvPicPr>
              <p:cNvPr id="151" name="36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6154560" y="3789360"/>
                <a:ext cx="151308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6181920" y="3837600"/>
                <a:ext cx="146052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" name="37 CuadroTexto"/>
            <p:cNvSpPr/>
            <p:nvPr/>
          </p:nvSpPr>
          <p:spPr>
            <a:xfrm>
              <a:off x="6251400" y="390492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56440" y="393372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</a:rPr>
              <a:t>Atención Telefón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30 Grupo"/>
          <p:cNvGrpSpPr/>
          <p:nvPr/>
        </p:nvGrpSpPr>
        <p:grpSpPr>
          <a:xfrm>
            <a:off x="6154560" y="4724280"/>
            <a:ext cx="1513080" cy="792360"/>
            <a:chOff x="6154560" y="4724280"/>
            <a:chExt cx="1513080" cy="792360"/>
          </a:xfrm>
        </p:grpSpPr>
        <p:grpSp>
          <p:nvGrpSpPr>
            <p:cNvPr id="156" name="36 Rectángulo redondeado"/>
            <p:cNvGrpSpPr/>
            <p:nvPr/>
          </p:nvGrpSpPr>
          <p:grpSpPr>
            <a:xfrm>
              <a:off x="6154560" y="4724280"/>
              <a:ext cx="1513080" cy="792360"/>
              <a:chOff x="6154560" y="4724280"/>
              <a:chExt cx="1513080" cy="792360"/>
            </a:xfrm>
          </p:grpSpPr>
          <p:pic>
            <p:nvPicPr>
              <p:cNvPr id="157" name="36 Rectángulo redondeado" descr=""/>
              <p:cNvPicPr/>
              <p:nvPr/>
            </p:nvPicPr>
            <p:blipFill>
              <a:blip r:embed="rId8"/>
              <a:stretch/>
            </p:blipFill>
            <p:spPr>
              <a:xfrm>
                <a:off x="6154560" y="4724280"/>
                <a:ext cx="1513080" cy="7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6181920" y="4772520"/>
                <a:ext cx="1460520" cy="68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37 CuadroTexto"/>
            <p:cNvSpPr/>
            <p:nvPr/>
          </p:nvSpPr>
          <p:spPr>
            <a:xfrm>
              <a:off x="6251400" y="484020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56440" y="4724280"/>
            <a:ext cx="129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les informáticos de aten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164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SERVICIOS AL CIUDADAN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30 Grupo"/>
          <p:cNvGrpSpPr/>
          <p:nvPr/>
        </p:nvGrpSpPr>
        <p:grpSpPr>
          <a:xfrm>
            <a:off x="1763640" y="2349360"/>
            <a:ext cx="5688000" cy="432000"/>
            <a:chOff x="1763640" y="2349360"/>
            <a:chExt cx="5688000" cy="432000"/>
          </a:xfrm>
        </p:grpSpPr>
        <p:grpSp>
          <p:nvGrpSpPr>
            <p:cNvPr id="168" name="36 Rectángulo redondeado"/>
            <p:cNvGrpSpPr/>
            <p:nvPr/>
          </p:nvGrpSpPr>
          <p:grpSpPr>
            <a:xfrm>
              <a:off x="1763640" y="2349360"/>
              <a:ext cx="5688000" cy="432000"/>
              <a:chOff x="1763640" y="2349360"/>
              <a:chExt cx="5688000" cy="432000"/>
            </a:xfrm>
          </p:grpSpPr>
          <p:pic>
            <p:nvPicPr>
              <p:cNvPr id="169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349360"/>
                <a:ext cx="5688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866600" y="2375640"/>
                <a:ext cx="54900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37 CuadroTexto"/>
            <p:cNvSpPr/>
            <p:nvPr/>
          </p:nvSpPr>
          <p:spPr>
            <a:xfrm>
              <a:off x="2125440" y="2393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15 Grupo"/>
          <p:cNvGrpSpPr/>
          <p:nvPr/>
        </p:nvGrpSpPr>
        <p:grpSpPr>
          <a:xfrm>
            <a:off x="1347840" y="2997360"/>
            <a:ext cx="6680160" cy="916920"/>
            <a:chOff x="1347840" y="2997360"/>
            <a:chExt cx="6680160" cy="916920"/>
          </a:xfrm>
        </p:grpSpPr>
        <p:pic>
          <p:nvPicPr>
            <p:cNvPr id="17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47840" y="303120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14 CuadroTexto"/>
            <p:cNvSpPr/>
            <p:nvPr/>
          </p:nvSpPr>
          <p:spPr>
            <a:xfrm>
              <a:off x="1670040" y="2997360"/>
              <a:ext cx="63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Definición del modelo de atención institucional a aplicar en todos los espacios de contacto con los ciudadanos, contribuyentes y usuarios aduanero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15 Grupo"/>
          <p:cNvGrpSpPr/>
          <p:nvPr/>
        </p:nvGrpSpPr>
        <p:grpSpPr>
          <a:xfrm>
            <a:off x="1347840" y="4398840"/>
            <a:ext cx="6680160" cy="916920"/>
            <a:chOff x="1347840" y="4398840"/>
            <a:chExt cx="6680160" cy="916920"/>
          </a:xfrm>
        </p:grpSpPr>
        <p:pic>
          <p:nvPicPr>
            <p:cNvPr id="17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347840" y="44326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14 CuadroTexto"/>
            <p:cNvSpPr/>
            <p:nvPr/>
          </p:nvSpPr>
          <p:spPr>
            <a:xfrm>
              <a:off x="1670040" y="4398840"/>
              <a:ext cx="63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seño y coordinación de programas y acciones de promoción e instrucción destinadas a elevar la conciencia fiscal de la comunida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181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IMAGEN INSTITUCION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30 Grupo"/>
          <p:cNvGrpSpPr/>
          <p:nvPr/>
        </p:nvGrpSpPr>
        <p:grpSpPr>
          <a:xfrm>
            <a:off x="1763640" y="2349360"/>
            <a:ext cx="5688000" cy="432000"/>
            <a:chOff x="1763640" y="2349360"/>
            <a:chExt cx="5688000" cy="432000"/>
          </a:xfrm>
        </p:grpSpPr>
        <p:grpSp>
          <p:nvGrpSpPr>
            <p:cNvPr id="184" name="36 Rectángulo redondeado"/>
            <p:cNvGrpSpPr/>
            <p:nvPr/>
          </p:nvGrpSpPr>
          <p:grpSpPr>
            <a:xfrm>
              <a:off x="1763640" y="2349360"/>
              <a:ext cx="5688000" cy="432000"/>
              <a:chOff x="1763640" y="2349360"/>
              <a:chExt cx="5688000" cy="432000"/>
            </a:xfrm>
          </p:grpSpPr>
          <p:pic>
            <p:nvPicPr>
              <p:cNvPr id="185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349360"/>
                <a:ext cx="5688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1866600" y="2375640"/>
                <a:ext cx="54900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37 CuadroTexto"/>
            <p:cNvSpPr/>
            <p:nvPr/>
          </p:nvSpPr>
          <p:spPr>
            <a:xfrm>
              <a:off x="2125440" y="2393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15 Grupo"/>
          <p:cNvGrpSpPr/>
          <p:nvPr/>
        </p:nvGrpSpPr>
        <p:grpSpPr>
          <a:xfrm>
            <a:off x="1347840" y="3259080"/>
            <a:ext cx="6680160" cy="1191240"/>
            <a:chOff x="1347840" y="3259080"/>
            <a:chExt cx="6680160" cy="1191240"/>
          </a:xfrm>
        </p:grpSpPr>
        <p:pic>
          <p:nvPicPr>
            <p:cNvPr id="189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47840" y="329292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14 CuadroTexto"/>
            <p:cNvSpPr/>
            <p:nvPr/>
          </p:nvSpPr>
          <p:spPr>
            <a:xfrm>
              <a:off x="1670040" y="325908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Definición y elaboración de criterios y estrategias de comunicación necesarias, para la correcta difusión de contenidos, que requiera la Administración Federal de Ingresos Públicos, ya sean gráficos, audiovisuales y Web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195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CANALES DE ATEN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30 Grupo"/>
          <p:cNvGrpSpPr/>
          <p:nvPr/>
        </p:nvGrpSpPr>
        <p:grpSpPr>
          <a:xfrm>
            <a:off x="1763640" y="2349360"/>
            <a:ext cx="5688000" cy="432000"/>
            <a:chOff x="1763640" y="2349360"/>
            <a:chExt cx="5688000" cy="432000"/>
          </a:xfrm>
        </p:grpSpPr>
        <p:grpSp>
          <p:nvGrpSpPr>
            <p:cNvPr id="198" name="36 Rectángulo redondeado"/>
            <p:cNvGrpSpPr/>
            <p:nvPr/>
          </p:nvGrpSpPr>
          <p:grpSpPr>
            <a:xfrm>
              <a:off x="1763640" y="2349360"/>
              <a:ext cx="5688000" cy="432000"/>
              <a:chOff x="1763640" y="2349360"/>
              <a:chExt cx="5688000" cy="432000"/>
            </a:xfrm>
          </p:grpSpPr>
          <p:pic>
            <p:nvPicPr>
              <p:cNvPr id="199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349360"/>
                <a:ext cx="5688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1866600" y="2375640"/>
                <a:ext cx="54900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37 CuadroTexto"/>
            <p:cNvSpPr/>
            <p:nvPr/>
          </p:nvSpPr>
          <p:spPr>
            <a:xfrm>
              <a:off x="2125440" y="2393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15 Grupo"/>
          <p:cNvGrpSpPr/>
          <p:nvPr/>
        </p:nvGrpSpPr>
        <p:grpSpPr>
          <a:xfrm>
            <a:off x="1347840" y="3141720"/>
            <a:ext cx="6680160" cy="368280"/>
            <a:chOff x="1347840" y="3141720"/>
            <a:chExt cx="6680160" cy="368280"/>
          </a:xfrm>
        </p:grpSpPr>
        <p:pic>
          <p:nvPicPr>
            <p:cNvPr id="20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47840" y="3175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14 CuadroTexto"/>
            <p:cNvSpPr/>
            <p:nvPr/>
          </p:nvSpPr>
          <p:spPr>
            <a:xfrm>
              <a:off x="1670040" y="31417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Definición y supervisión de los servicios de informació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15 Grupo"/>
          <p:cNvGrpSpPr/>
          <p:nvPr/>
        </p:nvGrpSpPr>
        <p:grpSpPr>
          <a:xfrm>
            <a:off x="1347840" y="4003560"/>
            <a:ext cx="6680160" cy="1191240"/>
            <a:chOff x="1347840" y="4003560"/>
            <a:chExt cx="6680160" cy="1191240"/>
          </a:xfrm>
        </p:grpSpPr>
        <p:pic>
          <p:nvPicPr>
            <p:cNvPr id="20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347840" y="403740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14 CuadroTexto"/>
            <p:cNvSpPr/>
            <p:nvPr/>
          </p:nvSpPr>
          <p:spPr>
            <a:xfrm>
              <a:off x="1670040" y="400356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finición de los criterios y contenidos de los mensajes de respuesta a dar vía telefónica, correo electrónico o página institucional del Organismo, como consecuencia de las consultas de los ciudadanos en general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212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CANALES DE ATEN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30 Grupo"/>
          <p:cNvGrpSpPr/>
          <p:nvPr/>
        </p:nvGrpSpPr>
        <p:grpSpPr>
          <a:xfrm>
            <a:off x="1763640" y="2133720"/>
            <a:ext cx="5688000" cy="431640"/>
            <a:chOff x="1763640" y="2133720"/>
            <a:chExt cx="5688000" cy="431640"/>
          </a:xfrm>
        </p:grpSpPr>
        <p:grpSp>
          <p:nvGrpSpPr>
            <p:cNvPr id="215" name="36 Rectángulo redondeado"/>
            <p:cNvGrpSpPr/>
            <p:nvPr/>
          </p:nvGrpSpPr>
          <p:grpSpPr>
            <a:xfrm>
              <a:off x="1763640" y="2133720"/>
              <a:ext cx="5688000" cy="431640"/>
              <a:chOff x="1763640" y="2133720"/>
              <a:chExt cx="5688000" cy="431640"/>
            </a:xfrm>
          </p:grpSpPr>
          <p:pic>
            <p:nvPicPr>
              <p:cNvPr id="216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133720"/>
                <a:ext cx="5688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1866600" y="2160000"/>
                <a:ext cx="5490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37 CuadroTexto"/>
            <p:cNvSpPr/>
            <p:nvPr/>
          </p:nvSpPr>
          <p:spPr>
            <a:xfrm>
              <a:off x="2125440" y="217800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MIS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15 Grupo"/>
          <p:cNvGrpSpPr/>
          <p:nvPr/>
        </p:nvGrpSpPr>
        <p:grpSpPr>
          <a:xfrm>
            <a:off x="1332000" y="2637000"/>
            <a:ext cx="6680160" cy="1191240"/>
            <a:chOff x="1332000" y="2637000"/>
            <a:chExt cx="6680160" cy="1191240"/>
          </a:xfrm>
        </p:grpSpPr>
        <p:pic>
          <p:nvPicPr>
            <p:cNvPr id="220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32000" y="2670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14 CuadroTexto"/>
            <p:cNvSpPr/>
            <p:nvPr/>
          </p:nvSpPr>
          <p:spPr>
            <a:xfrm>
              <a:off x="1654200" y="263700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Facilitar a los ciudadanos el cumplimiento de sus obligaciones, a través de acciones de asistencia e información, internas y externas, personalizadas y virtuales, definiendo un modelo de atención claro y eficiente.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15 Grupo"/>
          <p:cNvGrpSpPr/>
          <p:nvPr/>
        </p:nvGrpSpPr>
        <p:grpSpPr>
          <a:xfrm>
            <a:off x="1347840" y="4437000"/>
            <a:ext cx="6680160" cy="1465560"/>
            <a:chOff x="1347840" y="4437000"/>
            <a:chExt cx="6680160" cy="1465560"/>
          </a:xfrm>
        </p:grpSpPr>
        <p:pic>
          <p:nvPicPr>
            <p:cNvPr id="22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347840" y="4470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14 CuadroTexto"/>
            <p:cNvSpPr/>
            <p:nvPr/>
          </p:nvSpPr>
          <p:spPr>
            <a:xfrm>
              <a:off x="1670040" y="4437000"/>
              <a:ext cx="63579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spiramos a brindar un servicio de excelencia orientado a satisfacer las necesidades del ciudadano, implementando un modelo de atención eficiente, apoyándonos en el capital humano altamente calificado y haciendo uso de las nuevas tecnologías de información y comunicación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30 Grupo"/>
          <p:cNvGrpSpPr/>
          <p:nvPr/>
        </p:nvGrpSpPr>
        <p:grpSpPr>
          <a:xfrm>
            <a:off x="1763640" y="4005360"/>
            <a:ext cx="5688000" cy="431640"/>
            <a:chOff x="1763640" y="4005360"/>
            <a:chExt cx="5688000" cy="431640"/>
          </a:xfrm>
        </p:grpSpPr>
        <p:grpSp>
          <p:nvGrpSpPr>
            <p:cNvPr id="226" name="36 Rectángulo redondeado"/>
            <p:cNvGrpSpPr/>
            <p:nvPr/>
          </p:nvGrpSpPr>
          <p:grpSpPr>
            <a:xfrm>
              <a:off x="1763640" y="4005360"/>
              <a:ext cx="5688000" cy="431640"/>
              <a:chOff x="1763640" y="4005360"/>
              <a:chExt cx="5688000" cy="431640"/>
            </a:xfrm>
          </p:grpSpPr>
          <p:pic>
            <p:nvPicPr>
              <p:cNvPr id="227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3640" y="4005360"/>
                <a:ext cx="5688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1866600" y="4031640"/>
                <a:ext cx="5490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9" name="37 CuadroTexto"/>
            <p:cNvSpPr/>
            <p:nvPr/>
          </p:nvSpPr>
          <p:spPr>
            <a:xfrm>
              <a:off x="2125440" y="4049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VIS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2411280" y="692280"/>
            <a:ext cx="626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30 Grupo"/>
          <p:cNvGrpSpPr/>
          <p:nvPr/>
        </p:nvGrpSpPr>
        <p:grpSpPr>
          <a:xfrm>
            <a:off x="1116000" y="2133720"/>
            <a:ext cx="6335640" cy="503280"/>
            <a:chOff x="1116000" y="2133720"/>
            <a:chExt cx="6335640" cy="503280"/>
          </a:xfrm>
        </p:grpSpPr>
        <p:grpSp>
          <p:nvGrpSpPr>
            <p:cNvPr id="235" name="36 Rectángulo redondeado"/>
            <p:cNvGrpSpPr/>
            <p:nvPr/>
          </p:nvGrpSpPr>
          <p:grpSpPr>
            <a:xfrm>
              <a:off x="1116000" y="2133720"/>
              <a:ext cx="6335640" cy="503280"/>
              <a:chOff x="1116000" y="2133720"/>
              <a:chExt cx="6335640" cy="503280"/>
            </a:xfrm>
          </p:grpSpPr>
          <p:pic>
            <p:nvPicPr>
              <p:cNvPr id="236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2133720"/>
                <a:ext cx="633564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1230840" y="2164320"/>
                <a:ext cx="61153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8" name="37 CuadroTexto"/>
            <p:cNvSpPr/>
            <p:nvPr/>
          </p:nvSpPr>
          <p:spPr>
            <a:xfrm>
              <a:off x="1519200" y="2185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ORGANIZACIÓN DEL CI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15 Grupo"/>
          <p:cNvGrpSpPr/>
          <p:nvPr/>
        </p:nvGrpSpPr>
        <p:grpSpPr>
          <a:xfrm>
            <a:off x="1258920" y="3068640"/>
            <a:ext cx="6680160" cy="368280"/>
            <a:chOff x="1258920" y="3068640"/>
            <a:chExt cx="6680160" cy="368280"/>
          </a:xfrm>
        </p:grpSpPr>
        <p:pic>
          <p:nvPicPr>
            <p:cNvPr id="240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258920" y="3102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14 CuadroTexto"/>
            <p:cNvSpPr/>
            <p:nvPr/>
          </p:nvSpPr>
          <p:spPr>
            <a:xfrm>
              <a:off x="1581120" y="3068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orario extendido de 8 a 20 h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15 Grupo"/>
          <p:cNvGrpSpPr/>
          <p:nvPr/>
        </p:nvGrpSpPr>
        <p:grpSpPr>
          <a:xfrm>
            <a:off x="1258920" y="3573360"/>
            <a:ext cx="6680160" cy="368280"/>
            <a:chOff x="1258920" y="3573360"/>
            <a:chExt cx="6680160" cy="368280"/>
          </a:xfrm>
        </p:grpSpPr>
        <p:pic>
          <p:nvPicPr>
            <p:cNvPr id="24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258920" y="360720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14 CuadroTexto"/>
            <p:cNvSpPr/>
            <p:nvPr/>
          </p:nvSpPr>
          <p:spPr>
            <a:xfrm>
              <a:off x="158112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100 puestos de atención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15 Grupo"/>
          <p:cNvGrpSpPr/>
          <p:nvPr/>
        </p:nvGrpSpPr>
        <p:grpSpPr>
          <a:xfrm>
            <a:off x="1258920" y="4653000"/>
            <a:ext cx="6680160" cy="642600"/>
            <a:chOff x="1258920" y="4653000"/>
            <a:chExt cx="6680160" cy="642600"/>
          </a:xfrm>
        </p:grpSpPr>
        <p:pic>
          <p:nvPicPr>
            <p:cNvPr id="24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258920" y="4686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14 CuadroTexto"/>
            <p:cNvSpPr/>
            <p:nvPr/>
          </p:nvSpPr>
          <p:spPr>
            <a:xfrm>
              <a:off x="1581120" y="4653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Tarifa promocional uniforme (Tarifa homogénea para todo el país. Costo llamada local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15 Grupo"/>
          <p:cNvGrpSpPr/>
          <p:nvPr/>
        </p:nvGrpSpPr>
        <p:grpSpPr>
          <a:xfrm>
            <a:off x="1258920" y="4149720"/>
            <a:ext cx="6680160" cy="368280"/>
            <a:chOff x="1258920" y="4149720"/>
            <a:chExt cx="6680160" cy="368280"/>
          </a:xfrm>
        </p:grpSpPr>
        <p:pic>
          <p:nvPicPr>
            <p:cNvPr id="249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258920" y="4183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14 CuadroTexto"/>
            <p:cNvSpPr/>
            <p:nvPr/>
          </p:nvSpPr>
          <p:spPr>
            <a:xfrm>
              <a:off x="1581120" y="41497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Personal altamente capacitad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Rectangle 17"/>
          <p:cNvGrpSpPr/>
          <p:nvPr/>
        </p:nvGrpSpPr>
        <p:grpSpPr>
          <a:xfrm>
            <a:off x="2270160" y="1989000"/>
            <a:ext cx="2879640" cy="720360"/>
            <a:chOff x="2270160" y="1989000"/>
            <a:chExt cx="2879640" cy="720360"/>
          </a:xfrm>
        </p:grpSpPr>
        <p:pic>
          <p:nvPicPr>
            <p:cNvPr id="254" name="Rectangle 17" descr=""/>
            <p:cNvPicPr/>
            <p:nvPr/>
          </p:nvPicPr>
          <p:blipFill>
            <a:blip r:embed="rId1"/>
            <a:stretch/>
          </p:blipFill>
          <p:spPr>
            <a:xfrm>
              <a:off x="2270160" y="1989000"/>
              <a:ext cx="2879640" cy="7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302200" y="2075760"/>
              <a:ext cx="28184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ivisión Atención Telefón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Text Box 13"/>
          <p:cNvSpPr/>
          <p:nvPr/>
        </p:nvSpPr>
        <p:spPr>
          <a:xfrm>
            <a:off x="2843280" y="692280"/>
            <a:ext cx="5732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37080" y="2925720"/>
            <a:ext cx="2519280" cy="574560"/>
            <a:chOff x="3637080" y="2925720"/>
            <a:chExt cx="2519280" cy="574560"/>
          </a:xfrm>
        </p:grpSpPr>
        <p:grpSp>
          <p:nvGrpSpPr>
            <p:cNvPr id="258" name="36 Rectángulo redondeado"/>
            <p:cNvGrpSpPr/>
            <p:nvPr/>
          </p:nvGrpSpPr>
          <p:grpSpPr>
            <a:xfrm>
              <a:off x="3637080" y="2925720"/>
              <a:ext cx="2519280" cy="574560"/>
              <a:chOff x="3637080" y="2925720"/>
              <a:chExt cx="2519280" cy="574560"/>
            </a:xfrm>
          </p:grpSpPr>
          <p:pic>
            <p:nvPicPr>
              <p:cNvPr id="259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7080" y="292572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3682440" y="296064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37 CuadroTexto"/>
            <p:cNvSpPr/>
            <p:nvPr/>
          </p:nvSpPr>
          <p:spPr>
            <a:xfrm>
              <a:off x="3708360" y="292572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Consultas Normativas “A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29 Conector angular"/>
          <p:cNvCxnSpPr/>
          <p:nvPr/>
        </p:nvCxnSpPr>
        <p:spPr>
          <a:xfrm flipH="1" rot="16200000">
            <a:off x="2347560" y="3813840"/>
            <a:ext cx="2523240" cy="1688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44 Conector angular"/>
          <p:cNvCxnSpPr/>
          <p:nvPr/>
        </p:nvCxnSpPr>
        <p:spPr>
          <a:xfrm flipH="1" rot="16200000">
            <a:off x="3319200" y="2842200"/>
            <a:ext cx="579960" cy="1688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4" name="47 Conector angular"/>
          <p:cNvCxnSpPr>
            <a:endCxn id="265" idx="1"/>
          </p:cNvCxnSpPr>
          <p:nvPr/>
        </p:nvCxnSpPr>
        <p:spPr>
          <a:xfrm flipH="1" rot="16200000">
            <a:off x="2676600" y="3499560"/>
            <a:ext cx="1869120" cy="1436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6" name="51 Conector angular"/>
          <p:cNvCxnSpPr/>
          <p:nvPr/>
        </p:nvCxnSpPr>
        <p:spPr>
          <a:xfrm flipH="1" rot="16200000">
            <a:off x="2977560" y="3184920"/>
            <a:ext cx="1227240" cy="1310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7" name=""/>
          <p:cNvGrpSpPr/>
          <p:nvPr/>
        </p:nvGrpSpPr>
        <p:grpSpPr>
          <a:xfrm>
            <a:off x="3637080" y="3573360"/>
            <a:ext cx="2519280" cy="574560"/>
            <a:chOff x="3637080" y="3573360"/>
            <a:chExt cx="2519280" cy="574560"/>
          </a:xfrm>
        </p:grpSpPr>
        <p:grpSp>
          <p:nvGrpSpPr>
            <p:cNvPr id="268" name="36 Rectángulo redondeado"/>
            <p:cNvGrpSpPr/>
            <p:nvPr/>
          </p:nvGrpSpPr>
          <p:grpSpPr>
            <a:xfrm>
              <a:off x="3637080" y="3573360"/>
              <a:ext cx="2519280" cy="574560"/>
              <a:chOff x="3637080" y="3573360"/>
              <a:chExt cx="2519280" cy="574560"/>
            </a:xfrm>
          </p:grpSpPr>
          <p:pic>
            <p:nvPicPr>
              <p:cNvPr id="269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7080" y="357336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3682440" y="360828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1" name="37 CuadroTexto"/>
            <p:cNvSpPr/>
            <p:nvPr/>
          </p:nvSpPr>
          <p:spPr>
            <a:xfrm>
              <a:off x="3708360" y="357336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Consultas Normativas “B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637080" y="4221000"/>
            <a:ext cx="2519280" cy="574560"/>
            <a:chOff x="3637080" y="4221000"/>
            <a:chExt cx="2519280" cy="574560"/>
          </a:xfrm>
        </p:grpSpPr>
        <p:grpSp>
          <p:nvGrpSpPr>
            <p:cNvPr id="273" name="36 Rectángulo redondeado"/>
            <p:cNvGrpSpPr/>
            <p:nvPr/>
          </p:nvGrpSpPr>
          <p:grpSpPr>
            <a:xfrm>
              <a:off x="3637080" y="4221000"/>
              <a:ext cx="2519280" cy="574560"/>
              <a:chOff x="3637080" y="4221000"/>
              <a:chExt cx="2519280" cy="574560"/>
            </a:xfrm>
          </p:grpSpPr>
          <p:pic>
            <p:nvPicPr>
              <p:cNvPr id="274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7080" y="422100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3682440" y="425592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5" name="37 CuadroTexto"/>
            <p:cNvSpPr/>
            <p:nvPr/>
          </p:nvSpPr>
          <p:spPr>
            <a:xfrm>
              <a:off x="3708360" y="422100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Mesa de Ayuda Aplicativos “A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37080" y="4869000"/>
            <a:ext cx="2519280" cy="574560"/>
            <a:chOff x="3637080" y="4869000"/>
            <a:chExt cx="2519280" cy="574560"/>
          </a:xfrm>
        </p:grpSpPr>
        <p:grpSp>
          <p:nvGrpSpPr>
            <p:cNvPr id="277" name="36 Rectángulo redondeado"/>
            <p:cNvGrpSpPr/>
            <p:nvPr/>
          </p:nvGrpSpPr>
          <p:grpSpPr>
            <a:xfrm>
              <a:off x="3637080" y="4869000"/>
              <a:ext cx="2519280" cy="574560"/>
              <a:chOff x="3637080" y="4869000"/>
              <a:chExt cx="2519280" cy="574560"/>
            </a:xfrm>
          </p:grpSpPr>
          <p:pic>
            <p:nvPicPr>
              <p:cNvPr id="278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7080" y="486900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3682440" y="490392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0" name="37 CuadroTexto"/>
            <p:cNvSpPr/>
            <p:nvPr/>
          </p:nvSpPr>
          <p:spPr>
            <a:xfrm>
              <a:off x="3708360" y="486900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Mesa de Ayuda Aplicativos “B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2771640" y="692280"/>
            <a:ext cx="5732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30 Grupo"/>
          <p:cNvGrpSpPr/>
          <p:nvPr/>
        </p:nvGrpSpPr>
        <p:grpSpPr>
          <a:xfrm>
            <a:off x="1116000" y="2133720"/>
            <a:ext cx="6335640" cy="503280"/>
            <a:chOff x="1116000" y="2133720"/>
            <a:chExt cx="6335640" cy="503280"/>
          </a:xfrm>
        </p:grpSpPr>
        <p:grpSp>
          <p:nvGrpSpPr>
            <p:cNvPr id="285" name="36 Rectángulo redondeado"/>
            <p:cNvGrpSpPr/>
            <p:nvPr/>
          </p:nvGrpSpPr>
          <p:grpSpPr>
            <a:xfrm>
              <a:off x="1116000" y="2133720"/>
              <a:ext cx="6335640" cy="503280"/>
              <a:chOff x="1116000" y="2133720"/>
              <a:chExt cx="6335640" cy="503280"/>
            </a:xfrm>
          </p:grpSpPr>
          <p:pic>
            <p:nvPicPr>
              <p:cNvPr id="286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2133720"/>
                <a:ext cx="633564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1230840" y="2164320"/>
                <a:ext cx="61153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8" name="37 CuadroTexto"/>
            <p:cNvSpPr/>
            <p:nvPr/>
          </p:nvSpPr>
          <p:spPr>
            <a:xfrm>
              <a:off x="1519200" y="2185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SE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15 Grupo"/>
          <p:cNvGrpSpPr/>
          <p:nvPr/>
        </p:nvGrpSpPr>
        <p:grpSpPr>
          <a:xfrm>
            <a:off x="1258920" y="3068640"/>
            <a:ext cx="6680160" cy="368280"/>
            <a:chOff x="1258920" y="3068640"/>
            <a:chExt cx="6680160" cy="368280"/>
          </a:xfrm>
        </p:grpSpPr>
        <p:pic>
          <p:nvPicPr>
            <p:cNvPr id="290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258920" y="3102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14 CuadroTexto"/>
            <p:cNvSpPr/>
            <p:nvPr/>
          </p:nvSpPr>
          <p:spPr>
            <a:xfrm>
              <a:off x="1581120" y="3068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da Sección posee un Jefe con un equipo de 20 Agentes a carg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15 Grupo"/>
          <p:cNvGrpSpPr/>
          <p:nvPr/>
        </p:nvGrpSpPr>
        <p:grpSpPr>
          <a:xfrm>
            <a:off x="1258920" y="3860640"/>
            <a:ext cx="6680160" cy="642600"/>
            <a:chOff x="1258920" y="3860640"/>
            <a:chExt cx="6680160" cy="642600"/>
          </a:xfrm>
        </p:grpSpPr>
        <p:pic>
          <p:nvPicPr>
            <p:cNvPr id="29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258920" y="3894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14 CuadroTexto"/>
            <p:cNvSpPr/>
            <p:nvPr/>
          </p:nvSpPr>
          <p:spPr>
            <a:xfrm>
              <a:off x="1581120" y="386064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Los Agentes atienden consultas telefónicas, por correo electrónico,  gestionan trámites telefónicos y reciben denuncia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15 Grupo"/>
          <p:cNvGrpSpPr/>
          <p:nvPr/>
        </p:nvGrpSpPr>
        <p:grpSpPr>
          <a:xfrm>
            <a:off x="1258920" y="4653000"/>
            <a:ext cx="6680160" cy="642600"/>
            <a:chOff x="1258920" y="4653000"/>
            <a:chExt cx="6680160" cy="642600"/>
          </a:xfrm>
        </p:grpSpPr>
        <p:pic>
          <p:nvPicPr>
            <p:cNvPr id="29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258920" y="4686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14 CuadroTexto"/>
            <p:cNvSpPr/>
            <p:nvPr/>
          </p:nvSpPr>
          <p:spPr>
            <a:xfrm>
              <a:off x="1581120" y="4653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da Sección cuenta con un equipo de Referentes/Facilitadores (Agentes calificados)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9T13:29:49Z</dcterms:modified>
  <cp:revision>231</cp:revision>
  <dc:subject/>
  <dc:title>Diapositiva 1</dc:title>
</cp:coreProperties>
</file>