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637-9206-412F-80E3-FF75EA36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0C4-6E99-4A53-BCFD-BFAD7CF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0DA-C97A-4832-B64F-B6D39825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6D4-9810-452D-8655-C233EEDE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1E5-3C4E-4B34-B433-797DEDED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BB32-35FE-433F-8445-817CD4A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CB8-AEB4-4A8B-ACE6-46941A2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240-56FE-4229-B804-79630C7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83AE-8537-4F52-A812-40D9A8B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56F1-8D1D-4B53-8CE8-6E62E21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009D-2409-4B33-B47C-756E0063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E8D-D4A9-460B-989D-52DA6DA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B51-C7B7-4AA1-BF2F-B6F365B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3731-FAC9-4F75-B824-337E610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BC4-0FB4-4778-881D-E1D54E3A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F42-9334-4623-A39F-6E51999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B0F-5F8B-4D84-942E-634B300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13E-124A-4C2C-858D-4A42EA93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27E-D7B7-453C-84F1-E81BBAE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E24-C082-48E5-8C7E-1F5780A0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779-2593-44F5-9859-9ECDD184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0EC-1FBD-4804-84EB-381930F9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924-2F4B-4BA9-B91A-B8BAB2F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82E-DD12-4CFC-B61E-FF5BC5A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B22-DCD0-406E-8063-CB252DEBE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9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10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-negro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8 Rectángulo"/>
          <p:cNvSpPr/>
          <p:nvPr/>
        </p:nvSpPr>
        <p:spPr>
          <a:xfrm>
            <a:off x="0" y="6643800"/>
            <a:ext cx="9144000" cy="71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9 Rectángulo"/>
          <p:cNvSpPr/>
          <p:nvPr/>
        </p:nvSpPr>
        <p:spPr>
          <a:xfrm>
            <a:off x="0" y="109440"/>
            <a:ext cx="9144000" cy="71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Grupo" descr=""/>
          <p:cNvPicPr/>
          <p:nvPr/>
        </p:nvPicPr>
        <p:blipFill>
          <a:blip r:embed="rId3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17 Imagen" descr="logo AFIP TRANSP.png"/>
          <p:cNvPicPr/>
          <p:nvPr/>
        </p:nvPicPr>
        <p:blipFill>
          <a:blip r:embed="rId4"/>
          <a:stretch/>
        </p:blipFill>
        <p:spPr>
          <a:xfrm>
            <a:off x="496800" y="665280"/>
            <a:ext cx="1428840" cy="417240"/>
          </a:xfrm>
          <a:prstGeom prst="rect">
            <a:avLst/>
          </a:prstGeom>
          <a:ln w="0">
            <a:noFill/>
          </a:ln>
        </p:spPr>
      </p:pic>
      <p:sp>
        <p:nvSpPr>
          <p:cNvPr id="53" name="16 Rectángulo"/>
          <p:cNvSpPr/>
          <p:nvPr/>
        </p:nvSpPr>
        <p:spPr>
          <a:xfrm>
            <a:off x="2268360" y="606600"/>
            <a:ext cx="57168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8 Rectángulo"/>
          <p:cNvSpPr/>
          <p:nvPr/>
        </p:nvSpPr>
        <p:spPr>
          <a:xfrm>
            <a:off x="2911320" y="606600"/>
            <a:ext cx="5643720" cy="428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18 Grupo" descr=""/>
          <p:cNvPicPr/>
          <p:nvPr/>
        </p:nvPicPr>
        <p:blipFill>
          <a:blip r:embed="rId5"/>
          <a:stretch/>
        </p:blipFill>
        <p:spPr>
          <a:xfrm>
            <a:off x="19080" y="249120"/>
            <a:ext cx="9118440" cy="6407280"/>
          </a:xfrm>
          <a:prstGeom prst="rect">
            <a:avLst/>
          </a:prstGeom>
          <a:ln w="0">
            <a:noFill/>
          </a:ln>
        </p:spPr>
      </p:pic>
      <p:pic>
        <p:nvPicPr>
          <p:cNvPr id="56" name="22 Imagen" descr="Boton-redondo-griss.png"/>
          <p:cNvPicPr/>
          <p:nvPr/>
        </p:nvPicPr>
        <p:blipFill>
          <a:blip r:embed="rId6"/>
          <a:stretch/>
        </p:blipFill>
        <p:spPr>
          <a:xfrm>
            <a:off x="8429760" y="59292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23 Imagen" descr="logo AFIP TRANSP.png"/>
          <p:cNvPicPr/>
          <p:nvPr/>
        </p:nvPicPr>
        <p:blipFill>
          <a:blip r:embed="rId7"/>
          <a:stretch/>
        </p:blipFill>
        <p:spPr>
          <a:xfrm>
            <a:off x="369720" y="561960"/>
            <a:ext cx="1428840" cy="41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60B-9FE4-415C-ACAA-2638E8652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tapa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03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06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07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15 Grupo"/>
          <p:cNvGrpSpPr/>
          <p:nvPr/>
        </p:nvGrpSpPr>
        <p:grpSpPr>
          <a:xfrm>
            <a:off x="2124000" y="2852640"/>
            <a:ext cx="6680160" cy="368280"/>
            <a:chOff x="2124000" y="2852640"/>
            <a:chExt cx="6680160" cy="368280"/>
          </a:xfrm>
        </p:grpSpPr>
        <p:pic>
          <p:nvPicPr>
            <p:cNvPr id="113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24000" y="2885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14 CuadroTexto"/>
            <p:cNvSpPr/>
            <p:nvPr/>
          </p:nvSpPr>
          <p:spPr>
            <a:xfrm>
              <a:off x="2446200" y="2852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B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15 Grupo"/>
          <p:cNvGrpSpPr/>
          <p:nvPr/>
        </p:nvGrpSpPr>
        <p:grpSpPr>
          <a:xfrm>
            <a:off x="2124000" y="3429000"/>
            <a:ext cx="6680160" cy="368280"/>
            <a:chOff x="2124000" y="3429000"/>
            <a:chExt cx="6680160" cy="368280"/>
          </a:xfrm>
        </p:grpSpPr>
        <p:pic>
          <p:nvPicPr>
            <p:cNvPr id="116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462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14 CuadroTexto"/>
            <p:cNvSpPr/>
            <p:nvPr/>
          </p:nvSpPr>
          <p:spPr>
            <a:xfrm>
              <a:off x="2446200" y="342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iblioteca Electr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15 Grupo"/>
          <p:cNvGrpSpPr/>
          <p:nvPr/>
        </p:nvGrpSpPr>
        <p:grpSpPr>
          <a:xfrm>
            <a:off x="2124000" y="4076640"/>
            <a:ext cx="6680160" cy="368280"/>
            <a:chOff x="2124000" y="4076640"/>
            <a:chExt cx="6680160" cy="368280"/>
          </a:xfrm>
        </p:grpSpPr>
        <p:pic>
          <p:nvPicPr>
            <p:cNvPr id="119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109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14 CuadroTexto"/>
            <p:cNvSpPr/>
            <p:nvPr/>
          </p:nvSpPr>
          <p:spPr>
            <a:xfrm>
              <a:off x="2446200" y="4076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Boletín Ofici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15 Grupo"/>
          <p:cNvGrpSpPr/>
          <p:nvPr/>
        </p:nvGrpSpPr>
        <p:grpSpPr>
          <a:xfrm>
            <a:off x="2124000" y="4653000"/>
            <a:ext cx="6680160" cy="368280"/>
            <a:chOff x="2124000" y="4653000"/>
            <a:chExt cx="6680160" cy="368280"/>
          </a:xfrm>
        </p:grpSpPr>
        <p:pic>
          <p:nvPicPr>
            <p:cNvPr id="122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686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14 CuadroTexto"/>
            <p:cNvSpPr/>
            <p:nvPr/>
          </p:nvSpPr>
          <p:spPr>
            <a:xfrm>
              <a:off x="2446200" y="4653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ías Paso a Pa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15 Grupo"/>
          <p:cNvGrpSpPr/>
          <p:nvPr/>
        </p:nvGrpSpPr>
        <p:grpSpPr>
          <a:xfrm>
            <a:off x="2124000" y="5300640"/>
            <a:ext cx="6680160" cy="368280"/>
            <a:chOff x="2124000" y="5300640"/>
            <a:chExt cx="6680160" cy="368280"/>
          </a:xfrm>
        </p:grpSpPr>
        <p:pic>
          <p:nvPicPr>
            <p:cNvPr id="125" name="9 Imagen" descr="Boton-redondo-griss.png"/>
            <p:cNvPicPr/>
            <p:nvPr/>
          </p:nvPicPr>
          <p:blipFill>
            <a:blip r:embed="rId7"/>
            <a:stretch/>
          </p:blipFill>
          <p:spPr>
            <a:xfrm>
              <a:off x="2124000" y="533376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4 CuadroTexto"/>
            <p:cNvSpPr/>
            <p:nvPr/>
          </p:nvSpPr>
          <p:spPr>
            <a:xfrm>
              <a:off x="2446200" y="53006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Micrositios de la página we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8 Rectángulo redondeado"/>
          <p:cNvSpPr/>
          <p:nvPr/>
        </p:nvSpPr>
        <p:spPr>
          <a:xfrm>
            <a:off x="611280" y="1341360"/>
            <a:ext cx="7572240" cy="489600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30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33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34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S DE INFORMACIÓN PROP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5 Grupo"/>
          <p:cNvGrpSpPr/>
          <p:nvPr/>
        </p:nvGrpSpPr>
        <p:grpSpPr>
          <a:xfrm>
            <a:off x="2139840" y="2924280"/>
            <a:ext cx="6680160" cy="368280"/>
            <a:chOff x="2139840" y="2924280"/>
            <a:chExt cx="6680160" cy="368280"/>
          </a:xfrm>
        </p:grpSpPr>
        <p:pic>
          <p:nvPicPr>
            <p:cNvPr id="140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74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14 CuadroTexto"/>
            <p:cNvSpPr/>
            <p:nvPr/>
          </p:nvSpPr>
          <p:spPr>
            <a:xfrm>
              <a:off x="2462040" y="29242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ci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15 Grupo"/>
          <p:cNvGrpSpPr/>
          <p:nvPr/>
        </p:nvGrpSpPr>
        <p:grpSpPr>
          <a:xfrm>
            <a:off x="2124000" y="3573360"/>
            <a:ext cx="6680160" cy="368280"/>
            <a:chOff x="2124000" y="3573360"/>
            <a:chExt cx="6680160" cy="368280"/>
          </a:xfrm>
        </p:grpSpPr>
        <p:pic>
          <p:nvPicPr>
            <p:cNvPr id="143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24000" y="360648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14 CuadroTexto"/>
            <p:cNvSpPr/>
            <p:nvPr/>
          </p:nvSpPr>
          <p:spPr>
            <a:xfrm>
              <a:off x="2446200" y="357336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uiones de Respuestas preelaborad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15 Grupo"/>
          <p:cNvGrpSpPr/>
          <p:nvPr/>
        </p:nvGrpSpPr>
        <p:grpSpPr>
          <a:xfrm>
            <a:off x="2124000" y="4221000"/>
            <a:ext cx="6680160" cy="368280"/>
            <a:chOff x="2124000" y="4221000"/>
            <a:chExt cx="6680160" cy="368280"/>
          </a:xfrm>
        </p:grpSpPr>
        <p:pic>
          <p:nvPicPr>
            <p:cNvPr id="146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24000" y="42541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14 CuadroTexto"/>
            <p:cNvSpPr/>
            <p:nvPr/>
          </p:nvSpPr>
          <p:spPr>
            <a:xfrm>
              <a:off x="2446200" y="4221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apacitación en conocimientos técn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15 Grupo"/>
          <p:cNvGrpSpPr/>
          <p:nvPr/>
        </p:nvGrpSpPr>
        <p:grpSpPr>
          <a:xfrm>
            <a:off x="2124000" y="4869000"/>
            <a:ext cx="6680160" cy="368280"/>
            <a:chOff x="2124000" y="4869000"/>
            <a:chExt cx="6680160" cy="368280"/>
          </a:xfrm>
        </p:grpSpPr>
        <p:pic>
          <p:nvPicPr>
            <p:cNvPr id="149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24000" y="490212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14 CuadroTexto"/>
            <p:cNvSpPr/>
            <p:nvPr/>
          </p:nvSpPr>
          <p:spPr>
            <a:xfrm>
              <a:off x="2446200" y="48690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Cuenta infodecad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54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ERRAMIENTAS PARA LA ATENCIÓN TELEFÓN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30 Grupo"/>
          <p:cNvGrpSpPr/>
          <p:nvPr/>
        </p:nvGrpSpPr>
        <p:grpSpPr>
          <a:xfrm>
            <a:off x="1116000" y="2133720"/>
            <a:ext cx="6624720" cy="431640"/>
            <a:chOff x="1116000" y="2133720"/>
            <a:chExt cx="6624720" cy="431640"/>
          </a:xfrm>
        </p:grpSpPr>
        <p:grpSp>
          <p:nvGrpSpPr>
            <p:cNvPr id="157" name="36 Rectángulo redondeado"/>
            <p:cNvGrpSpPr/>
            <p:nvPr/>
          </p:nvGrpSpPr>
          <p:grpSpPr>
            <a:xfrm>
              <a:off x="1116000" y="2133720"/>
              <a:ext cx="6624720" cy="431640"/>
              <a:chOff x="1116000" y="2133720"/>
              <a:chExt cx="6624720" cy="431640"/>
            </a:xfrm>
          </p:grpSpPr>
          <p:pic>
            <p:nvPicPr>
              <p:cNvPr id="158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2133720"/>
                <a:ext cx="6624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235880" y="2160000"/>
                <a:ext cx="63943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37 CuadroTexto"/>
            <p:cNvSpPr/>
            <p:nvPr/>
          </p:nvSpPr>
          <p:spPr>
            <a:xfrm>
              <a:off x="1536480" y="2155680"/>
              <a:ext cx="58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165320" y="213372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FTWARE Y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15 Grupo"/>
          <p:cNvGrpSpPr/>
          <p:nvPr/>
        </p:nvGrpSpPr>
        <p:grpSpPr>
          <a:xfrm>
            <a:off x="2139840" y="2917800"/>
            <a:ext cx="6680160" cy="368280"/>
            <a:chOff x="2139840" y="2917800"/>
            <a:chExt cx="6680160" cy="368280"/>
          </a:xfrm>
        </p:grpSpPr>
        <p:pic>
          <p:nvPicPr>
            <p:cNvPr id="164" name="9 Imagen" descr="Boton-redondo-griss.png"/>
            <p:cNvPicPr/>
            <p:nvPr/>
          </p:nvPicPr>
          <p:blipFill>
            <a:blip r:embed="rId3"/>
            <a:stretch/>
          </p:blipFill>
          <p:spPr>
            <a:xfrm>
              <a:off x="2139840" y="295092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14 CuadroTexto"/>
            <p:cNvSpPr/>
            <p:nvPr/>
          </p:nvSpPr>
          <p:spPr>
            <a:xfrm>
              <a:off x="2462040" y="291780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iPath ProCenter 5.1 de Sieme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15 Grupo"/>
          <p:cNvGrpSpPr/>
          <p:nvPr/>
        </p:nvGrpSpPr>
        <p:grpSpPr>
          <a:xfrm>
            <a:off x="2139840" y="3567240"/>
            <a:ext cx="6680160" cy="368280"/>
            <a:chOff x="2139840" y="3567240"/>
            <a:chExt cx="6680160" cy="368280"/>
          </a:xfrm>
        </p:grpSpPr>
        <p:pic>
          <p:nvPicPr>
            <p:cNvPr id="167" name="9 Imagen" descr="Boton-redondo-griss.png"/>
            <p:cNvPicPr/>
            <p:nvPr/>
          </p:nvPicPr>
          <p:blipFill>
            <a:blip r:embed="rId4"/>
            <a:stretch/>
          </p:blipFill>
          <p:spPr>
            <a:xfrm>
              <a:off x="2139840" y="360036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14 CuadroTexto"/>
            <p:cNvSpPr/>
            <p:nvPr/>
          </p:nvSpPr>
          <p:spPr>
            <a:xfrm>
              <a:off x="2462040" y="356724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cesos a Sistemas del Organismo módulo consul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15 Grupo"/>
          <p:cNvGrpSpPr/>
          <p:nvPr/>
        </p:nvGrpSpPr>
        <p:grpSpPr>
          <a:xfrm>
            <a:off x="2139840" y="4214880"/>
            <a:ext cx="6680160" cy="368280"/>
            <a:chOff x="2139840" y="4214880"/>
            <a:chExt cx="6680160" cy="368280"/>
          </a:xfrm>
        </p:grpSpPr>
        <p:pic>
          <p:nvPicPr>
            <p:cNvPr id="170" name="9 Imagen" descr="Boton-redondo-griss.png"/>
            <p:cNvPicPr/>
            <p:nvPr/>
          </p:nvPicPr>
          <p:blipFill>
            <a:blip r:embed="rId5"/>
            <a:stretch/>
          </p:blipFill>
          <p:spPr>
            <a:xfrm>
              <a:off x="2139840" y="4248000"/>
              <a:ext cx="28548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14 CuadroTexto"/>
            <p:cNvSpPr/>
            <p:nvPr/>
          </p:nvSpPr>
          <p:spPr>
            <a:xfrm>
              <a:off x="2462040" y="421488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léfono IP - Pc – Vinchas y Adaptado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15 Grupo"/>
          <p:cNvGrpSpPr/>
          <p:nvPr/>
        </p:nvGrpSpPr>
        <p:grpSpPr>
          <a:xfrm>
            <a:off x="2139840" y="4862520"/>
            <a:ext cx="6680160" cy="368280"/>
            <a:chOff x="2139840" y="4862520"/>
            <a:chExt cx="6680160" cy="368280"/>
          </a:xfrm>
        </p:grpSpPr>
        <p:pic>
          <p:nvPicPr>
            <p:cNvPr id="173" name="9 Imagen" descr="Boton-redondo-griss.png"/>
            <p:cNvPicPr/>
            <p:nvPr/>
          </p:nvPicPr>
          <p:blipFill>
            <a:blip r:embed="rId6"/>
            <a:stretch/>
          </p:blipFill>
          <p:spPr>
            <a:xfrm>
              <a:off x="2139840" y="4895640"/>
              <a:ext cx="28548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4 CuadroTexto"/>
            <p:cNvSpPr/>
            <p:nvPr/>
          </p:nvSpPr>
          <p:spPr>
            <a:xfrm>
              <a:off x="2462040" y="4862520"/>
              <a:ext cx="63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alibri"/>
                </a:rPr>
                <a:t>Grabador de llamad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8 Rectángulo redondeado"/>
          <p:cNvSpPr/>
          <p:nvPr/>
        </p:nvSpPr>
        <p:spPr>
          <a:xfrm>
            <a:off x="611280" y="134136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Rectangle 17"/>
          <p:cNvGrpSpPr/>
          <p:nvPr/>
        </p:nvGrpSpPr>
        <p:grpSpPr>
          <a:xfrm>
            <a:off x="826920" y="1557360"/>
            <a:ext cx="7151400" cy="502920"/>
            <a:chOff x="826920" y="1557360"/>
            <a:chExt cx="7151400" cy="502920"/>
          </a:xfrm>
        </p:grpSpPr>
        <p:pic>
          <p:nvPicPr>
            <p:cNvPr id="178" name="Rectangle 17" descr=""/>
            <p:cNvPicPr/>
            <p:nvPr/>
          </p:nvPicPr>
          <p:blipFill>
            <a:blip r:embed="rId1"/>
            <a:stretch/>
          </p:blipFill>
          <p:spPr>
            <a:xfrm>
              <a:off x="826920" y="1557360"/>
              <a:ext cx="715140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07200" y="1617840"/>
              <a:ext cx="69991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30 Grupo"/>
          <p:cNvGrpSpPr/>
          <p:nvPr/>
        </p:nvGrpSpPr>
        <p:grpSpPr>
          <a:xfrm>
            <a:off x="2698920" y="3357720"/>
            <a:ext cx="4249440" cy="358560"/>
            <a:chOff x="2698920" y="3357720"/>
            <a:chExt cx="4249440" cy="358560"/>
          </a:xfrm>
        </p:grpSpPr>
        <p:grpSp>
          <p:nvGrpSpPr>
            <p:cNvPr id="181" name="36 Rectángulo redondeado"/>
            <p:cNvGrpSpPr/>
            <p:nvPr/>
          </p:nvGrpSpPr>
          <p:grpSpPr>
            <a:xfrm>
              <a:off x="2698920" y="3357720"/>
              <a:ext cx="4249440" cy="358560"/>
              <a:chOff x="2698920" y="3357720"/>
              <a:chExt cx="4249440" cy="358560"/>
            </a:xfrm>
          </p:grpSpPr>
          <p:pic>
            <p:nvPicPr>
              <p:cNvPr id="182" name="36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698920" y="3357720"/>
                <a:ext cx="424944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2775960" y="3379320"/>
                <a:ext cx="410184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37 CuadroTexto"/>
            <p:cNvSpPr/>
            <p:nvPr/>
          </p:nvSpPr>
          <p:spPr>
            <a:xfrm>
              <a:off x="2968200" y="3376440"/>
              <a:ext cx="375408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Rectangle 9"/>
          <p:cNvGrpSpPr/>
          <p:nvPr/>
        </p:nvGrpSpPr>
        <p:grpSpPr>
          <a:xfrm>
            <a:off x="2627280" y="2492280"/>
            <a:ext cx="4392720" cy="432000"/>
            <a:chOff x="2627280" y="2492280"/>
            <a:chExt cx="4392720" cy="432000"/>
          </a:xfrm>
        </p:grpSpPr>
        <p:pic>
          <p:nvPicPr>
            <p:cNvPr id="186" name="Rectangle 9" descr=""/>
            <p:cNvPicPr/>
            <p:nvPr/>
          </p:nvPicPr>
          <p:blipFill>
            <a:blip r:embed="rId3"/>
            <a:stretch/>
          </p:blipFill>
          <p:spPr>
            <a:xfrm>
              <a:off x="2627280" y="2492280"/>
              <a:ext cx="439272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84240" y="2542320"/>
              <a:ext cx="40863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INGRESADAS: 47.71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2770200" y="3357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70,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262160" y="2492280"/>
            <a:ext cx="1176120" cy="122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1297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192" name="Rectangle 9"/>
          <p:cNvGrpSpPr/>
          <p:nvPr/>
        </p:nvGrpSpPr>
        <p:grpSpPr>
          <a:xfrm>
            <a:off x="2627280" y="2924280"/>
            <a:ext cx="4392720" cy="433440"/>
            <a:chOff x="2627280" y="2924280"/>
            <a:chExt cx="4392720" cy="433440"/>
          </a:xfrm>
        </p:grpSpPr>
        <p:pic>
          <p:nvPicPr>
            <p:cNvPr id="193" name="Rectangle 9" descr=""/>
            <p:cNvPicPr/>
            <p:nvPr/>
          </p:nvPicPr>
          <p:blipFill>
            <a:blip r:embed="rId6"/>
            <a:stretch/>
          </p:blipFill>
          <p:spPr>
            <a:xfrm>
              <a:off x="2627280" y="2924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84240" y="2974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LLAMADAS ATENDIDAS: 33.75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30 Grupo"/>
          <p:cNvGrpSpPr/>
          <p:nvPr/>
        </p:nvGrpSpPr>
        <p:grpSpPr>
          <a:xfrm>
            <a:off x="2698920" y="5076720"/>
            <a:ext cx="4249440" cy="358920"/>
            <a:chOff x="2698920" y="5076720"/>
            <a:chExt cx="4249440" cy="358920"/>
          </a:xfrm>
        </p:grpSpPr>
        <p:grpSp>
          <p:nvGrpSpPr>
            <p:cNvPr id="196" name="36 Rectángulo redondeado"/>
            <p:cNvGrpSpPr/>
            <p:nvPr/>
          </p:nvGrpSpPr>
          <p:grpSpPr>
            <a:xfrm>
              <a:off x="2698920" y="5076720"/>
              <a:ext cx="4249440" cy="358920"/>
              <a:chOff x="2698920" y="5076720"/>
              <a:chExt cx="4249440" cy="358920"/>
            </a:xfrm>
          </p:grpSpPr>
          <p:pic>
            <p:nvPicPr>
              <p:cNvPr id="197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8920" y="5076720"/>
                <a:ext cx="42494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2775960" y="5098320"/>
                <a:ext cx="41018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37 CuadroTexto"/>
            <p:cNvSpPr/>
            <p:nvPr/>
          </p:nvSpPr>
          <p:spPr>
            <a:xfrm>
              <a:off x="2968200" y="5095440"/>
              <a:ext cx="37540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Rectangle 9"/>
          <p:cNvGrpSpPr/>
          <p:nvPr/>
        </p:nvGrpSpPr>
        <p:grpSpPr>
          <a:xfrm>
            <a:off x="2627280" y="4211640"/>
            <a:ext cx="4392720" cy="431640"/>
            <a:chOff x="2627280" y="4211640"/>
            <a:chExt cx="4392720" cy="431640"/>
          </a:xfrm>
        </p:grpSpPr>
        <p:pic>
          <p:nvPicPr>
            <p:cNvPr id="201" name="Rectangle 9" descr=""/>
            <p:cNvPicPr/>
            <p:nvPr/>
          </p:nvPicPr>
          <p:blipFill>
            <a:blip r:embed="rId8"/>
            <a:stretch/>
          </p:blipFill>
          <p:spPr>
            <a:xfrm>
              <a:off x="2627280" y="4211640"/>
              <a:ext cx="4392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4240" y="4261680"/>
              <a:ext cx="408636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INGRESADOS: 33.42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70200" y="50767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% DE ATENCIÓN: 99,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Rectangle 9"/>
          <p:cNvGrpSpPr/>
          <p:nvPr/>
        </p:nvGrpSpPr>
        <p:grpSpPr>
          <a:xfrm>
            <a:off x="2627280" y="4643280"/>
            <a:ext cx="4392720" cy="433440"/>
            <a:chOff x="2627280" y="4643280"/>
            <a:chExt cx="4392720" cy="433440"/>
          </a:xfrm>
        </p:grpSpPr>
        <p:pic>
          <p:nvPicPr>
            <p:cNvPr id="205" name="Rectangle 9" descr=""/>
            <p:cNvPicPr/>
            <p:nvPr/>
          </p:nvPicPr>
          <p:blipFill>
            <a:blip r:embed="rId9"/>
            <a:stretch/>
          </p:blipFill>
          <p:spPr>
            <a:xfrm>
              <a:off x="2627280" y="4643280"/>
              <a:ext cx="43927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84240" y="4693320"/>
              <a:ext cx="4086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RREOS RESPONDIDOS: 33.25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Rectangle 17"/>
          <p:cNvGrpSpPr/>
          <p:nvPr/>
        </p:nvGrpSpPr>
        <p:grpSpPr>
          <a:xfrm>
            <a:off x="900000" y="1628640"/>
            <a:ext cx="7078680" cy="504720"/>
            <a:chOff x="900000" y="1628640"/>
            <a:chExt cx="7078680" cy="504720"/>
          </a:xfrm>
        </p:grpSpPr>
        <p:pic>
          <p:nvPicPr>
            <p:cNvPr id="210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078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79560" y="1689480"/>
              <a:ext cx="692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NDICADORES DE ATEN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Rectangle 9"/>
          <p:cNvGrpSpPr/>
          <p:nvPr/>
        </p:nvGrpSpPr>
        <p:grpSpPr>
          <a:xfrm>
            <a:off x="1042920" y="2276640"/>
            <a:ext cx="6842160" cy="431640"/>
            <a:chOff x="1042920" y="2276640"/>
            <a:chExt cx="6842160" cy="431640"/>
          </a:xfrm>
        </p:grpSpPr>
        <p:pic>
          <p:nvPicPr>
            <p:cNvPr id="213" name="Rectangle 9" descr=""/>
            <p:cNvPicPr/>
            <p:nvPr/>
          </p:nvPicPr>
          <p:blipFill>
            <a:blip r:embed="rId2"/>
            <a:stretch/>
          </p:blipFill>
          <p:spPr>
            <a:xfrm>
              <a:off x="1042920" y="227664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87360" y="232668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TENCIÓN POR AGEN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32000" y="2852640"/>
          <a:ext cx="586728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852640"/>
                    <a:ext cx="58672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Rectangle 9"/>
          <p:cNvGrpSpPr/>
          <p:nvPr/>
        </p:nvGrpSpPr>
        <p:grpSpPr>
          <a:xfrm>
            <a:off x="1116000" y="4365720"/>
            <a:ext cx="6842160" cy="431640"/>
            <a:chOff x="1116000" y="4365720"/>
            <a:chExt cx="6842160" cy="431640"/>
          </a:xfrm>
        </p:grpSpPr>
        <p:pic>
          <p:nvPicPr>
            <p:cNvPr id="219" name="Rectangle 9" descr=""/>
            <p:cNvPicPr/>
            <p:nvPr/>
          </p:nvPicPr>
          <p:blipFill>
            <a:blip r:embed="rId5"/>
            <a:stretch/>
          </p:blipFill>
          <p:spPr>
            <a:xfrm>
              <a:off x="1116000" y="4365720"/>
              <a:ext cx="6842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60440" y="4415760"/>
              <a:ext cx="63648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IEMPO PROMEDIO DE ESPE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2124000" y="4869000"/>
          <a:ext cx="4738680" cy="819000"/>
        </p:xfrm>
        <a:graphic>
          <a:graphicData uri="http://schemas.openxmlformats.org/drawingml/2006/table">
            <a:tbl>
              <a:tblPr/>
              <a:tblGrid>
                <a:gridCol w="2376720"/>
                <a:gridCol w="236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Teléf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empo Promedio Respuesta Corr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0:04: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 hs. hábi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3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8 Rectángulo redondeado"/>
          <p:cNvSpPr/>
          <p:nvPr/>
        </p:nvSpPr>
        <p:spPr>
          <a:xfrm>
            <a:off x="642960" y="1392120"/>
            <a:ext cx="7572240" cy="4608720"/>
          </a:xfrm>
          <a:prstGeom prst="roundRect">
            <a:avLst>
              <a:gd name="adj" fmla="val 4444"/>
            </a:avLst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2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Rectangle 17"/>
          <p:cNvGrpSpPr/>
          <p:nvPr/>
        </p:nvGrpSpPr>
        <p:grpSpPr>
          <a:xfrm>
            <a:off x="900000" y="1730520"/>
            <a:ext cx="7078680" cy="474480"/>
            <a:chOff x="900000" y="1730520"/>
            <a:chExt cx="7078680" cy="474480"/>
          </a:xfrm>
        </p:grpSpPr>
        <p:pic>
          <p:nvPicPr>
            <p:cNvPr id="225" name="Rectangle 17" descr=""/>
            <p:cNvPicPr/>
            <p:nvPr/>
          </p:nvPicPr>
          <p:blipFill>
            <a:blip r:embed="rId1"/>
            <a:stretch/>
          </p:blipFill>
          <p:spPr>
            <a:xfrm>
              <a:off x="900000" y="1730520"/>
              <a:ext cx="70786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9560" y="1787760"/>
              <a:ext cx="69278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TROS DATOS ESTADÍSTICOS (Promedio Mensual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Rectangle 9"/>
          <p:cNvGrpSpPr/>
          <p:nvPr/>
        </p:nvGrpSpPr>
        <p:grpSpPr>
          <a:xfrm>
            <a:off x="1258920" y="2708280"/>
            <a:ext cx="4105080" cy="503280"/>
            <a:chOff x="1258920" y="2708280"/>
            <a:chExt cx="4105080" cy="503280"/>
          </a:xfrm>
        </p:grpSpPr>
        <p:pic>
          <p:nvPicPr>
            <p:cNvPr id="228" name="Rectangle 9" descr=""/>
            <p:cNvPicPr/>
            <p:nvPr/>
          </p:nvPicPr>
          <p:blipFill>
            <a:blip r:embed="rId2"/>
            <a:stretch/>
          </p:blipFill>
          <p:spPr>
            <a:xfrm>
              <a:off x="1258920" y="270828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05440" y="276660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RÁMITES TELEFÓNICOS REALIZAD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3016080" y="652320"/>
            <a:ext cx="54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ENTRO DE INFORMACIÓN TELEFÓN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30 Grupo"/>
          <p:cNvGrpSpPr/>
          <p:nvPr/>
        </p:nvGrpSpPr>
        <p:grpSpPr>
          <a:xfrm>
            <a:off x="5435640" y="2779560"/>
            <a:ext cx="2016000" cy="360360"/>
            <a:chOff x="5435640" y="2779560"/>
            <a:chExt cx="2016000" cy="360360"/>
          </a:xfrm>
        </p:grpSpPr>
        <p:grpSp>
          <p:nvGrpSpPr>
            <p:cNvPr id="232" name="36 Rectángulo redondeado"/>
            <p:cNvGrpSpPr/>
            <p:nvPr/>
          </p:nvGrpSpPr>
          <p:grpSpPr>
            <a:xfrm>
              <a:off x="5435640" y="2779560"/>
              <a:ext cx="2016000" cy="360360"/>
              <a:chOff x="5435640" y="2779560"/>
              <a:chExt cx="2016000" cy="360360"/>
            </a:xfrm>
          </p:grpSpPr>
          <p:pic>
            <p:nvPicPr>
              <p:cNvPr id="233" name="36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27795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5472000" y="28015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5" name="37 CuadroTexto"/>
            <p:cNvSpPr/>
            <p:nvPr/>
          </p:nvSpPr>
          <p:spPr>
            <a:xfrm>
              <a:off x="5564160" y="28317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580000" y="27795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3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Rectangle 9"/>
          <p:cNvGrpSpPr/>
          <p:nvPr/>
        </p:nvGrpSpPr>
        <p:grpSpPr>
          <a:xfrm>
            <a:off x="1258920" y="3573360"/>
            <a:ext cx="4105080" cy="503280"/>
            <a:chOff x="1258920" y="3573360"/>
            <a:chExt cx="4105080" cy="503280"/>
          </a:xfrm>
        </p:grpSpPr>
        <p:pic>
          <p:nvPicPr>
            <p:cNvPr id="238" name="Rectangle 9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4105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405440" y="3631680"/>
              <a:ext cx="3818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CONSULTAS INTERN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30 Grupo"/>
          <p:cNvGrpSpPr/>
          <p:nvPr/>
        </p:nvGrpSpPr>
        <p:grpSpPr>
          <a:xfrm>
            <a:off x="5435640" y="3645000"/>
            <a:ext cx="2016000" cy="360360"/>
            <a:chOff x="5435640" y="3645000"/>
            <a:chExt cx="2016000" cy="360360"/>
          </a:xfrm>
        </p:grpSpPr>
        <p:grpSp>
          <p:nvGrpSpPr>
            <p:cNvPr id="241" name="36 Rectángulo redondeado"/>
            <p:cNvGrpSpPr/>
            <p:nvPr/>
          </p:nvGrpSpPr>
          <p:grpSpPr>
            <a:xfrm>
              <a:off x="5435640" y="3645000"/>
              <a:ext cx="2016000" cy="360360"/>
              <a:chOff x="5435640" y="3645000"/>
              <a:chExt cx="2016000" cy="360360"/>
            </a:xfrm>
          </p:grpSpPr>
          <p:pic>
            <p:nvPicPr>
              <p:cNvPr id="242" name="36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5640" y="364500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472000" y="366696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37 CuadroTexto"/>
            <p:cNvSpPr/>
            <p:nvPr/>
          </p:nvSpPr>
          <p:spPr>
            <a:xfrm>
              <a:off x="5564160" y="369720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580000" y="364500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Rectangle 9"/>
          <p:cNvGrpSpPr/>
          <p:nvPr/>
        </p:nvGrpSpPr>
        <p:grpSpPr>
          <a:xfrm>
            <a:off x="1258920" y="4508640"/>
            <a:ext cx="4105080" cy="502920"/>
            <a:chOff x="1258920" y="4508640"/>
            <a:chExt cx="4105080" cy="502920"/>
          </a:xfrm>
        </p:grpSpPr>
        <p:pic>
          <p:nvPicPr>
            <p:cNvPr id="247" name="Rectangle 9" descr=""/>
            <p:cNvPicPr/>
            <p:nvPr/>
          </p:nvPicPr>
          <p:blipFill>
            <a:blip r:embed="rId6"/>
            <a:stretch/>
          </p:blipFill>
          <p:spPr>
            <a:xfrm>
              <a:off x="1258920" y="4508640"/>
              <a:ext cx="41050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405440" y="4566960"/>
              <a:ext cx="38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ENUNCIAS GESTIONAD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30 Grupo"/>
          <p:cNvGrpSpPr/>
          <p:nvPr/>
        </p:nvGrpSpPr>
        <p:grpSpPr>
          <a:xfrm>
            <a:off x="5435640" y="4581360"/>
            <a:ext cx="2016000" cy="360360"/>
            <a:chOff x="5435640" y="4581360"/>
            <a:chExt cx="2016000" cy="360360"/>
          </a:xfrm>
        </p:grpSpPr>
        <p:grpSp>
          <p:nvGrpSpPr>
            <p:cNvPr id="250" name="36 Rectángulo redondeado"/>
            <p:cNvGrpSpPr/>
            <p:nvPr/>
          </p:nvGrpSpPr>
          <p:grpSpPr>
            <a:xfrm>
              <a:off x="5435640" y="4581360"/>
              <a:ext cx="2016000" cy="360360"/>
              <a:chOff x="5435640" y="4581360"/>
              <a:chExt cx="2016000" cy="360360"/>
            </a:xfrm>
          </p:grpSpPr>
          <p:pic>
            <p:nvPicPr>
              <p:cNvPr id="251" name="36 Rectángulo redondeado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5640" y="4581360"/>
                <a:ext cx="201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5472000" y="4603320"/>
                <a:ext cx="194616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0" bIns="46800" anchor="ctr">
                <a:noAutofit/>
              </a:bodyPr>
              <a:p>
                <a:pPr marL="181080" indent="-181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37 CuadroTexto"/>
            <p:cNvSpPr/>
            <p:nvPr/>
          </p:nvSpPr>
          <p:spPr>
            <a:xfrm>
              <a:off x="5564160" y="4633560"/>
              <a:ext cx="17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e46c0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580000" y="4581360"/>
            <a:ext cx="172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1.7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5 Imagen" descr="dorso-jpg-plantill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068640"/>
            <a:ext cx="9144000" cy="1635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alibri"/>
              </a:rPr>
              <a:t>¡Muchas gracias por su atenció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54:15Z</dcterms:created>
  <dc:creator>Administrador</dc:creator>
  <dc:description/>
  <dc:language>en-US</dc:language>
  <cp:lastModifiedBy>User</cp:lastModifiedBy>
  <dcterms:modified xsi:type="dcterms:W3CDTF">2013-09-06T19:42:37Z</dcterms:modified>
  <cp:revision>239</cp:revision>
  <dc:subject/>
  <dc:title>Diapositiva 1</dc:title>
</cp:coreProperties>
</file>