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5264280" y="-36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5264280" y="653544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23C746-8536-449D-83FE-8F57B43B1C5C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ó: Lic. Efre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51D6B8-5698-453B-870A-3520A5871495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265720" y="653580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ABB-028C-4BFD-A641-0DA062228630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930400" y="515880"/>
            <a:ext cx="3441960" cy="2581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9880" y="3271320"/>
            <a:ext cx="743580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 Unicode MS"/>
              </a:rPr>
              <a:t>Realizo: Lic. Efrén Sot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D8BD80-F19A-4841-999F-F61245612D30}" type="slidenum"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0240" y="3268440"/>
            <a:ext cx="74376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RETO 4-2012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F61517-5BEA-49DE-9E6C-226D5827D672}" type="slidenum">
              <a:rPr b="0" lang="es-G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59984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4022280"/>
            <a:ext cx="2828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878544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402228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99840"/>
            <a:ext cx="42872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4022280"/>
            <a:ext cx="87854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219640" y="77760"/>
            <a:ext cx="390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655720" y="64468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Unicode MS"/>
              </a:rPr>
              <a:t>Intendencia de Fiscaliz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78454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PARTAMENTO DE PROCESOS MASIVO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43280" y="5516640"/>
            <a:ext cx="597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Intendencia de Fiscalización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 Diagrama" descr=""/>
          <p:cNvPicPr/>
          <p:nvPr/>
        </p:nvPicPr>
        <p:blipFill>
          <a:blip r:embed="rId1"/>
          <a:stretch/>
        </p:blipFill>
        <p:spPr>
          <a:xfrm>
            <a:off x="2852640" y="2146320"/>
            <a:ext cx="4456080" cy="3151080"/>
          </a:xfrm>
          <a:prstGeom prst="rect">
            <a:avLst/>
          </a:prstGeom>
          <a:ln w="0">
            <a:noFill/>
          </a:ln>
        </p:spPr>
      </p:pic>
      <p:pic>
        <p:nvPicPr>
          <p:cNvPr id="99" name="3 CuadroTexto" descr=""/>
          <p:cNvPicPr/>
          <p:nvPr/>
        </p:nvPicPr>
        <p:blipFill>
          <a:blip r:embed="rId2"/>
          <a:stretch/>
        </p:blipFill>
        <p:spPr>
          <a:xfrm>
            <a:off x="-139680" y="828720"/>
            <a:ext cx="4370400" cy="93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pic>
        <p:nvPicPr>
          <p:cNvPr id="101" name="1 Diagrama" descr=""/>
          <p:cNvPicPr/>
          <p:nvPr/>
        </p:nvPicPr>
        <p:blipFill>
          <a:blip r:embed="rId4"/>
          <a:stretch/>
        </p:blipFill>
        <p:spPr>
          <a:xfrm>
            <a:off x="1328760" y="695160"/>
            <a:ext cx="7486560" cy="576612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2446200" y="648828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Diagrama" descr=""/>
          <p:cNvPicPr/>
          <p:nvPr/>
        </p:nvPicPr>
        <p:blipFill>
          <a:blip r:embed="rId1"/>
          <a:stretch/>
        </p:blipFill>
        <p:spPr>
          <a:xfrm>
            <a:off x="1438200" y="1407960"/>
            <a:ext cx="6888240" cy="4840560"/>
          </a:xfrm>
          <a:prstGeom prst="rect">
            <a:avLst/>
          </a:prstGeom>
          <a:ln w="0">
            <a:noFill/>
          </a:ln>
        </p:spPr>
      </p:pic>
      <p:pic>
        <p:nvPicPr>
          <p:cNvPr id="104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Diagrama" descr=""/>
          <p:cNvPicPr/>
          <p:nvPr/>
        </p:nvPicPr>
        <p:blipFill>
          <a:blip r:embed="rId1"/>
          <a:stretch/>
        </p:blipFill>
        <p:spPr>
          <a:xfrm>
            <a:off x="1109520" y="1542960"/>
            <a:ext cx="7412040" cy="5321520"/>
          </a:xfrm>
          <a:prstGeom prst="rect">
            <a:avLst/>
          </a:prstGeom>
          <a:ln w="0">
            <a:noFill/>
          </a:ln>
        </p:spPr>
      </p:pic>
      <p:pic>
        <p:nvPicPr>
          <p:cNvPr id="108" name="4 CuadroTexto" descr=""/>
          <p:cNvPicPr/>
          <p:nvPr/>
        </p:nvPicPr>
        <p:blipFill>
          <a:blip r:embed="rId2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2436840" y="650088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ibujo"/>
          <p:cNvPicPr/>
          <p:nvPr/>
        </p:nvPicPr>
        <p:blipFill>
          <a:blip r:embed="rId2"/>
          <a:srcRect l="6956" t="12589" r="12715" b="44104"/>
          <a:stretch/>
        </p:blipFill>
        <p:spPr>
          <a:xfrm>
            <a:off x="3146400" y="3357720"/>
            <a:ext cx="3097080" cy="1083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5" descr=""/>
          <p:cNvPicPr/>
          <p:nvPr/>
        </p:nvPicPr>
        <p:blipFill>
          <a:blip r:embed="rId3"/>
          <a:stretch/>
        </p:blipFill>
        <p:spPr>
          <a:xfrm>
            <a:off x="0" y="10476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2700360" y="6477120"/>
            <a:ext cx="5111640" cy="38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50920" y="114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S</a:t>
            </a:r>
            <a:endParaRPr b="1" lang="en-US" sz="40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Generar en el contribuyente la percepción de riesgo de ser fiscalizado, lograr el pago voluntario de tributos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e incrementar la base tributaria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0000"/>
                </a:solidFill>
                <a:latin typeface="바탕"/>
              </a:rPr>
              <a:t>OBJETIVO</a:t>
            </a: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599840"/>
            <a:ext cx="8785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 u="sng">
                <a:solidFill>
                  <a:srgbClr val="000000"/>
                </a:solidFill>
                <a:uFillTx/>
                <a:latin typeface="바탕"/>
              </a:rPr>
              <a:t>ESPECIFICOS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Revisar que el contribuyente este registrado en S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Que cumpla con poseer,  emitir y entregar facturas  a sus cliente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  <a:ea typeface="Arial"/>
              </a:rPr>
              <a:t>ancionar si no cumple con lo establecido en las leyes tributarias vigentes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CESO DE REALIZACION DEL PROGRAM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55" name="Picture 296" descr="ficha2 copy"/>
          <p:cNvPicPr/>
          <p:nvPr/>
        </p:nvPicPr>
        <p:blipFill>
          <a:blip r:embed="rId1"/>
          <a:stretch/>
        </p:blipFill>
        <p:spPr>
          <a:xfrm>
            <a:off x="250920" y="3357720"/>
            <a:ext cx="1547640" cy="1541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1763640" y="400536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468360" y="3933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Unicode MS"/>
              </a:rPr>
              <a:t>PLAN ANUAL DE FISCALIZACION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8" name="Group 323"/>
          <p:cNvGrpSpPr/>
          <p:nvPr/>
        </p:nvGrpSpPr>
        <p:grpSpPr>
          <a:xfrm>
            <a:off x="3924360" y="3573360"/>
            <a:ext cx="1162080" cy="1152360"/>
            <a:chOff x="3924360" y="3573360"/>
            <a:chExt cx="1162080" cy="1152360"/>
          </a:xfrm>
        </p:grpSpPr>
        <p:pic>
          <p:nvPicPr>
            <p:cNvPr id="59" name="Picture 297" descr="ficha2 copy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/>
            <p:cNvSpPr/>
            <p:nvPr/>
          </p:nvSpPr>
          <p:spPr>
            <a:xfrm>
              <a:off x="3995640" y="3933720"/>
              <a:ext cx="92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DEPTO. DE PROCESOS MASIVOS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1" name="AutoShape 4"/>
          <p:cNvSpPr/>
          <p:nvPr/>
        </p:nvSpPr>
        <p:spPr>
          <a:xfrm>
            <a:off x="3419640" y="3933720"/>
            <a:ext cx="398160" cy="449280"/>
          </a:xfrm>
          <a:custGeom>
            <a:avLst/>
            <a:gdLst>
              <a:gd name="textAreaLeft" fmla="*/ 0 w 398160"/>
              <a:gd name="textAreaRight" fmla="*/ 398520 w 398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" name="Picture 295" descr="ficha3 copy"/>
          <p:cNvPicPr/>
          <p:nvPr/>
        </p:nvPicPr>
        <p:blipFill>
          <a:blip r:embed="rId3"/>
          <a:stretch/>
        </p:blipFill>
        <p:spPr>
          <a:xfrm>
            <a:off x="2195640" y="3645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340000" y="3933720"/>
            <a:ext cx="9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" name="Picture 85" descr=""/>
          <p:cNvPicPr/>
          <p:nvPr/>
        </p:nvPicPr>
        <p:blipFill>
          <a:blip r:embed="rId4"/>
          <a:stretch/>
        </p:blipFill>
        <p:spPr>
          <a:xfrm>
            <a:off x="5940360" y="3141720"/>
            <a:ext cx="1933560" cy="2160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5219640" y="393372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6" name="Group 338"/>
          <p:cNvGrpSpPr/>
          <p:nvPr/>
        </p:nvGrpSpPr>
        <p:grpSpPr>
          <a:xfrm>
            <a:off x="6300720" y="3933720"/>
            <a:ext cx="1133640" cy="1038240"/>
            <a:chOff x="6300720" y="3933720"/>
            <a:chExt cx="1133640" cy="1038240"/>
          </a:xfrm>
        </p:grpSpPr>
        <p:pic>
          <p:nvPicPr>
            <p:cNvPr id="67" name="Picture 339" descr="ficha1"/>
            <p:cNvPicPr/>
            <p:nvPr/>
          </p:nvPicPr>
          <p:blipFill>
            <a:blip r:embed="rId5"/>
            <a:stretch/>
          </p:blipFill>
          <p:spPr>
            <a:xfrm>
              <a:off x="6300720" y="3933720"/>
              <a:ext cx="113364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31"/>
            <p:cNvSpPr/>
            <p:nvPr/>
          </p:nvSpPr>
          <p:spPr>
            <a:xfrm>
              <a:off x="6372360" y="42940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 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SUR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69" name="Group 323"/>
          <p:cNvGrpSpPr/>
          <p:nvPr/>
        </p:nvGrpSpPr>
        <p:grpSpPr>
          <a:xfrm>
            <a:off x="5651640" y="3284640"/>
            <a:ext cx="1162080" cy="1152360"/>
            <a:chOff x="5651640" y="3284640"/>
            <a:chExt cx="1162080" cy="1152360"/>
          </a:xfrm>
        </p:grpSpPr>
        <p:pic>
          <p:nvPicPr>
            <p:cNvPr id="70" name="Picture 297" descr="ficha2 copy"/>
            <p:cNvPicPr/>
            <p:nvPr/>
          </p:nvPicPr>
          <p:blipFill>
            <a:blip r:embed="rId6"/>
            <a:stretch/>
          </p:blipFill>
          <p:spPr>
            <a:xfrm>
              <a:off x="5651640" y="3284640"/>
              <a:ext cx="1162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2"/>
            <p:cNvSpPr/>
            <p:nvPr/>
          </p:nvSpPr>
          <p:spPr>
            <a:xfrm>
              <a:off x="5722920" y="3645000"/>
              <a:ext cx="92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GERENCIA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72" name="Picture 295" descr="ficha3 copy"/>
          <p:cNvPicPr/>
          <p:nvPr/>
        </p:nvPicPr>
        <p:blipFill>
          <a:blip r:embed="rId7"/>
          <a:stretch/>
        </p:blipFill>
        <p:spPr>
          <a:xfrm>
            <a:off x="6588000" y="3213000"/>
            <a:ext cx="1162080" cy="1073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2"/>
          <p:cNvSpPr/>
          <p:nvPr/>
        </p:nvSpPr>
        <p:spPr>
          <a:xfrm>
            <a:off x="6659640" y="357336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4" name="Picture 339" descr="ficha1"/>
          <p:cNvPicPr/>
          <p:nvPr/>
        </p:nvPicPr>
        <p:blipFill>
          <a:blip r:embed="rId8"/>
          <a:stretch/>
        </p:blipFill>
        <p:spPr>
          <a:xfrm>
            <a:off x="6012000" y="2565360"/>
            <a:ext cx="1133280" cy="1038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1"/>
          <p:cNvSpPr/>
          <p:nvPr/>
        </p:nvSpPr>
        <p:spPr>
          <a:xfrm>
            <a:off x="6084720" y="29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 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OCCID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ASOS A SEGUIR EN EL PROGRAMA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pic>
        <p:nvPicPr>
          <p:cNvPr id="77" name="4 Marcador de contenido" descr=""/>
          <p:cNvPicPr/>
          <p:nvPr/>
        </p:nvPicPr>
        <p:blipFill>
          <a:blip r:embed="rId1"/>
          <a:stretch/>
        </p:blipFill>
        <p:spPr>
          <a:xfrm>
            <a:off x="171360" y="1596960"/>
            <a:ext cx="8942400" cy="4645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2484360" y="42926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GESTION DE RIESG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411280" y="4941720"/>
            <a:ext cx="92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DEPTO. DE PROCESOS MASIVO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340000" y="55897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GERENCIA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Unicode MS"/>
              </a:rPr>
              <a:t>CENTRAL, SUR, OCCIDENTE Y NORORIENT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000000"/>
                </a:solidFill>
                <a:latin typeface="바탕"/>
              </a:rPr>
              <a:t>PROGRAMAS MASIVOS</a:t>
            </a:r>
            <a:endParaRPr b="1" lang="en-US" sz="36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3640" y="15573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Control Facturación (MASIVA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untos fijos Recurrentes (Restaurantes, Hoteles, Materiales de Construcción, etc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Gasoliner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IVA-ISR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nconsistencias Pequeño Contribuyente-IVA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lanilla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Proveedores de Asalariado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Declaraciones con valor cero “0”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Arial"/>
              </a:rPr>
              <a:t>Imprentas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835280" y="1052640"/>
          <a:ext cx="7691400" cy="4892400"/>
        </p:xfrm>
        <a:graphic>
          <a:graphicData uri="http://schemas.openxmlformats.org/drawingml/2006/table">
            <a:tbl>
              <a:tblPr/>
              <a:tblGrid>
                <a:gridCol w="7691400"/>
              </a:tblGrid>
              <a:tr h="219384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UPERINTENDENCIA DE ADMINISTRACIÓN TRIBUTARIA  S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INTENDENCIA DE RECAUDACIÓN Y GESTIÓN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73080" marR="73080">
                    <a:lnL w="13680">
                      <a:solidFill>
                        <a:srgbClr val="4f81b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6" name="6 CuadroTexto" descr=""/>
          <p:cNvPicPr/>
          <p:nvPr/>
        </p:nvPicPr>
        <p:blipFill>
          <a:blip r:embed="rId1"/>
          <a:stretch/>
        </p:blipFill>
        <p:spPr>
          <a:xfrm>
            <a:off x="1695600" y="2914560"/>
            <a:ext cx="56689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88" name="10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9" name="11 Imagen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151272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Diagrama" descr=""/>
          <p:cNvPicPr/>
          <p:nvPr/>
        </p:nvPicPr>
        <p:blipFill>
          <a:blip r:embed="rId1"/>
          <a:stretch/>
        </p:blipFill>
        <p:spPr>
          <a:xfrm>
            <a:off x="-6480" y="1085760"/>
            <a:ext cx="8759880" cy="519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6 CuadroTexto"/>
          <p:cNvSpPr/>
          <p:nvPr/>
        </p:nvSpPr>
        <p:spPr>
          <a:xfrm>
            <a:off x="2484360" y="6453360"/>
            <a:ext cx="46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8 CuadroTexto" descr=""/>
          <p:cNvPicPr/>
          <p:nvPr/>
        </p:nvPicPr>
        <p:blipFill>
          <a:blip r:embed="rId3"/>
          <a:stretch/>
        </p:blipFill>
        <p:spPr>
          <a:xfrm>
            <a:off x="-158760" y="884160"/>
            <a:ext cx="8674200" cy="6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6 Diagrama" descr=""/>
          <p:cNvPicPr/>
          <p:nvPr/>
        </p:nvPicPr>
        <p:blipFill>
          <a:blip r:embed="rId1"/>
          <a:stretch/>
        </p:blipFill>
        <p:spPr>
          <a:xfrm>
            <a:off x="2073240" y="1481040"/>
            <a:ext cx="6186600" cy="4071960"/>
          </a:xfrm>
          <a:prstGeom prst="rect">
            <a:avLst/>
          </a:prstGeom>
          <a:ln w="0">
            <a:noFill/>
          </a:ln>
        </p:spPr>
      </p:pic>
      <p:pic>
        <p:nvPicPr>
          <p:cNvPr id="95" name="7 CuadroTexto" descr=""/>
          <p:cNvPicPr/>
          <p:nvPr/>
        </p:nvPicPr>
        <p:blipFill>
          <a:blip r:embed="rId2"/>
          <a:stretch/>
        </p:blipFill>
        <p:spPr>
          <a:xfrm>
            <a:off x="-158760" y="811080"/>
            <a:ext cx="7523280" cy="615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2916360" y="6448320"/>
            <a:ext cx="345600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8 CuadroTexto"/>
          <p:cNvSpPr/>
          <p:nvPr/>
        </p:nvSpPr>
        <p:spPr>
          <a:xfrm>
            <a:off x="2417760" y="645336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mbria"/>
                <a:ea typeface="Times New Roman"/>
              </a:rPr>
              <a:t>INTENDENCIA DE RECAUDACIÓN Y GESTIÓN                   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5:24:58Z</dcterms:created>
  <dc:creator>SAT</dc:creator>
  <dc:description/>
  <dc:language>en-US</dc:language>
  <cp:lastModifiedBy>jaurruti</cp:lastModifiedBy>
  <dcterms:modified xsi:type="dcterms:W3CDTF">2013-08-14T22:34:35Z</dcterms:modified>
  <cp:revision>595</cp:revision>
  <dc:subject/>
  <dc:title>Diapositiva 1</dc:title>
</cp:coreProperties>
</file>