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89EA-C436-4E5D-8601-24539870E3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189-BC5D-4D08-8123-20C838493A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6B2-5A3C-44B4-A410-866CAEB0FE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3680" y="866880"/>
            <a:ext cx="46148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07B-A6AD-4AD2-A1D8-70486CB5E8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4C0-B261-46DE-A743-BB5132D365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7FC3-3948-45C5-9450-BEE3D602F5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151-2BC8-4BB4-85F8-3CA73EA976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AD9-21E5-4AE4-9255-59A2ED22E2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9EE-5B97-41C5-A17E-2520DBC632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E42-88FB-4E9D-AB52-9466165CED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3E7-8F2A-481D-882B-96970D6709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C77-8D1F-49B5-B8F4-366D4FEFA2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96E-E66F-4FFE-B283-904B9A1852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5880" y="1500120"/>
            <a:ext cx="807696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5000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40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428840"/>
            <a:ext cx="75726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, 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347760" y="2279520"/>
            <a:ext cx="4138560" cy="437040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-clase de contribuy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újar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(XVI)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autoliquidaciones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 </cp:lastModifiedBy>
  <dcterms:modified xsi:type="dcterms:W3CDTF">2013-11-01T10:49:05Z</dcterms:modified>
  <cp:revision>158</cp:revision>
  <dc:subject/>
  <dc:title>Presentación de PowerPoint</dc:title>
</cp:coreProperties>
</file>