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15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385452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3"/>
          </p:nvPr>
        </p:nvSpPr>
        <p:spPr>
          <a:xfrm>
            <a:off x="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4"/>
          </p:nvPr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1659-ADC9-4EFB-B008-38D736C211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7E6B-AD9A-4A40-AB5A-280A280BD7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A2E9-65E4-4A07-93A5-B65396C099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93680" y="866880"/>
            <a:ext cx="4614840" cy="3471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120" y="4734000"/>
            <a:ext cx="4987800" cy="44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7629-9B0D-4C6B-A6FD-2273DA7231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33F2-B4DA-4D6D-90FC-298EBFD0E1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F9DB-F75A-4EBC-9554-6E4922CBA8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421D-3911-4344-9E08-D6D42C993C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AFD2-CA49-44C0-9ED7-76F6492D45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E3CB-7B5A-4BDF-88D4-999367A263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CCD6-56CD-43DF-9023-A60B4AFD3B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DE6-354E-448A-B475-C8663AF68A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E9C-933E-4B8B-8E6E-2D02992B58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TRA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54520" y="943452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D7E4-9ECA-4B25-B809-4C71C4F937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ágina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C:\Javier Rodriguez (F00993WM)\presentaciones\plantilla AEAT\optimizada\plantilla-freehand-nueva-c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739800" y="6453000"/>
            <a:ext cx="44798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Javier Rodriguez (F00993WM)\presentaciones\plantilla AEAT\optimizada\portadarrrrrr-copia-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85880" y="1500120"/>
            <a:ext cx="8076960" cy="28371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c6d5e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CONTROL M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gencia Estatal de Administración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ESPAÑ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785960" y="5000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Times New Roman"/>
              </a:rPr>
              <a:t>EUROSOCIAL: “Visita de Intercambio de experiencia Sur-Sur entre Administraciones Tributarias sobre control Masivo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imes New Roman"/>
              </a:rPr>
              <a:t>Buenos Aires, 27 a 30 de agosto de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Autoliqui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000160" y="1528920"/>
            <a:ext cx="5477040" cy="49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3 Rectángulo"/>
          <p:cNvSpPr/>
          <p:nvPr/>
        </p:nvSpPr>
        <p:spPr>
          <a:xfrm>
            <a:off x="4429080" y="1857240"/>
            <a:ext cx="3071880" cy="214560"/>
          </a:xfrm>
          <a:prstGeom prst="rect">
            <a:avLst/>
          </a:prstGeom>
          <a:noFill/>
          <a:ln w="381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647640" y="1722600"/>
            <a:ext cx="7848720" cy="40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Tahoma"/>
              </a:rPr>
              <a:t>TRIBUTARIAS (TERRITORIALES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Comunidades Autónomas (Transmisiones patrimoni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Entidades Municipales (Impuestos local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Tahoma"/>
              </a:rPr>
              <a:t>NO TRIBUTARI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Seguridad Social (cuotas Seguridad Social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Banco de España (transacciones económicas con el exterio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33cc"/>
                </a:solidFill>
                <a:latin typeface="Tahoma"/>
              </a:rPr>
              <a:t>Catastro (información inmobiliaria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000080" y="928800"/>
            <a:ext cx="750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RMACIÓN</a:t>
            </a:r>
            <a:r>
              <a:rPr b="1" i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OTRAS ADMINIST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2"/>
          <p:cNvSpPr/>
          <p:nvPr/>
        </p:nvSpPr>
        <p:spPr>
          <a:xfrm>
            <a:off x="3160800" y="2220840"/>
            <a:ext cx="2387520" cy="2344680"/>
          </a:xfrm>
          <a:prstGeom prst="ellipse">
            <a:avLst/>
          </a:prstGeom>
          <a:gradFill rotWithShape="0">
            <a:gsLst>
              <a:gs pos="0">
                <a:srgbClr val="3a5698"/>
              </a:gs>
              <a:gs pos="100000">
                <a:srgbClr val="618ffd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3908520" y="2994120"/>
            <a:ext cx="944640" cy="887400"/>
          </a:xfrm>
          <a:prstGeom prst="ellipse">
            <a:avLst/>
          </a:prstGeom>
          <a:gradFill rotWithShape="0">
            <a:gsLst>
              <a:gs pos="0">
                <a:srgbClr val="f0f0f0"/>
              </a:gs>
              <a:gs pos="100000">
                <a:srgbClr val="cecece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313080" y="2982960"/>
            <a:ext cx="2133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 Narrow"/>
              </a:rPr>
              <a:t>Sistema de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832120" y="4672080"/>
            <a:ext cx="2504880" cy="1554480"/>
            <a:chOff x="2832120" y="4672080"/>
            <a:chExt cx="2504880" cy="1554480"/>
          </a:xfrm>
        </p:grpSpPr>
        <p:graphicFrame>
          <p:nvGraphicFramePr>
            <p:cNvPr id="149" name="Object 6"/>
            <p:cNvGraphicFramePr/>
            <p:nvPr/>
          </p:nvGraphicFramePr>
          <p:xfrm>
            <a:off x="3611520" y="4976640"/>
            <a:ext cx="876240" cy="91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1520" y="4976640"/>
                      <a:ext cx="876240" cy="91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7"/>
            <p:cNvSpPr/>
            <p:nvPr/>
          </p:nvSpPr>
          <p:spPr>
            <a:xfrm>
              <a:off x="2832120" y="5894280"/>
              <a:ext cx="250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información exter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 flipV="1">
              <a:off x="4157640" y="4672080"/>
              <a:ext cx="5220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801800" y="692280"/>
            <a:ext cx="2368440" cy="1551960"/>
            <a:chOff x="1801800" y="692280"/>
            <a:chExt cx="2368440" cy="1551960"/>
          </a:xfrm>
        </p:grpSpPr>
        <p:graphicFrame>
          <p:nvGraphicFramePr>
            <p:cNvPr id="154" name="Object 10"/>
            <p:cNvGraphicFramePr/>
            <p:nvPr/>
          </p:nvGraphicFramePr>
          <p:xfrm>
            <a:off x="3735360" y="692280"/>
            <a:ext cx="434880" cy="110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5360" y="692280"/>
                      <a:ext cx="4348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Line 11"/>
            <p:cNvSpPr/>
            <p:nvPr/>
          </p:nvSpPr>
          <p:spPr>
            <a:xfrm>
              <a:off x="3970080" y="1839600"/>
              <a:ext cx="9540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1801800" y="841320"/>
              <a:ext cx="209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sueldos, salari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468360" y="2068560"/>
            <a:ext cx="2872800" cy="685800"/>
            <a:chOff x="468360" y="2068560"/>
            <a:chExt cx="2872800" cy="685800"/>
          </a:xfrm>
        </p:grpSpPr>
        <p:graphicFrame>
          <p:nvGraphicFramePr>
            <p:cNvPr id="159" name="Object 14"/>
            <p:cNvGraphicFramePr/>
            <p:nvPr/>
          </p:nvGraphicFramePr>
          <p:xfrm>
            <a:off x="2198520" y="2297160"/>
            <a:ext cx="936360" cy="40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98520" y="2297160"/>
                      <a:ext cx="93636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15"/>
            <p:cNvSpPr/>
            <p:nvPr/>
          </p:nvSpPr>
          <p:spPr>
            <a:xfrm>
              <a:off x="2998800" y="2562480"/>
              <a:ext cx="34236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68360" y="2068560"/>
              <a:ext cx="1828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l 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7"/>
          <p:cNvGrpSpPr/>
          <p:nvPr/>
        </p:nvGrpSpPr>
        <p:grpSpPr>
          <a:xfrm>
            <a:off x="5622840" y="3059280"/>
            <a:ext cx="3557160" cy="771120"/>
            <a:chOff x="5622840" y="3059280"/>
            <a:chExt cx="3557160" cy="771120"/>
          </a:xfrm>
        </p:grpSpPr>
        <p:sp>
          <p:nvSpPr>
            <p:cNvPr id="164" name="Rectangle 18"/>
            <p:cNvSpPr/>
            <p:nvPr/>
          </p:nvSpPr>
          <p:spPr>
            <a:xfrm>
              <a:off x="7158240" y="3148200"/>
              <a:ext cx="2021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autoliquid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622840" y="3430800"/>
              <a:ext cx="6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20"/>
            <p:cNvGrpSpPr/>
            <p:nvPr/>
          </p:nvGrpSpPr>
          <p:grpSpPr>
            <a:xfrm>
              <a:off x="6457320" y="3059280"/>
              <a:ext cx="700560" cy="771120"/>
              <a:chOff x="6457320" y="3059280"/>
              <a:chExt cx="700560" cy="771120"/>
            </a:xfrm>
          </p:grpSpPr>
          <p:sp>
            <p:nvSpPr>
              <p:cNvPr id="167" name="Rectangle 21"/>
              <p:cNvSpPr/>
              <p:nvPr/>
            </p:nvSpPr>
            <p:spPr>
              <a:xfrm>
                <a:off x="6612840" y="305928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22"/>
              <p:cNvSpPr/>
              <p:nvPr/>
            </p:nvSpPr>
            <p:spPr>
              <a:xfrm>
                <a:off x="6570000" y="309204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23"/>
              <p:cNvSpPr/>
              <p:nvPr/>
            </p:nvSpPr>
            <p:spPr>
              <a:xfrm>
                <a:off x="6531840" y="3128760"/>
                <a:ext cx="545040" cy="68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Group 24"/>
              <p:cNvGrpSpPr/>
              <p:nvPr/>
            </p:nvGrpSpPr>
            <p:grpSpPr>
              <a:xfrm>
                <a:off x="6457320" y="3160800"/>
                <a:ext cx="563760" cy="669600"/>
                <a:chOff x="6457320" y="3160800"/>
                <a:chExt cx="563760" cy="669600"/>
              </a:xfrm>
            </p:grpSpPr>
            <p:sp>
              <p:nvSpPr>
                <p:cNvPr id="171" name="Rectangle 25"/>
                <p:cNvSpPr/>
                <p:nvPr/>
              </p:nvSpPr>
              <p:spPr>
                <a:xfrm>
                  <a:off x="6457320" y="3160800"/>
                  <a:ext cx="563760" cy="669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26"/>
                <p:cNvSpPr/>
                <p:nvPr/>
              </p:nvSpPr>
              <p:spPr>
                <a:xfrm>
                  <a:off x="6571440" y="3198240"/>
                  <a:ext cx="154080" cy="51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27"/>
                <p:cNvSpPr/>
                <p:nvPr/>
              </p:nvSpPr>
              <p:spPr>
                <a:xfrm>
                  <a:off x="6932160" y="3193560"/>
                  <a:ext cx="52560" cy="60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AutoShape 28"/>
                <p:cNvSpPr/>
                <p:nvPr/>
              </p:nvSpPr>
              <p:spPr>
                <a:xfrm>
                  <a:off x="6493680" y="3290400"/>
                  <a:ext cx="491040" cy="1198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AutoShape 29"/>
                <p:cNvSpPr/>
                <p:nvPr/>
              </p:nvSpPr>
              <p:spPr>
                <a:xfrm>
                  <a:off x="6495120" y="3447000"/>
                  <a:ext cx="491040" cy="1897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AutoShape 30"/>
                <p:cNvSpPr/>
                <p:nvPr/>
              </p:nvSpPr>
              <p:spPr>
                <a:xfrm>
                  <a:off x="6496920" y="3672360"/>
                  <a:ext cx="490680" cy="129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31"/>
                <p:cNvSpPr/>
                <p:nvPr/>
              </p:nvSpPr>
              <p:spPr>
                <a:xfrm>
                  <a:off x="6830640" y="3291480"/>
                  <a:ext cx="0" cy="378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32"/>
                <p:cNvSpPr/>
                <p:nvPr/>
              </p:nvSpPr>
              <p:spPr>
                <a:xfrm>
                  <a:off x="6841800" y="3335400"/>
                  <a:ext cx="1364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33"/>
                <p:cNvSpPr/>
                <p:nvPr/>
              </p:nvSpPr>
              <p:spPr>
                <a:xfrm>
                  <a:off x="6516000" y="3201840"/>
                  <a:ext cx="0" cy="2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34"/>
                <p:cNvSpPr/>
                <p:nvPr/>
              </p:nvSpPr>
              <p:spPr>
                <a:xfrm>
                  <a:off x="6527160" y="3325680"/>
                  <a:ext cx="30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35"/>
                <p:cNvSpPr/>
                <p:nvPr/>
              </p:nvSpPr>
              <p:spPr>
                <a:xfrm>
                  <a:off x="6528600" y="335880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36"/>
                <p:cNvSpPr/>
                <p:nvPr/>
              </p:nvSpPr>
              <p:spPr>
                <a:xfrm>
                  <a:off x="6768720" y="370800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7"/>
                <p:cNvSpPr/>
                <p:nvPr/>
              </p:nvSpPr>
              <p:spPr>
                <a:xfrm>
                  <a:off x="6771960" y="3193560"/>
                  <a:ext cx="123840" cy="608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38"/>
                <p:cNvSpPr/>
                <p:nvPr/>
              </p:nvSpPr>
              <p:spPr>
                <a:xfrm>
                  <a:off x="6531840" y="338688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9"/>
                <p:cNvSpPr/>
                <p:nvPr/>
              </p:nvSpPr>
              <p:spPr>
                <a:xfrm>
                  <a:off x="6771960" y="3726360"/>
                  <a:ext cx="18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40"/>
                <p:cNvSpPr/>
                <p:nvPr/>
              </p:nvSpPr>
              <p:spPr>
                <a:xfrm>
                  <a:off x="6778080" y="3771360"/>
                  <a:ext cx="1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41"/>
                <p:cNvSpPr/>
                <p:nvPr/>
              </p:nvSpPr>
              <p:spPr>
                <a:xfrm>
                  <a:off x="6749640" y="3679560"/>
                  <a:ext cx="0" cy="1198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42"/>
                <p:cNvSpPr/>
                <p:nvPr/>
              </p:nvSpPr>
              <p:spPr>
                <a:xfrm>
                  <a:off x="6506280" y="3705480"/>
                  <a:ext cx="233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43"/>
                <p:cNvSpPr/>
                <p:nvPr/>
              </p:nvSpPr>
              <p:spPr>
                <a:xfrm>
                  <a:off x="6504840" y="349452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44"/>
                <p:cNvSpPr/>
                <p:nvPr/>
              </p:nvSpPr>
              <p:spPr>
                <a:xfrm>
                  <a:off x="6504840" y="35362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5"/>
                <p:cNvSpPr/>
                <p:nvPr/>
              </p:nvSpPr>
              <p:spPr>
                <a:xfrm>
                  <a:off x="6504840" y="3583080"/>
                  <a:ext cx="471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6"/>
                <p:cNvSpPr/>
                <p:nvPr/>
              </p:nvSpPr>
              <p:spPr>
                <a:xfrm>
                  <a:off x="6557040" y="34761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47"/>
                <p:cNvSpPr/>
                <p:nvPr/>
              </p:nvSpPr>
              <p:spPr>
                <a:xfrm>
                  <a:off x="6558840" y="34639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48"/>
                <p:cNvSpPr/>
                <p:nvPr/>
              </p:nvSpPr>
              <p:spPr>
                <a:xfrm>
                  <a:off x="6557040" y="352296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49"/>
                <p:cNvSpPr/>
                <p:nvPr/>
              </p:nvSpPr>
              <p:spPr>
                <a:xfrm>
                  <a:off x="6558840" y="351072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50"/>
                <p:cNvSpPr/>
                <p:nvPr/>
              </p:nvSpPr>
              <p:spPr>
                <a:xfrm>
                  <a:off x="6558840" y="356724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51"/>
                <p:cNvSpPr/>
                <p:nvPr/>
              </p:nvSpPr>
              <p:spPr>
                <a:xfrm>
                  <a:off x="6557040" y="355464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52"/>
                <p:cNvSpPr/>
                <p:nvPr/>
              </p:nvSpPr>
              <p:spPr>
                <a:xfrm>
                  <a:off x="6564960" y="3607200"/>
                  <a:ext cx="39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53"/>
                <p:cNvSpPr/>
                <p:nvPr/>
              </p:nvSpPr>
              <p:spPr>
                <a:xfrm>
                  <a:off x="6563520" y="3594960"/>
                  <a:ext cx="39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54"/>
                <p:cNvSpPr/>
                <p:nvPr/>
              </p:nvSpPr>
              <p:spPr>
                <a:xfrm>
                  <a:off x="6756120" y="3753000"/>
                  <a:ext cx="2235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" name="Group 55"/>
          <p:cNvGrpSpPr/>
          <p:nvPr/>
        </p:nvGrpSpPr>
        <p:grpSpPr>
          <a:xfrm>
            <a:off x="5510160" y="4010040"/>
            <a:ext cx="3332160" cy="1293840"/>
            <a:chOff x="5510160" y="4010040"/>
            <a:chExt cx="3332160" cy="1293840"/>
          </a:xfrm>
        </p:grpSpPr>
        <p:graphicFrame>
          <p:nvGraphicFramePr>
            <p:cNvPr id="202" name="Object 56"/>
            <p:cNvGraphicFramePr/>
            <p:nvPr/>
          </p:nvGraphicFramePr>
          <p:xfrm>
            <a:off x="6591240" y="4260960"/>
            <a:ext cx="841320" cy="104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Object 5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91240" y="4260960"/>
                      <a:ext cx="841320" cy="10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Line 57"/>
            <p:cNvSpPr/>
            <p:nvPr/>
          </p:nvSpPr>
          <p:spPr>
            <a:xfrm flipH="1" flipV="1">
              <a:off x="5510160" y="4010040"/>
              <a:ext cx="914400" cy="4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8"/>
            <p:cNvSpPr/>
            <p:nvPr/>
          </p:nvSpPr>
          <p:spPr>
            <a:xfrm>
              <a:off x="7165800" y="4638960"/>
              <a:ext cx="1676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atastro inmobili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59"/>
          <p:cNvGrpSpPr/>
          <p:nvPr/>
        </p:nvGrpSpPr>
        <p:grpSpPr>
          <a:xfrm>
            <a:off x="498600" y="3019320"/>
            <a:ext cx="2622600" cy="1657080"/>
            <a:chOff x="498600" y="3019320"/>
            <a:chExt cx="2622600" cy="1657080"/>
          </a:xfrm>
        </p:grpSpPr>
        <p:sp>
          <p:nvSpPr>
            <p:cNvPr id="207" name="Rectangle 60"/>
            <p:cNvSpPr/>
            <p:nvPr/>
          </p:nvSpPr>
          <p:spPr>
            <a:xfrm>
              <a:off x="498600" y="3857400"/>
              <a:ext cx="1900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rendimientos de actividades económ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Object 61" descr=""/>
            <p:cNvPicPr/>
            <p:nvPr/>
          </p:nvPicPr>
          <p:blipFill>
            <a:blip r:embed="rId9"/>
            <a:stretch/>
          </p:blipFill>
          <p:spPr>
            <a:xfrm>
              <a:off x="1463760" y="3019320"/>
              <a:ext cx="10670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62"/>
            <p:cNvSpPr/>
            <p:nvPr/>
          </p:nvSpPr>
          <p:spPr>
            <a:xfrm flipV="1">
              <a:off x="2592720" y="3417840"/>
              <a:ext cx="528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63"/>
          <p:cNvGrpSpPr/>
          <p:nvPr/>
        </p:nvGrpSpPr>
        <p:grpSpPr>
          <a:xfrm>
            <a:off x="925560" y="4273560"/>
            <a:ext cx="2558520" cy="2071440"/>
            <a:chOff x="925560" y="4273560"/>
            <a:chExt cx="2558520" cy="2071440"/>
          </a:xfrm>
        </p:grpSpPr>
        <p:sp>
          <p:nvSpPr>
            <p:cNvPr id="211" name="Rectangle 64"/>
            <p:cNvSpPr/>
            <p:nvPr/>
          </p:nvSpPr>
          <p:spPr>
            <a:xfrm>
              <a:off x="925560" y="5526000"/>
              <a:ext cx="2073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declaración informativa de compras y v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65"/>
            <p:cNvSpPr/>
            <p:nvPr/>
          </p:nvSpPr>
          <p:spPr>
            <a:xfrm flipV="1">
              <a:off x="2630160" y="4273560"/>
              <a:ext cx="853920" cy="86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Object 66" descr=""/>
            <p:cNvPicPr/>
            <p:nvPr/>
          </p:nvPicPr>
          <p:blipFill>
            <a:blip r:embed="rId10"/>
            <a:stretch/>
          </p:blipFill>
          <p:spPr>
            <a:xfrm>
              <a:off x="1604880" y="4870080"/>
              <a:ext cx="85536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67"/>
          <p:cNvGrpSpPr/>
          <p:nvPr/>
        </p:nvGrpSpPr>
        <p:grpSpPr>
          <a:xfrm>
            <a:off x="5522760" y="4506840"/>
            <a:ext cx="3352680" cy="1811160"/>
            <a:chOff x="5522760" y="4506840"/>
            <a:chExt cx="3352680" cy="1811160"/>
          </a:xfrm>
        </p:grpSpPr>
        <p:sp>
          <p:nvSpPr>
            <p:cNvPr id="215" name="Line 68"/>
            <p:cNvSpPr/>
            <p:nvPr/>
          </p:nvSpPr>
          <p:spPr>
            <a:xfrm flipH="1" flipV="1">
              <a:off x="5522760" y="4506840"/>
              <a:ext cx="65736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Object 69" descr=""/>
            <p:cNvPicPr/>
            <p:nvPr/>
          </p:nvPicPr>
          <p:blipFill>
            <a:blip r:embed="rId11"/>
            <a:stretch/>
          </p:blipFill>
          <p:spPr>
            <a:xfrm flipH="1" rot="10800000">
              <a:off x="6329880" y="5672160"/>
              <a:ext cx="672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70"/>
            <p:cNvSpPr/>
            <p:nvPr/>
          </p:nvSpPr>
          <p:spPr>
            <a:xfrm>
              <a:off x="6701040" y="5746680"/>
              <a:ext cx="217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   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comercio ext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71"/>
          <p:cNvGrpSpPr/>
          <p:nvPr/>
        </p:nvGrpSpPr>
        <p:grpSpPr>
          <a:xfrm>
            <a:off x="4572360" y="941400"/>
            <a:ext cx="2787120" cy="2025360"/>
            <a:chOff x="4572360" y="941400"/>
            <a:chExt cx="2787120" cy="2025360"/>
          </a:xfrm>
        </p:grpSpPr>
        <p:sp>
          <p:nvSpPr>
            <p:cNvPr id="219" name="Rectangle 72"/>
            <p:cNvSpPr/>
            <p:nvPr/>
          </p:nvSpPr>
          <p:spPr>
            <a:xfrm>
              <a:off x="5001840" y="941400"/>
              <a:ext cx="235764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73"/>
            <p:cNvGrpSpPr/>
            <p:nvPr/>
          </p:nvGrpSpPr>
          <p:grpSpPr>
            <a:xfrm>
              <a:off x="4572360" y="1507680"/>
              <a:ext cx="1427400" cy="1459080"/>
              <a:chOff x="4572360" y="1507680"/>
              <a:chExt cx="1427400" cy="1459080"/>
            </a:xfrm>
          </p:grpSpPr>
          <p:sp>
            <p:nvSpPr>
              <p:cNvPr id="221" name="AutoShape 74"/>
              <p:cNvSpPr/>
              <p:nvPr/>
            </p:nvSpPr>
            <p:spPr>
              <a:xfrm rot="2265600">
                <a:off x="4816080" y="1678320"/>
                <a:ext cx="939960" cy="1117440"/>
              </a:xfrm>
              <a:custGeom>
                <a:avLst/>
                <a:gdLst>
                  <a:gd name="textAreaLeft" fmla="*/ 0 w 939960"/>
                  <a:gd name="textAreaRight" fmla="*/ 940320 w 939960"/>
                  <a:gd name="textAreaTop" fmla="*/ 0 h 1117440"/>
                  <a:gd name="textAreaBottom" fmla="*/ 836640 h 11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68" y="17968"/>
                    </a:moveTo>
                    <a:cubicBezTo>
                      <a:pt x="1176" y="16011"/>
                      <a:pt x="183" y="13453"/>
                      <a:pt x="183" y="10800"/>
                    </a:cubicBezTo>
                    <a:cubicBezTo>
                      <a:pt x="183" y="4936"/>
                      <a:pt x="4936" y="183"/>
                      <a:pt x="10800" y="183"/>
                    </a:cubicBezTo>
                    <a:cubicBezTo>
                      <a:pt x="16663" y="183"/>
                      <a:pt x="21417" y="4936"/>
                      <a:pt x="21417" y="10800"/>
                    </a:cubicBezTo>
                    <a:cubicBezTo>
                      <a:pt x="21417" y="13453"/>
                      <a:pt x="20423" y="16011"/>
                      <a:pt x="18631" y="17968"/>
                    </a:cubicBezTo>
                    <a:lnTo>
                      <a:pt x="18766" y="18092"/>
                    </a:lnTo>
                    <a:cubicBezTo>
                      <a:pt x="20589" y="16100"/>
                      <a:pt x="21600" y="1349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499"/>
                      <a:pt x="1010" y="16100"/>
                      <a:pt x="2833" y="180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5"/>
              <p:cNvSpPr/>
              <p:nvPr/>
            </p:nvSpPr>
            <p:spPr>
              <a:xfrm flipH="1">
                <a:off x="4782600" y="2211480"/>
                <a:ext cx="126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Group 76"/>
          <p:cNvGrpSpPr/>
          <p:nvPr/>
        </p:nvGrpSpPr>
        <p:grpSpPr>
          <a:xfrm>
            <a:off x="2477880" y="2906640"/>
            <a:ext cx="3935520" cy="947880"/>
            <a:chOff x="2477880" y="2906640"/>
            <a:chExt cx="3935520" cy="947880"/>
          </a:xfrm>
        </p:grpSpPr>
        <p:sp>
          <p:nvSpPr>
            <p:cNvPr id="224" name="Rectangle 77"/>
            <p:cNvSpPr/>
            <p:nvPr/>
          </p:nvSpPr>
          <p:spPr>
            <a:xfrm>
              <a:off x="2477880" y="2906640"/>
              <a:ext cx="39355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3333cc"/>
                  </a:solidFill>
                  <a:latin typeface="Times New Roman"/>
                </a:rPr>
                <a:t>datos anuales procesado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8"/>
            <p:cNvSpPr/>
            <p:nvPr/>
          </p:nvSpPr>
          <p:spPr>
            <a:xfrm>
              <a:off x="2526840" y="3427560"/>
              <a:ext cx="3787920" cy="426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3.374.315.558 de regist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rcRect l="0" t="7939" r="517" b="7393"/>
          <a:stretch/>
        </p:blipFill>
        <p:spPr>
          <a:xfrm>
            <a:off x="428760" y="57168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-360" y="1357200"/>
            <a:ext cx="871524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istro de todas las 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ruzan informáticamente y se controlan la totalidad de las declaraciones registradas: especial énfasis en las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volucion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lección de declaraciones incorrec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la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287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tección de discrepancias: calificación del riesgo fis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mitación informática de los procedimientos de control: automatización y estandarización de las actu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traer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514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13880"/>
            <a:ext cx="8076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3. HERRAMENTA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14240" y="1428840"/>
            <a:ext cx="75726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lidad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uzan y comprueban TODAS las declar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parcial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ontrola una declaración concreta o un presunto incumplimiento, no la situación tributaria general. Es decir, discrepancias concretas relativas  a un solo impuesto o un solo perio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abrevi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rapidez): se utilizan facultades y medios de prueb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mit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por lo que las actuaciones no se extienden much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mpetencias son reducidas, en actividades económicas no se pue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real (no se sale del despach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economía financiera (movimientos bancari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robar la contabilidad mercan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CARACTERÍSTIC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57120" y="1428840"/>
            <a:ext cx="850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ediate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control se acerca al momento del incumplimiento (último año o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uaciones normalizad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standarizadas) Se basan en el uso de aplicaciones informáticas y documentos pro-for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ácter masiv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número de actuaciones de control se extiende a un gran número de contribuy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relación con las actuaciones “preventiv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”: “programas de ayuda” para la confección de declaraciones, uso del “borrador” de declaración, presentación telemática obligatori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La mejor forma de controlar los errores es impedir que se produz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2 Título"/>
          <p:cNvGrpSpPr/>
          <p:nvPr/>
        </p:nvGrpSpPr>
        <p:grpSpPr>
          <a:xfrm>
            <a:off x="328680" y="596880"/>
            <a:ext cx="8480520" cy="897120"/>
            <a:chOff x="328680" y="596880"/>
            <a:chExt cx="8480520" cy="897120"/>
          </a:xfrm>
        </p:grpSpPr>
        <p:pic>
          <p:nvPicPr>
            <p:cNvPr id="237" name="2 Título" descr=""/>
            <p:cNvPicPr/>
            <p:nvPr/>
          </p:nvPicPr>
          <p:blipFill>
            <a:blip r:embed="rId1"/>
            <a:stretch/>
          </p:blipFill>
          <p:spPr>
            <a:xfrm>
              <a:off x="328680" y="596880"/>
              <a:ext cx="84805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7200" y="714240"/>
              <a:ext cx="8229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Arial"/>
                </a:rPr>
                <a:t>Tipos de control aud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EX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CONTROL IN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25 Marcador de contenido" descr=""/>
          <p:cNvPicPr/>
          <p:nvPr/>
        </p:nvPicPr>
        <p:blipFill>
          <a:blip r:embed="rId2"/>
          <a:stretch/>
        </p:blipFill>
        <p:spPr>
          <a:xfrm>
            <a:off x="347760" y="2279520"/>
            <a:ext cx="4138560" cy="4370400"/>
          </a:xfrm>
          <a:prstGeom prst="rect">
            <a:avLst/>
          </a:prstGeom>
          <a:ln w="0">
            <a:noFill/>
          </a:ln>
        </p:spPr>
      </p:pic>
      <p:pic>
        <p:nvPicPr>
          <p:cNvPr id="242" name="26 Marcador de contenido" descr=""/>
          <p:cNvPicPr/>
          <p:nvPr/>
        </p:nvPicPr>
        <p:blipFill>
          <a:blip r:embed="rId3"/>
          <a:stretch/>
        </p:blipFill>
        <p:spPr>
          <a:xfrm>
            <a:off x="4591080" y="2236680"/>
            <a:ext cx="4174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33520" y="571680"/>
            <a:ext cx="8076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VENTAJA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85840" y="12142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icacia y efic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el uso de la informática y el carácter normalizado de las actuaciones exige una menor dedicación del personal más cualificado, que se puede de dedicar a controlar formas más complejas de frau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omogeneidad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as actuaciones en todo el terri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rect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 índice de cobro de la deuda, por la inmediatez de las actuaciones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iferid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nduce la conducta del mismo contribuyente  en el fut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inducido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bre el conjunto de contribuyentes): la mera existencia del control masivo favorece el cumplimiento voluntario, ante la certeza de la actuación de la Administración en caso de in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mentari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no sustitutivo) del control intensivo:  permite llegar donde no puede llegar la actuación selectiva de la Inspección. Con ello, se cierra el “ciclo de contro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3520" y="500040"/>
            <a:ext cx="807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LGUNAS BUENAS PRÁCTICAS en la A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85840" y="10000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os herramientas informá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-clase de contribuy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rporación de expedientes (declara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ficación (cruce de da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de selección:  en función del “riesgo fiscal normalizado”: sistema de FILTROS (definición de una lista de riesgos fiscales fij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mienta para la tramitación “guiada” de exped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ón directiva (decisiones en devolu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újar (sistema de “almacén de datos” – “data warehouse” 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e selecciones específicas en base a riesgos “no normalizad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infinidad de posibilidades: permite la explotación de toda la información disponibl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a demand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onveniente: no permite tramitar expedientes desde la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exión entre aplicaciones (envío de colectivos al Info-clase desde Zújar: “refinamiento de colectivo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28"/>
          <p:cNvSpPr/>
          <p:nvPr/>
        </p:nvSpPr>
        <p:spPr>
          <a:xfrm>
            <a:off x="500040" y="635796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00120" y="5716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PILARES FUNDAMENTALES DEL CONTROL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Elipse"/>
          <p:cNvSpPr/>
          <p:nvPr/>
        </p:nvSpPr>
        <p:spPr>
          <a:xfrm>
            <a:off x="2071800" y="1357200"/>
            <a:ext cx="500040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gistro de contribuy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6 Elipse"/>
          <p:cNvSpPr/>
          <p:nvPr/>
        </p:nvSpPr>
        <p:spPr>
          <a:xfrm>
            <a:off x="4714920" y="4000680"/>
            <a:ext cx="4214880" cy="1928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ERRAMIENTAS INFORMÁ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ru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7 Elipse"/>
          <p:cNvSpPr/>
          <p:nvPr/>
        </p:nvSpPr>
        <p:spPr>
          <a:xfrm>
            <a:off x="285840" y="4000680"/>
            <a:ext cx="4286160" cy="185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claraciones inform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12 Rectángulo"/>
          <p:cNvSpPr/>
          <p:nvPr/>
        </p:nvSpPr>
        <p:spPr>
          <a:xfrm>
            <a:off x="571680" y="2928960"/>
            <a:ext cx="8001000" cy="100008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NORMATIVO: ORGANIZACIÓN ADMINISRATIVA Y TRIBU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Uniformidad en la definic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gilidad 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ventaj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riterios diferentes de 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nor flex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NFO-CL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200"/>
            </a:br>
            <a:r>
              <a:rPr b="1" lang="es-ES" sz="22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692280" y="1600200"/>
            <a:ext cx="7759440" cy="4525920"/>
          </a:xfrm>
          <a:prstGeom prst="rect">
            <a:avLst/>
          </a:prstGeom>
          <a:ln w="0">
            <a:noFill/>
          </a:ln>
        </p:spPr>
      </p:pic>
      <p:sp>
        <p:nvSpPr>
          <p:cNvPr id="253" name="6 Rectángulo"/>
          <p:cNvSpPr/>
          <p:nvPr/>
        </p:nvSpPr>
        <p:spPr>
          <a:xfrm>
            <a:off x="1785960" y="2643120"/>
            <a:ext cx="385776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4 Flecha abajo"/>
          <p:cNvSpPr/>
          <p:nvPr/>
        </p:nvSpPr>
        <p:spPr>
          <a:xfrm>
            <a:off x="67867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5 Flecha abajo"/>
          <p:cNvSpPr/>
          <p:nvPr/>
        </p:nvSpPr>
        <p:spPr>
          <a:xfrm>
            <a:off x="2428920" y="257184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7 Flecha abajo"/>
          <p:cNvSpPr/>
          <p:nvPr/>
        </p:nvSpPr>
        <p:spPr>
          <a:xfrm>
            <a:off x="7715160" y="2571840"/>
            <a:ext cx="2145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747720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3 Rectángulo"/>
          <p:cNvSpPr/>
          <p:nvPr/>
        </p:nvSpPr>
        <p:spPr>
          <a:xfrm>
            <a:off x="3286080" y="2357280"/>
            <a:ext cx="2571840" cy="35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5 Rectángulo"/>
          <p:cNvSpPr/>
          <p:nvPr/>
        </p:nvSpPr>
        <p:spPr>
          <a:xfrm>
            <a:off x="1071720" y="3929040"/>
            <a:ext cx="3214440" cy="1285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2643120" y="3000240"/>
            <a:ext cx="3714840" cy="14292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1071720" y="2500200"/>
            <a:ext cx="5357520" cy="285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7 Flecha derecha"/>
          <p:cNvSpPr/>
          <p:nvPr/>
        </p:nvSpPr>
        <p:spPr>
          <a:xfrm>
            <a:off x="642960" y="350028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812880" y="1600200"/>
            <a:ext cx="7518240" cy="4525920"/>
          </a:xfrm>
          <a:prstGeom prst="rect">
            <a:avLst/>
          </a:prstGeom>
          <a:ln w="0">
            <a:noFill/>
          </a:ln>
        </p:spPr>
      </p:pic>
      <p:sp>
        <p:nvSpPr>
          <p:cNvPr id="268" name="5 Rectángulo"/>
          <p:cNvSpPr/>
          <p:nvPr/>
        </p:nvSpPr>
        <p:spPr>
          <a:xfrm>
            <a:off x="2571840" y="3000240"/>
            <a:ext cx="4357440" cy="21456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6 Rectángulo"/>
          <p:cNvSpPr/>
          <p:nvPr/>
        </p:nvSpPr>
        <p:spPr>
          <a:xfrm>
            <a:off x="1000080" y="4000680"/>
            <a:ext cx="4071960" cy="857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7 Rectángulo"/>
          <p:cNvSpPr/>
          <p:nvPr/>
        </p:nvSpPr>
        <p:spPr>
          <a:xfrm>
            <a:off x="928800" y="2571840"/>
            <a:ext cx="5357880" cy="21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8 Flecha derecha"/>
          <p:cNvSpPr/>
          <p:nvPr/>
        </p:nvSpPr>
        <p:spPr>
          <a:xfrm>
            <a:off x="500040" y="350028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(XVI)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65080" y="1600200"/>
            <a:ext cx="7413840" cy="4525920"/>
          </a:xfrm>
          <a:prstGeom prst="rect">
            <a:avLst/>
          </a:prstGeom>
          <a:ln w="0">
            <a:noFill/>
          </a:ln>
        </p:spPr>
      </p:pic>
      <p:sp>
        <p:nvSpPr>
          <p:cNvPr id="274" name="5 Rectángulo"/>
          <p:cNvSpPr/>
          <p:nvPr/>
        </p:nvSpPr>
        <p:spPr>
          <a:xfrm>
            <a:off x="2143080" y="2428920"/>
            <a:ext cx="2714760" cy="214200"/>
          </a:xfrm>
          <a:prstGeom prst="rect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7493040" cy="45259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59924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4 Rectángulo"/>
          <p:cNvSpPr/>
          <p:nvPr/>
        </p:nvSpPr>
        <p:spPr>
          <a:xfrm>
            <a:off x="6500880" y="2143080"/>
            <a:ext cx="171432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2 Título"/>
          <p:cNvSpPr/>
          <p:nvPr/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2400" y="1600200"/>
            <a:ext cx="7639200" cy="4525920"/>
          </a:xfrm>
          <a:prstGeom prst="rect">
            <a:avLst/>
          </a:prstGeom>
          <a:ln w="0">
            <a:noFill/>
          </a:ln>
        </p:spPr>
      </p:pic>
      <p:sp>
        <p:nvSpPr>
          <p:cNvPr id="281" name="3 Rectángulo"/>
          <p:cNvSpPr/>
          <p:nvPr/>
        </p:nvSpPr>
        <p:spPr>
          <a:xfrm>
            <a:off x="6572160" y="2214720"/>
            <a:ext cx="1643040" cy="357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OTIVACIÓN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Tramitación Gu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71400" y="1830240"/>
            <a:ext cx="7801200" cy="4067280"/>
          </a:xfrm>
          <a:prstGeom prst="rect">
            <a:avLst/>
          </a:prstGeom>
          <a:ln w="0">
            <a:noFill/>
          </a:ln>
        </p:spPr>
      </p:pic>
      <p:sp>
        <p:nvSpPr>
          <p:cNvPr id="285" name="4 Flecha izquierda"/>
          <p:cNvSpPr/>
          <p:nvPr/>
        </p:nvSpPr>
        <p:spPr>
          <a:xfrm>
            <a:off x="7858080" y="50720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5 Flecha izquierda"/>
          <p:cNvSpPr/>
          <p:nvPr/>
        </p:nvSpPr>
        <p:spPr>
          <a:xfrm>
            <a:off x="7858080" y="342900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2"/>
          <p:cNvSpPr/>
          <p:nvPr/>
        </p:nvSpPr>
        <p:spPr>
          <a:xfrm>
            <a:off x="3452760" y="4019400"/>
            <a:ext cx="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784760" y="4148280"/>
            <a:ext cx="1440" cy="0"/>
          </a:xfrm>
          <a:prstGeom prst="line">
            <a:avLst/>
          </a:prstGeom>
          <a:ln w="1062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"/>
          <p:cNvSpPr/>
          <p:nvPr/>
        </p:nvSpPr>
        <p:spPr>
          <a:xfrm>
            <a:off x="938160" y="1285920"/>
            <a:ext cx="4419720" cy="4357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776240" y="174312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  <a:ea typeface="Arial"/>
              </a:rPr>
              <a:t>CENSO DE OBLI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1700280" y="2357280"/>
            <a:ext cx="289548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33440" y="274464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CENSO DE EMPRESARI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ROFESION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Y RE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233440" y="3728880"/>
            <a:ext cx="1143000" cy="1067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462040" y="4119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2995560" y="40813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RE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57800" y="1557000"/>
            <a:ext cx="1214280" cy="299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072120" y="2286000"/>
            <a:ext cx="25909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mpresarios, profesionales y retenedores e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Otras personas jurídicas que realizan AIB’s sujetas al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residentes con establecimiento 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Entidades Atribución Rentas constituidas en el extranjero con presencia en territorio españ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No establecidos, sujetos pasivos 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ocios, Herederos y partícipes en 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5715000" y="2209680"/>
            <a:ext cx="304920" cy="3862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3862440"/>
              <a:gd name="textAreaBottom" fmla="*/ 3757320 h 386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1"/>
                  <a:pt x="10800" y="1882"/>
                </a:cubicBezTo>
                <a:lnTo>
                  <a:pt x="10800" y="8918"/>
                </a:lnTo>
                <a:cubicBezTo>
                  <a:pt x="10800" y="9859"/>
                  <a:pt x="5400" y="10800"/>
                  <a:pt x="0" y="10800"/>
                </a:cubicBezTo>
                <a:cubicBezTo>
                  <a:pt x="5400" y="10800"/>
                  <a:pt x="10800" y="11741"/>
                  <a:pt x="10800" y="12682"/>
                </a:cubicBezTo>
                <a:lnTo>
                  <a:pt x="10800" y="19718"/>
                </a:lnTo>
                <a:cubicBezTo>
                  <a:pt x="10800" y="2065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886200" y="3710160"/>
            <a:ext cx="1828800" cy="214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28760" y="491328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Operadores económ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que realizan entregas y adquisi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ntracomunita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3605040" y="4643280"/>
            <a:ext cx="924120" cy="709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3071880" y="37288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G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3571920" y="4110120"/>
            <a:ext cx="160020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000760" y="4800600"/>
            <a:ext cx="97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Grande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 rot="20843400">
            <a:off x="4113360" y="14367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Sin restri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5715000" y="1066680"/>
            <a:ext cx="285840" cy="1005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4560 h 1005120"/>
              <a:gd name="textAreaBottom" fmla="*/ 970560 h 10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5"/>
                  <a:pt x="10800" y="2389"/>
                </a:cubicBezTo>
                <a:lnTo>
                  <a:pt x="10800" y="8411"/>
                </a:lnTo>
                <a:cubicBezTo>
                  <a:pt x="10800" y="9606"/>
                  <a:pt x="5400" y="10800"/>
                  <a:pt x="0" y="10800"/>
                </a:cubicBezTo>
                <a:cubicBezTo>
                  <a:pt x="5400" y="10800"/>
                  <a:pt x="10800" y="11995"/>
                  <a:pt x="10800" y="13189"/>
                </a:cubicBezTo>
                <a:lnTo>
                  <a:pt x="10800" y="19211"/>
                </a:lnTo>
                <a:cubicBezTo>
                  <a:pt x="10800" y="2040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743280" y="5357880"/>
            <a:ext cx="214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Empresarios y profesionales con derecho a devolución mensual IVA (artículo 30 R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969160" y="1128600"/>
            <a:ext cx="263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Personas y entidades con NIF, físicas o jurídicas, nacionales o extranjeras, residentes o no resi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614680" y="4491000"/>
            <a:ext cx="60948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  <a:ea typeface="Arial"/>
              </a:rPr>
              <a:t>II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7"/>
          <p:cNvSpPr/>
          <p:nvPr/>
        </p:nvSpPr>
        <p:spPr>
          <a:xfrm flipH="1">
            <a:off x="1428840" y="4352760"/>
            <a:ext cx="1100160" cy="648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2079000" y="571500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Registro territor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  <a:ea typeface="Arial"/>
              </a:rPr>
              <a:t>IIE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2786040" y="4924440"/>
            <a:ext cx="100080" cy="857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00040" y="571680"/>
            <a:ext cx="8077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229600" cy="4470120"/>
          </a:xfrm>
          <a:prstGeom prst="rect">
            <a:avLst/>
          </a:prstGeom>
          <a:ln w="0">
            <a:noFill/>
          </a:ln>
        </p:spPr>
      </p:pic>
      <p:sp>
        <p:nvSpPr>
          <p:cNvPr id="289" name="4 Flecha abajo"/>
          <p:cNvSpPr/>
          <p:nvPr/>
        </p:nvSpPr>
        <p:spPr>
          <a:xfrm>
            <a:off x="7116840" y="2371680"/>
            <a:ext cx="453960" cy="115272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0000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42960" y="3643200"/>
            <a:ext cx="25718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6 Flecha abajo"/>
          <p:cNvSpPr/>
          <p:nvPr/>
        </p:nvSpPr>
        <p:spPr>
          <a:xfrm>
            <a:off x="1000080" y="3143160"/>
            <a:ext cx="142920" cy="2145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7 Flecha abajo"/>
          <p:cNvSpPr/>
          <p:nvPr/>
        </p:nvSpPr>
        <p:spPr>
          <a:xfrm>
            <a:off x="414324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8 Flecha abajo"/>
          <p:cNvSpPr/>
          <p:nvPr/>
        </p:nvSpPr>
        <p:spPr>
          <a:xfrm>
            <a:off x="2428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9 Flecha abajo"/>
          <p:cNvSpPr/>
          <p:nvPr/>
        </p:nvSpPr>
        <p:spPr>
          <a:xfrm>
            <a:off x="49291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10 Flecha abajo"/>
          <p:cNvSpPr/>
          <p:nvPr/>
        </p:nvSpPr>
        <p:spPr>
          <a:xfrm>
            <a:off x="585792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11 Flecha abajo"/>
          <p:cNvSpPr/>
          <p:nvPr/>
        </p:nvSpPr>
        <p:spPr>
          <a:xfrm>
            <a:off x="6643800" y="321480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12 Flecha izquierda"/>
          <p:cNvSpPr/>
          <p:nvPr/>
        </p:nvSpPr>
        <p:spPr>
          <a:xfrm>
            <a:off x="7786800" y="4786200"/>
            <a:ext cx="672840" cy="2984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13 Flecha izquierda"/>
          <p:cNvSpPr/>
          <p:nvPr/>
        </p:nvSpPr>
        <p:spPr>
          <a:xfrm>
            <a:off x="7786800" y="3746520"/>
            <a:ext cx="672840" cy="29052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008240"/>
          </a:xfrm>
          <a:prstGeom prst="rect">
            <a:avLst/>
          </a:prstGeom>
          <a:ln w="0">
            <a:noFill/>
          </a:ln>
        </p:spPr>
      </p:pic>
      <p:sp>
        <p:nvSpPr>
          <p:cNvPr id="301" name="4 Flecha izquierda"/>
          <p:cNvSpPr/>
          <p:nvPr/>
        </p:nvSpPr>
        <p:spPr>
          <a:xfrm>
            <a:off x="8643960" y="442908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5 Rectángulo"/>
          <p:cNvSpPr/>
          <p:nvPr/>
        </p:nvSpPr>
        <p:spPr>
          <a:xfrm>
            <a:off x="3357720" y="4429080"/>
            <a:ext cx="21430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INFO-CLASE INTRA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7591680" cy="4525920"/>
          </a:xfrm>
          <a:prstGeom prst="rect">
            <a:avLst/>
          </a:prstGeom>
          <a:ln w="0">
            <a:noFill/>
          </a:ln>
        </p:spPr>
      </p:pic>
      <p:sp>
        <p:nvSpPr>
          <p:cNvPr id="305" name="4 Rectángulo"/>
          <p:cNvSpPr/>
          <p:nvPr/>
        </p:nvSpPr>
        <p:spPr>
          <a:xfrm>
            <a:off x="2000160" y="3714840"/>
            <a:ext cx="18576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5 Flecha izquierda"/>
          <p:cNvSpPr/>
          <p:nvPr/>
        </p:nvSpPr>
        <p:spPr>
          <a:xfrm>
            <a:off x="4643280" y="4357800"/>
            <a:ext cx="214560" cy="14292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6 Flecha izquierda"/>
          <p:cNvSpPr/>
          <p:nvPr/>
        </p:nvSpPr>
        <p:spPr>
          <a:xfrm>
            <a:off x="4643280" y="4500720"/>
            <a:ext cx="214560" cy="142560"/>
          </a:xfrm>
          <a:prstGeom prst="leftArrow">
            <a:avLst>
              <a:gd name="adj1" fmla="val 50000"/>
              <a:gd name="adj2" fmla="val 5016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7 Flecha izquierda"/>
          <p:cNvSpPr/>
          <p:nvPr/>
        </p:nvSpPr>
        <p:spPr>
          <a:xfrm>
            <a:off x="8501040" y="5500800"/>
            <a:ext cx="428760" cy="285480"/>
          </a:xfrm>
          <a:prstGeom prst="leftArrow">
            <a:avLst>
              <a:gd name="adj1" fmla="val 50000"/>
              <a:gd name="adj2" fmla="val 500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CNOLOGÍA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DATOS ON-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ÓN DE LOS DATOS A TENER EN CUENTA POR EL PRIOPIO 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SADO EN ÁLGEBRA BOOLE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DO PARA PODER SELECCIONAR DIFERENTES TIPOS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 DE OPERADORES LÓGICOS (AND, OR, NOT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EÑO INTUITIVO Y SI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ILIMITADA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ZÚJAR – 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 FILTRAR mediante álgebra booleana a los contribuyentes por variables predefinidas según los datos con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36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 INFORMACIÓN de los contrib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rrollado por personal de la A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6400" indent="-356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SELECCIÓN DE CONTRIBUYENTES</a:t>
            </a: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Herramienta Informática ZU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3786120" y="321480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SISTEMA DE FILTROS (OPERADORES LÓGIC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15877" t="13229" r="76718" b="76189"/>
          <a:stretch/>
        </p:blipFill>
        <p:spPr>
          <a:xfrm>
            <a:off x="2928960" y="2714760"/>
            <a:ext cx="2357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ESGO: Contribuyentes que presentan declaraciones de IVA a compensar o ingresan pequeñas cantidades pero  declaran o ingresan  cantidades significativas de retenciones por los pagos a sus 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EJEMPLO DEL US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rcRect l="15877" t="7939" r="59518" b="57668"/>
          <a:stretch/>
        </p:blipFill>
        <p:spPr>
          <a:xfrm>
            <a:off x="1214280" y="2500200"/>
            <a:ext cx="6500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STADO DE CASOS QUE HAN SIDO SELECCION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rcRect l="15877" t="10582" r="517" b="3425"/>
          <a:stretch/>
        </p:blipFill>
        <p:spPr>
          <a:xfrm>
            <a:off x="1000080" y="2000160"/>
            <a:ext cx="7500960" cy="4575240"/>
          </a:xfrm>
          <a:prstGeom prst="rect">
            <a:avLst/>
          </a:prstGeom>
          <a:ln w="0">
            <a:noFill/>
          </a:ln>
        </p:spPr>
      </p:pic>
      <p:sp>
        <p:nvSpPr>
          <p:cNvPr id="323" name="4 Elipse"/>
          <p:cNvSpPr/>
          <p:nvPr/>
        </p:nvSpPr>
        <p:spPr>
          <a:xfrm>
            <a:off x="1000080" y="5357880"/>
            <a:ext cx="28576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ímite de candidatos  que pueden listarse: 4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5 Conector recto de flecha"/>
          <p:cNvCxnSpPr/>
          <p:nvPr/>
        </p:nvCxnSpPr>
        <p:spPr>
          <a:xfrm flipH="1">
            <a:off x="1856520" y="6000840"/>
            <a:ext cx="500760" cy="4291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6 Elipse"/>
          <p:cNvSpPr/>
          <p:nvPr/>
        </p:nvSpPr>
        <p:spPr>
          <a:xfrm>
            <a:off x="4000680" y="4929120"/>
            <a:ext cx="285732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 candi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7 Conector recto de flecha"/>
          <p:cNvCxnSpPr/>
          <p:nvPr/>
        </p:nvCxnSpPr>
        <p:spPr>
          <a:xfrm flipH="1">
            <a:off x="3571200" y="5406840"/>
            <a:ext cx="633960" cy="1022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5791320"/>
          </a:xfrm>
          <a:prstGeom prst="rect">
            <a:avLst/>
          </a:prstGeom>
          <a:ln w="0">
            <a:noFill/>
          </a:ln>
        </p:spPr>
      </p:pic>
      <p:sp>
        <p:nvSpPr>
          <p:cNvPr id="329" name="3 Rectángulo"/>
          <p:cNvSpPr/>
          <p:nvPr/>
        </p:nvSpPr>
        <p:spPr>
          <a:xfrm>
            <a:off x="433440" y="142884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USO DE AGRUP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SIBILIDAD DE EXPORTACIÓN A HERRAMIENTAS DE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MANEJO DEL ZÚ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rcRect l="0" t="0" r="13216" b="40468"/>
          <a:stretch/>
        </p:blipFill>
        <p:spPr>
          <a:xfrm>
            <a:off x="785880" y="2276640"/>
            <a:ext cx="757224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1. EL CENSO DE OBLIGADOS 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57120" y="1600200"/>
            <a:ext cx="850104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tos identificativos: gira en torno al Número de Identificación Fiscal (NI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zación: Domicilio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de notificación: referencia a la “notificación electrónica obligatori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resarios, profesionales y retenedores (CE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be const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perfil” fisca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 cada obligado. Es decir, los rasgos que caracterizan a cada obligado en relación con cada una de las figuras impositivas que gestiona la AEAT (IS, IRPF, IVA). Régimen general o regímenes especi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 clasificación de 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tividades económica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arrolladas  y la inclusión o baja del obligado en los distintos registros tributarios. (ROI, REDEME, GG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clara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o autoliquidaciones que deba presentar periódicamente el obligado por razón de sus actividades empresariales o profesionales, o por satisfacer rentas sujetas a retención o ingreso a cuen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336" name="6 Rectángulo"/>
          <p:cNvSpPr/>
          <p:nvPr/>
        </p:nvSpPr>
        <p:spPr>
          <a:xfrm>
            <a:off x="0" y="2062080"/>
            <a:ext cx="1177920" cy="14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3754440"/>
          </a:xfrm>
          <a:prstGeom prst="rect">
            <a:avLst/>
          </a:prstGeom>
          <a:ln w="0">
            <a:noFill/>
          </a:ln>
        </p:spPr>
      </p:pic>
      <p:sp>
        <p:nvSpPr>
          <p:cNvPr id="339" name="1 Rectángulo"/>
          <p:cNvSpPr/>
          <p:nvPr/>
        </p:nvSpPr>
        <p:spPr>
          <a:xfrm>
            <a:off x="755640" y="4508640"/>
            <a:ext cx="2303640" cy="215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468360" y="1801800"/>
            <a:ext cx="8229600" cy="4397400"/>
          </a:xfrm>
          <a:prstGeom prst="rect">
            <a:avLst/>
          </a:prstGeom>
          <a:ln w="0">
            <a:noFill/>
          </a:ln>
        </p:spPr>
      </p:pic>
      <p:sp>
        <p:nvSpPr>
          <p:cNvPr id="342" name="10 Rectángulo"/>
          <p:cNvSpPr/>
          <p:nvPr/>
        </p:nvSpPr>
        <p:spPr>
          <a:xfrm>
            <a:off x="2214720" y="4000680"/>
            <a:ext cx="571320" cy="92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11 Rectángulo"/>
          <p:cNvSpPr/>
          <p:nvPr/>
        </p:nvSpPr>
        <p:spPr>
          <a:xfrm>
            <a:off x="7149960" y="4465800"/>
            <a:ext cx="951120" cy="155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Refinamiento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26880" y="1571760"/>
            <a:ext cx="8531280" cy="4605120"/>
          </a:xfrm>
          <a:prstGeom prst="rect">
            <a:avLst/>
          </a:prstGeom>
          <a:ln w="0">
            <a:noFill/>
          </a:ln>
        </p:spPr>
      </p:pic>
      <p:sp>
        <p:nvSpPr>
          <p:cNvPr id="346" name="4 Flecha izquierda"/>
          <p:cNvSpPr/>
          <p:nvPr/>
        </p:nvSpPr>
        <p:spPr>
          <a:xfrm>
            <a:off x="4000680" y="5143680"/>
            <a:ext cx="6426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ÍNEAS DE MEJ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9065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utonomía entre devoluciones y control exten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jora de la selección de los riesgos fi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áxima automatización de la tramitación de los procedimientos de comprob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omogeneización del control fiscal entre territo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1920" y="19047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utonomía de los órganos que devuelven de los que contro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vincular el control masivo del programa de devolu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eración centralizada de los acuerdos de devolución:   orden creciente de riesgo 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necesidad de resolver riesgos de declaraciones no seleccionadas (devuelt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-358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 de la calificación de riesgos desde la finalización del plazo de presentación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1) AUTONOMÍA ENTRE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EVOLUCIONES  Y 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95724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REPRESENTACIÓN 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9933"/>
                </a:solidFill>
                <a:latin typeface="Arial"/>
              </a:rPr>
              <a:t>D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467480" y="39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371600" y="3586320"/>
            <a:ext cx="609588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ICITUD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DE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pr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7621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n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934320" y="2209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or riesgo</a:t>
            </a:r>
            <a:r>
              <a:rPr b="1" lang="es-E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16765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2133720" y="30481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64008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69343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1066680" y="480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0666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7"/>
          <p:cNvSpPr/>
          <p:nvPr/>
        </p:nvSpPr>
        <p:spPr>
          <a:xfrm flipH="1"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8"/>
          <p:cNvSpPr/>
          <p:nvPr/>
        </p:nvSpPr>
        <p:spPr>
          <a:xfrm flipH="1">
            <a:off x="640080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22860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parte de lo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esgos definidos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n base a filtros u otras selecciones (Zúj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sistema de control masivo e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nic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o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hay riesgos que evalúan devoluciones y otros riesgos que tratan de corregir comportamientos de frau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ntúa cada riesg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odas las declaraciones aparecen puntuadas con lo que se pued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denar de menor a mayor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53820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s oficinas no deberán pronunciars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nc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sobre los filtros de los expedientes que se devuel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2) MEJORA DE LA SELECCIÓN DE RIESGOS FISCLA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52280" y="2636640"/>
            <a:ext cx="87631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os riesg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diante un nuevo sistema más científico, que permita un seguimiento automático de su e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lotando la contestación de los actuarios a qué filtro ha provocado la efic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OPTIMIZACIÓN DE LA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ELECCIÓN DE EXPEDIENTES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3) MÁXIMA AUTOMATIZACIÓN DE LOS PROCEDIMIENTOS DE COMPROB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600" y="2437920"/>
            <a:ext cx="876312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1) AUTOSERVICIO EN EL CONTROL ó AUTO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trasladar al contribuyente la corrección de errore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Incidencias de carácter censal : posibilidad de consultar y resolver sus incidencias cens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(antes, durante y después de la presenta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8776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Riesgos de otro tipo que no tengan efecto en la cuota y supongan una comprobación obliga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2580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MEJORA DEL PROCESO INFORMÁTICO DE TRAMIT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2492280"/>
            <a:ext cx="8763120" cy="34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2) LIMITACIONES DE LAS APLICACIONES INFORMÁTICAS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debe llegar la automat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Perfil de los funcionarios de control mas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egundos procedi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3) HASTA DÓNDE DEBE LLEGAR LA ASIS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Hasta dónde se deben ofrecer datos fi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7952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95724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4) HOMOGENEIZACIÓN DE LA PRESIÓN </a:t>
            </a:r>
            <a:br>
              <a:rPr sz="3200"/>
            </a:b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52280" y="22093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ación única del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rga de trabajo de cada oficina conforme a su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dicar recursos a los expedientes de mayor riesgo, con independencia de la adscrip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ocalización de la comprob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xpediente electr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tención al contribuyente en cualquier ofic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:\Javier Rodriguez (F00993WM)\presentaciones\plantilla AEAT\optimizada\contraportada-WEB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3398760" y="62485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www.agenciatributari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3520" y="838080"/>
            <a:ext cx="80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2. FUENTE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Dependencia Regional de Gestión Tributaria de Castilla-La Man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57120" y="1643040"/>
            <a:ext cx="82868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terceras personas (declaraciones informati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2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los contribuyentes en sus prop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clar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3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otras Administraciones naciona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tributarias y no tributa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4º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nformación de carácter intern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5 CuadroTexto"/>
          <p:cNvSpPr/>
          <p:nvPr/>
        </p:nvSpPr>
        <p:spPr>
          <a:xfrm>
            <a:off x="1071720" y="5429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utiliza información ya disponible (NO INVESTIG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 Declaraciones 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50036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2786040" y="3214800"/>
            <a:ext cx="714240" cy="2142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Registr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5722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úmero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Decla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715000" cy="5064120"/>
          </a:xfrm>
          <a:prstGeom prst="rect">
            <a:avLst/>
          </a:prstGeom>
          <a:ln w="0">
            <a:noFill/>
          </a:ln>
        </p:spPr>
      </p:pic>
      <p:grpSp>
        <p:nvGrpSpPr>
          <p:cNvPr id="136" name="3 Rectángulo"/>
          <p:cNvGrpSpPr/>
          <p:nvPr/>
        </p:nvGrpSpPr>
        <p:grpSpPr>
          <a:xfrm>
            <a:off x="4334040" y="1835280"/>
            <a:ext cx="3262320" cy="188640"/>
            <a:chOff x="4334040" y="1835280"/>
            <a:chExt cx="3262320" cy="188640"/>
          </a:xfrm>
        </p:grpSpPr>
        <p:pic>
          <p:nvPicPr>
            <p:cNvPr id="137" name="3 Rectángulo" descr=""/>
            <p:cNvPicPr/>
            <p:nvPr/>
          </p:nvPicPr>
          <p:blipFill>
            <a:blip r:embed="rId2"/>
            <a:stretch/>
          </p:blipFill>
          <p:spPr>
            <a:xfrm>
              <a:off x="4334040" y="1835280"/>
              <a:ext cx="3262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357800" y="1857240"/>
              <a:ext cx="32144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2:18:28Z</dcterms:created>
  <dc:creator>f00993wm</dc:creator>
  <dc:description/>
  <dc:language>en-US</dc:language>
  <cp:lastModifiedBy> </cp:lastModifiedBy>
  <dcterms:modified xsi:type="dcterms:W3CDTF">2013-11-01T10:49:05Z</dcterms:modified>
  <cp:revision>158</cp:revision>
  <dc:subject/>
  <dc:title>Presentación de PowerPoint</dc:title>
</cp:coreProperties>
</file>