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CC184-E9A4-466E-8353-B56941543247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FCE6-AABD-4DD6-A87D-59DAC64E610A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7C1DE-ECD4-4ACD-A048-11E51FEDADF5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9D509-04D4-4A3E-91DD-D62478B0A189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4FB06-711A-43DA-AFDE-EB409E988234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27A1-64F5-4504-9D47-5204F014F2CC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B4B7E-BD87-4C46-9E76-535EC24E0B8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085A-90F0-46F3-9BED-C115973F3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14D9-5B55-4591-A516-73B60EA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E802-4817-4B9C-B351-104AD9F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31D2-424C-4B62-95B6-29221D59A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038A-D69F-4E91-B9E6-1942A95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1053-F5E4-4033-9657-AAA8D25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EFCA-97FB-4885-8C1D-3DF93C0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AFFD-2C7D-4BFE-AAC6-9E5A2A42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1EDE-16FA-472C-A83A-B73C8CA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BEED-DB0C-4C88-8685-3972E83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9C1B-005A-4C46-8221-A33B7B8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2E21-75A4-497B-BA3C-B105C4B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92F11E-5286-4519-B1E2-6C7F75149135}" type="slidenum">
              <a:rPr b="0" lang="es-A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42920" y="-363600"/>
            <a:ext cx="8858160" cy="18320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76040" y="1488960"/>
            <a:ext cx="8805960" cy="5213520"/>
            <a:chOff x="176040" y="1488960"/>
            <a:chExt cx="8805960" cy="5213520"/>
          </a:xfrm>
        </p:grpSpPr>
        <p:sp>
          <p:nvSpPr>
            <p:cNvPr id="4" name=""/>
            <p:cNvSpPr/>
            <p:nvPr/>
          </p:nvSpPr>
          <p:spPr>
            <a:xfrm>
              <a:off x="176040" y="1488960"/>
              <a:ext cx="8805960" cy="5213520"/>
            </a:xfrm>
            <a:prstGeom prst="rect">
              <a:avLst/>
            </a:pr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6040" y="6356520"/>
              <a:ext cx="87850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19240" y="6386400"/>
            <a:ext cx="2357280" cy="31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67160" y="6410160"/>
            <a:ext cx="6357600" cy="271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29/1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03D836-D8DA-4CC2-BEBB-088BCEE7D44F}" type="slidenum">
              <a:rPr b="0" lang="es-A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203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21124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28760" y="358128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676760"/>
            <a:ext cx="107928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0200" y="567216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11520" y="3240000"/>
            <a:ext cx="3555000" cy="2700000"/>
            <a:chOff x="3611520" y="3240000"/>
            <a:chExt cx="3555000" cy="2700000"/>
          </a:xfrm>
        </p:grpSpPr>
        <p:sp>
          <p:nvSpPr>
            <p:cNvPr id="212" name=""/>
            <p:cNvSpPr/>
            <p:nvPr/>
          </p:nvSpPr>
          <p:spPr>
            <a:xfrm>
              <a:off x="3611520" y="32400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1520" y="392184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6566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I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538956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T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69000" y="4025520"/>
              <a:ext cx="2297520" cy="60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IRECCIONES REGIO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METROPOLITA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320" y="2808360"/>
            <a:ext cx="14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71640" y="3068640"/>
            <a:ext cx="375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3080" y="3851280"/>
            <a:ext cx="35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4946760"/>
            <a:ext cx="35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3080" y="5913360"/>
            <a:ext cx="35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08400" y="3851280"/>
            <a:ext cx="723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32000" y="3561840"/>
            <a:ext cx="180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3851280"/>
            <a:ext cx="1800" cy="11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56400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232160"/>
            <a:ext cx="47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494676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1160" y="3564000"/>
            <a:ext cx="10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3581280"/>
            <a:ext cx="18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068640"/>
            <a:ext cx="1800" cy="28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00360" y="21340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0720" y="360036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720" y="45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072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324000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396072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68000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IG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T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4200" y="3959280"/>
            <a:ext cx="1882440" cy="563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IREC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G. METROPOLIT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37893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71720" y="370188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3600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6200" y="3959280"/>
            <a:ext cx="122400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GEST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EVOLU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45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4859280"/>
            <a:ext cx="1224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VISIÓN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54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832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G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3696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8200" y="2997360"/>
            <a:ext cx="430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997360"/>
            <a:ext cx="1800" cy="26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81492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477036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568800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0360" y="3870360"/>
            <a:ext cx="25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0920" y="3508200"/>
            <a:ext cx="18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917880"/>
            <a:ext cx="1800" cy="17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351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423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567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495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7280" y="3510000"/>
            <a:ext cx="82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56000" y="3510000"/>
            <a:ext cx="18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79640" y="2700360"/>
            <a:ext cx="5940360" cy="32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Facilitar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los servicios que brinda la AFIP  a los administrad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su asesoramiento, con el fin de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inducir el cumpl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voluntari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de las obligaciones fis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stión de Cobro de Deuda Administrativa y Judicial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mantengan los contribuyentes de su 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neración de percepción de riesg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a través de la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verif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ción de las DDJJ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presentadas por los contribuyentes de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1400" y="2160720"/>
            <a:ext cx="328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160720"/>
            <a:ext cx="30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-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2205000"/>
            <a:ext cx="748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CCIONES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879640"/>
            <a:ext cx="2490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Recaudación y Cobra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al Contrib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2770200"/>
            <a:ext cx="2519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Identificación de Unive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 Riesgo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de acuerdo al comportamiento de cada contribuy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3060720"/>
            <a:ext cx="216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termina Acciones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2781360"/>
            <a:ext cx="142920" cy="907920"/>
          </a:xfrm>
          <a:custGeom>
            <a:avLst/>
            <a:gdLst>
              <a:gd name="textAreaLeft" fmla="*/ 0 w 142920"/>
              <a:gd name="textAreaRight" fmla="*/ 51480 w 1429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937"/>
                </a:lnTo>
                <a:cubicBezTo>
                  <a:pt x="10800" y="9937"/>
                  <a:pt x="16200" y="9937"/>
                  <a:pt x="21600" y="9937"/>
                </a:cubicBezTo>
                <a:cubicBezTo>
                  <a:pt x="16200" y="9937"/>
                  <a:pt x="10800" y="9937"/>
                  <a:pt x="10800" y="993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0720" y="3859200"/>
            <a:ext cx="270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resen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a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3959280"/>
            <a:ext cx="180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svíos en DDJ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000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59280" y="3780000"/>
            <a:ext cx="25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on li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Cultural y Rel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0720" y="4859280"/>
            <a:ext cx="216072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Recauda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trol de Cumpli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4859280"/>
            <a:ext cx="237960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verificacion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frontación de DDJJ c/ Información Disponi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4859280"/>
            <a:ext cx="2519280" cy="900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tro del  Rol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Servicio, respecto de uso de las herramientas sistémica dis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964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9280" y="1598760"/>
            <a:ext cx="21603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270036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378000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Soc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85928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otal de Contribuy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19640" y="2879640"/>
            <a:ext cx="1081080" cy="18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19640" y="395928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9640" y="504036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9640" y="270036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2.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9640" y="378000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0.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9640" y="485928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42.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0720" y="2160720"/>
            <a:ext cx="341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51 - UNIVERSO</a:t>
            </a:r>
            <a:r>
              <a:rPr b="1" lang="es-AR" sz="1200" spc="-1" strike="noStrike">
                <a:solidFill>
                  <a:srgbClr val="ffffff"/>
                </a:solidFill>
                <a:latin typeface="Calibri"/>
              </a:rPr>
              <a:t>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036960" y="2165400"/>
            <a:ext cx="2106720" cy="53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68480" y="3119400"/>
            <a:ext cx="1163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ERVICIO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IBUY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60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AUD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414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TRA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68000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VERIFICACIONE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521964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9280" y="360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9280" y="414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OL OBLI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468000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LOGISTIC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CIO</a:t>
            </a:r>
            <a:r>
              <a:rPr b="1" lang="es-AR" sz="1000" spc="-1" strike="noStrike">
                <a:solidFill>
                  <a:srgbClr val="16165d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521964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940360"/>
            <a:ext cx="12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SE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40360" y="5940360"/>
            <a:ext cx="107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5759280"/>
            <a:ext cx="4140000" cy="179640"/>
          </a:xfrm>
          <a:prstGeom prst="leftRightArrow">
            <a:avLst>
              <a:gd name="adj1" fmla="val 50000"/>
              <a:gd name="adj2" fmla="val 4587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/>
          <p:nvPr/>
        </p:nvCxnSpPr>
        <p:spPr>
          <a:xfrm>
            <a:off x="1600200" y="2971800"/>
            <a:ext cx="2160" cy="24868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13" name=""/>
          <p:cNvSpPr/>
          <p:nvPr/>
        </p:nvSpPr>
        <p:spPr>
          <a:xfrm>
            <a:off x="1619280" y="324000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378000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431964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378000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431964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/>
          <p:nvPr/>
        </p:nvCxnSpPr>
        <p:spPr>
          <a:xfrm>
            <a:off x="6552720" y="2971440"/>
            <a:ext cx="3960" cy="245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21" name=""/>
          <p:cNvSpPr/>
          <p:nvPr/>
        </p:nvSpPr>
        <p:spPr>
          <a:xfrm>
            <a:off x="611964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964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2160720"/>
            <a:ext cx="18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91040" y="270504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19280" y="2913120"/>
            <a:ext cx="490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32000" y="3777840"/>
            <a:ext cx="1008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329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12-11-27T21:14:42Z</cp:lastPrinted>
  <dcterms:modified xsi:type="dcterms:W3CDTF">2013-10-31T20:39:14Z</dcterms:modified>
  <cp:revision>34</cp:revision>
  <dc:subject/>
  <dc:title>Sin título de diapositiva</dc:title>
</cp:coreProperties>
</file>