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B1E05-3FA2-419A-81B8-592E75443853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10C67-B9FB-4B11-B63B-EAF556F6B1E8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8BA4A-5D86-4379-A1B5-E167B698330D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D9153-2B1B-4C09-9122-5AD4D30651E8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DF437-7C5C-4842-9A32-5FB6D55746FE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F1F48-DD1C-4C2C-A5FC-C26A470BDB9F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78C61-05CD-4CF2-BC3D-1CB6BAAA0EE7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5C20-B716-420E-A3C1-820EE9EC81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D847-A050-43FA-A56C-55D96330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6476-1104-40C7-BCC0-DF5D7FE7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BA67-8A05-4E2A-8118-AAD9CFCBC3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7546-97BB-4226-9458-0EBC3690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9B4A-964F-4A32-9261-1E169560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6A79-92D4-4D5C-A632-BADB4FD4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4D75-AECA-440D-87A2-CD0817BD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EF4A-1A66-4FC3-AB40-BC4048FD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BE0E-576B-4B77-844D-9927D8DB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21C79-2E8E-4008-A077-F8014834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648E-10ED-4271-9960-B2C73402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500A47-07CA-4B9D-AB2F-C46DE7F4544F}" type="slidenum">
              <a:rPr b="0" lang="es-A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77777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42920" y="-363600"/>
            <a:ext cx="8858160" cy="183204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176040" y="1488960"/>
            <a:ext cx="8805960" cy="5213520"/>
            <a:chOff x="176040" y="1488960"/>
            <a:chExt cx="8805960" cy="5213520"/>
          </a:xfrm>
        </p:grpSpPr>
        <p:sp>
          <p:nvSpPr>
            <p:cNvPr id="4" name=""/>
            <p:cNvSpPr/>
            <p:nvPr/>
          </p:nvSpPr>
          <p:spPr>
            <a:xfrm>
              <a:off x="176040" y="1488960"/>
              <a:ext cx="8805960" cy="5213520"/>
            </a:xfrm>
            <a:prstGeom prst="rect">
              <a:avLst/>
            </a:prstGeom>
            <a:noFill/>
            <a:ln w="8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76040" y="6356520"/>
              <a:ext cx="8785080" cy="31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19240" y="6386400"/>
            <a:ext cx="2357280" cy="319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67160" y="6410160"/>
            <a:ext cx="6357600" cy="271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A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29/1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A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4000D2-C9A2-4316-A97A-80ED8FA240D2}" type="slidenum">
              <a:rPr b="0" lang="es-A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17640"/>
            <a:ext cx="9151920" cy="6840360"/>
            <a:chOff x="0" y="17640"/>
            <a:chExt cx="9151920" cy="6840360"/>
          </a:xfrm>
        </p:grpSpPr>
        <p:sp>
          <p:nvSpPr>
            <p:cNvPr id="203" name=""/>
            <p:cNvSpPr/>
            <p:nvPr/>
          </p:nvSpPr>
          <p:spPr>
            <a:xfrm>
              <a:off x="0" y="17640"/>
              <a:ext cx="9151920" cy="684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6080" y="180720"/>
              <a:ext cx="8882280" cy="6524640"/>
            </a:xfrm>
            <a:prstGeom prst="rect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2499480" y="2874240"/>
              <a:ext cx="3961800" cy="1161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2112480"/>
            <a:ext cx="2472120" cy="64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DMINISTRACIÓN FED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 INGRES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28760" y="358128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4676760"/>
            <a:ext cx="107928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0200" y="567216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G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611520" y="3240000"/>
            <a:ext cx="3555000" cy="2700000"/>
            <a:chOff x="3611520" y="3240000"/>
            <a:chExt cx="3555000" cy="2700000"/>
          </a:xfrm>
        </p:grpSpPr>
        <p:sp>
          <p:nvSpPr>
            <p:cNvPr id="212" name=""/>
            <p:cNvSpPr/>
            <p:nvPr/>
          </p:nvSpPr>
          <p:spPr>
            <a:xfrm>
              <a:off x="3611520" y="3240000"/>
              <a:ext cx="1109160" cy="55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OP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1520" y="3921840"/>
              <a:ext cx="1109160" cy="55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OP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1520" y="4656600"/>
              <a:ext cx="1109160" cy="55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OIG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11520" y="5389560"/>
              <a:ext cx="1109160" cy="55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"/>
                </a:rPr>
                <a:t>SDG T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69000" y="4025520"/>
              <a:ext cx="2297520" cy="60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IRECCIONES REGION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METROPOLITAN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39640" y="2160720"/>
            <a:ext cx="21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ORGANI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9320" y="2808360"/>
            <a:ext cx="144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971640" y="3068640"/>
            <a:ext cx="3759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3080" y="3851280"/>
            <a:ext cx="355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3080" y="4946760"/>
            <a:ext cx="358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3080" y="5913360"/>
            <a:ext cx="355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08400" y="3851280"/>
            <a:ext cx="723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32000" y="3561840"/>
            <a:ext cx="180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3851280"/>
            <a:ext cx="1800" cy="11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3564000"/>
            <a:ext cx="47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2000" y="4232160"/>
            <a:ext cx="47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4946760"/>
            <a:ext cx="47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91160" y="3564000"/>
            <a:ext cx="1033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24360" y="3581280"/>
            <a:ext cx="18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3080" y="3068640"/>
            <a:ext cx="1800" cy="28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00360" y="2134080"/>
            <a:ext cx="2472120" cy="64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DMINISTRACIÓN FED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 INGRES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0720" y="360036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0720" y="450072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0720" y="540072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G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324000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OP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3960720"/>
            <a:ext cx="1079640" cy="540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OP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68000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OIG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5400720"/>
            <a:ext cx="1079640" cy="539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SDG T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4200" y="3959280"/>
            <a:ext cx="1882440" cy="563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DIREC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G. METROPOLITA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378936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71720" y="370188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0360" y="360036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56200" y="3959280"/>
            <a:ext cx="122400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GESTIÓN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DEVOLU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0360" y="450072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0360" y="4859280"/>
            <a:ext cx="122400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VISIÓN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0360" y="540072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JURÍD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5832360"/>
            <a:ext cx="122400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AG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2160720"/>
            <a:ext cx="21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ORGANI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36960" y="2852640"/>
            <a:ext cx="18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8200" y="2997360"/>
            <a:ext cx="430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2997360"/>
            <a:ext cx="1800" cy="269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3814920"/>
            <a:ext cx="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4770360"/>
            <a:ext cx="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5688000"/>
            <a:ext cx="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00360" y="3870360"/>
            <a:ext cx="25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0920" y="3508200"/>
            <a:ext cx="18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3917880"/>
            <a:ext cx="1800" cy="177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351000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0920" y="423072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0920" y="567072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495000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7280" y="3510000"/>
            <a:ext cx="828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56000" y="3510000"/>
            <a:ext cx="18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79640" y="2700360"/>
            <a:ext cx="5940360" cy="324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Facilitar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los servicios que brinda la AFIP  a los administrad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su asesoramiento, con el fin de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inducir el cumpl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voluntario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de las obligaciones fisc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Gestión de Cobro de Deuda Administrativa y Judicial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mantengan los contribuyentes de su jurisdi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Generación de percepción de riesgo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a través de la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verific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000080"/>
                </a:solidFill>
                <a:latin typeface="Trebuchet MS"/>
              </a:rPr>
              <a:t>ción de las DDJJ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presentadas por los contribuyentes de 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0" lang="es-ES" sz="1600" spc="-1" strike="noStrike">
                <a:solidFill>
                  <a:srgbClr val="000080"/>
                </a:solidFill>
                <a:latin typeface="Trebuchet MS"/>
              </a:rPr>
              <a:t>jurisdi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1400" y="2160720"/>
            <a:ext cx="328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2160720"/>
            <a:ext cx="306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AGENCIA - 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2205000"/>
            <a:ext cx="7488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000080"/>
                </a:solidFill>
                <a:uFillTx/>
                <a:latin typeface="Georgia"/>
              </a:rPr>
              <a:t> </a:t>
            </a: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ACCIONES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2879640"/>
            <a:ext cx="2490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Recaudación y Cobran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Servicios al Contrib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60720" y="2770200"/>
            <a:ext cx="2519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Identificación de Unive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de Riesgo</a:t>
            </a: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 de acuerdo al comportamiento de cada contribuy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0360" y="3060720"/>
            <a:ext cx="216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Determina Acciones</a:t>
            </a: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2781360"/>
            <a:ext cx="142920" cy="907920"/>
          </a:xfrm>
          <a:custGeom>
            <a:avLst/>
            <a:gdLst>
              <a:gd name="textAreaLeft" fmla="*/ 0 w 142920"/>
              <a:gd name="textAreaRight" fmla="*/ 51480 w 14292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937"/>
                </a:lnTo>
                <a:cubicBezTo>
                  <a:pt x="10800" y="9937"/>
                  <a:pt x="16200" y="9937"/>
                  <a:pt x="21600" y="9937"/>
                </a:cubicBezTo>
                <a:cubicBezTo>
                  <a:pt x="16200" y="9937"/>
                  <a:pt x="10800" y="9937"/>
                  <a:pt x="10800" y="9937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0720" y="3859200"/>
            <a:ext cx="2700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Falta de Presen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Falta de Pa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3959280"/>
            <a:ext cx="1800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Desvíos en DDJ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0000" y="324000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59280" y="3780000"/>
            <a:ext cx="25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Servicios on li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80"/>
                </a:solidFill>
                <a:latin typeface="Arial"/>
              </a:rPr>
              <a:t>Cultural y Rel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0720" y="4859280"/>
            <a:ext cx="2160720" cy="860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termina Acciones de Recaudación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Control de Cumpli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4859280"/>
            <a:ext cx="2379600" cy="860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termina Acciones de verificacion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Confrontación de DDJJ c/ Información Disponi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0360" y="4859280"/>
            <a:ext cx="2519280" cy="900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termina Acciones de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tro del  Rol d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Servicio, respecto de uso de las herramientas sistémica dispon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19280" y="43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19640" y="43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20000" y="431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9280" y="1598760"/>
            <a:ext cx="21603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2700360"/>
            <a:ext cx="32403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ntribuyentes Indiv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3780000"/>
            <a:ext cx="32403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ntribuyentes Soci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4859280"/>
            <a:ext cx="32403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Total de Contribuy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19640" y="2879640"/>
            <a:ext cx="1081080" cy="18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19640" y="3959280"/>
            <a:ext cx="1081080" cy="14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19640" y="5040360"/>
            <a:ext cx="1081080" cy="14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01" h="1">
                <a:moveTo>
                  <a:pt x="0" y="0"/>
                </a:moveTo>
                <a:lnTo>
                  <a:pt x="3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9640" y="2700360"/>
            <a:ext cx="1800360" cy="539640"/>
          </a:xfrm>
          <a:custGeom>
            <a:avLst/>
            <a:gdLst>
              <a:gd name="textAreaLeft" fmla="*/ 63360 w 1800360"/>
              <a:gd name="textAreaRight" fmla="*/ 1737000 w 1800360"/>
              <a:gd name="textAreaTop" fmla="*/ 63360 h 539640"/>
              <a:gd name="textAreaBottom" fmla="*/ 476280 h 539640"/>
            </a:gdLst>
            <a:ahLst/>
            <a:rect l="textAreaLeft" t="textAreaTop" r="textAreaRight" b="textAreaBottom"/>
            <a:pathLst>
              <a:path w="72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429" y="21600"/>
                </a:lnTo>
                <a:arcTo wR="3600" hR="3600" stAng="10800000" swAng="5400000"/>
                <a:lnTo>
                  <a:pt x="7202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2.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9640" y="3780000"/>
            <a:ext cx="1800360" cy="539640"/>
          </a:xfrm>
          <a:custGeom>
            <a:avLst/>
            <a:gdLst>
              <a:gd name="textAreaLeft" fmla="*/ 63360 w 1800360"/>
              <a:gd name="textAreaRight" fmla="*/ 1737000 w 1800360"/>
              <a:gd name="textAreaTop" fmla="*/ 63360 h 539640"/>
              <a:gd name="textAreaBottom" fmla="*/ 476280 h 539640"/>
            </a:gdLst>
            <a:ahLst/>
            <a:rect l="textAreaLeft" t="textAreaTop" r="textAreaRight" b="textAreaBottom"/>
            <a:pathLst>
              <a:path w="72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429" y="21600"/>
                </a:lnTo>
                <a:arcTo wR="3600" hR="3600" stAng="10800000" swAng="5400000"/>
                <a:lnTo>
                  <a:pt x="7202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0.3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9640" y="4859280"/>
            <a:ext cx="1800360" cy="539640"/>
          </a:xfrm>
          <a:custGeom>
            <a:avLst/>
            <a:gdLst>
              <a:gd name="textAreaLeft" fmla="*/ 63360 w 1800360"/>
              <a:gd name="textAreaRight" fmla="*/ 1737000 w 1800360"/>
              <a:gd name="textAreaTop" fmla="*/ 63360 h 539640"/>
              <a:gd name="textAreaBottom" fmla="*/ 476280 h 539640"/>
            </a:gdLst>
            <a:ahLst/>
            <a:rect l="textAreaLeft" t="textAreaTop" r="textAreaRight" b="textAreaBottom"/>
            <a:pathLst>
              <a:path w="720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429" y="21600"/>
                </a:lnTo>
                <a:arcTo wR="3600" hR="3600" stAng="10800000" swAng="5400000"/>
                <a:lnTo>
                  <a:pt x="7202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42.6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0720" y="2160720"/>
            <a:ext cx="3419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AGENCIA 51 - UNIVERSO</a:t>
            </a:r>
            <a:r>
              <a:rPr b="1" lang="es-AR" sz="1200" spc="-1" strike="noStrike">
                <a:solidFill>
                  <a:srgbClr val="ffffff"/>
                </a:solidFill>
                <a:latin typeface="Calibri"/>
              </a:rPr>
              <a:t>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700360" y="512640"/>
            <a:ext cx="52196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ADMINISTRACIÓN FEDERAL DE INGRES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036960" y="2165400"/>
            <a:ext cx="2106720" cy="53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968480" y="3119400"/>
            <a:ext cx="11635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SERVICIO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NTRIBUY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79640" y="360036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RECAUD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79640" y="414036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TRA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79640" y="468000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VERIFICACIONE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79640" y="521964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BRAN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JUDI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59280" y="360036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BRANZ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ADMINISTR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59280" y="414036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CONTROL OBLI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FISC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59280" y="468000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LOGISTIC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ADMINISTRACIO</a:t>
            </a:r>
            <a:r>
              <a:rPr b="1" lang="es-AR" sz="1000" spc="-1" strike="noStrike">
                <a:solidFill>
                  <a:srgbClr val="16165d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5219640"/>
            <a:ext cx="126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</a:rPr>
              <a:t>SISTE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5940360"/>
            <a:ext cx="1260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SE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40360" y="5940360"/>
            <a:ext cx="107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OFIC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5759280"/>
            <a:ext cx="4140000" cy="179640"/>
          </a:xfrm>
          <a:prstGeom prst="leftRightArrow">
            <a:avLst>
              <a:gd name="adj1" fmla="val 50000"/>
              <a:gd name="adj2" fmla="val 4587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/>
          <p:nvPr/>
        </p:nvCxnSpPr>
        <p:spPr>
          <a:xfrm>
            <a:off x="1600200" y="2971800"/>
            <a:ext cx="2160" cy="24868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13" name=""/>
          <p:cNvSpPr/>
          <p:nvPr/>
        </p:nvSpPr>
        <p:spPr>
          <a:xfrm>
            <a:off x="1619280" y="3240000"/>
            <a:ext cx="360360" cy="1800"/>
          </a:xfrm>
          <a:custGeom>
            <a:avLst/>
            <a:gdLst>
              <a:gd name="textAreaLeft" fmla="*/ 0 w 360360"/>
              <a:gd name="textAreaRight" fmla="*/ 360720 w 360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9280" y="378000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431964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859280"/>
            <a:ext cx="360360" cy="1800"/>
          </a:xfrm>
          <a:custGeom>
            <a:avLst/>
            <a:gdLst>
              <a:gd name="textAreaLeft" fmla="*/ 0 w 360360"/>
              <a:gd name="textAreaRight" fmla="*/ 360720 w 360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19280" y="540072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0" y="0"/>
                </a:moveTo>
                <a:lnTo>
                  <a:pt x="1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40360" y="3780000"/>
            <a:ext cx="720720" cy="144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01" h="1">
                <a:moveTo>
                  <a:pt x="0" y="0"/>
                </a:moveTo>
                <a:lnTo>
                  <a:pt x="2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40360" y="4319640"/>
            <a:ext cx="720720" cy="144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01" h="1">
                <a:moveTo>
                  <a:pt x="0" y="0"/>
                </a:moveTo>
                <a:lnTo>
                  <a:pt x="20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"/>
          <p:cNvCxnSpPr/>
          <p:nvPr/>
        </p:nvCxnSpPr>
        <p:spPr>
          <a:xfrm>
            <a:off x="6552720" y="2971440"/>
            <a:ext cx="3960" cy="2453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21" name=""/>
          <p:cNvSpPr/>
          <p:nvPr/>
        </p:nvSpPr>
        <p:spPr>
          <a:xfrm>
            <a:off x="6119640" y="4859280"/>
            <a:ext cx="360360" cy="1800"/>
          </a:xfrm>
          <a:custGeom>
            <a:avLst/>
            <a:gdLst>
              <a:gd name="textAreaLeft" fmla="*/ 0 w 360360"/>
              <a:gd name="textAreaRight" fmla="*/ 360720 w 360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001" h="1">
                <a:moveTo>
                  <a:pt x="100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9640" y="5400720"/>
            <a:ext cx="360360" cy="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01" h="1">
                <a:moveTo>
                  <a:pt x="100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2160720"/>
            <a:ext cx="18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s-AR" sz="1600" spc="-1" strike="noStrike" u="sng">
                <a:solidFill>
                  <a:srgbClr val="000080"/>
                </a:solidFill>
                <a:uFillTx/>
                <a:latin typeface="Georgia"/>
              </a:rPr>
              <a:t>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91040" y="270504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19280" y="2913120"/>
            <a:ext cx="490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132000" y="3777840"/>
            <a:ext cx="1008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378000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17640"/>
            <a:ext cx="9151920" cy="6840360"/>
            <a:chOff x="0" y="17640"/>
            <a:chExt cx="9151920" cy="6840360"/>
          </a:xfrm>
        </p:grpSpPr>
        <p:sp>
          <p:nvSpPr>
            <p:cNvPr id="329" name=""/>
            <p:cNvSpPr/>
            <p:nvPr/>
          </p:nvSpPr>
          <p:spPr>
            <a:xfrm>
              <a:off x="0" y="17640"/>
              <a:ext cx="9151920" cy="684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6080" y="180720"/>
              <a:ext cx="8882280" cy="6524640"/>
            </a:xfrm>
            <a:prstGeom prst="rect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499480" y="2874240"/>
              <a:ext cx="3961800" cy="1161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lastPrinted>2012-11-27T21:14:42Z</cp:lastPrinted>
  <dcterms:modified xsi:type="dcterms:W3CDTF">2013-10-31T20:39:14Z</dcterms:modified>
  <cp:revision>34</cp:revision>
  <dc:subject/>
  <dc:title>Sin título de diapositiva</dc:title>
</cp:coreProperties>
</file>