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wmf" ContentType="image/x-wm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A89-7E70-4DDF-9E33-4A95D7FC7E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286E-C77B-423F-95D6-D0C429B7731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71ED-8DDC-406E-B1BD-D17A31D5858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B7A1-DEB0-48A8-9020-343D258AC08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9943-34AD-43CA-81BD-6C5D1FA68C7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DD8A-D000-4FBD-BCEF-96BA56B8DE8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742-8268-4EAA-BEE6-40B8BEB8502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222C-8AB1-4A64-8190-284EC0887E2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5C6-7CF1-4856-BE60-02D40115A22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70CB-44D9-4259-AC54-53E86FB07C4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342A-52E9-4DFE-812B-890CD905DAD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168-AE3A-4441-BFF4-18539F25C3A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473B-EE10-401C-BB8D-8B62EFB21D8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4DAC-5187-4187-A0AB-BFEBAE9A1C8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402C-5CD1-4B88-869C-34CD81AA107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355-D0C8-44DF-B5E0-0F11BC887E5B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E355-6562-4DF2-A64A-12C11224864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BEFD-2E22-42D6-929F-36E6E5788DB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ABFC-1CF0-4217-81F8-FD010E6043E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ffff2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FAC2-2E20-4188-9682-A791A5C8C54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E548-0B3E-43CE-89E2-21EB9E91356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3B6C-C381-46D1-A3DF-71EA2851AC1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 si BPS necesita se agreguen validaciones especificas de su siste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2965-5752-4D48-B83B-F9E5DB8B848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AA0E-94E1-48E3-B49B-21A6CCF2E2F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513E-5896-4DAC-BA90-A7E6FA4F291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891E-9A03-48E2-ADC6-84372BE2359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E67C-F974-461A-AD74-7A086C3A075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0980-7BDC-4877-8A18-4E8867A7A30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049B-2C52-4F67-84BD-71AED326D83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D390-6947-4F0F-AFC0-04B87BF8209B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14D6-6CF6-4CD6-B731-9EC4C03A71A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25FC-B7C5-4E20-80CF-235DD02E5B1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71E7-106E-4065-85C1-44E79F2AA61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2494-6043-45C4-A524-195427ADBE1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A2FB-C9DD-488F-AA23-9BAF2780FBA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7BF-947D-4051-96C1-43EEB19F4B9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DFAB-1AC6-4768-9E3B-2BB292D15BD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009-6B1F-4C60-9090-111756DF5FF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F7E4-B769-47CB-9571-4F6393F9BA4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DE32-510F-417F-8D79-B6640CAB257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63EF-A39D-42C7-B60E-23C797A5238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979A-732D-437D-85E5-2E5B4C4FD26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8CF4-A0EE-4741-BE89-EFDABF13F4A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2458-CF93-4A58-A5D8-23FCFF6EDA5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D2B1-02E4-4032-BEEE-25ED8C0A7D4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D2AB-6806-4D37-86C4-1F7D035A235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B31B-47F3-4495-B0C1-E9FFCADBB31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80C-FCF7-4D61-B198-746667D3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E7C-48E9-4433-A17D-36907E2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E71-2F90-4A23-A1A3-4A84528D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5508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9756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260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5508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9756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9C2-FF12-458A-90D0-DA0FF220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5CAF-A400-4E28-B070-190414ED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65A0-BE1B-4422-9835-7A6F733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41A-5D51-4935-AFC7-7AE6F20D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4938-63AD-4174-BB01-267C06E3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79A1-0CEE-47FE-A3B9-2D80F161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05040" y="439200"/>
            <a:ext cx="81626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DF5A-67F1-46F9-A3AF-0E459241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2019-1531-4A05-B3FB-093C689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0A0-A368-4586-ADD2-6D763FED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BBB3-6373-4605-BB62-5255F9B7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958A-1A3A-4B4A-BFD5-5AB1A9D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3330-E31A-4AB5-895C-C343FAD3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30C0-3F9D-4A2D-B011-8E3BB34C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7CA0-C070-4E96-A9F3-D6EFE670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505-42C6-4CDE-88A8-2720975F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222-DFC1-4B87-89E7-EC3D687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632-3E1D-4680-B7F5-4910D51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05040" y="439200"/>
            <a:ext cx="81626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500-B8DE-437C-90B8-577699D1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0FB-ED2F-415E-9F80-2FA37469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9E5-5D61-4ABB-A6F2-705CD1C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704-87C0-4A8C-AD1B-2DD9512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" name="Rectangle 23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" name="Rectangle 24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" name="Rectangle 25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" name="Rectangle 26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" name="Rectangle 27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5" name="Rectangle 28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6" name="Rectangle 29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7" name="Rectangle 30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8" name="Rectangle 31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9" name="Rectangle 32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0" name="Rectangle 33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1" name="Rectangle 34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3" name="Rectangle 36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4" name="Rectangle 37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5" name="Rectangle 38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6" name="Rectangle 39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7" name="Rectangle 40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8" name="Rectangle 41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" name="Rectangle 42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" name="Rectangle 43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" name="Rectangle 44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" name="Rectangle 45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" name="Rectangle 46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" name="Rectangle 47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" name="Rectangle 48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" name="Rectangle 50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" name="Rectangle 51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" name="Rectangle 52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Rectangle 54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Rectangle 55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Rectangle 56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4" name="Rectangle 57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Rectangle 58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Rectangle 59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7" name="Rectangle 60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8" name="Rectangle 61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1" name="Rectangle 64"/>
          <p:cNvSpPr/>
          <p:nvPr/>
        </p:nvSpPr>
        <p:spPr>
          <a:xfrm>
            <a:off x="0" y="1143000"/>
            <a:ext cx="695016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632F-D43D-4F30-ACAC-4A1DACFB43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7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8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2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3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4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4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</p:grpSp>
        <p:sp>
          <p:nvSpPr>
            <p:cNvPr id="165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166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167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CB82-8C79-463A-BD21-3791F1940E8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ervicios.dgi.gub.u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678440" cy="25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003366"/>
                </a:solidFill>
                <a:latin typeface="Verdana"/>
              </a:rPr>
              <a:t>MODIFICACION WEB </a:t>
            </a:r>
            <a:br>
              <a:rPr sz="4000"/>
            </a:br>
            <a:r>
              <a:rPr b="0" lang="es-MX" sz="4000" spc="-1" strike="noStrike">
                <a:solidFill>
                  <a:srgbClr val="003366"/>
                </a:solidFill>
                <a:latin typeface="Verdana"/>
              </a:rPr>
              <a:t>DATOS REGISTRALE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400" y="2860200"/>
            <a:ext cx="8229600" cy="32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7" descr="logo"/>
          <p:cNvPicPr/>
          <p:nvPr/>
        </p:nvPicPr>
        <p:blipFill>
          <a:blip r:embed="rId1"/>
          <a:stretch/>
        </p:blipFill>
        <p:spPr>
          <a:xfrm>
            <a:off x="2843280" y="3429000"/>
            <a:ext cx="4319640" cy="1655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6100920"/>
            <a:ext cx="741708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ENCUENTRO SUR-SUR GUATEMALA-ANTIGUA  Agosto 2013 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      </a:t>
            </a:r>
            <a:r>
              <a:rPr b="1" lang="es-UY" sz="1600" spc="-1" strike="noStrike">
                <a:solidFill>
                  <a:srgbClr val="ff9900"/>
                </a:solidFill>
                <a:latin typeface="Verdana"/>
              </a:rPr>
              <a:t>        URUGUAY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56000" y="231840"/>
            <a:ext cx="5472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Plataforma Web – Back-End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cesos Back-End  - Receptores de declaraciones, procesos batch de carga y procesamiento de in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junto de web services para  obtener información unificada de tablas, para realizar validaciones de negocio y en algunos casos grabar los datos obten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Tomaremos  como modelo para mostrarles la solución dada en el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Sistema de Modificación Web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, en el cual se puede ver el ciclo completo de la informa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logo"/>
          <p:cNvPicPr/>
          <p:nvPr/>
        </p:nvPicPr>
        <p:blipFill>
          <a:blip r:embed="rId1"/>
          <a:stretch/>
        </p:blipFill>
        <p:spPr>
          <a:xfrm>
            <a:off x="611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56000" y="658800"/>
            <a:ext cx="5472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Objetivo Modificacion WEB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mitir  que el contribuyente realice modificaciones  de ciertos datos registrales, a través de la WEB, contemplando  dos situaciones claramente diferenciad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tuación I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- Modificación de datos que no requieren controles funci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tuación II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– Modificación de datos que requieren un control funcional previo a su aprob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logo"/>
          <p:cNvPicPr/>
          <p:nvPr/>
        </p:nvPicPr>
        <p:blipFill>
          <a:blip r:embed="rId1"/>
          <a:stretch/>
        </p:blipFill>
        <p:spPr>
          <a:xfrm>
            <a:off x="611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03280" y="598320"/>
            <a:ext cx="482436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grar que  la aplicación responda rápidamente y  sea amigable dado que será utilizada por usuarios que no necesariamente tendrán conocimientos informátic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rindar ayudas genéricas y  localizadas en cada bloque de información, con  mensajes claros que guíen la acción del usua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acilitar al contribuyente un usuario externo para ingresar y su Password para garantizar la seguridad de sus datos. Ingresar al sector indicado como </a:t>
            </a:r>
            <a:r>
              <a:rPr b="1" lang="es-ES" sz="2400" spc="-1" strike="noStrike">
                <a:solidFill>
                  <a:srgbClr val="336699"/>
                </a:solidFill>
                <a:latin typeface="Verdana"/>
              </a:rPr>
              <a:t>Registro Único Tributari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 seleccionar la opción </a:t>
            </a:r>
            <a:r>
              <a:rPr b="1" lang="es-ES" sz="2400" spc="-1" strike="noStrike">
                <a:solidFill>
                  <a:srgbClr val="336699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logo"/>
          <p:cNvPicPr/>
          <p:nvPr/>
        </p:nvPicPr>
        <p:blipFill>
          <a:blip r:embed="rId1"/>
          <a:stretch/>
        </p:blipFill>
        <p:spPr>
          <a:xfrm>
            <a:off x="611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7640" y="127080"/>
            <a:ext cx="619308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Gestión de Solicitud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466560" y="1341360"/>
            <a:ext cx="793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56000" y="563400"/>
            <a:ext cx="65116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os a modificar Situación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as Fí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ombre Fantasía,    Sex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tado Civil, Ocupación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micilio Constitui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micilio Fiscal/Particular y Contactos de cada uno de ellos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32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32000" y="563400"/>
            <a:ext cx="59356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ombre de Fantas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nominación o Razón Social cuando son calculadas a partir de sus integrantes ( Núcleo Familiar ,  Sociedad de hecho,  Condominio o Sociedad Civil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16000" y="563400"/>
            <a:ext cx="615132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78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cha de constit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úmero de inscripción RNC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cha de inscripción RN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cha de balance (sólo para tipo de balance  Otras Actividade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logo"/>
          <p:cNvPicPr/>
          <p:nvPr/>
        </p:nvPicPr>
        <p:blipFill>
          <a:blip r:embed="rId1"/>
          <a:stretch/>
        </p:blipFill>
        <p:spPr>
          <a:xfrm>
            <a:off x="395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micilio Constituido dentro de la misma Unidad Administrativa de Gest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actos  de  todos los domicilios vigentes ( Constituido, Fiscal, Particul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lidad en que ocupa  Domicilios Fiscales vigentes ( locales activ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10" descr="logo"/>
          <p:cNvPicPr/>
          <p:nvPr/>
        </p:nvPicPr>
        <p:blipFill>
          <a:blip r:embed="rId1"/>
          <a:stretch/>
        </p:blipFill>
        <p:spPr>
          <a:xfrm>
            <a:off x="324000" y="404640"/>
            <a:ext cx="2076480" cy="702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2"/>
          <p:cNvSpPr/>
          <p:nvPr/>
        </p:nvSpPr>
        <p:spPr>
          <a:xfrm>
            <a:off x="2916360" y="56160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2920" y="455400"/>
            <a:ext cx="54738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1104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os a modificar Situación 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as Fí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dos los datos de Situación I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ligacio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7" descr="logo"/>
          <p:cNvPicPr/>
          <p:nvPr/>
        </p:nvPicPr>
        <p:blipFill>
          <a:blip r:embed="rId1"/>
          <a:stretch/>
        </p:blipFill>
        <p:spPr>
          <a:xfrm>
            <a:off x="32400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522000"/>
            <a:ext cx="604368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1104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os a modificar Situación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os los datos de Situación I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ódigo de actividad (CIIU4 - Gir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bligaciones/Caracterís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aja de local (excepto local principal y locales con actividad rur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55640" y="554040"/>
            <a:ext cx="5903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Temas de la Presentació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1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84360" y="1413000"/>
            <a:ext cx="806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aforma DGI WEB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tivo Modificación Web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scripción del Sistema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olución Técnica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tegración con BPS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Navegabilidad del Sistema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Verdana"/>
              </a:rPr>
              <a:t>PGE –Plataforma de Gobierno Electrónico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05040" y="558360"/>
            <a:ext cx="589896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1104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icilio Constituido  inclusive c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erent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dad Administrativa 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st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de balance ( Alta , Baja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ca de actividad Principal (Giro indicado en alguno de los loc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33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pantalla de datos registrales que se despliega dependerá de si se trata de una Persona Física,  una Persona Física con Actividad Empresarial o una Entidad Pluripers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verifica la existencia de la empresa en el BPS, quien brinda la correlación del RUT con el o los  número/s internos en su orga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Una solicitud de modificación tendrá una única fecha de vigencia</a:t>
            </a: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05040" y="5634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escripción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33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aquellos datos con histórico (fecha inicio / fin), las operaciones que se permitirán serán dar de baja el dato a la fecha de vigencia, o agregar un nuevo d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desplegarán todos los datos vigentes actualmente y los que inician a futuro (obligaciones y condi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quellos datos que no se permitan modificar aparecerán inhabilit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905040" y="5634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escripción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33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en un mismo acto existen datos a modificar de situaciones I y II, se tratarán todos en situación I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empre se graba una solicit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situación I la solicitud quedará en estado </a:t>
            </a:r>
            <a:r>
              <a:rPr b="0" lang="es-ES" sz="2400" spc="-1" strike="noStrike">
                <a:solidFill>
                  <a:srgbClr val="9a0000"/>
                </a:solidFill>
                <a:latin typeface="Verdana"/>
              </a:rPr>
              <a:t>ACEPTAD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grabando las modificaciones directamente en la base de datos del RUT, se realiza  a través de web servic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situación II  las solicitud quedará en estado </a:t>
            </a:r>
            <a:r>
              <a:rPr b="0" lang="es-ES" sz="2400" spc="-1" strike="noStrike">
                <a:solidFill>
                  <a:srgbClr val="9a0000"/>
                </a:solidFill>
                <a:latin typeface="Verdana"/>
              </a:rPr>
              <a:t>PENDIENTE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sin grabar las modificaciones, esperando ser gestionada posteriormente por un funcionario del registro e inhabilitando  una posible modificación presencial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905040" y="5634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escripción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5040" y="-57240"/>
            <a:ext cx="64036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aplicación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detecta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a que “Situación”  corresponde cuando el usuario confirma la solicit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En cualquiera de las situaciones se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graba 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solicitud en back-end. (a través de web servic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Valida e informa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en la pantalla el resultado, sea de rechazo con los motivos o  de aprob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Envía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el número de Solicitud al correo electrónico del domicilio constituido (confirmado al comienzo de la operativ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71280" y="100080"/>
            <a:ext cx="51850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Validacion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trol de datos mínimos necesarios para garantizar la calidad del conjunto de datos registrales luego de la futura modif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ausencia de algunos datos impiden el ingreso y la de otros son motivo de aviso, para que sean ingresados en el mismo a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plicarán validaciones básicas en cada bloque de información para asegurar la completitud de los datos y la casuística de fechas posib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validaciones de negocio son similares al sistema RUT también Web pero que funciona en back-end y operan los usuarios del Registro. Se realizan mediante Web Services, tanto para Situación I o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5040" y="-57240"/>
            <a:ext cx="61149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ambio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3200" y="1341360"/>
            <a:ext cx="8110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Cambios Situación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grabarán las modificaciones en la base de datos de Rut en forma inmedia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darán visibles desde RUT y por consiguiente en todos los sistemas que lo acceden incluyendo la Consulta  Web de datos Registrales que es otr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solicitud queda aprobada y disponible para visualizar en la bandeja de Gestión de Solicitudes de RU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91344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 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ambios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2677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Cambios Situación 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grabarán en la base de datos de RUT hasta que la solicitud sea revisada y CONFIRMADA por un funcionario del RUT d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esde la bandeja de Gestión de Solicitudes We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podrán NEGAR los cambios ya sea porque no validan o porque el funcionario encuentra incongruenci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podrán cancelar en forma presencial  si el contribuyente se presenta a realizar camb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podrá NO APROBAR directamente por controles del BPS que serán notific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os cambios de estado de la solicitud se guardan en un histór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63640" y="4680"/>
            <a:ext cx="6840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Integración BP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267920"/>
            <a:ext cx="8110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conexión para consumo de web services se realiza a través de la plataforma de interoperabilidad REDuy que brinda AGES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vío automático de mail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sistema envía mail a BPS adjuntando un archivo .PDF con las modificaciones realizadas y su correspondiente número de solicitu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ntanilla únic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funcionario de DGI trabaja junto a funcionario de BPS,  cada uno opera su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este caso en DGI con la bandeja de Gestión de Solicitudes que es uno de los puntos de entrada del Sistema R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6000"/>
            <a:ext cx="6553440" cy="10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tegración BP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rfase B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PS brinda un Web Service de Empresa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do que en BPS un contribuyente puede estar registrado con diferentes números de empresa según su aportación (rural, indusdria, comerecio), es que  consumimos dicho servicio para identificar a cual corresponde la  modific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uncionario BPS ingresa, valida y comunica  la aprobación de una solicitud o su rechazo con motivos, para que funcionario DGI realice la gestión correspondiente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9720" y="40140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DGI está avanzando y poniendo foco en la Entrada de Datos y Mantenimiento de los Registros  a través de herramientas y servicios publicados en su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ortal Tributario de Servicios en Líne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cces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servicios.dgi.gub.uy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ores Involucra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GI (Dirección General Impositi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PS (Banco de Previsión Social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SIC (Agencia de Gobierno Electrónico y Sociedad de l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ibuyente (Empresas y Person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5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690696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Verdana"/>
                <a:ea typeface="Times New Roman"/>
              </a:rPr>
              <a:t>Modelo Conceptua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26920" y="4232160"/>
            <a:ext cx="16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graphicFrame>
        <p:nvGraphicFramePr>
          <p:cNvPr id="307" name="Object 5"/>
          <p:cNvGraphicFramePr/>
          <p:nvPr/>
        </p:nvGraphicFramePr>
        <p:xfrm>
          <a:off x="684360" y="907920"/>
          <a:ext cx="858348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07920"/>
                    <a:ext cx="858348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Picture 7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4680" y="-57240"/>
            <a:ext cx="719604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3200"/>
            </a:b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Diseño Técnico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11" name="Object 3"/>
          <p:cNvGraphicFramePr/>
          <p:nvPr/>
        </p:nvGraphicFramePr>
        <p:xfrm>
          <a:off x="324000" y="1341360"/>
          <a:ext cx="842472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24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3" name="Picture 5" descr="logo"/>
          <p:cNvPicPr/>
          <p:nvPr/>
        </p:nvPicPr>
        <p:blipFill>
          <a:blip r:embed="rId3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541800" y="-1152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greso de la Fecha de Vigencia de la modificación solicit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7" descr="logo"/>
          <p:cNvPicPr/>
          <p:nvPr/>
        </p:nvPicPr>
        <p:blipFill>
          <a:blip r:embed="rId1"/>
          <a:stretch/>
        </p:blipFill>
        <p:spPr>
          <a:xfrm>
            <a:off x="0" y="333360"/>
            <a:ext cx="2030400" cy="687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488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7122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2600" y="1341360"/>
            <a:ext cx="81104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reso o selección del e-mail del domicilio constituido al cual se informará del curso de la modific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6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70516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99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ción del  Número de empresa BP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6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497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70516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4000" y="1341360"/>
            <a:ext cx="8110440" cy="5516640"/>
            <a:chOff x="324000" y="1341360"/>
            <a:chExt cx="8110440" cy="5516640"/>
          </a:xfrm>
        </p:grpSpPr>
        <p:pic>
          <p:nvPicPr>
            <p:cNvPr id="328" name="Rectangle 3" descr=""/>
            <p:cNvPicPr/>
            <p:nvPr/>
          </p:nvPicPr>
          <p:blipFill>
            <a:blip r:embed="rId1"/>
            <a:stretch/>
          </p:blipFill>
          <p:spPr>
            <a:xfrm>
              <a:off x="324000" y="1341360"/>
              <a:ext cx="811044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 txBox="1"/>
            <p:nvPr/>
          </p:nvSpPr>
          <p:spPr>
            <a:xfrm>
              <a:off x="324000" y="1341360"/>
              <a:ext cx="811044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70516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66560" y="1341360"/>
            <a:ext cx="8556840" cy="5256360"/>
            <a:chOff x="466560" y="1341360"/>
            <a:chExt cx="8556840" cy="5256360"/>
          </a:xfrm>
        </p:grpSpPr>
        <p:pic>
          <p:nvPicPr>
            <p:cNvPr id="333" name="Rectangle 3" descr=""/>
            <p:cNvPicPr/>
            <p:nvPr/>
          </p:nvPicPr>
          <p:blipFill>
            <a:blip r:embed="rId1"/>
            <a:stretch/>
          </p:blipFill>
          <p:spPr>
            <a:xfrm>
              <a:off x="466560" y="1341360"/>
              <a:ext cx="855684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 txBox="1"/>
            <p:nvPr/>
          </p:nvSpPr>
          <p:spPr>
            <a:xfrm>
              <a:off x="466560" y="1341360"/>
              <a:ext cx="8556840" cy="5256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5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79640" y="75960"/>
            <a:ext cx="5472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       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 CON ACTIVIDAD EMPRESA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408720" cy="4078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7338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 CON ACTIVIDAD EMPRESA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921800" cy="4287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4680" y="75960"/>
            <a:ext cx="71960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talla Domicilio Constitu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52960" cy="4267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9720" y="56340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6560" y="1196640"/>
            <a:ext cx="8677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as las personas y empresas pueden acceder a estos servici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quisitos y la documentación solicitada varía de acuerdo a la naturaleza del servicio que se desea utiliz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rvicios de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cceso gener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rvicios  que requieren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IN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identificación del usuario a través de una clave de acceso. Se puede obtener en las Entidades colaboradoras con el R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rvicios que requieren la firma de un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contrato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en DGI para la obtención de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usuarios y clave.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5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534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talla Otros Domicil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172200" cy="3990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747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talla Lo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6748560" cy="4319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39640" y="1341360"/>
            <a:ext cx="8483760" cy="5183280"/>
            <a:chOff x="539640" y="1341360"/>
            <a:chExt cx="8483760" cy="5183280"/>
          </a:xfrm>
        </p:grpSpPr>
        <p:pic>
          <p:nvPicPr>
            <p:cNvPr id="358" name="Rectangle 3" descr=""/>
            <p:cNvPicPr/>
            <p:nvPr/>
          </p:nvPicPr>
          <p:blipFill>
            <a:blip r:embed="rId1"/>
            <a:stretch/>
          </p:blipFill>
          <p:spPr>
            <a:xfrm>
              <a:off x="539640" y="1341360"/>
              <a:ext cx="84837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 txBox="1"/>
            <p:nvPr/>
          </p:nvSpPr>
          <p:spPr>
            <a:xfrm>
              <a:off x="539640" y="1341360"/>
              <a:ext cx="8483760" cy="5183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60" name="Picture 6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829120" cy="3886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29480" cy="3886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829480" cy="3959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6200" y="1267920"/>
            <a:ext cx="8426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lataforma de Gobierno Electrónico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porciona el ambiente normativo legal y técnico, así como los instrumentos informáticos necesarios para facilitar la instalación de aplicaciones y servicios de gobierno electrónico en el Estado uruguay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canismos de segur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canismos de comunicación estándares basados en Web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Du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d de alta velocidad (10/100 Mb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os los organismos conectados entre sí con un único enlace, sin la necesidad de punto a pu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 costo (para Administración Cent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76480" cy="7016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1116000" y="331920"/>
            <a:ext cx="77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PGE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- REDuy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042920" y="331920"/>
            <a:ext cx="774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PGE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- REDUy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76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1258920" y="1565280"/>
            <a:ext cx="66769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42920" y="331920"/>
            <a:ext cx="774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PGE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- REDUy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76480" cy="701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4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662280"/>
            <a:ext cx="7678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Muchas gracias por vuestra Atención!!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83" name="Picture 5" descr="logo"/>
          <p:cNvPicPr/>
          <p:nvPr/>
        </p:nvPicPr>
        <p:blipFill>
          <a:blip r:embed="rId1"/>
          <a:stretch/>
        </p:blipFill>
        <p:spPr>
          <a:xfrm>
            <a:off x="250920" y="62064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9720" y="56340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UY" sz="2800" spc="-1" strike="noStrike">
                <a:solidFill>
                  <a:srgbClr val="000000"/>
                </a:solidFill>
                <a:latin typeface="Verdana"/>
              </a:rPr>
              <a:t>Servicios de acceso gener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  y Solicitud de Certificados (CV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vío de declaraciones (.txt o .xml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Imprimir Boletos de P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Inicia Inscripciones en el Registro Único Tributario en simultáneo B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alizar Pagos Web para Contribuyentes de determinado  grupo de Empresas y Personas Físic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Multas y Recarg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Expedientes Administra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Devoluc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si existen Borradores de IRPF o IASS de una pers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5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95280" y="623880"/>
            <a:ext cx="68720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UY" sz="2800" spc="-1" strike="noStrike">
                <a:solidFill>
                  <a:srgbClr val="000000"/>
                </a:solidFill>
                <a:latin typeface="Verdana"/>
              </a:rPr>
              <a:t>Servicios que requieren P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 las Constancias de Autorización de Impresión de Documentación Solicitad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Envío de declaraciones IR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 las Devoluciones disponibles de IRPF – Monoingres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 los Certificados de Crédito Disponib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, modificar o confirmar los datos de la Declaración Borrador de IRAE Agropecuar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licitar Constancia de Autorización de Impresión de Document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Modificación de Datos Registrales de Persona Fís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Duplicado de Constancia de Inscrip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logo"/>
          <p:cNvPicPr/>
          <p:nvPr/>
        </p:nvPicPr>
        <p:blipFill>
          <a:blip r:embed="rId1"/>
          <a:stretch/>
        </p:blipFill>
        <p:spPr>
          <a:xfrm>
            <a:off x="53964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9720" y="56340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00"/>
                </a:solidFill>
                <a:latin typeface="Verdana"/>
              </a:rPr>
              <a:t>Servicios que requieren firma de contrato, usuario y cl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ada de Declaraciones Jurad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 de Declaraciones enviadas y su es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dificación de datos registrales de Empre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s de datos regist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 de Pagos realizad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ten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vío de  Declaraciones de IRPF, que no lleven timbre profesional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76480" cy="701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730080" y="561600"/>
            <a:ext cx="81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6560" y="1268280"/>
            <a:ext cx="82821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76480" cy="701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730080" y="561600"/>
            <a:ext cx="81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042920" y="1447920"/>
            <a:ext cx="72010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22:27:24Z</dcterms:created>
  <dc:creator>Gonzalo </dc:creator>
  <dc:description/>
  <dc:language>en-US</dc:language>
  <cp:lastModifiedBy> </cp:lastModifiedBy>
  <dcterms:modified xsi:type="dcterms:W3CDTF">2013-10-29T10:06:21Z</dcterms:modified>
  <cp:revision>454</cp:revision>
  <dc:subject/>
  <dc:title>Presentación de PowerPoint</dc:title>
</cp:coreProperties>
</file>