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wmf" ContentType="image/x-wmf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19E8-3A4A-4339-9293-122EFFAEB3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C390-E362-481D-8DC4-E013736726AA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0AD4-E526-491B-80C7-9CCC5C77DF9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2EA6-4D25-4240-857B-F65E413332E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E77B-AFB0-477C-BEB1-056DEFD22FC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E7F8-7DBA-4D62-9EAE-BB502D63AFB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345B-1CA1-47F4-8E01-5095861073C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C386-431A-4485-9253-42267BC97B3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654C-E9CC-4EF0-8BDE-C44C2ABD088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9CF0-95D1-4EE8-AA4F-063644B8C67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0D21-9E88-48B2-9B0E-C22E4B4463FB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0B9D-A662-4A17-9A34-E90338C4907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A75D-FEF4-4527-BA1F-0559A0EB6D9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633E-612B-49B7-A177-5F01F0FC499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850E-8921-4B06-844E-D811C2E48A9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5518-6CE2-4E31-AF3D-D2F87A2DDD5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50ED-4C92-46A7-98B6-595287D0725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BC8D-F906-483B-9B84-86693F2714B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7E3E-53D6-46A7-A5C1-F7A05734BA92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ffff2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A57E-5EC0-48F2-B6E8-39F495EE1D3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9053-083A-414D-B236-16F973E2624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DDAB-A3AB-4905-8214-FA106F946C0A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  si BPS necesita se agreguen validaciones especificas de su sistem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A868-3A47-4867-A484-D37B15F3604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E686-9931-40CA-9598-977B8701F0AF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6B27-6BD3-4EF0-8A14-DBBEFBDC8B6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0BBB-9678-42D5-A088-7E42A4FCE76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0ED9-DD6E-47D8-AB85-21066155BCD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0134-765A-49D4-BDA1-B150ACBEB081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7C83-5982-43A1-A0A1-713E9CBEA4D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8328-1750-4CF3-AC71-C1C5ACF6BEEF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9DB2-878E-467C-A2DA-679D1600F419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8418-9C19-4B0F-A5C0-EB9AC9EDD41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8A2F-547C-405E-BBF4-64EFFCDF7B1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5D88-8CA5-4404-A88A-D8E6A12F784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08E4-F8DB-4717-B453-1C16DB664F5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ED50-6582-4B22-B0CD-AC4117F3EE1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71A1-CB70-4E5D-9283-DD5115981B5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DE6C-B9E9-4011-B440-E0FA5CC67C3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85CB-C7A2-4BFA-BF6D-E8BEFCFB973A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7B90-DF79-4598-A634-6031F6A5D1E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54A8-6949-4CB1-BB06-04A0CED9E65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6305-A62B-47DE-80CA-46BFB28C4F8F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8F20-7F7B-40AB-B9B3-1B4E3B348581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A314-E570-4E8C-ADF3-F74526CCEB8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EFE6-93C5-4E1E-A16C-3ECA9D28E2E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07E0-E04F-4257-8A36-8D7FF8D9A59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7559-74EA-4508-BA67-1F035A11DA8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3F9-9ADA-4870-932C-B856FFC9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EF4-CF92-435D-A46B-1B8AD92D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26B-D161-48B3-8000-B308A5F8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5508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9756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260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5508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9756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375-A76A-40C1-90F5-7AFB0996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0473-2A5F-48C4-808D-36172796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5FB8-1D59-4602-ACAD-57BE4DB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5EAF-DE36-4FB3-8455-B7F4A90E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8EBC-C4E8-42C0-9A53-EF49E162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5BDE-21A7-4DBF-A476-7BDD2578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05040" y="439200"/>
            <a:ext cx="81626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4D7E-9FAE-4747-8778-22CC7577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8840-D325-4CC8-8118-07D93850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4AB-71F1-4445-AAC0-A15DDF5B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31E2-4649-40AE-BD69-83A03CD2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6911-4938-4C18-92AA-64FB96FF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B4CE-A2D4-495B-94F2-79D5BD28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6D70-62DF-4D5A-AE67-D2FD1328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75248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39420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E2CB-4C8A-407C-BBE6-6FEB2DEE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7B9-8C8A-432E-8AE4-D2A1BFD7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641-0B5C-4AAB-BE58-D36E80A8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CF6-B6CB-43DB-A468-1119B420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05040" y="439200"/>
            <a:ext cx="81626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1E8-661A-4BDC-81C6-D3CCE554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D8C-195C-4F0E-8B40-9D6A22C1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68800" y="39420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984-870C-4D09-8614-EA39A3B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8800" y="175248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2600" y="3942000"/>
            <a:ext cx="8110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0C6-0548-4FD4-AE6F-13A32C8F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" name="Rectangle 23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" name="Rectangle 24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" name="Rectangle 25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" name="Rectangle 26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" name="Rectangle 27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5" name="Rectangle 28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6" name="Rectangle 29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7" name="Rectangle 30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8" name="Rectangle 31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9" name="Rectangle 32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0" name="Rectangle 33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1" name="Rectangle 34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3" name="Rectangle 36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4" name="Rectangle 37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5" name="Rectangle 38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6" name="Rectangle 39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7" name="Rectangle 40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8" name="Rectangle 41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9" name="Rectangle 42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0" name="Rectangle 43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" name="Rectangle 44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2" name="Rectangle 45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3" name="Rectangle 46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4" name="Rectangle 47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" name="Rectangle 48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6" name="Rectangle 49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" name="Rectangle 50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8" name="Rectangle 51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9" name="Rectangle 52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" name="Rectangle 54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" name="Rectangle 55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3" name="Rectangle 56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4" name="Rectangle 57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Rectangle 58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Rectangle 59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7" name="Rectangle 60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8" name="Rectangle 61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0" name="Rectangle 63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1" name="Rectangle 64"/>
          <p:cNvSpPr/>
          <p:nvPr/>
        </p:nvSpPr>
        <p:spPr>
          <a:xfrm>
            <a:off x="0" y="1143000"/>
            <a:ext cx="695016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B376-C293-47E9-8A7D-EA459C95418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7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8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1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2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3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4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6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7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8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9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0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4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5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9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0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5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0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1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2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3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4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5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6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7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8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9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0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1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2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3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4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5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6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7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8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9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0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1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3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4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000000"/>
                  </a:solidFill>
                  <a:uFillTx/>
                  <a:latin typeface="Verdana"/>
                </a:endParaRPr>
              </a:p>
            </p:txBody>
          </p:sp>
        </p:grpSp>
        <p:sp>
          <p:nvSpPr>
            <p:cNvPr id="165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166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167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5040" y="43920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7855-A372-48BA-9111-113D63E1F3F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ervicios.dgi.gub.u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678440" cy="25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003366"/>
                </a:solidFill>
                <a:latin typeface="Verdana"/>
              </a:rPr>
              <a:t>MODIFICACION WEB </a:t>
            </a:r>
            <a:br>
              <a:rPr sz="4000"/>
            </a:br>
            <a:r>
              <a:rPr b="0" lang="es-MX" sz="4000" spc="-1" strike="noStrike">
                <a:solidFill>
                  <a:srgbClr val="003366"/>
                </a:solidFill>
                <a:latin typeface="Verdana"/>
              </a:rPr>
              <a:t>DATOS REGISTRALE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14400" y="2860200"/>
            <a:ext cx="8229600" cy="32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7" descr="logo"/>
          <p:cNvPicPr/>
          <p:nvPr/>
        </p:nvPicPr>
        <p:blipFill>
          <a:blip r:embed="rId1"/>
          <a:stretch/>
        </p:blipFill>
        <p:spPr>
          <a:xfrm>
            <a:off x="2843280" y="3429000"/>
            <a:ext cx="4319640" cy="1655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87280" y="6100920"/>
            <a:ext cx="741708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ENCUENTRO SUR-SUR GUATEMALA-ANTIGUA  Agosto 2013 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ff9900"/>
                </a:solidFill>
                <a:latin typeface="Verdana"/>
              </a:rPr>
              <a:t>      </a:t>
            </a:r>
            <a:r>
              <a:rPr b="1" lang="es-UY" sz="1600" spc="-1" strike="noStrike">
                <a:solidFill>
                  <a:srgbClr val="ff9900"/>
                </a:solidFill>
                <a:latin typeface="Verdana"/>
              </a:rPr>
              <a:t>        URUGUAY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56000" y="231840"/>
            <a:ext cx="5472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Plataforma Web – Back-End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cesos Back-End  - Receptores de declaraciones, procesos batch de carga y procesamiento de infor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junto de web services para  obtener información unificada de tablas, para realizar validaciones de negocio y en algunos casos grabar los datos obten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Tomaremos  como modelo para mostrarles la solución dada en el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Sistema de Modificación Web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, en el cual se puede ver el ciclo completo de la informac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logo"/>
          <p:cNvPicPr/>
          <p:nvPr/>
        </p:nvPicPr>
        <p:blipFill>
          <a:blip r:embed="rId1"/>
          <a:stretch/>
        </p:blipFill>
        <p:spPr>
          <a:xfrm>
            <a:off x="611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56000" y="658800"/>
            <a:ext cx="54720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Objetivo Modificacion WEB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mitir  que el contribuyente realice modificaciones  de ciertos datos registrales, a través de la WEB, contemplando  dos situaciones claramente diferenciad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tuación I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- Modificación de datos que no requieren controles funci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tuación II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– Modificación de datos que requieren un control funcional previo a su aprob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logo"/>
          <p:cNvPicPr/>
          <p:nvPr/>
        </p:nvPicPr>
        <p:blipFill>
          <a:blip r:embed="rId1"/>
          <a:stretch/>
        </p:blipFill>
        <p:spPr>
          <a:xfrm>
            <a:off x="611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03280" y="598320"/>
            <a:ext cx="482436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grar que  la aplicación responda rápidamente y  sea amigable dado que será utilizada por usuarios que no necesariamente tendrán conocimientos informátic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rindar ayudas genéricas y  localizadas en cada bloque de información, con  mensajes claros que guíen la acción del usua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acilitar al contribuyente un usuario externo para ingresar y su Password para garantizar la seguridad de sus datos. Ingresar al sector indicado como </a:t>
            </a:r>
            <a:r>
              <a:rPr b="1" lang="es-ES" sz="2400" spc="-1" strike="noStrike">
                <a:solidFill>
                  <a:srgbClr val="336699"/>
                </a:solidFill>
                <a:latin typeface="Verdana"/>
              </a:rPr>
              <a:t>Registro Único Tributari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 seleccionar la opción </a:t>
            </a:r>
            <a:r>
              <a:rPr b="1" lang="es-ES" sz="2400" spc="-1" strike="noStrike">
                <a:solidFill>
                  <a:srgbClr val="336699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logo"/>
          <p:cNvPicPr/>
          <p:nvPr/>
        </p:nvPicPr>
        <p:blipFill>
          <a:blip r:embed="rId1"/>
          <a:stretch/>
        </p:blipFill>
        <p:spPr>
          <a:xfrm>
            <a:off x="611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7640" y="127080"/>
            <a:ext cx="619308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Gestión de Solicitud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466560" y="1341360"/>
            <a:ext cx="793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56000" y="563400"/>
            <a:ext cx="65116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os a modificar Situación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as Fís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Nombre Fantasía,    Sex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tado Civil, Ocupación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omicilio Constitui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omicilio Fiscal/Particular y Contactos de cada uno de ellos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32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32000" y="563400"/>
            <a:ext cx="59356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Nombre de Fantas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nominación o Razón Social cuando son calculadas a partir de sus integrantes ( Núcleo Familiar ,  Sociedad de hecho,  Condominio o Sociedad Civil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916000" y="563400"/>
            <a:ext cx="615132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73000"/>
            <a:ext cx="78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echa de constit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Número de inscripción RNC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echa de inscripción RN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echa de balance (sólo para tipo de balance  Otras Actividade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logo"/>
          <p:cNvPicPr/>
          <p:nvPr/>
        </p:nvPicPr>
        <p:blipFill>
          <a:blip r:embed="rId1"/>
          <a:stretch/>
        </p:blipFill>
        <p:spPr>
          <a:xfrm>
            <a:off x="39528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omicilio Constituido dentro de la misma Unidad Administrativa de Gest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tactos  de  todos los domicilios vigentes ( Constituido, Fiscal, Particul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lidad en que ocupa  Domicilios Fiscales vigentes ( locales activ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10" descr="logo"/>
          <p:cNvPicPr/>
          <p:nvPr/>
        </p:nvPicPr>
        <p:blipFill>
          <a:blip r:embed="rId1"/>
          <a:stretch/>
        </p:blipFill>
        <p:spPr>
          <a:xfrm>
            <a:off x="324000" y="404640"/>
            <a:ext cx="2076480" cy="702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2"/>
          <p:cNvSpPr/>
          <p:nvPr/>
        </p:nvSpPr>
        <p:spPr>
          <a:xfrm>
            <a:off x="2916360" y="56160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2920" y="455400"/>
            <a:ext cx="54738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1104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os a modificar Situación I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onas Fís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dos los datos de Situación I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ligacion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7" descr="logo"/>
          <p:cNvPicPr/>
          <p:nvPr/>
        </p:nvPicPr>
        <p:blipFill>
          <a:blip r:embed="rId1"/>
          <a:stretch/>
        </p:blipFill>
        <p:spPr>
          <a:xfrm>
            <a:off x="32400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522000"/>
            <a:ext cx="604368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1104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os a modificar Situación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os los datos de Situación I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ódigo de actividad (CIIU4 - Gir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bligaciones/Caracterís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aja de local (excepto local principal y locales con actividad rur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55640" y="554040"/>
            <a:ext cx="5903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Temas de la Presentació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1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84360" y="1413000"/>
            <a:ext cx="806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aforma DGI WEB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tivo Modificación Web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scripción del Sistema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olución Técnica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ntegración con BPS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Navegabilidad del Sistema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Verdana"/>
              </a:rPr>
              <a:t>PGE –Plataforma de Gobierno Electrónico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05040" y="558360"/>
            <a:ext cx="589896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1104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micilio Constituido  inclusive c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erent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dad Administrativa 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st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de balance ( Alta , Baja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ca de actividad Principal (Giro indicado en alguno de los loc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33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pantalla de datos registrales que se despliega dependerá de si se trata de una Persona Física,  una Persona Física con Actividad Empresarial o una Entidad Pluriperso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verifica la existencia de la empresa en el BPS, quien brinda la correlación del RUT con el o los  número/s internos en su orga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Una solicitud de modificación tendrá una única fecha de vigencia</a:t>
            </a:r>
            <a:r>
              <a:rPr b="0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05040" y="5634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Descripción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33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aquellos datos con histórico (fecha inicio / fin), las operaciones que se permitirán serán dar de baja el dato a la fecha de vigencia, o agregar un nuevo d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 desplegarán todos los datos vigentes actualmente y los que inician a futuro (obligaciones y condi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quellos datos que no se permitan modificar aparecerán inhabilit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905040" y="5634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Descripción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33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en un mismo acto existen datos a modificar de situaciones I y II, se tratarán todos en situación I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empre se graba una solicit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situación I la solicitud quedará en estado </a:t>
            </a:r>
            <a:r>
              <a:rPr b="0" lang="es-ES" sz="2400" spc="-1" strike="noStrike">
                <a:solidFill>
                  <a:srgbClr val="9a0000"/>
                </a:solidFill>
                <a:latin typeface="Verdana"/>
              </a:rPr>
              <a:t>ACEPTAD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grabando las modificaciones directamente en la base de datos del RUT, se realiza  a través de web servic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situación II  las solicitud quedará en estado </a:t>
            </a:r>
            <a:r>
              <a:rPr b="0" lang="es-ES" sz="2400" spc="-1" strike="noStrike">
                <a:solidFill>
                  <a:srgbClr val="9a0000"/>
                </a:solidFill>
                <a:latin typeface="Verdana"/>
              </a:rPr>
              <a:t>PENDIENTE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sin grabar las modificaciones, esperando ser gestionada posteriormente por un funcionario del registro e inhabilitando  una posible modificación presencial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905040" y="5634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Descripción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5040" y="-57240"/>
            <a:ext cx="640368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aplicación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detecta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a que “Situación”  corresponde cuando el usuario confirma la solicit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En cualquiera de las situaciones se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graba 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solicitud en back-end. (a través de web servic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Valida e informa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en la pantalla el resultado, sea de rechazo con los motivos o  de aprob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Envía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el número de Solicitud al correo electrónico del domicilio constituido (confirmado al comienzo de la operativ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771280" y="100080"/>
            <a:ext cx="51850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Validacion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trol de datos mínimos necesarios para garantizar la calidad del conjunto de datos registrales luego de la futura modif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ausencia de algunos datos impiden el ingreso y la de otros son motivo de aviso, para que sean ingresados en el mismo ac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plicarán validaciones básicas en cada bloque de información para asegurar la completitud de los datos y la casuística de fechas posib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validaciones de negocio son similares al sistema RUT también Web pero que funciona en back-end y operan los usuarios del Registro. Se realizan mediante Web Services, tanto para Situación I o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5040" y="-57240"/>
            <a:ext cx="61149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ambio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33200" y="1341360"/>
            <a:ext cx="8110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Cambios Situación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grabarán las modificaciones en la base de datos de Rut en forma inmediat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darán visibles desde RUT y por consiguiente en todos los sistemas que lo acceden incluyendo la Consulta  Web de datos Registrales que es otr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a solicitud queda aprobada y disponible para visualizar en la bandeja de Gestión de Solicitudes de RU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691344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 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ambios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2677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Cambios Situación I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grabarán en la base de datos de RUT hasta que la solicitud sea revisada y CONFIRMADA por un funcionario del RUT d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esde la bandeja de Gestión de Solicitudes We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podrán NEGAR los cambios ya sea porque no validan o porque el funcionario encuentra incongruenci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podrán cancelar en forma presencial  si el contribuyente se presenta a realizar camb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 podrá NO APROBAR directamente por controles del BPS que serán notific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Los cambios de estado de la solicitud se guardan en un histór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63640" y="4680"/>
            <a:ext cx="6840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Integración BP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267920"/>
            <a:ext cx="8110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conexión para consumo de web services se realiza a través de la plataforma de interoperabilidad REDuy que brinda AGESI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vío automático de mail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sistema envía mail a BPS adjuntando un archivo .PDF con las modificaciones realizadas y su correspondiente número de solicitu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ntanilla únic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funcionario de DGI trabaja junto a funcionario de BPS,  cada uno opera su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este caso en DGI con la bandeja de Gestión de Solicitudes que es uno de los puntos de entrada del Sistema R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6000"/>
            <a:ext cx="6553440" cy="10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br>
              <a:rPr sz="3200"/>
            </a:b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Integración BP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rfase B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PS brinda un Web Service de Empresa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do que en BPS un contribuyente puede estar registrado con diferentes números de empresa según su aportación (rural, indusdria, comerecio), es que  consumimos dicho servicio para identificar a cual corresponde la  modific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uncionario BPS ingresa, valida y comunica  la aprobación de una solicitud o su rechazo con motivos, para que funcionario DGI realice la gestión correspondiente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9720" y="40140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82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DGI está avanzando y poniendo foco en la Entrada de Datos y Mantenimiento de los Registros  a través de herramientas y servicios publicados en su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ortal Tributario de Servicios en Líne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cces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servicios.dgi.gub.uy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tores Involucra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GI (Dirección General Impositi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PS (Banco de Previsión Social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SIC (Agencia de Gobierno Electrónico y Sociedad de l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ibuyente (Empresas y Person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5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690696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 </a:t>
            </a:r>
            <a:br>
              <a:rPr sz="3200"/>
            </a:b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Verdana"/>
                <a:ea typeface="Times New Roman"/>
              </a:rPr>
              <a:t>Modelo Conceptua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26920" y="4232160"/>
            <a:ext cx="16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graphicFrame>
        <p:nvGraphicFramePr>
          <p:cNvPr id="307" name="Object 5"/>
          <p:cNvGraphicFramePr/>
          <p:nvPr/>
        </p:nvGraphicFramePr>
        <p:xfrm>
          <a:off x="684360" y="907920"/>
          <a:ext cx="858348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07920"/>
                    <a:ext cx="858348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Picture 7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04680" y="-57240"/>
            <a:ext cx="719604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olución Técnica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3200"/>
            </a:b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Diseño Técnico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11" name="Object 3"/>
          <p:cNvGraphicFramePr/>
          <p:nvPr/>
        </p:nvGraphicFramePr>
        <p:xfrm>
          <a:off x="324000" y="1341360"/>
          <a:ext cx="842472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247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3" name="Picture 5" descr="logo"/>
          <p:cNvPicPr/>
          <p:nvPr/>
        </p:nvPicPr>
        <p:blipFill>
          <a:blip r:embed="rId3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541800" y="-1152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greso de la Fecha de Vigencia de la modificación solicit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7" descr="logo"/>
          <p:cNvPicPr/>
          <p:nvPr/>
        </p:nvPicPr>
        <p:blipFill>
          <a:blip r:embed="rId1"/>
          <a:stretch/>
        </p:blipFill>
        <p:spPr>
          <a:xfrm>
            <a:off x="0" y="333360"/>
            <a:ext cx="2030400" cy="687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7488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71229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2600" y="1341360"/>
            <a:ext cx="81104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reso o selección del e-mail del domicilio constituido al cual se informará del curso de la modific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6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70516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99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ción del  Número de empresa BP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6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4978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70516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4000" y="1341360"/>
            <a:ext cx="8110440" cy="5516640"/>
            <a:chOff x="324000" y="1341360"/>
            <a:chExt cx="8110440" cy="5516640"/>
          </a:xfrm>
        </p:grpSpPr>
        <p:pic>
          <p:nvPicPr>
            <p:cNvPr id="328" name="Rectangle 3" descr=""/>
            <p:cNvPicPr/>
            <p:nvPr/>
          </p:nvPicPr>
          <p:blipFill>
            <a:blip r:embed="rId1"/>
            <a:stretch/>
          </p:blipFill>
          <p:spPr>
            <a:xfrm>
              <a:off x="324000" y="1341360"/>
              <a:ext cx="811044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 txBox="1"/>
            <p:nvPr/>
          </p:nvSpPr>
          <p:spPr>
            <a:xfrm>
              <a:off x="324000" y="1341360"/>
              <a:ext cx="8110440" cy="55166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5040" y="65160"/>
            <a:ext cx="705168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66560" y="1341360"/>
            <a:ext cx="8556840" cy="5256360"/>
            <a:chOff x="466560" y="1341360"/>
            <a:chExt cx="8556840" cy="5256360"/>
          </a:xfrm>
        </p:grpSpPr>
        <p:pic>
          <p:nvPicPr>
            <p:cNvPr id="333" name="Rectangle 3" descr=""/>
            <p:cNvPicPr/>
            <p:nvPr/>
          </p:nvPicPr>
          <p:blipFill>
            <a:blip r:embed="rId1"/>
            <a:stretch/>
          </p:blipFill>
          <p:spPr>
            <a:xfrm>
              <a:off x="466560" y="1341360"/>
              <a:ext cx="855684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 txBox="1"/>
            <p:nvPr/>
          </p:nvSpPr>
          <p:spPr>
            <a:xfrm>
              <a:off x="466560" y="1341360"/>
              <a:ext cx="8556840" cy="52563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5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79640" y="75960"/>
            <a:ext cx="5472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            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  del 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 CON ACTIVIDAD EMPRESA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408720" cy="4078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73389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 CON ACTIVIDAD EMPRESA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921800" cy="4287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04680" y="75960"/>
            <a:ext cx="71960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talla Domicilio Constitu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52960" cy="4267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9720" y="56340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6560" y="1196640"/>
            <a:ext cx="8677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odas las personas y empresas pueden acceder a estos servici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quisitos y la documentación solicitada varía de acuerdo a la naturaleza del servicio que se desea utiliz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rvicios de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cceso gener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rvicios  que requieren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IN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identificación del usuario a través de una clave de acceso. Se puede obtener en las Entidades colaboradoras con el R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Servicios que requieren la firma de un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contrato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en DGI para la obtención de </a:t>
            </a:r>
            <a:r>
              <a:rPr b="1" lang="es-UY" sz="2400" spc="-1" strike="noStrike">
                <a:solidFill>
                  <a:srgbClr val="000000"/>
                </a:solidFill>
                <a:latin typeface="Verdana"/>
              </a:rPr>
              <a:t>usuarios y clave.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5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534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talla Otros Domicil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6172200" cy="3990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747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talla Lo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6748560" cy="4319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39640" y="1341360"/>
            <a:ext cx="8483760" cy="5183280"/>
            <a:chOff x="539640" y="1341360"/>
            <a:chExt cx="8483760" cy="5183280"/>
          </a:xfrm>
        </p:grpSpPr>
        <p:pic>
          <p:nvPicPr>
            <p:cNvPr id="358" name="Rectangle 3" descr=""/>
            <p:cNvPicPr/>
            <p:nvPr/>
          </p:nvPicPr>
          <p:blipFill>
            <a:blip r:embed="rId1"/>
            <a:stretch/>
          </p:blipFill>
          <p:spPr>
            <a:xfrm>
              <a:off x="539640" y="1341360"/>
              <a:ext cx="84837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 txBox="1"/>
            <p:nvPr/>
          </p:nvSpPr>
          <p:spPr>
            <a:xfrm>
              <a:off x="539640" y="1341360"/>
              <a:ext cx="8483760" cy="51832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60" name="Picture 6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829120" cy="3886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29480" cy="3886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logo"/>
          <p:cNvPicPr/>
          <p:nvPr/>
        </p:nvPicPr>
        <p:blipFill>
          <a:blip r:embed="rId2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05040" y="75960"/>
            <a:ext cx="8162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avegabilidad de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Sistema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A FI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829480" cy="3959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logo"/>
          <p:cNvPicPr/>
          <p:nvPr/>
        </p:nvPicPr>
        <p:blipFill>
          <a:blip r:embed="rId2"/>
          <a:stretch/>
        </p:blipFill>
        <p:spPr>
          <a:xfrm>
            <a:off x="250920" y="333360"/>
            <a:ext cx="20304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6200" y="1267920"/>
            <a:ext cx="8426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lataforma de Gobierno Electrónico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porciona el ambiente normativo legal y técnico, así como los instrumentos informáticos necesarios para facilitar la instalación de aplicaciones y servicios de gobierno electrónico en el Estado uruguay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canismos de segur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canismos de comunicación estándares basados en Web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Du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d de alta velocidad (10/100 Mb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os los organismos conectados entre sí con un único enlace, sin la necesidad de punto a pu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n costo (para Administración Cent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76480" cy="7016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1116000" y="331920"/>
            <a:ext cx="77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PGE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- REDuy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042920" y="331920"/>
            <a:ext cx="7740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PGE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- REDUy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76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1258920" y="1565280"/>
            <a:ext cx="66769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042920" y="331920"/>
            <a:ext cx="7740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s-UY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PGE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- REDUy</a:t>
            </a:r>
            <a:r>
              <a:rPr b="0" lang="es-UY" sz="32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76480" cy="701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48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662280"/>
            <a:ext cx="7678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Muchas gracias por vuestra Atención!!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83" name="Picture 5" descr="logo"/>
          <p:cNvPicPr/>
          <p:nvPr/>
        </p:nvPicPr>
        <p:blipFill>
          <a:blip r:embed="rId1"/>
          <a:stretch/>
        </p:blipFill>
        <p:spPr>
          <a:xfrm>
            <a:off x="250920" y="62064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9720" y="56340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UY" sz="2800" spc="-1" strike="noStrike">
                <a:solidFill>
                  <a:srgbClr val="000000"/>
                </a:solidFill>
                <a:latin typeface="Verdana"/>
              </a:rPr>
              <a:t>Servicios de acceso gener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  y Solicitud de Certificados (CV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vío de declaraciones (.txt o .xml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Imprimir Boletos de P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Inicia Inscripciones en el Registro Único Tributario en simultáneo B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alizar Pagos Web para Contribuyentes de determinado  grupo de Empresas y Personas Físic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Multas y Recarg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Expedientes Administra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Devolucio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Consultar si existen Borradores de IRPF o IASS de una perso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5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95280" y="623880"/>
            <a:ext cx="68720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915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UY" sz="2800" spc="-1" strike="noStrike">
                <a:solidFill>
                  <a:srgbClr val="000000"/>
                </a:solidFill>
                <a:latin typeface="Verdana"/>
              </a:rPr>
              <a:t>Servicios que requieren P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 las Constancias de Autorización de Impresión de Documentación Solicitad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Envío de declaraciones IR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 las Devoluciones disponibles de IRPF – Monoingres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 los Certificados de Crédito Disponib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r, modificar o confirmar los datos de la Declaración Borrador de IRAE Agropecuari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licitar Constancia de Autorización de Impresión de Document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Modificación de Datos Registrales de Persona Fís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Duplicado de Constancia de Inscrip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" descr="logo"/>
          <p:cNvPicPr/>
          <p:nvPr/>
        </p:nvPicPr>
        <p:blipFill>
          <a:blip r:embed="rId1"/>
          <a:stretch/>
        </p:blipFill>
        <p:spPr>
          <a:xfrm>
            <a:off x="53964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9720" y="56340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00"/>
                </a:solidFill>
                <a:latin typeface="Verdana"/>
              </a:rPr>
              <a:t>Servicios que requieren firma de contrato, usuario y cl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ada de Declaraciones Jurad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 de Declaraciones enviadas y su es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dificación de datos registrales de Empre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s de datos regist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sulta de Pagos realizad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ten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vío de  Declaraciones de IRPF, que no lleven timbre profesional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UY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5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76480" cy="701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730080" y="561600"/>
            <a:ext cx="81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6560" y="1268280"/>
            <a:ext cx="82821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logo"/>
          <p:cNvPicPr/>
          <p:nvPr/>
        </p:nvPicPr>
        <p:blipFill>
          <a:blip r:embed="rId1"/>
          <a:stretch/>
        </p:blipFill>
        <p:spPr>
          <a:xfrm>
            <a:off x="250920" y="333360"/>
            <a:ext cx="2076480" cy="701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730080" y="561600"/>
            <a:ext cx="81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lataforma DGI WEB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042920" y="1447920"/>
            <a:ext cx="72010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22:27:24Z</dcterms:created>
  <dc:creator>Gonzalo </dc:creator>
  <dc:description/>
  <dc:language>en-US</dc:language>
  <cp:lastModifiedBy> </cp:lastModifiedBy>
  <dcterms:modified xsi:type="dcterms:W3CDTF">2013-10-29T10:06:21Z</dcterms:modified>
  <cp:revision>454</cp:revision>
  <dc:subject/>
  <dc:title>Presentación de PowerPoint</dc:title>
</cp:coreProperties>
</file>