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wmf" ContentType="image/x-wmf"/>
  <Override PartName="/ppt/media/image26.png" ContentType="image/png"/>
  <Override PartName="/ppt/media/image2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33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31.png" ContentType="image/png"/>
  <Override PartName="/ppt/media/image34.png" ContentType="image/png"/>
  <Override PartName="/ppt/media/image4.png" ContentType="image/png"/>
  <Override PartName="/ppt/media/image3.wmf" ContentType="image/x-wmf"/>
  <Override PartName="/ppt/media/image10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</p:sldIdLst>
  <p:sldSz cx="9144000" cy="6858000"/>
  <p:notesSz cx="6789738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0" y="0"/>
            <a:ext cx="67896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dt" idx="61"/>
          </p:nvPr>
        </p:nvSpPr>
        <p:spPr>
          <a:xfrm>
            <a:off x="3844800" y="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body"/>
          </p:nvPr>
        </p:nvSpPr>
        <p:spPr>
          <a:xfrm>
            <a:off x="679320" y="471024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ftr" idx="62"/>
          </p:nvPr>
        </p:nvSpPr>
        <p:spPr>
          <a:xfrm>
            <a:off x="-360" y="942012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 type="sldNum" idx="63"/>
          </p:nvPr>
        </p:nvSpPr>
        <p:spPr>
          <a:xfrm>
            <a:off x="3844800" y="942012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3206345-9963-4C44-89EE-0F9455C1B2C1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19098B-E049-48BE-AE3F-F62788C458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45E2D0-C751-45F8-81E0-5C0637070B7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C93F48-E3F6-4B30-80B9-1FDE5C4EBA9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E154AE-9026-4AC0-B3EF-B8E2700B5E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EAD837-23FC-47D9-A7E2-A976F015E3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27273E-C30C-4A49-AA92-EDF465F896D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706EDD-08AF-4E38-B5E3-3BD96A9E94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34EF67-5A3A-4B13-97D2-61E6B8939DE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EEFC8F-23D0-428A-98D6-F9784974E7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7B512C-A177-4AD9-BACA-D53247F0239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DBDE09-2547-422A-90BF-0849EF2F560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BB36E6-A4C1-4EC9-8B77-7FC5659D18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969840" y="19512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62C7F2-3DD0-4B15-87C2-EB00C7EAC5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969840" y="19512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3DFEB3-9013-4203-B8A7-28DDC02CA2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AD2D72-0659-4DAA-B9CB-6A67D83F5C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A1962E-A6AA-444E-88E7-09F4A77FDA9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402769-6C51-43EA-BEC7-3BFFCBC5A9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A3F76A-9E5B-4E68-999B-1D125B1994E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44800" y="94201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301873F-3F96-4A0D-A068-EBCE6716D13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79320" y="471024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38B3B2-587E-41F1-9FA2-0E179293A5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5E67AC-4E70-4A78-9F69-3301868C3B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4E4D3-3F0E-4B05-AB1F-E7AEE1E4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D0129-58DD-492C-81CE-095F29B6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E8B72-9B6C-4B79-B964-6D5523DC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B0F7F-2618-4A2E-A8C8-B1869567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3C40B-D7C0-4FBF-9C45-58262F17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38E31-0ABB-413F-8271-583AB941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758A7-69F8-4E3D-8EC7-04022A0B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BA3A7-56D8-4517-BE01-BC40C003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38CA5-939C-40BC-BE70-3F91D8CF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FC9F2-C6C7-4E8D-B4DA-051C2C6F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018AC-4CC5-4102-BB15-91F0E581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B7DCE-AFAB-4000-95F9-85F0EDC9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E7542-8A71-41FD-9022-CB551E0F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67674-72B8-45EB-B37F-71DF0348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D4775-F364-4B95-B160-2A679E53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7A73A-3139-4005-B0AE-4377E48B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C122B-17D4-4CD7-A0E7-AD3CE820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95B52-37DA-41EF-8E00-7F89AE3D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37430-24C7-4487-BAC7-6ACE3369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042D6-7B8D-4A4E-B109-C653AC96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6565B-FF42-4095-B6F1-A165DB33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618AC-8ACD-4D8C-BDF4-541AF666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730A3-DFCA-4EC4-AAB7-88938B2E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AEB35-391F-4B4D-8256-B753A421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BF956-FE24-43B5-86BA-79A910ED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58B4A-C7A1-46FF-9120-21C95849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3594A-FE51-47B7-9136-FC4DF140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6F31B-1E72-4BF8-AB72-C460EB56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0E50C-CB02-402D-B0B8-19DFC17B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932E5-A5F8-47B9-BF8A-1B1EDA86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D4251-0268-439E-93AF-83F1A4BB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D14D4-1580-4301-AA99-6AF9E5FB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7BD91-2E0B-4EFE-AA0B-928FDD4B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99435-8141-4041-BAC0-7FA2B59C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4C46D-CCF3-4ED5-8176-04F507D8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B8349C-D099-4B5E-8F74-1C2DBED6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10BB9-36CC-4E79-8DFD-DD215FD0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318EF-2D7B-4882-86D3-22CA4BF7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22C02-6BF8-4DA6-B5F4-02221C08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B22AA-109D-4693-83A2-8F40CACB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B9FBF-C105-4E5F-A729-21A9DDD2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58D35-16AB-4666-B765-21333AC0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8F224-4C6B-4F23-84FC-6E5B0E87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6E8EB-D907-4C03-B873-0E66CEAB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A0E0D-1A0D-458D-ABD8-1DAD3A97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D0D57B-BA0E-4B29-BA6E-211B5027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20BA9F-B21C-45E9-8605-863B9243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A7236-19FB-4976-B96B-DB4F2200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F31DF5-4EA9-4323-835A-AE87086A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1F620-3871-48FD-BB9F-8A4825F3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7B539-2AC1-46E5-8DAE-8A7A24A2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FF2B4-B30F-4C42-9AB1-2005D953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61755-6FBF-434B-BDC3-F478503B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6AD89-5D9F-48E3-97CD-13802358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28A97-1068-48C2-8660-D81D637D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61C081-FF07-4B5A-8404-32A30341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7EA0BB-71F1-455D-9635-EB5588F9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4D9E22-40AF-4633-B0C6-086EFC42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8FFCB-DD1E-464A-AC8E-6B72A220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B55BCC-B288-4132-AB5F-BFDA2CD6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A1790A-0F10-4872-9C45-1AC5C249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F4920-3173-4487-A12D-AEF587DD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38204-2DB8-4E45-8A05-DB43EA47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F5E88-F348-4F6C-BCED-46B19346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5F8D1F-699F-4DC5-8867-BE4B560D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B32DBB-B490-4F1B-8E2B-3EC1F6AE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4E1A7A-EF41-4770-81CC-B9C93B98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6CAD53-42F4-4B3B-8062-D6E9BD57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4453FD-541C-45C2-85FD-F23AB57D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24BD1D-8E30-4E17-889D-55F7893D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600635-1493-4C60-8AE5-8E496F6D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6D9B0A-94AA-47A8-A0A5-90B43F58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EA300-CCDA-451D-860F-33294CD7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B60BFA-64F6-4542-8924-C7B03586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11CF83-7D0C-47BC-A51F-E4EA720A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FAE300-48B8-4ECB-ABF2-AA9CC8E0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8E3C7B-1192-495F-A4B7-279CA1FF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DD851A-B5D2-4528-A52D-4CACEE58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B9C43D-9EA9-46C3-98A7-5B363958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86D7D-188E-4686-BE55-6798B09C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174481-FD16-4D21-A7ED-86EF0E50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3B0877-9FA3-4808-B577-4B80CEE0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3641CC-ECAE-417F-877B-75B02CC7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A36F1-026E-4852-8AB0-EDF07AD9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AFF4B1-D07F-45C3-8F55-DEA99F20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7CBC1A-0EAD-4381-B26A-049639F5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F57A2D-8019-4FF0-81B1-7F3B0640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3F1866-91DE-442A-B7ED-0AF37908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9BEFFB-3586-4CD1-8819-77BCB68B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9F6520-53F4-4678-A6C3-0A39DF77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77646F-D1D5-42F0-B483-880253AC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D82E60-2F10-40A5-A8E9-360F4FDE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2E7A60-0F04-45F9-B7F3-FA45FABC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82C25C-E34C-4648-B7A1-147ED2DB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837E8-7280-4F5F-969B-9855E57B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21CF7B-1389-452E-817A-BE1AE9E5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76D18F-5965-4EE6-A491-282F63A7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313B73-D1B2-4CB6-ABB3-BA211960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618D43-D21B-47E1-B754-5F0FDBFB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AF89B3-5DA8-4C93-A45F-F798B234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BD1737-BBFD-452F-88AB-918B8960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6FA37B-56B5-4388-9914-3CEBB555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71A11C-2573-41F1-B50A-AFCC5ABE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BE62FA-85DB-4607-85EF-7E24737F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02A195-C17A-44E6-8F8D-ED846602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5071C8-C391-47A4-A0DC-1D10E38E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9976E4-4039-4159-9E4A-16DE88C8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80D4F6-B7F0-4641-9E43-F4FFEA35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5E2E76-8562-44C1-82BD-6FD15472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71F0D8-3854-4BA0-B5AD-309DFF90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B44229-B2EB-4E4B-8CA0-2B0CD386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A9ABD3-AE44-415C-9E95-E7456CA0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4B9FD6-B81C-49CC-B68B-1E25EDC0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888EB7-55C1-47E7-A450-6ED2E511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034336-414E-4C2F-A1EF-71C69B11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6E0C7F-E554-4355-A5EC-F1C4212F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F4EBA1-745F-41B9-B0E9-72721692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35B8DE-56DE-428A-8BE3-70864891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F3DA9C-2D22-487B-AEB4-ECD34486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45B01D-46C9-41DC-8684-B1154119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82B2AC-7F01-4713-8F55-2B2A0AFE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BE3EC2-01EA-4667-9142-A75AA4EC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B8878A-A5B7-401D-886C-1220B0B6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4B0688-6EA3-4863-B91A-78174679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FD680B-7914-4BB8-9385-0F8F8998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7AB58A-6AB5-4F2B-A233-C6C40029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9B1473-BB34-405D-B352-E6A268F2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DD22D5-0165-404D-A40C-34C3DF68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1E9D6B-51B5-40B6-A068-6C73260F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7FDD89-4DDA-4A61-85ED-67B640B7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9D4A2B-5BCA-44DD-864A-4301AAA4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8584D7-B82A-4D92-A804-04E8EBBD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37C829-FCE0-4C4A-B0EA-096E24F0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2E1291-3CC1-4B51-B7F9-676E13CE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9AE425-133B-4D43-B4D5-CD0EAC9A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15E9BB-DB70-491C-BCFE-F0474481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0A8B63-4209-466E-8F0D-5E3B2593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AC7542-2CEA-4110-861F-95CF90C0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9C0844-DD8F-41AA-A9A6-F3E7E288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F7E9E1-B294-4EB7-BB75-3911D37B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AC6A76-AD20-426A-B009-E9CCDC59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6FD754-9ECF-4143-9530-A37A2367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DCA7E2-2404-47F7-9E48-07A9EF29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DB4260-A2DE-424E-91BA-311B7027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" descr="DGI%20logo%20chico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7893000" y="6089760"/>
            <a:ext cx="78264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6"/>
          <p:cNvSpPr/>
          <p:nvPr/>
        </p:nvSpPr>
        <p:spPr>
          <a:xfrm>
            <a:off x="0" y="0"/>
            <a:ext cx="9144000" cy="1392120"/>
          </a:xfrm>
          <a:prstGeom prst="rect">
            <a:avLst/>
          </a:prstGeom>
          <a:solidFill>
            <a:srgbClr val="00008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1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3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5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7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5582-9668-4924-A6FD-F205512DD6D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200A-2F6F-4235-95E0-78912CAC0C0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6AD7-6AD4-486B-83A3-154726AB794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4062-D1BB-447B-85E5-ADC020133C2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AF63-8F2C-42E1-9F13-C055706EA84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5938-F940-4A46-8FF1-768CBFB1FF6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E833-5159-4361-B2C9-A95D857AC69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10FF-1694-48AB-8732-D3491000274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B690-3223-49D3-B36A-EED7D6AB26E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5F0D-F811-4FFC-823A-1BC8A1B4D27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E380-1FCF-464C-BC12-D777AFC87CC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B115-033E-4878-BA7B-4046CD4F5CE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3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5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9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Picture 7" descr="logo"/>
          <p:cNvPicPr/>
          <p:nvPr/>
        </p:nvPicPr>
        <p:blipFill>
          <a:blip r:embed="rId1"/>
          <a:stretch/>
        </p:blipFill>
        <p:spPr>
          <a:xfrm>
            <a:off x="1333440" y="3619440"/>
            <a:ext cx="5829480" cy="1827360"/>
          </a:xfrm>
          <a:prstGeom prst="rect">
            <a:avLst/>
          </a:prstGeom>
          <a:ln w="0">
            <a:noFill/>
          </a:ln>
        </p:spPr>
      </p:pic>
      <p:sp>
        <p:nvSpPr>
          <p:cNvPr id="983" name="Text Box 5"/>
          <p:cNvSpPr/>
          <p:nvPr/>
        </p:nvSpPr>
        <p:spPr>
          <a:xfrm>
            <a:off x="1252440" y="6021360"/>
            <a:ext cx="74959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9900"/>
                </a:solidFill>
                <a:latin typeface="Arial"/>
              </a:rPr>
              <a:t>ENCUENTRO SUR-SUR GUATEMALA-ANTIGU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200" spc="-1" strike="noStrike">
                <a:solidFill>
                  <a:srgbClr val="ff9900"/>
                </a:solidFill>
                <a:latin typeface="Arial"/>
              </a:rPr>
              <a:t>Agosto 201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ff9900"/>
                </a:solidFill>
                <a:latin typeface="Arial"/>
              </a:rPr>
              <a:t>URUGUAY</a:t>
            </a:r>
            <a:r>
              <a:rPr b="1" lang="es-ES" sz="1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2"/>
          <p:cNvSpPr/>
          <p:nvPr/>
        </p:nvSpPr>
        <p:spPr>
          <a:xfrm>
            <a:off x="324000" y="0"/>
            <a:ext cx="76784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MX" sz="4000" spc="-1" strike="noStrike">
                <a:solidFill>
                  <a:srgbClr val="003399"/>
                </a:solidFill>
                <a:latin typeface="Arial"/>
              </a:rPr>
              <a:t>ARQUITECTURA  Y SISTEMAS PARA  LA GESTIÓN DE LA INFORMACIÓN REGISTRAL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ext Box 7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"/>
          <p:cNvSpPr/>
          <p:nvPr/>
        </p:nvSpPr>
        <p:spPr>
          <a:xfrm>
            <a:off x="0" y="2281320"/>
            <a:ext cx="1397160" cy="321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196666"/>
                </a:solidFill>
                <a:latin typeface="Arial"/>
                <a:ea typeface="Arial"/>
              </a:rPr>
              <a:t>Aplicaciones   para USUARIOS INTERNOS al Orga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1"/>
          <p:cNvSpPr/>
          <p:nvPr/>
        </p:nvSpPr>
        <p:spPr>
          <a:xfrm>
            <a:off x="1473120" y="2287440"/>
            <a:ext cx="1917720" cy="3245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2060"/>
                </a:solidFill>
                <a:latin typeface="Arial"/>
              </a:rPr>
              <a:t>Aplicaciones para CONTRIBUY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2"/>
          <p:cNvSpPr/>
          <p:nvPr/>
        </p:nvSpPr>
        <p:spPr>
          <a:xfrm>
            <a:off x="3340080" y="2284560"/>
            <a:ext cx="1905120" cy="32162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Aplicaciones para ENTIDADES COLABORADORAS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ORGANISMOS EXTE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3"/>
          <p:cNvSpPr/>
          <p:nvPr/>
        </p:nvSpPr>
        <p:spPr>
          <a:xfrm>
            <a:off x="5334120" y="2274840"/>
            <a:ext cx="1130040" cy="321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7e7e00"/>
                </a:solidFill>
                <a:latin typeface="Arial"/>
              </a:rPr>
              <a:t>WEB SERV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7e7e00"/>
                </a:solidFill>
                <a:latin typeface="Arial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7e7e00"/>
                </a:solidFill>
                <a:latin typeface="Arial"/>
              </a:rPr>
              <a:t> </a:t>
            </a:r>
            <a:r>
              <a:rPr b="1" lang="es-UY" sz="1400" spc="-1" strike="noStrike">
                <a:solidFill>
                  <a:srgbClr val="7e7e00"/>
                </a:solidFill>
                <a:latin typeface="Arial"/>
              </a:rPr>
              <a:t>Consumo Ext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14"/>
          <p:cNvSpPr/>
          <p:nvPr/>
        </p:nvSpPr>
        <p:spPr>
          <a:xfrm>
            <a:off x="6566040" y="2265480"/>
            <a:ext cx="990360" cy="3225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ffffd9"/>
                </a:solidFill>
                <a:latin typeface="Arial"/>
              </a:rPr>
              <a:t>Procesos B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17"/>
          <p:cNvSpPr/>
          <p:nvPr/>
        </p:nvSpPr>
        <p:spPr>
          <a:xfrm>
            <a:off x="2133720" y="495360"/>
            <a:ext cx="64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los Usuarios Fi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12"/>
          <p:cNvSpPr/>
          <p:nvPr/>
        </p:nvSpPr>
        <p:spPr>
          <a:xfrm>
            <a:off x="7645320" y="2286000"/>
            <a:ext cx="1282680" cy="32259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269999"/>
                </a:solidFill>
                <a:latin typeface="Arial"/>
              </a:rPr>
              <a:t>Aplicaciones pa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269999"/>
                </a:solidFill>
                <a:latin typeface="Arial"/>
              </a:rPr>
              <a:t>la Alta Ger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1382760" y="5362560"/>
            <a:ext cx="64008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UY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2" name="Text Box 7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9"/>
          <p:cNvSpPr/>
          <p:nvPr/>
        </p:nvSpPr>
        <p:spPr>
          <a:xfrm>
            <a:off x="324000" y="5099040"/>
            <a:ext cx="8569080" cy="93492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SSINESS INTE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10"/>
          <p:cNvSpPr/>
          <p:nvPr/>
        </p:nvSpPr>
        <p:spPr>
          <a:xfrm>
            <a:off x="568440" y="2651040"/>
            <a:ext cx="1298520" cy="212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196666"/>
                </a:solidFill>
                <a:latin typeface="Arial"/>
              </a:rPr>
              <a:t>Aplicaciones Web Back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11"/>
          <p:cNvSpPr/>
          <p:nvPr/>
        </p:nvSpPr>
        <p:spPr>
          <a:xfrm>
            <a:off x="2282760" y="2651040"/>
            <a:ext cx="1298520" cy="211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3399"/>
                </a:solidFill>
                <a:latin typeface="Arial"/>
              </a:rPr>
              <a:t>Aplicaciones We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3399"/>
                </a:solidFill>
                <a:latin typeface="Arial"/>
              </a:rPr>
              <a:t>Front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12"/>
          <p:cNvSpPr/>
          <p:nvPr/>
        </p:nvSpPr>
        <p:spPr>
          <a:xfrm>
            <a:off x="3968640" y="2641680"/>
            <a:ext cx="1257480" cy="2106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Aplicaciones Legadas y Procesos B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13"/>
          <p:cNvSpPr/>
          <p:nvPr/>
        </p:nvSpPr>
        <p:spPr>
          <a:xfrm>
            <a:off x="5735520" y="2612880"/>
            <a:ext cx="1351080" cy="210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7a7a00"/>
                </a:solidFill>
                <a:latin typeface="Arial"/>
              </a:rPr>
              <a:t>Otras Apli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14"/>
          <p:cNvSpPr/>
          <p:nvPr/>
        </p:nvSpPr>
        <p:spPr>
          <a:xfrm>
            <a:off x="7419960" y="2603520"/>
            <a:ext cx="1295280" cy="21258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f8f8f8"/>
                </a:solidFill>
                <a:latin typeface="Arial"/>
              </a:rPr>
              <a:t>Aplicaciones Terceriz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17"/>
          <p:cNvSpPr/>
          <p:nvPr/>
        </p:nvSpPr>
        <p:spPr>
          <a:xfrm>
            <a:off x="2044800" y="404640"/>
            <a:ext cx="68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18"/>
          <p:cNvSpPr/>
          <p:nvPr/>
        </p:nvSpPr>
        <p:spPr>
          <a:xfrm>
            <a:off x="376200" y="1585800"/>
            <a:ext cx="8585280" cy="79236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 Black"/>
              </a:rPr>
              <a:t>POR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15"/>
          <p:cNvSpPr/>
          <p:nvPr/>
        </p:nvSpPr>
        <p:spPr>
          <a:xfrm>
            <a:off x="1841400" y="404640"/>
            <a:ext cx="63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19"/>
          <p:cNvSpPr/>
          <p:nvPr/>
        </p:nvSpPr>
        <p:spPr>
          <a:xfrm>
            <a:off x="584280" y="1117440"/>
            <a:ext cx="374976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Aplicaciones Web Bac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20"/>
          <p:cNvSpPr/>
          <p:nvPr/>
        </p:nvSpPr>
        <p:spPr>
          <a:xfrm>
            <a:off x="744480" y="1498680"/>
            <a:ext cx="629604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Aplicaciones Genexus generadas para Java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Corren en WebSphere 5 y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La persistencia es en</a:t>
            </a:r>
            <a:r>
              <a:rPr b="1" lang="es-MX" sz="1600" spc="-1" strike="noStrike">
                <a:solidFill>
                  <a:srgbClr val="003399"/>
                </a:solidFill>
                <a:latin typeface="Arial"/>
              </a:rPr>
              <a:t> D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3399"/>
                </a:solidFill>
                <a:latin typeface="Arial"/>
              </a:rPr>
              <a:t>-Seguridad</a:t>
            </a: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  basada en 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Single Sign On a través del uso 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 de   estándares (LDAP, Active Directory), </a:t>
            </a: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RBAC (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Role 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 Based Access Control)  y Mecanismos de AAA 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 (Autenticación, Autorización y Auditorí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Ejemplos: Rut, SIC, Consta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2"/>
          <a:stretch/>
        </p:blipFill>
        <p:spPr>
          <a:xfrm>
            <a:off x="317520" y="3533760"/>
            <a:ext cx="4236840" cy="315900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/>
          <p:cNvPicPr/>
          <p:nvPr/>
        </p:nvPicPr>
        <p:blipFill>
          <a:blip r:embed="rId3"/>
          <a:stretch/>
        </p:blipFill>
        <p:spPr>
          <a:xfrm>
            <a:off x="4973760" y="3552840"/>
            <a:ext cx="390348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4"/>
          <p:cNvSpPr/>
          <p:nvPr/>
        </p:nvSpPr>
        <p:spPr>
          <a:xfrm>
            <a:off x="542880" y="1346040"/>
            <a:ext cx="382896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Aplicaciones Web Front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5"/>
          <p:cNvSpPr/>
          <p:nvPr/>
        </p:nvSpPr>
        <p:spPr>
          <a:xfrm>
            <a:off x="731880" y="1854360"/>
            <a:ext cx="7813800" cy="27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 Aplicaciones Genexus generadas para Java Web y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 Corren en WebSphere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 La persistencia es en D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 Mismo esquema de seguridad que Back-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 Ejemplos: Portal de  Servicios en Línea, Modificación Web Datos   Regist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2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103" name="Rectangle 15"/>
          <p:cNvSpPr/>
          <p:nvPr/>
        </p:nvSpPr>
        <p:spPr>
          <a:xfrm>
            <a:off x="1841400" y="404640"/>
            <a:ext cx="63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" descr=""/>
          <p:cNvPicPr/>
          <p:nvPr/>
        </p:nvPicPr>
        <p:blipFill>
          <a:blip r:embed="rId2"/>
          <a:stretch/>
        </p:blipFill>
        <p:spPr>
          <a:xfrm>
            <a:off x="152280" y="3695760"/>
            <a:ext cx="4364280" cy="2965320"/>
          </a:xfrm>
          <a:prstGeom prst="rect">
            <a:avLst/>
          </a:prstGeom>
          <a:ln w="0">
            <a:noFill/>
          </a:ln>
        </p:spPr>
      </p:pic>
      <p:pic>
        <p:nvPicPr>
          <p:cNvPr id="1105" name="" descr=""/>
          <p:cNvPicPr/>
          <p:nvPr/>
        </p:nvPicPr>
        <p:blipFill>
          <a:blip r:embed="rId3"/>
          <a:stretch/>
        </p:blipFill>
        <p:spPr>
          <a:xfrm>
            <a:off x="4762440" y="3679920"/>
            <a:ext cx="4381560" cy="29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15"/>
          <p:cNvSpPr/>
          <p:nvPr/>
        </p:nvSpPr>
        <p:spPr>
          <a:xfrm>
            <a:off x="2044800" y="469800"/>
            <a:ext cx="61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4"/>
          <p:cNvSpPr/>
          <p:nvPr/>
        </p:nvSpPr>
        <p:spPr>
          <a:xfrm>
            <a:off x="371880" y="1555920"/>
            <a:ext cx="670320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Aplicaciones Legadas,  Procesos Batch y Demon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5"/>
          <p:cNvSpPr/>
          <p:nvPr/>
        </p:nvSpPr>
        <p:spPr>
          <a:xfrm>
            <a:off x="744480" y="2021040"/>
            <a:ext cx="73818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Aplicaciones Cobol o Man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Corren en servidores AI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La persistencia es en Db2 y arch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Ejemplos: Menú de Producción y 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Picture 7" descr=""/>
          <p:cNvPicPr/>
          <p:nvPr/>
        </p:nvPicPr>
        <p:blipFill>
          <a:blip r:embed="rId1"/>
          <a:stretch/>
        </p:blipFill>
        <p:spPr>
          <a:xfrm>
            <a:off x="4838760" y="3409920"/>
            <a:ext cx="3886200" cy="31687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8" descr=""/>
          <p:cNvPicPr/>
          <p:nvPr/>
        </p:nvPicPr>
        <p:blipFill>
          <a:blip r:embed="rId2"/>
          <a:stretch/>
        </p:blipFill>
        <p:spPr>
          <a:xfrm>
            <a:off x="596880" y="3405240"/>
            <a:ext cx="3841920" cy="32115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" descr="logo"/>
          <p:cNvPicPr/>
          <p:nvPr/>
        </p:nvPicPr>
        <p:blipFill>
          <a:blip r:embed="rId3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5"/>
          <p:cNvSpPr/>
          <p:nvPr/>
        </p:nvSpPr>
        <p:spPr>
          <a:xfrm>
            <a:off x="1549440" y="393840"/>
            <a:ext cx="663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4"/>
          <p:cNvSpPr/>
          <p:nvPr/>
        </p:nvSpPr>
        <p:spPr>
          <a:xfrm>
            <a:off x="242280" y="1479600"/>
            <a:ext cx="268884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Otras Ap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8"/>
          <p:cNvSpPr/>
          <p:nvPr/>
        </p:nvSpPr>
        <p:spPr>
          <a:xfrm>
            <a:off x="744480" y="1828800"/>
            <a:ext cx="73818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Aplicaciones Cliente/Servido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persistencia en D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Aplicaciones Cli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Programas de Ay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pic>
        <p:nvPicPr>
          <p:cNvPr id="1118" name="" descr=""/>
          <p:cNvPicPr/>
          <p:nvPr/>
        </p:nvPicPr>
        <p:blipFill>
          <a:blip r:embed="rId2"/>
          <a:stretch/>
        </p:blipFill>
        <p:spPr>
          <a:xfrm>
            <a:off x="3503520" y="3111480"/>
            <a:ext cx="5486400" cy="3530520"/>
          </a:xfrm>
          <a:prstGeom prst="rect">
            <a:avLst/>
          </a:prstGeom>
          <a:ln w="0">
            <a:noFill/>
          </a:ln>
        </p:spPr>
      </p:pic>
      <p:pic>
        <p:nvPicPr>
          <p:cNvPr id="1119" name="" descr=""/>
          <p:cNvPicPr/>
          <p:nvPr/>
        </p:nvPicPr>
        <p:blipFill>
          <a:blip r:embed="rId3"/>
          <a:stretch/>
        </p:blipFill>
        <p:spPr>
          <a:xfrm>
            <a:off x="374760" y="3174840"/>
            <a:ext cx="2641320" cy="35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15"/>
          <p:cNvSpPr/>
          <p:nvPr/>
        </p:nvSpPr>
        <p:spPr>
          <a:xfrm>
            <a:off x="1549440" y="393840"/>
            <a:ext cx="663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4"/>
          <p:cNvSpPr/>
          <p:nvPr/>
        </p:nvSpPr>
        <p:spPr>
          <a:xfrm>
            <a:off x="0" y="1212840"/>
            <a:ext cx="275436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Otras Aplica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8"/>
          <p:cNvSpPr/>
          <p:nvPr/>
        </p:nvSpPr>
        <p:spPr>
          <a:xfrm>
            <a:off x="216000" y="1587600"/>
            <a:ext cx="51163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FORMULARIOS </a:t>
            </a: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con herramienta ZENFOR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125" name="Rectangle 3"/>
          <p:cNvSpPr/>
          <p:nvPr/>
        </p:nvSpPr>
        <p:spPr>
          <a:xfrm>
            <a:off x="219240" y="1930320"/>
            <a:ext cx="497520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Diseño gráfico previamente normalizado con una estructura básica que permit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su distribución   OFFLINE.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Definir cada una de las casillas asociadas a la 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versión del formul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Definir las validaciones que se realizarán en c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casil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Definir reglas a aplicar para cargar el documento  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en la Base de da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Entrada de datos : Manual, Transmisión Telemática  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o Carga masiva (bat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2"/>
          <a:stretch/>
        </p:blipFill>
        <p:spPr>
          <a:xfrm>
            <a:off x="5275440" y="923760"/>
            <a:ext cx="3868560" cy="372924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/>
          <p:cNvPicPr/>
          <p:nvPr/>
        </p:nvPicPr>
        <p:blipFill>
          <a:blip r:embed="rId3"/>
          <a:stretch/>
        </p:blipFill>
        <p:spPr>
          <a:xfrm>
            <a:off x="5265720" y="4667400"/>
            <a:ext cx="3878280" cy="2190600"/>
          </a:xfrm>
          <a:prstGeom prst="rect">
            <a:avLst/>
          </a:prstGeom>
          <a:ln w="0">
            <a:noFill/>
          </a:ln>
        </p:spPr>
      </p:pic>
      <p:pic>
        <p:nvPicPr>
          <p:cNvPr id="1128" name="" descr=""/>
          <p:cNvPicPr/>
          <p:nvPr/>
        </p:nvPicPr>
        <p:blipFill>
          <a:blip r:embed="rId4"/>
          <a:stretch/>
        </p:blipFill>
        <p:spPr>
          <a:xfrm>
            <a:off x="0" y="5460840"/>
            <a:ext cx="5230800" cy="116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4"/>
          <p:cNvSpPr/>
          <p:nvPr/>
        </p:nvSpPr>
        <p:spPr>
          <a:xfrm>
            <a:off x="151200" y="1565280"/>
            <a:ext cx="358056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Aplicaciones Tercer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5"/>
          <p:cNvSpPr/>
          <p:nvPr/>
        </p:nvSpPr>
        <p:spPr>
          <a:xfrm>
            <a:off x="744480" y="2021040"/>
            <a:ext cx="73818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Ejemplos: Payroll, Jurex, K2b, Axen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10" descr=""/>
          <p:cNvPicPr/>
          <p:nvPr/>
        </p:nvPicPr>
        <p:blipFill>
          <a:blip r:embed="rId1"/>
          <a:stretch/>
        </p:blipFill>
        <p:spPr>
          <a:xfrm>
            <a:off x="2006640" y="2516040"/>
            <a:ext cx="4770360" cy="345600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8" descr=""/>
          <p:cNvPicPr/>
          <p:nvPr/>
        </p:nvPicPr>
        <p:blipFill>
          <a:blip r:embed="rId2"/>
          <a:stretch/>
        </p:blipFill>
        <p:spPr>
          <a:xfrm rot="21166800">
            <a:off x="237960" y="4168800"/>
            <a:ext cx="3262320" cy="24764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9" descr=""/>
          <p:cNvPicPr/>
          <p:nvPr/>
        </p:nvPicPr>
        <p:blipFill>
          <a:blip r:embed="rId3"/>
          <a:stretch/>
        </p:blipFill>
        <p:spPr>
          <a:xfrm rot="963600">
            <a:off x="5616360" y="3939840"/>
            <a:ext cx="3000240" cy="25686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4" descr="logo"/>
          <p:cNvPicPr/>
          <p:nvPr/>
        </p:nvPicPr>
        <p:blipFill>
          <a:blip r:embed="rId4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136" name="10 Rectángulo"/>
          <p:cNvSpPr/>
          <p:nvPr/>
        </p:nvSpPr>
        <p:spPr>
          <a:xfrm>
            <a:off x="2463840" y="482760"/>
            <a:ext cx="60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3480" y="1527120"/>
            <a:ext cx="361944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Picture 6" descr=""/>
          <p:cNvPicPr/>
          <p:nvPr/>
        </p:nvPicPr>
        <p:blipFill>
          <a:blip r:embed="rId1"/>
          <a:stretch/>
        </p:blipFill>
        <p:spPr>
          <a:xfrm rot="21249600">
            <a:off x="0" y="3473280"/>
            <a:ext cx="3648240" cy="264168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8" descr=""/>
          <p:cNvPicPr/>
          <p:nvPr/>
        </p:nvPicPr>
        <p:blipFill>
          <a:blip r:embed="rId2"/>
          <a:stretch/>
        </p:blipFill>
        <p:spPr>
          <a:xfrm rot="1417200">
            <a:off x="5155920" y="3163680"/>
            <a:ext cx="3625920" cy="282708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7" descr=""/>
          <p:cNvPicPr/>
          <p:nvPr/>
        </p:nvPicPr>
        <p:blipFill>
          <a:blip r:embed="rId3"/>
          <a:stretch/>
        </p:blipFill>
        <p:spPr>
          <a:xfrm>
            <a:off x="2633760" y="4405320"/>
            <a:ext cx="3386160" cy="2452680"/>
          </a:xfrm>
          <a:prstGeom prst="rect">
            <a:avLst/>
          </a:prstGeom>
          <a:ln w="0">
            <a:noFill/>
          </a:ln>
        </p:spPr>
      </p:pic>
      <p:sp>
        <p:nvSpPr>
          <p:cNvPr id="1142" name="Rectangle 9"/>
          <p:cNvSpPr/>
          <p:nvPr/>
        </p:nvSpPr>
        <p:spPr>
          <a:xfrm>
            <a:off x="744480" y="2021040"/>
            <a:ext cx="738180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DW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Tablero de 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Datam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10" descr=""/>
          <p:cNvPicPr/>
          <p:nvPr/>
        </p:nvPicPr>
        <p:blipFill>
          <a:blip r:embed="rId4"/>
          <a:stretch/>
        </p:blipFill>
        <p:spPr>
          <a:xfrm>
            <a:off x="4229280" y="1463760"/>
            <a:ext cx="3419280" cy="193176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4" descr="logo"/>
          <p:cNvPicPr/>
          <p:nvPr/>
        </p:nvPicPr>
        <p:blipFill>
          <a:blip r:embed="rId5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145" name="12 Rectángulo"/>
          <p:cNvSpPr/>
          <p:nvPr/>
        </p:nvSpPr>
        <p:spPr>
          <a:xfrm>
            <a:off x="2540160" y="419040"/>
            <a:ext cx="60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638280" y="1460520"/>
            <a:ext cx="138744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Por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5"/>
          <p:cNvSpPr/>
          <p:nvPr/>
        </p:nvSpPr>
        <p:spPr>
          <a:xfrm>
            <a:off x="566640" y="1855800"/>
            <a:ext cx="778824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Herramienta GX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-Persistencia en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-Corre en  WebSpher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- Portal Tributario, Portal del Funcionario, Factura Electrónica, Educación Tribu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150" name="9 Rectángulo"/>
          <p:cNvSpPr/>
          <p:nvPr/>
        </p:nvSpPr>
        <p:spPr>
          <a:xfrm>
            <a:off x="2540160" y="419040"/>
            <a:ext cx="60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" descr=""/>
          <p:cNvPicPr/>
          <p:nvPr/>
        </p:nvPicPr>
        <p:blipFill>
          <a:blip r:embed="rId2"/>
          <a:stretch/>
        </p:blipFill>
        <p:spPr>
          <a:xfrm>
            <a:off x="3122640" y="4086360"/>
            <a:ext cx="3114720" cy="2365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/>
          <p:cNvPicPr/>
          <p:nvPr/>
        </p:nvPicPr>
        <p:blipFill>
          <a:blip r:embed="rId3"/>
          <a:stretch/>
        </p:blipFill>
        <p:spPr>
          <a:xfrm>
            <a:off x="4557600" y="3409920"/>
            <a:ext cx="28800" cy="3816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/>
          <p:cNvPicPr/>
          <p:nvPr/>
        </p:nvPicPr>
        <p:blipFill>
          <a:blip r:embed="rId4"/>
          <a:stretch/>
        </p:blipFill>
        <p:spPr>
          <a:xfrm rot="20419800">
            <a:off x="421920" y="3724200"/>
            <a:ext cx="2779560" cy="2289240"/>
          </a:xfrm>
          <a:prstGeom prst="rect">
            <a:avLst/>
          </a:prstGeom>
          <a:ln w="0">
            <a:noFill/>
          </a:ln>
        </p:spPr>
      </p:pic>
      <p:pic>
        <p:nvPicPr>
          <p:cNvPr id="1154" name="" descr=""/>
          <p:cNvPicPr/>
          <p:nvPr/>
        </p:nvPicPr>
        <p:blipFill>
          <a:blip r:embed="rId5"/>
          <a:stretch/>
        </p:blipFill>
        <p:spPr>
          <a:xfrm rot="1354800">
            <a:off x="5967000" y="3617640"/>
            <a:ext cx="2873520" cy="21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2273400" y="165240"/>
            <a:ext cx="580392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ARQUIT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8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Organization Chart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89" name="Organization Chart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990" name="Picture 15" descr=""/>
          <p:cNvPicPr/>
          <p:nvPr/>
        </p:nvPicPr>
        <p:blipFill>
          <a:blip r:embed="rId1"/>
          <a:srcRect l="0" t="15214" r="0" b="1687"/>
          <a:stretch/>
        </p:blipFill>
        <p:spPr>
          <a:xfrm>
            <a:off x="177840" y="1093680"/>
            <a:ext cx="8655120" cy="526104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4" descr="logo"/>
          <p:cNvPicPr/>
          <p:nvPr/>
        </p:nvPicPr>
        <p:blipFill>
          <a:blip r:embed="rId2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-360" y="1128600"/>
            <a:ext cx="895356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UY" sz="2000" spc="-1" strike="noStrike">
                <a:solidFill>
                  <a:srgbClr val="003399"/>
                </a:solidFill>
                <a:latin typeface="Arial"/>
              </a:rPr>
              <a:t>Definición de Comprobante Fiscal Electrónico (C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UY" sz="1800" spc="-1" strike="noStrike">
                <a:solidFill>
                  <a:srgbClr val="003399"/>
                </a:solidFill>
                <a:latin typeface="Arial"/>
              </a:rPr>
              <a:t>Es un documento </a:t>
            </a:r>
            <a:r>
              <a:rPr b="1" lang="es-UY" sz="1800" spc="-1" strike="noStrike">
                <a:solidFill>
                  <a:srgbClr val="003399"/>
                </a:solidFill>
                <a:latin typeface="Arial"/>
              </a:rPr>
              <a:t>digital generado y firmado electrónicamente</a:t>
            </a:r>
            <a:r>
              <a:rPr b="0" lang="es-UY" sz="1800" spc="-1" strike="noStrike">
                <a:solidFill>
                  <a:srgbClr val="003399"/>
                </a:solidFill>
                <a:latin typeface="Arial"/>
              </a:rPr>
              <a:t> en un </a:t>
            </a:r>
            <a:r>
              <a:rPr b="0" lang="es-UY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UY" sz="1800" spc="-1" strike="noStrike">
                <a:solidFill>
                  <a:srgbClr val="003399"/>
                </a:solidFill>
                <a:latin typeface="Arial"/>
              </a:rPr>
              <a:t>formato preestablecido por la DGI, que tiene la misma validez legal y </a:t>
            </a:r>
            <a:r>
              <a:rPr b="0" lang="es-UY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UY" sz="1800" spc="-1" strike="noStrike">
                <a:solidFill>
                  <a:srgbClr val="003399"/>
                </a:solidFill>
                <a:latin typeface="Arial"/>
              </a:rPr>
              <a:t>tributaria de las facturas y otros documentos soportados en pap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5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21"/>
          <p:cNvSpPr/>
          <p:nvPr/>
        </p:nvSpPr>
        <p:spPr>
          <a:xfrm>
            <a:off x="2171880" y="404640"/>
            <a:ext cx="69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Proyecto Factura Electró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27"/>
          <p:cNvSpPr/>
          <p:nvPr/>
        </p:nvSpPr>
        <p:spPr>
          <a:xfrm>
            <a:off x="4591080" y="2695680"/>
            <a:ext cx="71280" cy="13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9" name="Picture 4" descr="logo"/>
          <p:cNvPicPr/>
          <p:nvPr/>
        </p:nvPicPr>
        <p:blipFill>
          <a:blip r:embed="rId1"/>
          <a:stretch/>
        </p:blipFill>
        <p:spPr>
          <a:xfrm>
            <a:off x="260280" y="260280"/>
            <a:ext cx="2030400" cy="687600"/>
          </a:xfrm>
          <a:prstGeom prst="rect">
            <a:avLst/>
          </a:prstGeom>
          <a:ln w="0">
            <a:noFill/>
          </a:ln>
        </p:spPr>
      </p:pic>
      <p:pic>
        <p:nvPicPr>
          <p:cNvPr id="1160" name="" descr=""/>
          <p:cNvPicPr/>
          <p:nvPr/>
        </p:nvPicPr>
        <p:blipFill>
          <a:blip r:embed="rId2"/>
          <a:stretch/>
        </p:blipFill>
        <p:spPr>
          <a:xfrm>
            <a:off x="463680" y="2192400"/>
            <a:ext cx="840888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Text Box 5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21"/>
          <p:cNvSpPr/>
          <p:nvPr/>
        </p:nvSpPr>
        <p:spPr>
          <a:xfrm>
            <a:off x="2171880" y="404640"/>
            <a:ext cx="697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003399"/>
                </a:solidFill>
                <a:latin typeface="Arial"/>
              </a:rPr>
              <a:t>Aplicación para dispositivos móviles</a:t>
            </a: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27"/>
          <p:cNvSpPr/>
          <p:nvPr/>
        </p:nvSpPr>
        <p:spPr>
          <a:xfrm>
            <a:off x="4591080" y="2695680"/>
            <a:ext cx="71280" cy="13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Picture 4" descr="logo"/>
          <p:cNvPicPr/>
          <p:nvPr/>
        </p:nvPicPr>
        <p:blipFill>
          <a:blip r:embed="rId1"/>
          <a:stretch/>
        </p:blipFill>
        <p:spPr>
          <a:xfrm>
            <a:off x="260280" y="260280"/>
            <a:ext cx="2030400" cy="6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5" name=""/>
          <p:cNvGraphicFramePr/>
          <p:nvPr/>
        </p:nvGraphicFramePr>
        <p:xfrm>
          <a:off x="223920" y="303120"/>
          <a:ext cx="1000080" cy="6421320"/>
        </p:xfrm>
        <a:graphic>
          <a:graphicData uri="http://schemas.openxmlformats.org/drawingml/2006/table">
            <a:tbl>
              <a:tblPr/>
              <a:tblGrid>
                <a:gridCol w="635040"/>
                <a:gridCol w="365040"/>
              </a:tblGrid>
              <a:tr h="64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6" name=""/>
          <p:cNvGraphicFramePr/>
          <p:nvPr/>
        </p:nvGraphicFramePr>
        <p:xfrm>
          <a:off x="233280" y="312840"/>
          <a:ext cx="1120680" cy="6462720"/>
        </p:xfrm>
        <a:graphic>
          <a:graphicData uri="http://schemas.openxmlformats.org/drawingml/2006/table">
            <a:tbl>
              <a:tblPr/>
              <a:tblGrid>
                <a:gridCol w="1120680"/>
              </a:tblGrid>
              <a:tr h="17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7" name=""/>
          <p:cNvGraphicFramePr/>
          <p:nvPr/>
        </p:nvGraphicFramePr>
        <p:xfrm>
          <a:off x="243000" y="322200"/>
          <a:ext cx="615960" cy="1763640"/>
        </p:xfrm>
        <a:graphic>
          <a:graphicData uri="http://schemas.openxmlformats.org/drawingml/2006/table">
            <a:tbl>
              <a:tblPr/>
              <a:tblGrid>
                <a:gridCol w="615960"/>
              </a:tblGrid>
              <a:tr h="200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5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8" name=""/>
          <p:cNvGraphicFramePr/>
          <p:nvPr/>
        </p:nvGraphicFramePr>
        <p:xfrm>
          <a:off x="1477800" y="1384200"/>
          <a:ext cx="7102800" cy="6159600"/>
        </p:xfrm>
        <a:graphic>
          <a:graphicData uri="http://schemas.openxmlformats.org/drawingml/2006/table">
            <a:tbl>
              <a:tblPr/>
              <a:tblGrid>
                <a:gridCol w="7102800"/>
              </a:tblGrid>
              <a:tr h="57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Entre los servicios que brinda se encuentran disponib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Consultas de notic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Sala de prensa de la DGI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Consulta del calendario de vencimientos, permitiendo agendar los    vencimientos que sean de interés del contribuy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Consultas de los CFE por medio de la lectura del código QR (para ello es requerida la instalación de una aplicación de lectura de este tipo de códig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Mapa con las dependencias en todo el país (Google Maps)  y sus datos de contacto (realizar llamada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24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ompatible con versiones Android 2.3 en adelante. 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br>
                        <a:rPr sz="1800"/>
                      </a:br>
                      <a:br>
                        <a:rPr sz="1800"/>
                      </a:br>
                      <a:br>
                        <a:rPr sz="1600"/>
                      </a:b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s-ES" sz="1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br>
                        <a:rPr sz="900"/>
                      </a:b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9" name="" descr=""/>
          <p:cNvPicPr/>
          <p:nvPr/>
        </p:nvPicPr>
        <p:blipFill>
          <a:blip r:embed="rId2"/>
          <a:stretch/>
        </p:blipFill>
        <p:spPr>
          <a:xfrm>
            <a:off x="249120" y="12016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3"/>
          <a:stretch/>
        </p:blipFill>
        <p:spPr>
          <a:xfrm>
            <a:off x="6016680" y="4327560"/>
            <a:ext cx="263196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Text Box 2"/>
          <p:cNvSpPr/>
          <p:nvPr/>
        </p:nvSpPr>
        <p:spPr>
          <a:xfrm>
            <a:off x="2063880" y="3038400"/>
            <a:ext cx="50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3399"/>
                </a:solidFill>
                <a:latin typeface="Arial Black"/>
              </a:rPr>
              <a:t>MUCHAS GRACIAS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2273400" y="165240"/>
            <a:ext cx="580392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ARQUIT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8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Organization Chart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96" name="Organization Chart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997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998" name="Text Box 1028"/>
          <p:cNvSpPr/>
          <p:nvPr/>
        </p:nvSpPr>
        <p:spPr>
          <a:xfrm>
            <a:off x="631800" y="1143000"/>
            <a:ext cx="8131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squema de recepción de Declaraciones Ju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1029" descr=""/>
          <p:cNvPicPr/>
          <p:nvPr/>
        </p:nvPicPr>
        <p:blipFill>
          <a:blip r:embed="rId2"/>
          <a:stretch/>
        </p:blipFill>
        <p:spPr>
          <a:xfrm>
            <a:off x="927000" y="1968480"/>
            <a:ext cx="7677360" cy="3973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2273040" y="165240"/>
            <a:ext cx="641340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ARQUIT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8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Organization Chart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04" name="Organization Chart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005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4"/>
          <p:cNvSpPr/>
          <p:nvPr/>
        </p:nvSpPr>
        <p:spPr>
          <a:xfrm>
            <a:off x="1066680" y="1828800"/>
            <a:ext cx="693432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l contribuyente po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80880" algn="ctr">
              <a:lnSpc>
                <a:spcPct val="150000"/>
              </a:lnSpc>
              <a:spcBef>
                <a:spcPts val="601"/>
              </a:spcBef>
              <a:buClr>
                <a:srgbClr val="0033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dministrar sus formul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80880" algn="ctr">
              <a:lnSpc>
                <a:spcPct val="150000"/>
              </a:lnSpc>
              <a:spcBef>
                <a:spcPts val="601"/>
              </a:spcBef>
              <a:buClr>
                <a:srgbClr val="0033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nectar con el servidor de DGI en forma seg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80880" algn="ctr">
              <a:lnSpc>
                <a:spcPct val="150000"/>
              </a:lnSpc>
              <a:spcBef>
                <a:spcPts val="601"/>
              </a:spcBef>
              <a:buClr>
                <a:srgbClr val="0033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Validar la consistencia de los formul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80880" algn="ctr">
              <a:lnSpc>
                <a:spcPct val="150000"/>
              </a:lnSpc>
              <a:spcBef>
                <a:spcPts val="601"/>
              </a:spcBef>
              <a:buClr>
                <a:srgbClr val="0033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ctualizar en línea los formularios.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12 Rectángulo"/>
          <p:cNvSpPr/>
          <p:nvPr/>
        </p:nvSpPr>
        <p:spPr>
          <a:xfrm>
            <a:off x="1092240" y="1206360"/>
            <a:ext cx="70232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gramas de Ayuda -  Modalidad OFF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2273400" y="165240"/>
            <a:ext cx="580392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ARQUIT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Organization Chart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12" name="Organization Chart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013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014" name="Text Box 1028"/>
          <p:cNvSpPr/>
          <p:nvPr/>
        </p:nvSpPr>
        <p:spPr>
          <a:xfrm>
            <a:off x="631800" y="1143000"/>
            <a:ext cx="825804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</a:rPr>
              <a:t>Esquema de trabajo para la modalidad OFF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Group 35"/>
          <p:cNvGrpSpPr/>
          <p:nvPr/>
        </p:nvGrpSpPr>
        <p:grpSpPr>
          <a:xfrm>
            <a:off x="622440" y="1828800"/>
            <a:ext cx="8318160" cy="4800600"/>
            <a:chOff x="622440" y="1828800"/>
            <a:chExt cx="8318160" cy="4800600"/>
          </a:xfrm>
        </p:grpSpPr>
        <p:sp>
          <p:nvSpPr>
            <p:cNvPr id="1016" name="Rectangle 27"/>
            <p:cNvSpPr/>
            <p:nvPr/>
          </p:nvSpPr>
          <p:spPr>
            <a:xfrm>
              <a:off x="622440" y="1828800"/>
              <a:ext cx="8318160" cy="4800600"/>
            </a:xfrm>
            <a:prstGeom prst="rect">
              <a:avLst/>
            </a:prstGeom>
            <a:gradFill rotWithShape="0">
              <a:gsLst>
                <a:gs pos="0">
                  <a:srgbClr val="ffffd9"/>
                </a:gs>
                <a:gs pos="100000">
                  <a:srgbClr val="e1e1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AutoShape 11"/>
            <p:cNvSpPr/>
            <p:nvPr/>
          </p:nvSpPr>
          <p:spPr>
            <a:xfrm>
              <a:off x="894240" y="3505680"/>
              <a:ext cx="1818360" cy="564480"/>
            </a:xfrm>
            <a:prstGeom prst="roundRect">
              <a:avLst>
                <a:gd name="adj" fmla="val 0"/>
              </a:avLst>
            </a:prstGeom>
            <a:solidFill>
              <a:srgbClr val="ffff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enera nuevo formulario con ZENFORM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8" name="Group 12"/>
            <p:cNvGrpSpPr/>
            <p:nvPr/>
          </p:nvGrpSpPr>
          <p:grpSpPr>
            <a:xfrm>
              <a:off x="3417480" y="2018520"/>
              <a:ext cx="2031840" cy="1239480"/>
              <a:chOff x="3417480" y="2018520"/>
              <a:chExt cx="2031840" cy="1239480"/>
            </a:xfrm>
          </p:grpSpPr>
          <p:sp>
            <p:nvSpPr>
              <p:cNvPr id="1019" name="AutoShape 13"/>
              <p:cNvSpPr/>
              <p:nvPr/>
            </p:nvSpPr>
            <p:spPr>
              <a:xfrm>
                <a:off x="3631680" y="2834640"/>
                <a:ext cx="1496880" cy="423360"/>
              </a:xfrm>
              <a:prstGeom prst="roundRect">
                <a:avLst>
                  <a:gd name="adj" fmla="val 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ITIO DG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0" name="Picture 14" descr="BS01108_"/>
              <p:cNvPicPr/>
              <p:nvPr/>
            </p:nvPicPr>
            <p:blipFill>
              <a:blip r:embed="rId2"/>
              <a:stretch/>
            </p:blipFill>
            <p:spPr>
              <a:xfrm>
                <a:off x="3417480" y="2018520"/>
                <a:ext cx="2031840" cy="886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1" name="Group 15"/>
            <p:cNvGrpSpPr/>
            <p:nvPr/>
          </p:nvGrpSpPr>
          <p:grpSpPr>
            <a:xfrm>
              <a:off x="6386040" y="1881720"/>
              <a:ext cx="2353320" cy="1376280"/>
              <a:chOff x="6386040" y="1881720"/>
              <a:chExt cx="2353320" cy="1376280"/>
            </a:xfrm>
          </p:grpSpPr>
          <p:sp>
            <p:nvSpPr>
              <p:cNvPr id="1022" name="AutoShape 16"/>
              <p:cNvSpPr/>
              <p:nvPr/>
            </p:nvSpPr>
            <p:spPr>
              <a:xfrm>
                <a:off x="6386040" y="2834640"/>
                <a:ext cx="2353320" cy="423360"/>
              </a:xfrm>
              <a:prstGeom prst="roundRect">
                <a:avLst>
                  <a:gd name="adj" fmla="val 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NTRIBUYEN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3" name="Picture 17" descr="BD07157_"/>
              <p:cNvPicPr/>
              <p:nvPr/>
            </p:nvPicPr>
            <p:blipFill>
              <a:blip r:embed="rId3"/>
              <a:stretch/>
            </p:blipFill>
            <p:spPr>
              <a:xfrm>
                <a:off x="6600240" y="1881720"/>
                <a:ext cx="1822680" cy="1023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4" name="Group 18"/>
            <p:cNvGrpSpPr/>
            <p:nvPr/>
          </p:nvGrpSpPr>
          <p:grpSpPr>
            <a:xfrm>
              <a:off x="849600" y="1987560"/>
              <a:ext cx="1905120" cy="1270080"/>
              <a:chOff x="849600" y="1987560"/>
              <a:chExt cx="1905120" cy="1270080"/>
            </a:xfrm>
          </p:grpSpPr>
          <p:sp>
            <p:nvSpPr>
              <p:cNvPr id="1025" name="AutoShape 19"/>
              <p:cNvSpPr/>
              <p:nvPr/>
            </p:nvSpPr>
            <p:spPr>
              <a:xfrm>
                <a:off x="871560" y="2834280"/>
                <a:ext cx="1858320" cy="423360"/>
              </a:xfrm>
              <a:prstGeom prst="roundRect">
                <a:avLst>
                  <a:gd name="adj" fmla="val 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ISTEMAS DG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6" name="Picture 20" descr="BD07131_"/>
              <p:cNvPicPr/>
              <p:nvPr/>
            </p:nvPicPr>
            <p:blipFill>
              <a:blip r:embed="rId4"/>
              <a:stretch/>
            </p:blipFill>
            <p:spPr>
              <a:xfrm>
                <a:off x="849600" y="1987560"/>
                <a:ext cx="1905120" cy="836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7" name="AutoShape 21"/>
            <p:cNvSpPr/>
            <p:nvPr/>
          </p:nvSpPr>
          <p:spPr>
            <a:xfrm>
              <a:off x="3256560" y="4070160"/>
              <a:ext cx="2353680" cy="847080"/>
            </a:xfrm>
            <a:prstGeom prst="roundRect">
              <a:avLst>
                <a:gd name="adj" fmla="val 0"/>
              </a:avLst>
            </a:prstGeom>
            <a:solidFill>
              <a:srgbClr val="ffff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ene disponibles todos los formularios generados prontos para ser descargados por el contribuyen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22"/>
            <p:cNvSpPr/>
            <p:nvPr/>
          </p:nvSpPr>
          <p:spPr>
            <a:xfrm>
              <a:off x="3310200" y="5552640"/>
              <a:ext cx="2246760" cy="847080"/>
            </a:xfrm>
            <a:prstGeom prst="roundRect">
              <a:avLst>
                <a:gd name="adj" fmla="val 0"/>
              </a:avLst>
            </a:prstGeom>
            <a:solidFill>
              <a:srgbClr val="ffff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S o procedimiento BATCH valida formulario y devuelve al usuario informe de proce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AutoShape 23"/>
            <p:cNvSpPr/>
            <p:nvPr/>
          </p:nvSpPr>
          <p:spPr>
            <a:xfrm>
              <a:off x="6439680" y="4176000"/>
              <a:ext cx="2246760" cy="635040"/>
            </a:xfrm>
            <a:prstGeom prst="roundRect">
              <a:avLst>
                <a:gd name="adj" fmla="val 0"/>
              </a:avLst>
            </a:prstGeom>
            <a:solidFill>
              <a:srgbClr val="ffff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Descarga formulario del web y lo graba en su disc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AutoShape 24"/>
            <p:cNvSpPr/>
            <p:nvPr/>
          </p:nvSpPr>
          <p:spPr>
            <a:xfrm>
              <a:off x="6439680" y="5128920"/>
              <a:ext cx="2246760" cy="635040"/>
            </a:xfrm>
            <a:prstGeom prst="roundRect">
              <a:avLst>
                <a:gd name="adj" fmla="val 0"/>
              </a:avLst>
            </a:prstGeom>
            <a:solidFill>
              <a:srgbClr val="ffff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lena una copia de su declar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AutoShape 25"/>
            <p:cNvSpPr/>
            <p:nvPr/>
          </p:nvSpPr>
          <p:spPr>
            <a:xfrm>
              <a:off x="5878080" y="5949720"/>
              <a:ext cx="2246760" cy="56484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Envía por email / ftp o se conecta con WS vía http / so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AutoShape 26"/>
            <p:cNvSpPr/>
            <p:nvPr/>
          </p:nvSpPr>
          <p:spPr>
            <a:xfrm>
              <a:off x="2989440" y="3593520"/>
              <a:ext cx="1069920" cy="2116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úbl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28"/>
            <p:cNvSpPr/>
            <p:nvPr/>
          </p:nvSpPr>
          <p:spPr>
            <a:xfrm>
              <a:off x="622440" y="3364200"/>
              <a:ext cx="831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Line 29"/>
            <p:cNvSpPr/>
            <p:nvPr/>
          </p:nvSpPr>
          <p:spPr>
            <a:xfrm>
              <a:off x="5931720" y="1828800"/>
              <a:ext cx="1800" cy="48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30"/>
            <p:cNvSpPr/>
            <p:nvPr/>
          </p:nvSpPr>
          <p:spPr>
            <a:xfrm>
              <a:off x="2962440" y="1828800"/>
              <a:ext cx="1800" cy="48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6" name="AutoShape 31"/>
            <p:cNvCxnSpPr>
              <a:stCxn id="1017" idx="3"/>
              <a:endCxn id="1027" idx="0"/>
            </p:cNvCxnSpPr>
            <p:nvPr/>
          </p:nvCxnSpPr>
          <p:spPr>
            <a:xfrm>
              <a:off x="2712600" y="3787560"/>
              <a:ext cx="1721160" cy="282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7" name="AutoShape 32"/>
            <p:cNvCxnSpPr>
              <a:stCxn id="1027" idx="3"/>
              <a:endCxn id="1029" idx="1"/>
            </p:cNvCxnSpPr>
            <p:nvPr/>
          </p:nvCxnSpPr>
          <p:spPr>
            <a:xfrm>
              <a:off x="5610600" y="4493520"/>
              <a:ext cx="82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38" name="AutoShape 33"/>
            <p:cNvCxnSpPr>
              <a:stCxn id="1029" idx="2"/>
              <a:endCxn id="1030" idx="0"/>
            </p:cNvCxnSpPr>
            <p:nvPr/>
          </p:nvCxnSpPr>
          <p:spPr>
            <a:xfrm flipH="1">
              <a:off x="7562520" y="4811400"/>
              <a:ext cx="108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9" name="AutoShape 34"/>
            <p:cNvCxnSpPr>
              <a:stCxn id="1030" idx="2"/>
              <a:endCxn id="1028" idx="3"/>
            </p:cNvCxnSpPr>
            <p:nvPr/>
          </p:nvCxnSpPr>
          <p:spPr>
            <a:xfrm rot="5400000">
              <a:off x="6453360" y="4867200"/>
              <a:ext cx="212400" cy="2006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40" name="Rectangle 8"/>
          <p:cNvSpPr/>
          <p:nvPr/>
        </p:nvSpPr>
        <p:spPr>
          <a:xfrm>
            <a:off x="893880" y="457200"/>
            <a:ext cx="655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273400" y="165240"/>
            <a:ext cx="580392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ARQUIT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8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Organization Chart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45" name="Organization Chart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046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047" name="Rectangle 3"/>
          <p:cNvSpPr/>
          <p:nvPr/>
        </p:nvSpPr>
        <p:spPr>
          <a:xfrm>
            <a:off x="419040" y="1181160"/>
            <a:ext cx="81154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squema de integración utilizado para el PAGO por inter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Picture 6" descr=""/>
          <p:cNvPicPr/>
          <p:nvPr/>
        </p:nvPicPr>
        <p:blipFill>
          <a:blip r:embed="rId2"/>
          <a:srcRect l="6782" t="18976" r="8600" b="4026"/>
          <a:stretch/>
        </p:blipFill>
        <p:spPr>
          <a:xfrm>
            <a:off x="380880" y="2246400"/>
            <a:ext cx="7988400" cy="38480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Text Box 7"/>
          <p:cNvSpPr/>
          <p:nvPr/>
        </p:nvSpPr>
        <p:spPr>
          <a:xfrm>
            <a:off x="140328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3"/>
          <p:cNvSpPr/>
          <p:nvPr/>
        </p:nvSpPr>
        <p:spPr>
          <a:xfrm>
            <a:off x="2070000" y="347760"/>
            <a:ext cx="7074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Los sistemas y sus diferentes enfo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4"/>
          <p:cNvSpPr/>
          <p:nvPr/>
        </p:nvSpPr>
        <p:spPr>
          <a:xfrm>
            <a:off x="311040" y="1371600"/>
            <a:ext cx="756288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Los sistemas y sus responsables t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c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Los sistemas y la Organizaci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ó</a:t>
            </a: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n (visi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ó</a:t>
            </a: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n de proces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Los sistemas y los usuarios fi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Los sistemas y su tecnolog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í</a:t>
            </a: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2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1382760" y="5362560"/>
            <a:ext cx="64008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UY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4" name="Text Box 7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9"/>
          <p:cNvSpPr/>
          <p:nvPr/>
        </p:nvSpPr>
        <p:spPr>
          <a:xfrm>
            <a:off x="324000" y="5099040"/>
            <a:ext cx="8569080" cy="93492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SSINESS INTE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10"/>
          <p:cNvSpPr/>
          <p:nvPr/>
        </p:nvSpPr>
        <p:spPr>
          <a:xfrm>
            <a:off x="317520" y="1190520"/>
            <a:ext cx="2178000" cy="3611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196666"/>
                </a:solidFill>
                <a:latin typeface="Arial"/>
              </a:rPr>
              <a:t>Aplicaciones para la Gestión de Declaraciones Jur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d9"/>
                </a:solidFill>
                <a:latin typeface="Arial"/>
              </a:rPr>
              <a:t>-</a:t>
            </a:r>
            <a:r>
              <a:rPr b="1" lang="es-ES" sz="1400" spc="-1" strike="noStrike">
                <a:solidFill>
                  <a:srgbClr val="196666"/>
                </a:solidFill>
                <a:latin typeface="Arial"/>
              </a:rPr>
              <a:t>Programas de ayu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96666"/>
                </a:solidFill>
                <a:latin typeface="Arial"/>
              </a:rPr>
              <a:t>-Receptores de D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96666"/>
                </a:solidFill>
                <a:latin typeface="Arial"/>
              </a:rPr>
              <a:t>-Recepción de Cobranz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96666"/>
                </a:solidFill>
                <a:latin typeface="Arial"/>
              </a:rPr>
              <a:t>-RT ( Cajas, receptor DJ y pag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96666"/>
                </a:solidFill>
                <a:latin typeface="Arial"/>
              </a:rPr>
              <a:t>-Certificado ú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96666"/>
                </a:solidFill>
                <a:latin typeface="Arial"/>
              </a:rPr>
              <a:t>-Constancias Espe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11"/>
          <p:cNvSpPr/>
          <p:nvPr/>
        </p:nvSpPr>
        <p:spPr>
          <a:xfrm>
            <a:off x="2714760" y="1155600"/>
            <a:ext cx="2136600" cy="359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2060"/>
                </a:solidFill>
                <a:latin typeface="Arial"/>
              </a:rPr>
              <a:t>Aplicaciones para la Gestión de Recaudación y Otras Gest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2060"/>
                </a:solidFill>
                <a:latin typeface="Arial"/>
              </a:rPr>
              <a:t>-Boletos de P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</a:rPr>
              <a:t>-Receptores de Pa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</a:rPr>
              <a:t>-Conven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</a:rPr>
              <a:t>-Certificados de Créd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</a:rPr>
              <a:t>-Devol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</a:rPr>
              <a:t>-Control de Anticip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</a:rPr>
              <a:t>-Debitos Créd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</a:rPr>
              <a:t>-Gestión IR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12"/>
          <p:cNvSpPr/>
          <p:nvPr/>
        </p:nvSpPr>
        <p:spPr>
          <a:xfrm>
            <a:off x="4933800" y="1144440"/>
            <a:ext cx="2000520" cy="3603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00"/>
                </a:solidFill>
                <a:latin typeface="Arial"/>
              </a:rPr>
              <a:t>Aplicaciones del Registro Único Tributa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R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-Constancias de Impr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-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-Ci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-Observaciones de Empre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13"/>
          <p:cNvSpPr/>
          <p:nvPr/>
        </p:nvSpPr>
        <p:spPr>
          <a:xfrm>
            <a:off x="7018200" y="1146240"/>
            <a:ext cx="1960560" cy="358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7e7e00"/>
                </a:solidFill>
                <a:latin typeface="Arial"/>
              </a:rPr>
              <a:t>Aplicaciones Tercerizadas y Fiscal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Exped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Payr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Comp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K2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Por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Fisc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Denu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Ag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17"/>
          <p:cNvSpPr/>
          <p:nvPr/>
        </p:nvSpPr>
        <p:spPr>
          <a:xfrm>
            <a:off x="2006640" y="404640"/>
            <a:ext cx="71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responsables téc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1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7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7"/>
          <p:cNvSpPr/>
          <p:nvPr/>
        </p:nvSpPr>
        <p:spPr>
          <a:xfrm>
            <a:off x="1854360" y="404640"/>
            <a:ext cx="630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la organiz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12" descr=""/>
          <p:cNvPicPr/>
          <p:nvPr/>
        </p:nvPicPr>
        <p:blipFill>
          <a:blip r:embed="rId1"/>
          <a:stretch/>
        </p:blipFill>
        <p:spPr>
          <a:xfrm>
            <a:off x="0" y="1219320"/>
            <a:ext cx="9053640" cy="3744720"/>
          </a:xfrm>
          <a:prstGeom prst="rect">
            <a:avLst/>
          </a:prstGeom>
          <a:ln w="0">
            <a:noFill/>
          </a:ln>
        </p:spPr>
      </p:pic>
      <p:sp>
        <p:nvSpPr>
          <p:cNvPr id="1065" name="Text Box 13"/>
          <p:cNvSpPr/>
          <p:nvPr/>
        </p:nvSpPr>
        <p:spPr>
          <a:xfrm>
            <a:off x="2065320" y="3708360"/>
            <a:ext cx="1162080" cy="186264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INFORMACIÓN Y ASIST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Programas de Ayud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Página We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Portal Preguntas Frecuen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4"/>
          <p:cNvSpPr/>
          <p:nvPr/>
        </p:nvSpPr>
        <p:spPr>
          <a:xfrm>
            <a:off x="3208320" y="3708360"/>
            <a:ext cx="1162080" cy="17701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GESTIÓN DE OBLIGADOS TRIBUTAR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Recepción de Declar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R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Devolu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5"/>
          <p:cNvSpPr/>
          <p:nvPr/>
        </p:nvSpPr>
        <p:spPr>
          <a:xfrm>
            <a:off x="4375080" y="3708360"/>
            <a:ext cx="1158840" cy="17398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GEST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DE LA RECAUD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Sistemas de Recaud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Receptor de Pa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Conven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Jure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6"/>
          <p:cNvSpPr/>
          <p:nvPr/>
        </p:nvSpPr>
        <p:spPr>
          <a:xfrm>
            <a:off x="5535720" y="3708360"/>
            <a:ext cx="1149120" cy="17398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CONTROLES EXTENSIV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Gestión de Anticipos, IRPF, Débito Crédi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Cit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Soluciones de B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17"/>
          <p:cNvSpPr/>
          <p:nvPr/>
        </p:nvSpPr>
        <p:spPr>
          <a:xfrm>
            <a:off x="6681960" y="3708360"/>
            <a:ext cx="1199880" cy="16783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CONTROLES INTENS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Sistemas de Fiscalización (Profis, Fiscali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Denunci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Herramientas de B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8"/>
          <p:cNvSpPr/>
          <p:nvPr/>
        </p:nvSpPr>
        <p:spPr>
          <a:xfrm>
            <a:off x="7864560" y="3708360"/>
            <a:ext cx="1279440" cy="1464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GEST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JURÍD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Jur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Picture 4" descr="logo"/>
          <p:cNvPicPr/>
          <p:nvPr/>
        </p:nvPicPr>
        <p:blipFill>
          <a:blip r:embed="rId2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15:05:11Z</dcterms:created>
  <dc:creator>usuario</dc:creator>
  <dc:description/>
  <dc:language>en-US</dc:language>
  <cp:lastModifiedBy> </cp:lastModifiedBy>
  <cp:lastPrinted>2011-12-11T12:57:22Z</cp:lastPrinted>
  <dcterms:modified xsi:type="dcterms:W3CDTF">2013-10-29T09:59:28Z</dcterms:modified>
  <cp:revision>389</cp:revision>
  <dc:subject/>
  <dc:title>Diapositiva 1</dc:title>
</cp:coreProperties>
</file>