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wmf" ContentType="image/x-wmf"/>
  <Override PartName="/ppt/media/image26.png" ContentType="image/png"/>
  <Override PartName="/ppt/media/image2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4.png" ContentType="image/png"/>
  <Override PartName="/ppt/media/image4.png" ContentType="image/png"/>
  <Override PartName="/ppt/media/image3.wmf" ContentType="image/x-wmf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61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body"/>
          </p:nvPr>
        </p:nvSpPr>
        <p:spPr>
          <a:xfrm>
            <a:off x="679320" y="471024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ftr" idx="62"/>
          </p:nvPr>
        </p:nvSpPr>
        <p:spPr>
          <a:xfrm>
            <a:off x="-360" y="942012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 type="sldNum" idx="63"/>
          </p:nvPr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A9A1EF2-388E-45A9-AE48-115A523212A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8F90FC-2B59-46A7-9EDF-B234DBFC70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3E9790-4EB3-4F83-AC40-BA9F379F24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1909B3-0C90-4FF1-9E64-419747775E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21AC41-1ABD-4756-825D-6FBE37F3B5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27C164-349C-42EA-907D-AC2185EF3B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7E085F-3173-4F14-83BF-2B96A90766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062B0E-3008-4F5B-BF80-1611789C35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B48B54-86F2-456A-9CCC-18D5DE0661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08EDA1-1E69-4C2F-A67B-54AC8CC9CB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4410BE-1783-45E7-B075-3717EC667D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EF4528-EC18-4684-A298-8472E88C29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B1FCCE-779F-4010-8EE5-5F69B2A1D8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69840" y="19512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A61CDE-9AB8-44C7-9F06-2BE71CB646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969840" y="19512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16A231-4B76-476B-BDA4-1FF3EF4333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C31E82-8820-4CFC-A423-8A3B6200B9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38DBCA-96F0-45A1-B281-70EFE8A499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3D84D3-4FC2-43ED-B108-216E3E9B9F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AE7B8A-8CD3-4766-B182-2BC3908BEA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44800" y="94201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0278A5B-BE46-452F-B5C1-C93F3CCC8D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79320" y="471024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035B96-DDFF-408D-BFB0-94A29C8B31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44800" y="941868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5F434-4537-4A1C-8C38-B6C928D0AB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7386F-F258-4D5C-A9B8-E07EF009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75223-BAAF-4DBC-B5EF-8BC61FD7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56438-EB54-40A9-9C72-56A6E3E1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83131-3E6A-4F4B-B08E-4EB248C9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60182-B5A5-4B8D-A68C-86591558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54B6A-68CA-476C-B777-36152ED7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172DB-D484-4368-97C6-A18261E9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447EE-C476-49B8-9E76-54B6BDA6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4E6C5-7D0A-4B84-9C28-93469EEB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A4A07-B789-4661-9B77-F64F875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308F3-5220-4F5A-B0ED-AA75A646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282AD-7B76-43C9-9A37-9B6912D4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1D742-BEB7-4216-B3C0-26B93E2B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4C8F6-B21F-4A47-82E6-D644DEBD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BD0B6-63E2-48E7-8B75-D05F9A6C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8E112-717D-4832-9E05-EA431134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1A7F9-6AA9-4972-854A-7413C2DF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F85CF-F655-4069-BB5B-EE8A17AA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4CD67-9D72-497E-98BB-54CAA39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BEFD5-281A-42C7-A7C7-97B322DC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A4320-1E13-4D79-B832-2CED8ACF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F6428-F3F3-4976-8C7F-E522A96B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5C7C0-02A1-42CA-82B9-41B15323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F76C7-E120-42F2-8E4E-D4C48D9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32DF2-3D75-4260-A2E5-C16B479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CF745-0E38-4163-A1E3-F1901061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A1C86-30CE-4B08-B69C-56FA70B8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B084B-42E7-4C98-A11C-0F7AF5F3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9303A-2A4E-413E-99A3-DBE9DA97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DC746-869F-4C08-9620-EBA44D2F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790DD-E167-4CEB-8F0E-0125CA47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8C903-C555-426A-836E-F4E2C7FC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D1008-31AA-410F-995E-D5B61163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64400-F8B0-4443-BCF2-6E6DC1F1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78212-72FE-4EA4-92CC-250C2E36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916F3-6507-42F6-A063-8DBC8CE4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ED237-F387-4565-8BBB-7AAA067D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219ED-763B-4B82-A3F8-E6C09711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3684F-FD3D-48CF-8424-851E2E0E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D9D13-AD77-4DA6-A662-A49E11D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1F5EC-CB30-47BA-8572-1E09AAB1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170F5-7E63-4096-BE86-B3357A66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ED105-BD78-4515-8D14-CB8F5B6C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15D59-0C93-4F87-81CD-77296EEA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5C08D-1E80-4295-9D2D-E06C6567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797AA-51E5-48B4-9B5B-97A9A16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03290-CD49-4841-897C-2ECD05A1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96946-6900-458B-B8B7-AB99402C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E4CF7-509B-43DD-A983-18F5C935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36E4B-2C12-4CDA-B6C7-D00F56D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E0E00-B769-44C6-9E03-1B5276F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CCE5F-8990-4291-B93B-D06CBEA3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3CB50-F08B-4991-A692-10671FF5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2C5BB-1CC2-4EA7-8833-EC46B6C8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A8920-C231-4BF5-A5CC-9BEC2E5D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61FB7-7F16-4550-AF77-F837031E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9AAA4-403A-4952-9879-64E8F251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22CC3-789A-41CF-A72F-C0D05DC5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2CBE4-2A72-4AF9-97D7-99054DBB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D8A85-C27F-4CF5-BA30-7F444A73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65A6A-B53A-4404-9325-587CD94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8CF6A-C3A2-4FA1-8906-681487DC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FA14B-2799-4F30-9069-236317BA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BA174-4803-4C18-BECC-077D66E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5C69B-C4FD-4A16-9466-546B1AE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3F1CA-9811-4BDC-8119-6FCBB7E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30404-4989-465A-BE38-7F3D9238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713FF-0A9A-437D-8B13-54E03560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5E293-246E-4DEB-91ED-DCE28A42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A440E-6702-43D9-A61E-FA683F73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6D395-4DF4-4D37-A622-D12E1CA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0E656-F920-494A-B6C3-D40809C7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A23BB-7DAF-4392-8499-8C7FEC97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802D8-AD2D-475C-A7FF-A2ABB30F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14B9E-5259-4CD9-A59B-463D0C8B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68157-4435-4013-AB3E-CD8D45F4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E2ACD-F14F-42DA-8B3E-2EC51842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9C008-DFB7-4904-B9F9-DB831F6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32946-AA20-4C74-8B54-5236779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DD2E6-C3DB-4E5A-9699-DF264CFD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783EC-924B-4CD3-A7B9-34C09458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E3941-CD76-4379-8929-17DADBA9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6AF3F-379A-4ACA-B112-DB970466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D4940-0557-4E49-BBF2-84A0F16E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E940F-130E-4486-A384-7FB6BC62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D194D-D4B4-4A14-909A-07AB6172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7F623-872C-4D43-83FC-625FD6A5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1A512-4EA2-4CC5-948E-34F5620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B06D2-F98C-4AAE-B418-7F1BAAC1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C735E-5ACF-43C4-94FE-B7157D4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60CF9-AA51-4642-BE60-A20A71D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BDD06-8DD1-4ADF-980D-8C33467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7DDD9-5C8C-4D2B-AF31-F601481D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EA1E1-00DB-4133-A32D-87138E11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A93EF-651F-441E-8D20-B81CD322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EADB0-9AC3-4193-870B-44ECC783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82B8F-F3B6-4CBB-966F-044FD8FB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E750E-9764-439B-A643-5A306277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B9227-612D-478D-9B2F-7BD5EBD9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D1C71-C889-44A6-94F9-6EB245DB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79335-0842-47F7-A1B1-17E91CB2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B24C45-24F0-4360-964D-2A9A594D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CAECE-757A-4120-AD17-4CF9C7F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4AB38-2A92-4DAF-B8F7-320DF775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33A1C-FBEF-4520-8016-CA1A571D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A0E82-A743-45E9-ABB3-AAFBA00A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BFE7D-F503-4EE8-A797-BD1600A1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55F488-D6B3-447B-B76E-DBEEBA9F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DFF00-5809-46D4-BA42-E77F6A98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9712E-3736-4124-86C2-4D598200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12FE7-046F-4B97-8C29-648B6998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D39DB-1A1A-4666-8D0B-28FFBB03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8F83C-94AB-4626-A42E-7DC742A7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3C9AF-438A-487B-AFA1-F1D8BEE3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72691-7DD9-402A-9C01-53F4EC59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E1E41-7287-479E-BD24-D50FEA20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11E31-D764-444E-BA19-119D9D5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42874-64BF-4341-8CC2-F949E33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71D0C-C478-496E-9D18-A793D12D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3E3277-398E-437B-923A-C6293C71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C247E-FA9A-4EF1-82DA-C55847D8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4FA95-40D7-4BF4-81E0-5E4785CC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BF448-FEBD-4169-B832-BFA769E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E3A5F-2630-4AF6-8893-47D136D9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334C2-0076-4D2E-B318-CDB73996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D3EC9-8A2D-4278-A190-E3993EC7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C5B364-29EC-4771-BF56-E2A6A765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A7410-76C4-4036-845D-CD8F01C2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CCFBC3-CA93-41B9-ABEB-F88EB605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B5338-F35F-415A-89E7-AADFE5AB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D5604-8E35-490E-B7BD-3F0FD6AA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A1D1E7-5339-473A-93E1-28CE6368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4B21DF-B74D-42AC-B19D-DC31A29E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125FB4-3D70-4B3E-94E4-84EF4F12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63A45-7061-45F3-ABE3-8031C2FF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11E0F-4E08-4A49-8CE0-7B9407D9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FB48A-D82F-41DD-BAA4-2E4ACD2E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296DC-18AD-4EA9-A1E7-F86FCBDD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C44EBE-D60A-4072-BEE5-BA1CB78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32CA9-D5F5-4A45-BF59-CE10CE7A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D6BC4E-B2E9-4027-907D-32A14834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769D9-F83A-459D-A7B4-00338868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8C808-F298-4301-83DE-F67320BE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3DAE60-5D52-473A-AAD1-83FAEAE1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DGI%20logo%20chico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893000" y="6089760"/>
            <a:ext cx="78264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6"/>
          <p:cNvSpPr/>
          <p:nvPr/>
        </p:nvSpPr>
        <p:spPr>
          <a:xfrm>
            <a:off x="0" y="0"/>
            <a:ext cx="9144000" cy="1392120"/>
          </a:xfrm>
          <a:prstGeom prst="rect">
            <a:avLst/>
          </a:prstGeom>
          <a:solidFill>
            <a:srgbClr val="000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1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5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7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A1D7-3EB4-4EAB-AD01-0DB9075799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B5DB-0718-4B81-A836-20ACB0BC24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0F90-3503-4E92-AFE7-63B06D9DFAB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D7CC-E5CC-4B8C-8C53-6DE2835D59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4954-3E07-4AD2-901B-8F37CEA3E4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B205-78A6-4404-88FE-D7BBC801A41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41A5-65B8-4028-899B-7153EADBF7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EF15-8D53-4F99-9E42-2A4523070A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62F3-AD88-4D91-85CD-6964763B547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4E9E-56E5-4D0C-908B-1710291BED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B41E-5131-4088-9956-33781D0C5F8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A21F-45FE-4CEA-9552-ED4F844C318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3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5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9"/>
          </p:nvPr>
        </p:nvSpPr>
        <p:spPr>
          <a:xfrm>
            <a:off x="6248160" y="6165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7" descr="logo"/>
          <p:cNvPicPr/>
          <p:nvPr/>
        </p:nvPicPr>
        <p:blipFill>
          <a:blip r:embed="rId1"/>
          <a:stretch/>
        </p:blipFill>
        <p:spPr>
          <a:xfrm>
            <a:off x="1333440" y="3619440"/>
            <a:ext cx="5829480" cy="182736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5"/>
          <p:cNvSpPr/>
          <p:nvPr/>
        </p:nvSpPr>
        <p:spPr>
          <a:xfrm>
            <a:off x="1252440" y="6021360"/>
            <a:ext cx="7495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ENCUENTRO SUR-SUR GUATEMALA-ANTIGU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Agosto 201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URUGUAY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2"/>
          <p:cNvSpPr/>
          <p:nvPr/>
        </p:nvSpPr>
        <p:spPr>
          <a:xfrm>
            <a:off x="324000" y="0"/>
            <a:ext cx="7678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000" spc="-1" strike="noStrike">
                <a:solidFill>
                  <a:srgbClr val="003399"/>
                </a:solidFill>
                <a:latin typeface="Arial"/>
              </a:rPr>
              <a:t>ARQUITECTURA  Y SISTEMAS PARA  LA GESTIÓN DE LA INFORMACIÓN REGISTRAL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"/>
          <p:cNvSpPr/>
          <p:nvPr/>
        </p:nvSpPr>
        <p:spPr>
          <a:xfrm>
            <a:off x="0" y="2281320"/>
            <a:ext cx="1397160" cy="321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196666"/>
                </a:solidFill>
                <a:latin typeface="Arial"/>
                <a:ea typeface="Arial"/>
              </a:rPr>
              <a:t>Aplicaciones   para USUARIOS INTERNOS al Organ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1"/>
          <p:cNvSpPr/>
          <p:nvPr/>
        </p:nvSpPr>
        <p:spPr>
          <a:xfrm>
            <a:off x="1473120" y="2287440"/>
            <a:ext cx="1917720" cy="3245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2060"/>
                </a:solidFill>
                <a:latin typeface="Arial"/>
              </a:rPr>
              <a:t>Aplicaciones para CONTRIBUY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2"/>
          <p:cNvSpPr/>
          <p:nvPr/>
        </p:nvSpPr>
        <p:spPr>
          <a:xfrm>
            <a:off x="3340080" y="2284560"/>
            <a:ext cx="1905120" cy="32162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plicaciones para ENTIDADES COLABORADORA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RGANISMOS EX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5334120" y="2274840"/>
            <a:ext cx="1130040" cy="321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WEB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 </a:t>
            </a:r>
            <a:r>
              <a:rPr b="1" lang="es-UY" sz="1400" spc="-1" strike="noStrike">
                <a:solidFill>
                  <a:srgbClr val="7e7e00"/>
                </a:solidFill>
                <a:latin typeface="Arial"/>
              </a:rPr>
              <a:t>Consumo Ex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6566040" y="2265480"/>
            <a:ext cx="990360" cy="3225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d9"/>
                </a:solidFill>
                <a:latin typeface="Arial"/>
              </a:rPr>
              <a:t>Procesos 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7"/>
          <p:cNvSpPr/>
          <p:nvPr/>
        </p:nvSpPr>
        <p:spPr>
          <a:xfrm>
            <a:off x="2133720" y="495360"/>
            <a:ext cx="64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los Usuario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2"/>
          <p:cNvSpPr/>
          <p:nvPr/>
        </p:nvSpPr>
        <p:spPr>
          <a:xfrm>
            <a:off x="7645320" y="2286000"/>
            <a:ext cx="1282680" cy="32259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269999"/>
                </a:solidFill>
                <a:latin typeface="Arial"/>
              </a:rPr>
              <a:t>Aplicaciones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269999"/>
                </a:solidFill>
                <a:latin typeface="Arial"/>
              </a:rPr>
              <a:t>la Alta G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1382760" y="5362560"/>
            <a:ext cx="6400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324000" y="5099040"/>
            <a:ext cx="8569080" cy="9349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SSINESS INTE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568440" y="2651040"/>
            <a:ext cx="1298520" cy="212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196666"/>
                </a:solidFill>
                <a:latin typeface="Arial"/>
              </a:rPr>
              <a:t>Aplicaciones Web Back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2282760" y="2651040"/>
            <a:ext cx="1298520" cy="211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3399"/>
                </a:solidFill>
                <a:latin typeface="Arial"/>
              </a:rPr>
              <a:t>Aplicaciones 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3399"/>
                </a:solidFill>
                <a:latin typeface="Arial"/>
              </a:rPr>
              <a:t>Front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3968640" y="2641680"/>
            <a:ext cx="1257480" cy="2106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plicaciones Legadas y Proces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5735520" y="2612880"/>
            <a:ext cx="1351080" cy="210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7a7a00"/>
                </a:solidFill>
                <a:latin typeface="Arial"/>
              </a:rPr>
              <a:t>Otras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4"/>
          <p:cNvSpPr/>
          <p:nvPr/>
        </p:nvSpPr>
        <p:spPr>
          <a:xfrm>
            <a:off x="7419960" y="2603520"/>
            <a:ext cx="1295280" cy="212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8f8f8"/>
                </a:solidFill>
                <a:latin typeface="Arial"/>
              </a:rPr>
              <a:t>Aplicaciones Terceriz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7"/>
          <p:cNvSpPr/>
          <p:nvPr/>
        </p:nvSpPr>
        <p:spPr>
          <a:xfrm>
            <a:off x="2044800" y="404640"/>
            <a:ext cx="68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8"/>
          <p:cNvSpPr/>
          <p:nvPr/>
        </p:nvSpPr>
        <p:spPr>
          <a:xfrm>
            <a:off x="376200" y="1585800"/>
            <a:ext cx="8585280" cy="79236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 Black"/>
              </a:rPr>
              <a:t>POR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5"/>
          <p:cNvSpPr/>
          <p:nvPr/>
        </p:nvSpPr>
        <p:spPr>
          <a:xfrm>
            <a:off x="1841400" y="40464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9"/>
          <p:cNvSpPr/>
          <p:nvPr/>
        </p:nvSpPr>
        <p:spPr>
          <a:xfrm>
            <a:off x="584280" y="1117440"/>
            <a:ext cx="37497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Web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20"/>
          <p:cNvSpPr/>
          <p:nvPr/>
        </p:nvSpPr>
        <p:spPr>
          <a:xfrm>
            <a:off x="744480" y="1498680"/>
            <a:ext cx="62960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Aplicaciones Genexus generadas para Jav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Corren en WebSphere 5 y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La persistencia es en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 D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-Seguridad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  basada en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ingle Sign On a través del uso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de   estándares (LDAP, Active Directory), 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RBAC (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Role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Based Access Control)  y Mecanismos de AAA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 (Autenticación, Autorización y Auditorí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Ejemplos: Rut, SIC, Const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2"/>
          <a:stretch/>
        </p:blipFill>
        <p:spPr>
          <a:xfrm>
            <a:off x="317520" y="3533760"/>
            <a:ext cx="4236840" cy="31590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3"/>
          <a:stretch/>
        </p:blipFill>
        <p:spPr>
          <a:xfrm>
            <a:off x="4973760" y="3552840"/>
            <a:ext cx="39034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542880" y="1346040"/>
            <a:ext cx="382896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Web Front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731880" y="1854360"/>
            <a:ext cx="781380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Aplicaciones Genexus generadas para Java Web y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Corren en WebSpher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La persistencia es en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Mismo esquema de seguridad que Back-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 Ejemplos: Portal de  Servicios en Línea, Modificación Web Datos   Regis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03" name="Rectangle 15"/>
          <p:cNvSpPr/>
          <p:nvPr/>
        </p:nvSpPr>
        <p:spPr>
          <a:xfrm>
            <a:off x="1841400" y="40464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4364280" cy="296532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3"/>
          <a:stretch/>
        </p:blipFill>
        <p:spPr>
          <a:xfrm>
            <a:off x="4762440" y="3679920"/>
            <a:ext cx="438156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15"/>
          <p:cNvSpPr/>
          <p:nvPr/>
        </p:nvSpPr>
        <p:spPr>
          <a:xfrm>
            <a:off x="2044800" y="469800"/>
            <a:ext cx="61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4"/>
          <p:cNvSpPr/>
          <p:nvPr/>
        </p:nvSpPr>
        <p:spPr>
          <a:xfrm>
            <a:off x="371880" y="1555920"/>
            <a:ext cx="67032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Legadas,  Procesos Batch y Demon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744480" y="2021040"/>
            <a:ext cx="73818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Aplicaciones Cobol o Man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Corren en servidores A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La persistencia es en Db2 y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Ejemplos: Menú de Producción y 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7" descr=""/>
          <p:cNvPicPr/>
          <p:nvPr/>
        </p:nvPicPr>
        <p:blipFill>
          <a:blip r:embed="rId1"/>
          <a:stretch/>
        </p:blipFill>
        <p:spPr>
          <a:xfrm>
            <a:off x="4838760" y="3409920"/>
            <a:ext cx="3886200" cy="31687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8" descr=""/>
          <p:cNvPicPr/>
          <p:nvPr/>
        </p:nvPicPr>
        <p:blipFill>
          <a:blip r:embed="rId2"/>
          <a:stretch/>
        </p:blipFill>
        <p:spPr>
          <a:xfrm>
            <a:off x="596880" y="3405240"/>
            <a:ext cx="3841920" cy="32115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logo"/>
          <p:cNvPicPr/>
          <p:nvPr/>
        </p:nvPicPr>
        <p:blipFill>
          <a:blip r:embed="rId3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5"/>
          <p:cNvSpPr/>
          <p:nvPr/>
        </p:nvSpPr>
        <p:spPr>
          <a:xfrm>
            <a:off x="1549440" y="393840"/>
            <a:ext cx="663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242280" y="1479600"/>
            <a:ext cx="26888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Otras 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8"/>
          <p:cNvSpPr/>
          <p:nvPr/>
        </p:nvSpPr>
        <p:spPr>
          <a:xfrm>
            <a:off x="744480" y="1828800"/>
            <a:ext cx="73818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Aplicaciones Cliente/Servido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sistencia en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Aplicaciones Cli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rogramas de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2"/>
          <a:stretch/>
        </p:blipFill>
        <p:spPr>
          <a:xfrm>
            <a:off x="3503520" y="3111480"/>
            <a:ext cx="5486400" cy="353052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3"/>
          <a:stretch/>
        </p:blipFill>
        <p:spPr>
          <a:xfrm>
            <a:off x="374760" y="3174840"/>
            <a:ext cx="264132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1549440" y="393840"/>
            <a:ext cx="663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4"/>
          <p:cNvSpPr/>
          <p:nvPr/>
        </p:nvSpPr>
        <p:spPr>
          <a:xfrm>
            <a:off x="0" y="1212840"/>
            <a:ext cx="27543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Otras Aplic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8"/>
          <p:cNvSpPr/>
          <p:nvPr/>
        </p:nvSpPr>
        <p:spPr>
          <a:xfrm>
            <a:off x="216000" y="1587600"/>
            <a:ext cx="51163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FORMULARIOS </a:t>
            </a:r>
            <a:r>
              <a:rPr b="0" lang="es-MX" sz="1600" spc="-1" strike="noStrike">
                <a:solidFill>
                  <a:srgbClr val="003399"/>
                </a:solidFill>
                <a:latin typeface="Arial"/>
              </a:rPr>
              <a:t>con herramienta ZEN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25" name="Rectangle 3"/>
          <p:cNvSpPr/>
          <p:nvPr/>
        </p:nvSpPr>
        <p:spPr>
          <a:xfrm>
            <a:off x="219240" y="1930320"/>
            <a:ext cx="49752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iseño gráfico previamente normalizado con una estructura básica que permit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u distribución   OFFLINE.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efinir cada una de las casillas asociadas a la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versión del formul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efinir las validaciones que se realizarán en 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cas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Definir reglas a aplicar para cargar el documento 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en la Base de da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Entrada de datos : Manual, Transmisión Telemática  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o Carga masiva (bat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5275440" y="923760"/>
            <a:ext cx="3868560" cy="372924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3"/>
          <a:stretch/>
        </p:blipFill>
        <p:spPr>
          <a:xfrm>
            <a:off x="5265720" y="4667400"/>
            <a:ext cx="3878280" cy="219060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4"/>
          <a:stretch/>
        </p:blipFill>
        <p:spPr>
          <a:xfrm>
            <a:off x="0" y="5460840"/>
            <a:ext cx="5230800" cy="11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4"/>
          <p:cNvSpPr/>
          <p:nvPr/>
        </p:nvSpPr>
        <p:spPr>
          <a:xfrm>
            <a:off x="151200" y="1565280"/>
            <a:ext cx="35805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Aplicaciones Tercer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"/>
          <p:cNvSpPr/>
          <p:nvPr/>
        </p:nvSpPr>
        <p:spPr>
          <a:xfrm>
            <a:off x="744480" y="2021040"/>
            <a:ext cx="7381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Ejemplos: Payroll, Jurex, K2b, Axen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0" descr=""/>
          <p:cNvPicPr/>
          <p:nvPr/>
        </p:nvPicPr>
        <p:blipFill>
          <a:blip r:embed="rId1"/>
          <a:stretch/>
        </p:blipFill>
        <p:spPr>
          <a:xfrm>
            <a:off x="2006640" y="2516040"/>
            <a:ext cx="4770360" cy="34560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8" descr=""/>
          <p:cNvPicPr/>
          <p:nvPr/>
        </p:nvPicPr>
        <p:blipFill>
          <a:blip r:embed="rId2"/>
          <a:stretch/>
        </p:blipFill>
        <p:spPr>
          <a:xfrm rot="21166800">
            <a:off x="237960" y="4168800"/>
            <a:ext cx="3262320" cy="247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9" descr=""/>
          <p:cNvPicPr/>
          <p:nvPr/>
        </p:nvPicPr>
        <p:blipFill>
          <a:blip r:embed="rId3"/>
          <a:stretch/>
        </p:blipFill>
        <p:spPr>
          <a:xfrm rot="963600">
            <a:off x="5616360" y="3939840"/>
            <a:ext cx="3000240" cy="25686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" descr="logo"/>
          <p:cNvPicPr/>
          <p:nvPr/>
        </p:nvPicPr>
        <p:blipFill>
          <a:blip r:embed="rId4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36" name="10 Rectángulo"/>
          <p:cNvSpPr/>
          <p:nvPr/>
        </p:nvSpPr>
        <p:spPr>
          <a:xfrm>
            <a:off x="2463840" y="482760"/>
            <a:ext cx="60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3480" y="1527120"/>
            <a:ext cx="36194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6" descr=""/>
          <p:cNvPicPr/>
          <p:nvPr/>
        </p:nvPicPr>
        <p:blipFill>
          <a:blip r:embed="rId1"/>
          <a:stretch/>
        </p:blipFill>
        <p:spPr>
          <a:xfrm rot="21249600">
            <a:off x="0" y="3473280"/>
            <a:ext cx="3648240" cy="26416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8" descr=""/>
          <p:cNvPicPr/>
          <p:nvPr/>
        </p:nvPicPr>
        <p:blipFill>
          <a:blip r:embed="rId2"/>
          <a:stretch/>
        </p:blipFill>
        <p:spPr>
          <a:xfrm rot="1417200">
            <a:off x="5155920" y="3163680"/>
            <a:ext cx="3625920" cy="28270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7" descr=""/>
          <p:cNvPicPr/>
          <p:nvPr/>
        </p:nvPicPr>
        <p:blipFill>
          <a:blip r:embed="rId3"/>
          <a:stretch/>
        </p:blipFill>
        <p:spPr>
          <a:xfrm>
            <a:off x="2633760" y="4405320"/>
            <a:ext cx="3386160" cy="2452680"/>
          </a:xfrm>
          <a:prstGeom prst="rect">
            <a:avLst/>
          </a:prstGeom>
          <a:ln w="0">
            <a:noFill/>
          </a:ln>
        </p:spPr>
      </p:pic>
      <p:sp>
        <p:nvSpPr>
          <p:cNvPr id="1142" name="Rectangle 9"/>
          <p:cNvSpPr/>
          <p:nvPr/>
        </p:nvSpPr>
        <p:spPr>
          <a:xfrm>
            <a:off x="744480" y="2021040"/>
            <a:ext cx="73818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D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Tablero de 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Data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0" descr=""/>
          <p:cNvPicPr/>
          <p:nvPr/>
        </p:nvPicPr>
        <p:blipFill>
          <a:blip r:embed="rId4"/>
          <a:stretch/>
        </p:blipFill>
        <p:spPr>
          <a:xfrm>
            <a:off x="4229280" y="1463760"/>
            <a:ext cx="3419280" cy="19317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4" descr="logo"/>
          <p:cNvPicPr/>
          <p:nvPr/>
        </p:nvPicPr>
        <p:blipFill>
          <a:blip r:embed="rId5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45" name="12 Rectángulo"/>
          <p:cNvSpPr/>
          <p:nvPr/>
        </p:nvSpPr>
        <p:spPr>
          <a:xfrm>
            <a:off x="2540160" y="419040"/>
            <a:ext cx="60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6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638280" y="1460520"/>
            <a:ext cx="138744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Por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566640" y="1855800"/>
            <a:ext cx="778824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Herramienta GX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-Persistencia en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-Corre en  WebSpher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- Portal Tributario, Portal del Funcionario, Factura Electrónica, Educación Tribu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150" name="9 Rectángulo"/>
          <p:cNvSpPr/>
          <p:nvPr/>
        </p:nvSpPr>
        <p:spPr>
          <a:xfrm>
            <a:off x="2540160" y="419040"/>
            <a:ext cx="60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2"/>
          <a:stretch/>
        </p:blipFill>
        <p:spPr>
          <a:xfrm>
            <a:off x="3122640" y="4086360"/>
            <a:ext cx="3114720" cy="2365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3"/>
          <a:stretch/>
        </p:blipFill>
        <p:spPr>
          <a:xfrm>
            <a:off x="4557600" y="3409920"/>
            <a:ext cx="28800" cy="3816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4"/>
          <a:stretch/>
        </p:blipFill>
        <p:spPr>
          <a:xfrm rot="20419800">
            <a:off x="421920" y="3724200"/>
            <a:ext cx="2779560" cy="22892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5"/>
          <a:stretch/>
        </p:blipFill>
        <p:spPr>
          <a:xfrm rot="1354800">
            <a:off x="5967000" y="3617640"/>
            <a:ext cx="2873520" cy="21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89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990" name="Picture 15" descr=""/>
          <p:cNvPicPr/>
          <p:nvPr/>
        </p:nvPicPr>
        <p:blipFill>
          <a:blip r:embed="rId1"/>
          <a:srcRect l="0" t="15214" r="0" b="1687"/>
          <a:stretch/>
        </p:blipFill>
        <p:spPr>
          <a:xfrm>
            <a:off x="177840" y="1093680"/>
            <a:ext cx="8655120" cy="52610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4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-360" y="1128600"/>
            <a:ext cx="895356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UY" sz="2000" spc="-1" strike="noStrike">
                <a:solidFill>
                  <a:srgbClr val="003399"/>
                </a:solidFill>
                <a:latin typeface="Arial"/>
              </a:rPr>
              <a:t>Definición de Comprobante Fiscal Electrónico (C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Es un documento </a:t>
            </a:r>
            <a:r>
              <a:rPr b="1" lang="es-UY" sz="1800" spc="-1" strike="noStrike">
                <a:solidFill>
                  <a:srgbClr val="003399"/>
                </a:solidFill>
                <a:latin typeface="Arial"/>
              </a:rPr>
              <a:t>digital generado y firmado electrónicamente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 en un 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formato preestablecido por la DGI, que tiene la misma validez legal y 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3399"/>
                </a:solidFill>
                <a:latin typeface="Arial"/>
              </a:rPr>
              <a:t>tributaria de las facturas y otros documentos soportados en pa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1"/>
          <p:cNvSpPr/>
          <p:nvPr/>
        </p:nvSpPr>
        <p:spPr>
          <a:xfrm>
            <a:off x="2171880" y="404640"/>
            <a:ext cx="69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Proyecto Factur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27"/>
          <p:cNvSpPr/>
          <p:nvPr/>
        </p:nvSpPr>
        <p:spPr>
          <a:xfrm>
            <a:off x="4591080" y="2695680"/>
            <a:ext cx="71280" cy="13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4" descr="logo"/>
          <p:cNvPicPr/>
          <p:nvPr/>
        </p:nvPicPr>
        <p:blipFill>
          <a:blip r:embed="rId1"/>
          <a:stretch/>
        </p:blipFill>
        <p:spPr>
          <a:xfrm>
            <a:off x="260280" y="260280"/>
            <a:ext cx="2030400" cy="68760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463680" y="2192400"/>
            <a:ext cx="840888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5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1"/>
          <p:cNvSpPr/>
          <p:nvPr/>
        </p:nvSpPr>
        <p:spPr>
          <a:xfrm>
            <a:off x="2171880" y="404640"/>
            <a:ext cx="69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3399"/>
                </a:solidFill>
                <a:latin typeface="Arial"/>
              </a:rPr>
              <a:t>Aplicación para dispositivos móviles</a:t>
            </a: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27"/>
          <p:cNvSpPr/>
          <p:nvPr/>
        </p:nvSpPr>
        <p:spPr>
          <a:xfrm>
            <a:off x="4591080" y="2695680"/>
            <a:ext cx="71280" cy="13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4" descr="logo"/>
          <p:cNvPicPr/>
          <p:nvPr/>
        </p:nvPicPr>
        <p:blipFill>
          <a:blip r:embed="rId1"/>
          <a:stretch/>
        </p:blipFill>
        <p:spPr>
          <a:xfrm>
            <a:off x="260280" y="260280"/>
            <a:ext cx="2030400" cy="6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5" name=""/>
          <p:cNvGraphicFramePr/>
          <p:nvPr/>
        </p:nvGraphicFramePr>
        <p:xfrm>
          <a:off x="223920" y="303120"/>
          <a:ext cx="1000080" cy="6421320"/>
        </p:xfrm>
        <a:graphic>
          <a:graphicData uri="http://schemas.openxmlformats.org/drawingml/2006/table">
            <a:tbl>
              <a:tblPr/>
              <a:tblGrid>
                <a:gridCol w="635040"/>
                <a:gridCol w="365040"/>
              </a:tblGrid>
              <a:tr h="64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6" name=""/>
          <p:cNvGraphicFramePr/>
          <p:nvPr/>
        </p:nvGraphicFramePr>
        <p:xfrm>
          <a:off x="233280" y="312840"/>
          <a:ext cx="1120680" cy="6462720"/>
        </p:xfrm>
        <a:graphic>
          <a:graphicData uri="http://schemas.openxmlformats.org/drawingml/2006/table">
            <a:tbl>
              <a:tblPr/>
              <a:tblGrid>
                <a:gridCol w="1120680"/>
              </a:tblGrid>
              <a:tr h="17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7" name=""/>
          <p:cNvGraphicFramePr/>
          <p:nvPr/>
        </p:nvGraphicFramePr>
        <p:xfrm>
          <a:off x="243000" y="322200"/>
          <a:ext cx="615960" cy="1763640"/>
        </p:xfrm>
        <a:graphic>
          <a:graphicData uri="http://schemas.openxmlformats.org/drawingml/2006/table">
            <a:tbl>
              <a:tblPr/>
              <a:tblGrid>
                <a:gridCol w="615960"/>
              </a:tblGrid>
              <a:tr h="200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5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8" name=""/>
          <p:cNvGraphicFramePr/>
          <p:nvPr/>
        </p:nvGraphicFramePr>
        <p:xfrm>
          <a:off x="1477800" y="1384200"/>
          <a:ext cx="7102800" cy="6159600"/>
        </p:xfrm>
        <a:graphic>
          <a:graphicData uri="http://schemas.openxmlformats.org/drawingml/2006/table">
            <a:tbl>
              <a:tblPr/>
              <a:tblGrid>
                <a:gridCol w="7102800"/>
              </a:tblGrid>
              <a:tr h="57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Entre los servicios que brinda se encuentran disponib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sultas de noti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Sala de prensa de la DGI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sulta del calendario de vencimientos, permitiendo agendar los    vencimientos que sean de interés del contribuy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onsultas de los CFE por medio de la lectura del código QR (para ello es requerida la instalación de una aplicación de lectura de este tipo de códig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Mapa con las dependencias en todo el país (Google Maps)  y sus datos de contacto (realizar llamad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mpatible con versiones Android 2.3 en adelante. 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600"/>
                      </a:b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ES" sz="1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900"/>
                      </a:b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9" name="" descr=""/>
          <p:cNvPicPr/>
          <p:nvPr/>
        </p:nvPicPr>
        <p:blipFill>
          <a:blip r:embed="rId2"/>
          <a:stretch/>
        </p:blipFill>
        <p:spPr>
          <a:xfrm>
            <a:off x="249120" y="1201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3"/>
          <a:stretch/>
        </p:blipFill>
        <p:spPr>
          <a:xfrm>
            <a:off x="6016680" y="4327560"/>
            <a:ext cx="26319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2"/>
          <p:cNvSpPr/>
          <p:nvPr/>
        </p:nvSpPr>
        <p:spPr>
          <a:xfrm>
            <a:off x="2063880" y="3038400"/>
            <a:ext cx="50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99"/>
                </a:solidFill>
                <a:latin typeface="Arial Black"/>
              </a:rPr>
              <a:t>MUCHAS GRACIAS</a:t>
            </a: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96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997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998" name="Text Box 1028"/>
          <p:cNvSpPr/>
          <p:nvPr/>
        </p:nvSpPr>
        <p:spPr>
          <a:xfrm>
            <a:off x="631800" y="1143000"/>
            <a:ext cx="8131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quema de recepción de Declaraciones Ju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1029" descr=""/>
          <p:cNvPicPr/>
          <p:nvPr/>
        </p:nvPicPr>
        <p:blipFill>
          <a:blip r:embed="rId2"/>
          <a:stretch/>
        </p:blipFill>
        <p:spPr>
          <a:xfrm>
            <a:off x="927000" y="1968480"/>
            <a:ext cx="7677360" cy="3973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273040" y="165240"/>
            <a:ext cx="641340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04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05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4"/>
          <p:cNvSpPr/>
          <p:nvPr/>
        </p:nvSpPr>
        <p:spPr>
          <a:xfrm>
            <a:off x="1066680" y="1828800"/>
            <a:ext cx="69343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l contribuyente po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dministrar sus formul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ectar con el servidor de DGI en forma se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Validar la consistencia de los formul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80880" algn="ctr">
              <a:lnSpc>
                <a:spcPct val="150000"/>
              </a:lnSpc>
              <a:spcBef>
                <a:spcPts val="601"/>
              </a:spcBef>
              <a:buClr>
                <a:srgbClr val="0033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tualizar en línea los formularios.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12 Rectángulo"/>
          <p:cNvSpPr/>
          <p:nvPr/>
        </p:nvSpPr>
        <p:spPr>
          <a:xfrm>
            <a:off x="1092240" y="1206360"/>
            <a:ext cx="7023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gramas de Ayuda -  Modalidad OFF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12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13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014" name="Text Box 1028"/>
          <p:cNvSpPr/>
          <p:nvPr/>
        </p:nvSpPr>
        <p:spPr>
          <a:xfrm>
            <a:off x="631800" y="1143000"/>
            <a:ext cx="82580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Arial"/>
              </a:rPr>
              <a:t>Esquema de trabajo para la modalidad OFF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35"/>
          <p:cNvGrpSpPr/>
          <p:nvPr/>
        </p:nvGrpSpPr>
        <p:grpSpPr>
          <a:xfrm>
            <a:off x="622440" y="1828800"/>
            <a:ext cx="8318160" cy="4800600"/>
            <a:chOff x="622440" y="1828800"/>
            <a:chExt cx="8318160" cy="4800600"/>
          </a:xfrm>
        </p:grpSpPr>
        <p:sp>
          <p:nvSpPr>
            <p:cNvPr id="1016" name="Rectangle 27"/>
            <p:cNvSpPr/>
            <p:nvPr/>
          </p:nvSpPr>
          <p:spPr>
            <a:xfrm>
              <a:off x="622440" y="1828800"/>
              <a:ext cx="8318160" cy="4800600"/>
            </a:xfrm>
            <a:prstGeom prst="rect">
              <a:avLst/>
            </a:prstGeom>
            <a:gradFill rotWithShape="0">
              <a:gsLst>
                <a:gs pos="0">
                  <a:srgbClr val="ffffd9"/>
                </a:gs>
                <a:gs pos="100000">
                  <a:srgbClr val="e1e1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AutoShape 11"/>
            <p:cNvSpPr/>
            <p:nvPr/>
          </p:nvSpPr>
          <p:spPr>
            <a:xfrm>
              <a:off x="894240" y="3505680"/>
              <a:ext cx="1818360" cy="56448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nera nuevo formulario con ZENFORM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8" name="Group 12"/>
            <p:cNvGrpSpPr/>
            <p:nvPr/>
          </p:nvGrpSpPr>
          <p:grpSpPr>
            <a:xfrm>
              <a:off x="3417480" y="2018520"/>
              <a:ext cx="2031840" cy="1239480"/>
              <a:chOff x="3417480" y="2018520"/>
              <a:chExt cx="2031840" cy="1239480"/>
            </a:xfrm>
          </p:grpSpPr>
          <p:sp>
            <p:nvSpPr>
              <p:cNvPr id="1019" name="AutoShape 13"/>
              <p:cNvSpPr/>
              <p:nvPr/>
            </p:nvSpPr>
            <p:spPr>
              <a:xfrm>
                <a:off x="3631680" y="2834640"/>
                <a:ext cx="1496880" cy="423360"/>
              </a:xfrm>
              <a:prstGeom prst="roundRect">
                <a:avLst>
                  <a:gd name="adj" fmla="val 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ITIO DG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Picture 14" descr="BS01108_"/>
              <p:cNvPicPr/>
              <p:nvPr/>
            </p:nvPicPr>
            <p:blipFill>
              <a:blip r:embed="rId2"/>
              <a:stretch/>
            </p:blipFill>
            <p:spPr>
              <a:xfrm>
                <a:off x="3417480" y="2018520"/>
                <a:ext cx="2031840" cy="88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1" name="Group 15"/>
            <p:cNvGrpSpPr/>
            <p:nvPr/>
          </p:nvGrpSpPr>
          <p:grpSpPr>
            <a:xfrm>
              <a:off x="6386040" y="1881720"/>
              <a:ext cx="2353320" cy="1376280"/>
              <a:chOff x="6386040" y="1881720"/>
              <a:chExt cx="2353320" cy="1376280"/>
            </a:xfrm>
          </p:grpSpPr>
          <p:sp>
            <p:nvSpPr>
              <p:cNvPr id="1022" name="AutoShape 16"/>
              <p:cNvSpPr/>
              <p:nvPr/>
            </p:nvSpPr>
            <p:spPr>
              <a:xfrm>
                <a:off x="6386040" y="2834640"/>
                <a:ext cx="2353320" cy="423360"/>
              </a:xfrm>
              <a:prstGeom prst="roundRect">
                <a:avLst>
                  <a:gd name="adj" fmla="val 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TRIBUY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3" name="Picture 17" descr="BD07157_"/>
              <p:cNvPicPr/>
              <p:nvPr/>
            </p:nvPicPr>
            <p:blipFill>
              <a:blip r:embed="rId3"/>
              <a:stretch/>
            </p:blipFill>
            <p:spPr>
              <a:xfrm>
                <a:off x="6600240" y="1881720"/>
                <a:ext cx="1822680" cy="102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4" name="Group 18"/>
            <p:cNvGrpSpPr/>
            <p:nvPr/>
          </p:nvGrpSpPr>
          <p:grpSpPr>
            <a:xfrm>
              <a:off x="849600" y="1987560"/>
              <a:ext cx="1905120" cy="1270080"/>
              <a:chOff x="849600" y="1987560"/>
              <a:chExt cx="1905120" cy="1270080"/>
            </a:xfrm>
          </p:grpSpPr>
          <p:sp>
            <p:nvSpPr>
              <p:cNvPr id="1025" name="AutoShape 19"/>
              <p:cNvSpPr/>
              <p:nvPr/>
            </p:nvSpPr>
            <p:spPr>
              <a:xfrm>
                <a:off x="871560" y="2834280"/>
                <a:ext cx="1858320" cy="423360"/>
              </a:xfrm>
              <a:prstGeom prst="roundRect">
                <a:avLst>
                  <a:gd name="adj" fmla="val 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ISTEMAS DG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6" name="Picture 20" descr="BD07131_"/>
              <p:cNvPicPr/>
              <p:nvPr/>
            </p:nvPicPr>
            <p:blipFill>
              <a:blip r:embed="rId4"/>
              <a:stretch/>
            </p:blipFill>
            <p:spPr>
              <a:xfrm>
                <a:off x="849600" y="1987560"/>
                <a:ext cx="1905120" cy="836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7" name="AutoShape 21"/>
            <p:cNvSpPr/>
            <p:nvPr/>
          </p:nvSpPr>
          <p:spPr>
            <a:xfrm>
              <a:off x="3256560" y="4070160"/>
              <a:ext cx="2353680" cy="84708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ene disponibles todos los formularios generados prontos para ser descargados por el contribuyen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22"/>
            <p:cNvSpPr/>
            <p:nvPr/>
          </p:nvSpPr>
          <p:spPr>
            <a:xfrm>
              <a:off x="3310200" y="5552640"/>
              <a:ext cx="2246760" cy="84708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S o procedimiento BATCH valida formulario y devuelve al usuario informe de pro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23"/>
            <p:cNvSpPr/>
            <p:nvPr/>
          </p:nvSpPr>
          <p:spPr>
            <a:xfrm>
              <a:off x="6439680" y="4176000"/>
              <a:ext cx="2246760" cy="63504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Descarga formulario del web y lo graba en su disc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AutoShape 24"/>
            <p:cNvSpPr/>
            <p:nvPr/>
          </p:nvSpPr>
          <p:spPr>
            <a:xfrm>
              <a:off x="6439680" y="5128920"/>
              <a:ext cx="2246760" cy="635040"/>
            </a:xfrm>
            <a:prstGeom prst="roundRect">
              <a:avLst>
                <a:gd name="adj" fmla="val 0"/>
              </a:avLst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lena una copia de su declara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25"/>
            <p:cNvSpPr/>
            <p:nvPr/>
          </p:nvSpPr>
          <p:spPr>
            <a:xfrm>
              <a:off x="5878080" y="5949720"/>
              <a:ext cx="2246760" cy="56484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Envía por email / ftp o se conecta con WS vía http / so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26"/>
            <p:cNvSpPr/>
            <p:nvPr/>
          </p:nvSpPr>
          <p:spPr>
            <a:xfrm>
              <a:off x="2989440" y="3593520"/>
              <a:ext cx="1069920" cy="2116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8"/>
            <p:cNvSpPr/>
            <p:nvPr/>
          </p:nvSpPr>
          <p:spPr>
            <a:xfrm>
              <a:off x="622440" y="3364200"/>
              <a:ext cx="831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29"/>
            <p:cNvSpPr/>
            <p:nvPr/>
          </p:nvSpPr>
          <p:spPr>
            <a:xfrm>
              <a:off x="5931720" y="1828800"/>
              <a:ext cx="180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30"/>
            <p:cNvSpPr/>
            <p:nvPr/>
          </p:nvSpPr>
          <p:spPr>
            <a:xfrm>
              <a:off x="2962440" y="1828800"/>
              <a:ext cx="180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6" name="AutoShape 31"/>
            <p:cNvCxnSpPr>
              <a:stCxn id="1017" idx="3"/>
              <a:endCxn id="1027" idx="0"/>
            </p:cNvCxnSpPr>
            <p:nvPr/>
          </p:nvCxnSpPr>
          <p:spPr>
            <a:xfrm>
              <a:off x="2712600" y="3787560"/>
              <a:ext cx="1721160" cy="282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7" name="AutoShape 32"/>
            <p:cNvCxnSpPr>
              <a:stCxn id="1027" idx="3"/>
              <a:endCxn id="1029" idx="1"/>
            </p:cNvCxnSpPr>
            <p:nvPr/>
          </p:nvCxnSpPr>
          <p:spPr>
            <a:xfrm>
              <a:off x="5610600" y="4493520"/>
              <a:ext cx="82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8" name="AutoShape 33"/>
            <p:cNvCxnSpPr>
              <a:stCxn id="1029" idx="2"/>
              <a:endCxn id="1030" idx="0"/>
            </p:cNvCxnSpPr>
            <p:nvPr/>
          </p:nvCxnSpPr>
          <p:spPr>
            <a:xfrm flipH="1">
              <a:off x="7562520" y="4811400"/>
              <a:ext cx="1080" cy="31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9" name="AutoShape 34"/>
            <p:cNvCxnSpPr>
              <a:stCxn id="1030" idx="2"/>
              <a:endCxn id="1028" idx="3"/>
            </p:cNvCxnSpPr>
            <p:nvPr/>
          </p:nvCxnSpPr>
          <p:spPr>
            <a:xfrm rot="5400000">
              <a:off x="6453360" y="4867200"/>
              <a:ext cx="212400" cy="200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40" name="Rectangle 8"/>
          <p:cNvSpPr/>
          <p:nvPr/>
        </p:nvSpPr>
        <p:spPr>
          <a:xfrm>
            <a:off x="893880" y="457200"/>
            <a:ext cx="655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273400" y="165240"/>
            <a:ext cx="58039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8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Organization Chart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45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46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  <p:sp>
        <p:nvSpPr>
          <p:cNvPr id="1047" name="Rectangle 3"/>
          <p:cNvSpPr/>
          <p:nvPr/>
        </p:nvSpPr>
        <p:spPr>
          <a:xfrm>
            <a:off x="419040" y="1181160"/>
            <a:ext cx="81154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quema de integración utilizado para el PAGO por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6" descr=""/>
          <p:cNvPicPr/>
          <p:nvPr/>
        </p:nvPicPr>
        <p:blipFill>
          <a:blip r:embed="rId2"/>
          <a:srcRect l="6782" t="18976" r="8600" b="4026"/>
          <a:stretch/>
        </p:blipFill>
        <p:spPr>
          <a:xfrm>
            <a:off x="380880" y="2246400"/>
            <a:ext cx="7988400" cy="38480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7"/>
          <p:cNvSpPr/>
          <p:nvPr/>
        </p:nvSpPr>
        <p:spPr>
          <a:xfrm>
            <a:off x="140328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3"/>
          <p:cNvSpPr/>
          <p:nvPr/>
        </p:nvSpPr>
        <p:spPr>
          <a:xfrm>
            <a:off x="2070000" y="347760"/>
            <a:ext cx="707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Los sistemas y sus diferentes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311040" y="1371600"/>
            <a:ext cx="756288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sus responsables t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é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la Organizaci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n (visi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n de proce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los usuarios f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Los sistemas y su tecnolog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í</a:t>
            </a:r>
            <a:r>
              <a:rPr b="1" lang="es-MX" sz="24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382760" y="5362560"/>
            <a:ext cx="6400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324000" y="5099040"/>
            <a:ext cx="8569080" cy="9349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SSINESS INTE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0"/>
          <p:cNvSpPr/>
          <p:nvPr/>
        </p:nvSpPr>
        <p:spPr>
          <a:xfrm>
            <a:off x="317520" y="1190520"/>
            <a:ext cx="2178000" cy="3611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196666"/>
                </a:solidFill>
                <a:latin typeface="Arial"/>
              </a:rPr>
              <a:t>Aplicaciones para la Gestión de Declaraciones Ju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d9"/>
                </a:solidFill>
                <a:latin typeface="Arial"/>
              </a:rPr>
              <a:t>-</a:t>
            </a: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Programas de ay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Receptores de 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Recepción de Cobr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RT ( Cajas, receptor DJ y pag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Certificado ú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96666"/>
                </a:solidFill>
                <a:latin typeface="Arial"/>
              </a:rPr>
              <a:t>-Constancias Espe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1"/>
          <p:cNvSpPr/>
          <p:nvPr/>
        </p:nvSpPr>
        <p:spPr>
          <a:xfrm>
            <a:off x="2714760" y="1155600"/>
            <a:ext cx="2136600" cy="359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2060"/>
                </a:solidFill>
                <a:latin typeface="Arial"/>
              </a:rPr>
              <a:t>Aplicaciones para la Gestión de Recaudación y Otras Gest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2060"/>
                </a:solidFill>
                <a:latin typeface="Arial"/>
              </a:rPr>
              <a:t>-Boletos de P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Receptores de Pa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Conven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Certificados de Créd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Devol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Control de Antic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Debitos Créd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</a:rPr>
              <a:t>-Gestión IR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"/>
          <p:cNvSpPr/>
          <p:nvPr/>
        </p:nvSpPr>
        <p:spPr>
          <a:xfrm>
            <a:off x="4933800" y="1144440"/>
            <a:ext cx="2000520" cy="36036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Aplicaciones del Registro Único Tribut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R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Constancias de Im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Ci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-Observaciones de 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3"/>
          <p:cNvSpPr/>
          <p:nvPr/>
        </p:nvSpPr>
        <p:spPr>
          <a:xfrm>
            <a:off x="7018200" y="1146240"/>
            <a:ext cx="1960560" cy="358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7e7e00"/>
                </a:solidFill>
                <a:latin typeface="Arial"/>
              </a:rPr>
              <a:t>Aplicaciones Tercerizadas y Fisc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Exped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Payr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K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Por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Fisc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Denu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3300"/>
                </a:solidFill>
                <a:latin typeface="Arial"/>
              </a:rPr>
              <a:t>-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7"/>
          <p:cNvSpPr/>
          <p:nvPr/>
        </p:nvSpPr>
        <p:spPr>
          <a:xfrm>
            <a:off x="2006640" y="404640"/>
            <a:ext cx="71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responsable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Picture 4" descr="logo"/>
          <p:cNvPicPr/>
          <p:nvPr/>
        </p:nvPicPr>
        <p:blipFill>
          <a:blip r:embed="rId1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59590"/>
            </a:gs>
            <a:gs pos="100000">
              <a:srgbClr val="fff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7"/>
          <p:cNvSpPr/>
          <p:nvPr/>
        </p:nvSpPr>
        <p:spPr>
          <a:xfrm>
            <a:off x="1419120" y="6308640"/>
            <a:ext cx="56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7"/>
          <p:cNvSpPr/>
          <p:nvPr/>
        </p:nvSpPr>
        <p:spPr>
          <a:xfrm>
            <a:off x="1854360" y="404640"/>
            <a:ext cx="63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3399"/>
                </a:solidFill>
                <a:latin typeface="Arial"/>
              </a:rPr>
              <a:t>Sistemas y la organiz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12" descr=""/>
          <p:cNvPicPr/>
          <p:nvPr/>
        </p:nvPicPr>
        <p:blipFill>
          <a:blip r:embed="rId1"/>
          <a:stretch/>
        </p:blipFill>
        <p:spPr>
          <a:xfrm>
            <a:off x="0" y="1219320"/>
            <a:ext cx="9053640" cy="3744720"/>
          </a:xfrm>
          <a:prstGeom prst="rect">
            <a:avLst/>
          </a:prstGeom>
          <a:ln w="0">
            <a:noFill/>
          </a:ln>
        </p:spPr>
      </p:pic>
      <p:sp>
        <p:nvSpPr>
          <p:cNvPr id="1065" name="Text Box 13"/>
          <p:cNvSpPr/>
          <p:nvPr/>
        </p:nvSpPr>
        <p:spPr>
          <a:xfrm>
            <a:off x="2065320" y="3708360"/>
            <a:ext cx="1162080" cy="1862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INFORMACIÓN Y ASIST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rogramas de Ayu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ágina 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rtal Preguntas Frecu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4"/>
          <p:cNvSpPr/>
          <p:nvPr/>
        </p:nvSpPr>
        <p:spPr>
          <a:xfrm>
            <a:off x="3208320" y="3708360"/>
            <a:ext cx="1162080" cy="1770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GESTIÓN DE OBLIGADOS TRIBUT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Recepción de Declar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R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evolu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5"/>
          <p:cNvSpPr/>
          <p:nvPr/>
        </p:nvSpPr>
        <p:spPr>
          <a:xfrm>
            <a:off x="4375080" y="3708360"/>
            <a:ext cx="1158840" cy="17398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GEST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DE LA RECAUD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Sistemas de Recaud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Receptor de Pa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Conven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Jur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6"/>
          <p:cNvSpPr/>
          <p:nvPr/>
        </p:nvSpPr>
        <p:spPr>
          <a:xfrm>
            <a:off x="5535720" y="3708360"/>
            <a:ext cx="1149120" cy="17398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CONTROLES EXTENSIV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Gestión de Anticipos, IRPF, Débito Crédi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Cit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Soluciones de 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7"/>
          <p:cNvSpPr/>
          <p:nvPr/>
        </p:nvSpPr>
        <p:spPr>
          <a:xfrm>
            <a:off x="6681960" y="3708360"/>
            <a:ext cx="1199880" cy="16783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CONTROLES INTEN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Sistemas de Fiscalización (Profis, Fiscal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Denunc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MX" sz="900" spc="-1" strike="noStrike">
                <a:solidFill>
                  <a:srgbClr val="ffffff"/>
                </a:solidFill>
                <a:latin typeface="Arial"/>
                <a:ea typeface="Arial"/>
              </a:rPr>
              <a:t>Herramientas de B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8"/>
          <p:cNvSpPr/>
          <p:nvPr/>
        </p:nvSpPr>
        <p:spPr>
          <a:xfrm>
            <a:off x="7864560" y="3708360"/>
            <a:ext cx="1279440" cy="1464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GEST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JURÍD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  <a:ea typeface="Arial"/>
              </a:rPr>
              <a:t>Jur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4" descr="logo"/>
          <p:cNvPicPr/>
          <p:nvPr/>
        </p:nvPicPr>
        <p:blipFill>
          <a:blip r:embed="rId2"/>
          <a:stretch/>
        </p:blipFill>
        <p:spPr>
          <a:xfrm>
            <a:off x="324000" y="260280"/>
            <a:ext cx="2030400" cy="6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5:05:11Z</dcterms:created>
  <dc:creator>usuario</dc:creator>
  <dc:description/>
  <dc:language>en-US</dc:language>
  <cp:lastModifiedBy> </cp:lastModifiedBy>
  <cp:lastPrinted>2011-12-11T12:57:22Z</cp:lastPrinted>
  <dcterms:modified xsi:type="dcterms:W3CDTF">2013-10-29T09:59:28Z</dcterms:modified>
  <cp:revision>389</cp:revision>
  <dc:subject/>
  <dc:title>Diapositiva 1</dc:title>
</cp:coreProperties>
</file>