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A1BBB7E3-EA09-4F94-A61E-FAAACB7B33C4}" type="slidenum"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0D3A2A7-106E-44B4-AF18-F5BFB9181A28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573-6678-42C7-BFF2-5780CCD9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A69-ABCB-4246-AF85-9B6CDC37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FE7-1128-410D-B183-4AA8548B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41D-5B82-4A8C-8A89-4D23A5C3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B3D4-9A71-42F0-9CDC-C0AFDB7A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C4C5-A817-4BDD-98EF-79DA38C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EF3-7069-49DA-A576-541F3107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161-B892-457E-9F21-CE70D8E8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7FCF-1987-417A-8E70-F3EA4D16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13E6-A750-464E-A442-5CD0C3D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6030-7070-42F1-B1C5-D10C337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3FA-A425-43F3-B7F8-87A8226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BEE-634A-42E6-BE1A-F1812E8B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809F-2A27-413A-84BC-F1A649F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11DE-2907-42DA-8761-9B51D1F0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F6E3-71DC-40C4-9AAE-C1E3BD1F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F85E-A577-45F2-B954-E3C97786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1B6-5E4F-414F-A3D6-56287B88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242-1B3D-4693-9185-879D7D9C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45F-FE36-48F3-B796-543DD5FA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EA8-80DE-4AB5-810B-E50AF3E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74A-16E3-403D-BE67-5B4E50D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8B5-8B1D-4ED2-947B-F7A696A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32F-3431-4740-9F22-179F610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62D1F11-E3FB-4526-99AB-8272D553BBD4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788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DB00C22-137F-4288-9E9A-2FFED9A891F7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REGISTRO TRIBUTARI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3363840"/>
            <a:ext cx="6172200" cy="2070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0680" y="5816520"/>
            <a:ext cx="28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ENCUENTRO SUR-S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GUATEMALA-ANTIGU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Agosto 2013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URUGUA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4CC-3D81-4271-B6E8-2EA5DC8599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2400" y="900000"/>
            <a:ext cx="9094680" cy="11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ELEMENTOS QUE INTEGRAN LA BASE DE DATO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66"/>
                </a:solidFill>
                <a:latin typeface="Tahoma"/>
              </a:rPr>
              <a:t>LOS DATOS ESTAN AGRUPADOS EN CUATRO BLOQUES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IDENTIFICACIO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UBICACIÓ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LASIFIC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OTROS DATOS DE TRASCENDENCIA FISC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 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Los datos básicos requeridos para la inscripción difieren según se trate de obligados tributarios o potenciales obligad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48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3600" y="2054160"/>
          <a:ext cx="6394320" cy="5184720"/>
        </p:xfrm>
        <a:graphic>
          <a:graphicData uri="http://schemas.openxmlformats.org/drawingml/2006/table">
            <a:tbl>
              <a:tblPr/>
              <a:tblGrid>
                <a:gridCol w="3198960"/>
                <a:gridCol w="3195360"/>
              </a:tblGrid>
              <a:tr h="92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DENT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umero de R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ombre o Denomin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Naturaleza Juríd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UB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OMICILIO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onstituí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Fis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articular (P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lvl="2" marL="10080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LASIFICAC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ódigo de actividad econó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bligaciones fiscal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  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       </a:t>
                      </a: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m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imensión económica- Gru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Otros datos de trascendencia fis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rocedencia de la inform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Datos de vinculados (PF, PJ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Fecha de bal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Loc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1400" spc="-1" strike="noStrike" u="sng">
                          <a:solidFill>
                            <a:srgbClr val="e5ffff"/>
                          </a:solidFill>
                          <a:uFillTx/>
                          <a:latin typeface="Tahoma"/>
                          <a:ea typeface="Arial"/>
                        </a:rPr>
                        <a:t>U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95440" y="1463760"/>
            <a:ext cx="260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OBLIGADOS TRIBUTARI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DATOS BASICOS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ersonas físicas:</a:t>
            </a:r>
            <a:r>
              <a:rPr b="1" lang="es-UY" sz="31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s-UY" sz="3100" spc="-1" strike="noStrike">
                <a:solidFill>
                  <a:srgbClr val="e5ffff"/>
                </a:solidFill>
                <a:latin typeface="Tahoma"/>
              </a:rPr>
              <a:t>(inscripción reducida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Nombres y apelli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Documento: tipo país y númer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Fecha de nacimien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Domicilio en algunos cas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777600"/>
            <a:ext cx="9072720" cy="1292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OTROS DATOS DE IDENTIFICACION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2184480"/>
            <a:ext cx="4457880" cy="4535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100800" rIns="100800" tIns="50400" bIns="5040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Entidades pluripersonal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Fecha de constitució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Fecha y Número de inscripción en el RNC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Nombre de fantasí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Información de residen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760" y="2184480"/>
            <a:ext cx="4459320" cy="4535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ersonas Física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Estado Civi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Sex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Nombre de fantasí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Información de residenci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878040"/>
            <a:ext cx="9072720" cy="1179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OBTENCIÓN DE INFORMACIÓN PARA LA BASE DE DAT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8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or captación o individualizada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100" spc="-1" strike="noStrike">
                <a:solidFill>
                  <a:srgbClr val="e5ffff"/>
                </a:solidFill>
                <a:latin typeface="Tahoma"/>
              </a:rPr>
              <a:t>La información se obtiene a través de: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Declaraciones del regist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Vía Web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Declaraciones jurada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e5ffff"/>
                </a:solidFill>
                <a:latin typeface="Tahoma"/>
              </a:rPr>
              <a:t>Actuaciones de la AT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Por suministro ( periódica y automatizada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100" spc="-1" strike="noStrike">
                <a:solidFill>
                  <a:srgbClr val="e5ffff"/>
                </a:solidFill>
                <a:latin typeface="Tahoma"/>
              </a:rPr>
              <a:t>Es la información que se solicita periódicamente a determinadas  entidades obligadas por las normas legales a presentarla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720" y="695160"/>
            <a:ext cx="9072720" cy="123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PRINCIPALES SUBPROCE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INSCRIPCION</a:t>
            </a:r>
            <a:r>
              <a:rPr b="1" lang="es-UY" sz="17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s-UY" sz="17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previo al inicio de la actividad económica  asociado a la asignación de un número de RUT o cuando la administración lo requiera y/o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ES_tradnl" sz="2400" spc="-1" strike="noStrike" u="sng">
                <a:solidFill>
                  <a:srgbClr val="ffcc00"/>
                </a:solidFill>
                <a:uFillTx/>
                <a:latin typeface="Tahoma"/>
              </a:rPr>
              <a:t>MODIFICACION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: </a:t>
            </a:r>
            <a:r>
              <a:rPr b="0" lang="es-ES_tradnl" sz="2400" spc="-1" strike="noStrike">
                <a:solidFill>
                  <a:srgbClr val="e5ffff"/>
                </a:solidFill>
                <a:latin typeface="Tahoma"/>
              </a:rPr>
              <a:t>comunicación a la Administración de los cambios realizados con respecto a la información existente o cuando la Administración lo constate o requie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CANCELAC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Cese o clausura efectiva de todas las actividades u obligaciones previstas en las disposiciones legales de los obligados de la Administración Tributari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720" y="899640"/>
            <a:ext cx="9072720" cy="10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000" spc="-1" strike="noStrike">
                <a:solidFill>
                  <a:srgbClr val="ffcc00"/>
                </a:solidFill>
                <a:latin typeface="Tahoma"/>
              </a:rPr>
              <a:t>CANCELAC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Estados de la cancelació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Cancelación en trámite: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UY" sz="2600" spc="-1" strike="noStrike">
                <a:solidFill>
                  <a:srgbClr val="e5ffff"/>
                </a:solidFill>
                <a:latin typeface="Tahoma"/>
              </a:rPr>
              <a:t>a solicitud del obligado y mientras la Administración no haya otorgado al cliente el Certificado Especi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Cancelación definitiva: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_tradnl" sz="2600" spc="-1" strike="noStrike">
                <a:solidFill>
                  <a:srgbClr val="e5ffff"/>
                </a:solidFill>
                <a:latin typeface="Tahoma"/>
              </a:rPr>
              <a:t>una vez que la Administración ha comprobado que se ha cumplido con todas las obligaciones fiscales establecidas en la normativa  y otorgada el Certificado Especial</a:t>
            </a: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0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720" y="728280"/>
            <a:ext cx="90727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MEDIOS DE PRESENT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Existen distintas medios de presentación de la información, dependiendo estos del tipo de obligado así como del proceso  que se está realizando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1120" y="21240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82480" y="2287440"/>
          <a:ext cx="8939520" cy="4529160"/>
        </p:xfrm>
        <a:graphic>
          <a:graphicData uri="http://schemas.openxmlformats.org/drawingml/2006/table">
            <a:tbl>
              <a:tblPr/>
              <a:tblGrid>
                <a:gridCol w="1646280"/>
                <a:gridCol w="863640"/>
                <a:gridCol w="1376280"/>
                <a:gridCol w="1179720"/>
                <a:gridCol w="1330200"/>
                <a:gridCol w="1177920"/>
                <a:gridCol w="1365480"/>
              </a:tblGrid>
              <a:tr h="902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Formulario impr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We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4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Archivo Informát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003366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2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nscrip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Modifi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 (algunos da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(algunos da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ancel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UY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------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696960" y="1633680"/>
            <a:ext cx="381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2000" spc="-1" strike="noStrike">
                <a:solidFill>
                  <a:srgbClr val="ffcc00"/>
                </a:solidFill>
                <a:latin typeface="Arial"/>
              </a:rPr>
              <a:t>MEDIOS DE PRESENTAC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313200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5520" y="420840"/>
            <a:ext cx="70819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REGISTRO UNICO TRIBUTARI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SPECTOS  GENER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ELEMENTOS DE LA BASE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DE D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99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PARTE (III)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GESTION DEL REGIST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799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799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A51-869F-4A7D-ABCF-3B7993218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5360" indent="0" algn="ctr"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s-UY" sz="3600" spc="-1" strike="noStrike" u="sng">
                <a:solidFill>
                  <a:srgbClr val="ffcc00"/>
                </a:solidFill>
                <a:uFillTx/>
                <a:latin typeface="Tahoma"/>
              </a:rPr>
              <a:t>DEPURACIONES MASIV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-49536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ese de oficio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ruce informático anual para las empresas que no registran ningún signo de actividad en DGI ni BPS con consecuencias para el contribuyent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49536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GESTION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65304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DEPURACIONES MASIV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53040" indent="-65304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AutoNum type="arabicParenR" startAt="2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Marca de inactividad</a:t>
            </a: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5304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Cruce informático anual para entidades y personas físicas en un período más corto que se utiliza por la Administración a los efectos de actuaciones masivas sin consecuencias para el contribuyente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720" y="739800"/>
            <a:ext cx="907272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DECLARACIONES DEL REGISTRO</a:t>
            </a:r>
            <a:r>
              <a:rPr b="0" lang="es-UY" sz="45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FORMA DE PRESENT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Formularios Impresos</a:t>
            </a: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acompañado de  documentación acreditativa de algunos dat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Vía Web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cuando la información comunicada no requiere  documentación acreditativa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9840" y="844560"/>
            <a:ext cx="8877240" cy="1225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4500" spc="-1" strike="noStrike" u="sng">
                <a:solidFill>
                  <a:srgbClr val="e5ffff"/>
                </a:solidFill>
                <a:uFillTx/>
                <a:latin typeface="Tahoma"/>
              </a:rPr>
              <a:t>DECLARACIONES DEL REGISTR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DATOS QUE REQUIEREN DOCUMENTACION ACREDITATIVA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Referidos a su constitución y estatut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omicilio fisc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Personas físicas o jurídicas vinculad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096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ASPECTOS GENERALE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ARACTERISTICAS ORGANIZATIV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Base de datos única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: asegurando la unicidad de los registr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Ingreso de la información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en tiempo real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r funcionarios especializados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en el tema en todas las oficinas del paí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ASPECTOS GENERALE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4720" y="2811600"/>
          <a:ext cx="9072720" cy="3001680"/>
        </p:xfrm>
        <a:graphic>
          <a:graphicData uri="http://schemas.openxmlformats.org/drawingml/2006/table">
            <a:tbl>
              <a:tblPr/>
              <a:tblGrid>
                <a:gridCol w="1814760"/>
                <a:gridCol w="1814400"/>
                <a:gridCol w="1814400"/>
                <a:gridCol w="1814760"/>
                <a:gridCol w="181440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Registr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Clausur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A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Inac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184.09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642.4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302.7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19.4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ersonas Fís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3.476.6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70.398</a:t>
                      </a:r>
                      <a:r>
                        <a:rPr b="1" lang="en-US" sz="31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696.51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609.76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4.660.76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812.80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999.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0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1.729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257480" y="1793880"/>
            <a:ext cx="2697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Arial"/>
                <a:ea typeface="Arial"/>
              </a:rPr>
              <a:t>UNIVERS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80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UNIVERS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OBLIGADOS TRIBUTARIO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son las personas físicas, jurídicas y demás entidades pluripersonales que por las normas están obligados a inscribirse en el Registro Único Tributari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POTENCIALES OBLIGADO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todas aquellas personas físicas que en algún momento pueden verse alcanzadas por la normativa tributaria y comenzar a cumplir con obligaciones de dicho carácter. Se trata de las personas físicas cuya inscripción se realiza a partir de la información proporcionada por entidades colaboradoras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981000"/>
            <a:ext cx="9072720" cy="951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NUMERO DE IDENTIFICACION FISCAL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216180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00"/>
                </a:solidFill>
                <a:uFillTx/>
                <a:latin typeface="Tahoma"/>
              </a:rPr>
              <a:t>NUMERO DE RUT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UY" sz="2200" spc="-1" strike="noStrike">
                <a:solidFill>
                  <a:srgbClr val="e5ffff"/>
                </a:solidFill>
                <a:latin typeface="Tahoma"/>
              </a:rPr>
              <a:t>Número de identificación único, invariable y no reutiliza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RUC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otorgado por la Dirección General Impositiv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CI 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número otorgado a las  personas físicas con cédula de identidad expedida por la Dirección Nacional de identificación Civi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>
                <a:solidFill>
                  <a:srgbClr val="ffcc00"/>
                </a:solidFill>
                <a:latin typeface="Tahoma"/>
              </a:rPr>
              <a:t>NIE:</a:t>
            </a:r>
            <a:r>
              <a:rPr b="0" lang="es-UY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número otorgado secuencialmente por la DGI a cada persona física extranjera (Número de identificación extranjero). Su estructura y forma de validación es la de la CI  siendo el primer dígito el 9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78876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00"/>
                </a:solidFill>
                <a:latin typeface="Tahoma"/>
              </a:rPr>
              <a:t>(I) RUT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NUMERO DE IDENTIFICACION FISCAL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27080" y="2239920"/>
          <a:ext cx="8086680" cy="4984920"/>
        </p:xfrm>
        <a:graphic>
          <a:graphicData uri="http://schemas.openxmlformats.org/drawingml/2006/table">
            <a:tbl>
              <a:tblPr/>
              <a:tblGrid>
                <a:gridCol w="4044960"/>
                <a:gridCol w="4041720"/>
              </a:tblGrid>
              <a:tr h="113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C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(REGISTRO ÚNICO CONTRIBUYE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ERSONAS FISICAS (sin activida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CI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(CEDULA DE IDENTIDA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NIE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(NUMERO DE IDENTIFICAC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EXTRANJ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F (con actividad empresarial o profesion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r>
                        <a:rPr b="1" lang="es-UY" sz="1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T= RU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Calibri"/>
                        <a:buChar char="•"/>
                        <a:tabLst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800" spc="-1" strike="noStrike">
                          <a:solidFill>
                            <a:srgbClr val="e5ffff"/>
                          </a:solidFill>
                          <a:latin typeface="Tahoma"/>
                          <a:ea typeface="Arial"/>
                        </a:rPr>
                        <a:t>PF (con actividad empresarial o profesional cancelada en estado definitiv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50328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UY" sz="17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ea typeface="Arial"/>
                        </a:rPr>
                        <a:t>RUT= CI O NI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NUMERO DE RUC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7920" y="1933560"/>
            <a:ext cx="8977320" cy="4957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Gener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822240" y="2706840"/>
            <a:ext cx="13255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629080" y="2685960"/>
            <a:ext cx="11221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YYYYY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309920" y="2719440"/>
            <a:ext cx="11430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273720" y="2664000"/>
            <a:ext cx="1384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T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096920" y="2986200"/>
            <a:ext cx="2376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109520" y="5805360"/>
            <a:ext cx="1460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063960"/>
            <a:ext cx="23760" cy="182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11560" y="4857480"/>
            <a:ext cx="1349280" cy="1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400640" y="549756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2606760" y="5543640"/>
            <a:ext cx="153036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Cód. Dp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4537080" y="4695840"/>
            <a:ext cx="13716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Secuenci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375240" y="3062160"/>
            <a:ext cx="60480" cy="129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4330800"/>
            <a:ext cx="298800" cy="12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6811920" y="4915080"/>
            <a:ext cx="17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4068720"/>
            <a:ext cx="17827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Contie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1800" spc="-1" strike="noStrike">
                <a:solidFill>
                  <a:srgbClr val="0033cc"/>
                </a:solidFill>
                <a:latin typeface="Arial"/>
              </a:rPr>
              <a:t>digito verificad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651720" y="4879800"/>
            <a:ext cx="278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4900" spc="-1" strike="noStrike" u="sng">
                <a:solidFill>
                  <a:srgbClr val="e5ffff"/>
                </a:solidFill>
                <a:uFillTx/>
                <a:latin typeface="Tahoma"/>
              </a:rPr>
              <a:t>NUMERO DE RUC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Gener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Donde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xx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rango 01 a 21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YYYYYYYY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:  secuencial de 8 dígitos ≠ 0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TT: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contiene dígito verificador a partir de una regl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18:54:00Z</dcterms:created>
  <dc:creator>Gonzalo Lopez</dc:creator>
  <dc:description/>
  <dc:language>en-US</dc:language>
  <cp:lastModifiedBy> </cp:lastModifiedBy>
  <dcterms:modified xsi:type="dcterms:W3CDTF">2013-10-28T13:12:39Z</dcterms:modified>
  <cp:revision>53</cp:revision>
  <dc:subject/>
  <dc:title>ALCANCE</dc:title>
</cp:coreProperties>
</file>