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85B4A4-5578-4AD9-9EEE-0F34EEBA55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4A0F71-3B63-4163-AA78-4453A44F7267}" type="slidenum">
              <a:rPr b="0" lang="es-G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619D34-4A0A-4E5E-9862-E1713308FFF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2253AC-531E-49C6-A3C5-3943896FF8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D67F5A-08BA-4B57-B44B-FFA6CAF06B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175E66-D993-487C-AA10-80C4B5D5D01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8B63C3-B1E8-4001-86B4-40E4427624D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8816BE-4025-437C-83F2-C9450251CF7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34B1B7-F4B7-44CA-836E-EA6A394041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F092B9-08FA-498A-8044-27CC8F30D3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4A5560-C2EF-4688-BD6A-0BE0C0F41D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EE507A-F8E0-4DD0-AC26-51EC93C118A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70A740-6015-4D2F-8D55-565AA5358A8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147980-7F97-4E87-BFA5-4579E71164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80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19664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80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715920"/>
            <a:ext cx="26107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4560" y="189000"/>
            <a:ext cx="817416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1760" y="371592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1760" y="1196640"/>
            <a:ext cx="395712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109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836640"/>
            <a:ext cx="8066160" cy="71280"/>
          </a:xfrm>
          <a:prstGeom prst="pi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2700000"/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7"/>
          <p:cNvSpPr/>
          <p:nvPr/>
        </p:nvSpPr>
        <p:spPr>
          <a:xfrm>
            <a:off x="755640" y="3213000"/>
            <a:ext cx="7772400" cy="109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109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0000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.gt/url?sa=i&amp;source=images&amp;cd=&amp;cad=rja&amp;docid=XP3cSjZksuwFPM&amp;tbnid=gJSWYxt5OEY0yM:&amp;ved=0CAUQjRw&amp;url=http%3A%2F%2Fdiariojudio.com%2Fcomunidad-judia-mexico%2Fcomienza-hoy-el-congreso-anual-de-lideres-judios-del-keren-kayemet-leisrael%2F42543%2F&amp;ei=a8L_UbbSN4rS9QTUuYDYCA&amp;psig=AFQjCNF0-Sgbv4aUDk9wXw6kyGYMSuBHww&amp;ust=1375802336406370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68360" y="1557360"/>
          <a:ext cx="7289640" cy="3063960"/>
        </p:xfrm>
        <a:graphic>
          <a:graphicData uri="http://schemas.openxmlformats.org/drawingml/2006/table">
            <a:tbl>
              <a:tblPr/>
              <a:tblGrid>
                <a:gridCol w="7289640"/>
              </a:tblGrid>
              <a:tr h="839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- SA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EL REGISTRO DE CONTRIBUYE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LOCALIZACIÓN</a:t>
                      </a:r>
                      <a:br>
                        <a:rPr sz="2000"/>
                      </a:b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376092"/>
                          </a:solidFill>
                          <a:latin typeface="Georgia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5" descr="Dibujo"/>
          <p:cNvPicPr/>
          <p:nvPr/>
        </p:nvPicPr>
        <p:blipFill>
          <a:blip r:embed="rId3"/>
          <a:srcRect l="6956" t="12589" r="12715" b="44104"/>
          <a:stretch/>
        </p:blipFill>
        <p:spPr>
          <a:xfrm>
            <a:off x="639720" y="5094360"/>
            <a:ext cx="2367000" cy="828720"/>
          </a:xfrm>
          <a:prstGeom prst="rect">
            <a:avLst/>
          </a:prstGeom>
          <a:ln w="0">
            <a:noFill/>
          </a:ln>
        </p:spPr>
      </p:pic>
      <p:pic>
        <p:nvPicPr>
          <p:cNvPr id="90" name="13 Imagen" descr="http://intrasat2/Imagenes%20CSI/Codonacion_deuda_2013.png"/>
          <p:cNvPicPr/>
          <p:nvPr/>
        </p:nvPicPr>
        <p:blipFill>
          <a:blip r:embed="rId4"/>
          <a:srcRect l="89104" t="89412" r="0" b="0"/>
          <a:stretch/>
        </p:blipFill>
        <p:spPr>
          <a:xfrm>
            <a:off x="3006720" y="5264280"/>
            <a:ext cx="2036880" cy="73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t2.gstatic.com/images?q=tbn:ANd9GcT0oBe6zMfZMK_vSwazaALg3yhXduVs3c5A8YM17JS2rfb0QDA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19840" y="3060720"/>
            <a:ext cx="3004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LANES OPERATIV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7" name="4 Diagrama" descr=""/>
          <p:cNvPicPr/>
          <p:nvPr/>
        </p:nvPicPr>
        <p:blipFill>
          <a:blip r:embed="rId2"/>
          <a:stretch/>
        </p:blipFill>
        <p:spPr>
          <a:xfrm>
            <a:off x="1359000" y="1536840"/>
            <a:ext cx="630396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MOTIVOS DE IDENTIFIC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9" name="4 Diagrama" descr=""/>
          <p:cNvPicPr/>
          <p:nvPr/>
        </p:nvPicPr>
        <p:blipFill>
          <a:blip r:embed="rId2"/>
          <a:stretch/>
        </p:blipFill>
        <p:spPr>
          <a:xfrm>
            <a:off x="1212840" y="974880"/>
            <a:ext cx="622476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PROBLEMAS COMUNE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1" name="4 Diagrama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6431040" cy="3726000"/>
          </a:xfrm>
          <a:prstGeom prst="rect">
            <a:avLst/>
          </a:prstGeom>
          <a:ln w="0">
            <a:noFill/>
          </a:ln>
        </p:spPr>
      </p:pic>
      <p:pic>
        <p:nvPicPr>
          <p:cNvPr id="122" name="6 Imagen" descr="descarga (6).jpg"/>
          <p:cNvPicPr/>
          <p:nvPr/>
        </p:nvPicPr>
        <p:blipFill>
          <a:blip r:embed="rId3"/>
          <a:stretch/>
        </p:blipFill>
        <p:spPr>
          <a:xfrm>
            <a:off x="7164360" y="1268280"/>
            <a:ext cx="1657440" cy="1656000"/>
          </a:xfrm>
          <a:prstGeom prst="rect">
            <a:avLst/>
          </a:prstGeom>
          <a:ln w="0">
            <a:noFill/>
          </a:ln>
        </p:spPr>
      </p:pic>
      <p:pic>
        <p:nvPicPr>
          <p:cNvPr id="123" name="5 Imagen" descr="15419719-obligatorio-recto-o-girar-a-la-derecha-por-delante-carril-de-trafico-de-la-ruta-direccion-signo-punt.jpg"/>
          <p:cNvPicPr/>
          <p:nvPr/>
        </p:nvPicPr>
        <p:blipFill>
          <a:blip r:embed="rId4"/>
          <a:stretch/>
        </p:blipFill>
        <p:spPr>
          <a:xfrm>
            <a:off x="7308720" y="32846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99"/>
                </a:solidFill>
                <a:latin typeface="Verdana"/>
              </a:rPr>
              <a:t>INTERACCIÓN DEL RTU</a:t>
            </a:r>
            <a:endParaRPr b="1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5" name="19 Diagrama" descr=""/>
          <p:cNvPicPr/>
          <p:nvPr/>
        </p:nvPicPr>
        <p:blipFill>
          <a:blip r:embed="rId2"/>
          <a:stretch/>
        </p:blipFill>
        <p:spPr>
          <a:xfrm>
            <a:off x="353880" y="804960"/>
            <a:ext cx="8796600" cy="53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3399"/>
                </a:solidFill>
                <a:latin typeface="Verdana"/>
              </a:rPr>
              <a:t>ESTADISTIC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7" name="3 Diagrama" descr=""/>
          <p:cNvPicPr/>
          <p:nvPr/>
        </p:nvPicPr>
        <p:blipFill>
          <a:blip r:embed="rId2"/>
          <a:stretch/>
        </p:blipFill>
        <p:spPr>
          <a:xfrm>
            <a:off x="1122480" y="1566720"/>
            <a:ext cx="671652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76092"/>
                </a:solidFill>
                <a:latin typeface="Palatino Linotype"/>
                <a:ea typeface="ＭＳ Ｐゴシック"/>
              </a:rPr>
              <a:t>GRACIAS POR SU ATEN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rcRect l="2852" t="13549" r="6404" b="20835"/>
          <a:stretch/>
        </p:blipFill>
        <p:spPr>
          <a:xfrm>
            <a:off x="2771640" y="5013360"/>
            <a:ext cx="20415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31" name="3 Imagen" descr="tramites.jpg"/>
          <p:cNvPicPr/>
          <p:nvPr/>
        </p:nvPicPr>
        <p:blipFill>
          <a:blip r:embed="rId4"/>
          <a:stretch/>
        </p:blipFill>
        <p:spPr>
          <a:xfrm>
            <a:off x="6804000" y="3284640"/>
            <a:ext cx="2160720" cy="21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bujo"/>
          <p:cNvPicPr/>
          <p:nvPr/>
        </p:nvPicPr>
        <p:blipFill>
          <a:blip r:embed="rId5"/>
          <a:srcRect l="6956" t="12589" r="12715" b="44104"/>
          <a:stretch/>
        </p:blipFill>
        <p:spPr>
          <a:xfrm>
            <a:off x="250920" y="4797360"/>
            <a:ext cx="2367000" cy="828720"/>
          </a:xfrm>
          <a:prstGeom prst="rect">
            <a:avLst/>
          </a:prstGeom>
          <a:ln w="0">
            <a:noFill/>
          </a:ln>
        </p:spPr>
      </p:pic>
      <p:sp>
        <p:nvSpPr>
          <p:cNvPr id="133" name="8 Rectángulo"/>
          <p:cNvSpPr/>
          <p:nvPr/>
        </p:nvSpPr>
        <p:spPr>
          <a:xfrm>
            <a:off x="6067440" y="3357720"/>
            <a:ext cx="1800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882360"/>
            <a:ext cx="8136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32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33240" indent="-45396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Calibri"/>
              </a:rPr>
              <a:t>Artículo 120 del Código Tributario y sus reform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2"/>
          <a:stretch/>
        </p:blipFill>
        <p:spPr>
          <a:xfrm>
            <a:off x="244440" y="2382840"/>
            <a:ext cx="87282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00000" y="213372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TIPO DE PERSO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6 Imagen" descr="images (12).jpg"/>
          <p:cNvPicPr/>
          <p:nvPr/>
        </p:nvPicPr>
        <p:blipFill>
          <a:blip r:embed="rId2"/>
          <a:srcRect l="0" t="0" r="0" b="19576"/>
          <a:stretch/>
        </p:blipFill>
        <p:spPr>
          <a:xfrm>
            <a:off x="5796000" y="4108320"/>
            <a:ext cx="334800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5 Diagrama" descr=""/>
          <p:cNvPicPr/>
          <p:nvPr/>
        </p:nvPicPr>
        <p:blipFill>
          <a:blip r:embed="rId3"/>
          <a:stretch/>
        </p:blipFill>
        <p:spPr>
          <a:xfrm>
            <a:off x="182520" y="1395360"/>
            <a:ext cx="688824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3399"/>
                </a:solidFill>
                <a:latin typeface="Verdana"/>
              </a:rPr>
              <a:t>REGISTROS</a:t>
            </a:r>
            <a:endParaRPr b="1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0" name="5 Diagrama" descr=""/>
          <p:cNvPicPr/>
          <p:nvPr/>
        </p:nvPicPr>
        <p:blipFill>
          <a:blip r:embed="rId2"/>
          <a:stretch/>
        </p:blipFill>
        <p:spPr>
          <a:xfrm>
            <a:off x="712800" y="1427040"/>
            <a:ext cx="535320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01" name="8 Elipse"/>
          <p:cNvGrpSpPr/>
          <p:nvPr/>
        </p:nvGrpSpPr>
        <p:grpSpPr>
          <a:xfrm>
            <a:off x="6278400" y="1249200"/>
            <a:ext cx="2335320" cy="2262240"/>
            <a:chOff x="6278400" y="1249200"/>
            <a:chExt cx="2335320" cy="2262240"/>
          </a:xfrm>
        </p:grpSpPr>
        <p:pic>
          <p:nvPicPr>
            <p:cNvPr id="102" name="8 Elipse" descr=""/>
            <p:cNvPicPr/>
            <p:nvPr/>
          </p:nvPicPr>
          <p:blipFill>
            <a:blip r:embed="rId3"/>
            <a:stretch/>
          </p:blipFill>
          <p:spPr>
            <a:xfrm>
              <a:off x="6278400" y="1249200"/>
              <a:ext cx="233532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637320" y="1595520"/>
              <a:ext cx="163044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84040"/>
            <a:ext cx="846288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5" name="4 Diagrama" descr=""/>
          <p:cNvPicPr/>
          <p:nvPr/>
        </p:nvPicPr>
        <p:blipFill>
          <a:blip r:embed="rId2"/>
          <a:stretch/>
        </p:blipFill>
        <p:spPr>
          <a:xfrm>
            <a:off x="590400" y="1511280"/>
            <a:ext cx="810288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560" y="188640"/>
            <a:ext cx="817416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Verdana"/>
              </a:rPr>
              <a:t>REQUISITOS Inscripción/Actualizació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7" name="4 Diagrama" descr=""/>
          <p:cNvPicPr/>
          <p:nvPr/>
        </p:nvPicPr>
        <p:blipFill>
          <a:blip r:embed="rId2"/>
          <a:stretch/>
        </p:blipFill>
        <p:spPr>
          <a:xfrm>
            <a:off x="554040" y="1620720"/>
            <a:ext cx="7888320" cy="371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ENTIDADES NO LUCRATIVA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9" name="4 Diagrama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7419960" cy="34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BASE LEGAL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91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3399"/>
                </a:solidFill>
                <a:latin typeface="Calibri"/>
              </a:rPr>
              <a:t>Decreto 4-2012 vigencia 25 de febrero de 20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4 Diagrama" descr=""/>
          <p:cNvPicPr/>
          <p:nvPr/>
        </p:nvPicPr>
        <p:blipFill>
          <a:blip r:embed="rId2"/>
          <a:stretch/>
        </p:blipFill>
        <p:spPr>
          <a:xfrm>
            <a:off x="1133640" y="828720"/>
            <a:ext cx="7407000" cy="53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http://www.racingimport.com/images/imglocalizacion.jpg"/>
          <p:cNvPicPr/>
          <p:nvPr/>
        </p:nvPicPr>
        <p:blipFill>
          <a:blip r:embed="rId2"/>
          <a:stretch/>
        </p:blipFill>
        <p:spPr>
          <a:xfrm>
            <a:off x="6437160" y="828720"/>
            <a:ext cx="251172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189000"/>
            <a:ext cx="8174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3600" spc="-1" strike="noStrike">
                <a:solidFill>
                  <a:srgbClr val="003399"/>
                </a:solidFill>
                <a:latin typeface="Verdana"/>
              </a:rPr>
              <a:t>VERIFICACIÓN EXTREMO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4 Diagrama" descr=""/>
          <p:cNvPicPr/>
          <p:nvPr/>
        </p:nvPicPr>
        <p:blipFill>
          <a:blip r:embed="rId3"/>
          <a:stretch/>
        </p:blipFill>
        <p:spPr>
          <a:xfrm>
            <a:off x="195120" y="90180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5:20:02Z</dcterms:created>
  <dc:creator>Licda. Fabiola Ortíz</dc:creator>
  <dc:description/>
  <dc:language>en-US</dc:language>
  <cp:lastModifiedBy> </cp:lastModifiedBy>
  <dcterms:modified xsi:type="dcterms:W3CDTF">2013-10-28T13:00:30Z</dcterms:modified>
  <cp:revision>286</cp:revision>
  <dc:subject/>
  <dc:title>Cuenta Corriente Integra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n2">
    <vt:lpwstr/>
  </property>
</Properties>
</file>