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D030F2A4-4EA2-4D79-9F72-196EE4E88F96}" type="slidenum">
              <a:rPr b="0" lang="es-UY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5E9D30B-BA5F-4389-9C99-B4183F6919D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C05A48D3-2DBE-4A89-BF93-482F3C6E5AD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0F413BD-5C78-43FE-AB1C-EAE7884F242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6A16467D-A05A-4584-8FDA-FF658D5818C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EADC29C0-D7CD-4715-89DA-C69913D0D189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1A37FA8-045D-412B-BB75-D697B872BD9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06F251CE-7023-4E16-A6ED-B9CBD1E55473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801E70E6-BBFC-4233-86A3-BBC3008ACD01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B8A02F7-1631-4456-936E-DB96C0BC89FC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5D385A9E-15EF-4D23-9984-050C0A9DD5AE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207EAD6-D1D0-4BDC-A7D7-58F1E066825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F1BE044-34EA-4BB9-BF50-2FC518382556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AECC44A4-1DAD-4ECE-9B9A-A50B7261975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A3A0973-D870-4839-874C-8552C674AE68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9040A171-1451-43AC-9F72-815C9F64334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DF33CAF-3219-4793-A243-7CC9443FBB3D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5D16202-027F-49FB-93A9-27E0A694ABA7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1A89C6B4-DDA7-413A-93B3-38075A246A10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FED218B8-C0F2-4159-AB2C-13207F2BDEB1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378D886-F79E-4273-8304-5CB8E213A71A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F6D82C55-AD07-4154-A193-38446EE0D6D9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Marcador de número de diapositiva 6"/>
          <p:cNvSpPr/>
          <p:nvPr/>
        </p:nvSpPr>
        <p:spPr>
          <a:xfrm>
            <a:off x="3846600" y="943128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B03314F4-D852-4015-9DDE-8B260BD1F544}" type="slidenum">
              <a:rPr b="0" lang="es-UY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5840" y="75420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962-FA6B-4B68-8AC5-927A15A3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C94-8292-4453-877F-065CF0B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535-9966-4BDF-B4AF-E1B0BAF5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B71-3BBD-4906-ACF2-4D3DE464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CB6-FA74-490F-B982-B7A2B1C9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6DD-035F-4049-A6DA-98CBFA99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A814-49B4-4FCE-8E39-8E57A67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0ECB-3BB7-4FF5-AA69-D07EB861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2250-1696-44B5-A6DA-9AFA404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2FF-B13A-4726-BD40-DD86870A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CD6-606B-4D61-AA40-03907CD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6C7-BD82-4B04-BFCC-01B8350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99A-E1EA-4081-BF42-6B492F0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A5E-8625-4286-B39C-0BFACEC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EE3-32F3-45B5-B007-21A15A22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3FE-F4BB-4712-A590-A142C285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228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21844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228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5536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2965-079B-4703-A3B0-93370F89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8AA-8722-41BD-B0F9-E497844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23B-DBFC-4F78-95FA-0F9BC98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CE1-5A7F-44F6-9C57-E4EAA565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420840"/>
            <a:ext cx="90727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11B-5270-4029-9DF8-B381C6C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139-BDD1-4EFB-A04C-BAF22A5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536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846-AE2F-4CA3-BA46-DB1ECAC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1844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5536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D3C-D2BD-44EA-9209-2CF92D8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E1C5070-C264-45AD-BC1D-09F84212677F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4E51684-044E-4282-80CD-51FF9113CA40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788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7BBF5B5-7B3F-4C38-A02C-3864CA9586DF}" type="datetime">
              <a:rPr b="0" lang="es-ES" sz="15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602F805-EA65-4FAA-8CCB-91F12763B500}" type="slidenum">
              <a:rPr b="0" lang="es-E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ELEMENTOS BASICOS DE LOS MODELOS DE GESTION DEL SISTEMA TRIBUTARI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3376440"/>
            <a:ext cx="6172200" cy="207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0680" y="5816520"/>
            <a:ext cx="286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ENCUENTRO SUR-SU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GUATEMALA-ANTIGU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</a:t>
            </a:r>
            <a:r>
              <a:rPr b="1" lang="es-ES" sz="1200" spc="-1" strike="noStrike">
                <a:solidFill>
                  <a:srgbClr val="ffffff"/>
                </a:solidFill>
                <a:latin typeface="Tahoma"/>
                <a:ea typeface="Arial"/>
              </a:rPr>
              <a:t>Agosto 2013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lang="es-UY" sz="1200" spc="-1" strike="noStrike">
                <a:solidFill>
                  <a:srgbClr val="ffffff"/>
                </a:solidFill>
                <a:latin typeface="Tahoma"/>
                <a:ea typeface="Arial"/>
              </a:rPr>
              <a:t>URUGUA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504-952E-4686-8B16-8F367EC680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0040" y="1108080"/>
            <a:ext cx="969336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FE1-E0B6-4495-88C7-E8528852E3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719280"/>
            <a:ext cx="9072720" cy="132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MINISTERIO DE ECONOMIA Y FINANZAS: UNIDADES EJECUTOR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4720" y="2184480"/>
            <a:ext cx="9072360" cy="4534200"/>
            <a:chOff x="504720" y="2184480"/>
            <a:chExt cx="9072360" cy="4534200"/>
          </a:xfrm>
        </p:grpSpPr>
        <p:cxnSp>
          <p:nvCxnSpPr>
            <p:cNvPr id="119" name="_s133154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667728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33152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6259320" y="277920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33150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5841360" y="3197160"/>
              <a:ext cx="907560" cy="25077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33148"/>
            <p:cNvCxnSpPr>
              <a:stCxn id="127" idx="0"/>
              <a:endCxn id="121" idx="2"/>
            </p:cNvCxnSpPr>
            <p:nvPr/>
          </p:nvCxnSpPr>
          <p:spPr>
            <a:xfrm flipV="1" rot="16200000">
              <a:off x="5423760" y="3614760"/>
              <a:ext cx="907560" cy="16729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33146"/>
            <p:cNvCxnSpPr>
              <a:stCxn id="129" idx="0"/>
              <a:endCxn id="121" idx="2"/>
            </p:cNvCxnSpPr>
            <p:nvPr/>
          </p:nvCxnSpPr>
          <p:spPr>
            <a:xfrm flipV="1" rot="16200000">
              <a:off x="5006160" y="4032360"/>
              <a:ext cx="907560" cy="8373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33144"/>
            <p:cNvCxnSpPr>
              <a:stCxn id="131" idx="0"/>
              <a:endCxn id="121" idx="2"/>
            </p:cNvCxnSpPr>
            <p:nvPr/>
          </p:nvCxnSpPr>
          <p:spPr>
            <a:xfrm flipV="1">
              <a:off x="5041800" y="3997440"/>
              <a:ext cx="1440" cy="90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33142"/>
            <p:cNvCxnSpPr>
              <a:stCxn id="133" idx="0"/>
              <a:endCxn id="121" idx="2"/>
            </p:cNvCxnSpPr>
            <p:nvPr/>
          </p:nvCxnSpPr>
          <p:spPr>
            <a:xfrm flipH="1" flipV="1" rot="5400000">
              <a:off x="4170600" y="4033440"/>
              <a:ext cx="907560" cy="83556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33136"/>
            <p:cNvCxnSpPr>
              <a:stCxn id="135" idx="0"/>
              <a:endCxn id="121" idx="2"/>
            </p:cNvCxnSpPr>
            <p:nvPr/>
          </p:nvCxnSpPr>
          <p:spPr>
            <a:xfrm flipH="1" flipV="1" rot="5400000">
              <a:off x="3752640" y="3615840"/>
              <a:ext cx="907560" cy="16711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33134"/>
            <p:cNvCxnSpPr>
              <a:stCxn id="137" idx="0"/>
              <a:endCxn id="121" idx="2"/>
            </p:cNvCxnSpPr>
            <p:nvPr/>
          </p:nvCxnSpPr>
          <p:spPr>
            <a:xfrm flipH="1" flipV="1" rot="5400000">
              <a:off x="3335400" y="3198240"/>
              <a:ext cx="907560" cy="25063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33133"/>
            <p:cNvCxnSpPr>
              <a:stCxn id="139" idx="0"/>
              <a:endCxn id="121" idx="2"/>
            </p:cNvCxnSpPr>
            <p:nvPr/>
          </p:nvCxnSpPr>
          <p:spPr>
            <a:xfrm flipH="1" flipV="1" rot="5400000">
              <a:off x="2916360" y="2779560"/>
              <a:ext cx="907560" cy="334368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33132"/>
            <p:cNvCxnSpPr>
              <a:stCxn id="141" idx="0"/>
              <a:endCxn id="121" idx="2"/>
            </p:cNvCxnSpPr>
            <p:nvPr/>
          </p:nvCxnSpPr>
          <p:spPr>
            <a:xfrm flipH="1" flipV="1" rot="5400000">
              <a:off x="2498760" y="2361960"/>
              <a:ext cx="907560" cy="4178520"/>
            </a:xfrm>
            <a:prstGeom prst="bentConnector3">
              <a:avLst>
                <a:gd name="adj1" fmla="val 115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133128"/>
            <p:cNvSpPr/>
            <p:nvPr/>
          </p:nvSpPr>
          <p:spPr>
            <a:xfrm>
              <a:off x="4682880" y="218448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inisteri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om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Finanz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_s133129"/>
            <p:cNvSpPr/>
            <p:nvPr/>
          </p:nvSpPr>
          <p:spPr>
            <a:xfrm>
              <a:off x="50472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reta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_s133130"/>
            <p:cNvSpPr/>
            <p:nvPr/>
          </p:nvSpPr>
          <p:spPr>
            <a:xfrm>
              <a:off x="13402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adu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_s133131"/>
            <p:cNvSpPr/>
            <p:nvPr/>
          </p:nvSpPr>
          <p:spPr>
            <a:xfrm>
              <a:off x="21762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í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n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_s133135"/>
            <p:cNvSpPr/>
            <p:nvPr/>
          </p:nvSpPr>
          <p:spPr>
            <a:xfrm>
              <a:off x="30117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esorerí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_s133141"/>
            <p:cNvSpPr/>
            <p:nvPr/>
          </p:nvSpPr>
          <p:spPr>
            <a:xfrm>
              <a:off x="38476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Impositiva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_s133143"/>
            <p:cNvSpPr/>
            <p:nvPr/>
          </p:nvSpPr>
          <p:spPr>
            <a:xfrm>
              <a:off x="46836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Aduan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_s133145"/>
            <p:cNvSpPr/>
            <p:nvPr/>
          </p:nvSpPr>
          <p:spPr>
            <a:xfrm>
              <a:off x="551916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Loterí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Quiniela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_s133147"/>
            <p:cNvSpPr/>
            <p:nvPr/>
          </p:nvSpPr>
          <p:spPr>
            <a:xfrm>
              <a:off x="635508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Nacion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tastr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_s133149"/>
            <p:cNvSpPr/>
            <p:nvPr/>
          </p:nvSpPr>
          <p:spPr>
            <a:xfrm>
              <a:off x="7191000" y="4905000"/>
              <a:ext cx="716040" cy="1813680"/>
            </a:xfrm>
            <a:custGeom>
              <a:avLst/>
              <a:gdLst>
                <a:gd name="textAreaLeft" fmla="*/ 34920 w 716040"/>
                <a:gd name="textAreaRight" fmla="*/ 681120 w 71604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695">
                  <a:moveTo>
                    <a:pt x="3600" y="0"/>
                  </a:moveTo>
                  <a:arcTo wR="3600" hR="3600" stAng="16200000" swAng="-5400000"/>
                  <a:lnTo>
                    <a:pt x="0" y="51095"/>
                  </a:lnTo>
                  <a:arcTo wR="3600" hR="3600" stAng="10800000" swAng="-5400000"/>
                  <a:lnTo>
                    <a:pt x="18000" y="546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asinos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_s133151"/>
            <p:cNvSpPr/>
            <p:nvPr/>
          </p:nvSpPr>
          <p:spPr>
            <a:xfrm>
              <a:off x="80265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erci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_s133153"/>
            <p:cNvSpPr/>
            <p:nvPr/>
          </p:nvSpPr>
          <p:spPr>
            <a:xfrm>
              <a:off x="8861760" y="4905000"/>
              <a:ext cx="715320" cy="1813680"/>
            </a:xfrm>
            <a:custGeom>
              <a:avLst/>
              <a:gdLst>
                <a:gd name="textAreaLeft" fmla="*/ 34920 w 715320"/>
                <a:gd name="textAreaRight" fmla="*/ 680400 w 715320"/>
                <a:gd name="textAreaTop" fmla="*/ 34920 h 1813680"/>
                <a:gd name="textAreaBottom" fmla="*/ 1778760 h 1813680"/>
              </a:gdLst>
              <a:ahLst/>
              <a:rect l="textAreaLeft" t="textAreaTop" r="textAreaRight" b="textAreaBottom"/>
              <a:pathLst>
                <a:path w="21600" h="54750">
                  <a:moveTo>
                    <a:pt x="3600" y="0"/>
                  </a:moveTo>
                  <a:arcTo wR="3600" hR="3600" stAng="16200000" swAng="-5400000"/>
                  <a:lnTo>
                    <a:pt x="0" y="51150"/>
                  </a:lnTo>
                  <a:arcTo wR="3600" hR="3600" stAng="10800000" swAng="-5400000"/>
                  <a:lnTo>
                    <a:pt x="18000" y="547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Sec.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-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tiva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de Grupo 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Mercado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9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mún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851-0DA1-4FBC-90B2-1BF744C61C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1023480"/>
            <a:ext cx="907272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DIRECCION GENERAL IMPOSITIVA- COMETIDOS ASIGNAD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720" y="2053800"/>
            <a:ext cx="90727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>
                <a:solidFill>
                  <a:srgbClr val="ffcc00"/>
                </a:solidFill>
                <a:latin typeface="Tahoma"/>
              </a:rPr>
              <a:t>COMETIDOS DE APOYO A LOS SUSTANTIVO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ffffff"/>
                </a:solidFill>
                <a:latin typeface="Tahoma"/>
              </a:rPr>
              <a:t>( en ambos casos con prestación dentro y fuera del ámbito de la 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3C6-CC48-4650-93C7-C0BD4C0AEC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ESTRUCTURA ORGANIZATIV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4720" y="2184480"/>
            <a:ext cx="9072360" cy="4534560"/>
            <a:chOff x="504720" y="2184480"/>
            <a:chExt cx="9072360" cy="4534560"/>
          </a:xfrm>
        </p:grpSpPr>
        <p:cxnSp>
          <p:nvCxnSpPr>
            <p:cNvPr id="148" name="_s111648"/>
            <p:cNvCxnSpPr>
              <a:stCxn id="149" idx="1"/>
              <a:endCxn id="150" idx="2"/>
            </p:cNvCxnSpPr>
            <p:nvPr/>
          </p:nvCxnSpPr>
          <p:spPr>
            <a:xfrm rot="10800000">
              <a:off x="5041440" y="3008160"/>
              <a:ext cx="16344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11646"/>
            <p:cNvCxnSpPr>
              <a:stCxn id="152" idx="3"/>
              <a:endCxn id="150" idx="2"/>
            </p:cNvCxnSpPr>
            <p:nvPr/>
          </p:nvCxnSpPr>
          <p:spPr>
            <a:xfrm flipV="1">
              <a:off x="4877280" y="3008160"/>
              <a:ext cx="165600" cy="2061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11644"/>
            <p:cNvCxnSpPr>
              <a:stCxn id="154" idx="1"/>
              <a:endCxn id="150" idx="2"/>
            </p:cNvCxnSpPr>
            <p:nvPr/>
          </p:nvCxnSpPr>
          <p:spPr>
            <a:xfrm rot="10800000">
              <a:off x="5041440" y="3008160"/>
              <a:ext cx="163440" cy="82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11642"/>
            <p:cNvCxnSpPr>
              <a:stCxn id="156" idx="3"/>
              <a:endCxn id="150" idx="2"/>
            </p:cNvCxnSpPr>
            <p:nvPr/>
          </p:nvCxnSpPr>
          <p:spPr>
            <a:xfrm flipH="1" flipV="1">
              <a:off x="5041440" y="3008160"/>
              <a:ext cx="3105000" cy="716040"/>
            </a:xfrm>
            <a:prstGeom prst="bentConnector4">
              <a:avLst>
                <a:gd name="adj1" fmla="val -3675"/>
                <a:gd name="adj2" fmla="val 788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11640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61996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11638"/>
            <p:cNvCxnSpPr>
              <a:stCxn id="160" idx="0"/>
              <a:endCxn id="150" idx="2"/>
            </p:cNvCxnSpPr>
            <p:nvPr/>
          </p:nvCxnSpPr>
          <p:spPr>
            <a:xfrm flipV="1" rot="16200000">
              <a:off x="5042160" y="3008160"/>
              <a:ext cx="2886120" cy="28875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111636"/>
            <p:cNvCxnSpPr>
              <a:stCxn id="162" idx="0"/>
              <a:endCxn id="150" idx="2"/>
            </p:cNvCxnSpPr>
            <p:nvPr/>
          </p:nvCxnSpPr>
          <p:spPr>
            <a:xfrm flipV="1" rot="16200000">
              <a:off x="4464720" y="3585600"/>
              <a:ext cx="2886120" cy="17326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111634"/>
            <p:cNvCxnSpPr>
              <a:stCxn id="164" idx="0"/>
              <a:endCxn id="150" idx="2"/>
            </p:cNvCxnSpPr>
            <p:nvPr/>
          </p:nvCxnSpPr>
          <p:spPr>
            <a:xfrm flipV="1" rot="16200000">
              <a:off x="3887280" y="4163760"/>
              <a:ext cx="2886120" cy="5763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11632"/>
            <p:cNvCxnSpPr>
              <a:stCxn id="166" idx="0"/>
              <a:endCxn id="150" idx="2"/>
            </p:cNvCxnSpPr>
            <p:nvPr/>
          </p:nvCxnSpPr>
          <p:spPr>
            <a:xfrm flipH="1" flipV="1" rot="5400000">
              <a:off x="3309480" y="4162680"/>
              <a:ext cx="2886120" cy="57888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11630"/>
            <p:cNvCxnSpPr>
              <a:stCxn id="168" idx="0"/>
              <a:endCxn id="150" idx="2"/>
            </p:cNvCxnSpPr>
            <p:nvPr/>
          </p:nvCxnSpPr>
          <p:spPr>
            <a:xfrm flipH="1" flipV="1" rot="5400000">
              <a:off x="2732400" y="3585240"/>
              <a:ext cx="2886120" cy="173376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111629"/>
            <p:cNvCxnSpPr>
              <a:stCxn id="170" idx="0"/>
              <a:endCxn id="150" idx="2"/>
            </p:cNvCxnSpPr>
            <p:nvPr/>
          </p:nvCxnSpPr>
          <p:spPr>
            <a:xfrm flipH="1" flipV="1" rot="5400000">
              <a:off x="2155320" y="3007800"/>
              <a:ext cx="2886120" cy="288864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111628"/>
            <p:cNvCxnSpPr>
              <a:stCxn id="172" idx="0"/>
              <a:endCxn id="150" idx="2"/>
            </p:cNvCxnSpPr>
            <p:nvPr/>
          </p:nvCxnSpPr>
          <p:spPr>
            <a:xfrm flipH="1" flipV="1" rot="5400000">
              <a:off x="1578600" y="2431080"/>
              <a:ext cx="2886120" cy="4041720"/>
            </a:xfrm>
            <a:prstGeom prst="bentConnector3">
              <a:avLst>
                <a:gd name="adj1" fmla="val 36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11624"/>
            <p:cNvSpPr/>
            <p:nvPr/>
          </p:nvSpPr>
          <p:spPr>
            <a:xfrm>
              <a:off x="4546080" y="218448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rec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ener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_s111625"/>
            <p:cNvSpPr/>
            <p:nvPr/>
          </p:nvSpPr>
          <p:spPr>
            <a:xfrm>
              <a:off x="5047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Aten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Asistenc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_s111626"/>
            <p:cNvSpPr/>
            <p:nvPr/>
          </p:nvSpPr>
          <p:spPr>
            <a:xfrm>
              <a:off x="16592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caudación y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ol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xtensivo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_s111627"/>
            <p:cNvSpPr/>
            <p:nvPr/>
          </p:nvSpPr>
          <p:spPr>
            <a:xfrm>
              <a:off x="28141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Fiscal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_s111631"/>
            <p:cNvSpPr/>
            <p:nvPr/>
          </p:nvSpPr>
          <p:spPr>
            <a:xfrm>
              <a:off x="39686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_s111633"/>
            <p:cNvSpPr/>
            <p:nvPr/>
          </p:nvSpPr>
          <p:spPr>
            <a:xfrm>
              <a:off x="51235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formát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_s111635"/>
            <p:cNvSpPr/>
            <p:nvPr/>
          </p:nvSpPr>
          <p:spPr>
            <a:xfrm>
              <a:off x="62780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Técnico Fisca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_s111637"/>
            <p:cNvSpPr/>
            <p:nvPr/>
          </p:nvSpPr>
          <p:spPr>
            <a:xfrm>
              <a:off x="743292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Interior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_s111639"/>
            <p:cNvSpPr/>
            <p:nvPr/>
          </p:nvSpPr>
          <p:spPr>
            <a:xfrm>
              <a:off x="8587440" y="58946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Grandes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Contribuyente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_s111641"/>
            <p:cNvSpPr/>
            <p:nvPr/>
          </p:nvSpPr>
          <p:spPr>
            <a:xfrm>
              <a:off x="7155720" y="3312000"/>
              <a:ext cx="99072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uditoria Intern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_s111643"/>
            <p:cNvSpPr/>
            <p:nvPr/>
          </p:nvSpPr>
          <p:spPr>
            <a:xfrm>
              <a:off x="5204880" y="3421080"/>
              <a:ext cx="99180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Tributari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_s111645"/>
            <p:cNvSpPr/>
            <p:nvPr/>
          </p:nvSpPr>
          <p:spPr>
            <a:xfrm>
              <a:off x="388620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n Planificación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Organización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y Control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_s111647"/>
            <p:cNvSpPr/>
            <p:nvPr/>
          </p:nvSpPr>
          <p:spPr>
            <a:xfrm>
              <a:off x="5205960" y="4658040"/>
              <a:ext cx="989640" cy="82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Asesoría 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000" spc="-1" strike="noStrike">
                  <a:solidFill>
                    <a:srgbClr val="0033cc"/>
                  </a:solidFill>
                  <a:latin typeface="Arial"/>
                  <a:ea typeface="Arial"/>
                </a:rPr>
                <a:t>Económica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496-BAAC-4AB8-B4DE-086948D55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DIRECCION GENER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probar el plan estraté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sesorar al jerarca sobre las normas tributarias vig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ctar resoluciones que determinen impue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elegar las funciones que le autorice la l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2751120" cy="98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6F8-1C44-483C-B158-F8ACA87381D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969480"/>
            <a:ext cx="9072720" cy="108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TENCION Y A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Atender y asistir a los contribuyentes y responsables de los tributos administrados, inscribirlos en el Registro Único Tributario, recibir sus declaraciones y expedir los certificados y constancias que deriven de su cumpl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RECAUDACION Y CONTROLES EXTEN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Gestionar la recaudación de los tributos administrados, sanciones e intereses que correspondan tanto en vía voluntaria como coac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Velar por el efectivo recaudo y cobro de los tributos y demás gravámenes de competencia de la DGI ejerciendo el control sobre los servicios de cobranza contratados con terc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Suscribir acuerdos y facilidades de pago. Velar por su seguimiento y custod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512-0579-41CD-846B-22B6DBB813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977400"/>
            <a:ext cx="9072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FISCALIZ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7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, supervisar, controlar, ejecutar y evaluar las actividades relacionadas con la gestión técnica de los procesos de fiscalización  de los tributos administr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DIVISION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igir, planear, coordinar supervisar desarrollar y evaluar las actividades de la administración y capacitación de personal , de los servicios administrativos , de los recursos financieros y de los bienes patrimoniales de la entidad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052-3E16-4FF1-A628-8C7F40E8F3B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1058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INFORMATICA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irigir, planear coordinar supervisar, ejecutar y evaluar las actividades relacionadas con la gestión, seguridad y mantenimiento de los sistemas informáticos y de la infraestructura tecn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9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900" spc="-1" strike="noStrike" u="sng">
                <a:solidFill>
                  <a:srgbClr val="ffcc66"/>
                </a:solidFill>
                <a:uFillTx/>
                <a:latin typeface="Tahoma"/>
              </a:rPr>
              <a:t>DIVISION TECNICO FISCA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800" spc="-1" strike="noStrike">
                <a:solidFill>
                  <a:srgbClr val="e5ffff"/>
                </a:solidFill>
                <a:latin typeface="Tahoma"/>
              </a:rPr>
              <a:t>Dirigir planear controlar ejecutar y evaluar las actividades relacionadas con la gestión jurídica en especial tributaria del organ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7E0-E2A5-434A-AB5C-8695BE4400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360" y="1103040"/>
            <a:ext cx="908388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5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4000" spc="-1" strike="noStrike">
                <a:solidFill>
                  <a:srgbClr val="ffcc66"/>
                </a:solidFill>
                <a:latin typeface="Tahoma"/>
              </a:rPr>
              <a:t>II)</a:t>
            </a:r>
            <a:r>
              <a:rPr b="1" lang="es-UY" sz="4000" spc="-1" strike="noStrike">
                <a:solidFill>
                  <a:srgbClr val="e5ffff"/>
                </a:solidFill>
                <a:latin typeface="Tahoma"/>
              </a:rPr>
              <a:t> PRINCIPALES FUNCIONES ASIGNAD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INTERI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r dirigir coordinar y ejecutar las funciones propias de las dependencias conforme a los programas, manuales, normas e instrucciones emanadas de las distintas áreas fun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200" spc="-1" strike="noStrike" u="sng">
                <a:solidFill>
                  <a:srgbClr val="ffcc66"/>
                </a:solidFill>
                <a:uFillTx/>
                <a:latin typeface="Tahoma"/>
              </a:rPr>
              <a:t>DIVISION GRANDES CONTRIBUYEN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</a:t>
            </a: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rigir planear coordinar controlar ejecutar y evaluar las actividades relacionadas con la recaudación de tributos y sanciones, devolución de impuestos, gestión de los mismos y la investigación y fiscalización de los tributos que recaen sobre los grandes contribuyentes 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4CB-9E8D-47AD-8D79-54AFE3679D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La normativa define a la DGI  como una organización de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tipo fun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En la determinación de su estructura aparecen además criterios de segmentación por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3200" spc="-1" strike="noStrike" u="sng">
                <a:solidFill>
                  <a:srgbClr val="ffcc66"/>
                </a:solidFill>
                <a:uFillTx/>
                <a:latin typeface="Tahoma"/>
              </a:rPr>
              <a:t>grupo de contribuyentes y territ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74D-F3C9-4C2D-AE47-BBFE17CB60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ALCANCE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</a:t>
            </a:r>
            <a:r>
              <a:rPr b="0" lang="es-UY" sz="2400" spc="-1" strike="noStrike">
                <a:solidFill>
                  <a:srgbClr val="ffcc66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SISTEMA TRIBUTARIO URUGUA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Aft>
                <a:spcPts val="1426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:</a:t>
            </a:r>
            <a:r>
              <a:rPr b="1" lang="es-UY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ORGANIZACION Y FUNCIONES DE LA ADMINSITRACION TRIBUTARIA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66"/>
                </a:solidFill>
                <a:uFillTx/>
                <a:latin typeface="Tahoma"/>
              </a:rPr>
              <a:t>PARTE III:</a:t>
            </a:r>
            <a:r>
              <a:rPr b="0" lang="es-UY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ALGUNAS CARACTERISTICAS EN LA GESTION DE LA ADMINISTRACIÓN TRIBUT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F22-BEB8-42F1-892F-D5025FAB37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88596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FUNCIONAL:</a:t>
            </a:r>
            <a:r>
              <a:rPr b="1" lang="es-UY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SEIS DIVISIONES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tención y A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caudación y Controles Extens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Fis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Admini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Informá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-287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Técnic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5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56C-3823-408A-B3F8-04974B684BF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2760" y="946080"/>
            <a:ext cx="907236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SEGMENTACION POR GRUPO DE CONTRIBUYENTES</a:t>
            </a:r>
            <a:r>
              <a:rPr b="1" lang="es-UY" sz="3500" spc="-1" strike="noStrike" u="sng">
                <a:solidFill>
                  <a:srgbClr val="000000"/>
                </a:solidFill>
                <a:uFillTx/>
                <a:latin typeface="Tahoma"/>
              </a:rPr>
              <a:t>: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División Grandes Contribuyent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725-3415-4651-BE7B-C70961AB9E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957240"/>
            <a:ext cx="90727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)</a:t>
            </a:r>
            <a:r>
              <a:rPr b="1" lang="es-UY" sz="4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MODELO ORGANIZATIVO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596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1800" spc="-1" strike="noStrike" u="sng">
                <a:solidFill>
                  <a:srgbClr val="ffcc00"/>
                </a:solidFill>
                <a:uFillTx/>
                <a:latin typeface="Tahoma"/>
              </a:rPr>
              <a:t>SEGMENTACION TERRITO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000" spc="-1" strike="noStrike">
                <a:solidFill>
                  <a:srgbClr val="e5ffff"/>
                </a:solidFill>
                <a:latin typeface="Tahoma"/>
              </a:rPr>
              <a:t>DIVISION IN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19600" y="3317760"/>
            <a:ext cx="2164680" cy="3083400"/>
            <a:chOff x="3819600" y="3317760"/>
            <a:chExt cx="2164680" cy="3083400"/>
          </a:xfrm>
        </p:grpSpPr>
        <p:cxnSp>
          <p:nvCxnSpPr>
            <p:cNvPr id="201" name="_s114737"/>
            <p:cNvCxnSpPr>
              <a:stCxn id="202" idx="1"/>
              <a:endCxn id="203" idx="2"/>
            </p:cNvCxnSpPr>
            <p:nvPr/>
          </p:nvCxnSpPr>
          <p:spPr>
            <a:xfrm flipH="1" rot="10800000">
              <a:off x="3933720" y="5386320"/>
              <a:ext cx="1029960" cy="742320"/>
            </a:xfrm>
            <a:prstGeom prst="bentConnector4">
              <a:avLst>
                <a:gd name="adj1" fmla="val -11083"/>
                <a:gd name="adj2" fmla="val 683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114733"/>
            <p:cNvCxnSpPr>
              <a:stCxn id="203" idx="0"/>
              <a:endCxn id="205" idx="2"/>
            </p:cNvCxnSpPr>
            <p:nvPr/>
          </p:nvCxnSpPr>
          <p:spPr>
            <a:xfrm flipV="1">
              <a:off x="4964040" y="4569480"/>
              <a:ext cx="2520" cy="24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114701"/>
            <p:cNvCxnSpPr/>
            <p:nvPr/>
          </p:nvCxnSpPr>
          <p:spPr>
            <a:xfrm flipH="1" flipV="1" rot="5400000">
              <a:off x="4644720" y="4054320"/>
              <a:ext cx="526680" cy="28800"/>
            </a:xfrm>
            <a:prstGeom prst="bentConnector3">
              <a:avLst>
                <a:gd name="adj1" fmla="val 2017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7" name="_s114695"/>
            <p:cNvSpPr/>
            <p:nvPr/>
          </p:nvSpPr>
          <p:spPr>
            <a:xfrm>
              <a:off x="3944520" y="3317760"/>
              <a:ext cx="2039400" cy="53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División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Interi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_s114698"/>
            <p:cNvSpPr/>
            <p:nvPr/>
          </p:nvSpPr>
          <p:spPr>
            <a:xfrm>
              <a:off x="3942000" y="4062960"/>
              <a:ext cx="2042280" cy="50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Administraciones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s-UY" sz="1800" spc="-1" strike="noStrike">
                  <a:solidFill>
                    <a:srgbClr val="0033cc"/>
                  </a:solidFill>
                  <a:latin typeface="Arial"/>
                  <a:ea typeface="Arial"/>
                </a:rPr>
                <a:t>Regionales</a:t>
              </a:r>
              <a:r>
                <a:rPr b="0" lang="es-UY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5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_s114732"/>
            <p:cNvSpPr/>
            <p:nvPr/>
          </p:nvSpPr>
          <p:spPr>
            <a:xfrm>
              <a:off x="3942000" y="4810680"/>
              <a:ext cx="20422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Unidades Operativas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1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_s114736"/>
            <p:cNvSpPr/>
            <p:nvPr/>
          </p:nvSpPr>
          <p:spPr>
            <a:xfrm>
              <a:off x="3934800" y="5859720"/>
              <a:ext cx="2039400" cy="541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Oficinas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700" spc="-1" strike="noStrike">
                  <a:solidFill>
                    <a:srgbClr val="0033cc"/>
                  </a:solidFill>
                  <a:latin typeface="Tahoma"/>
                  <a:ea typeface="Arial"/>
                </a:rPr>
                <a:t>(24)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135-A006-4F5B-8A1B-C2A8C1524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4720" y="8982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ALGUNAS CARACTERISTICAS DE LA GESTION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MECANISMOS DE COORDINACION INTERINSTITUCIONAL DE LA ADMINISTRACION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GESTION DEL AREA INFORMATICA TRIBUTARI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9B2-A54E-4A53-A3BB-6458BF0F1EA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720" y="966960"/>
            <a:ext cx="9072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ANTECEDENT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3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r>
              <a:rPr b="0" i="1" lang="es-UY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i="1" lang="es-UY" sz="2300" spc="-1" strike="noStrike">
                <a:solidFill>
                  <a:srgbClr val="e5ffff"/>
                </a:solidFill>
                <a:latin typeface="Tahoma"/>
              </a:rPr>
              <a:t>APROBADA EN EL AÑO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UY" sz="2400" spc="-1" strike="noStrike">
                <a:solidFill>
                  <a:srgbClr val="e5ffff"/>
                </a:solidFill>
                <a:latin typeface="Tahoma"/>
              </a:rPr>
              <a:t>2006 - LEY</a:t>
            </a:r>
            <a:r>
              <a:rPr b="1" i="1" lang="es-UY" sz="2400" spc="-1" strike="noStrike">
                <a:solidFill>
                  <a:srgbClr val="ffffff"/>
                </a:solidFill>
                <a:latin typeface="Tahoma"/>
              </a:rPr>
              <a:t> 1808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OBJETIVOS PERSEGU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Promover una distribución mas equitativa de la carga tributaria por medio de una simplificación del sistema tributario, eliminando impuestos y exoneraciones especiales e incorporando el impuesto a la renta de las personas fís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Mejorar la eficiencia del sistema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Generar un adecuado estimulo a la inversión produ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EE2-749F-4696-B68B-BDF951BEE84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1015920"/>
            <a:ext cx="9072720" cy="109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ffcc00"/>
                </a:solidFill>
                <a:uFillTx/>
                <a:latin typeface="Tahoma"/>
              </a:rPr>
              <a:t>REFORMA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(</a:t>
            </a:r>
            <a:r>
              <a:rPr b="0" i="1" lang="es-UY" sz="3200" spc="-1" strike="noStrike" u="sng">
                <a:solidFill>
                  <a:srgbClr val="e5ffff"/>
                </a:solidFill>
                <a:uFillTx/>
                <a:latin typeface="Tahoma"/>
              </a:rPr>
              <a:t>PILARES QUE LA SUSTENT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NORMATIVA (LEY 1808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REESTRUCTURA DE LA DG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ROMOCION DE INVER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D5A-D1A8-428D-B79E-294C84CBE2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1082520"/>
            <a:ext cx="910584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ffcc00"/>
                </a:solidFill>
                <a:uFillTx/>
                <a:latin typeface="Tahoma"/>
              </a:rPr>
              <a:t>REESTRUCTURA DE LA DG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600" spc="-1" strike="noStrike">
                <a:solidFill>
                  <a:srgbClr val="e5ffff"/>
                </a:solidFill>
                <a:latin typeface="Tahoma"/>
              </a:rPr>
              <a:t>Redefine misión y objetivos estratégico y se consagra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 ESTRATEGICO DE GESTION (quinque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PLANES OPERATIVOS ANU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COMPROMISOS DE GESTION DGI-ME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000" spc="-1" strike="noStrike">
                <a:solidFill>
                  <a:srgbClr val="e5ffff"/>
                </a:solidFill>
                <a:latin typeface="Tahoma"/>
              </a:rPr>
              <a:t>DEDICACION EXCLUSIVA y PRIMA POR RENDIMIENTO GRU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4CB-1A9B-4139-8A7B-6E7AC375DAC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720" y="1062000"/>
            <a:ext cx="9072720" cy="115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720" y="2573280"/>
            <a:ext cx="9072720" cy="414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 ESTRATEGICO DE GESTION (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QUINQUENAL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ESTABLECE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04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tratégico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309240">
              <a:lnSpc>
                <a:spcPct val="90000"/>
              </a:lnSpc>
              <a:spcBef>
                <a:spcPts val="774"/>
              </a:spcBef>
              <a:buClr>
                <a:srgbClr val="e5ffff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Objetivos específicos e iniciativas de gestió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2EB-07A5-4F28-BE35-D476812851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720" y="1060560"/>
            <a:ext cx="9072720" cy="107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PLANES OPERATIVOS ANUALES </a:t>
            </a:r>
            <a:r>
              <a:rPr b="0" i="1" lang="es-UY" sz="3500" spc="-1" strike="noStrike">
                <a:solidFill>
                  <a:srgbClr val="ffcc66"/>
                </a:solidFill>
                <a:latin typeface="Tahoma"/>
              </a:rPr>
              <a:t>(elaborados en el marco del PEG)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3500" spc="-1" strike="noStrike" u="sng">
                <a:solidFill>
                  <a:srgbClr val="e5ffff"/>
                </a:solidFill>
                <a:uFillTx/>
                <a:latin typeface="Tahoma"/>
              </a:rPr>
              <a:t>CONTIENE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asociadas a proyectos de alta prioridad para la Dirección General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774"/>
              </a:spcBef>
              <a:buClr>
                <a:srgbClr val="ffcc00"/>
              </a:buClr>
              <a:buSzPct val="65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Actividades ligadas a procesos específicos de mejora operativa continu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3B1-4A23-4BD9-AB89-E9E5096C19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720" y="1000080"/>
            <a:ext cx="9072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COMPROMISO DE GESTION (anu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ELABOR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ARTIR DEL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LAN OPERATIVO 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EL SE ESTABLEC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 DE RECAUD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S ESPECIFICOS CON METAS CUANTIFIC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BASE A ACTIVIDADES PRIORITARIAS QUE ABARCAN A TODAS LAS DIVISIONES DE LA ADMINISTRAC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3A9-71CD-4952-8E08-28C91037927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474840"/>
            <a:ext cx="907272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 SISTEMA TRIBUTARIO</a:t>
            </a:r>
            <a:endParaRPr b="0" lang="en-US" sz="4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TESTAD TRIBUTARIA</a:t>
            </a: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distribuida entr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Estado Nacional 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Gobiernos Departamenta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DE APLICA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Na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  <a:ea typeface="Tahoma"/>
              </a:rPr>
              <a:t>Departamen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DC3-EF15-4732-B682-390458D0D2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1101600"/>
            <a:ext cx="9072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PLANIFICACION ESTRATEGICA COMO INSTRUMENTO DE CONTROL DE GES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720" y="2179800"/>
            <a:ext cx="9072720" cy="53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66"/>
                </a:solidFill>
                <a:latin typeface="Tahoma"/>
              </a:rPr>
              <a:t>REGIMEN DE DESEMPEÑO DE LOS FUNCIONARI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200" spc="-1" strike="noStrike" u="sng">
                <a:solidFill>
                  <a:srgbClr val="ffffff"/>
                </a:solidFill>
                <a:uFillTx/>
                <a:latin typeface="Tahoma"/>
              </a:rPr>
              <a:t>DEDICACION EXCLUSIVA y PRIMA POR RENDIMIENTO GRUP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49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IMA POR RENDIMIENTO GRUPAL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ABARCA A TODOS LOS FUNCIONARIO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A AL CUMPLIMIENTO DE LAS METAS ESTABLECIDAS EN FORMA ANUAL (SOBRE EL POA)POR LA DGI Y AVALADAS POR EL MEF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4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JETO A UN CONTROL DE SEGUIMIENTO MENSUA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25C-3D3D-428D-B6BA-C4789704CA9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912600"/>
            <a:ext cx="9072720" cy="101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4400" spc="-1" strike="noStrike">
                <a:solidFill>
                  <a:srgbClr val="ffcc66"/>
                </a:solidFill>
                <a:latin typeface="Tahoma"/>
              </a:rPr>
              <a:t>INTEGRADA POR TRES ORGANISM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9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0192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B4E-EF0C-456F-BB70-4E990EDBBB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360" y="1025280"/>
            <a:ext cx="9129960" cy="106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 ADMINITRACION TRIBUTARIA CENTRAL:</a:t>
            </a:r>
            <a:br>
              <a:rPr sz="2800"/>
            </a:b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MECANISMOS DE COORDINACION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La ley 18083 del 27/12/2006 que  crea al IRPF  nombra a la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DGI sujeto activo y al BPS  entidad</a:t>
            </a:r>
            <a:r>
              <a:rPr b="1" lang="es-UY" sz="31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s-UY" sz="3100" spc="-1" strike="noStrike" u="sng">
                <a:solidFill>
                  <a:srgbClr val="e5ffff"/>
                </a:solidFill>
                <a:uFillTx/>
                <a:latin typeface="Tahoma"/>
              </a:rPr>
              <a:t>colaborada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en la gestión de retenciones efectuadas a sus afiliad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Con la misma información que se calculan las contribuciones a la seguridad social, el BPS determina las retenciones correspondientes al IRPF y las informa a DGI colaborando además en la cobranza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Esto permite el control de que existen iguales bases imponibles para ambos tribut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EA5-598F-4CD1-B511-02D9AB27AF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958680"/>
            <a:ext cx="9072720" cy="973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lang="es-UY" sz="3200" spc="-1" strike="noStrike">
                <a:solidFill>
                  <a:srgbClr val="ffcc66"/>
                </a:solidFill>
                <a:latin typeface="Tahoma"/>
              </a:rPr>
              <a:t>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ADMINISTRACION TRIBUTARIA-MECANISMOS DE COORDINAC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BP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VENTANILLA UNIC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Permite que los contribuyentes comunes realicen su inscripción y  actualización de datos registrales  de forma simultanea ante ambos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ECC-2267-40BB-B196-377FD977F5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4720" y="853920"/>
            <a:ext cx="9072720" cy="112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ADMINISTRACION TRIBUTARIA-MECANISMOS DE COORDINAC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66"/>
                </a:solidFill>
                <a:uFillTx/>
                <a:latin typeface="Tahoma"/>
              </a:rPr>
              <a:t>COORDINACION ENTRE DGI Y DNA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La  DGI accede a la información de comercio exterior (importación y exportación de bienes) a través del sistema LUCIA y opera en el mismo para la liquidación de impuestos, de beneficios a la exportación y exoneracione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6B1-2F5B-4606-A499-32D560C109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4720" y="808200"/>
            <a:ext cx="9072720" cy="1123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100" spc="-1" strike="noStrike">
                <a:solidFill>
                  <a:srgbClr val="e5ffff"/>
                </a:solidFill>
                <a:latin typeface="Tahoma"/>
              </a:rPr>
              <a:t>Las funciones del área de sistemas de información, si bien se consideran de apoyo a los cometidos sustantivos de la Administración, han sido consideradas estratégicas y por lo tanto asignadas dentro de la estructura organizativa a una unidad especializada de primer nivel (División Informática) dependiente de la Dirección General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63F-2CBB-4B81-8830-4C6A3AD180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720" y="923400"/>
            <a:ext cx="9072720" cy="1373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4500" spc="-1" strike="noStrike">
                <a:solidFill>
                  <a:srgbClr val="ffcc66"/>
                </a:solidFill>
                <a:latin typeface="Tahoma"/>
              </a:rPr>
              <a:t>(III)</a:t>
            </a:r>
            <a:r>
              <a:rPr b="1" lang="es-UY" sz="4500" spc="-1" strike="noStrike">
                <a:solidFill>
                  <a:srgbClr val="e5ffff"/>
                </a:solidFill>
                <a:latin typeface="Tahoma"/>
              </a:rPr>
              <a:t> GESTION DEL AREA INFORMATICA</a:t>
            </a: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RINCIPALES FUNCION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s-ES" sz="3500" spc="-1" strike="noStrike">
                <a:solidFill>
                  <a:srgbClr val="e5ffff"/>
                </a:solidFill>
                <a:latin typeface="Tahoma"/>
              </a:rPr>
              <a:t>Planificar, dirigir, ejecutar y controlar el desarrollo, la documentación, la implantación y el mantenimiento de los sistemas informáticos definidos por las áreas de planificación y usuarios involucrado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FBD-6A48-4827-818D-32132265E6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936360"/>
            <a:ext cx="9072720" cy="99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200" spc="-1" strike="noStrike">
                <a:solidFill>
                  <a:srgbClr val="ffcc00"/>
                </a:solidFill>
                <a:latin typeface="Tahoma"/>
              </a:rPr>
              <a:t>(III)</a:t>
            </a:r>
            <a:r>
              <a:rPr b="0" lang="es-UY" sz="3200" spc="-1" strike="noStrike">
                <a:solidFill>
                  <a:srgbClr val="e5ffff"/>
                </a:solidFill>
                <a:latin typeface="Tahoma"/>
              </a:rPr>
              <a:t> GESTION DEL AREA INFORMÁTIC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4720" y="1841040"/>
            <a:ext cx="9072720" cy="487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Políticas de Seguridad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773280" y="2357280"/>
            <a:ext cx="812628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Uso de estándares  (LDAP, Active Directory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Seguridad basada Roles /usuarios RBAC (Role Based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ccess Contro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Mecanismos de AAA (Autenticación, Autorización y     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Auditori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dependencia de las aplicaciones con respecto al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Esquema de  Seguridad DG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 al Menú de Servicios En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Línea para contribuyentes  (Front-End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5ffff"/>
              </a:buClr>
              <a:buSzPct val="115000"/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Integración de Aplicaciones al Menú de Funcionarios de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  <a:ea typeface="Arial"/>
              </a:rPr>
              <a:t>DGI (Back-En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448-BE32-465E-9434-EABC316A1D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s-E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720" y="2184480"/>
            <a:ext cx="90727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e5ffff"/>
                </a:solidFill>
                <a:latin typeface="Tahoma"/>
              </a:rPr>
              <a:t>MUCHAS GRACIAS POR SU ATENC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9DC-10AC-4596-8C4E-A45DEB73DD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941040"/>
            <a:ext cx="90727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2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200" spc="-1" strike="noStrike">
                <a:solidFill>
                  <a:srgbClr val="e5ffff"/>
                </a:solidFill>
                <a:latin typeface="Tahoma"/>
              </a:rPr>
              <a:t> CARACTERISTICAS GENERALES DEL SISTEMA TRIBUTARI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6160" y="2212560"/>
            <a:ext cx="907236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0" algn="ctr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UY" sz="2400" spc="-1" strike="noStrike">
                <a:solidFill>
                  <a:srgbClr val="e5ffff"/>
                </a:solidFill>
                <a:latin typeface="Tahoma"/>
              </a:rPr>
              <a:t>ADMINISTRADOS Y RECAUDADOS POR EL GOBIERNO CENTRAL DE LA SIGUIENTE MANE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IMPUESTOS INTERNOS-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General Impositiva (Unidad desconcentrada del Ministerio de Economía y Finanz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CONTRIBUCIONES PATRONALES Y OBRERAS SOBRE SALARIOS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Banco de Previsión Social (Organismo autónomo administrado por un directorio multisectori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 u="sng">
                <a:solidFill>
                  <a:srgbClr val="ffcc00"/>
                </a:solidFill>
                <a:uFillTx/>
                <a:latin typeface="Tahoma"/>
              </a:rPr>
              <a:t>TRIBUTOS RELATIVOS AL COMERCIO EXTERIOR</a:t>
            </a:r>
            <a:r>
              <a:rPr b="0" lang="es-UY" sz="24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Dirección Nacional de Aduanas (Unidad desconcentrada del Ministerio de Economía y Finanz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E0F-EA6C-446C-B24B-0824232F61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955440"/>
            <a:ext cx="90727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00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L CONSU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R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QUE GRAVAN A LA PROPIE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IMPUESTOS DE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D9F-563F-4C30-9EF5-86518FB531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1104840"/>
            <a:ext cx="9072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L CONSUM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>
                <a:solidFill>
                  <a:srgbClr val="ffcc00"/>
                </a:solidFill>
                <a:latin typeface="Tahoma"/>
              </a:rPr>
              <a:t>GENERA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NTERN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MPORTACION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184400" indent="-236880">
              <a:lnSpc>
                <a:spcPct val="90000"/>
              </a:lnSpc>
              <a:spcAft>
                <a:spcPts val="1426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100" spc="-1" strike="noStrike">
                <a:solidFill>
                  <a:srgbClr val="e5ffff"/>
                </a:solidFill>
                <a:latin typeface="Tahoma"/>
              </a:rPr>
              <a:t>IVA MINIMO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ESPECIFICO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69680" indent="-296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600" spc="-1" strike="noStrike" u="sng">
                <a:solidFill>
                  <a:srgbClr val="e5ffff"/>
                </a:solidFill>
                <a:uFillTx/>
                <a:latin typeface="Tahoma"/>
              </a:rPr>
              <a:t>IMESSI </a:t>
            </a:r>
            <a:r>
              <a:rPr b="0" lang="es-UY" sz="2600" spc="-1" strike="noStrike">
                <a:solidFill>
                  <a:srgbClr val="e5ffff"/>
                </a:solidFill>
                <a:latin typeface="Tahoma"/>
              </a:rPr>
              <a:t>(impuesto específico interno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BFA-59C0-42D2-82A9-33E0B66687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863640"/>
            <a:ext cx="9072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          </a:t>
            </a:r>
            <a:r>
              <a:rPr b="0" lang="es-UY" sz="3600" spc="-1" strike="noStrike">
                <a:solidFill>
                  <a:srgbClr val="ffcc66"/>
                </a:solidFill>
                <a:latin typeface="Tahoma"/>
              </a:rPr>
              <a:t>(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1749600"/>
            <a:ext cx="90691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 u="sng">
                <a:solidFill>
                  <a:srgbClr val="ffcc00"/>
                </a:solidFill>
                <a:uFillTx/>
                <a:latin typeface="Tahoma"/>
              </a:rPr>
              <a:t>IMPUESTOS A LA R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AE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Actividades Económic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MEBA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 Enajenación de Bienes agropecuari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RPF</a:t>
            </a:r>
            <a:r>
              <a:rPr b="0" lang="es-UY" sz="2400" spc="-1" strike="noStrike">
                <a:solidFill>
                  <a:srgbClr val="e5ffff"/>
                </a:solidFill>
                <a:latin typeface="Tahoma"/>
              </a:rPr>
              <a:t> (Impuesto a las Rentas de las Personas Fís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80000"/>
              </a:lnSpc>
              <a:spcAft>
                <a:spcPts val="1412"/>
              </a:spcAft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800" spc="-1" strike="noStrike">
                <a:solidFill>
                  <a:srgbClr val="e5ffff"/>
                </a:solidFill>
                <a:latin typeface="Tahoma"/>
              </a:rPr>
              <a:t>IRPF Categoría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</a:rPr>
              <a:t>IASS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</a:rPr>
              <a:t> (Impuesto de Asistencia a la Seguridad Social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Aft>
                <a:spcPts val="1412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IRNR</a:t>
            </a:r>
            <a:r>
              <a:rPr b="0" lang="es-UY" sz="2500" spc="-1" strike="noStrike" u="sng">
                <a:solidFill>
                  <a:srgbClr val="e5ffff"/>
                </a:solidFill>
                <a:uFillTx/>
                <a:latin typeface="Tahoma"/>
                <a:ea typeface="Tahoma"/>
              </a:rPr>
              <a:t> </a:t>
            </a:r>
            <a:r>
              <a:rPr b="0" lang="es-UY" sz="2500" spc="-1" strike="noStrike">
                <a:solidFill>
                  <a:srgbClr val="e5ffff"/>
                </a:solidFill>
                <a:latin typeface="Tahoma"/>
                <a:ea typeface="Tahoma"/>
              </a:rPr>
              <a:t>(Impuesto a las Rentas de los No Resident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240192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97-5988-40FF-B3AC-918008523A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999720"/>
            <a:ext cx="907272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600" spc="-1" strike="noStrike">
                <a:solidFill>
                  <a:srgbClr val="ffcc66"/>
                </a:solidFill>
                <a:latin typeface="Tahoma"/>
              </a:rPr>
              <a:t>(I) </a:t>
            </a:r>
            <a:r>
              <a:rPr b="1" lang="es-UY" sz="3600" spc="-1" strike="noStrike">
                <a:solidFill>
                  <a:srgbClr val="e5ffff"/>
                </a:solidFill>
                <a:latin typeface="Tahoma"/>
              </a:rPr>
              <a:t>PRINCIPALES IMPUESTOS QUE ADMINISTRA LA DG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100" spc="-1" strike="noStrike" u="sng">
                <a:solidFill>
                  <a:srgbClr val="ffcc00"/>
                </a:solidFill>
                <a:uFillTx/>
                <a:latin typeface="Tahoma"/>
              </a:rPr>
              <a:t>IMPUESTOS A LA PROPIEDAD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 AL PATRIMONI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Fís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Persona Jurídic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spcBef>
                <a:spcPts val="550"/>
              </a:spcBef>
              <a:buNone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600" spc="-1" strike="noStrike">
                <a:solidFill>
                  <a:srgbClr val="ffcc00"/>
                </a:solidFill>
                <a:latin typeface="Tahoma"/>
              </a:rPr>
              <a:t>IMPUESTOS DE CONTR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mpuesto a las transmisiones patrimonia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ICOSA (Impuesto al  control de las Sociedades Anónima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2200" spc="-1" strike="noStrike">
                <a:solidFill>
                  <a:srgbClr val="e5ffff"/>
                </a:solidFill>
                <a:latin typeface="Tahoma"/>
              </a:rPr>
              <a:t>FIS (Fondo de Inspección Sanitari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066-8EB9-4CC0-B19C-43AF2AEEBC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839520"/>
            <a:ext cx="907272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600" spc="-1" strike="noStrike">
                <a:solidFill>
                  <a:srgbClr val="ffcc00"/>
                </a:solidFill>
                <a:latin typeface="Tahoma"/>
              </a:rPr>
              <a:t>(II)</a:t>
            </a:r>
            <a:r>
              <a:rPr b="0" lang="es-UY" sz="3600" spc="-1" strike="noStrike">
                <a:solidFill>
                  <a:srgbClr val="e5ffff"/>
                </a:solidFill>
                <a:latin typeface="Tahoma"/>
              </a:rPr>
              <a:t>  ORGANIZACION Y FUNCIONES DE LA ADMINISTRACION TRIBUTARIA CENTRA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UY" sz="3500" spc="-1" strike="noStrike" u="sng">
                <a:solidFill>
                  <a:srgbClr val="ffcc00"/>
                </a:solidFill>
                <a:uFillTx/>
                <a:latin typeface="Tahoma"/>
              </a:rPr>
              <a:t>AMBITO NACIONA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UY" sz="3500" spc="-1" strike="noStrike">
                <a:solidFill>
                  <a:srgbClr val="e5ffff"/>
                </a:solidFill>
                <a:latin typeface="Tahoma"/>
              </a:rPr>
              <a:t>INTEGRADA POR TRES ORGANISMOS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D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94160" indent="-306000">
              <a:spcAft>
                <a:spcPts val="1426"/>
              </a:spcAft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4000" spc="-1" strike="noStrike">
                <a:solidFill>
                  <a:srgbClr val="e5ffff"/>
                </a:solidFill>
                <a:latin typeface="Tahoma"/>
              </a:rPr>
              <a:t>B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UY" sz="1800" spc="-1" strike="noStrike">
                <a:solidFill>
                  <a:srgbClr val="e5ffff"/>
                </a:solidFill>
                <a:latin typeface="Tahoma"/>
              </a:rPr>
              <a:t>Los dos primeros dependen del poder central y el tercero es un organismo autóno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6480" indent="0"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12760"/>
            <a:ext cx="2401920" cy="8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2AF-17EA-44C8-A1BE-2F0ACFA940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18:54:00Z</dcterms:created>
  <dc:creator>Gonzalo Lopez</dc:creator>
  <dc:description/>
  <dc:language>en-US</dc:language>
  <cp:lastModifiedBy> </cp:lastModifiedBy>
  <dcterms:modified xsi:type="dcterms:W3CDTF">2013-10-28T11:08:05Z</dcterms:modified>
  <cp:revision>60</cp:revision>
  <dc:subject/>
  <dc:title>ALCANCE</dc:title>
</cp:coreProperties>
</file>