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10080625" cy="7559675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s-UY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384624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  <a:defRPr b="0" lang="es-UY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s-UY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94312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  <a:defRPr b="0" lang="es-UY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s-UY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4624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  <a:defRPr b="0" lang="es-UY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05D47B38-31F9-4BFE-87BD-D89C88335B7E}" type="slidenum">
              <a:rPr b="0" lang="es-UY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D7BC1672-4C5C-4AEE-BFE6-E686FFB567C4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7C851DF1-C30B-43F3-8B67-6E9D70423553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14B31883-0DD7-4467-B73F-954BE907369C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F2224C44-0187-4059-AC96-5CABA91FAE19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2E22762F-38D4-4E9E-A043-A1DDD7C01671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7D5D95D3-E837-4B1B-A5F7-A03A61F4F7E7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CE4DCC8C-A198-4ACC-A249-79CB0C08A7FC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03138136-0AF4-4830-A7A0-7FA1AA56D695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335499A0-5153-4ABA-A4C5-3BEF7CD9F44B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07BCF09F-6FB6-45A2-8DE2-22F2935D9A6F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0DA63AD1-D99D-43F4-AD60-B5BA7B277A30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343A8605-1472-464D-9EC6-982C5A05CCF4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6CBCED90-1B07-4D90-9BC1-DB1C7EFC89EB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0CF3A911-CBDF-4878-B1D4-ACBF7616CA55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53319054-2C35-4306-9E88-B46AF435FEDB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FD34E3D8-0C33-4129-A953-A4C543B159A0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BB6FA224-B2BC-47D8-A751-459745A0889B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29A99BDB-5137-4266-A39D-518E2F0A4E3F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6D559CFF-89B3-4FCB-BFEA-0CEE6B519E3A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CEF1AACB-6626-4688-A0BA-A2C5CE8A7B34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206C634D-7DF9-4D71-B41E-D837774A23FE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BAFD52CB-BF04-49D7-A913-0272E8C2305E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7CE9-9DB7-48DD-90DC-F87ECC5AC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55364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54B6-DDE2-4296-B537-1C53EAC4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5536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5536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D0A7-20E9-4BA2-91AD-EC879F3AC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21844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21844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5536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5536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5536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D64D-CDFF-40DB-90AB-06ED61AB7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051B-D0CD-4BE2-B9F0-FE9831A0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BFB2-AEF9-4CC5-828F-C59F5234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5209-709E-4BA4-ADFD-D707817A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AFC9-76AC-4276-B3E3-D2EA20DC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09BD-170C-45FB-9D04-CC1FDD3D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04720" y="420840"/>
            <a:ext cx="90727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FF0B-91BC-417A-8E19-5047D206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4720" y="45536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135FE-0529-4C76-9E03-647C25C6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8E92-10F2-4D54-9307-9E58F100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3760" y="45536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BDE2-D5C5-42B6-B24B-447E9EA0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4720" y="455364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42F1-595B-4FBC-AE66-7798FCE7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720" y="455364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F1AA-0D7D-4D4B-8D78-12B789E6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4720" y="45536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3760" y="45536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A712-1DFF-4224-8194-EB1DAFA1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72280" y="21844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39840" y="21844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4720" y="45536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72280" y="45536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39840" y="45536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7EB7-EBD9-4683-84AE-8BF23138F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661E-6237-40AE-9FC2-D4271D0D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2BDE-8205-4659-B9C9-03DC081F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2F22-7CCE-41E3-B713-A3FBFC21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420840"/>
            <a:ext cx="90727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6582-E3D6-47BC-A9C9-4EC43F00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5536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DCDE-AC92-4255-A445-6FF16B14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5536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4551-CA0F-4BD7-97ED-739D4D12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55364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7CC1-2CE8-4D62-BBE5-EDA5CC01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spcBef>
                <a:spcPts val="876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8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3" marL="1763640" indent="-252360">
              <a:spcBef>
                <a:spcPts val="876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2268360" indent="-252360">
              <a:spcBef>
                <a:spcPts val="8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C32FA7CF-BB7C-4B4F-A599-FE5263CA7842}" type="datetime">
              <a:rPr b="0" lang="es-ES" sz="15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570B1F47-A4F1-445B-BA2C-4E43E04C255B}" type="slidenum">
              <a:rPr b="0" lang="es-E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847880"/>
            <a:ext cx="8569440" cy="2016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1801A74D-BA7C-44C1-A06F-36F860C6125D}" type="datetime">
              <a:rPr b="0" lang="es-ES" sz="15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D22FB4F1-11D9-4407-B50F-413A6A53E1B1}" type="slidenum">
              <a:rPr b="0" lang="es-E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720" y="474840"/>
            <a:ext cx="9072720" cy="14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500" spc="-1" strike="noStrike">
                <a:solidFill>
                  <a:srgbClr val="e5ffff"/>
                </a:solidFill>
                <a:latin typeface="Tahoma"/>
              </a:rPr>
              <a:t>ELEMENTOS BASICOS DE LOS MODELOS DE GESTION DEL SISTEMA TRIBUTARIO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954080" y="3376440"/>
            <a:ext cx="6172200" cy="2070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90680" y="5816520"/>
            <a:ext cx="286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ahoma"/>
                <a:ea typeface="Arial"/>
              </a:rPr>
              <a:t>ENCUENTRO SUR-SU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ahoma"/>
                <a:ea typeface="Arial"/>
              </a:rPr>
              <a:t>GUATEMALA-ANTIGUA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ahoma"/>
                <a:ea typeface="Arial"/>
              </a:rPr>
              <a:t>                 </a:t>
            </a:r>
            <a:r>
              <a:rPr b="1" lang="es-ES" sz="1200" spc="-1" strike="noStrike">
                <a:solidFill>
                  <a:srgbClr val="ffffff"/>
                </a:solidFill>
                <a:latin typeface="Tahoma"/>
                <a:ea typeface="Arial"/>
              </a:rPr>
              <a:t>Agosto 2013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es-UY" sz="12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1" lang="es-UY" sz="1200" spc="-1" strike="noStrike">
                <a:solidFill>
                  <a:srgbClr val="ffffff"/>
                </a:solidFill>
                <a:latin typeface="Tahoma"/>
                <a:ea typeface="Arial"/>
              </a:rPr>
              <a:t>URUGUAY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B089-1836-41D3-A14B-557F9FA829B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30040" y="1108080"/>
            <a:ext cx="9693360" cy="624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A755-E49E-469D-B011-941513FD6B6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4720" y="719280"/>
            <a:ext cx="9072720" cy="132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600" spc="-1" strike="noStrike">
                <a:solidFill>
                  <a:srgbClr val="ffcc00"/>
                </a:solidFill>
                <a:latin typeface="Tahoma"/>
              </a:rPr>
              <a:t>(II)</a:t>
            </a:r>
            <a:r>
              <a:rPr b="0" lang="es-UY" sz="3600" spc="-1" strike="noStrike">
                <a:solidFill>
                  <a:srgbClr val="e5ffff"/>
                </a:solidFill>
                <a:latin typeface="Tahoma"/>
              </a:rPr>
              <a:t> MINISTERIO DE ECONOMIA Y FINANZAS: UNIDADES EJECUTORA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04720" y="2184480"/>
            <a:ext cx="9072360" cy="4534200"/>
            <a:chOff x="504720" y="2184480"/>
            <a:chExt cx="9072360" cy="4534200"/>
          </a:xfrm>
        </p:grpSpPr>
        <p:cxnSp>
          <p:nvCxnSpPr>
            <p:cNvPr id="119" name="_s133154"/>
            <p:cNvCxnSpPr>
              <a:stCxn id="120" idx="0"/>
              <a:endCxn id="121" idx="2"/>
            </p:cNvCxnSpPr>
            <p:nvPr/>
          </p:nvCxnSpPr>
          <p:spPr>
            <a:xfrm flipV="1" rot="16200000">
              <a:off x="6677280" y="2361960"/>
              <a:ext cx="907560" cy="4178520"/>
            </a:xfrm>
            <a:prstGeom prst="bentConnector3">
              <a:avLst>
                <a:gd name="adj1" fmla="val 115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2" name="_s133152"/>
            <p:cNvCxnSpPr>
              <a:stCxn id="123" idx="0"/>
              <a:endCxn id="121" idx="2"/>
            </p:cNvCxnSpPr>
            <p:nvPr/>
          </p:nvCxnSpPr>
          <p:spPr>
            <a:xfrm flipV="1" rot="16200000">
              <a:off x="6259320" y="2779200"/>
              <a:ext cx="907560" cy="3343680"/>
            </a:xfrm>
            <a:prstGeom prst="bentConnector3">
              <a:avLst>
                <a:gd name="adj1" fmla="val 115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4" name="_s133150"/>
            <p:cNvCxnSpPr>
              <a:stCxn id="125" idx="0"/>
              <a:endCxn id="121" idx="2"/>
            </p:cNvCxnSpPr>
            <p:nvPr/>
          </p:nvCxnSpPr>
          <p:spPr>
            <a:xfrm flipV="1" rot="16200000">
              <a:off x="5841360" y="3197160"/>
              <a:ext cx="907560" cy="2507760"/>
            </a:xfrm>
            <a:prstGeom prst="bentConnector3">
              <a:avLst>
                <a:gd name="adj1" fmla="val 115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6" name="_s133148"/>
            <p:cNvCxnSpPr>
              <a:stCxn id="127" idx="0"/>
              <a:endCxn id="121" idx="2"/>
            </p:cNvCxnSpPr>
            <p:nvPr/>
          </p:nvCxnSpPr>
          <p:spPr>
            <a:xfrm flipV="1" rot="16200000">
              <a:off x="5423760" y="3614760"/>
              <a:ext cx="907560" cy="1672920"/>
            </a:xfrm>
            <a:prstGeom prst="bentConnector3">
              <a:avLst>
                <a:gd name="adj1" fmla="val 115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8" name="_s133146"/>
            <p:cNvCxnSpPr>
              <a:stCxn id="129" idx="0"/>
              <a:endCxn id="121" idx="2"/>
            </p:cNvCxnSpPr>
            <p:nvPr/>
          </p:nvCxnSpPr>
          <p:spPr>
            <a:xfrm flipV="1" rot="16200000">
              <a:off x="5006160" y="4032360"/>
              <a:ext cx="907560" cy="837360"/>
            </a:xfrm>
            <a:prstGeom prst="bentConnector3">
              <a:avLst>
                <a:gd name="adj1" fmla="val 115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0" name="_s133144"/>
            <p:cNvCxnSpPr>
              <a:stCxn id="131" idx="0"/>
              <a:endCxn id="121" idx="2"/>
            </p:cNvCxnSpPr>
            <p:nvPr/>
          </p:nvCxnSpPr>
          <p:spPr>
            <a:xfrm flipV="1">
              <a:off x="5041800" y="3997440"/>
              <a:ext cx="1440" cy="907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2" name="_s133142"/>
            <p:cNvCxnSpPr>
              <a:stCxn id="133" idx="0"/>
              <a:endCxn id="121" idx="2"/>
            </p:cNvCxnSpPr>
            <p:nvPr/>
          </p:nvCxnSpPr>
          <p:spPr>
            <a:xfrm flipH="1" flipV="1" rot="5400000">
              <a:off x="4170600" y="4033440"/>
              <a:ext cx="907560" cy="835560"/>
            </a:xfrm>
            <a:prstGeom prst="bentConnector3">
              <a:avLst>
                <a:gd name="adj1" fmla="val 115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4" name="_s133136"/>
            <p:cNvCxnSpPr>
              <a:stCxn id="135" idx="0"/>
              <a:endCxn id="121" idx="2"/>
            </p:cNvCxnSpPr>
            <p:nvPr/>
          </p:nvCxnSpPr>
          <p:spPr>
            <a:xfrm flipH="1" flipV="1" rot="5400000">
              <a:off x="3752640" y="3615840"/>
              <a:ext cx="907560" cy="1671120"/>
            </a:xfrm>
            <a:prstGeom prst="bentConnector3">
              <a:avLst>
                <a:gd name="adj1" fmla="val 115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6" name="_s133134"/>
            <p:cNvCxnSpPr>
              <a:stCxn id="137" idx="0"/>
              <a:endCxn id="121" idx="2"/>
            </p:cNvCxnSpPr>
            <p:nvPr/>
          </p:nvCxnSpPr>
          <p:spPr>
            <a:xfrm flipH="1" flipV="1" rot="5400000">
              <a:off x="3335400" y="3198240"/>
              <a:ext cx="907560" cy="2506320"/>
            </a:xfrm>
            <a:prstGeom prst="bentConnector3">
              <a:avLst>
                <a:gd name="adj1" fmla="val 115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8" name="_s133133"/>
            <p:cNvCxnSpPr>
              <a:stCxn id="139" idx="0"/>
              <a:endCxn id="121" idx="2"/>
            </p:cNvCxnSpPr>
            <p:nvPr/>
          </p:nvCxnSpPr>
          <p:spPr>
            <a:xfrm flipH="1" flipV="1" rot="5400000">
              <a:off x="2916360" y="2779560"/>
              <a:ext cx="907560" cy="3343680"/>
            </a:xfrm>
            <a:prstGeom prst="bentConnector3">
              <a:avLst>
                <a:gd name="adj1" fmla="val 115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0" name="_s133132"/>
            <p:cNvCxnSpPr>
              <a:stCxn id="141" idx="0"/>
              <a:endCxn id="121" idx="2"/>
            </p:cNvCxnSpPr>
            <p:nvPr/>
          </p:nvCxnSpPr>
          <p:spPr>
            <a:xfrm flipH="1" flipV="1" rot="5400000">
              <a:off x="2498760" y="2361960"/>
              <a:ext cx="907560" cy="4178520"/>
            </a:xfrm>
            <a:prstGeom prst="bentConnector3">
              <a:avLst>
                <a:gd name="adj1" fmla="val 115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1" name="_s133128"/>
            <p:cNvSpPr/>
            <p:nvPr/>
          </p:nvSpPr>
          <p:spPr>
            <a:xfrm>
              <a:off x="4682880" y="2184480"/>
              <a:ext cx="716040" cy="1813680"/>
            </a:xfrm>
            <a:custGeom>
              <a:avLst/>
              <a:gdLst>
                <a:gd name="textAreaLeft" fmla="*/ 34920 w 716040"/>
                <a:gd name="textAreaRight" fmla="*/ 681120 w 716040"/>
                <a:gd name="textAreaTop" fmla="*/ 34920 h 1813680"/>
                <a:gd name="textAreaBottom" fmla="*/ 1778760 h 1813680"/>
              </a:gdLst>
              <a:ahLst/>
              <a:rect l="textAreaLeft" t="textAreaTop" r="textAreaRight" b="textAreaBottom"/>
              <a:pathLst>
                <a:path w="21600" h="54695">
                  <a:moveTo>
                    <a:pt x="3600" y="0"/>
                  </a:moveTo>
                  <a:arcTo wR="3600" hR="3600" stAng="16200000" swAng="-5400000"/>
                  <a:lnTo>
                    <a:pt x="0" y="51095"/>
                  </a:lnTo>
                  <a:arcTo wR="3600" hR="3600" stAng="10800000" swAng="-5400000"/>
                  <a:lnTo>
                    <a:pt x="18000" y="546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Ministerio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e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Economía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y Finanzas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1" name="_s133129"/>
            <p:cNvSpPr/>
            <p:nvPr/>
          </p:nvSpPr>
          <p:spPr>
            <a:xfrm>
              <a:off x="504720" y="4905000"/>
              <a:ext cx="716040" cy="1813680"/>
            </a:xfrm>
            <a:custGeom>
              <a:avLst/>
              <a:gdLst>
                <a:gd name="textAreaLeft" fmla="*/ 34920 w 716040"/>
                <a:gd name="textAreaRight" fmla="*/ 681120 w 716040"/>
                <a:gd name="textAreaTop" fmla="*/ 34920 h 1813680"/>
                <a:gd name="textAreaBottom" fmla="*/ 1778760 h 1813680"/>
              </a:gdLst>
              <a:ahLst/>
              <a:rect l="textAreaLeft" t="textAreaTop" r="textAreaRight" b="textAreaBottom"/>
              <a:pathLst>
                <a:path w="21600" h="54695">
                  <a:moveTo>
                    <a:pt x="3600" y="0"/>
                  </a:moveTo>
                  <a:arcTo wR="3600" hR="3600" stAng="16200000" swAng="-5400000"/>
                  <a:lnTo>
                    <a:pt x="0" y="51095"/>
                  </a:lnTo>
                  <a:arcTo wR="3600" hR="3600" stAng="10800000" swAng="-5400000"/>
                  <a:lnTo>
                    <a:pt x="18000" y="546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irección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General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e la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Secretaría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Técnica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9" name="_s133130"/>
            <p:cNvSpPr/>
            <p:nvPr/>
          </p:nvSpPr>
          <p:spPr>
            <a:xfrm>
              <a:off x="1340280" y="4905000"/>
              <a:ext cx="716040" cy="1813680"/>
            </a:xfrm>
            <a:custGeom>
              <a:avLst/>
              <a:gdLst>
                <a:gd name="textAreaLeft" fmla="*/ 34920 w 716040"/>
                <a:gd name="textAreaRight" fmla="*/ 681120 w 716040"/>
                <a:gd name="textAreaTop" fmla="*/ 34920 h 1813680"/>
                <a:gd name="textAreaBottom" fmla="*/ 1778760 h 1813680"/>
              </a:gdLst>
              <a:ahLst/>
              <a:rect l="textAreaLeft" t="textAreaTop" r="textAreaRight" b="textAreaBottom"/>
              <a:pathLst>
                <a:path w="21600" h="54695">
                  <a:moveTo>
                    <a:pt x="3600" y="0"/>
                  </a:moveTo>
                  <a:arcTo wR="3600" hR="3600" stAng="16200000" swAng="-5400000"/>
                  <a:lnTo>
                    <a:pt x="0" y="51095"/>
                  </a:lnTo>
                  <a:arcTo wR="3600" hR="3600" stAng="10800000" swAng="-5400000"/>
                  <a:lnTo>
                    <a:pt x="18000" y="546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Contaduría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General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e la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Nación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7" name="_s133131"/>
            <p:cNvSpPr/>
            <p:nvPr/>
          </p:nvSpPr>
          <p:spPr>
            <a:xfrm>
              <a:off x="2176200" y="4905000"/>
              <a:ext cx="716040" cy="1813680"/>
            </a:xfrm>
            <a:custGeom>
              <a:avLst/>
              <a:gdLst>
                <a:gd name="textAreaLeft" fmla="*/ 34920 w 716040"/>
                <a:gd name="textAreaRight" fmla="*/ 681120 w 716040"/>
                <a:gd name="textAreaTop" fmla="*/ 34920 h 1813680"/>
                <a:gd name="textAreaBottom" fmla="*/ 1778760 h 1813680"/>
              </a:gdLst>
              <a:ahLst/>
              <a:rect l="textAreaLeft" t="textAreaTop" r="textAreaRight" b="textAreaBottom"/>
              <a:pathLst>
                <a:path w="21600" h="54695">
                  <a:moveTo>
                    <a:pt x="3600" y="0"/>
                  </a:moveTo>
                  <a:arcTo wR="3600" hR="3600" stAng="16200000" swAng="-5400000"/>
                  <a:lnTo>
                    <a:pt x="0" y="51095"/>
                  </a:lnTo>
                  <a:arcTo wR="3600" hR="3600" stAng="10800000" swAng="-5400000"/>
                  <a:lnTo>
                    <a:pt x="18000" y="546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Auditoría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 </a:t>
              </a: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Interna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e la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 </a:t>
              </a: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Nación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5" name="_s133135"/>
            <p:cNvSpPr/>
            <p:nvPr/>
          </p:nvSpPr>
          <p:spPr>
            <a:xfrm>
              <a:off x="3011760" y="4905000"/>
              <a:ext cx="716040" cy="1813680"/>
            </a:xfrm>
            <a:custGeom>
              <a:avLst/>
              <a:gdLst>
                <a:gd name="textAreaLeft" fmla="*/ 34920 w 716040"/>
                <a:gd name="textAreaRight" fmla="*/ 681120 w 716040"/>
                <a:gd name="textAreaTop" fmla="*/ 34920 h 1813680"/>
                <a:gd name="textAreaBottom" fmla="*/ 1778760 h 1813680"/>
              </a:gdLst>
              <a:ahLst/>
              <a:rect l="textAreaLeft" t="textAreaTop" r="textAreaRight" b="textAreaBottom"/>
              <a:pathLst>
                <a:path w="21600" h="54695">
                  <a:moveTo>
                    <a:pt x="3600" y="0"/>
                  </a:moveTo>
                  <a:arcTo wR="3600" hR="3600" stAng="16200000" swAng="-5400000"/>
                  <a:lnTo>
                    <a:pt x="0" y="51095"/>
                  </a:lnTo>
                  <a:arcTo wR="3600" hR="3600" stAng="10800000" swAng="-5400000"/>
                  <a:lnTo>
                    <a:pt x="18000" y="546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Tesorería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Genera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 </a:t>
              </a: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e la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 </a:t>
              </a: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Nación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3" name="_s133141"/>
            <p:cNvSpPr/>
            <p:nvPr/>
          </p:nvSpPr>
          <p:spPr>
            <a:xfrm>
              <a:off x="3847680" y="4905000"/>
              <a:ext cx="716040" cy="1813680"/>
            </a:xfrm>
            <a:custGeom>
              <a:avLst/>
              <a:gdLst>
                <a:gd name="textAreaLeft" fmla="*/ 34920 w 716040"/>
                <a:gd name="textAreaRight" fmla="*/ 681120 w 716040"/>
                <a:gd name="textAreaTop" fmla="*/ 34920 h 1813680"/>
                <a:gd name="textAreaBottom" fmla="*/ 1778760 h 1813680"/>
              </a:gdLst>
              <a:ahLst/>
              <a:rect l="textAreaLeft" t="textAreaTop" r="textAreaRight" b="textAreaBottom"/>
              <a:pathLst>
                <a:path w="21600" h="54695">
                  <a:moveTo>
                    <a:pt x="3600" y="0"/>
                  </a:moveTo>
                  <a:arcTo wR="3600" hR="3600" stAng="16200000" swAng="-5400000"/>
                  <a:lnTo>
                    <a:pt x="0" y="51095"/>
                  </a:lnTo>
                  <a:arcTo wR="3600" hR="3600" stAng="10800000" swAng="-5400000"/>
                  <a:lnTo>
                    <a:pt x="18000" y="546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irección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General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Impositiva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1" name="_s133143"/>
            <p:cNvSpPr/>
            <p:nvPr/>
          </p:nvSpPr>
          <p:spPr>
            <a:xfrm>
              <a:off x="4683600" y="4905000"/>
              <a:ext cx="716040" cy="1813680"/>
            </a:xfrm>
            <a:custGeom>
              <a:avLst/>
              <a:gdLst>
                <a:gd name="textAreaLeft" fmla="*/ 34920 w 716040"/>
                <a:gd name="textAreaRight" fmla="*/ 681120 w 716040"/>
                <a:gd name="textAreaTop" fmla="*/ 34920 h 1813680"/>
                <a:gd name="textAreaBottom" fmla="*/ 1778760 h 1813680"/>
              </a:gdLst>
              <a:ahLst/>
              <a:rect l="textAreaLeft" t="textAreaTop" r="textAreaRight" b="textAreaBottom"/>
              <a:pathLst>
                <a:path w="21600" h="54695">
                  <a:moveTo>
                    <a:pt x="3600" y="0"/>
                  </a:moveTo>
                  <a:arcTo wR="3600" hR="3600" stAng="16200000" swAng="-5400000"/>
                  <a:lnTo>
                    <a:pt x="0" y="51095"/>
                  </a:lnTo>
                  <a:arcTo wR="3600" hR="3600" stAng="10800000" swAng="-5400000"/>
                  <a:lnTo>
                    <a:pt x="18000" y="546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irección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Nacional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e Aduanas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9" name="_s133145"/>
            <p:cNvSpPr/>
            <p:nvPr/>
          </p:nvSpPr>
          <p:spPr>
            <a:xfrm>
              <a:off x="5519160" y="4905000"/>
              <a:ext cx="716040" cy="1813680"/>
            </a:xfrm>
            <a:custGeom>
              <a:avLst/>
              <a:gdLst>
                <a:gd name="textAreaLeft" fmla="*/ 34920 w 716040"/>
                <a:gd name="textAreaRight" fmla="*/ 681120 w 716040"/>
                <a:gd name="textAreaTop" fmla="*/ 34920 h 1813680"/>
                <a:gd name="textAreaBottom" fmla="*/ 1778760 h 1813680"/>
              </a:gdLst>
              <a:ahLst/>
              <a:rect l="textAreaLeft" t="textAreaTop" r="textAreaRight" b="textAreaBottom"/>
              <a:pathLst>
                <a:path w="21600" h="54695">
                  <a:moveTo>
                    <a:pt x="3600" y="0"/>
                  </a:moveTo>
                  <a:arcTo wR="3600" hR="3600" stAng="16200000" swAng="-5400000"/>
                  <a:lnTo>
                    <a:pt x="0" y="51095"/>
                  </a:lnTo>
                  <a:arcTo wR="3600" hR="3600" stAng="10800000" swAng="-5400000"/>
                  <a:lnTo>
                    <a:pt x="18000" y="546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irección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General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e Loterías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 </a:t>
              </a: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y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 </a:t>
              </a: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Quinielas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7" name="_s133147"/>
            <p:cNvSpPr/>
            <p:nvPr/>
          </p:nvSpPr>
          <p:spPr>
            <a:xfrm>
              <a:off x="6355080" y="4905000"/>
              <a:ext cx="716040" cy="1813680"/>
            </a:xfrm>
            <a:custGeom>
              <a:avLst/>
              <a:gdLst>
                <a:gd name="textAreaLeft" fmla="*/ 34920 w 716040"/>
                <a:gd name="textAreaRight" fmla="*/ 681120 w 716040"/>
                <a:gd name="textAreaTop" fmla="*/ 34920 h 1813680"/>
                <a:gd name="textAreaBottom" fmla="*/ 1778760 h 1813680"/>
              </a:gdLst>
              <a:ahLst/>
              <a:rect l="textAreaLeft" t="textAreaTop" r="textAreaRight" b="textAreaBottom"/>
              <a:pathLst>
                <a:path w="21600" h="54695">
                  <a:moveTo>
                    <a:pt x="3600" y="0"/>
                  </a:moveTo>
                  <a:arcTo wR="3600" hR="3600" stAng="16200000" swAng="-5400000"/>
                  <a:lnTo>
                    <a:pt x="0" y="51095"/>
                  </a:lnTo>
                  <a:arcTo wR="3600" hR="3600" stAng="10800000" swAng="-5400000"/>
                  <a:lnTo>
                    <a:pt x="18000" y="546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irección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 </a:t>
              </a: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Nacional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e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Catastro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5" name="_s133149"/>
            <p:cNvSpPr/>
            <p:nvPr/>
          </p:nvSpPr>
          <p:spPr>
            <a:xfrm>
              <a:off x="7191000" y="4905000"/>
              <a:ext cx="716040" cy="1813680"/>
            </a:xfrm>
            <a:custGeom>
              <a:avLst/>
              <a:gdLst>
                <a:gd name="textAreaLeft" fmla="*/ 34920 w 716040"/>
                <a:gd name="textAreaRight" fmla="*/ 681120 w 716040"/>
                <a:gd name="textAreaTop" fmla="*/ 34920 h 1813680"/>
                <a:gd name="textAreaBottom" fmla="*/ 1778760 h 1813680"/>
              </a:gdLst>
              <a:ahLst/>
              <a:rect l="textAreaLeft" t="textAreaTop" r="textAreaRight" b="textAreaBottom"/>
              <a:pathLst>
                <a:path w="21600" h="54695">
                  <a:moveTo>
                    <a:pt x="3600" y="0"/>
                  </a:moveTo>
                  <a:arcTo wR="3600" hR="3600" stAng="16200000" swAng="-5400000"/>
                  <a:lnTo>
                    <a:pt x="0" y="51095"/>
                  </a:lnTo>
                  <a:arcTo wR="3600" hR="3600" stAng="10800000" swAng="-5400000"/>
                  <a:lnTo>
                    <a:pt x="18000" y="546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irección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General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e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 </a:t>
              </a: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Casinos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3" name="_s133151"/>
            <p:cNvSpPr/>
            <p:nvPr/>
          </p:nvSpPr>
          <p:spPr>
            <a:xfrm>
              <a:off x="8026560" y="4905000"/>
              <a:ext cx="715320" cy="1813680"/>
            </a:xfrm>
            <a:custGeom>
              <a:avLst/>
              <a:gdLst>
                <a:gd name="textAreaLeft" fmla="*/ 34920 w 715320"/>
                <a:gd name="textAreaRight" fmla="*/ 680400 w 715320"/>
                <a:gd name="textAreaTop" fmla="*/ 34920 h 1813680"/>
                <a:gd name="textAreaBottom" fmla="*/ 1778760 h 1813680"/>
              </a:gdLst>
              <a:ahLst/>
              <a:rect l="textAreaLeft" t="textAreaTop" r="textAreaRight" b="textAreaBottom"/>
              <a:pathLst>
                <a:path w="21600" h="54750">
                  <a:moveTo>
                    <a:pt x="3600" y="0"/>
                  </a:moveTo>
                  <a:arcTo wR="3600" hR="3600" stAng="16200000" swAng="-5400000"/>
                  <a:lnTo>
                    <a:pt x="0" y="51150"/>
                  </a:lnTo>
                  <a:arcTo wR="3600" hR="3600" stAng="10800000" swAng="-5400000"/>
                  <a:lnTo>
                    <a:pt x="18000" y="547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irección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General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e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Comercio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0" name="_s133153"/>
            <p:cNvSpPr/>
            <p:nvPr/>
          </p:nvSpPr>
          <p:spPr>
            <a:xfrm>
              <a:off x="8861760" y="4905000"/>
              <a:ext cx="715320" cy="1813680"/>
            </a:xfrm>
            <a:custGeom>
              <a:avLst/>
              <a:gdLst>
                <a:gd name="textAreaLeft" fmla="*/ 34920 w 715320"/>
                <a:gd name="textAreaRight" fmla="*/ 680400 w 715320"/>
                <a:gd name="textAreaTop" fmla="*/ 34920 h 1813680"/>
                <a:gd name="textAreaBottom" fmla="*/ 1778760 h 1813680"/>
              </a:gdLst>
              <a:ahLst/>
              <a:rect l="textAreaLeft" t="textAreaTop" r="textAreaRight" b="textAreaBottom"/>
              <a:pathLst>
                <a:path w="21600" h="54750">
                  <a:moveTo>
                    <a:pt x="3600" y="0"/>
                  </a:moveTo>
                  <a:arcTo wR="3600" hR="3600" stAng="16200000" swAng="-5400000"/>
                  <a:lnTo>
                    <a:pt x="0" y="51150"/>
                  </a:lnTo>
                  <a:arcTo wR="3600" hR="3600" stAng="10800000" swAng="-5400000"/>
                  <a:lnTo>
                    <a:pt x="18000" y="547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Sec.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Administra-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tiva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e Grupo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Mercado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 </a:t>
              </a: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Común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DFE6-C09F-44F3-87E5-02194BF699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1023480"/>
            <a:ext cx="9072720" cy="10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200" spc="-1" strike="noStrike">
                <a:solidFill>
                  <a:srgbClr val="ffcc00"/>
                </a:solidFill>
                <a:latin typeface="Tahoma"/>
              </a:rPr>
              <a:t>(II)</a:t>
            </a:r>
            <a:r>
              <a:rPr b="1" lang="es-UY" sz="3200" spc="-1" strike="noStrike">
                <a:solidFill>
                  <a:srgbClr val="e5ffff"/>
                </a:solidFill>
                <a:latin typeface="Tahoma"/>
              </a:rPr>
              <a:t> DIRECCION GENERAL IMPOSITIVA- COMETIDOS ASIGNADO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720" y="2053800"/>
            <a:ext cx="907272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>
                <a:solidFill>
                  <a:srgbClr val="ffcc00"/>
                </a:solidFill>
                <a:latin typeface="Tahoma"/>
              </a:rPr>
              <a:t>COMETIDOS SUSTANTIVOS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>
                <a:solidFill>
                  <a:srgbClr val="ffcc00"/>
                </a:solidFill>
                <a:latin typeface="Tahoma"/>
              </a:rPr>
              <a:t>COMETIDOS DE APOYO A LOS SUSTANTIVOS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UY" sz="2000" spc="-1" strike="noStrike">
                <a:solidFill>
                  <a:srgbClr val="ffffff"/>
                </a:solidFill>
                <a:latin typeface="Tahoma"/>
              </a:rPr>
              <a:t>( en ambos casos con prestación dentro y fuera del ámbito de la AT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BD6D-E8A6-4516-B857-FDDF723F033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500" spc="-1" strike="noStrike">
                <a:solidFill>
                  <a:srgbClr val="ffcc00"/>
                </a:solidFill>
                <a:latin typeface="Tahoma"/>
              </a:rPr>
              <a:t>(II)</a:t>
            </a:r>
            <a:r>
              <a:rPr b="1" lang="es-UY" sz="4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UY" sz="4500" spc="-1" strike="noStrike">
                <a:solidFill>
                  <a:srgbClr val="e5ffff"/>
                </a:solidFill>
                <a:latin typeface="Tahoma"/>
              </a:rPr>
              <a:t>ESTRUCTURA ORGANIZATIVA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04720" y="2184480"/>
            <a:ext cx="9072360" cy="4534560"/>
            <a:chOff x="504720" y="2184480"/>
            <a:chExt cx="9072360" cy="4534560"/>
          </a:xfrm>
        </p:grpSpPr>
        <p:cxnSp>
          <p:nvCxnSpPr>
            <p:cNvPr id="148" name="_s111648"/>
            <p:cNvCxnSpPr>
              <a:stCxn id="149" idx="1"/>
              <a:endCxn id="150" idx="2"/>
            </p:cNvCxnSpPr>
            <p:nvPr/>
          </p:nvCxnSpPr>
          <p:spPr>
            <a:xfrm rot="10800000">
              <a:off x="5041440" y="3008160"/>
              <a:ext cx="163440" cy="2061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1" name="_s111646"/>
            <p:cNvCxnSpPr>
              <a:stCxn id="152" idx="3"/>
              <a:endCxn id="150" idx="2"/>
            </p:cNvCxnSpPr>
            <p:nvPr/>
          </p:nvCxnSpPr>
          <p:spPr>
            <a:xfrm flipV="1">
              <a:off x="4877280" y="3008160"/>
              <a:ext cx="165600" cy="2061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3" name="_s111644"/>
            <p:cNvCxnSpPr>
              <a:stCxn id="154" idx="1"/>
              <a:endCxn id="150" idx="2"/>
            </p:cNvCxnSpPr>
            <p:nvPr/>
          </p:nvCxnSpPr>
          <p:spPr>
            <a:xfrm rot="10800000">
              <a:off x="5041440" y="3008160"/>
              <a:ext cx="163440" cy="825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5" name="_s111642"/>
            <p:cNvCxnSpPr>
              <a:stCxn id="156" idx="3"/>
              <a:endCxn id="150" idx="2"/>
            </p:cNvCxnSpPr>
            <p:nvPr/>
          </p:nvCxnSpPr>
          <p:spPr>
            <a:xfrm flipH="1" flipV="1">
              <a:off x="5041440" y="3008160"/>
              <a:ext cx="3105000" cy="716040"/>
            </a:xfrm>
            <a:prstGeom prst="bentConnector4">
              <a:avLst>
                <a:gd name="adj1" fmla="val -3675"/>
                <a:gd name="adj2" fmla="val 788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7" name="_s111640"/>
            <p:cNvCxnSpPr>
              <a:stCxn id="158" idx="0"/>
              <a:endCxn id="150" idx="2"/>
            </p:cNvCxnSpPr>
            <p:nvPr/>
          </p:nvCxnSpPr>
          <p:spPr>
            <a:xfrm flipV="1" rot="16200000">
              <a:off x="5619960" y="2431080"/>
              <a:ext cx="2886120" cy="4041720"/>
            </a:xfrm>
            <a:prstGeom prst="bentConnector3">
              <a:avLst>
                <a:gd name="adj1" fmla="val 36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9" name="_s111638"/>
            <p:cNvCxnSpPr>
              <a:stCxn id="160" idx="0"/>
              <a:endCxn id="150" idx="2"/>
            </p:cNvCxnSpPr>
            <p:nvPr/>
          </p:nvCxnSpPr>
          <p:spPr>
            <a:xfrm flipV="1" rot="16200000">
              <a:off x="5042160" y="3008160"/>
              <a:ext cx="2886120" cy="2887560"/>
            </a:xfrm>
            <a:prstGeom prst="bentConnector3">
              <a:avLst>
                <a:gd name="adj1" fmla="val 36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1" name="_s111636"/>
            <p:cNvCxnSpPr>
              <a:stCxn id="162" idx="0"/>
              <a:endCxn id="150" idx="2"/>
            </p:cNvCxnSpPr>
            <p:nvPr/>
          </p:nvCxnSpPr>
          <p:spPr>
            <a:xfrm flipV="1" rot="16200000">
              <a:off x="4464720" y="3585600"/>
              <a:ext cx="2886120" cy="1732680"/>
            </a:xfrm>
            <a:prstGeom prst="bentConnector3">
              <a:avLst>
                <a:gd name="adj1" fmla="val 36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3" name="_s111634"/>
            <p:cNvCxnSpPr>
              <a:stCxn id="164" idx="0"/>
              <a:endCxn id="150" idx="2"/>
            </p:cNvCxnSpPr>
            <p:nvPr/>
          </p:nvCxnSpPr>
          <p:spPr>
            <a:xfrm flipV="1" rot="16200000">
              <a:off x="3887280" y="4163760"/>
              <a:ext cx="2886120" cy="576360"/>
            </a:xfrm>
            <a:prstGeom prst="bentConnector3">
              <a:avLst>
                <a:gd name="adj1" fmla="val 36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5" name="_s111632"/>
            <p:cNvCxnSpPr>
              <a:stCxn id="166" idx="0"/>
              <a:endCxn id="150" idx="2"/>
            </p:cNvCxnSpPr>
            <p:nvPr/>
          </p:nvCxnSpPr>
          <p:spPr>
            <a:xfrm flipH="1" flipV="1" rot="5400000">
              <a:off x="3309480" y="4162680"/>
              <a:ext cx="2886120" cy="578880"/>
            </a:xfrm>
            <a:prstGeom prst="bentConnector3">
              <a:avLst>
                <a:gd name="adj1" fmla="val 36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7" name="_s111630"/>
            <p:cNvCxnSpPr>
              <a:stCxn id="168" idx="0"/>
              <a:endCxn id="150" idx="2"/>
            </p:cNvCxnSpPr>
            <p:nvPr/>
          </p:nvCxnSpPr>
          <p:spPr>
            <a:xfrm flipH="1" flipV="1" rot="5400000">
              <a:off x="2732400" y="3585240"/>
              <a:ext cx="2886120" cy="1733760"/>
            </a:xfrm>
            <a:prstGeom prst="bentConnector3">
              <a:avLst>
                <a:gd name="adj1" fmla="val 36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9" name="_s111629"/>
            <p:cNvCxnSpPr>
              <a:stCxn id="170" idx="0"/>
              <a:endCxn id="150" idx="2"/>
            </p:cNvCxnSpPr>
            <p:nvPr/>
          </p:nvCxnSpPr>
          <p:spPr>
            <a:xfrm flipH="1" flipV="1" rot="5400000">
              <a:off x="2155320" y="3007800"/>
              <a:ext cx="2886120" cy="2888640"/>
            </a:xfrm>
            <a:prstGeom prst="bentConnector3">
              <a:avLst>
                <a:gd name="adj1" fmla="val 36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1" name="_s111628"/>
            <p:cNvCxnSpPr>
              <a:stCxn id="172" idx="0"/>
              <a:endCxn id="150" idx="2"/>
            </p:cNvCxnSpPr>
            <p:nvPr/>
          </p:nvCxnSpPr>
          <p:spPr>
            <a:xfrm flipH="1" flipV="1" rot="5400000">
              <a:off x="1578600" y="2431080"/>
              <a:ext cx="2886120" cy="4041720"/>
            </a:xfrm>
            <a:prstGeom prst="bentConnector3">
              <a:avLst>
                <a:gd name="adj1" fmla="val 36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50" name="_s111624"/>
            <p:cNvSpPr/>
            <p:nvPr/>
          </p:nvSpPr>
          <p:spPr>
            <a:xfrm>
              <a:off x="4546080" y="2184480"/>
              <a:ext cx="989640" cy="82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Dirección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 </a:t>
              </a: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General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2" name="_s111625"/>
            <p:cNvSpPr/>
            <p:nvPr/>
          </p:nvSpPr>
          <p:spPr>
            <a:xfrm>
              <a:off x="504720" y="5894640"/>
              <a:ext cx="989640" cy="82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División Atención 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y Asistencia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0" name="_s111626"/>
            <p:cNvSpPr/>
            <p:nvPr/>
          </p:nvSpPr>
          <p:spPr>
            <a:xfrm>
              <a:off x="1659240" y="5894640"/>
              <a:ext cx="989640" cy="82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División 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Recaudación y 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Controles 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Extensivos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8" name="_s111627"/>
            <p:cNvSpPr/>
            <p:nvPr/>
          </p:nvSpPr>
          <p:spPr>
            <a:xfrm>
              <a:off x="2814120" y="5894640"/>
              <a:ext cx="989640" cy="82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División 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Fiscalización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6" name="_s111631"/>
            <p:cNvSpPr/>
            <p:nvPr/>
          </p:nvSpPr>
          <p:spPr>
            <a:xfrm>
              <a:off x="3968640" y="5894640"/>
              <a:ext cx="989640" cy="82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División 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Administración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4" name="_s111633"/>
            <p:cNvSpPr/>
            <p:nvPr/>
          </p:nvSpPr>
          <p:spPr>
            <a:xfrm>
              <a:off x="5123520" y="5894640"/>
              <a:ext cx="989640" cy="82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División I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informática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2" name="_s111635"/>
            <p:cNvSpPr/>
            <p:nvPr/>
          </p:nvSpPr>
          <p:spPr>
            <a:xfrm>
              <a:off x="6278040" y="5894640"/>
              <a:ext cx="989640" cy="82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División 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Técnico Fiscal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0" name="_s111637"/>
            <p:cNvSpPr/>
            <p:nvPr/>
          </p:nvSpPr>
          <p:spPr>
            <a:xfrm>
              <a:off x="7432920" y="5894640"/>
              <a:ext cx="989640" cy="82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División Interior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8" name="_s111639"/>
            <p:cNvSpPr/>
            <p:nvPr/>
          </p:nvSpPr>
          <p:spPr>
            <a:xfrm>
              <a:off x="8587440" y="5894640"/>
              <a:ext cx="989640" cy="82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División 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Grandes 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Contribuyentes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6" name="_s111641"/>
            <p:cNvSpPr/>
            <p:nvPr/>
          </p:nvSpPr>
          <p:spPr>
            <a:xfrm>
              <a:off x="7155720" y="3312000"/>
              <a:ext cx="990720" cy="82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Auditoria Interna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4" name="_s111643"/>
            <p:cNvSpPr/>
            <p:nvPr/>
          </p:nvSpPr>
          <p:spPr>
            <a:xfrm>
              <a:off x="5204880" y="3421080"/>
              <a:ext cx="991800" cy="82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Asesoría Tributaria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2" name="_s111645"/>
            <p:cNvSpPr/>
            <p:nvPr/>
          </p:nvSpPr>
          <p:spPr>
            <a:xfrm>
              <a:off x="3886200" y="4658040"/>
              <a:ext cx="989640" cy="82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Asesoría 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en Planificación 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Organización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 </a:t>
              </a: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y Control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9" name="_s111647"/>
            <p:cNvSpPr/>
            <p:nvPr/>
          </p:nvSpPr>
          <p:spPr>
            <a:xfrm>
              <a:off x="5205960" y="4658040"/>
              <a:ext cx="989640" cy="82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Asesoría 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Económica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CC34-FC70-4648-95F4-2932AF6E54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4720" y="955440"/>
            <a:ext cx="9072720" cy="11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500" spc="-1" strike="noStrike">
                <a:solidFill>
                  <a:srgbClr val="ffcc66"/>
                </a:solidFill>
                <a:latin typeface="Tahoma"/>
              </a:rPr>
              <a:t>(II)</a:t>
            </a:r>
            <a:r>
              <a:rPr b="0" lang="es-UY" sz="4500" spc="-1" strike="noStrike">
                <a:solidFill>
                  <a:srgbClr val="e5ffff"/>
                </a:solidFill>
                <a:latin typeface="Tahoma"/>
              </a:rPr>
              <a:t> PRINCIPALES FUNCIONES ASIGNADAS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ffcc66"/>
                </a:solidFill>
                <a:uFillTx/>
                <a:latin typeface="Tahoma"/>
              </a:rPr>
              <a:t>DIRECCION GENERA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Aprobar el plan estratégic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Asesorar al jerarca sobre las normas tributarias vigen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Dictar resoluciones que determinen impuest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Delegar las funciones que le autorice la le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30240"/>
            <a:ext cx="2751120" cy="98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D509-610F-44B5-BB36-F319D7F7A09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4720" y="969480"/>
            <a:ext cx="9072720" cy="1089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500" spc="-1" strike="noStrike">
                <a:solidFill>
                  <a:srgbClr val="ffcc66"/>
                </a:solidFill>
                <a:latin typeface="Tahoma"/>
              </a:rPr>
              <a:t>(II)</a:t>
            </a:r>
            <a:r>
              <a:rPr b="0" lang="es-UY" sz="4500" spc="-1" strike="noStrike">
                <a:solidFill>
                  <a:srgbClr val="e5ffff"/>
                </a:solidFill>
                <a:latin typeface="Tahoma"/>
              </a:rPr>
              <a:t> PRINCIPALES FUNCIONES ASIGNADAS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5000"/>
          </a:bodyPr>
          <a:p>
            <a:pPr marL="35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400" spc="-1" strike="noStrike">
                <a:solidFill>
                  <a:srgbClr val="ffcc66"/>
                </a:solidFill>
                <a:latin typeface="Tahoma"/>
              </a:rPr>
              <a:t>   </a:t>
            </a:r>
            <a:r>
              <a:rPr b="1" lang="es-UY" sz="2400" spc="-1" strike="noStrike" u="sng">
                <a:solidFill>
                  <a:srgbClr val="ffcc66"/>
                </a:solidFill>
                <a:uFillTx/>
                <a:latin typeface="Tahoma"/>
              </a:rPr>
              <a:t>DIVISION ATENCION Y ASISTE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000" spc="-1" strike="noStrike">
                <a:solidFill>
                  <a:srgbClr val="e5ffff"/>
                </a:solidFill>
                <a:latin typeface="Tahoma"/>
              </a:rPr>
              <a:t>Atender y asistir a los contribuyentes y responsables de los tributos administrados, inscribirlos en el Registro Único Tributario, recibir sus declaraciones y expedir los certificados y constancias que deriven de su cumplimien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400" spc="-1" strike="noStrike">
                <a:solidFill>
                  <a:srgbClr val="ffcc66"/>
                </a:solidFill>
                <a:latin typeface="Tahoma"/>
              </a:rPr>
              <a:t>   </a:t>
            </a:r>
            <a:r>
              <a:rPr b="1" lang="es-UY" sz="2400" spc="-1" strike="noStrike" u="sng">
                <a:solidFill>
                  <a:srgbClr val="ffcc66"/>
                </a:solidFill>
                <a:uFillTx/>
                <a:latin typeface="Tahoma"/>
              </a:rPr>
              <a:t>DIVISION RECAUDACION Y CONTROLES EXTENSIV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000" spc="-1" strike="noStrike">
                <a:solidFill>
                  <a:srgbClr val="e5ffff"/>
                </a:solidFill>
                <a:latin typeface="Tahoma"/>
              </a:rPr>
              <a:t>Gestionar la recaudación de los tributos administrados, sanciones e intereses que correspondan tanto en vía voluntaria como coactiv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000" spc="-1" strike="noStrike">
                <a:solidFill>
                  <a:srgbClr val="e5ffff"/>
                </a:solidFill>
                <a:latin typeface="Tahoma"/>
              </a:rPr>
              <a:t>Velar por el efectivo recaudo y cobro de los tributos y demás gravámenes de competencia de la DGI ejerciendo el control sobre los servicios de cobranza contratados con terce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000" spc="-1" strike="noStrike">
                <a:solidFill>
                  <a:srgbClr val="e5ffff"/>
                </a:solidFill>
                <a:latin typeface="Tahoma"/>
              </a:rPr>
              <a:t>Suscribir acuerdos y facilidades de pago. Velar por su seguimiento y custodi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B71F-1132-4C86-ADC3-BCD5BE5B5C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4720" y="977400"/>
            <a:ext cx="90727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500" spc="-1" strike="noStrike">
                <a:solidFill>
                  <a:srgbClr val="ffcc66"/>
                </a:solidFill>
                <a:latin typeface="Tahoma"/>
              </a:rPr>
              <a:t>(II)</a:t>
            </a:r>
            <a:r>
              <a:rPr b="1" lang="es-UY" sz="4500" spc="-1" strike="noStrike">
                <a:solidFill>
                  <a:srgbClr val="e5ffff"/>
                </a:solidFill>
                <a:latin typeface="Tahoma"/>
              </a:rPr>
              <a:t> PRINCIPALES FUNCIONES ASIGNADAS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66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6480" indent="-366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400" spc="-1" strike="noStrike" u="sng">
                <a:solidFill>
                  <a:srgbClr val="ffcc66"/>
                </a:solidFill>
                <a:uFillTx/>
                <a:latin typeface="Tahoma"/>
              </a:rPr>
              <a:t>DIVISION FISCALIZAC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6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9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17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Dirigir, planear, coordinar, supervisar, controlar, ejecutar y evaluar las actividades relacionadas con la gestión técnica de los procesos de fiscalización  de los tributos administra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9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6480" indent="-366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400" spc="-1" strike="noStrike" u="sng">
                <a:solidFill>
                  <a:srgbClr val="ffcc66"/>
                </a:solidFill>
                <a:uFillTx/>
                <a:latin typeface="Tahoma"/>
              </a:rPr>
              <a:t>DIVISION ADMINISTRAC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6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9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0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Dirigir, planear, coordinar supervisar desarrollar y evaluar las actividades de la administración y capacitación de personal , de los servicios administrativos , de los recursos financieros y de los bienes patrimoniales de la entidad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5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91D6-4DCE-4B60-9BC8-29863981E3C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4720" y="999720"/>
            <a:ext cx="910584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500" spc="-1" strike="noStrike">
                <a:solidFill>
                  <a:srgbClr val="ffcc66"/>
                </a:solidFill>
                <a:latin typeface="Tahoma"/>
              </a:rPr>
              <a:t>(II)</a:t>
            </a:r>
            <a:r>
              <a:rPr b="1" lang="es-UY" sz="4500" spc="-1" strike="noStrike">
                <a:solidFill>
                  <a:srgbClr val="e5ffff"/>
                </a:solidFill>
                <a:latin typeface="Tahoma"/>
              </a:rPr>
              <a:t> PRINCIPALES FUNCIONES ASIGNADAS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55320" indent="-355320">
              <a:spcBef>
                <a:spcPts val="975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900" spc="-1" strike="noStrike" u="sng">
                <a:solidFill>
                  <a:srgbClr val="ffcc66"/>
                </a:solidFill>
                <a:uFillTx/>
                <a:latin typeface="Tahoma"/>
              </a:rPr>
              <a:t>DIVISION INFORMATICA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lvl="1" marL="769680" indent="0"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D</a:t>
            </a:r>
            <a:r>
              <a:rPr b="0" lang="es-UY" sz="2800" spc="-1" strike="noStrike">
                <a:solidFill>
                  <a:srgbClr val="e5ffff"/>
                </a:solidFill>
                <a:latin typeface="Tahoma"/>
              </a:rPr>
              <a:t>irigir, planear coordinar supervisar, ejecutar y evaluar las actividades relacionadas con la gestión, seguridad y mantenimiento de los sistemas informáticos y de la infraestructura tecnológ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5320" indent="-355320">
              <a:spcBef>
                <a:spcPts val="975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900" spc="-1" strike="noStrike" u="sng">
                <a:solidFill>
                  <a:srgbClr val="ffcc66"/>
                </a:solidFill>
                <a:uFillTx/>
                <a:latin typeface="Tahoma"/>
              </a:rPr>
              <a:t>DIVISION TECNICO FISCAL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lvl="1" marL="769680" indent="0"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UY" sz="2800" spc="-1" strike="noStrike">
                <a:solidFill>
                  <a:srgbClr val="e5ffff"/>
                </a:solidFill>
                <a:latin typeface="Tahoma"/>
              </a:rPr>
              <a:t>Dirigir planear controlar ejecutar y evaluar las actividades relacionadas con la gestión jurídica en especial tributaria del organism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8864-DD1D-4BF4-BA9E-163DDF46EF0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4360" y="1103040"/>
            <a:ext cx="9083880" cy="95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500" spc="-1" strike="noStrike">
                <a:solidFill>
                  <a:srgbClr val="ffcc66"/>
                </a:solidFill>
                <a:latin typeface="Tahoma"/>
              </a:rPr>
              <a:t>(</a:t>
            </a:r>
            <a:r>
              <a:rPr b="1" lang="es-UY" sz="4000" spc="-1" strike="noStrike">
                <a:solidFill>
                  <a:srgbClr val="ffcc66"/>
                </a:solidFill>
                <a:latin typeface="Tahoma"/>
              </a:rPr>
              <a:t>II)</a:t>
            </a:r>
            <a:r>
              <a:rPr b="1" lang="es-UY" sz="4000" spc="-1" strike="noStrike">
                <a:solidFill>
                  <a:srgbClr val="e5ffff"/>
                </a:solidFill>
                <a:latin typeface="Tahoma"/>
              </a:rPr>
              <a:t> PRINCIPALES FUNCIONES ASIGNADA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51360" indent="-35136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200" spc="-1" strike="noStrike" u="sng">
                <a:solidFill>
                  <a:srgbClr val="ffcc66"/>
                </a:solidFill>
                <a:uFillTx/>
                <a:latin typeface="Tahoma"/>
              </a:rPr>
              <a:t>DIVISION INTERIO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5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6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Organizar dirigir coordinar y ejecutar las funciones propias de las dependencias conforme a los programas, manuales, normas e instrucciones emanadas de las distintas áreas funciona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1360" indent="-35136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200" spc="-1" strike="noStrike" u="sng">
                <a:solidFill>
                  <a:srgbClr val="ffcc66"/>
                </a:solidFill>
                <a:uFillTx/>
                <a:latin typeface="Tahoma"/>
              </a:rPr>
              <a:t>DIVISION GRANDES CONTRIBUYENT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5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2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61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0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lang="es-UY" sz="2000" spc="-1" strike="noStrike">
                <a:solidFill>
                  <a:srgbClr val="e5ffff"/>
                </a:solidFill>
                <a:latin typeface="Tahoma"/>
              </a:rPr>
              <a:t>D</a:t>
            </a:r>
            <a:r>
              <a:rPr b="0" lang="es-UY" sz="2200" spc="-1" strike="noStrike">
                <a:solidFill>
                  <a:srgbClr val="e5ffff"/>
                </a:solidFill>
                <a:latin typeface="Tahoma"/>
              </a:rPr>
              <a:t>irigir planear coordinar controlar ejecutar y evaluar las actividades relacionadas con la recaudación de tributos y sanciones, devolución de impuestos, gestión de los mismos y la investigación y fiscalización de los tributos que recaen sobre los grandes contribuyentes 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AA57-26FF-4F4E-A62F-BB7B225F523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4720" y="474840"/>
            <a:ext cx="9072720" cy="14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900" spc="-1" strike="noStrike">
                <a:solidFill>
                  <a:srgbClr val="ffcc66"/>
                </a:solidFill>
                <a:latin typeface="Tahoma"/>
              </a:rPr>
              <a:t>(II)</a:t>
            </a:r>
            <a:r>
              <a:rPr b="1" lang="es-UY" sz="4900" spc="-1" strike="noStrike">
                <a:solidFill>
                  <a:srgbClr val="e5ffff"/>
                </a:solidFill>
                <a:latin typeface="Tahoma"/>
              </a:rPr>
              <a:t> MODELO ORGANIZATIVO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La normativa define a la DGI  como una organización de</a:t>
            </a:r>
            <a:r>
              <a:rPr b="0" lang="es-UY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UY" sz="3200" spc="-1" strike="noStrike" u="sng">
                <a:solidFill>
                  <a:srgbClr val="ffcc66"/>
                </a:solidFill>
                <a:uFillTx/>
                <a:latin typeface="Tahoma"/>
              </a:rPr>
              <a:t>tipo funci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En la determinación de su estructura aparecen además criterios de segmentación por</a:t>
            </a:r>
            <a:r>
              <a:rPr b="0" lang="es-UY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UY" sz="3200" spc="-1" strike="noStrike" u="sng">
                <a:solidFill>
                  <a:srgbClr val="ffcc66"/>
                </a:solidFill>
                <a:uFillTx/>
                <a:latin typeface="Tahoma"/>
              </a:rPr>
              <a:t>grupo de contribuyentes y territor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ADF8-8C5C-4265-B516-6C4BC08247F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4720" y="474840"/>
            <a:ext cx="9072720" cy="14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900" spc="-1" strike="noStrike">
                <a:solidFill>
                  <a:srgbClr val="e5ffff"/>
                </a:solidFill>
                <a:latin typeface="Tahoma"/>
              </a:rPr>
              <a:t>ALCANCE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400" spc="-1" strike="noStrike" u="sng">
                <a:solidFill>
                  <a:srgbClr val="ffcc66"/>
                </a:solidFill>
                <a:uFillTx/>
                <a:latin typeface="Tahoma"/>
              </a:rPr>
              <a:t>PARTE I</a:t>
            </a:r>
            <a:r>
              <a:rPr b="0" lang="es-UY" sz="2400" spc="-1" strike="noStrike">
                <a:solidFill>
                  <a:srgbClr val="ffcc66"/>
                </a:solidFill>
                <a:latin typeface="Tahoma"/>
              </a:rPr>
              <a:t>:</a:t>
            </a:r>
            <a:r>
              <a:rPr b="0" lang="es-UY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SISTEMA TRIBUTARIO URUGUAY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0">
              <a:spcAft>
                <a:spcPts val="1426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400" spc="-1" strike="noStrike" u="sng">
                <a:solidFill>
                  <a:srgbClr val="ffcc66"/>
                </a:solidFill>
                <a:uFillTx/>
                <a:latin typeface="Tahoma"/>
              </a:rPr>
              <a:t>PARTE II:</a:t>
            </a:r>
            <a:r>
              <a:rPr b="1" lang="es-UY" sz="24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ORGANIZACION Y FUNCIONES DE LA ADMINSITRACION TRIBUTARIA CENT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400" spc="-1" strike="noStrike" u="sng">
                <a:solidFill>
                  <a:srgbClr val="ffcc66"/>
                </a:solidFill>
                <a:uFillTx/>
                <a:latin typeface="Tahoma"/>
              </a:rPr>
              <a:t>PARTE III:</a:t>
            </a:r>
            <a:r>
              <a:rPr b="0" lang="es-UY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ALGUNAS CARACTERISTICAS EN LA GESTION DE LA ADMINISTRACIÓN TRIBUTA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8EB1-F415-4089-AEDA-BCECF7559C0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885960"/>
            <a:ext cx="907272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900" spc="-1" strike="noStrike">
                <a:solidFill>
                  <a:srgbClr val="ffcc66"/>
                </a:solidFill>
                <a:latin typeface="Tahoma"/>
              </a:rPr>
              <a:t>(II)</a:t>
            </a:r>
            <a:r>
              <a:rPr b="0" lang="es-UY" sz="4900" spc="-1" strike="noStrike">
                <a:solidFill>
                  <a:srgbClr val="e5ffff"/>
                </a:solidFill>
                <a:latin typeface="Tahoma"/>
              </a:rPr>
              <a:t> MODELO ORGANIZATIVO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43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800" indent="-343800">
              <a:lnSpc>
                <a:spcPct val="90000"/>
              </a:lnSpc>
              <a:spcBef>
                <a:spcPts val="876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ffcc66"/>
                </a:solidFill>
                <a:uFillTx/>
                <a:latin typeface="Tahoma"/>
              </a:rPr>
              <a:t>SEGMENTACION FUNCIONAL:</a:t>
            </a:r>
            <a:r>
              <a:rPr b="1" lang="es-UY" sz="35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s-UY" sz="3500" spc="-1" strike="noStrike" u="sng">
                <a:solidFill>
                  <a:srgbClr val="e5ffff"/>
                </a:solidFill>
                <a:uFillTx/>
                <a:latin typeface="Tahoma"/>
              </a:rPr>
              <a:t>SEIS DIVISIONES)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745200" indent="-287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Atención y Asiste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5200" indent="-287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Recaudación y Controles Extensi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5200" indent="-287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Fiscaliz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5200" indent="-287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Administr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5200" indent="-287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Informát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5200" indent="-287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Técnico fis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5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143A-C160-421C-9EDC-6206DA6CFE6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2760" y="946080"/>
            <a:ext cx="9072360" cy="105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500" spc="-1" strike="noStrike">
                <a:solidFill>
                  <a:srgbClr val="ffcc66"/>
                </a:solidFill>
                <a:latin typeface="Tahoma"/>
              </a:rPr>
              <a:t>(II)</a:t>
            </a:r>
            <a:r>
              <a:rPr b="1" lang="es-UY" sz="4500" spc="-1" strike="noStrike">
                <a:solidFill>
                  <a:srgbClr val="e5ffff"/>
                </a:solidFill>
                <a:latin typeface="Tahoma"/>
              </a:rPr>
              <a:t> MODELO ORGANIZATIVO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ffcc66"/>
                </a:solidFill>
                <a:uFillTx/>
                <a:latin typeface="Tahoma"/>
              </a:rPr>
              <a:t>SEGMENTACION POR GRUPO DE CONTRIBUYENTES</a:t>
            </a:r>
            <a:r>
              <a:rPr b="1" lang="es-UY" sz="3500" spc="-1" strike="noStrike" u="sng">
                <a:solidFill>
                  <a:srgbClr val="000000"/>
                </a:solidFill>
                <a:uFillTx/>
                <a:latin typeface="Tahoma"/>
              </a:rPr>
              <a:t>: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División Grandes Contribuyentes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E88F-0EFC-4DD1-8C1C-4EF05490DC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4720" y="957240"/>
            <a:ext cx="9072720" cy="97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500" spc="-1" strike="noStrike">
                <a:solidFill>
                  <a:srgbClr val="ffcc66"/>
                </a:solidFill>
                <a:latin typeface="Tahoma"/>
              </a:rPr>
              <a:t>(II)</a:t>
            </a:r>
            <a:r>
              <a:rPr b="1" lang="es-UY" sz="4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UY" sz="4500" spc="-1" strike="noStrike">
                <a:solidFill>
                  <a:srgbClr val="e5ffff"/>
                </a:solidFill>
                <a:latin typeface="Tahoma"/>
              </a:rPr>
              <a:t>MODELO ORGANIZATIVO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596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1800" spc="-1" strike="noStrike" u="sng">
                <a:solidFill>
                  <a:srgbClr val="ffcc00"/>
                </a:solidFill>
                <a:uFillTx/>
                <a:latin typeface="Tahoma"/>
              </a:rPr>
              <a:t>SEGMENTACION TERRITORI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5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000" spc="-1" strike="noStrike">
                <a:solidFill>
                  <a:srgbClr val="e5ffff"/>
                </a:solidFill>
                <a:latin typeface="Tahoma"/>
              </a:rPr>
              <a:t>DIVISION INTERI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819600" y="3317760"/>
            <a:ext cx="2164680" cy="3083400"/>
            <a:chOff x="3819600" y="3317760"/>
            <a:chExt cx="2164680" cy="3083400"/>
          </a:xfrm>
        </p:grpSpPr>
        <p:cxnSp>
          <p:nvCxnSpPr>
            <p:cNvPr id="201" name="_s114737"/>
            <p:cNvCxnSpPr>
              <a:stCxn id="202" idx="1"/>
              <a:endCxn id="203" idx="2"/>
            </p:cNvCxnSpPr>
            <p:nvPr/>
          </p:nvCxnSpPr>
          <p:spPr>
            <a:xfrm flipH="1" rot="10800000">
              <a:off x="3933720" y="5386320"/>
              <a:ext cx="1029960" cy="742320"/>
            </a:xfrm>
            <a:prstGeom prst="bentConnector4">
              <a:avLst>
                <a:gd name="adj1" fmla="val -11083"/>
                <a:gd name="adj2" fmla="val 6836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4" name="_s114733"/>
            <p:cNvCxnSpPr>
              <a:stCxn id="203" idx="0"/>
              <a:endCxn id="205" idx="2"/>
            </p:cNvCxnSpPr>
            <p:nvPr/>
          </p:nvCxnSpPr>
          <p:spPr>
            <a:xfrm flipV="1">
              <a:off x="4964040" y="4569480"/>
              <a:ext cx="2520" cy="241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6" name="_s114701"/>
            <p:cNvCxnSpPr/>
            <p:nvPr/>
          </p:nvCxnSpPr>
          <p:spPr>
            <a:xfrm flipH="1" flipV="1" rot="5400000">
              <a:off x="4644720" y="4054320"/>
              <a:ext cx="526680" cy="28800"/>
            </a:xfrm>
            <a:prstGeom prst="bentConnector3">
              <a:avLst>
                <a:gd name="adj1" fmla="val 2017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07" name="_s114695"/>
            <p:cNvSpPr/>
            <p:nvPr/>
          </p:nvSpPr>
          <p:spPr>
            <a:xfrm>
              <a:off x="3944520" y="3317760"/>
              <a:ext cx="2039400" cy="532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800" spc="-1" strike="noStrike">
                  <a:solidFill>
                    <a:srgbClr val="0033cc"/>
                  </a:solidFill>
                  <a:latin typeface="Arial"/>
                  <a:ea typeface="Arial"/>
                </a:rPr>
                <a:t>División</a:t>
              </a:r>
              <a:r>
                <a:rPr b="0" lang="es-UY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s-UY" sz="1800" spc="-1" strike="noStrike">
                  <a:solidFill>
                    <a:srgbClr val="0033cc"/>
                  </a:solidFill>
                  <a:latin typeface="Arial"/>
                  <a:ea typeface="Arial"/>
                </a:rPr>
                <a:t>Interio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5" name="_s114698"/>
            <p:cNvSpPr/>
            <p:nvPr/>
          </p:nvSpPr>
          <p:spPr>
            <a:xfrm>
              <a:off x="3942000" y="4062960"/>
              <a:ext cx="2042280" cy="506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800" spc="-1" strike="noStrike">
                  <a:solidFill>
                    <a:srgbClr val="0033cc"/>
                  </a:solidFill>
                  <a:latin typeface="Arial"/>
                  <a:ea typeface="Arial"/>
                </a:rPr>
                <a:t>Administraciones 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800" spc="-1" strike="noStrike">
                  <a:solidFill>
                    <a:srgbClr val="0033cc"/>
                  </a:solidFill>
                  <a:latin typeface="Arial"/>
                  <a:ea typeface="Arial"/>
                </a:rPr>
                <a:t>Regionales</a:t>
              </a:r>
              <a:r>
                <a:rPr b="0" lang="es-UY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5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3" name="_s114732"/>
            <p:cNvSpPr/>
            <p:nvPr/>
          </p:nvSpPr>
          <p:spPr>
            <a:xfrm>
              <a:off x="3942000" y="4810680"/>
              <a:ext cx="2042280" cy="57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1700" spc="-1" strike="noStrike">
                  <a:solidFill>
                    <a:srgbClr val="0033cc"/>
                  </a:solidFill>
                  <a:latin typeface="Tahoma"/>
                  <a:ea typeface="Arial"/>
                </a:rPr>
                <a:t>Unidades Operativas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1700" spc="-1" strike="noStrike">
                  <a:solidFill>
                    <a:srgbClr val="0033cc"/>
                  </a:solidFill>
                  <a:latin typeface="Tahoma"/>
                  <a:ea typeface="Arial"/>
                </a:rPr>
                <a:t>(21)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2" name="_s114736"/>
            <p:cNvSpPr/>
            <p:nvPr/>
          </p:nvSpPr>
          <p:spPr>
            <a:xfrm>
              <a:off x="3934800" y="5859720"/>
              <a:ext cx="2039400" cy="541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1700" spc="-1" strike="noStrike">
                  <a:solidFill>
                    <a:srgbClr val="0033cc"/>
                  </a:solidFill>
                  <a:latin typeface="Tahoma"/>
                  <a:ea typeface="Arial"/>
                </a:rPr>
                <a:t>Oficinas 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1700" spc="-1" strike="noStrike">
                  <a:solidFill>
                    <a:srgbClr val="0033cc"/>
                  </a:solidFill>
                  <a:latin typeface="Tahoma"/>
                  <a:ea typeface="Arial"/>
                </a:rPr>
                <a:t>(24)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8CD8-1554-495C-945A-02A006009D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4720" y="8982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200" spc="-1" strike="noStrike">
                <a:solidFill>
                  <a:srgbClr val="ffcc66"/>
                </a:solidFill>
                <a:latin typeface="Tahoma"/>
              </a:rPr>
              <a:t>(III)</a:t>
            </a:r>
            <a:r>
              <a:rPr b="1" lang="es-UY" sz="3200" spc="-1" strike="noStrike">
                <a:solidFill>
                  <a:srgbClr val="e5ffff"/>
                </a:solidFill>
                <a:latin typeface="Tahoma"/>
              </a:rPr>
              <a:t> ALGUNAS CARACTERISTICAS DE LA GESTION DEL SISTEMA TRIBUTARIO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70440" indent="-370440"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PLANIFICACION ESTRATEGICA COMO INSTRUMENTO DE CONTROL DE GESTION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7044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70440" indent="-370440"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MECANISMOS DE COORDINACION INTERINSTITUCIONAL DE LA ADMINISTRACION TRIBUTARIA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7044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70440" indent="-370440"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GESTION DEL AREA INFORMATICA TRIBUTARIA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2803-F10D-4B2C-879A-A44DB8F5DB5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4720" y="966960"/>
            <a:ext cx="9072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200" spc="-1" strike="noStrike">
                <a:solidFill>
                  <a:srgbClr val="ffcc00"/>
                </a:solidFill>
                <a:latin typeface="Tahoma"/>
              </a:rPr>
              <a:t>(III)</a:t>
            </a:r>
            <a:r>
              <a:rPr b="1" lang="es-UY" sz="3200" spc="-1" strike="noStrike">
                <a:solidFill>
                  <a:srgbClr val="e5ffff"/>
                </a:solidFill>
                <a:latin typeface="Tahoma"/>
              </a:rPr>
              <a:t> PLANIFICACION ESTRATEGICA COMO INSTRUMENTO DE CONTROL DE GESTIO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300" spc="-1" strike="noStrike" u="sng">
                <a:solidFill>
                  <a:srgbClr val="ffcc00"/>
                </a:solidFill>
                <a:uFillTx/>
                <a:latin typeface="Tahoma"/>
              </a:rPr>
              <a:t>ANTECEDENTE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300" spc="-1" strike="noStrike" u="sng">
                <a:solidFill>
                  <a:srgbClr val="ffcc00"/>
                </a:solidFill>
                <a:uFillTx/>
                <a:latin typeface="Tahoma"/>
              </a:rPr>
              <a:t>REFORMA TRIBUTARIA</a:t>
            </a:r>
            <a:r>
              <a:rPr b="0" i="1" lang="es-UY" sz="24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1" i="1" lang="es-UY" sz="2300" spc="-1" strike="noStrike">
                <a:solidFill>
                  <a:srgbClr val="e5ffff"/>
                </a:solidFill>
                <a:latin typeface="Tahoma"/>
              </a:rPr>
              <a:t>APROBADA EN EL AÑO</a:t>
            </a:r>
            <a:r>
              <a:rPr b="1" i="1" lang="es-UY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s-UY" sz="2400" spc="-1" strike="noStrike">
                <a:solidFill>
                  <a:srgbClr val="e5ffff"/>
                </a:solidFill>
                <a:latin typeface="Tahoma"/>
              </a:rPr>
              <a:t>2006 - LEY</a:t>
            </a:r>
            <a:r>
              <a:rPr b="1" i="1" lang="es-UY" sz="2400" spc="-1" strike="noStrike">
                <a:solidFill>
                  <a:srgbClr val="ffffff"/>
                </a:solidFill>
                <a:latin typeface="Tahoma"/>
              </a:rPr>
              <a:t> 18083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400" spc="-1" strike="noStrike" u="sng">
                <a:solidFill>
                  <a:srgbClr val="ffcc00"/>
                </a:solidFill>
                <a:uFillTx/>
                <a:latin typeface="Tahoma"/>
              </a:rPr>
              <a:t>OBJETIVOS PERSEGUI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Promover una distribución mas equitativa de la carga tributaria por medio de una simplificación del sistema tributario, eliminando impuestos y exoneraciones especiales e incorporando el impuesto a la renta de las personas físic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Mejorar la eficiencia del sistema tributa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Generar un adecuado estimulo a la inversión producti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325B-207A-407D-8DDF-0BC42FDECED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4720" y="1015920"/>
            <a:ext cx="9072720" cy="1098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200" spc="-1" strike="noStrike">
                <a:solidFill>
                  <a:srgbClr val="ffcc00"/>
                </a:solidFill>
                <a:latin typeface="Tahoma"/>
              </a:rPr>
              <a:t>(III)</a:t>
            </a: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UY" sz="3200" spc="-1" strike="noStrike">
                <a:solidFill>
                  <a:srgbClr val="e5ffff"/>
                </a:solidFill>
                <a:latin typeface="Tahoma"/>
              </a:rPr>
              <a:t>PLANIFICACION ESTRATEGICA COMO INSTRUMENTO DE CONTROL DE GESTIO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200" spc="-1" strike="noStrike" u="sng">
                <a:solidFill>
                  <a:srgbClr val="ffcc00"/>
                </a:solidFill>
                <a:uFillTx/>
                <a:latin typeface="Tahoma"/>
              </a:rPr>
              <a:t>REFORMA TRIBUT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78000" indent="0" algn="ctr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200" spc="-1" strike="noStrike" u="sng">
                <a:solidFill>
                  <a:srgbClr val="e5ffff"/>
                </a:solidFill>
                <a:uFillTx/>
                <a:latin typeface="Tahoma"/>
              </a:rPr>
              <a:t>(</a:t>
            </a:r>
            <a:r>
              <a:rPr b="0" i="1" lang="es-UY" sz="3200" spc="-1" strike="noStrike" u="sng">
                <a:solidFill>
                  <a:srgbClr val="e5ffff"/>
                </a:solidFill>
                <a:uFillTx/>
                <a:latin typeface="Tahoma"/>
              </a:rPr>
              <a:t>PILARES QUE LA SUSTENTA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78000" indent="0" algn="ctr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NORMATIVA (LEY 1808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REESTRUCTURA DE LA DG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PROMOCION DE INVERS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D449-A0C2-48BF-AA3F-F64A295FB59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4720" y="1082520"/>
            <a:ext cx="910584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200" spc="-1" strike="noStrike">
                <a:solidFill>
                  <a:srgbClr val="ffcc00"/>
                </a:solidFill>
                <a:latin typeface="Tahoma"/>
              </a:rPr>
              <a:t>(</a:t>
            </a:r>
            <a:r>
              <a:rPr b="1" lang="es-UY" sz="3200" spc="-1" strike="noStrike">
                <a:solidFill>
                  <a:srgbClr val="ffcc00"/>
                </a:solidFill>
                <a:latin typeface="Tahoma"/>
              </a:rPr>
              <a:t>III)</a:t>
            </a:r>
            <a:r>
              <a:rPr b="1" lang="es-UY" sz="3200" spc="-1" strike="noStrike">
                <a:solidFill>
                  <a:srgbClr val="e5ffff"/>
                </a:solidFill>
                <a:latin typeface="Tahoma"/>
              </a:rPr>
              <a:t>  PLANIFICACION ESTRATEGICA COMO INSTRUMENTO DE CONTROL DE GESTIO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600" spc="-1" strike="noStrike" u="sng">
                <a:solidFill>
                  <a:srgbClr val="ffcc00"/>
                </a:solidFill>
                <a:uFillTx/>
                <a:latin typeface="Tahoma"/>
              </a:rPr>
              <a:t>REESTRUCTURA DE LA DGI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80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UY" sz="2600" spc="-1" strike="noStrike">
                <a:solidFill>
                  <a:srgbClr val="e5ffff"/>
                </a:solidFill>
                <a:latin typeface="Tahoma"/>
              </a:rPr>
              <a:t>Redefine misión y objetivos estratégico y se consagran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UY" sz="2000" spc="-1" strike="noStrike">
                <a:solidFill>
                  <a:srgbClr val="e5ffff"/>
                </a:solidFill>
                <a:latin typeface="Tahoma"/>
              </a:rPr>
              <a:t>PLAN ESTRATEGICO DE GESTION (quinquena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UY" sz="2000" spc="-1" strike="noStrike">
                <a:solidFill>
                  <a:srgbClr val="e5ffff"/>
                </a:solidFill>
                <a:latin typeface="Tahoma"/>
              </a:rPr>
              <a:t>PLANES OPERATIVOS ANU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UY" sz="2000" spc="-1" strike="noStrike">
                <a:solidFill>
                  <a:srgbClr val="e5ffff"/>
                </a:solidFill>
                <a:latin typeface="Tahoma"/>
              </a:rPr>
              <a:t>COMPROMISOS DE GESTION DGI-ME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600" spc="-1" strike="noStrike">
                <a:solidFill>
                  <a:srgbClr val="e5ffff"/>
                </a:solidFill>
                <a:latin typeface="Tahoma"/>
              </a:rPr>
              <a:t>REGIMEN DE DESEMPEÑO DE LOS FUNCIONARIO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UY" sz="2000" spc="-1" strike="noStrike">
                <a:solidFill>
                  <a:srgbClr val="e5ffff"/>
                </a:solidFill>
                <a:latin typeface="Tahoma"/>
              </a:rPr>
              <a:t>DEDICACION EXCLUSIVA y PRIMA POR RENDIMIENTO GRUP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103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4352-6B4F-4338-9B3D-6EE124CD6CA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4720" y="1062000"/>
            <a:ext cx="9072720" cy="115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200" spc="-1" strike="noStrike">
                <a:solidFill>
                  <a:srgbClr val="ffcc00"/>
                </a:solidFill>
                <a:latin typeface="Tahoma"/>
              </a:rPr>
              <a:t>(</a:t>
            </a:r>
            <a:r>
              <a:rPr b="0" lang="es-UY" sz="3200" spc="-1" strike="noStrike">
                <a:solidFill>
                  <a:srgbClr val="ffcc00"/>
                </a:solidFill>
                <a:latin typeface="Tahoma"/>
              </a:rPr>
              <a:t>III)</a:t>
            </a: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 PLANIFICACION ESTRATEGICA COMO INSTRUMENTO DE CONTROL DE GESTIO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4720" y="2573280"/>
            <a:ext cx="9072720" cy="4146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 marL="37044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 u="sng">
                <a:solidFill>
                  <a:srgbClr val="ffcc66"/>
                </a:solidFill>
                <a:uFillTx/>
                <a:latin typeface="Tahoma"/>
              </a:rPr>
              <a:t>PLAN ESTRATEGICO DE GESTION (</a:t>
            </a: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QUINQUENAL)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04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UY" sz="3500" spc="-1" strike="noStrike">
                <a:solidFill>
                  <a:srgbClr val="ffcc66"/>
                </a:solidFill>
                <a:latin typeface="Tahoma"/>
              </a:rPr>
              <a:t>ESTABLECE: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04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802440" indent="-309240">
              <a:lnSpc>
                <a:spcPct val="90000"/>
              </a:lnSpc>
              <a:spcBef>
                <a:spcPts val="774"/>
              </a:spcBef>
              <a:buClr>
                <a:srgbClr val="e5ff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Objetivos estratégicos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802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802440" indent="-309240">
              <a:lnSpc>
                <a:spcPct val="90000"/>
              </a:lnSpc>
              <a:spcBef>
                <a:spcPts val="774"/>
              </a:spcBef>
              <a:buClr>
                <a:srgbClr val="e5ff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Objetivos específicos e iniciativas de gestión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802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90F7-5F8C-4E16-B468-256A6858812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4720" y="1060560"/>
            <a:ext cx="9072720" cy="107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200" spc="-1" strike="noStrike">
                <a:solidFill>
                  <a:srgbClr val="ffcc00"/>
                </a:solidFill>
                <a:latin typeface="Tahoma"/>
              </a:rPr>
              <a:t>(III)</a:t>
            </a:r>
            <a:r>
              <a:rPr b="0" lang="es-UY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PLANIFICACION ESTRATEGICA COMO INSTRUMENTO DE CONTROL DE GESTIO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 u="sng">
                <a:solidFill>
                  <a:srgbClr val="ffcc66"/>
                </a:solidFill>
                <a:uFillTx/>
                <a:latin typeface="Tahoma"/>
              </a:rPr>
              <a:t>PLANES OPERATIVOS ANUALES </a:t>
            </a:r>
            <a:r>
              <a:rPr b="0" i="1" lang="es-UY" sz="3500" spc="-1" strike="noStrike">
                <a:solidFill>
                  <a:srgbClr val="ffcc66"/>
                </a:solidFill>
                <a:latin typeface="Tahoma"/>
              </a:rPr>
              <a:t>(elaborados en el marco del PEG)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UY" sz="3500" spc="-1" strike="noStrike" u="sng">
                <a:solidFill>
                  <a:srgbClr val="e5ffff"/>
                </a:solidFill>
                <a:uFillTx/>
                <a:latin typeface="Tahoma"/>
              </a:rPr>
              <a:t>CONTIENEN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spcBef>
                <a:spcPts val="774"/>
              </a:spcBef>
              <a:buClr>
                <a:srgbClr val="ffcc00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Actividades asociadas a proyectos de alta prioridad para la Dirección General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spcBef>
                <a:spcPts val="774"/>
              </a:spcBef>
              <a:buClr>
                <a:srgbClr val="ffcc00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Actividades ligadas a procesos específicos de mejora operativa continua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0F72-FA26-44B0-A66B-72273693511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4720" y="1000080"/>
            <a:ext cx="90727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200" spc="-1" strike="noStrike">
                <a:solidFill>
                  <a:srgbClr val="ffcc66"/>
                </a:solidFill>
                <a:latin typeface="Tahoma"/>
              </a:rPr>
              <a:t>(</a:t>
            </a:r>
            <a:r>
              <a:rPr b="0" lang="es-UY" sz="3200" spc="-1" strike="noStrike">
                <a:solidFill>
                  <a:srgbClr val="ffcc66"/>
                </a:solidFill>
                <a:latin typeface="Tahoma"/>
              </a:rPr>
              <a:t>III)</a:t>
            </a: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 PLANIFICACION ESTRATEGICA COMO INSTRUMENTO DE CONTROL DE GESTIO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 u="sng">
                <a:solidFill>
                  <a:srgbClr val="ffcc66"/>
                </a:solidFill>
                <a:uFillTx/>
                <a:latin typeface="Tahoma"/>
              </a:rPr>
              <a:t>COMPROMISO DE GESTION (anu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ELABORA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PARTIR DEL 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LAN OPERATIVO ANU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 EL SE ESTABLECE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BJETIVO DE RECAUDAC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BJETIVOS ESPECIFICOS CON METAS CUANTIFICAB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 BASE A ACTIVIDADES PRIORITARIAS QUE ABARCAN A TODAS LAS DIVISIONES DE LA ADMINISTRAC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4CEB-FEAA-4F9B-9EEE-E98B8FBF7DE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4720" y="474840"/>
            <a:ext cx="9072720" cy="14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900" spc="-1" strike="noStrike">
                <a:solidFill>
                  <a:srgbClr val="ffcc00"/>
                </a:solidFill>
                <a:latin typeface="Tahoma"/>
              </a:rPr>
              <a:t>(I)</a:t>
            </a:r>
            <a:r>
              <a:rPr b="0" lang="es-UY" sz="4900" spc="-1" strike="noStrike">
                <a:solidFill>
                  <a:srgbClr val="e5ffff"/>
                </a:solidFill>
                <a:latin typeface="Tahoma"/>
              </a:rPr>
              <a:t> SISTEMA TRIBUTARIO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66480" indent="-366480">
              <a:spcBef>
                <a:spcPts val="876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ffcc00"/>
                </a:solidFill>
                <a:uFillTx/>
                <a:latin typeface="Tahoma"/>
              </a:rPr>
              <a:t>POTESTAD TRIBUTARIA</a:t>
            </a:r>
            <a:r>
              <a:rPr b="0" lang="es-UY" sz="35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0" i="1" lang="es-UY" sz="3500" spc="-1" strike="noStrike">
                <a:solidFill>
                  <a:srgbClr val="e5ffff"/>
                </a:solidFill>
                <a:latin typeface="Tahoma"/>
              </a:rPr>
              <a:t>distribuida entre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794160" indent="-306000">
              <a:spcAft>
                <a:spcPts val="1426"/>
              </a:spcAft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000" spc="-1" strike="noStrike">
                <a:solidFill>
                  <a:srgbClr val="e5ffff"/>
                </a:solidFill>
                <a:latin typeface="Tahoma"/>
              </a:rPr>
              <a:t>Estado Nacional 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94160" indent="-306000">
              <a:spcAft>
                <a:spcPts val="1426"/>
              </a:spcAft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000" spc="-1" strike="noStrike">
                <a:solidFill>
                  <a:srgbClr val="e5ffff"/>
                </a:solidFill>
                <a:latin typeface="Tahoma"/>
              </a:rPr>
              <a:t>Gobiernos Departamental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66480" indent="-366480">
              <a:spcBef>
                <a:spcPts val="876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ffcc00"/>
                </a:solidFill>
                <a:uFillTx/>
                <a:latin typeface="Tahoma"/>
              </a:rPr>
              <a:t>AMBITO DE APLICACION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794160" indent="-306000">
              <a:spcAft>
                <a:spcPts val="1426"/>
              </a:spcAft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000" spc="-1" strike="noStrike">
                <a:solidFill>
                  <a:srgbClr val="e5ffff"/>
                </a:solidFill>
                <a:latin typeface="Tahoma"/>
                <a:ea typeface="Tahoma"/>
              </a:rPr>
              <a:t>Naciona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94160" indent="-306000">
              <a:spcAft>
                <a:spcPts val="1426"/>
              </a:spcAft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000" spc="-1" strike="noStrike">
                <a:solidFill>
                  <a:srgbClr val="e5ffff"/>
                </a:solidFill>
                <a:latin typeface="Tahoma"/>
                <a:ea typeface="Tahoma"/>
              </a:rPr>
              <a:t>Departamenta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BBB4-D417-47C8-BDBD-45DDF1DC4CEA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4720" y="1101600"/>
            <a:ext cx="907272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600" spc="-1" strike="noStrike">
                <a:solidFill>
                  <a:srgbClr val="ffcc66"/>
                </a:solidFill>
                <a:latin typeface="Tahoma"/>
              </a:rPr>
              <a:t>(</a:t>
            </a:r>
            <a:r>
              <a:rPr b="1" lang="es-UY" sz="3200" spc="-1" strike="noStrike">
                <a:solidFill>
                  <a:srgbClr val="ffcc66"/>
                </a:solidFill>
                <a:latin typeface="Tahoma"/>
              </a:rPr>
              <a:t>III)</a:t>
            </a:r>
            <a:r>
              <a:rPr b="1" lang="es-UY" sz="3200" spc="-1" strike="noStrike">
                <a:solidFill>
                  <a:srgbClr val="e5ffff"/>
                </a:solidFill>
                <a:latin typeface="Tahoma"/>
              </a:rPr>
              <a:t> PLANIFICACION ESTRATEGICA COMO INSTRUMENTO DE CONTROL DE GESTIO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4720" y="2179800"/>
            <a:ext cx="9072720" cy="53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600" spc="-1" strike="noStrike">
                <a:solidFill>
                  <a:srgbClr val="ffcc66"/>
                </a:solidFill>
                <a:latin typeface="Tahoma"/>
              </a:rPr>
              <a:t>REGIMEN DE DESEMPEÑO DE LOS FUNCIONARIO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UY" sz="2200" spc="-1" strike="noStrike" u="sng">
                <a:solidFill>
                  <a:srgbClr val="ffffff"/>
                </a:solidFill>
                <a:uFillTx/>
                <a:latin typeface="Tahoma"/>
              </a:rPr>
              <a:t>DEDICACION EXCLUSIVA y PRIMA POR RENDIMIENTO GRUPA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0">
              <a:spcBef>
                <a:spcPts val="499"/>
              </a:spcBef>
              <a:buNone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PRIMA POR RENDIMIENTO GRUPAL</a:t>
            </a:r>
            <a:r>
              <a:rPr b="0" i="1" lang="en-US" sz="2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0"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4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Tahoma"/>
              </a:rPr>
              <a:t>ABARCA A TODOS LOS FUNCIONARIO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4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Tahoma"/>
              </a:rPr>
              <a:t>SUJETA AL CUMPLIMIENTO DE LAS METAS ESTABLECIDAS EN FORMA ANUAL (SOBRE EL POA)POR LA DGI Y AVALADAS POR EL MEF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4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Tahoma"/>
              </a:rPr>
              <a:t>SUJETO A UN CONTROL DE SEGUIMIENTO MENSUAL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05AE-8D55-4A7E-BD82-9A016BC8819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4720" y="912600"/>
            <a:ext cx="9072720" cy="1019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800" spc="-1" strike="noStrike">
                <a:solidFill>
                  <a:srgbClr val="ffcc66"/>
                </a:solidFill>
                <a:latin typeface="Tahoma"/>
              </a:rPr>
              <a:t>(III)</a:t>
            </a:r>
            <a:r>
              <a:rPr b="1" lang="es-UY" sz="2800" spc="-1" strike="noStrike">
                <a:solidFill>
                  <a:srgbClr val="e5ffff"/>
                </a:solidFill>
                <a:latin typeface="Tahoma"/>
              </a:rPr>
              <a:t> ADMINITRACION TRIBUTARIA CENTRAL:</a:t>
            </a:r>
            <a:br>
              <a:rPr sz="2800"/>
            </a:br>
            <a:r>
              <a:rPr b="1" lang="es-UY" sz="2800" spc="-1" strike="noStrike">
                <a:solidFill>
                  <a:srgbClr val="e5ffff"/>
                </a:solidFill>
                <a:latin typeface="Tahoma"/>
              </a:rPr>
              <a:t>MECANISMOS DE COORDINACION</a:t>
            </a: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UY" sz="4400" spc="-1" strike="noStrike">
                <a:solidFill>
                  <a:srgbClr val="ffcc66"/>
                </a:solidFill>
                <a:latin typeface="Tahoma"/>
              </a:rPr>
              <a:t>INTEGRADA POR TRES ORGANISMO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90000"/>
              </a:lnSpc>
              <a:spcAft>
                <a:spcPts val="1426"/>
              </a:spcAft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900" spc="-1" strike="noStrike">
                <a:solidFill>
                  <a:srgbClr val="e5ffff"/>
                </a:solidFill>
                <a:latin typeface="Tahoma"/>
              </a:rPr>
              <a:t>DGI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90000"/>
              </a:lnSpc>
              <a:spcAft>
                <a:spcPts val="1426"/>
              </a:spcAft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900" spc="-1" strike="noStrike">
                <a:solidFill>
                  <a:srgbClr val="e5ffff"/>
                </a:solidFill>
                <a:latin typeface="Tahoma"/>
              </a:rPr>
              <a:t>DNA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90000"/>
              </a:lnSpc>
              <a:spcAft>
                <a:spcPts val="1426"/>
              </a:spcAft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900" spc="-1" strike="noStrike">
                <a:solidFill>
                  <a:srgbClr val="e5ffff"/>
                </a:solidFill>
                <a:latin typeface="Tahoma"/>
              </a:rPr>
              <a:t>BPS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4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870B-43B8-428F-B551-E5D2EA19DCA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360" y="1025280"/>
            <a:ext cx="9129960" cy="106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800" spc="-1" strike="noStrike">
                <a:solidFill>
                  <a:srgbClr val="ffcc66"/>
                </a:solidFill>
                <a:latin typeface="Tahoma"/>
              </a:rPr>
              <a:t>(III)</a:t>
            </a:r>
            <a:r>
              <a:rPr b="1" lang="es-UY" sz="2800" spc="-1" strike="noStrike">
                <a:solidFill>
                  <a:srgbClr val="e5ffff"/>
                </a:solidFill>
                <a:latin typeface="Tahoma"/>
              </a:rPr>
              <a:t> ADMINITRACION TRIBUTARIA CENTRAL:</a:t>
            </a:r>
            <a:br>
              <a:rPr sz="2800"/>
            </a:br>
            <a:r>
              <a:rPr b="1" lang="es-UY" sz="2800" spc="-1" strike="noStrike">
                <a:solidFill>
                  <a:srgbClr val="e5ffff"/>
                </a:solidFill>
                <a:latin typeface="Tahoma"/>
              </a:rPr>
              <a:t>MECANISMOS DE COORDINACION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2000"/>
          </a:bodyPr>
          <a:p>
            <a:pPr marL="3477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100" spc="-1" strike="noStrike" u="sng">
                <a:solidFill>
                  <a:srgbClr val="ffcc66"/>
                </a:solidFill>
                <a:uFillTx/>
                <a:latin typeface="Tahoma"/>
              </a:rPr>
              <a:t>COORDINACION ENTRE DGI Y BPS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77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ffffff"/>
                </a:solidFill>
                <a:latin typeface="Tahoma"/>
              </a:rPr>
              <a:t>1- </a:t>
            </a: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La ley 18083 del 27/12/2006 que  crea al IRPF  nombra a la </a:t>
            </a:r>
            <a:r>
              <a:rPr b="1" lang="es-UY" sz="3100" spc="-1" strike="noStrike" u="sng">
                <a:solidFill>
                  <a:srgbClr val="e5ffff"/>
                </a:solidFill>
                <a:uFillTx/>
                <a:latin typeface="Tahoma"/>
              </a:rPr>
              <a:t>DGI sujeto activo y al BPS  entidad</a:t>
            </a:r>
            <a:r>
              <a:rPr b="1" lang="es-UY" sz="31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s-UY" sz="3100" spc="-1" strike="noStrike" u="sng">
                <a:solidFill>
                  <a:srgbClr val="e5ffff"/>
                </a:solidFill>
                <a:uFillTx/>
                <a:latin typeface="Tahoma"/>
              </a:rPr>
              <a:t>colaborada</a:t>
            </a: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 en la gestión de retenciones efectuadas a sus afiliados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77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Con la misma información que se calculan las contribuciones a la seguridad social, el BPS determina las retenciones correspondientes al IRPF y las informa a DGI colaborando además en la cobranza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77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Esto permite el control de que existen iguales bases imponibles para ambos tributos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473A-4E0A-405C-A79D-9F10EAB5A5E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4720" y="958680"/>
            <a:ext cx="9072720" cy="973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200" spc="-1" strike="noStrike">
                <a:solidFill>
                  <a:srgbClr val="ffcc66"/>
                </a:solidFill>
                <a:latin typeface="Tahoma"/>
              </a:rPr>
              <a:t>(</a:t>
            </a:r>
            <a:r>
              <a:rPr b="0" lang="es-UY" sz="3200" spc="-1" strike="noStrike">
                <a:solidFill>
                  <a:srgbClr val="ffcc66"/>
                </a:solidFill>
                <a:latin typeface="Tahoma"/>
              </a:rPr>
              <a:t>III)</a:t>
            </a: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 ADMINISTRACION TRIBUTARIA-MECANISMOS DE COORDINACIO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ffcc66"/>
                </a:solidFill>
                <a:uFillTx/>
                <a:latin typeface="Tahoma"/>
              </a:rPr>
              <a:t>COORDINACION ENTRE DGI Y BPS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ffffff"/>
                </a:solidFill>
                <a:latin typeface="Tahoma"/>
              </a:rPr>
              <a:t>2- </a:t>
            </a: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VENTANILLA UNICA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Permite que los contribuyentes comunes realicen su inscripción y  actualización de datos registrales  de forma simultanea ante ambos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5915-353E-41EC-BCC4-2D58E9B8942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4720" y="853920"/>
            <a:ext cx="9072720" cy="1122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600" spc="-1" strike="noStrike">
                <a:solidFill>
                  <a:srgbClr val="e5ffff"/>
                </a:solidFill>
                <a:latin typeface="Tahoma"/>
              </a:rPr>
              <a:t>ADMINISTRACION TRIBUTARIA-MECANISMOS DE COORDINACION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7000"/>
          </a:bodyPr>
          <a:p>
            <a:pPr marL="36648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ffcc66"/>
                </a:solidFill>
                <a:uFillTx/>
                <a:latin typeface="Tahoma"/>
              </a:rPr>
              <a:t>COORDINACION ENTRE DGI Y DNA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6648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6648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La  DGI accede a la información de comercio exterior (importación y exportación de bienes) a través del sistema LUCIA y opera en el mismo para la liquidación de impuestos, de beneficios a la exportación y exoneraciones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6648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16668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5E3A-6F47-4E81-B7E0-C17EF16EEFB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4720" y="808200"/>
            <a:ext cx="9072720" cy="1123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500" spc="-1" strike="noStrike">
                <a:solidFill>
                  <a:srgbClr val="ffcc66"/>
                </a:solidFill>
                <a:latin typeface="Tahoma"/>
              </a:rPr>
              <a:t>(III)</a:t>
            </a:r>
            <a:r>
              <a:rPr b="1" lang="es-UY" sz="4500" spc="-1" strike="noStrike">
                <a:solidFill>
                  <a:srgbClr val="e5ffff"/>
                </a:solidFill>
                <a:latin typeface="Tahoma"/>
              </a:rPr>
              <a:t> GESTION DEL AREA INFORMATICA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5000"/>
          </a:bodyPr>
          <a:p>
            <a:pPr marL="35892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5892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100" spc="-1" strike="noStrike">
                <a:solidFill>
                  <a:srgbClr val="e5ffff"/>
                </a:solidFill>
                <a:latin typeface="Tahoma"/>
              </a:rPr>
              <a:t>Las funciones del área de sistemas de información, si bien se consideran de apoyo a los cometidos sustantivos de la Administración, han sido consideradas estratégicas y por lo tanto asignadas dentro de la estructura organizativa a una unidad especializada de primer nivel (División Informática) dependiente de la Dirección General. 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75FC-71FF-49F8-8FEC-DD0E28E8BFD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4720" y="923400"/>
            <a:ext cx="9072720" cy="1373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500" spc="-1" strike="noStrike">
                <a:solidFill>
                  <a:srgbClr val="ffcc66"/>
                </a:solidFill>
                <a:latin typeface="Tahoma"/>
              </a:rPr>
              <a:t>(III)</a:t>
            </a:r>
            <a:r>
              <a:rPr b="1" lang="es-UY" sz="4500" spc="-1" strike="noStrike">
                <a:solidFill>
                  <a:srgbClr val="e5ffff"/>
                </a:solidFill>
                <a:latin typeface="Tahoma"/>
              </a:rPr>
              <a:t> GESTION DEL AREA INFORMATICA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UY" sz="3500" spc="-1" strike="noStrike" u="sng">
                <a:solidFill>
                  <a:srgbClr val="ffcc00"/>
                </a:solidFill>
                <a:uFillTx/>
                <a:latin typeface="Tahoma"/>
              </a:rPr>
              <a:t>PRINCIPALES FUNCIONES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es-ES" sz="3500" spc="-1" strike="noStrike">
                <a:solidFill>
                  <a:srgbClr val="e5ffff"/>
                </a:solidFill>
                <a:latin typeface="Tahoma"/>
              </a:rPr>
              <a:t>Planificar, dirigir, ejecutar y controlar el desarrollo, la documentación, la implantación y el mantenimiento de los sistemas informáticos definidos por las áreas de planificación y usuarios involucrados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723D-DD20-48B1-9D39-2A809D3404C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4720" y="936360"/>
            <a:ext cx="9072720" cy="995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200" spc="-1" strike="noStrike">
                <a:solidFill>
                  <a:srgbClr val="ffcc00"/>
                </a:solidFill>
                <a:latin typeface="Tahoma"/>
              </a:rPr>
              <a:t>(III)</a:t>
            </a: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 GESTION DEL AREA INFORMÁTIC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4720" y="1841040"/>
            <a:ext cx="9072720" cy="4878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 u="sng">
                <a:solidFill>
                  <a:srgbClr val="ffcc00"/>
                </a:solidFill>
                <a:uFillTx/>
                <a:latin typeface="Tahoma"/>
              </a:rPr>
              <a:t>Políticas de Seguridad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773280" y="2357280"/>
            <a:ext cx="8126280" cy="44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e5ffff"/>
              </a:buClr>
              <a:buFont typeface="Tahom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 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Uso de estándares  (LDAP, Active Directory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e5ffff"/>
              </a:buClr>
              <a:buSzPct val="115000"/>
              <a:buFont typeface="Tahom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 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Seguridad basada Roles /usuarios RBAC (Role Based 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	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Access Control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e5ffff"/>
              </a:buClr>
              <a:buSzPct val="115000"/>
              <a:buFont typeface="Tahom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UY" sz="2400" spc="-1" strike="noStrike">
                <a:solidFill>
                  <a:srgbClr val="e5ffff"/>
                </a:solidFill>
                <a:latin typeface="Tahoma"/>
                <a:ea typeface="Arial"/>
              </a:rPr>
              <a:t> 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Mecanismos de AAA (Autenticación, Autorización y                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	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Auditoria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e5ffff"/>
              </a:buClr>
              <a:buSzPct val="115000"/>
              <a:buFont typeface="Tahom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 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Independencia de las aplicaciones con respecto al 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	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Esquema de  Seguridad DGI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e5ffff"/>
              </a:buClr>
              <a:buSzPct val="115000"/>
              <a:buFont typeface="Tahom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 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Integración de Aplicaciones  al Menú de Servicios En 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	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Línea para contribuyentes  (Front-End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e5ffff"/>
              </a:buClr>
              <a:buSzPct val="115000"/>
              <a:buFont typeface="Tahom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 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Integración de Aplicaciones al Menú de Funcionarios de 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	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DGI (Back-End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4D9B-F1EB-4E1D-B9AC-5AC4E475B6F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s-E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MUCHAS GRACIAS POR SU ATENCION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CD9B-4D40-4E6A-8664-9F639F6067E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4720" y="941040"/>
            <a:ext cx="90727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200" spc="-1" strike="noStrike">
                <a:solidFill>
                  <a:srgbClr val="ffcc66"/>
                </a:solidFill>
                <a:latin typeface="Tahoma"/>
              </a:rPr>
              <a:t>(I)</a:t>
            </a:r>
            <a:r>
              <a:rPr b="1" lang="es-UY" sz="3200" spc="-1" strike="noStrike">
                <a:solidFill>
                  <a:srgbClr val="e5ffff"/>
                </a:solidFill>
                <a:latin typeface="Tahoma"/>
              </a:rPr>
              <a:t> CARACTERISTICAS GENERALES DEL SISTEMA TRIBUTARIO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6160" y="2212560"/>
            <a:ext cx="907236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51360" indent="0" algn="ctr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400" spc="-1" strike="noStrike" u="sng">
                <a:solidFill>
                  <a:srgbClr val="ffcc00"/>
                </a:solidFill>
                <a:uFillTx/>
                <a:latin typeface="Tahoma"/>
              </a:rPr>
              <a:t>TRIBUTOS NACION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136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UY" sz="2400" spc="-1" strike="noStrike">
                <a:solidFill>
                  <a:srgbClr val="e5ffff"/>
                </a:solidFill>
                <a:latin typeface="Tahoma"/>
              </a:rPr>
              <a:t>ADMINISTRADOS Y RECAUDADOS POR EL GOBIERNO CENTRAL DE LA SIGUIENTE MANER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1360" indent="0">
              <a:spcBef>
                <a:spcPts val="60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1360" indent="-351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400" spc="-1" strike="noStrike" u="sng">
                <a:solidFill>
                  <a:srgbClr val="ffcc00"/>
                </a:solidFill>
                <a:uFillTx/>
                <a:latin typeface="Tahoma"/>
              </a:rPr>
              <a:t>IMPUESTOS INTERNOS-</a:t>
            </a:r>
            <a:r>
              <a:rPr b="0" lang="es-UY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Dirección General Impositiva (Unidad desconcentrada del Ministerio de Economía y Finanza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1360" indent="-351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400" spc="-1" strike="noStrike" u="sng">
                <a:solidFill>
                  <a:srgbClr val="ffcc00"/>
                </a:solidFill>
                <a:uFillTx/>
                <a:latin typeface="Tahoma"/>
              </a:rPr>
              <a:t>CONTRIBUCIONES PATRONALES Y OBRERAS SOBRE SALARIOS</a:t>
            </a:r>
            <a:r>
              <a:rPr b="0" lang="es-UY" sz="2400" spc="-1" strike="noStrike">
                <a:solidFill>
                  <a:srgbClr val="ffffff"/>
                </a:solidFill>
                <a:latin typeface="Tahoma"/>
              </a:rPr>
              <a:t> : </a:t>
            </a: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Banco de Previsión Social (Organismo autónomo administrado por un directorio multisectorial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1360" indent="-351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400" spc="-1" strike="noStrike" u="sng">
                <a:solidFill>
                  <a:srgbClr val="ffcc00"/>
                </a:solidFill>
                <a:uFillTx/>
                <a:latin typeface="Tahoma"/>
              </a:rPr>
              <a:t>TRIBUTOS RELATIVOS AL COMERCIO EXTERIOR</a:t>
            </a:r>
            <a:r>
              <a:rPr b="0" lang="es-UY" sz="2400" spc="-1" strike="noStrike">
                <a:solidFill>
                  <a:srgbClr val="ffcc00"/>
                </a:solidFill>
                <a:latin typeface="Tahoma"/>
              </a:rPr>
              <a:t>:</a:t>
            </a:r>
            <a:r>
              <a:rPr b="0" lang="es-UY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Dirección Nacional de Aduanas (Unidad desconcentrada del Ministerio de Economía y Finanza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B478-F037-4540-A23F-107CAB8DACA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4720" y="955440"/>
            <a:ext cx="90727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600" spc="-1" strike="noStrike">
                <a:solidFill>
                  <a:srgbClr val="ffcc00"/>
                </a:solidFill>
                <a:latin typeface="Tahoma"/>
              </a:rPr>
              <a:t>(I)</a:t>
            </a:r>
            <a:r>
              <a:rPr b="1" lang="es-UY" sz="3600" spc="-1" strike="noStrike">
                <a:solidFill>
                  <a:srgbClr val="e5ffff"/>
                </a:solidFill>
                <a:latin typeface="Tahoma"/>
              </a:rPr>
              <a:t> PRINCIPALES IMPUESTOS QUE ADMINISTRA LA DGI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IMPUESTOS QUE GRAVAN AL CONSUM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IMPUESTOS QUE GRAVAN A LA REN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IMPUESTOS QUE GRAVAN A LA PROPIED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IMPUESTOS DE CONTRO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5455-6593-4F0F-A7E4-66AAD056445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4720" y="1104840"/>
            <a:ext cx="9072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600" spc="-1" strike="noStrike">
                <a:solidFill>
                  <a:srgbClr val="ffcc66"/>
                </a:solidFill>
                <a:latin typeface="Tahoma"/>
              </a:rPr>
              <a:t>(I)</a:t>
            </a:r>
            <a:r>
              <a:rPr b="1" lang="es-UY" sz="3600" spc="-1" strike="noStrike">
                <a:solidFill>
                  <a:srgbClr val="e5ffff"/>
                </a:solidFill>
                <a:latin typeface="Tahoma"/>
              </a:rPr>
              <a:t> PRINCIPALES IMPUESTOS QUE ADMINISTRA LA DGI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553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55320" indent="-35532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100" spc="-1" strike="noStrike" u="sng">
                <a:solidFill>
                  <a:srgbClr val="ffcc00"/>
                </a:solidFill>
                <a:uFillTx/>
                <a:latin typeface="Tahoma"/>
              </a:rPr>
              <a:t>IMPUESTOS AL CONSUMO: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69680" indent="-296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600" spc="-1" strike="noStrike">
                <a:solidFill>
                  <a:srgbClr val="ffcc00"/>
                </a:solidFill>
                <a:latin typeface="Tahoma"/>
              </a:rPr>
              <a:t>GENERAL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69680" indent="-296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600" spc="-1" strike="noStrike" u="sng">
                <a:solidFill>
                  <a:srgbClr val="e5ffff"/>
                </a:solidFill>
                <a:uFillTx/>
                <a:latin typeface="Tahoma"/>
              </a:rPr>
              <a:t>IV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184400" indent="-236880">
              <a:lnSpc>
                <a:spcPct val="90000"/>
              </a:lnSpc>
              <a:spcAft>
                <a:spcPts val="1426"/>
              </a:spcAft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INTERNO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2" marL="1184400" indent="-236880">
              <a:lnSpc>
                <a:spcPct val="90000"/>
              </a:lnSpc>
              <a:spcAft>
                <a:spcPts val="1426"/>
              </a:spcAft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IMPORTACIONES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2" marL="1184400" indent="-236880">
              <a:lnSpc>
                <a:spcPct val="90000"/>
              </a:lnSpc>
              <a:spcAft>
                <a:spcPts val="1426"/>
              </a:spcAft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IVA MINIMO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69680" indent="-296640">
              <a:lnSpc>
                <a:spcPct val="90000"/>
              </a:lnSpc>
              <a:spcAft>
                <a:spcPts val="1426"/>
              </a:spcAft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100" spc="-1" strike="noStrike" u="sng">
                <a:solidFill>
                  <a:srgbClr val="ffcc00"/>
                </a:solidFill>
                <a:uFillTx/>
                <a:latin typeface="Tahoma"/>
              </a:rPr>
              <a:t>ESPECIFICO: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69680" indent="-296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600" spc="-1" strike="noStrike" u="sng">
                <a:solidFill>
                  <a:srgbClr val="e5ffff"/>
                </a:solidFill>
                <a:uFillTx/>
                <a:latin typeface="Tahoma"/>
              </a:rPr>
              <a:t>IMESSI </a:t>
            </a:r>
            <a:r>
              <a:rPr b="0" lang="es-UY" sz="2600" spc="-1" strike="noStrike">
                <a:solidFill>
                  <a:srgbClr val="e5ffff"/>
                </a:solidFill>
                <a:latin typeface="Tahoma"/>
              </a:rPr>
              <a:t>(impuesto específico interno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E176-9FC6-4C66-9838-8771E4CA979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863640"/>
            <a:ext cx="907272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600" spc="-1" strike="noStrike">
                <a:solidFill>
                  <a:srgbClr val="ffcc66"/>
                </a:solidFill>
                <a:latin typeface="Tahoma"/>
              </a:rPr>
              <a:t>          </a:t>
            </a:r>
            <a:r>
              <a:rPr b="0" lang="es-UY" sz="3600" spc="-1" strike="noStrike">
                <a:solidFill>
                  <a:srgbClr val="ffcc66"/>
                </a:solidFill>
                <a:latin typeface="Tahoma"/>
              </a:rPr>
              <a:t>(I)</a:t>
            </a:r>
            <a:r>
              <a:rPr b="0" lang="es-UY" sz="3600" spc="-1" strike="noStrike">
                <a:solidFill>
                  <a:srgbClr val="e5ffff"/>
                </a:solidFill>
                <a:latin typeface="Tahoma"/>
              </a:rPr>
              <a:t> PRINCIPALES IMPUESTOS QUE ADMINISTRA LA DGI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440" y="1749600"/>
            <a:ext cx="9069120" cy="48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600" spc="-1" strike="noStrike" u="sng">
                <a:solidFill>
                  <a:srgbClr val="ffcc00"/>
                </a:solidFill>
                <a:uFillTx/>
                <a:latin typeface="Tahoma"/>
              </a:rPr>
              <a:t>IMPUESTOS A LA REN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500" spc="-1" strike="noStrike" u="sng">
                <a:solidFill>
                  <a:srgbClr val="e5ffff"/>
                </a:solidFill>
                <a:uFillTx/>
                <a:latin typeface="Tahoma"/>
              </a:rPr>
              <a:t>IRAE</a:t>
            </a: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 (Impuesto a las Rentas de las Actividades Económica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500" spc="-1" strike="noStrike" u="sng">
                <a:solidFill>
                  <a:srgbClr val="e5ffff"/>
                </a:solidFill>
                <a:uFillTx/>
                <a:latin typeface="Tahoma"/>
              </a:rPr>
              <a:t>IMEBA</a:t>
            </a: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 (Impuesto a la Enajenación de Bienes agropecuario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500" spc="-1" strike="noStrike" u="sng">
                <a:solidFill>
                  <a:srgbClr val="e5ffff"/>
                </a:solidFill>
                <a:uFillTx/>
                <a:latin typeface="Tahoma"/>
              </a:rPr>
              <a:t>IRPF</a:t>
            </a: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 (Impuesto a las Rentas de las Personas Física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lnSpc>
                <a:spcPct val="80000"/>
              </a:lnSpc>
              <a:spcAft>
                <a:spcPts val="1412"/>
              </a:spcAft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800" spc="-1" strike="noStrike">
                <a:solidFill>
                  <a:srgbClr val="e5ffff"/>
                </a:solidFill>
                <a:latin typeface="Tahoma"/>
              </a:rPr>
              <a:t>IRPF Categoría 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lnSpc>
                <a:spcPct val="80000"/>
              </a:lnSpc>
              <a:spcAft>
                <a:spcPts val="1412"/>
              </a:spcAft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800" spc="-1" strike="noStrike">
                <a:solidFill>
                  <a:srgbClr val="e5ffff"/>
                </a:solidFill>
                <a:latin typeface="Tahoma"/>
              </a:rPr>
              <a:t>IRPF Categoría I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80000"/>
              </a:lnSpc>
              <a:spcAft>
                <a:spcPts val="1412"/>
              </a:spcAft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500" spc="-1" strike="noStrike" u="sng">
                <a:solidFill>
                  <a:srgbClr val="e5ffff"/>
                </a:solidFill>
                <a:uFillTx/>
                <a:latin typeface="Tahoma"/>
              </a:rPr>
              <a:t>IASS</a:t>
            </a:r>
            <a:r>
              <a:rPr b="0" lang="es-UY" sz="2500" spc="-1" strike="noStrike">
                <a:solidFill>
                  <a:srgbClr val="e5ffff"/>
                </a:solidFill>
                <a:latin typeface="Tahoma"/>
              </a:rPr>
              <a:t> (Impuesto de Asistencia a la Seguridad Social)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80000"/>
              </a:lnSpc>
              <a:spcAft>
                <a:spcPts val="1412"/>
              </a:spcAft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500" spc="-1" strike="noStrike" u="sng">
                <a:solidFill>
                  <a:srgbClr val="e5ffff"/>
                </a:solidFill>
                <a:uFillTx/>
                <a:latin typeface="Tahoma"/>
                <a:ea typeface="Tahoma"/>
              </a:rPr>
              <a:t>IRNR</a:t>
            </a:r>
            <a:r>
              <a:rPr b="0" lang="es-UY" sz="2500" spc="-1" strike="noStrike" u="sng">
                <a:solidFill>
                  <a:srgbClr val="e5ffff"/>
                </a:solidFill>
                <a:uFillTx/>
                <a:latin typeface="Tahoma"/>
                <a:ea typeface="Tahoma"/>
              </a:rPr>
              <a:t> </a:t>
            </a:r>
            <a:r>
              <a:rPr b="0" lang="es-UY" sz="2500" spc="-1" strike="noStrike">
                <a:solidFill>
                  <a:srgbClr val="e5ffff"/>
                </a:solidFill>
                <a:latin typeface="Tahoma"/>
                <a:ea typeface="Tahoma"/>
              </a:rPr>
              <a:t>(Impuesto a las Rentas de los No Residente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-4680"/>
            <a:ext cx="2401920" cy="102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5646-90F5-4EA6-A2CB-72155B18887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999720"/>
            <a:ext cx="907272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600" spc="-1" strike="noStrike">
                <a:solidFill>
                  <a:srgbClr val="ffcc66"/>
                </a:solidFill>
                <a:latin typeface="Tahoma"/>
              </a:rPr>
              <a:t>(I) </a:t>
            </a:r>
            <a:r>
              <a:rPr b="1" lang="es-UY" sz="3600" spc="-1" strike="noStrike">
                <a:solidFill>
                  <a:srgbClr val="e5ffff"/>
                </a:solidFill>
                <a:latin typeface="Tahoma"/>
              </a:rPr>
              <a:t>PRINCIPALES IMPUESTOS QUE ADMINISTRA LA DGI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100" spc="-1" strike="noStrike" u="sng">
                <a:solidFill>
                  <a:srgbClr val="ffcc00"/>
                </a:solidFill>
                <a:uFillTx/>
                <a:latin typeface="Tahoma"/>
              </a:rPr>
              <a:t>IMPUESTOS A LA PROPIEDAD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600" spc="-1" strike="noStrike">
                <a:solidFill>
                  <a:srgbClr val="ffcc00"/>
                </a:solidFill>
                <a:latin typeface="Tahoma"/>
              </a:rPr>
              <a:t>IMPUESTO AL PATRIMONI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200" spc="-1" strike="noStrike">
                <a:solidFill>
                  <a:srgbClr val="e5ffff"/>
                </a:solidFill>
                <a:latin typeface="Tahoma"/>
              </a:rPr>
              <a:t>Persona Físic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200" spc="-1" strike="noStrike">
                <a:solidFill>
                  <a:srgbClr val="e5ffff"/>
                </a:solidFill>
                <a:latin typeface="Tahoma"/>
              </a:rPr>
              <a:t>Persona Jurídic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0">
              <a:spcBef>
                <a:spcPts val="550"/>
              </a:spcBef>
              <a:buNone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600" spc="-1" strike="noStrike">
                <a:solidFill>
                  <a:srgbClr val="ffcc00"/>
                </a:solidFill>
                <a:latin typeface="Tahoma"/>
              </a:rPr>
              <a:t>IMPUESTOS DE CONTRO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200" spc="-1" strike="noStrike">
                <a:solidFill>
                  <a:srgbClr val="e5ffff"/>
                </a:solidFill>
                <a:latin typeface="Tahoma"/>
              </a:rPr>
              <a:t>Impuesto a las transmisiones patrimoniale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200" spc="-1" strike="noStrike">
                <a:solidFill>
                  <a:srgbClr val="e5ffff"/>
                </a:solidFill>
                <a:latin typeface="Tahoma"/>
              </a:rPr>
              <a:t>ICOSA (Impuesto al  control de las Sociedades Anónimas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200" spc="-1" strike="noStrike">
                <a:solidFill>
                  <a:srgbClr val="e5ffff"/>
                </a:solidFill>
                <a:latin typeface="Tahoma"/>
              </a:rPr>
              <a:t>FIS (Fondo de Inspección Sanitaria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0"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0"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65A1-91FA-4FA2-9297-3F69C47ED06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4720" y="839520"/>
            <a:ext cx="907272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600" spc="-1" strike="noStrike">
                <a:solidFill>
                  <a:srgbClr val="ffcc00"/>
                </a:solidFill>
                <a:latin typeface="Tahoma"/>
              </a:rPr>
              <a:t>(II)</a:t>
            </a:r>
            <a:r>
              <a:rPr b="0" lang="es-UY" sz="3600" spc="-1" strike="noStrike">
                <a:solidFill>
                  <a:srgbClr val="e5ffff"/>
                </a:solidFill>
                <a:latin typeface="Tahoma"/>
              </a:rPr>
              <a:t>  ORGANIZACION Y FUNCIONES DE LA ADMINISTRACION TRIBUTARIA CENTRAL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6648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ffcc00"/>
                </a:solidFill>
                <a:uFillTx/>
                <a:latin typeface="Tahoma"/>
              </a:rPr>
              <a:t>AMBITO NACIONA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6648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s-UY" sz="3500" spc="-1" strike="noStrike">
                <a:solidFill>
                  <a:srgbClr val="e5ffff"/>
                </a:solidFill>
                <a:latin typeface="Tahoma"/>
              </a:rPr>
              <a:t>INTEGRADA POR TRES ORGANISMOS: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6648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794160" indent="-306000">
              <a:spcAft>
                <a:spcPts val="1426"/>
              </a:spcAft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000" spc="-1" strike="noStrike">
                <a:solidFill>
                  <a:srgbClr val="e5ffff"/>
                </a:solidFill>
                <a:latin typeface="Tahoma"/>
              </a:rPr>
              <a:t>DG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94160" indent="-306000">
              <a:spcAft>
                <a:spcPts val="1426"/>
              </a:spcAft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000" spc="-1" strike="noStrike">
                <a:solidFill>
                  <a:srgbClr val="e5ffff"/>
                </a:solidFill>
                <a:latin typeface="Tahoma"/>
              </a:rPr>
              <a:t>DN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94160" indent="-306000">
              <a:spcAft>
                <a:spcPts val="1426"/>
              </a:spcAft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000" spc="-1" strike="noStrike">
                <a:solidFill>
                  <a:srgbClr val="e5ffff"/>
                </a:solidFill>
                <a:latin typeface="Tahoma"/>
              </a:rPr>
              <a:t>BP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66480" indent="0"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1800" spc="-1" strike="noStrike">
                <a:solidFill>
                  <a:srgbClr val="e5ffff"/>
                </a:solidFill>
                <a:latin typeface="Tahoma"/>
              </a:rPr>
              <a:t>Los dos primeros dependen del poder central y el tercero es un organismo autónom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6480" indent="0"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71B5-2147-4E52-AC99-6ED9F5E75B9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18:54:00Z</dcterms:created>
  <dc:creator>Gonzalo Lopez</dc:creator>
  <dc:description/>
  <dc:language>en-US</dc:language>
  <cp:lastModifiedBy> </cp:lastModifiedBy>
  <dcterms:modified xsi:type="dcterms:W3CDTF">2013-10-28T11:08:05Z</dcterms:modified>
  <cp:revision>60</cp:revision>
  <dc:subject/>
  <dc:title>ALCANCE</dc:title>
</cp:coreProperties>
</file>