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2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jpeg" ContentType="image/jpeg"/>
  <Override PartName="/ppt/media/image25.png" ContentType="image/png"/>
  <Override PartName="/ppt/media/image2.png" ContentType="image/pn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Click to edit the notes format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572e2d"/>
                </a:solidFill>
                <a:latin typeface="Noteworthy Bold"/>
              </a:rPr>
              <a:t>Ciento y noventa, Ocho punto cinco, quince, cinco mil quinientos y sesenta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280" y="4426920"/>
            <a:ext cx="905832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328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512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5800" y="17683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8320" y="17683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3280" y="44269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65800" y="44269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28320" y="44269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5832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03280" y="82080"/>
            <a:ext cx="9058320" cy="78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0328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5832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4512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3280" y="4426920"/>
            <a:ext cx="905832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280" y="4426920"/>
            <a:ext cx="905832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28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4512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65800" y="17683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28320" y="17683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3280" y="44269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65800" y="44269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28320" y="44269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5832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503280" y="82080"/>
            <a:ext cx="9058320" cy="78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0328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4512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3280" y="4426920"/>
            <a:ext cx="905832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3280" y="4426920"/>
            <a:ext cx="905832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328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4512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65800" y="17683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28320" y="17683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03280" y="44269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65800" y="44269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28320" y="44269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5832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503280" y="82080"/>
            <a:ext cx="9058320" cy="78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14512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03280" y="4426920"/>
            <a:ext cx="905832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832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3280" y="4426920"/>
            <a:ext cx="905832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328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14512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65800" y="17683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628320" y="17683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3280" y="44269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565800" y="44269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628320" y="4426920"/>
            <a:ext cx="291636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3280" y="82080"/>
            <a:ext cx="9058320" cy="78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328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5120" y="44269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5120" y="1768320"/>
            <a:ext cx="442044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280" y="4426920"/>
            <a:ext cx="9058320" cy="24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image.t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3120" cy="15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3120" cy="52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7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70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7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lnSpc>
                <a:spcPct val="70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lnSpc>
                <a:spcPct val="70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algn="ctr">
              <a:lnSpc>
                <a:spcPct val="70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algn="ctr">
              <a:lnSpc>
                <a:spcPct val="70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image.t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82080"/>
            <a:ext cx="9058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58320" cy="50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7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70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7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lnSpc>
                <a:spcPct val="70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lnSpc>
                <a:spcPct val="70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algn="ctr">
              <a:lnSpc>
                <a:spcPct val="70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algn="ctr">
              <a:lnSpc>
                <a:spcPct val="70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imag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7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70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7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lnSpc>
                <a:spcPct val="70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lnSpc>
                <a:spcPct val="70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algn="ctr">
              <a:lnSpc>
                <a:spcPct val="70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algn="ctr">
              <a:lnSpc>
                <a:spcPct val="70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image.pn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2"/>
          <p:cNvSpPr/>
          <p:nvPr/>
        </p:nvSpPr>
        <p:spPr>
          <a:xfrm>
            <a:off x="2743200" y="2448000"/>
            <a:ext cx="5648400" cy="1536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3366"/>
                </a:solidFill>
                <a:latin typeface="Arial"/>
                <a:ea typeface="Arial"/>
              </a:rPr>
              <a:t>Educación Fiscal em la Receita Fede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3352680" y="5486400"/>
            <a:ext cx="5311800" cy="550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  <a:ea typeface="Arial"/>
              </a:rPr>
              <a:t>Antigua, Guatemala, Agosto de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image.png"/>
          <p:cNvPicPr/>
          <p:nvPr/>
        </p:nvPicPr>
        <p:blipFill>
          <a:blip r:embed="rId2"/>
          <a:stretch/>
        </p:blipFill>
        <p:spPr>
          <a:xfrm>
            <a:off x="3352680" y="127080"/>
            <a:ext cx="5791320" cy="8208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5"/>
          <p:cNvSpPr/>
          <p:nvPr/>
        </p:nvSpPr>
        <p:spPr>
          <a:xfrm>
            <a:off x="6553080" y="6356520"/>
            <a:ext cx="213372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706A87-2FEC-463E-8198-188065E1666C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1"/>
          <p:cNvSpPr/>
          <p:nvPr/>
        </p:nvSpPr>
        <p:spPr>
          <a:xfrm>
            <a:off x="6553080" y="6356520"/>
            <a:ext cx="213372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031357D-D126-4CF5-A497-B832386F177C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2"/>
          <p:cNvSpPr/>
          <p:nvPr/>
        </p:nvSpPr>
        <p:spPr>
          <a:xfrm>
            <a:off x="352440" y="1539720"/>
            <a:ext cx="5133960" cy="584280"/>
          </a:xfrm>
          <a:prstGeom prst="pie">
            <a:avLst/>
          </a:prstGeom>
          <a:solidFill>
            <a:srgbClr val="2929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spcBef>
                <a:spcPts val="17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Nucleo de Apoyo Contabil y Fis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3"/>
          <p:cNvSpPr/>
          <p:nvPr/>
        </p:nvSpPr>
        <p:spPr>
          <a:xfrm>
            <a:off x="352440" y="907920"/>
            <a:ext cx="7356600" cy="406440"/>
          </a:xfrm>
          <a:prstGeom prst="pie">
            <a:avLst/>
          </a:prstGeom>
          <a:solidFill>
            <a:srgbClr val="00a3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  <a:spcBef>
                <a:spcPts val="17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La Receita Federal Invita: Conozca nuestra adu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352440" y="3083040"/>
            <a:ext cx="4219560" cy="431640"/>
          </a:xfrm>
          <a:prstGeom prst="pie">
            <a:avLst/>
          </a:prstGeom>
          <a:solidFill>
            <a:srgbClr val="535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  <a:spcBef>
                <a:spcPts val="17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0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Proyecto Autoatendim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352440" y="2400480"/>
            <a:ext cx="5386320" cy="406080"/>
          </a:xfrm>
          <a:prstGeom prst="pie">
            <a:avLst/>
          </a:prstGeom>
          <a:solidFill>
            <a:srgbClr val="1414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  <a:spcBef>
                <a:spcPts val="1701"/>
              </a:spcBef>
              <a:buClr>
                <a:srgbClr val="000000"/>
              </a:buClr>
              <a:buFont typeface="TimesNewRomanPSMT"/>
              <a:buChar char="•"/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Fóruns de discusión con la socieda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6"/>
          <p:cNvSpPr/>
          <p:nvPr/>
        </p:nvSpPr>
        <p:spPr>
          <a:xfrm>
            <a:off x="3657600" y="3790800"/>
            <a:ext cx="4857840" cy="2484720"/>
          </a:xfrm>
          <a:prstGeom prst="pie">
            <a:avLst/>
          </a:prstGeom>
          <a:solidFill>
            <a:srgbClr val="2929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 2012 la Receita Federal realizó, em todo Brasil, 12.765 actividades de educación fiscal8. Entre las actividades destacan conferencias y seminarios para el,publico externo, en busca de ofrecer orientación y asistencia a los contribuyentes en el cumplimiento de sus obligaciones tributar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2943360" y="200160"/>
            <a:ext cx="5783040" cy="380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500" spc="-1" strike="noStrike">
                <a:solidFill>
                  <a:srgbClr val="2929a3"/>
                </a:solidFill>
                <a:latin typeface="Arial"/>
              </a:rPr>
              <a:t>Algunos proyectos de Receita Feder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8" descr="pasted-image.jpg"/>
          <p:cNvPicPr/>
          <p:nvPr/>
        </p:nvPicPr>
        <p:blipFill>
          <a:blip r:embed="rId1"/>
          <a:stretch/>
        </p:blipFill>
        <p:spPr>
          <a:xfrm>
            <a:off x="352440" y="3637080"/>
            <a:ext cx="2212920" cy="28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1"/>
          <p:cNvSpPr/>
          <p:nvPr/>
        </p:nvSpPr>
        <p:spPr>
          <a:xfrm>
            <a:off x="4084560" y="136440"/>
            <a:ext cx="5095800" cy="584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spcBef>
                <a:spcPts val="17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Algunas Fo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2"/>
          <p:cNvGrpSpPr/>
          <p:nvPr/>
        </p:nvGrpSpPr>
        <p:grpSpPr>
          <a:xfrm>
            <a:off x="6480000" y="6480000"/>
            <a:ext cx="2697840" cy="378720"/>
            <a:chOff x="6480000" y="6480000"/>
            <a:chExt cx="2697840" cy="378720"/>
          </a:xfrm>
        </p:grpSpPr>
        <p:sp>
          <p:nvSpPr>
            <p:cNvPr id="290" name="AutoShape 3"/>
            <p:cNvSpPr/>
            <p:nvPr/>
          </p:nvSpPr>
          <p:spPr>
            <a:xfrm>
              <a:off x="6480000" y="6480000"/>
              <a:ext cx="2697840" cy="37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701"/>
                </a:spcBef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4"/>
            <p:cNvSpPr/>
            <p:nvPr/>
          </p:nvSpPr>
          <p:spPr>
            <a:xfrm>
              <a:off x="6480000" y="6480000"/>
              <a:ext cx="2697840" cy="303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100000"/>
                </a:lnSpc>
                <a:spcBef>
                  <a:spcPts val="1701"/>
                </a:spcBef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sa dos Contos – Ouro Preto/M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2" name="Picture 5" descr="image.jpg"/>
          <p:cNvPicPr/>
          <p:nvPr/>
        </p:nvPicPr>
        <p:blipFill>
          <a:blip r:embed="rId1"/>
          <a:stretch/>
        </p:blipFill>
        <p:spPr>
          <a:xfrm>
            <a:off x="307800" y="1082520"/>
            <a:ext cx="2391120" cy="16178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image.png"/>
          <p:cNvPicPr/>
          <p:nvPr/>
        </p:nvPicPr>
        <p:blipFill>
          <a:blip r:embed="rId2"/>
          <a:stretch/>
        </p:blipFill>
        <p:spPr>
          <a:xfrm>
            <a:off x="3419640" y="1079640"/>
            <a:ext cx="2339640" cy="16192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image-small.jpg"/>
          <p:cNvPicPr/>
          <p:nvPr/>
        </p:nvPicPr>
        <p:blipFill>
          <a:blip r:embed="rId3"/>
          <a:stretch/>
        </p:blipFill>
        <p:spPr>
          <a:xfrm>
            <a:off x="179280" y="3060720"/>
            <a:ext cx="2519640" cy="19828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8" descr="image.png"/>
          <p:cNvPicPr/>
          <p:nvPr/>
        </p:nvPicPr>
        <p:blipFill>
          <a:blip r:embed="rId4"/>
          <a:stretch/>
        </p:blipFill>
        <p:spPr>
          <a:xfrm>
            <a:off x="6119640" y="3200400"/>
            <a:ext cx="2859120" cy="20192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9" descr="image.jpg"/>
          <p:cNvPicPr/>
          <p:nvPr/>
        </p:nvPicPr>
        <p:blipFill>
          <a:blip r:embed="rId5"/>
          <a:stretch/>
        </p:blipFill>
        <p:spPr>
          <a:xfrm>
            <a:off x="3240000" y="3060720"/>
            <a:ext cx="2519280" cy="1979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" descr="image.png"/>
          <p:cNvPicPr/>
          <p:nvPr/>
        </p:nvPicPr>
        <p:blipFill>
          <a:blip r:embed="rId6"/>
          <a:stretch/>
        </p:blipFill>
        <p:spPr>
          <a:xfrm>
            <a:off x="5940360" y="1079640"/>
            <a:ext cx="2898720" cy="1619280"/>
          </a:xfrm>
          <a:prstGeom prst="rect">
            <a:avLst/>
          </a:prstGeom>
          <a:ln w="0">
            <a:noFill/>
          </a:ln>
        </p:spPr>
      </p:pic>
      <p:sp>
        <p:nvSpPr>
          <p:cNvPr id="298" name="AutoShape 11"/>
          <p:cNvSpPr/>
          <p:nvPr/>
        </p:nvSpPr>
        <p:spPr>
          <a:xfrm>
            <a:off x="6553080" y="6356520"/>
            <a:ext cx="213372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3022487-5D3C-4D92-96AC-75434ADE291E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utoShape 1"/>
          <p:cNvSpPr/>
          <p:nvPr/>
        </p:nvSpPr>
        <p:spPr>
          <a:xfrm>
            <a:off x="6553080" y="6356520"/>
            <a:ext cx="213372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7CE6035-64F2-47DC-8AD3-4B81987E85E4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2"/>
          <p:cNvGrpSpPr/>
          <p:nvPr/>
        </p:nvGrpSpPr>
        <p:grpSpPr>
          <a:xfrm>
            <a:off x="309600" y="1946160"/>
            <a:ext cx="8630280" cy="3355200"/>
            <a:chOff x="309600" y="1946160"/>
            <a:chExt cx="8630280" cy="3355200"/>
          </a:xfrm>
        </p:grpSpPr>
        <p:sp>
          <p:nvSpPr>
            <p:cNvPr id="301" name="AutoShape 3"/>
            <p:cNvSpPr/>
            <p:nvPr/>
          </p:nvSpPr>
          <p:spPr>
            <a:xfrm>
              <a:off x="309600" y="1946160"/>
              <a:ext cx="8630280" cy="3355200"/>
            </a:xfrm>
            <a:prstGeom prst="pie">
              <a:avLst/>
            </a:prstGeom>
            <a:solidFill>
              <a:srgbClr val="00a37a"/>
            </a:solidFill>
            <a:ln w="12600">
              <a:solidFill>
                <a:srgbClr val="141414"/>
              </a:solidFill>
              <a:round/>
            </a:ln>
            <a:effectLst>
              <a:outerShdw dist="0" dir="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70000"/>
                </a:lnSpc>
                <a:spcBef>
                  <a:spcPts val="1701"/>
                </a:spcBef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4"/>
            <p:cNvSpPr/>
            <p:nvPr/>
          </p:nvSpPr>
          <p:spPr>
            <a:xfrm>
              <a:off x="309600" y="1946160"/>
              <a:ext cx="8630280" cy="2861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 algn="ctr">
                <a:lnSpc>
                  <a:spcPct val="70000"/>
                </a:lnSpc>
                <a:spcBef>
                  <a:spcPts val="1701"/>
                </a:spcBef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800" spc="-1" strike="noStrike">
                  <a:solidFill>
                    <a:srgbClr val="f5f5f5"/>
                  </a:solidFill>
                  <a:latin typeface="Times New Roman"/>
                  <a:ea typeface="Times New Roman"/>
                </a:rPr>
                <a:t>Antonio Henrique Lindemberg Baltaza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701"/>
                </a:spcBef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701"/>
                </a:spcBef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800" spc="-1" strike="noStrike">
                  <a:solidFill>
                    <a:srgbClr val="f5f5f5"/>
                  </a:solidFill>
                  <a:latin typeface="Times New Roman"/>
                  <a:ea typeface="Times New Roman"/>
                </a:rPr>
                <a:t>Coordenador-Geral de Atendimento e Educação Fiscal Substitu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701"/>
                </a:spcBef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701"/>
                </a:spcBef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800" spc="-1" strike="noStrike">
                  <a:solidFill>
                    <a:srgbClr val="f5f5f5"/>
                  </a:solidFill>
                  <a:latin typeface="Times New Roman"/>
                  <a:ea typeface="Times New Roman"/>
                </a:rPr>
                <a:t>antonio.l.baltazar@receita.fazenda.gov.b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AutoShape 5"/>
          <p:cNvSpPr/>
          <p:nvPr/>
        </p:nvSpPr>
        <p:spPr>
          <a:xfrm>
            <a:off x="4262400" y="392040"/>
            <a:ext cx="4581720" cy="585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70000"/>
              </a:lnSpc>
              <a:spcBef>
                <a:spcPts val="17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racias por la atenció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1"/>
          <p:cNvGrpSpPr/>
          <p:nvPr/>
        </p:nvGrpSpPr>
        <p:grpSpPr>
          <a:xfrm>
            <a:off x="-17640" y="-12600"/>
            <a:ext cx="9169920" cy="6867360"/>
            <a:chOff x="-17640" y="-12600"/>
            <a:chExt cx="9169920" cy="6867360"/>
          </a:xfrm>
        </p:grpSpPr>
        <p:sp>
          <p:nvSpPr>
            <p:cNvPr id="305" name="AutoShape 2"/>
            <p:cNvSpPr/>
            <p:nvPr/>
          </p:nvSpPr>
          <p:spPr>
            <a:xfrm>
              <a:off x="-17640" y="-12600"/>
              <a:ext cx="9158760" cy="1913760"/>
            </a:xfrm>
            <a:prstGeom prst="pie">
              <a:avLst/>
            </a:prstGeom>
            <a:gradFill rotWithShape="0">
              <a:gsLst>
                <a:gs pos="0">
                  <a:srgbClr val="ededed"/>
                </a:gs>
                <a:gs pos="100000">
                  <a:srgbClr val="4b76a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16080"/>
                  <a:tab algn="l" pos="631800"/>
                  <a:tab algn="l" pos="947880"/>
                  <a:tab algn="l" pos="1263600"/>
                  <a:tab algn="l" pos="1579680"/>
                  <a:tab algn="l" pos="1895400"/>
                  <a:tab algn="l" pos="2211480"/>
                  <a:tab algn="l" pos="2527200"/>
                  <a:tab algn="l" pos="2843280"/>
                  <a:tab algn="l" pos="3159000"/>
                  <a:tab algn="l" pos="3475080"/>
                  <a:tab algn="l" pos="3790800"/>
                  <a:tab algn="l" pos="4106880"/>
                  <a:tab algn="l" pos="4422600"/>
                  <a:tab algn="l" pos="4738680"/>
                  <a:tab algn="l" pos="5054760"/>
                  <a:tab algn="l" pos="5370480"/>
                  <a:tab algn="l" pos="5686560"/>
                  <a:tab algn="l" pos="6002280"/>
                  <a:tab algn="l" pos="6318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3"/>
            <p:cNvSpPr/>
            <p:nvPr/>
          </p:nvSpPr>
          <p:spPr>
            <a:xfrm>
              <a:off x="3419640" y="-12600"/>
              <a:ext cx="5721120" cy="1672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76a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16080"/>
                  <a:tab algn="l" pos="631800"/>
                  <a:tab algn="l" pos="947880"/>
                  <a:tab algn="l" pos="1263600"/>
                  <a:tab algn="l" pos="1579680"/>
                  <a:tab algn="l" pos="1895400"/>
                  <a:tab algn="l" pos="2211480"/>
                  <a:tab algn="l" pos="2527200"/>
                  <a:tab algn="l" pos="2843280"/>
                  <a:tab algn="l" pos="3159000"/>
                  <a:tab algn="l" pos="3475080"/>
                  <a:tab algn="l" pos="3790800"/>
                  <a:tab algn="l" pos="4106880"/>
                  <a:tab algn="l" pos="4422600"/>
                  <a:tab algn="l" pos="4738680"/>
                  <a:tab algn="l" pos="5054760"/>
                  <a:tab algn="l" pos="5370480"/>
                  <a:tab algn="l" pos="5686560"/>
                  <a:tab algn="l" pos="6002280"/>
                  <a:tab algn="l" pos="6318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4"/>
            <p:cNvSpPr/>
            <p:nvPr/>
          </p:nvSpPr>
          <p:spPr>
            <a:xfrm rot="10800000">
              <a:off x="-6480" y="5524200"/>
              <a:ext cx="9158760" cy="1330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76a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16080"/>
                  <a:tab algn="l" pos="631800"/>
                  <a:tab algn="l" pos="947880"/>
                  <a:tab algn="l" pos="1263600"/>
                  <a:tab algn="l" pos="1579680"/>
                  <a:tab algn="l" pos="1895400"/>
                  <a:tab algn="l" pos="2211480"/>
                  <a:tab algn="l" pos="2527200"/>
                  <a:tab algn="l" pos="2843280"/>
                  <a:tab algn="l" pos="3159000"/>
                  <a:tab algn="l" pos="3475080"/>
                  <a:tab algn="l" pos="3790800"/>
                  <a:tab algn="l" pos="4106880"/>
                  <a:tab algn="l" pos="4422600"/>
                  <a:tab algn="l" pos="4738680"/>
                  <a:tab algn="l" pos="5054760"/>
                  <a:tab algn="l" pos="5370480"/>
                  <a:tab algn="l" pos="5686560"/>
                  <a:tab algn="l" pos="6002280"/>
                  <a:tab algn="l" pos="6318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8" name="Picture 5" descr="image.png"/>
            <p:cNvPicPr/>
            <p:nvPr/>
          </p:nvPicPr>
          <p:blipFill>
            <a:blip r:embed="rId1"/>
            <a:stretch/>
          </p:blipFill>
          <p:spPr>
            <a:xfrm>
              <a:off x="1604520" y="1837800"/>
              <a:ext cx="1472760" cy="154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9" name="Group 6"/>
            <p:cNvGrpSpPr/>
            <p:nvPr/>
          </p:nvGrpSpPr>
          <p:grpSpPr>
            <a:xfrm>
              <a:off x="1455120" y="3585240"/>
              <a:ext cx="1860840" cy="632520"/>
              <a:chOff x="1455120" y="3585240"/>
              <a:chExt cx="1860840" cy="632520"/>
            </a:xfrm>
          </p:grpSpPr>
          <p:pic>
            <p:nvPicPr>
              <p:cNvPr id="310" name="Picture 7" descr="image.png"/>
              <p:cNvPicPr/>
              <p:nvPr/>
            </p:nvPicPr>
            <p:blipFill>
              <a:blip r:embed="rId2"/>
              <a:srcRect l="-5472" t="0" r="0" b="-37782"/>
              <a:stretch/>
            </p:blipFill>
            <p:spPr>
              <a:xfrm>
                <a:off x="1455120" y="3585240"/>
                <a:ext cx="735120" cy="63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1" name="Picture 8" descr="image.png"/>
              <p:cNvPicPr/>
              <p:nvPr/>
            </p:nvPicPr>
            <p:blipFill>
              <a:blip r:embed="rId3"/>
              <a:stretch/>
            </p:blipFill>
            <p:spPr>
              <a:xfrm>
                <a:off x="2164320" y="3585240"/>
                <a:ext cx="1151640" cy="531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2" name="Group 9"/>
            <p:cNvGrpSpPr/>
            <p:nvPr/>
          </p:nvGrpSpPr>
          <p:grpSpPr>
            <a:xfrm>
              <a:off x="4230720" y="2674080"/>
              <a:ext cx="3776760" cy="970920"/>
              <a:chOff x="4230720" y="2674080"/>
              <a:chExt cx="3776760" cy="970920"/>
            </a:xfrm>
          </p:grpSpPr>
          <p:sp>
            <p:nvSpPr>
              <p:cNvPr id="313" name="AutoShape 10"/>
              <p:cNvSpPr/>
              <p:nvPr/>
            </p:nvSpPr>
            <p:spPr>
              <a:xfrm>
                <a:off x="4230720" y="3543840"/>
                <a:ext cx="89280" cy="101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317520"/>
                    <a:tab algn="l" pos="635040"/>
                    <a:tab algn="l" pos="965160"/>
                    <a:tab algn="l" pos="1282680"/>
                    <a:tab algn="l" pos="1600200"/>
                    <a:tab algn="l" pos="1930320"/>
                    <a:tab algn="l" pos="2247840"/>
                    <a:tab algn="l" pos="2565360"/>
                    <a:tab algn="l" pos="2895480"/>
                    <a:tab algn="l" pos="3213000"/>
                    <a:tab algn="l" pos="3530520"/>
                    <a:tab algn="l" pos="3860640"/>
                    <a:tab algn="l" pos="4178160"/>
                    <a:tab algn="l" pos="4495680"/>
                    <a:tab algn="l" pos="4826160"/>
                    <a:tab algn="l" pos="5143680"/>
                    <a:tab algn="l" pos="5460840"/>
                    <a:tab algn="l" pos="5791320"/>
                    <a:tab algn="l" pos="6108840"/>
                    <a:tab algn="l" pos="6426360"/>
                    <a:tab algn="l" pos="6634080"/>
                    <a:tab algn="l" pos="6950160"/>
                    <a:tab algn="l" pos="7265880"/>
                    <a:tab algn="l" pos="7581960"/>
                    <a:tab algn="l" pos="7897680"/>
                    <a:tab algn="l" pos="8213760"/>
                    <a:tab algn="l" pos="8529480"/>
                    <a:tab algn="l" pos="8845560"/>
                    <a:tab algn="l" pos="9161640"/>
                    <a:tab algn="l" pos="9477360"/>
                    <a:tab algn="l" pos="9793440"/>
                    <a:tab algn="l" pos="10109160"/>
                    <a:tab algn="l" pos="10425240"/>
                    <a:tab algn="l" pos="10740960"/>
                  </a:tabLst>
                </a:pPr>
                <a:r>
                  <a:rPr b="0" lang="es-ES" sz="400" spc="-1" strike="noStrike">
                    <a:solidFill>
                      <a:srgbClr val="000000"/>
                    </a:solidFill>
                    <a:latin typeface="Helvetica Light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14" name="Picture 11" descr="image.png"/>
              <p:cNvPicPr/>
              <p:nvPr/>
            </p:nvPicPr>
            <p:blipFill>
              <a:blip r:embed="rId4"/>
              <a:stretch/>
            </p:blipFill>
            <p:spPr>
              <a:xfrm>
                <a:off x="4320000" y="2674080"/>
                <a:ext cx="1170360" cy="83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Picture 12" descr="image.png"/>
              <p:cNvPicPr/>
              <p:nvPr/>
            </p:nvPicPr>
            <p:blipFill>
              <a:blip r:embed="rId5"/>
              <a:stretch/>
            </p:blipFill>
            <p:spPr>
              <a:xfrm>
                <a:off x="5450040" y="2865240"/>
                <a:ext cx="2557440" cy="472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16" name="AutoShape 13"/>
          <p:cNvSpPr/>
          <p:nvPr/>
        </p:nvSpPr>
        <p:spPr>
          <a:xfrm>
            <a:off x="7224840" y="6978600"/>
            <a:ext cx="2338200" cy="444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18A699E-EAE3-4EB6-88F1-8CB698703290}" type="slidenum"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1"/>
          <p:cNvSpPr/>
          <p:nvPr/>
        </p:nvSpPr>
        <p:spPr>
          <a:xfrm>
            <a:off x="4294080" y="852480"/>
            <a:ext cx="4572000" cy="5153040"/>
          </a:xfrm>
          <a:prstGeom prst="pie">
            <a:avLst/>
          </a:prstGeom>
          <a:gradFill rotWithShape="0">
            <a:gsLst>
              <a:gs pos="0">
                <a:srgbClr val="e6fff3"/>
              </a:gs>
              <a:gs pos="100000">
                <a:srgbClr val="a2ffd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 algn="just">
              <a:lnSpc>
                <a:spcPct val="116000"/>
              </a:lnSpc>
              <a:spcBef>
                <a:spcPts val="13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100" spc="-1" strike="noStrike">
                <a:solidFill>
                  <a:srgbClr val="2929a3"/>
                </a:solidFill>
                <a:latin typeface="Arial"/>
              </a:rPr>
              <a:t>190 millones de habitan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6000"/>
              </a:lnSpc>
              <a:spcBef>
                <a:spcPts val="13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100" spc="-1" strike="noStrike">
                <a:solidFill>
                  <a:srgbClr val="2929a3"/>
                </a:solidFill>
                <a:latin typeface="Arial"/>
              </a:rPr>
              <a:t>PIB (2012) - US$ 2 trillon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6000"/>
              </a:lnSpc>
              <a:spcBef>
                <a:spcPts val="13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100" spc="-1" strike="noStrike">
                <a:solidFill>
                  <a:srgbClr val="2929a3"/>
                </a:solidFill>
                <a:latin typeface="Arial"/>
              </a:rPr>
              <a:t>Arrecadação tributária (2012) - US$ 500 billon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6000"/>
              </a:lnSpc>
              <a:spcBef>
                <a:spcPts val="13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100" spc="-1" strike="noStrike">
                <a:solidFill>
                  <a:srgbClr val="2929a3"/>
                </a:solidFill>
                <a:latin typeface="Arial"/>
              </a:rPr>
              <a:t>8,5 millones de km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6000"/>
              </a:lnSpc>
              <a:spcBef>
                <a:spcPts val="13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100" spc="-1" strike="noStrike">
                <a:solidFill>
                  <a:srgbClr val="2929a3"/>
                </a:solidFill>
                <a:latin typeface="Arial"/>
              </a:rPr>
              <a:t>7,5 mil km de fronteras marítim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6000"/>
              </a:lnSpc>
              <a:spcBef>
                <a:spcPts val="13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100" spc="-1" strike="noStrike">
                <a:solidFill>
                  <a:srgbClr val="2929a3"/>
                </a:solidFill>
                <a:latin typeface="Arial"/>
              </a:rPr>
              <a:t>15,7 mil km de fronteras terrestr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6000"/>
              </a:lnSpc>
              <a:spcBef>
                <a:spcPts val="13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100" spc="-1" strike="noStrike">
                <a:solidFill>
                  <a:srgbClr val="2929a3"/>
                </a:solidFill>
                <a:latin typeface="Arial"/>
              </a:rPr>
              <a:t>26 Estados y 1 Distrito Feder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6000"/>
              </a:lnSpc>
              <a:spcBef>
                <a:spcPts val="13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100" spc="-1" strike="noStrike">
                <a:solidFill>
                  <a:srgbClr val="2929a3"/>
                </a:solidFill>
                <a:latin typeface="Arial"/>
              </a:rPr>
              <a:t>5.560 Municípi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6000"/>
              </a:lnSpc>
              <a:spcBef>
                <a:spcPts val="13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100" spc="-1" strike="noStrike">
                <a:solidFill>
                  <a:srgbClr val="2929a3"/>
                </a:solidFill>
                <a:latin typeface="Arial"/>
              </a:rPr>
              <a:t>Estado Feder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2"/>
          <p:cNvGrpSpPr/>
          <p:nvPr/>
        </p:nvGrpSpPr>
        <p:grpSpPr>
          <a:xfrm>
            <a:off x="303120" y="722160"/>
            <a:ext cx="3902760" cy="5631840"/>
            <a:chOff x="303120" y="722160"/>
            <a:chExt cx="3902760" cy="5631840"/>
          </a:xfrm>
        </p:grpSpPr>
        <p:pic>
          <p:nvPicPr>
            <p:cNvPr id="163" name="Picture 3" descr="image.png"/>
            <p:cNvPicPr/>
            <p:nvPr/>
          </p:nvPicPr>
          <p:blipFill>
            <a:blip r:embed="rId1"/>
            <a:stretch/>
          </p:blipFill>
          <p:spPr>
            <a:xfrm>
              <a:off x="303120" y="722160"/>
              <a:ext cx="3902760" cy="56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AutoShape 4"/>
            <p:cNvSpPr/>
            <p:nvPr/>
          </p:nvSpPr>
          <p:spPr>
            <a:xfrm>
              <a:off x="2291760" y="5137200"/>
              <a:ext cx="1761480" cy="106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AutoShape 5"/>
          <p:cNvSpPr/>
          <p:nvPr/>
        </p:nvSpPr>
        <p:spPr>
          <a:xfrm>
            <a:off x="6207120" y="255600"/>
            <a:ext cx="1670040" cy="878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16000"/>
              </a:lnSpc>
              <a:spcBef>
                <a:spcPts val="6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2929a3"/>
                </a:solidFill>
                <a:latin typeface="Arial"/>
              </a:rPr>
              <a:t>Bras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image.png"/>
          <p:cNvPicPr/>
          <p:nvPr/>
        </p:nvPicPr>
        <p:blipFill>
          <a:blip r:embed="rId2"/>
          <a:stretch/>
        </p:blipFill>
        <p:spPr>
          <a:xfrm>
            <a:off x="7966080" y="255600"/>
            <a:ext cx="900000" cy="53964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7"/>
          <p:cNvSpPr/>
          <p:nvPr/>
        </p:nvSpPr>
        <p:spPr>
          <a:xfrm>
            <a:off x="6553080" y="6356520"/>
            <a:ext cx="213372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D5B2E74-3196-4FDE-8185-91EFB2D8A047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1"/>
          <p:cNvSpPr/>
          <p:nvPr/>
        </p:nvSpPr>
        <p:spPr>
          <a:xfrm>
            <a:off x="4468680" y="1260360"/>
            <a:ext cx="4559400" cy="4559400"/>
          </a:xfrm>
          <a:prstGeom prst="pie">
            <a:avLst/>
          </a:prstGeom>
          <a:solidFill>
            <a:srgbClr val="2929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Dirección General – 5 Subsecretarias y 20 coordinaciones-gener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17 Delegacias de Juzg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103 Delegacias oper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26 Alfânde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55 Inspeto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362 Agências de serv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27000 sev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15,35 millones de empresas ac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25,2 milhões de contribuyentes del imposto sobre la renta de las personas físic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"/>
          <p:cNvSpPr/>
          <p:nvPr/>
        </p:nvSpPr>
        <p:spPr>
          <a:xfrm>
            <a:off x="4616280" y="433440"/>
            <a:ext cx="4264200" cy="469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2929a3"/>
                </a:solidFill>
                <a:latin typeface="Arial"/>
              </a:rPr>
              <a:t>Receita Federal em núm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image.png"/>
          <p:cNvPicPr/>
          <p:nvPr/>
        </p:nvPicPr>
        <p:blipFill>
          <a:blip r:embed="rId1"/>
          <a:stretch/>
        </p:blipFill>
        <p:spPr>
          <a:xfrm>
            <a:off x="404640" y="1260360"/>
            <a:ext cx="4021200" cy="455940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4"/>
          <p:cNvSpPr/>
          <p:nvPr/>
        </p:nvSpPr>
        <p:spPr>
          <a:xfrm>
            <a:off x="6553080" y="6356520"/>
            <a:ext cx="213372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3C076BC-5D78-4FE2-91DD-3C68F06B5F47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pasted-image.png"/>
          <p:cNvPicPr/>
          <p:nvPr/>
        </p:nvPicPr>
        <p:blipFill>
          <a:blip r:embed="rId2"/>
          <a:stretch/>
        </p:blipFill>
        <p:spPr>
          <a:xfrm>
            <a:off x="704880" y="192240"/>
            <a:ext cx="826920" cy="71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1"/>
          <p:cNvSpPr/>
          <p:nvPr/>
        </p:nvSpPr>
        <p:spPr>
          <a:xfrm>
            <a:off x="612720" y="135000"/>
            <a:ext cx="7918560" cy="533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spcBef>
                <a:spcPts val="1701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Arial"/>
              </a:rPr>
              <a:t>Organograma de la Receita Fed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"/>
          <p:cNvSpPr/>
          <p:nvPr/>
        </p:nvSpPr>
        <p:spPr>
          <a:xfrm>
            <a:off x="4419720" y="2438280"/>
            <a:ext cx="9144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"/>
          <p:cNvSpPr/>
          <p:nvPr/>
        </p:nvSpPr>
        <p:spPr>
          <a:xfrm flipH="1">
            <a:off x="4869000" y="1895400"/>
            <a:ext cx="17280" cy="290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3733920" y="990720"/>
            <a:ext cx="2209680" cy="906480"/>
          </a:xfrm>
          <a:prstGeom prst="pie">
            <a:avLst/>
          </a:prstGeom>
          <a:solidFill>
            <a:srgbClr val="3333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4194000" y="954000"/>
            <a:ext cx="1287720" cy="978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ret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F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6"/>
          <p:cNvGrpSpPr/>
          <p:nvPr/>
        </p:nvGrpSpPr>
        <p:grpSpPr>
          <a:xfrm>
            <a:off x="2971800" y="2139840"/>
            <a:ext cx="1456560" cy="524520"/>
            <a:chOff x="2971800" y="2139840"/>
            <a:chExt cx="1456560" cy="524520"/>
          </a:xfrm>
        </p:grpSpPr>
        <p:sp>
          <p:nvSpPr>
            <p:cNvPr id="179" name="AutoShape 7"/>
            <p:cNvSpPr/>
            <p:nvPr/>
          </p:nvSpPr>
          <p:spPr>
            <a:xfrm>
              <a:off x="2971800" y="2139840"/>
              <a:ext cx="1456560" cy="524520"/>
            </a:xfrm>
            <a:prstGeom prst="pie">
              <a:avLst/>
            </a:prstGeom>
            <a:solidFill>
              <a:srgbClr val="99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8"/>
            <p:cNvSpPr/>
            <p:nvPr/>
          </p:nvSpPr>
          <p:spPr>
            <a:xfrm>
              <a:off x="3238920" y="2227680"/>
              <a:ext cx="924840" cy="337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abine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Line 9"/>
          <p:cNvSpPr/>
          <p:nvPr/>
        </p:nvSpPr>
        <p:spPr>
          <a:xfrm flipH="1">
            <a:off x="1820880" y="2009880"/>
            <a:ext cx="64929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10"/>
          <p:cNvGrpSpPr/>
          <p:nvPr/>
        </p:nvGrpSpPr>
        <p:grpSpPr>
          <a:xfrm>
            <a:off x="1066680" y="2139840"/>
            <a:ext cx="1456560" cy="524520"/>
            <a:chOff x="1066680" y="2139840"/>
            <a:chExt cx="1456560" cy="524520"/>
          </a:xfrm>
        </p:grpSpPr>
        <p:sp>
          <p:nvSpPr>
            <p:cNvPr id="183" name="AutoShape 11"/>
            <p:cNvSpPr/>
            <p:nvPr/>
          </p:nvSpPr>
          <p:spPr>
            <a:xfrm>
              <a:off x="1066680" y="2139840"/>
              <a:ext cx="1456560" cy="524520"/>
            </a:xfrm>
            <a:prstGeom prst="pie">
              <a:avLst/>
            </a:prstGeom>
            <a:solidFill>
              <a:srgbClr val="99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2"/>
            <p:cNvSpPr/>
            <p:nvPr/>
          </p:nvSpPr>
          <p:spPr>
            <a:xfrm>
              <a:off x="1471680" y="2227680"/>
              <a:ext cx="646200" cy="337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3"/>
          <p:cNvGrpSpPr/>
          <p:nvPr/>
        </p:nvGrpSpPr>
        <p:grpSpPr>
          <a:xfrm>
            <a:off x="7532640" y="2139840"/>
            <a:ext cx="1456560" cy="829440"/>
            <a:chOff x="7532640" y="2139840"/>
            <a:chExt cx="1456560" cy="829440"/>
          </a:xfrm>
        </p:grpSpPr>
        <p:sp>
          <p:nvSpPr>
            <p:cNvPr id="186" name="AutoShape 14"/>
            <p:cNvSpPr/>
            <p:nvPr/>
          </p:nvSpPr>
          <p:spPr>
            <a:xfrm>
              <a:off x="7532640" y="2139840"/>
              <a:ext cx="1456560" cy="829440"/>
            </a:xfrm>
            <a:prstGeom prst="pie">
              <a:avLst/>
            </a:prstGeom>
            <a:solidFill>
              <a:srgbClr val="3333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5"/>
            <p:cNvSpPr/>
            <p:nvPr/>
          </p:nvSpPr>
          <p:spPr>
            <a:xfrm>
              <a:off x="7722000" y="2302200"/>
              <a:ext cx="1065600" cy="504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cretár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dju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6"/>
          <p:cNvGrpSpPr/>
          <p:nvPr/>
        </p:nvGrpSpPr>
        <p:grpSpPr>
          <a:xfrm>
            <a:off x="5334120" y="2139840"/>
            <a:ext cx="1456200" cy="524520"/>
            <a:chOff x="5334120" y="2139840"/>
            <a:chExt cx="1456200" cy="524520"/>
          </a:xfrm>
        </p:grpSpPr>
        <p:sp>
          <p:nvSpPr>
            <p:cNvPr id="189" name="AutoShape 17"/>
            <p:cNvSpPr/>
            <p:nvPr/>
          </p:nvSpPr>
          <p:spPr>
            <a:xfrm>
              <a:off x="5334120" y="2139840"/>
              <a:ext cx="1456200" cy="524520"/>
            </a:xfrm>
            <a:prstGeom prst="pie">
              <a:avLst/>
            </a:prstGeom>
            <a:solidFill>
              <a:srgbClr val="99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8"/>
            <p:cNvSpPr/>
            <p:nvPr/>
          </p:nvSpPr>
          <p:spPr>
            <a:xfrm>
              <a:off x="5713200" y="2227680"/>
              <a:ext cx="697680" cy="337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pa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Line 19"/>
          <p:cNvSpPr/>
          <p:nvPr/>
        </p:nvSpPr>
        <p:spPr>
          <a:xfrm>
            <a:off x="4408560" y="3048120"/>
            <a:ext cx="9144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0"/>
          <p:cNvGrpSpPr/>
          <p:nvPr/>
        </p:nvGrpSpPr>
        <p:grpSpPr>
          <a:xfrm>
            <a:off x="2960640" y="2749680"/>
            <a:ext cx="1456560" cy="524520"/>
            <a:chOff x="2960640" y="2749680"/>
            <a:chExt cx="1456560" cy="524520"/>
          </a:xfrm>
        </p:grpSpPr>
        <p:sp>
          <p:nvSpPr>
            <p:cNvPr id="193" name="AutoShape 21"/>
            <p:cNvSpPr/>
            <p:nvPr/>
          </p:nvSpPr>
          <p:spPr>
            <a:xfrm>
              <a:off x="2960640" y="2749680"/>
              <a:ext cx="1456560" cy="524520"/>
            </a:xfrm>
            <a:prstGeom prst="pie">
              <a:avLst/>
            </a:prstGeom>
            <a:solidFill>
              <a:srgbClr val="99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22"/>
            <p:cNvSpPr/>
            <p:nvPr/>
          </p:nvSpPr>
          <p:spPr>
            <a:xfrm>
              <a:off x="3175920" y="2837520"/>
              <a:ext cx="1025280" cy="337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uvidor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23"/>
          <p:cNvGrpSpPr/>
          <p:nvPr/>
        </p:nvGrpSpPr>
        <p:grpSpPr>
          <a:xfrm>
            <a:off x="5322960" y="2749680"/>
            <a:ext cx="1456200" cy="524520"/>
            <a:chOff x="5322960" y="2749680"/>
            <a:chExt cx="1456200" cy="524520"/>
          </a:xfrm>
        </p:grpSpPr>
        <p:sp>
          <p:nvSpPr>
            <p:cNvPr id="196" name="AutoShape 24"/>
            <p:cNvSpPr/>
            <p:nvPr/>
          </p:nvSpPr>
          <p:spPr>
            <a:xfrm>
              <a:off x="5322960" y="2749680"/>
              <a:ext cx="1456200" cy="524520"/>
            </a:xfrm>
            <a:prstGeom prst="pie">
              <a:avLst/>
            </a:prstGeom>
            <a:solidFill>
              <a:srgbClr val="99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25"/>
            <p:cNvSpPr/>
            <p:nvPr/>
          </p:nvSpPr>
          <p:spPr>
            <a:xfrm>
              <a:off x="5727600" y="2837520"/>
              <a:ext cx="634680" cy="337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pe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Line 26"/>
          <p:cNvSpPr/>
          <p:nvPr/>
        </p:nvSpPr>
        <p:spPr>
          <a:xfrm>
            <a:off x="4408560" y="3651120"/>
            <a:ext cx="9144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7"/>
          <p:cNvGrpSpPr/>
          <p:nvPr/>
        </p:nvGrpSpPr>
        <p:grpSpPr>
          <a:xfrm>
            <a:off x="2960640" y="3352680"/>
            <a:ext cx="1456560" cy="524520"/>
            <a:chOff x="2960640" y="3352680"/>
            <a:chExt cx="1456560" cy="524520"/>
          </a:xfrm>
        </p:grpSpPr>
        <p:sp>
          <p:nvSpPr>
            <p:cNvPr id="200" name="AutoShape 28"/>
            <p:cNvSpPr/>
            <p:nvPr/>
          </p:nvSpPr>
          <p:spPr>
            <a:xfrm>
              <a:off x="2960640" y="3352680"/>
              <a:ext cx="1456560" cy="524520"/>
            </a:xfrm>
            <a:prstGeom prst="pie">
              <a:avLst/>
            </a:prstGeom>
            <a:solidFill>
              <a:srgbClr val="99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29"/>
            <p:cNvSpPr/>
            <p:nvPr/>
          </p:nvSpPr>
          <p:spPr>
            <a:xfrm>
              <a:off x="3365640" y="3440520"/>
              <a:ext cx="634680" cy="337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se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30"/>
          <p:cNvGrpSpPr/>
          <p:nvPr/>
        </p:nvGrpSpPr>
        <p:grpSpPr>
          <a:xfrm>
            <a:off x="5322960" y="3352680"/>
            <a:ext cx="1456200" cy="524520"/>
            <a:chOff x="5322960" y="3352680"/>
            <a:chExt cx="1456200" cy="524520"/>
          </a:xfrm>
        </p:grpSpPr>
        <p:sp>
          <p:nvSpPr>
            <p:cNvPr id="203" name="AutoShape 31"/>
            <p:cNvSpPr/>
            <p:nvPr/>
          </p:nvSpPr>
          <p:spPr>
            <a:xfrm>
              <a:off x="5322960" y="3352680"/>
              <a:ext cx="1456200" cy="524520"/>
            </a:xfrm>
            <a:prstGeom prst="pie">
              <a:avLst/>
            </a:prstGeom>
            <a:solidFill>
              <a:srgbClr val="99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32"/>
            <p:cNvSpPr/>
            <p:nvPr/>
          </p:nvSpPr>
          <p:spPr>
            <a:xfrm>
              <a:off x="5753520" y="3440520"/>
              <a:ext cx="594360" cy="337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ci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Line 33"/>
          <p:cNvSpPr/>
          <p:nvPr/>
        </p:nvSpPr>
        <p:spPr>
          <a:xfrm>
            <a:off x="4408560" y="4260960"/>
            <a:ext cx="9144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34"/>
          <p:cNvGrpSpPr/>
          <p:nvPr/>
        </p:nvGrpSpPr>
        <p:grpSpPr>
          <a:xfrm>
            <a:off x="2960640" y="3962520"/>
            <a:ext cx="1456560" cy="524520"/>
            <a:chOff x="2960640" y="3962520"/>
            <a:chExt cx="1456560" cy="524520"/>
          </a:xfrm>
        </p:grpSpPr>
        <p:sp>
          <p:nvSpPr>
            <p:cNvPr id="207" name="AutoShape 35"/>
            <p:cNvSpPr/>
            <p:nvPr/>
          </p:nvSpPr>
          <p:spPr>
            <a:xfrm>
              <a:off x="2960640" y="3962520"/>
              <a:ext cx="1456560" cy="524520"/>
            </a:xfrm>
            <a:prstGeom prst="pie">
              <a:avLst/>
            </a:prstGeom>
            <a:solidFill>
              <a:srgbClr val="99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36"/>
            <p:cNvSpPr/>
            <p:nvPr/>
          </p:nvSpPr>
          <p:spPr>
            <a:xfrm>
              <a:off x="3380040" y="4050360"/>
              <a:ext cx="620280" cy="337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ud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37"/>
          <p:cNvGrpSpPr/>
          <p:nvPr/>
        </p:nvGrpSpPr>
        <p:grpSpPr>
          <a:xfrm>
            <a:off x="5322960" y="3962520"/>
            <a:ext cx="1456200" cy="524520"/>
            <a:chOff x="5322960" y="3962520"/>
            <a:chExt cx="1456200" cy="524520"/>
          </a:xfrm>
        </p:grpSpPr>
        <p:sp>
          <p:nvSpPr>
            <p:cNvPr id="210" name="AutoShape 38"/>
            <p:cNvSpPr/>
            <p:nvPr/>
          </p:nvSpPr>
          <p:spPr>
            <a:xfrm>
              <a:off x="5322960" y="3962520"/>
              <a:ext cx="1456200" cy="524520"/>
            </a:xfrm>
            <a:prstGeom prst="pie">
              <a:avLst/>
            </a:prstGeom>
            <a:solidFill>
              <a:srgbClr val="99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39"/>
            <p:cNvSpPr/>
            <p:nvPr/>
          </p:nvSpPr>
          <p:spPr>
            <a:xfrm>
              <a:off x="5437800" y="4050360"/>
              <a:ext cx="1226160" cy="337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RRF (10 X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40"/>
          <p:cNvGrpSpPr/>
          <p:nvPr/>
        </p:nvGrpSpPr>
        <p:grpSpPr>
          <a:xfrm>
            <a:off x="914400" y="4800600"/>
            <a:ext cx="1456560" cy="829440"/>
            <a:chOff x="914400" y="4800600"/>
            <a:chExt cx="1456560" cy="829440"/>
          </a:xfrm>
        </p:grpSpPr>
        <p:sp>
          <p:nvSpPr>
            <p:cNvPr id="213" name="AutoShape 41"/>
            <p:cNvSpPr/>
            <p:nvPr/>
          </p:nvSpPr>
          <p:spPr>
            <a:xfrm>
              <a:off x="914400" y="4800600"/>
              <a:ext cx="1456560" cy="829440"/>
            </a:xfrm>
            <a:prstGeom prst="pie">
              <a:avLst/>
            </a:prstGeom>
            <a:solidFill>
              <a:srgbClr val="3333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42"/>
            <p:cNvSpPr/>
            <p:nvPr/>
          </p:nvSpPr>
          <p:spPr>
            <a:xfrm>
              <a:off x="1230120" y="5040000"/>
              <a:ext cx="824400" cy="339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UA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43"/>
          <p:cNvGrpSpPr/>
          <p:nvPr/>
        </p:nvGrpSpPr>
        <p:grpSpPr>
          <a:xfrm>
            <a:off x="2503440" y="4800600"/>
            <a:ext cx="1456560" cy="829440"/>
            <a:chOff x="2503440" y="4800600"/>
            <a:chExt cx="1456560" cy="829440"/>
          </a:xfrm>
        </p:grpSpPr>
        <p:sp>
          <p:nvSpPr>
            <p:cNvPr id="216" name="AutoShape 44"/>
            <p:cNvSpPr/>
            <p:nvPr/>
          </p:nvSpPr>
          <p:spPr>
            <a:xfrm>
              <a:off x="2503440" y="4800600"/>
              <a:ext cx="1456560" cy="829440"/>
            </a:xfrm>
            <a:prstGeom prst="pie">
              <a:avLst/>
            </a:prstGeom>
            <a:solidFill>
              <a:srgbClr val="3333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45"/>
            <p:cNvSpPr/>
            <p:nvPr/>
          </p:nvSpPr>
          <p:spPr>
            <a:xfrm>
              <a:off x="2856600" y="5040000"/>
              <a:ext cx="749520" cy="339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UTR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46"/>
          <p:cNvGrpSpPr/>
          <p:nvPr/>
        </p:nvGrpSpPr>
        <p:grpSpPr>
          <a:xfrm>
            <a:off x="4114800" y="4800600"/>
            <a:ext cx="1456560" cy="829440"/>
            <a:chOff x="4114800" y="4800600"/>
            <a:chExt cx="1456560" cy="829440"/>
          </a:xfrm>
        </p:grpSpPr>
        <p:sp>
          <p:nvSpPr>
            <p:cNvPr id="219" name="AutoShape 47"/>
            <p:cNvSpPr/>
            <p:nvPr/>
          </p:nvSpPr>
          <p:spPr>
            <a:xfrm>
              <a:off x="4114800" y="4800600"/>
              <a:ext cx="1456560" cy="829440"/>
            </a:xfrm>
            <a:prstGeom prst="pie">
              <a:avLst/>
            </a:prstGeom>
            <a:solidFill>
              <a:srgbClr val="3333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48"/>
            <p:cNvSpPr/>
            <p:nvPr/>
          </p:nvSpPr>
          <p:spPr>
            <a:xfrm>
              <a:off x="4493880" y="5040000"/>
              <a:ext cx="698040" cy="339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UF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49"/>
          <p:cNvGrpSpPr/>
          <p:nvPr/>
        </p:nvGrpSpPr>
        <p:grpSpPr>
          <a:xfrm>
            <a:off x="5715000" y="4800600"/>
            <a:ext cx="1456560" cy="829440"/>
            <a:chOff x="5715000" y="4800600"/>
            <a:chExt cx="1456560" cy="829440"/>
          </a:xfrm>
        </p:grpSpPr>
        <p:sp>
          <p:nvSpPr>
            <p:cNvPr id="222" name="AutoShape 50"/>
            <p:cNvSpPr/>
            <p:nvPr/>
          </p:nvSpPr>
          <p:spPr>
            <a:xfrm>
              <a:off x="5715000" y="4800600"/>
              <a:ext cx="1456560" cy="829440"/>
            </a:xfrm>
            <a:prstGeom prst="pie">
              <a:avLst/>
            </a:prstGeom>
            <a:solidFill>
              <a:srgbClr val="3333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51"/>
            <p:cNvSpPr/>
            <p:nvPr/>
          </p:nvSpPr>
          <p:spPr>
            <a:xfrm>
              <a:off x="6068160" y="5040000"/>
              <a:ext cx="749520" cy="339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UAR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52"/>
          <p:cNvGrpSpPr/>
          <p:nvPr/>
        </p:nvGrpSpPr>
        <p:grpSpPr>
          <a:xfrm>
            <a:off x="7315200" y="4800600"/>
            <a:ext cx="1456560" cy="829440"/>
            <a:chOff x="7315200" y="4800600"/>
            <a:chExt cx="1456560" cy="829440"/>
          </a:xfrm>
        </p:grpSpPr>
        <p:sp>
          <p:nvSpPr>
            <p:cNvPr id="225" name="AutoShape 53"/>
            <p:cNvSpPr/>
            <p:nvPr/>
          </p:nvSpPr>
          <p:spPr>
            <a:xfrm>
              <a:off x="7315200" y="4800600"/>
              <a:ext cx="1456560" cy="829440"/>
            </a:xfrm>
            <a:prstGeom prst="pie">
              <a:avLst/>
            </a:prstGeom>
            <a:solidFill>
              <a:srgbClr val="3333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54"/>
            <p:cNvSpPr/>
            <p:nvPr/>
          </p:nvSpPr>
          <p:spPr>
            <a:xfrm>
              <a:off x="7619400" y="5040000"/>
              <a:ext cx="835920" cy="339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UC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Line 55"/>
          <p:cNvSpPr/>
          <p:nvPr/>
        </p:nvSpPr>
        <p:spPr>
          <a:xfrm flipH="1">
            <a:off x="1668600" y="4648320"/>
            <a:ext cx="64166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6"/>
          <p:cNvSpPr/>
          <p:nvPr/>
        </p:nvSpPr>
        <p:spPr>
          <a:xfrm flipV="1">
            <a:off x="1682640" y="4647960"/>
            <a:ext cx="1800" cy="160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57"/>
          <p:cNvSpPr/>
          <p:nvPr/>
        </p:nvSpPr>
        <p:spPr>
          <a:xfrm flipV="1">
            <a:off x="6475320" y="4647960"/>
            <a:ext cx="1800" cy="160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8"/>
          <p:cNvSpPr/>
          <p:nvPr/>
        </p:nvSpPr>
        <p:spPr>
          <a:xfrm flipV="1">
            <a:off x="8075520" y="4647960"/>
            <a:ext cx="1800" cy="160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9"/>
          <p:cNvSpPr/>
          <p:nvPr/>
        </p:nvSpPr>
        <p:spPr>
          <a:xfrm flipV="1">
            <a:off x="3274920" y="4647960"/>
            <a:ext cx="1800" cy="160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60"/>
          <p:cNvSpPr/>
          <p:nvPr/>
        </p:nvSpPr>
        <p:spPr>
          <a:xfrm flipV="1">
            <a:off x="1827360" y="1992240"/>
            <a:ext cx="1440" cy="160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1"/>
          <p:cNvSpPr/>
          <p:nvPr/>
        </p:nvSpPr>
        <p:spPr>
          <a:xfrm flipV="1">
            <a:off x="8296200" y="2000160"/>
            <a:ext cx="1800" cy="160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2"/>
          <p:cNvSpPr/>
          <p:nvPr/>
        </p:nvSpPr>
        <p:spPr>
          <a:xfrm>
            <a:off x="609480" y="5676840"/>
            <a:ext cx="2057400" cy="838440"/>
          </a:xfrm>
          <a:prstGeom prst="pi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63"/>
          <p:cNvSpPr/>
          <p:nvPr/>
        </p:nvSpPr>
        <p:spPr>
          <a:xfrm flipV="1">
            <a:off x="5891040" y="5490720"/>
            <a:ext cx="1800" cy="244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64"/>
          <p:cNvGrpSpPr/>
          <p:nvPr/>
        </p:nvGrpSpPr>
        <p:grpSpPr>
          <a:xfrm>
            <a:off x="914400" y="5791320"/>
            <a:ext cx="1456560" cy="524520"/>
            <a:chOff x="914400" y="5791320"/>
            <a:chExt cx="1456560" cy="524520"/>
          </a:xfrm>
        </p:grpSpPr>
        <p:sp>
          <p:nvSpPr>
            <p:cNvPr id="237" name="AutoShape 65"/>
            <p:cNvSpPr/>
            <p:nvPr/>
          </p:nvSpPr>
          <p:spPr>
            <a:xfrm>
              <a:off x="914400" y="5791320"/>
              <a:ext cx="1456560" cy="524520"/>
            </a:xfrm>
            <a:prstGeom prst="pie">
              <a:avLst/>
            </a:prstGeom>
            <a:solidFill>
              <a:srgbClr val="99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66"/>
            <p:cNvSpPr/>
            <p:nvPr/>
          </p:nvSpPr>
          <p:spPr>
            <a:xfrm>
              <a:off x="1319400" y="5879160"/>
              <a:ext cx="634680" cy="337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ae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AutoShape 67"/>
          <p:cNvSpPr/>
          <p:nvPr/>
        </p:nvSpPr>
        <p:spPr>
          <a:xfrm>
            <a:off x="2743200" y="5676840"/>
            <a:ext cx="6324480" cy="914400"/>
          </a:xfrm>
          <a:prstGeom prst="leftArrow">
            <a:avLst>
              <a:gd name="adj1" fmla="val 50000"/>
              <a:gd name="adj2" fmla="val 172913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68"/>
          <p:cNvSpPr/>
          <p:nvPr/>
        </p:nvSpPr>
        <p:spPr>
          <a:xfrm>
            <a:off x="3533760" y="5962680"/>
            <a:ext cx="5376960" cy="342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Coordinación-General de Atendimiento e Educación Fis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9"/>
          <p:cNvSpPr/>
          <p:nvPr/>
        </p:nvSpPr>
        <p:spPr>
          <a:xfrm flipV="1">
            <a:off x="1674720" y="5630760"/>
            <a:ext cx="1800" cy="160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0"/>
          <p:cNvSpPr/>
          <p:nvPr/>
        </p:nvSpPr>
        <p:spPr>
          <a:xfrm>
            <a:off x="6553080" y="6356520"/>
            <a:ext cx="213372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8F4F07-1B52-4B2B-AF06-620FB9D62291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1"/>
          <p:cNvSpPr/>
          <p:nvPr/>
        </p:nvSpPr>
        <p:spPr>
          <a:xfrm>
            <a:off x="0" y="914400"/>
            <a:ext cx="8991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2"/>
          <p:cNvGrpSpPr/>
          <p:nvPr/>
        </p:nvGrpSpPr>
        <p:grpSpPr>
          <a:xfrm>
            <a:off x="331920" y="1434960"/>
            <a:ext cx="3621240" cy="3540960"/>
            <a:chOff x="331920" y="1434960"/>
            <a:chExt cx="3621240" cy="3540960"/>
          </a:xfrm>
        </p:grpSpPr>
        <p:pic>
          <p:nvPicPr>
            <p:cNvPr id="245" name="Picture 3" descr="image.png"/>
            <p:cNvPicPr/>
            <p:nvPr/>
          </p:nvPicPr>
          <p:blipFill>
            <a:blip r:embed="rId1"/>
            <a:stretch/>
          </p:blipFill>
          <p:spPr>
            <a:xfrm>
              <a:off x="331920" y="1434960"/>
              <a:ext cx="3340080" cy="354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AutoShape 4"/>
            <p:cNvSpPr/>
            <p:nvPr/>
          </p:nvSpPr>
          <p:spPr>
            <a:xfrm>
              <a:off x="3018960" y="1981800"/>
              <a:ext cx="934200" cy="926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marL="14400" algn="ctr">
                <a:lnSpc>
                  <a:spcPct val="100000"/>
                </a:lnSpc>
                <a:tabLst>
                  <a:tab algn="l" pos="0"/>
                  <a:tab algn="l" pos="279360"/>
                  <a:tab algn="l" pos="723960"/>
                  <a:tab algn="l" pos="1181160"/>
                  <a:tab algn="l" pos="1625760"/>
                  <a:tab algn="l" pos="2070000"/>
                  <a:tab algn="l" pos="2527200"/>
                  <a:tab algn="l" pos="2971800"/>
                  <a:tab algn="l" pos="3429000"/>
                  <a:tab algn="l" pos="3873600"/>
                  <a:tab algn="l" pos="4317840"/>
                  <a:tab algn="l" pos="4775040"/>
                  <a:tab algn="l" pos="5219640"/>
                  <a:tab algn="l" pos="5664240"/>
                  <a:tab algn="l" pos="6121440"/>
                  <a:tab algn="l" pos="6566040"/>
                  <a:tab algn="l" pos="7023240"/>
                  <a:tab algn="l" pos="7467480"/>
                  <a:tab algn="l" pos="7912080"/>
                  <a:tab algn="l" pos="8369280"/>
                  <a:tab algn="l" pos="881388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br>
                <a:rPr sz="2400"/>
              </a:b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ª RF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5"/>
            <p:cNvSpPr/>
            <p:nvPr/>
          </p:nvSpPr>
          <p:spPr>
            <a:xfrm flipV="1">
              <a:off x="3198960" y="2476440"/>
              <a:ext cx="0" cy="37080"/>
            </a:xfrm>
            <a:prstGeom prst="line">
              <a:avLst/>
            </a:prstGeom>
            <a:ln w="12600">
              <a:solidFill>
                <a:srgbClr val="51d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6"/>
            <p:cNvSpPr/>
            <p:nvPr/>
          </p:nvSpPr>
          <p:spPr>
            <a:xfrm>
              <a:off x="1213920" y="1955880"/>
              <a:ext cx="667080" cy="569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 marL="14400" algn="ctr">
                <a:lnSpc>
                  <a:spcPct val="100000"/>
                </a:lnSpc>
                <a:tabLst>
                  <a:tab algn="l" pos="0"/>
                  <a:tab algn="l" pos="279360"/>
                  <a:tab algn="l" pos="723960"/>
                  <a:tab algn="l" pos="1181160"/>
                  <a:tab algn="l" pos="1625760"/>
                  <a:tab algn="l" pos="2070000"/>
                  <a:tab algn="l" pos="2527200"/>
                  <a:tab algn="l" pos="2971800"/>
                  <a:tab algn="l" pos="3429000"/>
                  <a:tab algn="l" pos="3873600"/>
                  <a:tab algn="l" pos="4317840"/>
                  <a:tab algn="l" pos="4775040"/>
                  <a:tab algn="l" pos="5219640"/>
                  <a:tab algn="l" pos="5664240"/>
                  <a:tab algn="l" pos="6121440"/>
                  <a:tab algn="l" pos="6566040"/>
                  <a:tab algn="l" pos="7023240"/>
                  <a:tab algn="l" pos="7467480"/>
                  <a:tab algn="l" pos="7912080"/>
                  <a:tab algn="l" pos="8369280"/>
                  <a:tab algn="l" pos="881388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ª RF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7"/>
            <p:cNvSpPr/>
            <p:nvPr/>
          </p:nvSpPr>
          <p:spPr>
            <a:xfrm>
              <a:off x="2545920" y="2094120"/>
              <a:ext cx="652680" cy="572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marL="14400" algn="ctr">
                <a:lnSpc>
                  <a:spcPct val="100000"/>
                </a:lnSpc>
                <a:tabLst>
                  <a:tab algn="l" pos="0"/>
                  <a:tab algn="l" pos="279360"/>
                  <a:tab algn="l" pos="723960"/>
                  <a:tab algn="l" pos="1181160"/>
                  <a:tab algn="l" pos="1625760"/>
                  <a:tab algn="l" pos="2070000"/>
                  <a:tab algn="l" pos="2527200"/>
                  <a:tab algn="l" pos="2971800"/>
                  <a:tab algn="l" pos="3429000"/>
                  <a:tab algn="l" pos="3873600"/>
                  <a:tab algn="l" pos="4317840"/>
                  <a:tab algn="l" pos="4775040"/>
                  <a:tab algn="l" pos="5219640"/>
                  <a:tab algn="l" pos="5664240"/>
                  <a:tab algn="l" pos="6121440"/>
                  <a:tab algn="l" pos="6566040"/>
                  <a:tab algn="l" pos="7023240"/>
                  <a:tab algn="l" pos="7467480"/>
                  <a:tab algn="l" pos="7912080"/>
                  <a:tab algn="l" pos="8369280"/>
                  <a:tab algn="l" pos="881388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ª RF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8"/>
            <p:cNvSpPr/>
            <p:nvPr/>
          </p:nvSpPr>
          <p:spPr>
            <a:xfrm>
              <a:off x="2748960" y="2856960"/>
              <a:ext cx="333360" cy="342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 marL="14400" algn="ctr">
                <a:lnSpc>
                  <a:spcPct val="100000"/>
                </a:lnSpc>
                <a:tabLst>
                  <a:tab algn="l" pos="0"/>
                  <a:tab algn="l" pos="279360"/>
                  <a:tab algn="l" pos="723960"/>
                  <a:tab algn="l" pos="1181160"/>
                  <a:tab algn="l" pos="1625760"/>
                  <a:tab algn="l" pos="2070000"/>
                  <a:tab algn="l" pos="2527200"/>
                  <a:tab algn="l" pos="2971800"/>
                  <a:tab algn="l" pos="3429000"/>
                  <a:tab algn="l" pos="3873600"/>
                  <a:tab algn="l" pos="4317840"/>
                  <a:tab algn="l" pos="4775040"/>
                  <a:tab algn="l" pos="5219640"/>
                  <a:tab algn="l" pos="5664240"/>
                  <a:tab algn="l" pos="6121440"/>
                  <a:tab algn="l" pos="6566040"/>
                  <a:tab algn="l" pos="7023240"/>
                  <a:tab algn="l" pos="7467480"/>
                  <a:tab algn="l" pos="7912080"/>
                  <a:tab algn="l" pos="8369280"/>
                  <a:tab algn="l" pos="881388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9"/>
            <p:cNvSpPr/>
            <p:nvPr/>
          </p:nvSpPr>
          <p:spPr>
            <a:xfrm>
              <a:off x="2647440" y="3478680"/>
              <a:ext cx="333360" cy="342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 marL="14400" algn="ctr">
                <a:lnSpc>
                  <a:spcPct val="100000"/>
                </a:lnSpc>
                <a:tabLst>
                  <a:tab algn="l" pos="0"/>
                  <a:tab algn="l" pos="279360"/>
                  <a:tab algn="l" pos="723960"/>
                  <a:tab algn="l" pos="1181160"/>
                  <a:tab algn="l" pos="1625760"/>
                  <a:tab algn="l" pos="2070000"/>
                  <a:tab algn="l" pos="2527200"/>
                  <a:tab algn="l" pos="2971800"/>
                  <a:tab algn="l" pos="3429000"/>
                  <a:tab algn="l" pos="3873600"/>
                  <a:tab algn="l" pos="4317840"/>
                  <a:tab algn="l" pos="4775040"/>
                  <a:tab algn="l" pos="5219640"/>
                  <a:tab algn="l" pos="5664240"/>
                  <a:tab algn="l" pos="6121440"/>
                  <a:tab algn="l" pos="6566040"/>
                  <a:tab algn="l" pos="7023240"/>
                  <a:tab algn="l" pos="7467480"/>
                  <a:tab algn="l" pos="7912080"/>
                  <a:tab algn="l" pos="8369280"/>
                  <a:tab algn="l" pos="881388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10"/>
            <p:cNvSpPr/>
            <p:nvPr/>
          </p:nvSpPr>
          <p:spPr>
            <a:xfrm>
              <a:off x="2302200" y="3769560"/>
              <a:ext cx="333360" cy="342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marL="14400" algn="ctr">
                <a:lnSpc>
                  <a:spcPct val="100000"/>
                </a:lnSpc>
                <a:tabLst>
                  <a:tab algn="l" pos="0"/>
                  <a:tab algn="l" pos="279360"/>
                  <a:tab algn="l" pos="723960"/>
                  <a:tab algn="l" pos="1181160"/>
                  <a:tab algn="l" pos="1625760"/>
                  <a:tab algn="l" pos="2070000"/>
                  <a:tab algn="l" pos="2527200"/>
                  <a:tab algn="l" pos="2971800"/>
                  <a:tab algn="l" pos="3429000"/>
                  <a:tab algn="l" pos="3873600"/>
                  <a:tab algn="l" pos="4317840"/>
                  <a:tab algn="l" pos="4775040"/>
                  <a:tab algn="l" pos="5219640"/>
                  <a:tab algn="l" pos="5664240"/>
                  <a:tab algn="l" pos="6121440"/>
                  <a:tab algn="l" pos="6566040"/>
                  <a:tab algn="l" pos="7023240"/>
                  <a:tab algn="l" pos="7467480"/>
                  <a:tab algn="l" pos="7912080"/>
                  <a:tab algn="l" pos="8369280"/>
                  <a:tab algn="l" pos="881388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8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11"/>
            <p:cNvSpPr/>
            <p:nvPr/>
          </p:nvSpPr>
          <p:spPr>
            <a:xfrm>
              <a:off x="2020680" y="3974040"/>
              <a:ext cx="333360" cy="342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 marL="14400" algn="ctr">
                <a:lnSpc>
                  <a:spcPct val="100000"/>
                </a:lnSpc>
                <a:tabLst>
                  <a:tab algn="l" pos="0"/>
                  <a:tab algn="l" pos="279360"/>
                  <a:tab algn="l" pos="723960"/>
                  <a:tab algn="l" pos="1181160"/>
                  <a:tab algn="l" pos="1625760"/>
                  <a:tab algn="l" pos="2070000"/>
                  <a:tab algn="l" pos="2527200"/>
                  <a:tab algn="l" pos="2971800"/>
                  <a:tab algn="l" pos="3429000"/>
                  <a:tab algn="l" pos="3873600"/>
                  <a:tab algn="l" pos="4317840"/>
                  <a:tab algn="l" pos="4775040"/>
                  <a:tab algn="l" pos="5219640"/>
                  <a:tab algn="l" pos="5664240"/>
                  <a:tab algn="l" pos="6121440"/>
                  <a:tab algn="l" pos="6566040"/>
                  <a:tab algn="l" pos="7023240"/>
                  <a:tab algn="l" pos="7467480"/>
                  <a:tab algn="l" pos="7912080"/>
                  <a:tab algn="l" pos="8369280"/>
                  <a:tab algn="l" pos="881388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9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12"/>
            <p:cNvSpPr/>
            <p:nvPr/>
          </p:nvSpPr>
          <p:spPr>
            <a:xfrm>
              <a:off x="1829160" y="4457520"/>
              <a:ext cx="446760" cy="342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 marL="14400" algn="ctr">
                <a:lnSpc>
                  <a:spcPct val="100000"/>
                </a:lnSpc>
                <a:tabLst>
                  <a:tab algn="l" pos="0"/>
                  <a:tab algn="l" pos="279360"/>
                  <a:tab algn="l" pos="723960"/>
                  <a:tab algn="l" pos="1181160"/>
                  <a:tab algn="l" pos="1625760"/>
                  <a:tab algn="l" pos="2070000"/>
                  <a:tab algn="l" pos="2527200"/>
                  <a:tab algn="l" pos="2971800"/>
                  <a:tab algn="l" pos="3429000"/>
                  <a:tab algn="l" pos="3873600"/>
                  <a:tab algn="l" pos="4317840"/>
                  <a:tab algn="l" pos="4775040"/>
                  <a:tab algn="l" pos="5219640"/>
                  <a:tab algn="l" pos="5664240"/>
                  <a:tab algn="l" pos="6121440"/>
                  <a:tab algn="l" pos="6566040"/>
                  <a:tab algn="l" pos="7023240"/>
                  <a:tab algn="l" pos="7467480"/>
                  <a:tab algn="l" pos="7912080"/>
                  <a:tab algn="l" pos="8369280"/>
                  <a:tab algn="l" pos="881388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13"/>
            <p:cNvSpPr/>
            <p:nvPr/>
          </p:nvSpPr>
          <p:spPr>
            <a:xfrm>
              <a:off x="1727640" y="2972160"/>
              <a:ext cx="664200" cy="569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 marL="14400" algn="ctr">
                <a:lnSpc>
                  <a:spcPct val="100000"/>
                </a:lnSpc>
                <a:tabLst>
                  <a:tab algn="l" pos="0"/>
                  <a:tab algn="l" pos="279360"/>
                  <a:tab algn="l" pos="723960"/>
                  <a:tab algn="l" pos="1181160"/>
                  <a:tab algn="l" pos="1625760"/>
                  <a:tab algn="l" pos="2070000"/>
                  <a:tab algn="l" pos="2527200"/>
                  <a:tab algn="l" pos="2971800"/>
                  <a:tab algn="l" pos="3429000"/>
                  <a:tab algn="l" pos="3873600"/>
                  <a:tab algn="l" pos="4317840"/>
                  <a:tab algn="l" pos="4775040"/>
                  <a:tab algn="l" pos="5219640"/>
                  <a:tab algn="l" pos="5664240"/>
                  <a:tab algn="l" pos="6121440"/>
                  <a:tab algn="l" pos="6566040"/>
                  <a:tab algn="l" pos="7023240"/>
                  <a:tab algn="l" pos="7467480"/>
                  <a:tab algn="l" pos="7912080"/>
                  <a:tab algn="l" pos="8369280"/>
                  <a:tab algn="l" pos="881388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ª RF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14"/>
            <p:cNvSpPr/>
            <p:nvPr/>
          </p:nvSpPr>
          <p:spPr>
            <a:xfrm>
              <a:off x="3071160" y="3769560"/>
              <a:ext cx="330480" cy="330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 marL="14400" algn="ctr">
                <a:lnSpc>
                  <a:spcPct val="100000"/>
                </a:lnSpc>
                <a:tabLst>
                  <a:tab algn="l" pos="0"/>
                  <a:tab algn="l" pos="279360"/>
                  <a:tab algn="l" pos="723960"/>
                  <a:tab algn="l" pos="1181160"/>
                  <a:tab algn="l" pos="1625760"/>
                  <a:tab algn="l" pos="2070000"/>
                  <a:tab algn="l" pos="2527200"/>
                  <a:tab algn="l" pos="2971800"/>
                  <a:tab algn="l" pos="3429000"/>
                  <a:tab algn="l" pos="3873600"/>
                  <a:tab algn="l" pos="4317840"/>
                  <a:tab algn="l" pos="4775040"/>
                  <a:tab algn="l" pos="5219640"/>
                  <a:tab algn="l" pos="5664240"/>
                  <a:tab algn="l" pos="6121440"/>
                  <a:tab algn="l" pos="6566040"/>
                  <a:tab algn="l" pos="7023240"/>
                  <a:tab algn="l" pos="7467480"/>
                  <a:tab algn="l" pos="7912080"/>
                  <a:tab algn="l" pos="8369280"/>
                  <a:tab algn="l" pos="881388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7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AutoShape 15"/>
          <p:cNvSpPr/>
          <p:nvPr/>
        </p:nvSpPr>
        <p:spPr>
          <a:xfrm>
            <a:off x="4334040" y="1638360"/>
            <a:ext cx="4132080" cy="1104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2929a3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s-ES" sz="2200" spc="-1" strike="noStrike" u="sng">
                <a:solidFill>
                  <a:srgbClr val="2929a3"/>
                </a:solidFill>
                <a:uFillTx/>
                <a:latin typeface="Times New Roman"/>
                <a:ea typeface="Times New Roman"/>
              </a:rPr>
              <a:t>uperintendenci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a0c60"/>
              </a:buClr>
              <a:buFont typeface="TimesNewRomanPSMT"/>
              <a:buChar char="•"/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2929a3"/>
                </a:solidFill>
                <a:latin typeface="Times New Roman"/>
                <a:ea typeface="Times New Roman"/>
              </a:rPr>
              <a:t> </a:t>
            </a:r>
            <a:r>
              <a:rPr b="0" lang="es-ES" sz="2200" spc="-1" strike="noStrike">
                <a:solidFill>
                  <a:srgbClr val="2929a3"/>
                </a:solidFill>
                <a:latin typeface="Times New Roman"/>
                <a:ea typeface="Times New Roman"/>
              </a:rPr>
              <a:t>División de Interacción con el Ciudadano - Div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6"/>
          <p:cNvSpPr/>
          <p:nvPr/>
        </p:nvSpPr>
        <p:spPr>
          <a:xfrm>
            <a:off x="3084480" y="4349880"/>
            <a:ext cx="5678640" cy="1130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2929a3"/>
                </a:solidFill>
                <a:uFillTx/>
                <a:latin typeface="Times New Roman"/>
                <a:ea typeface="Times New Roman"/>
              </a:rPr>
              <a:t>Unidades Loc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a0c60"/>
              </a:buClr>
              <a:buFont typeface="TimesNewRomanPSMT"/>
              <a:buChar char="•"/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929a3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2929a3"/>
                </a:solidFill>
                <a:latin typeface="Times New Roman"/>
                <a:ea typeface="Times New Roman"/>
              </a:rPr>
              <a:t>Representante Local de Educación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7"/>
          <p:cNvSpPr/>
          <p:nvPr/>
        </p:nvSpPr>
        <p:spPr>
          <a:xfrm>
            <a:off x="5486400" y="912960"/>
            <a:ext cx="327672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8"/>
          <p:cNvSpPr/>
          <p:nvPr/>
        </p:nvSpPr>
        <p:spPr>
          <a:xfrm>
            <a:off x="2533680" y="0"/>
            <a:ext cx="9180360" cy="1434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500" spc="-1" strike="noStrike">
                <a:solidFill>
                  <a:srgbClr val="2929a3"/>
                </a:solidFill>
                <a:latin typeface="Times New Roman"/>
                <a:ea typeface="Times New Roman"/>
              </a:rPr>
              <a:t>Educación Fiscal en las Unidades Operativ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9"/>
          <p:cNvSpPr/>
          <p:nvPr/>
        </p:nvSpPr>
        <p:spPr>
          <a:xfrm>
            <a:off x="6553080" y="6356520"/>
            <a:ext cx="213372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0256A71-F779-4D7B-B349-8AC4CD9A1F86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AutoShape 1"/>
          <p:cNvSpPr/>
          <p:nvPr/>
        </p:nvSpPr>
        <p:spPr>
          <a:xfrm>
            <a:off x="6553080" y="6356520"/>
            <a:ext cx="213372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204CCF9-7D83-41C3-80FA-9F3B70CEEFD2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"/>
          <p:cNvSpPr/>
          <p:nvPr/>
        </p:nvSpPr>
        <p:spPr>
          <a:xfrm>
            <a:off x="2192400" y="517680"/>
            <a:ext cx="7772400" cy="1143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2929a3"/>
                </a:solidFill>
                <a:latin typeface="Arial"/>
                <a:ea typeface="Arial"/>
              </a:rPr>
              <a:t>Papel da Educação Fiscal na RF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pasted-image.jpg"/>
          <p:cNvPicPr/>
          <p:nvPr/>
        </p:nvPicPr>
        <p:blipFill>
          <a:blip r:embed="rId1"/>
          <a:stretch/>
        </p:blipFill>
        <p:spPr>
          <a:xfrm>
            <a:off x="0" y="0"/>
            <a:ext cx="2670120" cy="198612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4"/>
          <p:cNvSpPr/>
          <p:nvPr/>
        </p:nvSpPr>
        <p:spPr>
          <a:xfrm>
            <a:off x="687240" y="2298600"/>
            <a:ext cx="7999560" cy="914400"/>
          </a:xfrm>
          <a:prstGeom prst="pie">
            <a:avLst/>
          </a:prstGeom>
          <a:solidFill>
            <a:srgbClr val="00a3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Armonizar la relación de la Administración Tributaria con el Contribuy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1636560" y="3800520"/>
            <a:ext cx="7299360" cy="1968480"/>
          </a:xfrm>
          <a:prstGeom prst="pie">
            <a:avLst/>
          </a:prstGeom>
          <a:solidFill>
            <a:srgbClr val="2929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Legitimación de la tributació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5f5f5"/>
                </a:solidFill>
                <a:latin typeface="Times New Roman"/>
                <a:ea typeface="Times New Roman"/>
              </a:rPr>
              <a:t>Asistencia (Orientación y Inform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AutoShape 1"/>
          <p:cNvSpPr/>
          <p:nvPr/>
        </p:nvSpPr>
        <p:spPr>
          <a:xfrm>
            <a:off x="6553080" y="6356520"/>
            <a:ext cx="213372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03FC92-4263-4109-8E40-751B91E9F815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image.png"/>
          <p:cNvPicPr/>
          <p:nvPr/>
        </p:nvPicPr>
        <p:blipFill>
          <a:blip r:embed="rId1"/>
          <a:stretch/>
        </p:blipFill>
        <p:spPr>
          <a:xfrm>
            <a:off x="252360" y="2357280"/>
            <a:ext cx="4257720" cy="3814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image.png"/>
          <p:cNvPicPr/>
          <p:nvPr/>
        </p:nvPicPr>
        <p:blipFill>
          <a:blip r:embed="rId2"/>
          <a:stretch/>
        </p:blipFill>
        <p:spPr>
          <a:xfrm>
            <a:off x="4570560" y="1638360"/>
            <a:ext cx="4346280" cy="3627360"/>
          </a:xfrm>
          <a:prstGeom prst="rect">
            <a:avLst/>
          </a:prstGeom>
          <a:ln w="0">
            <a:noFill/>
          </a:ln>
        </p:spPr>
      </p:pic>
      <p:sp>
        <p:nvSpPr>
          <p:cNvPr id="270" name="AutoShape 4"/>
          <p:cNvSpPr/>
          <p:nvPr/>
        </p:nvSpPr>
        <p:spPr>
          <a:xfrm>
            <a:off x="2381400" y="304920"/>
            <a:ext cx="6456240" cy="761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500" spc="-1" strike="noStrike">
                <a:solidFill>
                  <a:srgbClr val="2929a3"/>
                </a:solidFill>
                <a:latin typeface="Arial"/>
              </a:rPr>
              <a:t>La complejidad del sistema tributario y el acceso a orientació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pasted-image.jpg"/>
          <p:cNvPicPr/>
          <p:nvPr/>
        </p:nvPicPr>
        <p:blipFill>
          <a:blip r:embed="rId3"/>
          <a:stretch/>
        </p:blipFill>
        <p:spPr>
          <a:xfrm>
            <a:off x="0" y="0"/>
            <a:ext cx="201600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94760" y="2163240"/>
            <a:ext cx="8751960" cy="4210200"/>
          </a:xfrm>
          <a:prstGeom prst="rect">
            <a:avLst/>
          </a:prstGeom>
          <a:solidFill>
            <a:srgbClr val="2929a3"/>
          </a:solidFill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468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1640"/>
                <a:tab algn="l" pos="876240"/>
                <a:tab algn="l" pos="1333440"/>
                <a:tab algn="l" pos="1778040"/>
                <a:tab algn="l" pos="2235240"/>
                <a:tab algn="l" pos="2679840"/>
                <a:tab algn="l" pos="3124080"/>
                <a:tab algn="l" pos="3581280"/>
                <a:tab algn="l" pos="4025880"/>
                <a:tab algn="l" pos="4470480"/>
                <a:tab algn="l" pos="4927680"/>
                <a:tab algn="l" pos="5372280"/>
                <a:tab algn="l" pos="5829480"/>
                <a:tab algn="l" pos="6273720"/>
                <a:tab algn="l" pos="6718320"/>
                <a:tab algn="l" pos="7175520"/>
                <a:tab algn="l" pos="7620120"/>
                <a:tab algn="l" pos="8064360"/>
                <a:tab algn="l" pos="852156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5f5f5"/>
                </a:solidFill>
                <a:latin typeface="Times New Roman"/>
              </a:rPr>
              <a:t>                        </a:t>
            </a:r>
            <a:r>
              <a:rPr b="0" lang="es-ES" sz="2400" spc="-1" strike="noStrike">
                <a:solidFill>
                  <a:srgbClr val="f5f5f5"/>
                </a:solidFill>
                <a:latin typeface="Times New Roman"/>
              </a:rPr>
              <a:t>Portaria RFB nº 896/201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1640"/>
                <a:tab algn="l" pos="876240"/>
                <a:tab algn="l" pos="1333440"/>
                <a:tab algn="l" pos="1778040"/>
                <a:tab algn="l" pos="2235240"/>
                <a:tab algn="l" pos="2679840"/>
                <a:tab algn="l" pos="3124080"/>
                <a:tab algn="l" pos="3581280"/>
                <a:tab algn="l" pos="4025880"/>
                <a:tab algn="l" pos="4470480"/>
                <a:tab algn="l" pos="4927680"/>
                <a:tab algn="l" pos="5372280"/>
                <a:tab algn="l" pos="5829480"/>
                <a:tab algn="l" pos="6273720"/>
                <a:tab algn="l" pos="6718320"/>
                <a:tab algn="l" pos="7175520"/>
                <a:tab algn="l" pos="7620120"/>
                <a:tab algn="l" pos="8064360"/>
                <a:tab algn="l" pos="852156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1640"/>
                <a:tab algn="l" pos="876240"/>
                <a:tab algn="l" pos="1333440"/>
                <a:tab algn="l" pos="1778040"/>
                <a:tab algn="l" pos="2235240"/>
                <a:tab algn="l" pos="2679840"/>
                <a:tab algn="l" pos="3124080"/>
                <a:tab algn="l" pos="3581280"/>
                <a:tab algn="l" pos="4025880"/>
                <a:tab algn="l" pos="4470480"/>
                <a:tab algn="l" pos="4927680"/>
                <a:tab algn="l" pos="5372280"/>
                <a:tab algn="l" pos="5829480"/>
                <a:tab algn="l" pos="6273720"/>
                <a:tab algn="l" pos="6718320"/>
                <a:tab algn="l" pos="7175520"/>
                <a:tab algn="l" pos="7620120"/>
                <a:tab algn="l" pos="8064360"/>
                <a:tab algn="l" pos="852156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5f5f5"/>
                </a:solidFill>
                <a:latin typeface="Times New Roman"/>
              </a:rPr>
              <a:t>    </a:t>
            </a:r>
            <a:r>
              <a:rPr b="0" lang="es-ES" sz="2200" spc="-1" strike="noStrike">
                <a:solidFill>
                  <a:srgbClr val="f5f5f5"/>
                </a:solidFill>
                <a:latin typeface="Times New Roman"/>
              </a:rPr>
              <a:t>Disciplina las actividades de EF en la Receita Federal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1640"/>
                <a:tab algn="l" pos="876240"/>
                <a:tab algn="l" pos="1333440"/>
                <a:tab algn="l" pos="1778040"/>
                <a:tab algn="l" pos="2235240"/>
                <a:tab algn="l" pos="2679840"/>
                <a:tab algn="l" pos="3124080"/>
                <a:tab algn="l" pos="3581280"/>
                <a:tab algn="l" pos="4025880"/>
                <a:tab algn="l" pos="4470480"/>
                <a:tab algn="l" pos="4927680"/>
                <a:tab algn="l" pos="5372280"/>
                <a:tab algn="l" pos="5829480"/>
                <a:tab algn="l" pos="6273720"/>
                <a:tab algn="l" pos="6718320"/>
                <a:tab algn="l" pos="7175520"/>
                <a:tab algn="l" pos="7620120"/>
                <a:tab algn="l" pos="8064360"/>
                <a:tab algn="l" pos="852156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1640"/>
                <a:tab algn="l" pos="876240"/>
                <a:tab algn="l" pos="1333440"/>
                <a:tab algn="l" pos="1778040"/>
                <a:tab algn="l" pos="2235240"/>
                <a:tab algn="l" pos="2679840"/>
                <a:tab algn="l" pos="3124080"/>
                <a:tab algn="l" pos="3581280"/>
                <a:tab algn="l" pos="4025880"/>
                <a:tab algn="l" pos="4470480"/>
                <a:tab algn="l" pos="4927680"/>
                <a:tab algn="l" pos="5372280"/>
                <a:tab algn="l" pos="5829480"/>
                <a:tab algn="l" pos="6273720"/>
                <a:tab algn="l" pos="6718320"/>
                <a:tab algn="l" pos="7175520"/>
                <a:tab algn="l" pos="7620120"/>
                <a:tab algn="l" pos="8064360"/>
                <a:tab algn="l" pos="852156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5f5f5"/>
                </a:solidFill>
                <a:latin typeface="Times New Roman"/>
              </a:rPr>
              <a:t>    </a:t>
            </a:r>
            <a:r>
              <a:rPr b="0" lang="es-ES" sz="2200" spc="-1" strike="noStrike" u="sng">
                <a:solidFill>
                  <a:srgbClr val="f5f5f5"/>
                </a:solidFill>
                <a:uFillTx/>
                <a:latin typeface="Times New Roman"/>
              </a:rPr>
              <a:t>Finalidade</a:t>
            </a:r>
            <a:r>
              <a:rPr b="0" lang="es-ES" sz="2200" spc="-1" strike="noStrike">
                <a:solidFill>
                  <a:srgbClr val="f5f5f5"/>
                </a:solidFill>
                <a:latin typeface="Times New Roman"/>
              </a:rPr>
              <a:t>: aumentar el cumplimiento voluntario de las obligaciones fiscales y aduaneras, promover la aceptación social de la tributación y el desarrollo de la moral fiscal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1640"/>
                <a:tab algn="l" pos="876240"/>
                <a:tab algn="l" pos="1333440"/>
                <a:tab algn="l" pos="1778040"/>
                <a:tab algn="l" pos="2235240"/>
                <a:tab algn="l" pos="2679840"/>
                <a:tab algn="l" pos="3124080"/>
                <a:tab algn="l" pos="3581280"/>
                <a:tab algn="l" pos="4025880"/>
                <a:tab algn="l" pos="4470480"/>
                <a:tab algn="l" pos="4927680"/>
                <a:tab algn="l" pos="5372280"/>
                <a:tab algn="l" pos="5829480"/>
                <a:tab algn="l" pos="6273720"/>
                <a:tab algn="l" pos="6718320"/>
                <a:tab algn="l" pos="7175520"/>
                <a:tab algn="l" pos="7620120"/>
                <a:tab algn="l" pos="8064360"/>
                <a:tab algn="l" pos="852156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1640"/>
                <a:tab algn="l" pos="876240"/>
                <a:tab algn="l" pos="1333440"/>
                <a:tab algn="l" pos="1778040"/>
                <a:tab algn="l" pos="2235240"/>
                <a:tab algn="l" pos="2679840"/>
                <a:tab algn="l" pos="3124080"/>
                <a:tab algn="l" pos="3581280"/>
                <a:tab algn="l" pos="4025880"/>
                <a:tab algn="l" pos="4470480"/>
                <a:tab algn="l" pos="4927680"/>
                <a:tab algn="l" pos="5372280"/>
                <a:tab algn="l" pos="5829480"/>
                <a:tab algn="l" pos="6273720"/>
                <a:tab algn="l" pos="6718320"/>
                <a:tab algn="l" pos="7175520"/>
                <a:tab algn="l" pos="7620120"/>
                <a:tab algn="l" pos="8064360"/>
                <a:tab algn="l" pos="852156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5f5f5"/>
                </a:solidFill>
                <a:latin typeface="Times New Roman"/>
              </a:rPr>
              <a:t>    </a:t>
            </a:r>
            <a:r>
              <a:rPr b="0" lang="es-ES" sz="2200" spc="-1" strike="noStrike">
                <a:solidFill>
                  <a:srgbClr val="f5f5f5"/>
                </a:solidFill>
                <a:latin typeface="Times New Roman"/>
              </a:rPr>
              <a:t>Dirigido a: estudiantes y ciudadanos en general, especialmente los universitarios, sino que también se aplica a los funcionarios públicos, los contadores y intervenientes aduaneros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3135240" y="685800"/>
            <a:ext cx="5668920" cy="888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2929a3"/>
                </a:solidFill>
                <a:latin typeface="Times New Roman"/>
                <a:ea typeface="Times New Roman"/>
              </a:rPr>
              <a:t>Directrices de la Educación Fiscal en la Receita Fed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"/>
          <p:cNvSpPr/>
          <p:nvPr/>
        </p:nvSpPr>
        <p:spPr>
          <a:xfrm>
            <a:off x="6553080" y="6356520"/>
            <a:ext cx="213372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1F7E21D-AA78-4524-94C5-9BBE20D2DB0D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pasted-image.jpg"/>
          <p:cNvPicPr/>
          <p:nvPr/>
        </p:nvPicPr>
        <p:blipFill>
          <a:blip r:embed="rId1"/>
          <a:stretch/>
        </p:blipFill>
        <p:spPr>
          <a:xfrm>
            <a:off x="330120" y="466560"/>
            <a:ext cx="2411640" cy="13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980800" y="112680"/>
            <a:ext cx="3969000" cy="114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400" spc="-1" strike="noStrike">
                <a:solidFill>
                  <a:srgbClr val="2929a3"/>
                </a:solidFill>
                <a:latin typeface="Times New Roman"/>
                <a:ea typeface="Times New Roman"/>
              </a:rPr>
              <a:t>Algunas Directric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0000" y="1149480"/>
            <a:ext cx="8961480" cy="5168880"/>
          </a:xfrm>
          <a:prstGeom prst="rect">
            <a:avLst/>
          </a:prstGeom>
          <a:solidFill>
            <a:srgbClr val="2929a3"/>
          </a:solidFill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900" spc="-1" strike="noStrike">
                <a:solidFill>
                  <a:srgbClr val="f5f5f5"/>
                </a:solidFill>
                <a:latin typeface="Times New Roman"/>
              </a:rPr>
              <a:t>Aclarar la sociedad y desarrollar su conciencia crítica con respecto a sus derechos y deberes con un enfoque en la función económico-social del control fiscal y social del gasto público;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900" spc="-1" strike="noStrike">
                <a:solidFill>
                  <a:srgbClr val="f5f5f5"/>
                </a:solidFill>
                <a:latin typeface="Times New Roman"/>
              </a:rPr>
              <a:t>Promover la orientación tributaria y aduanera;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900" spc="-1" strike="noStrike">
                <a:solidFill>
                  <a:srgbClr val="f5f5f5"/>
                </a:solidFill>
                <a:latin typeface="Times New Roman"/>
              </a:rPr>
              <a:t>Llevar a los ciudadanos los conocimentos acerca del funcionamiento de la Receita Federal;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900" spc="-1" strike="noStrike">
                <a:solidFill>
                  <a:srgbClr val="f5f5f5"/>
                </a:solidFill>
                <a:latin typeface="Times New Roman"/>
              </a:rPr>
              <a:t>Mejorar la comunicación corporativa con el fin de mejorar la transparencia de la administración tributaria;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900" spc="-1" strike="noStrike">
                <a:solidFill>
                  <a:srgbClr val="f5f5f5"/>
                </a:solidFill>
                <a:latin typeface="Times New Roman"/>
              </a:rPr>
              <a:t>Contribuir al desarrollo del servidor de RFB, en busca de la realización de los valores de respeto a los ciudadanos, la integridad, la lealtad a la institución, la legalidad, la profesionalidad y transparencia;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900" spc="-1" strike="noStrike">
                <a:solidFill>
                  <a:srgbClr val="f5f5f5"/>
                </a:solidFill>
                <a:latin typeface="Times New Roman"/>
              </a:rPr>
              <a:t>Dar a conocer la posibilidad de asignación de la parte deducible del impuestos diversos fondos.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3"/>
          <p:cNvSpPr/>
          <p:nvPr/>
        </p:nvSpPr>
        <p:spPr>
          <a:xfrm>
            <a:off x="6553080" y="6356520"/>
            <a:ext cx="213372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DB57533-47E1-4F1F-8F25-BA0A9A4CC448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pasted-image.jpg"/>
          <p:cNvPicPr/>
          <p:nvPr/>
        </p:nvPicPr>
        <p:blipFill>
          <a:blip r:embed="rId1"/>
          <a:stretch/>
        </p:blipFill>
        <p:spPr>
          <a:xfrm>
            <a:off x="495360" y="112680"/>
            <a:ext cx="1376280" cy="103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3-10-18T09:28:48Z</dcterms:modified>
  <cp:revision>1</cp:revision>
  <dc:subject/>
  <dc:title>Diapositiva 1</dc:title>
</cp:coreProperties>
</file>