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wmf" ContentType="image/x-wmf"/>
  <Override PartName="/ppt/media/image2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01E4-A7AD-4B24-B2EF-9E2EF0D2FDF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D5EF-DFED-4173-9475-896A665E91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1554-9AEA-4228-ABBE-13C17A748F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5343-93B6-4C28-939B-8147572BAA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4CC5-77D1-45C8-AEAA-2A82E1DC8DE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AA0B-D52B-43FF-BF0B-CBA4A5DEA1D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24FB-192D-48BD-879B-0B2A754E3A8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166F-1275-4391-B437-7E5B95EE42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F3F7-0A01-47BA-A994-D4E12F17A5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0D33-0C29-4D93-9F17-10A5EE1BCC3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5FB6-A55E-43D5-A2A3-6A60F3E0289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6562-AAD0-434D-98E6-F2869CE7E5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242C-DB59-4869-939B-5017E6F4501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E75B-39C3-4FF6-9A51-95DA156B904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6A75-ABA0-4800-91FD-3432AEA53B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925E-A355-4EDB-BDED-57EF8449E06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A542-E038-4364-8771-2A0499EF1D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7EEB-8D3C-4F7A-999E-8F9C7117507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33ED-C701-457B-8FEF-424017C06E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FF91-3482-4974-A421-EB1885944C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B625-7173-41E1-9937-D6E5429D7A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5A42-5B6F-47FD-B3F2-14E54C14303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6D47-3951-45FA-BA5D-A2BDCC2F928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5DE3-D5E6-432F-8BDC-816AEE2340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gura impressionante..dimensões cósmicas de tempo e espaç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039B-D489-4B5A-AE74-2A45DE1228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BB8B-41F7-4DB1-A166-D2CD8BB985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5DB4-C493-4873-B0A0-042FEFACDC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23B0-550C-43EE-BDDE-F185E8B4BF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8F57-3D48-40E7-84E8-5D8690CCF6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781C-EE8C-4C66-86EF-DC18B7E0D8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0C17-1417-4FAB-8B71-7E951EDE93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73B9-08EC-40E0-9CF8-D8C0636944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D053-4B0F-4320-A308-88E79A23388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430C-980E-479F-9E74-8AC20BEED8D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6508-449F-44D9-BF6A-7C72315DD9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ador : agente de transform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9B8E-121E-46E7-AFD2-1E2177BA8A1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C404-1040-4550-BEC9-A0B76F8B12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ador : agente de transform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3964-1A43-4716-B12C-0D63AB45C0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4405-BEFC-4274-A9C9-38BD4439FE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gura impressionante..dimensões cósmicas de tempo e espaç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C019-75FD-4BE4-B9CB-D4B0A294C7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CD5A-56D7-455A-A3B9-980F126807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683C-3A82-43DD-948C-B8C7CF3B489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5404-4CB7-413F-BD28-C9F91E5D6BE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g1.globo.com/rs/rio-grande-do-sul/rbs-noticias/videos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g1.globo.com/rs/rio-grande-do-sul/rbs-noticias/videos/t/passo-fundo/v/termina-no-fim-de-abril-o-prazo-para-declaracao-do-imposto-de-renda/2513896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erparacrescer.folhadaregiao.com.br/2011_10_01_archive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operacaovirtual.blogspot.com/" TargetMode="External"/><Relationship Id="rId2" Type="http://schemas.openxmlformats.org/officeDocument/2006/relationships/hyperlink" Target="http://coworking-farialima.com.br/2011/04/coworking-colaboracao-nao-e-apenas-reducao-de-custo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3"/>
          <p:cNvSpPr/>
          <p:nvPr/>
        </p:nvSpPr>
        <p:spPr>
          <a:xfrm>
            <a:off x="4191120" y="266688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ucleos de Apoyo Contable y Fisca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(NAF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505320" y="44956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cación Tributária y Ciudadania en la valorización del futuro Contad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73376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114800" y="2514600"/>
            <a:ext cx="2895480" cy="1209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2209680" y="12193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6781680" y="1066680"/>
            <a:ext cx="1352520" cy="1752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990720" y="380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ucleos de Práctica Jurídica – en Brasil (SAJ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04920" y="4038480"/>
            <a:ext cx="8686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Formación practica del abogad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ociedad Civil Organizad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ucceso del SAJU – más de 60 años in algunos casos!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ituación hoy: Obrigatoriedad legal; diferentes formas de organizac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7929720" cy="436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se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dad EUA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Tax Cli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dad Brasileña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SA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ario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Sociedad Civil Organ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poyo de instituiciones: RFB, CFC/CRC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209680" y="304920"/>
            <a:ext cx="5867280" cy="1600200"/>
            <a:chOff x="2209680" y="304920"/>
            <a:chExt cx="5867280" cy="1600200"/>
          </a:xfrm>
        </p:grpSpPr>
        <p:grpSp>
          <p:nvGrpSpPr>
            <p:cNvPr id="103" name="Group 4"/>
            <p:cNvGrpSpPr/>
            <p:nvPr/>
          </p:nvGrpSpPr>
          <p:grpSpPr>
            <a:xfrm>
              <a:off x="2209680" y="304920"/>
              <a:ext cx="5867280" cy="1600200"/>
              <a:chOff x="2209680" y="304920"/>
              <a:chExt cx="5867280" cy="1600200"/>
            </a:xfrm>
          </p:grpSpPr>
          <p:sp>
            <p:nvSpPr>
              <p:cNvPr id="104" name="Text Box 5"/>
              <p:cNvSpPr/>
              <p:nvPr/>
            </p:nvSpPr>
            <p:spPr>
              <a:xfrm>
                <a:off x="2285640" y="381240"/>
                <a:ext cx="381024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Talleres de práctica jurídica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6"/>
              <p:cNvSpPr/>
              <p:nvPr/>
            </p:nvSpPr>
            <p:spPr>
              <a:xfrm>
                <a:off x="2209680" y="1295640"/>
                <a:ext cx="4267080" cy="609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7"/>
              <p:cNvSpPr/>
              <p:nvPr/>
            </p:nvSpPr>
            <p:spPr>
              <a:xfrm>
                <a:off x="2209680" y="304920"/>
                <a:ext cx="4267080" cy="609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utoShape 8"/>
              <p:cNvSpPr/>
              <p:nvPr/>
            </p:nvSpPr>
            <p:spPr>
              <a:xfrm>
                <a:off x="6705360" y="381240"/>
                <a:ext cx="152280" cy="144756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37440 h 1447560"/>
                  <a:gd name="textAreaBottom" fmla="*/ 1410120 h 14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9"/>
              <p:cNvSpPr/>
              <p:nvPr/>
            </p:nvSpPr>
            <p:spPr>
              <a:xfrm>
                <a:off x="7010280" y="914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Times New Roman"/>
                  </a:rPr>
                  <a:t>= NAF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Text Box 10"/>
            <p:cNvSpPr/>
            <p:nvPr/>
          </p:nvSpPr>
          <p:spPr>
            <a:xfrm>
              <a:off x="2362320" y="129564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ow Income Tax Payer Clinic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11"/>
          <p:cNvSpPr/>
          <p:nvPr/>
        </p:nvSpPr>
        <p:spPr>
          <a:xfrm>
            <a:off x="762120" y="380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AJU </a:t>
            </a:r>
            <a:r>
              <a:rPr b="1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762120" y="1371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LITC </a:t>
            </a:r>
            <a:r>
              <a:rPr b="1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9810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AF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spectos Teó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és el objetivo de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oyo a los menos favorecid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poyar las personas com basos ingresos (PF o PJ) o el público interno de las universidades em questiones contables, financeras o tributári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ntro de difusión del conocimiento fiscal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uar como centro de aprendizaje de los alumnos a través de discusiones, preparación de palestras, grupos de estudios, entreinamentos, etc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el referencial  de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és totalmente similar al modelo de lo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lleres de Práctica Jurídica (SAJUs)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a universitar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raestructura mínima fornecida por la universidad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volvimiento de los alumno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réditos complementares, disciplina opcional/obrigatória, voluntariado, etc..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en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frent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1)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ndimiento/orientación del contribuabl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(2)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 de estudios de alumnos y professor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m lo último, atuación también a través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lestra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tividades voluntárias, etc. (obs: tópicos libr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cuentros regular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 la Administración Tributaria (AT) para entrenar y acompañar el desarrojo de los alumnos y apoyar los orientadore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</a:t>
            </a:r>
            <a:r>
              <a:rPr b="1" lang="pt-BR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 um posto de atendimento da RFB. (Da mesma forma que os SAJU não substituem os atendimentos prestados por el poder judiciário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 um substituto para os escritórios de contabilidade ou para assessoria prestada pelos contabilistas a várias matérias. (Da mesma forma que os SAJU não substituem os escritórios de advocaci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 um convênio oficial entre a RFB e a IES. (Da mesma forma que o SAJU não é um convênio entre a IES e a OAB, p.ex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La iniciativa existe en otros paise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situaciones similares en algunos paises, pero la experiencia de los NAF és única y inovadora, porque tiene los elementos de ciudadania y de gestión del conocimiento fiscal para los universi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, el proyecto tiene una flexibilidad que lo permite ser apoyada por más de un órgão de las administraciones tributarias o por cualquier entidad civ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Só as faculdades de contábeis possuem NAFs?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quanto às escolas técnic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restriciones, todavia el proyeto fue idealizado para valorizar el futuro profissional contador o el despachante aduan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son la “Ponte de Oro entre la Receita Federal y el Contribuyent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 12.249 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fin” del “técnico contable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el público-alvo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umno és el favorecido principal. El tiene la oportunidade de vivir una formación diferenciada a través del conocimiento del Fisco, de lo trabajo voluntario, de la aprendizaje en los grupos de estudio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úblico em la comunidad varia. También varia la forma de interación com la comun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 loc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x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es le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tiva pas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x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tiva at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isitas a uma comunidad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sa ultima tem se mostrado mais efetiva no inicio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también un publico “cativo” dentro de las universidades: diretorios acadêmicos, servidores com basos ingresos, pex. limpeza, vigilancia etc.)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NAF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spectos Prá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Times New Roman"/>
              </a:rPr>
              <a:t>Pl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38080" y="1828800"/>
            <a:ext cx="761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Contexto e surgimento da idé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F – Aspectos Teóric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F – Aspectos Prátic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Considerações fina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la mejor estrategia para desarollar nuevos nucleo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una única estrategia. Mismo porque los NAF son una iniciativa de la sociedad civil organizada y tiene por su base la autonomia universitar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via, notamos que dos abordajes fueran cruciales para el rápido desarollo de la idéia desde el primer NAF en Porto Alegre, em 04 abr 1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riorizamos el contacto con faculdades menore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as tienen mayor interés em lo diferencial que la proposta puede ofertar a los alumnos. Tienen mayor agilidad em la implementación de projetos y en su modificación. (Ex: Faculdade São Judas Tadeu, que há creado una disciplina opciona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puntamos desde el inicio nuestra posición de apoyadore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ctuamos a través de palestras em las faculdades y em las unidades de la AT; Incentivamos la visitacion de los alumnos a las nossas unidades de la AT (“Conociendo el León por Dentro”); Los “Termos de Cooperación” son sin formalidades (por veces no hay termo escrito al empezar!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Hay algun convenio modelo?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Como proceder por el primer contacto com la Universida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uno solo modelo de convenio o de procedimiento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se és la simplicidade de la abordaje y la autonomia universitária, pero hacemos una cerimonia de abertura o aula inaugural, norm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s primeiros contatos são bastante informale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rmalmente com algunas visitas a universidad para cambio de ideas y exposición del proyec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atizamos la importancia para la formación del futuro contad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altamos los varios aspectos positivos para la universidad, la AT, la comunidad y para los alumnos en espe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bramos que la universidad és libre para crear ideas y novidades en el proyecto; ella tiene un papel activo (Ex: proyecto de minipalestras de los alumno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la mejor estrategia para mantener los nucleos activo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i también no hay una única estrateg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sugerencias 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Mantener el contacto.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char professores e alum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Mantener uma rotina de palestras e visitas a A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rear una red de coordenaores de cursos e miembros de la AT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Atraer otros participantes: Fisco Estadual, Associación de Contadores, Tallejeres de Contabilidad, Empresas de auditoria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antas personas hay que tenerse para apoyar el projecto? ¿Cuál es el impacto en el trabajo de la Unida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mente la unidade de la AT posee un/a servidor/a que sirve de conexión com la univer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alestras spueden ser produzidas por los colegas de especializados. Los temas abordados incluien: (a) sitio de la AT, (b) Cadastros (c) MEI, (d) Impuesto sobre las Rendas (e) Processo Admin. Tribut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impacto horas-hombre és peque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impacto en el corto prazo?  ¿Cómo medir el resultado de la iniciativa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NAF no és uma iniciativa de corto prazo. No és la solución para problemas de atendimiento, mismo porque la At no le gerencia verticalmente. El és más similar a un proyecto en réd (para la difusion del conocimiento contable/fisc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mos tener cuidado con el uso precoce d eindicadores. Acompanhar, todavia, los alumnos, profesore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lvidarse!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mos en um proceso historico, construiendo  una revolución em la enseñanza contable e fisca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uedo divulgar o serviço nos CAC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impedimento, en principio. Todavia no lo hemos hecho para dar a los NAF más tiempo para organizarense mej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04920" y="373392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Hay problemas com las Associaciónes de Contadores? </a:t>
            </a:r>
            <a:br>
              <a:rPr sz="44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porque la division és clara: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ción o atendimiento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untos simple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estudios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untos más complejo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371600" y="762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isita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2209680" y="914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52280" y="5562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inipalestra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 flipV="1">
            <a:off x="83808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905120" y="5867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rupos de estudios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8002-9F97-41FD-9487-C85AE1DF12BC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Dedicaci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362320" cy="1962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886200" cy="2395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3048120" y="3581280"/>
            <a:ext cx="3004920" cy="2962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5CD2-A1C6-4413-B1CB-0F48CBA50C2A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42223" t="32223" r="9445" b="31560"/>
          <a:stretch/>
        </p:blipFill>
        <p:spPr>
          <a:xfrm>
            <a:off x="533520" y="533520"/>
            <a:ext cx="5715000" cy="2676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0" y="3429000"/>
            <a:ext cx="5410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 Narrow"/>
              </a:rPr>
              <a:t>Fonte: Jornal do Comércio 2/mai/1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895480" y="4800600"/>
            <a:ext cx="5562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rmina no fim de abril o prazo para declaração do imposto de renda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RBS Notíci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4952880"/>
            <a:ext cx="868320" cy="5828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3124080" y="5867280"/>
            <a:ext cx="54104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ccccff"/>
                </a:solidFill>
                <a:uFillTx/>
                <a:latin typeface="Arial Narrow"/>
                <a:hlinkClick r:id="rId4"/>
              </a:rPr>
              <a:t>Vídeo: Globo – G1  11 abril 20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5D7C-8E2D-48D5-A418-9CED5A6F3F5B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480" y="182160"/>
            <a:ext cx="87202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Facebook: Núcleos de Apoio Contábil e Fis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800600" cy="4240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609480" y="6324480"/>
            <a:ext cx="769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uente: 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lerparacrescer.folhadaregiao.com.br/2011_10_01_archive.html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. Acceso en el 30.10.12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371600" y="304920"/>
            <a:ext cx="6705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Inovación - Complexida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409760" y="628560"/>
            <a:ext cx="6324480" cy="5743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2209680" y="419112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pin-offs (ideas generadas.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nipal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endimiento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yuda al FUNCRI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ricia em jui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laboración com las “EmpresasJr.” e los “SAJU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xilio a ar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ción en otros proytos de la AT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“Conheça nossa aduana”, “Cidadania em cartaz”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rincipales problemas hasta ho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desafios están asociados a la novidad de la inici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universidades tienen realidades distinctas, públicos distinc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í a necessidade de não apresentar uma fórmula pron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ocracia nas universidades (may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ario para las palestras aos alunos – à la noche, p.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idad del contacto Univ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l de comunicación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stión del Conocomoento em red!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E35C-E766-4544-93DE-407EA7629A5D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Algunos números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26 NAF op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dicación de los alumnos y profes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 de trabajo con el EUROSO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ais de 300 pessoas envol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tros apoyadores (CFC, SEFAZ, etc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mplo espacio en las midias y reds so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CCs – Cecília Bauer, 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uego: III ENAF RS (Encuentro de los NAF de 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remios: AMBEV – NAF Caduceu Jr – Santa 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0080-D872-4768-80BA-E563238C6EB6}" type="slidenum">
              <a:rPr b="0" lang="pt-BR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NAF – 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tros estados ... Otros paise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ENAF Nacional ... Inter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Intensificación de los treina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mpliación de la creación academica com el AT: más TCCs, más palest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6960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lguns homens vêem as coisas como são e perguntam: “Por quê?”. </a:t>
            </a:r>
            <a:br>
              <a:rPr sz="3200"/>
            </a:b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Eu sonho com as coisas que 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nunca existiram e pergunto: 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“Por que nã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295280" y="5486040"/>
            <a:ext cx="6096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514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1722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miñante, no hay camiño.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miño se hace al camiñ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5640" y="4642920"/>
            <a:ext cx="6095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Antonio Mach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brigado!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uchas Gracia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ovis.peres@receita.fazenda.gov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ovisbperes@g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orzas y Fraquez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ntador hoy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786120" y="2786040"/>
            <a:ext cx="1254240" cy="2095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6629400" y="1600200"/>
            <a:ext cx="2133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F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P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V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BRAC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C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mTri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57200" y="2209680"/>
            <a:ext cx="2057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ionis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vers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5638680" y="3505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590920" y="35053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514600" y="5715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89548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ASB, FASB, IFRS, 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4419720" y="52578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23623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53341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4038480" y="4952880"/>
            <a:ext cx="990720" cy="838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aixaDeTexto 15"/>
          <p:cNvSpPr/>
          <p:nvPr/>
        </p:nvSpPr>
        <p:spPr>
          <a:xfrm>
            <a:off x="2819520" y="11430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lobalización, Sustentabilidad, 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3929040" y="2071800"/>
            <a:ext cx="99072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eta para cima 18"/>
          <p:cNvSpPr/>
          <p:nvPr/>
        </p:nvSpPr>
        <p:spPr>
          <a:xfrm>
            <a:off x="4357800" y="2357280"/>
            <a:ext cx="214200" cy="357480"/>
          </a:xfrm>
          <a:prstGeom prst="upArrow">
            <a:avLst>
              <a:gd name="adj1" fmla="val 50000"/>
              <a:gd name="adj2" fmla="val 5006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Pequeño contribuable hoy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1254240" cy="2095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629400" y="1600200"/>
            <a:ext cx="251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nc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guridad So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lic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omber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mTributar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57200" y="2209680"/>
            <a:ext cx="2057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ionis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vers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5638680" y="3505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2590920" y="35053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514600" y="5715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23623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3"/>
          <p:cNvSpPr/>
          <p:nvPr/>
        </p:nvSpPr>
        <p:spPr>
          <a:xfrm>
            <a:off x="53341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aixaDeTexto 15"/>
          <p:cNvSpPr/>
          <p:nvPr/>
        </p:nvSpPr>
        <p:spPr>
          <a:xfrm>
            <a:off x="3048120" y="13716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lobalización, Sustentabilidad, 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3962520" y="2209680"/>
            <a:ext cx="990360" cy="838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eta para cima 18"/>
          <p:cNvSpPr/>
          <p:nvPr/>
        </p:nvSpPr>
        <p:spPr>
          <a:xfrm>
            <a:off x="4343400" y="2514600"/>
            <a:ext cx="214200" cy="35712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6324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Fuente: </a:t>
            </a:r>
            <a:r>
              <a:rPr b="0" lang="pt-BR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ooperacaovirtual.blogspot.com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 y </a:t>
            </a:r>
            <a:r>
              <a:rPr b="0" lang="pt-BR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coworking-farialima.com.br/2011/04/coworking-colaboracao-nao-e-apenas-reducao-de-custo/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. Acesso: 30.10.12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819520" y="304920"/>
            <a:ext cx="3962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3000240" y="2382840"/>
            <a:ext cx="314352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3000240" y="2382840"/>
            <a:ext cx="314352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209680" y="3886200"/>
            <a:ext cx="3062520" cy="229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685800" y="1219320"/>
            <a:ext cx="3581280" cy="23828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8"/>
          <p:cNvGrpSpPr/>
          <p:nvPr/>
        </p:nvGrpSpPr>
        <p:grpSpPr>
          <a:xfrm>
            <a:off x="5791320" y="1600200"/>
            <a:ext cx="2743200" cy="2075040"/>
            <a:chOff x="5791320" y="1600200"/>
            <a:chExt cx="2743200" cy="2075040"/>
          </a:xfrm>
        </p:grpSpPr>
        <p:sp>
          <p:nvSpPr>
            <p:cNvPr id="87" name="Text Box 9"/>
            <p:cNvSpPr/>
            <p:nvPr/>
          </p:nvSpPr>
          <p:spPr>
            <a:xfrm>
              <a:off x="5791320" y="3398760"/>
              <a:ext cx="274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Fuente: lucianaduarte.org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Picture 10" descr=""/>
            <p:cNvPicPr/>
            <p:nvPr/>
          </p:nvPicPr>
          <p:blipFill>
            <a:blip r:embed="rId5"/>
            <a:stretch/>
          </p:blipFill>
          <p:spPr>
            <a:xfrm>
              <a:off x="5822640" y="1600200"/>
              <a:ext cx="2641680" cy="174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Nuevos Paradigmas –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Receita Fed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mples Nacional y M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Redes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uevo modelo de atendimento (Apps, e-CAC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stema Público de Escrituração Digital (S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-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rograma Nacional de Educación Fiscal (PN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bservatorios Sociales (control del gasto publ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ucleos de Apoyo Contable y Fiscal (N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" y="5029200"/>
            <a:ext cx="8153280" cy="6094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AF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é és?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Cómo surgió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05920" cy="4098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981080" y="7621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Low Income Taxpayer Clinics  (IR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26:36Z</dcterms:created>
  <dc:creator>Receita Federal</dc:creator>
  <dc:description/>
  <dc:language>en-US</dc:language>
  <cp:lastModifiedBy> </cp:lastModifiedBy>
  <dcterms:modified xsi:type="dcterms:W3CDTF">2013-10-18T08:59:00Z</dcterms:modified>
  <cp:revision>44</cp:revision>
  <dc:subject/>
  <dc:title>Apresentação do PowerPoint</dc:title>
</cp:coreProperties>
</file>