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wmf" ContentType="image/x-wmf"/>
  <Override PartName="/ppt/media/image2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86FF-F16A-46CF-A729-F175C801B40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845F-AEAA-486D-9026-D953CDB531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5996-56EE-483D-8C2B-BCB52577184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02CE-1D94-49C5-BF39-108BFD49D79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FFCE-9C5D-468E-8B28-9465425FA7A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BD46-895F-4CCC-B5EF-0177E90E9D5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DB57-A3A9-41FC-87BC-725DED5862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276D-3ED3-4230-9BAF-41820B988F3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6D54-ECF3-4627-823B-2BC90132DE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460C-0560-4305-8952-37E125A2D2B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34E4-D44C-4E1E-B02B-9A23B8AE6F7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1ED0-8B2F-48C5-B002-DE7F01693A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860B-E46B-4129-BDA8-7DD93CEC73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EE8D-CF3A-4174-8AE8-F3214634C4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5027-B1DE-4293-B93A-F280390F4A9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F7A2-3A57-4782-A53E-2803D37AB9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BB53-81FC-4076-9806-1ECCE724021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0303-F3F7-4E21-95A0-E4E3367B940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563D-4C72-4A31-8E75-AD75E135F90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72B4-1795-4479-9C4A-1A575FBDE16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6C24-DE0A-47F2-BC99-0B5B3F9C063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279C-8B9E-4734-81CE-EBC16FBF9B2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FB4F-EB9F-4AAE-8790-113BD6939D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1069-7D35-40DD-8F1B-3C4BAFD78D2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igura impressionante..dimensões cósmicas de tempo e espaç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BDB8-3CA3-4050-9574-F6341FEA8A0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9786-14D2-42EB-A3FF-F411ABFDC1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32D5-20E4-4477-AEC8-82DEC008C68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0476-FE7F-4831-AA60-8B406EA15E3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2A60-A360-45C7-B4A2-FED93DC166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A029-47D3-4366-B46F-AA434BA9A1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A568-F27C-4D01-9BFA-4479963965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BC00-7C9B-47BF-81EC-83DDDF87868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1D55-0897-4E38-BC62-FE369D2D12B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D4AE-9332-4C91-ACA9-980DAF763D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8288-0B7F-4C55-95D3-C38430C8EA5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ador : agente de transform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A4FE-AA14-4C8B-A891-EE771A00BAB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1398-0BB7-40F5-ADB0-714804775AE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ador : agente de transform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D2C4-2492-44A3-8473-FB3045D8D7E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607E-9E1B-465B-87DD-A28F20937FF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igura impressionante..dimensões cósmicas de tempo e espaç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3285-5C50-42A9-BABF-01E99B598CC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5735-A00B-44EA-A29C-2258DFDBACA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EEF3-7A59-4EA4-A890-01C528C5C41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1E6D-BD18-438A-881D-FFE9418E3DF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g1.globo.com/rs/rio-grande-do-sul/rbs-noticias/videos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g1.globo.com/rs/rio-grande-do-sul/rbs-noticias/videos/t/passo-fundo/v/termina-no-fim-de-abril-o-prazo-para-declaracao-do-imposto-de-renda/2513896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erparacrescer.folhadaregiao.com.br/2011_10_01_archive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operacaovirtual.blogspot.com/" TargetMode="External"/><Relationship Id="rId2" Type="http://schemas.openxmlformats.org/officeDocument/2006/relationships/hyperlink" Target="http://coworking-farialima.com.br/2011/04/coworking-colaboracao-nao-e-apenas-reducao-de-custo/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3"/>
          <p:cNvSpPr/>
          <p:nvPr/>
        </p:nvSpPr>
        <p:spPr>
          <a:xfrm>
            <a:off x="4191120" y="266688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ucleos de Apoyo Contable y Fiscal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(NAF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505320" y="44956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cación Tributária y Ciudadania en la valorización del futuro Contad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73376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4114800" y="2514600"/>
            <a:ext cx="2895480" cy="1209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2209680" y="1219320"/>
            <a:ext cx="1743120" cy="175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6781680" y="1066680"/>
            <a:ext cx="1352520" cy="17528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990720" y="380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ucleos de Práctica Jurídica – en Brasil (SAJ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04920" y="4038480"/>
            <a:ext cx="8686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Formación practica del abogad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ociedad Civil Organiz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ucceso del SAJU – más de 60 años in algunos casos!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ituación hoy: Obrigatoriedad legal; diferentes formas de organizació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7929720" cy="436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Base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lidad EUA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Tax Cli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lidad Brasileña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SA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ario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Sociedad Civil Organ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poyo de instituiciones: RFB, CFC/CRC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209680" y="304920"/>
            <a:ext cx="5867280" cy="1600200"/>
            <a:chOff x="2209680" y="304920"/>
            <a:chExt cx="5867280" cy="1600200"/>
          </a:xfrm>
        </p:grpSpPr>
        <p:grpSp>
          <p:nvGrpSpPr>
            <p:cNvPr id="103" name="Group 4"/>
            <p:cNvGrpSpPr/>
            <p:nvPr/>
          </p:nvGrpSpPr>
          <p:grpSpPr>
            <a:xfrm>
              <a:off x="2209680" y="304920"/>
              <a:ext cx="5867280" cy="1600200"/>
              <a:chOff x="2209680" y="304920"/>
              <a:chExt cx="5867280" cy="1600200"/>
            </a:xfrm>
          </p:grpSpPr>
          <p:sp>
            <p:nvSpPr>
              <p:cNvPr id="104" name="Text Box 5"/>
              <p:cNvSpPr/>
              <p:nvPr/>
            </p:nvSpPr>
            <p:spPr>
              <a:xfrm>
                <a:off x="2285640" y="381240"/>
                <a:ext cx="381024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Talleres de práctica jurídica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6"/>
              <p:cNvSpPr/>
              <p:nvPr/>
            </p:nvSpPr>
            <p:spPr>
              <a:xfrm>
                <a:off x="2209680" y="1295640"/>
                <a:ext cx="4267080" cy="609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7"/>
              <p:cNvSpPr/>
              <p:nvPr/>
            </p:nvSpPr>
            <p:spPr>
              <a:xfrm>
                <a:off x="2209680" y="304920"/>
                <a:ext cx="4267080" cy="609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AutoShape 8"/>
              <p:cNvSpPr/>
              <p:nvPr/>
            </p:nvSpPr>
            <p:spPr>
              <a:xfrm>
                <a:off x="6705360" y="381240"/>
                <a:ext cx="152280" cy="144756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37440 h 1447560"/>
                  <a:gd name="textAreaBottom" fmla="*/ 1410120 h 14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9"/>
              <p:cNvSpPr/>
              <p:nvPr/>
            </p:nvSpPr>
            <p:spPr>
              <a:xfrm>
                <a:off x="7010280" y="914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Times New Roman"/>
                  </a:rPr>
                  <a:t>= NAF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Text Box 10"/>
            <p:cNvSpPr/>
            <p:nvPr/>
          </p:nvSpPr>
          <p:spPr>
            <a:xfrm>
              <a:off x="2362320" y="129564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ow Income Tax Payer Clinic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11"/>
          <p:cNvSpPr/>
          <p:nvPr/>
        </p:nvSpPr>
        <p:spPr>
          <a:xfrm>
            <a:off x="762120" y="380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AJU </a:t>
            </a:r>
            <a:r>
              <a:rPr b="1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762120" y="1371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LITC </a:t>
            </a:r>
            <a:r>
              <a:rPr b="1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9810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AF 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spectos Teó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Cuál és el objetivo de los NAF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oyo a los menos favorecid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poyar las personas com basos ingresos (PF o PJ) o el público interno de las universidades em questiones contables, financeras o tributári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ntro de difusión del conocimiento fiscal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uar como centro de aprendizaje de los alumnos a través de discusiones, preparación de palestras, grupos de estudios, entreinamentos, etc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el referencial  de los NAF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és totalmente similar al modelo de los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lleres de Práctica Jurídica (SAJUs)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ia universitar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raestructura mínima fornecida por la universidad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volvimiento de los alumno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réditos complementares, disciplina opcional/obrigatória, voluntariado, etc..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en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frente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1)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ndimiento/orientación del contribuabl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(2)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 de estudios de alumnos y professore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m lo último, atuación también a través d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lestra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tividades voluntárias, etc. (obs: tópicos libr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cuentros regulare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 la Administración Tributaria (AT) para entrenar y acompañar el desarrojo de los alumnos y apoyar los orientadores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</a:t>
            </a:r>
            <a:r>
              <a:rPr b="1" lang="pt-BR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los NAF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 um posto de atendimento da RFB. (Da mesma forma que os SAJU não substituem os atendimentos prestados por el poder judiciário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 um substituto para os escritórios de contabilidade ou para assessoria prestada pelos contabilistas a várias matérias. (Da mesma forma que os SAJU não substituem os escritórios de advocaci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 um convênio oficial entre a RFB e a IES. (Da mesma forma que o SAJU não é um convênio entre a IES e a OAB, p.ex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La iniciativa existe en otros paise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situaciones similares en algunos paises, pero la experiencia de los NAF és única y inovadora, porque tiene los elementos de ciudadania y de gestión del conocimiento fiscal para los universi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más, el proyecto tiene una flexibilidad que lo permite ser apoyada por más de un órgão de las administraciones tributarias o por cualquier entidad civ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Só as faculdades de contábeis possuem NAFs?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quanto às escolas técnica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restriciones, todavia el proyeto fue idealizado para valorizar el futuro profissional contador o el despachante aduan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son la “Ponte de Oro entre la Receita Federal y el Contribuyent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 12.249 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fin” del “técnico contable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el público-alvo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umno és el favorecido principal. El tiene la oportunidade de vivir una formación diferenciada a través del conocimiento del Fisco, de lo trabajo voluntario, de la aprendizaje en los grupos de estudio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úblico em la comunidad varia. También varia la forma de interación com la comun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 loc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x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es le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tiva pasiv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x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tiva ativ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isitas a uma comunidad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ssa ultima tem se mostrado mais efetiva no inicio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también un publico “cativo” dentro de las universidades: diretorios acadêmicos, servidores com basos ingresos, pex. limpeza, vigilancia etc.).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2285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NAF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spectos Prá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Times New Roman"/>
              </a:rPr>
              <a:t>Pl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38080" y="1828800"/>
            <a:ext cx="761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Contexto e surgimento da idé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F – Aspectos Teóric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F – Aspectos Prátic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Considerações fina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la mejor estrategia para desarollar nuevos nucleos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una única estrategia. Mismo porque los NAF son una iniciativa de la sociedad civil organizada y tiene por su base la autonomia universitar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via, notamos que dos abordajes fueran cruciales para el rápido desarollo de la idéia desde el primer NAF en Porto Alegre, em 04 abr 1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riorizamos el contacto con faculdades menores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as tienen mayor interés em lo diferencial que la proposta puede ofertar a los alumnos. Tienen mayor agilidad em la implementación de projetos y en su modificación. (Ex: Faculdade São Judas Tadeu, que há creado una disciplina opcional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puntamos desde el inicio nuestra posición de apoyadores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ctuamos a través de palestras em las faculdades y em las unidades de la AT; Incentivamos la visitacion de los alumnos a las nossas unidades de la AT (“Conociendo el León por Dentro”); Los “Termos de Cooperación” son sin formalidades (por veces no hay termo escrito al empezar!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Hay algun convenio modelo?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¿Como proceder por el primer contacto com la Universida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uno solo modelo de convenio o de procedimiento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se és la simplicidade de la abordaje y la autonomia universitária, pero hacemos una cerimonia de abertura o aula inaugural, norm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s primeiros contatos são bastante informale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rmalmente com algunas visitas a universidad para cambio de ideas y exposición del proyec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atizamos la importancia para la formación del futuro contad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altamos los varios aspectos positivos para la universidad, la AT, la comunidad y para los alumnos en espe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bramos que la universidad és libre para crear ideas y novidades en el proyecto; ella tiene un papel activo (Ex: proyecto de minipalestras de los alumno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la mejor estrategia para mantener los nucleos activos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i también no hay una única estrateg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sugerencias 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Mantener el contacto.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uchar professores e alum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Mantener uma rotina de palestras e visitas a A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rear una red de coordenaores de cursos e miembros de la AT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Atraer otros participantes: Fisco Estadual, Associación de Contadores, Tallejeres de Contabilidad, Empresas de auditoria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antas personas hay que tenerse para apoyar el projecto? ¿Cuál es el impacto en el trabajo de la Unida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mente la unidade de la AT posee un/a servidor/a que sirve de conexión com la univer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alestras spueden ser produzidas por los colegas de especializados. Los temas abordados incluien: (a) sitio de la AT, (b) Cadastros (c) MEI, (d) Impuesto sobre las Rendas (e) Processo Admin. Tribut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impacto horas-hombre és peque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impacto en el corto prazo?  ¿Cómo medir el resultado de la iniciativa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NAF no és uma iniciativa de corto prazo. No és la solución para problemas de atendimiento, mismo porque la At no le gerencia verticalmente. El és más similar a un proyecto en réd (para la difusion del conocimiento contable/fiscal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mos tener cuidado con el uso precoce d eindicadores. Acompanhar, todavia, los alumnos, profesores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lvidarse!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mos en um proceso historico, construiendo  una revolución em la enseñanza contable e fisca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uedo divulgar o serviço nos CAC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impedimento, en principio. Todavia no lo hemos hecho para dar a los NAF más tiempo para organizarense mej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04920" y="373392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Hay problemas com las Associaciónes de Contadores? </a:t>
            </a:r>
            <a:br>
              <a:rPr sz="44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porque la division és clara: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ación o atendimiento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untos simple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estudios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untos más complejo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1447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3962520" y="4572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371600" y="7621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isita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2209680" y="914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52280" y="5562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inipalestra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 flipV="1">
            <a:off x="83808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905120" y="5867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rupos de estudio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FA2F-7F66-4CAA-9F11-71F26A59E3D2}" type="slidenum"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Dedicaci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362320" cy="1962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886200" cy="2395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3048120" y="3581280"/>
            <a:ext cx="3004920" cy="2962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198A-717A-4EC0-B45D-CB1092FB1459}" type="slidenum"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42223" t="32223" r="9445" b="31560"/>
          <a:stretch/>
        </p:blipFill>
        <p:spPr>
          <a:xfrm>
            <a:off x="533520" y="533520"/>
            <a:ext cx="5715000" cy="2676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286000" y="3429000"/>
            <a:ext cx="5410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 Narrow"/>
              </a:rPr>
              <a:t>Fonte: Jornal do Comércio 2/mai/1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895480" y="4800600"/>
            <a:ext cx="5562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rmina no fim de abril o prazo para declaração do imposto de renda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RBS Notíci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4952880"/>
            <a:ext cx="868320" cy="5828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3124080" y="5867280"/>
            <a:ext cx="54104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ccccff"/>
                </a:solidFill>
                <a:uFillTx/>
                <a:latin typeface="Arial Narrow"/>
                <a:hlinkClick r:id="rId4"/>
              </a:rPr>
              <a:t>Vídeo: Globo – G1  11 abril 20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E2B6-01FE-4519-BE40-7AEA93249D6B}" type="slidenum"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480" y="182160"/>
            <a:ext cx="87202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Facebook: Núcleos de Apoio Contábil e Fis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800600" cy="4240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609480" y="6324480"/>
            <a:ext cx="769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uente: 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lerparacrescer.folhadaregiao.com.br/2011_10_01_archive.html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. Acceso en el 30.10.12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371600" y="304920"/>
            <a:ext cx="6705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Inovación - Complexida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409760" y="628560"/>
            <a:ext cx="6324480" cy="5743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2209680" y="41911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pin-offs (ideas generadas.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nipal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endimiento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yuda al FUNCRI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ricia em jui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laboración com las “EmpresasJr.” e los “SAJU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xilio a ar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cipación en otros proytos de la AT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“Conheça nossa aduana”, “Cidadania em cartaz”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principales problemas hasta ho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desafios están asociados a la novidad de la iniciat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universidades tienen realidades distinctas, públicos distinc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í a necessidade de não apresentar uma fórmula pron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ocracia nas universidades (may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ario para las palestras aos alunos – à la noche, p.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idad del contacto Univ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l de comunicación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stión del Conocomoento em red!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206B-6918-48D7-90F4-133755299EB9}" type="slidenum"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Algunos números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26 NAF op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edicación de los alumnos y profes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lan de trabajo con el EUROSO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ais de 300 pessoas envol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tros apoyadores (CFC, SEFAZ, etc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mplo espacio en las midias y reds so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CCs – Cecília Bauer, 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uego: III ENAF RS (Encuentro de los NAF de 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remios: AMBEV – NAF Caduceu Jr – Santa 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7B59-A44E-4776-A4CF-1D6F996D8D38}" type="slidenum"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NAF – 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tros estados ... Otros paise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ENAF Nacional ... Intern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Intensificación de los treina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mpliación de la creación academica com el AT: más TCCs, más palestr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69608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lguns homens vêem as coisas como são e perguntam: “Por quê?”. </a:t>
            </a:r>
            <a:br>
              <a:rPr sz="3200"/>
            </a:b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Eu sonho com as coisas que 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nunca existiram e pergunto: 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“Por que nã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295280" y="5486040"/>
            <a:ext cx="6096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eorge Bernard Sh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7086600" y="4572000"/>
            <a:ext cx="1514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17228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amiñante, no hay camiño.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amiño se hace al camiñ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5640" y="4642920"/>
            <a:ext cx="6095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Antonio Mach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brigado!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uchas Gracia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ovis.peres@receita.fazenda.gov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ovisbperes@gmai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orzas y Fraquez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Contador hoy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786120" y="2786040"/>
            <a:ext cx="1254240" cy="2095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6629400" y="1600200"/>
            <a:ext cx="2133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F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P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V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BRAC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C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dmTri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57200" y="2209680"/>
            <a:ext cx="2057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cionis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versi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5638680" y="3505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2590920" y="35053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514600" y="5715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289548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ASB, FASB, IFRS, 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4419720" y="52578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23623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53341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4038480" y="4952880"/>
            <a:ext cx="990720" cy="8384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aixaDeTexto 15"/>
          <p:cNvSpPr/>
          <p:nvPr/>
        </p:nvSpPr>
        <p:spPr>
          <a:xfrm>
            <a:off x="2819520" y="11430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lobalización, Sustentabilidad, 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3929040" y="2071800"/>
            <a:ext cx="99072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eta para cima 18"/>
          <p:cNvSpPr/>
          <p:nvPr/>
        </p:nvSpPr>
        <p:spPr>
          <a:xfrm>
            <a:off x="4357800" y="2357280"/>
            <a:ext cx="214200" cy="357480"/>
          </a:xfrm>
          <a:prstGeom prst="upArrow">
            <a:avLst>
              <a:gd name="adj1" fmla="val 50000"/>
              <a:gd name="adj2" fmla="val 5006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Pequeño contribuable hoy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809880" y="3200400"/>
            <a:ext cx="1254240" cy="2095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629400" y="1600200"/>
            <a:ext cx="2514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nc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guridad So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lic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omber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dmTributar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57200" y="2209680"/>
            <a:ext cx="2057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cionis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versi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5638680" y="3505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2590920" y="35053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514600" y="5715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23623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3"/>
          <p:cNvSpPr/>
          <p:nvPr/>
        </p:nvSpPr>
        <p:spPr>
          <a:xfrm>
            <a:off x="53341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aixaDeTexto 15"/>
          <p:cNvSpPr/>
          <p:nvPr/>
        </p:nvSpPr>
        <p:spPr>
          <a:xfrm>
            <a:off x="3048120" y="13716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lobalización, Sustentabilidad, 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3962520" y="2209680"/>
            <a:ext cx="990360" cy="8384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eta para cima 18"/>
          <p:cNvSpPr/>
          <p:nvPr/>
        </p:nvSpPr>
        <p:spPr>
          <a:xfrm>
            <a:off x="4343400" y="2514600"/>
            <a:ext cx="214200" cy="357120"/>
          </a:xfrm>
          <a:prstGeom prst="upArrow">
            <a:avLst>
              <a:gd name="adj1" fmla="val 50000"/>
              <a:gd name="adj2" fmla="val 5001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6324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Fuente: </a:t>
            </a:r>
            <a:r>
              <a:rPr b="0" lang="pt-BR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ooperacaovirtual.blogspot.com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 y </a:t>
            </a:r>
            <a:r>
              <a:rPr b="0" lang="pt-BR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coworking-farialima.com.br/2011/04/coworking-colaboracao-nao-e-apenas-reducao-de-custo/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. Acesso: 30.10.12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819520" y="304920"/>
            <a:ext cx="3962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3000240" y="2382840"/>
            <a:ext cx="314352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3000240" y="2382840"/>
            <a:ext cx="314352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209680" y="3886200"/>
            <a:ext cx="3062520" cy="229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685800" y="1219320"/>
            <a:ext cx="3581280" cy="23828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8"/>
          <p:cNvGrpSpPr/>
          <p:nvPr/>
        </p:nvGrpSpPr>
        <p:grpSpPr>
          <a:xfrm>
            <a:off x="5791320" y="1600200"/>
            <a:ext cx="2743200" cy="2075040"/>
            <a:chOff x="5791320" y="1600200"/>
            <a:chExt cx="2743200" cy="2075040"/>
          </a:xfrm>
        </p:grpSpPr>
        <p:sp>
          <p:nvSpPr>
            <p:cNvPr id="87" name="Text Box 9"/>
            <p:cNvSpPr/>
            <p:nvPr/>
          </p:nvSpPr>
          <p:spPr>
            <a:xfrm>
              <a:off x="5791320" y="3398760"/>
              <a:ext cx="274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Fuente: lucianaduarte.org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Picture 10" descr=""/>
            <p:cNvPicPr/>
            <p:nvPr/>
          </p:nvPicPr>
          <p:blipFill>
            <a:blip r:embed="rId5"/>
            <a:stretch/>
          </p:blipFill>
          <p:spPr>
            <a:xfrm>
              <a:off x="5822640" y="1600200"/>
              <a:ext cx="2641680" cy="174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Nuevos Paradigmas –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Receita Fed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imples Nacional y M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Redes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uevo modelo de atendimento (Apps, e-CAC,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istema Público de Escrituração Digital (S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-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rograma Nacional de Educación Fiscal (PN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bservatorios Sociales (control del gasto publ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ucleos de Apoyo Contable y Fiscal (N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" y="5029200"/>
            <a:ext cx="8153280" cy="6094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AF 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Qué és?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Cómo surgió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05920" cy="4098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981080" y="7621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Low Income Taxpayer Clinics  (IR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26:36Z</dcterms:created>
  <dc:creator>Receita Federal</dc:creator>
  <dc:description/>
  <dc:language>en-US</dc:language>
  <cp:lastModifiedBy> </cp:lastModifiedBy>
  <dcterms:modified xsi:type="dcterms:W3CDTF">2013-10-18T08:59:00Z</dcterms:modified>
  <cp:revision>44</cp:revision>
  <dc:subject/>
  <dc:title>Apresentação do PowerPoint</dc:title>
</cp:coreProperties>
</file>