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.jpeg" ContentType="image/jpeg"/>
  <Override PartName="/ppt/media/image35.png" ContentType="image/png"/>
  <Override PartName="/ppt/media/image8.png" ContentType="image/png"/>
  <Override PartName="/ppt/media/image13.png" ContentType="image/png"/>
  <Override PartName="/ppt/media/image27.jpeg" ContentType="image/jpeg"/>
  <Override PartName="/ppt/media/image10.png" ContentType="image/png"/>
  <Override PartName="/ppt/media/image4.png" ContentType="image/png"/>
  <Override PartName="/ppt/media/image34.png" ContentType="image/png"/>
  <Override PartName="/ppt/media/image30.jpeg" ContentType="image/jpeg"/>
  <Override PartName="/ppt/media/image15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93FF-8FD1-4182-8713-0F98E39A80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F55A-987F-4E8C-A000-972A1A270D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334-04C6-48DB-A2D2-6955F8BD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FD1-8C4B-4DEA-A5E6-C74B118D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4E1-E013-494D-9D34-A6696CF3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8D7-0CB2-496D-95AB-0709546C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443A-040C-432D-A1D8-2302BC08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6FFE-BC94-4FC7-AA1E-B7E2C511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FC47-7813-4370-BACD-5BA3140E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6D80-9F8A-4275-95F4-C89C3C50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D4B7-88C2-41E3-AFF4-26350C13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B2F9-6E72-41AA-8262-ABECC3D2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C296-490A-4CE8-BFCE-901D53D6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6D5-E5BD-4D6F-B2A5-CF38A980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282B-74F5-497F-8736-D7226645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1D9E-1D06-41EA-AAF1-8D2FDE6F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D2D3-1AF0-4C0A-ADD7-1B534CAC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462E-4EF6-4EED-873E-FCC76031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7B45-E18A-4E86-AC78-05D5B9D6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876BF-FAA0-490A-8B06-B46B6A78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38B1E-9217-472E-87A4-17EDE177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999EE-FCBE-4514-BC58-D25A0997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3156A-FAC3-4232-98BD-2356EB1C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AD3D3-7D18-4019-AC2B-356C1215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0FD-6AE5-4665-9B43-561EC910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EB8D7-88B7-4677-B82C-C54A6828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5FB9-537C-4C48-BAA8-6C61E56A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C7E9A-8889-4191-90D5-1F3DAFA2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D5D29-CA7B-4C6F-BACD-5F43149D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F2BE1-5488-4E31-A5D5-114029B5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15ABB-647E-4024-83A0-FCCB7522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95C5C-2612-46D9-96FD-56A6C62C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D8DE4-CFDB-435D-9A5A-35E43FF9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306F2-59E8-426C-8E05-578C09B4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D12BF-3B4A-46C0-907E-A01C704E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C34-234F-4800-9B33-2AB96E52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8EC76-9F70-4467-B495-4E827730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5AC58-E179-4D0F-A5EC-4F16F4C3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C4F59-20A8-4F5B-A481-132C9F44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60DEB-C69F-4441-BB07-34994CF8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204E1-753E-4547-86EF-0F27D2E6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53C5A-0BEB-4B1A-96CF-8306D572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4F620-AE97-43EF-9305-5DC35C78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93A2D-1B79-4C14-813D-EC632101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8BE87-BA78-4CD7-90BF-E95A46E5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13C4F-9D65-4821-9A33-988B402A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6EC7-B691-4150-9256-1033B4B2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D6805-2D73-4D59-A0E5-B937A02E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15486-58EF-4922-A151-9B4626C3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E3215-70CE-4B84-946C-929501B8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C0E60-D065-4850-AC78-0796F20E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071B9-EE9C-4FA0-9F3C-6BC88730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8324F-903E-4E6A-9DB6-5664D4C2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D8C51-4989-49BE-87B1-AEEACB3C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CC8EC-246A-4F9C-8BD1-6C4759C1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5C301-E345-4005-B63D-080268F9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B4408-E35E-4581-865A-EF26C0D3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F61-04C3-4570-A435-21D134BF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E0E08-69B5-42CD-9D7F-D83CD2C5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7D87D-F695-451A-8EA1-5BA04049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C2A02-8A02-474C-AF73-B22C8528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A1013-93C3-4228-B25D-8B10C6CE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D66F0-95CA-4E6D-AEF4-85599778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CB648-68B6-42E6-85C0-1743C42D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5702D-7EAC-439A-A3D0-11A81915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8152C-2FBF-45DA-9D7F-A54CC076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A2199-271C-4A03-9595-DDBAB424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7603C-A1D3-468B-9AF1-E16A6F09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9E96-91D2-4A6E-ACAF-2E57556A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AD87D-2412-4CDD-AEBF-660A6C08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86FFB-F38E-4091-AF81-5FEA5896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C3343-2D98-46E3-A1E0-876B7472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66E3F-A84B-4A62-B6B3-40C754AD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5DEEE-76C3-486B-997F-0B2815F2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41163-962C-4949-AF33-729CD8E5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E48B6-AE73-4B19-9B32-B20EDFA7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B1590-C5E7-48D0-81EE-BDBD560D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91CB9-4165-4DD9-BABB-56D66063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C3F4D-A406-4C66-BA45-8327ED6F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234-06D7-4CE4-93A6-AB1C3FE0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FEF74-4614-4222-8916-130ED07E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A8FC2-D41D-4ABF-A929-C124A402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90CBF-6CEF-4114-A625-9362AA88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9CEF5-9844-49CE-AA75-22CEE71C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65095-2031-4DDF-A9D1-72F54F9D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EDA02-28F8-42B0-9127-632C7A9C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2ABA0-5B18-422A-A991-F532D5A7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FBBFA-5EDD-44B3-A238-18730E89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5050E-5C6E-4463-953D-E525F0A3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56E79-9BF5-4BE0-B8B1-4744AF79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508-17C1-4212-802E-3F6C1D20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719DC-7DE1-46A5-A227-18D63AD9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CEAA7-64CF-4681-8B25-805CD311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D06A2-0B03-4CEB-9748-95F56B2C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6EBD4-4A75-491C-A642-94026967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4AE2C-047F-4EAD-B8E4-C4A11A59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D0CBE-10E0-4198-A965-0F5E1DB0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2BE82-3B17-4259-A0AF-1CC0896C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36DC-65FA-4F28-AFC0-68E8CB0468BF}" type="slidenum">
              <a:rPr b="0" lang="es-C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9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6 Forma libre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7 Forma libre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0 Forma libre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10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11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8CCF-39EA-41CA-800F-97DBE45CE018}" type="slidenum">
              <a:rPr b="0" lang="es-C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6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7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A1AF-07E9-4AD8-AD60-BDB12A2F3AA9}" type="slidenum">
              <a:rPr b="0" lang="es-C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4A4B-DADF-4BBB-A459-B65D68064650}" type="slidenum">
              <a:rPr b="0" lang="es-C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3492-3A3D-4197-BA90-42D66731D605}" type="slidenum">
              <a:rPr b="0" lang="es-C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4661-C64C-4CD1-A5FD-BB50397A6834}" type="slidenum">
              <a:rPr b="0" lang="es-C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B9C2-8ACC-4BC2-82D4-E51A2A69F9A0}" type="slidenum">
              <a:rPr b="0" lang="es-C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7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8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9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9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0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11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12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ED91-5862-40C4-8006-8749A794DA02}" type="slidenum">
              <a:rPr b="0" lang="es-C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image" Target="../media/image11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499760" y="2214720"/>
            <a:ext cx="6529320" cy="256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464646"/>
                </a:solidFill>
                <a:latin typeface="Lucida Sans Unicode"/>
              </a:rPr>
              <a:t>Núcleos de Asistencia Fisc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3 Imagen" descr="logo-ef-crok-azul-3.gif"/>
          <p:cNvPicPr/>
          <p:nvPr/>
        </p:nvPicPr>
        <p:blipFill>
          <a:blip r:embed="rId1"/>
          <a:stretch/>
        </p:blipFill>
        <p:spPr>
          <a:xfrm>
            <a:off x="7286760" y="357120"/>
            <a:ext cx="1276200" cy="1093680"/>
          </a:xfrm>
          <a:prstGeom prst="rect">
            <a:avLst/>
          </a:prstGeom>
          <a:ln w="0">
            <a:noFill/>
          </a:ln>
        </p:spPr>
      </p:pic>
      <p:pic>
        <p:nvPicPr>
          <p:cNvPr id="379" name="7 Imagen" descr="Logo MEP.png"/>
          <p:cNvPicPr/>
          <p:nvPr/>
        </p:nvPicPr>
        <p:blipFill>
          <a:blip r:embed="rId2"/>
          <a:stretch/>
        </p:blipFill>
        <p:spPr>
          <a:xfrm>
            <a:off x="3059280" y="6000840"/>
            <a:ext cx="792000" cy="668160"/>
          </a:xfrm>
          <a:prstGeom prst="rect">
            <a:avLst/>
          </a:prstGeom>
          <a:ln w="0">
            <a:noFill/>
          </a:ln>
        </p:spPr>
      </p:pic>
      <p:sp>
        <p:nvSpPr>
          <p:cNvPr id="380" name="9 CuadroTexto"/>
          <p:cNvSpPr/>
          <p:nvPr/>
        </p:nvSpPr>
        <p:spPr>
          <a:xfrm>
            <a:off x="4786200" y="607212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Lucida Sans Unicode"/>
              </a:rPr>
              <a:t>Antigua-Guatem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10 Grupo"/>
          <p:cNvGrpSpPr/>
          <p:nvPr/>
        </p:nvGrpSpPr>
        <p:grpSpPr>
          <a:xfrm>
            <a:off x="250920" y="5929200"/>
            <a:ext cx="2665440" cy="747720"/>
            <a:chOff x="250920" y="5929200"/>
            <a:chExt cx="2665440" cy="747720"/>
          </a:xfrm>
        </p:grpSpPr>
        <p:pic>
          <p:nvPicPr>
            <p:cNvPr id="382" name="0 Imagen" descr="Logo EUROsociAL jpg.JPG"/>
            <p:cNvPicPr/>
            <p:nvPr/>
          </p:nvPicPr>
          <p:blipFill>
            <a:blip r:embed="rId3"/>
            <a:stretch/>
          </p:blipFill>
          <p:spPr>
            <a:xfrm>
              <a:off x="250920" y="5929200"/>
              <a:ext cx="84168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1 Imagen" descr="Logo Sector Fiscalidad.bmp"/>
            <p:cNvPicPr/>
            <p:nvPr/>
          </p:nvPicPr>
          <p:blipFill>
            <a:blip r:embed="rId4"/>
            <a:stretch/>
          </p:blipFill>
          <p:spPr>
            <a:xfrm>
              <a:off x="1173600" y="5929200"/>
              <a:ext cx="1742760" cy="74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4" name="10 Imagen" descr="logo final Ministerio de HAcienda-01"/>
          <p:cNvPicPr/>
          <p:nvPr/>
        </p:nvPicPr>
        <p:blipFill>
          <a:blip r:embed="rId5"/>
          <a:stretch/>
        </p:blipFill>
        <p:spPr>
          <a:xfrm>
            <a:off x="539640" y="404640"/>
            <a:ext cx="210528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28760" y="1142640"/>
            <a:ext cx="82152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4646"/>
                </a:solidFill>
                <a:latin typeface="Garamond"/>
              </a:rPr>
              <a:t>Adicionalmente se cuenta con los CE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4646"/>
                </a:solidFill>
                <a:latin typeface="Garamond"/>
              </a:rPr>
              <a:t>Atención de consultas telefónicas. </a:t>
            </a:r>
            <a:r>
              <a:rPr b="0" lang="es-ES" sz="1600" spc="-1" strike="noStrike">
                <a:solidFill>
                  <a:srgbClr val="464646"/>
                </a:solidFill>
                <a:latin typeface="Garamond"/>
              </a:rPr>
              <a:t>http://196.40.56.21:8080/KB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4646"/>
                </a:solidFill>
                <a:latin typeface="Garamond"/>
              </a:rPr>
              <a:t>Atención de consultas escrita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4646"/>
                </a:solidFill>
                <a:latin typeface="Garamond"/>
              </a:rPr>
              <a:t>Tutoriales. </a:t>
            </a:r>
            <a:r>
              <a:rPr b="0" lang="es-ES" sz="1600" spc="-1" strike="noStrike">
                <a:solidFill>
                  <a:srgbClr val="464646"/>
                </a:solidFill>
                <a:latin typeface="Garamond"/>
              </a:rPr>
              <a:t>http://www.youtube.com/watch?v=9ggxIPWmpSk&amp;feature=youtu.b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4646"/>
                </a:solidFill>
                <a:latin typeface="Garamond"/>
              </a:rPr>
              <a:t>Guías </a:t>
            </a:r>
            <a:r>
              <a:rPr b="0" lang="es-ES" sz="1600" spc="-1" strike="noStrike">
                <a:solidFill>
                  <a:srgbClr val="464646"/>
                </a:solidFill>
                <a:latin typeface="Garamond"/>
              </a:rPr>
              <a:t>paso a paso. </a:t>
            </a:r>
            <a:r>
              <a:rPr b="0" lang="es-ES" sz="1600" spc="-1" strike="noStrike">
                <a:solidFill>
                  <a:srgbClr val="2b4a76"/>
                </a:solidFill>
                <a:latin typeface="Garamond"/>
              </a:rPr>
              <a:t>http://www.youtube.com/watch?v=_VVO04W2r54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93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2 Título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2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34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sp>
        <p:nvSpPr>
          <p:cNvPr id="43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http://www.divorciosporinternet.com/images/stories/consultas-telefonicas.jpg"/>
          <p:cNvPicPr/>
          <p:nvPr/>
        </p:nvPicPr>
        <p:blipFill>
          <a:blip r:embed="rId4"/>
          <a:stretch/>
        </p:blipFill>
        <p:spPr>
          <a:xfrm>
            <a:off x="6715080" y="1571760"/>
            <a:ext cx="16812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Página Web de la DG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Portal de Tributación Direct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Portal de Tributación Digit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Portal de TRIBUNE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55600" algn="just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2 Título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"/>
          <p:cNvPicPr/>
          <p:nvPr/>
        </p:nvPicPr>
        <p:blipFill>
          <a:blip r:embed="rId2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40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"/>
          <p:cNvPicPr/>
          <p:nvPr/>
        </p:nvPicPr>
        <p:blipFill>
          <a:blip r:embed="rId4"/>
          <a:stretch/>
        </p:blipFill>
        <p:spPr>
          <a:xfrm>
            <a:off x="5000760" y="1928880"/>
            <a:ext cx="3647880" cy="20718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5"/>
          <a:stretch/>
        </p:blipFill>
        <p:spPr>
          <a:xfrm>
            <a:off x="5143680" y="4714920"/>
            <a:ext cx="175716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6"/>
          <a:srcRect l="10528" t="5339" r="10528" b="9626"/>
          <a:stretch/>
        </p:blipFill>
        <p:spPr>
          <a:xfrm>
            <a:off x="7215120" y="4357800"/>
            <a:ext cx="1214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481040"/>
            <a:ext cx="82296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Dirección de Grandes Contribuyent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Direcciones Regional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Resto de Contribuyent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55600" algn="just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2 Título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"/>
          <p:cNvPicPr/>
          <p:nvPr/>
        </p:nvPicPr>
        <p:blipFill>
          <a:blip r:embed="rId2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47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"/>
          <p:cNvPicPr/>
          <p:nvPr/>
        </p:nvPicPr>
        <p:blipFill>
          <a:blip r:embed="rId4"/>
          <a:stretch/>
        </p:blipFill>
        <p:spPr>
          <a:xfrm>
            <a:off x="4357800" y="3571920"/>
            <a:ext cx="4203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Rotación continua del personal de asistenci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Funcionarios hostil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Personal se limita únicamente a realizar el trámit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Falta de uniformidad en las respuestas a las consulta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Mala atención telefónic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32560" algn="just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2 Título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"/>
          <p:cNvPicPr/>
          <p:nvPr/>
        </p:nvPicPr>
        <p:blipFill>
          <a:blip r:embed="rId2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52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386" name="1 Título" descr=""/>
          <p:cNvPicPr/>
          <p:nvPr/>
        </p:nvPicPr>
        <p:blipFill>
          <a:blip r:embed="rId2"/>
          <a:stretch/>
        </p:blipFill>
        <p:spPr>
          <a:xfrm>
            <a:off x="426960" y="401760"/>
            <a:ext cx="8229600" cy="98892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28"/>
          <p:cNvSpPr/>
          <p:nvPr/>
        </p:nvSpPr>
        <p:spPr>
          <a:xfrm>
            <a:off x="285840" y="642924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4"/>
          <a:stretch/>
        </p:blipFill>
        <p:spPr>
          <a:xfrm>
            <a:off x="2000160" y="1643040"/>
            <a:ext cx="548496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391" name="1 Título" descr=""/>
          <p:cNvPicPr/>
          <p:nvPr/>
        </p:nvPicPr>
        <p:blipFill>
          <a:blip r:embed="rId2"/>
          <a:stretch/>
        </p:blipFill>
        <p:spPr>
          <a:xfrm>
            <a:off x="426960" y="401760"/>
            <a:ext cx="8229600" cy="98892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28"/>
          <p:cNvSpPr/>
          <p:nvPr/>
        </p:nvSpPr>
        <p:spPr>
          <a:xfrm>
            <a:off x="285840" y="642924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394" name="1 Título" descr=""/>
          <p:cNvPicPr/>
          <p:nvPr/>
        </p:nvPicPr>
        <p:blipFill>
          <a:blip r:embed="rId4"/>
          <a:stretch/>
        </p:blipFill>
        <p:spPr>
          <a:xfrm>
            <a:off x="500040" y="1285920"/>
            <a:ext cx="8229600" cy="981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5"/>
          <a:stretch/>
        </p:blipFill>
        <p:spPr>
          <a:xfrm>
            <a:off x="2143080" y="2571840"/>
            <a:ext cx="50007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397" name="1 Título" descr=""/>
          <p:cNvPicPr/>
          <p:nvPr/>
        </p:nvPicPr>
        <p:blipFill>
          <a:blip r:embed="rId2"/>
          <a:stretch/>
        </p:blipFill>
        <p:spPr>
          <a:xfrm>
            <a:off x="426960" y="401760"/>
            <a:ext cx="8229600" cy="9889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8"/>
          <p:cNvSpPr/>
          <p:nvPr/>
        </p:nvSpPr>
        <p:spPr>
          <a:xfrm>
            <a:off x="285840" y="642924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4"/>
          <a:stretch/>
        </p:blipFill>
        <p:spPr>
          <a:xfrm>
            <a:off x="1176480" y="1290600"/>
            <a:ext cx="67910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02" name="1 Título" descr=""/>
          <p:cNvPicPr/>
          <p:nvPr/>
        </p:nvPicPr>
        <p:blipFill>
          <a:blip r:embed="rId2"/>
          <a:stretch/>
        </p:blipFill>
        <p:spPr>
          <a:xfrm>
            <a:off x="426960" y="401760"/>
            <a:ext cx="8229600" cy="98892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28"/>
          <p:cNvSpPr/>
          <p:nvPr/>
        </p:nvSpPr>
        <p:spPr>
          <a:xfrm>
            <a:off x="285840" y="642924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"/>
          <p:cNvPicPr/>
          <p:nvPr/>
        </p:nvPicPr>
        <p:blipFill>
          <a:blip r:embed="rId4"/>
          <a:stretch/>
        </p:blipFill>
        <p:spPr>
          <a:xfrm>
            <a:off x="1357200" y="1214280"/>
            <a:ext cx="658656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07" name="1 Título" descr=""/>
          <p:cNvPicPr/>
          <p:nvPr/>
        </p:nvPicPr>
        <p:blipFill>
          <a:blip r:embed="rId2"/>
          <a:stretch/>
        </p:blipFill>
        <p:spPr>
          <a:xfrm>
            <a:off x="426960" y="480960"/>
            <a:ext cx="8229600" cy="1408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642600" y="2060640"/>
            <a:ext cx="7929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14160" indent="-226080" algn="just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464646"/>
                </a:solidFill>
                <a:latin typeface="Garamond"/>
              </a:rPr>
              <a:t>Dirección funcion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100" spc="-1" strike="noStrike">
                <a:solidFill>
                  <a:srgbClr val="464646"/>
                </a:solidFill>
                <a:latin typeface="Garamond"/>
              </a:rPr>
              <a:t>Lineamiento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100" spc="-1" strike="noStrike">
                <a:solidFill>
                  <a:srgbClr val="464646"/>
                </a:solidFill>
                <a:latin typeface="Garamond"/>
              </a:rPr>
              <a:t>Directrices           A nivel naciona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100" spc="-1" strike="noStrike">
                <a:solidFill>
                  <a:srgbClr val="464646"/>
                </a:solidFill>
                <a:latin typeface="Garamond"/>
              </a:rPr>
              <a:t>Instruccione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 algn="just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464646"/>
                </a:solidFill>
                <a:latin typeface="Garamond"/>
              </a:rPr>
              <a:t>Direcciones operativa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31480" indent="-226080" algn="just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464646"/>
                </a:solidFill>
                <a:latin typeface="Garamond"/>
              </a:rPr>
              <a:t>Administraciones tributarias            atención de contribuyen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Text Box 28"/>
          <p:cNvSpPr/>
          <p:nvPr/>
        </p:nvSpPr>
        <p:spPr>
          <a:xfrm>
            <a:off x="285840" y="642924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sp>
        <p:nvSpPr>
          <p:cNvPr id="411" name="8 Cerrar llave"/>
          <p:cNvSpPr/>
          <p:nvPr/>
        </p:nvSpPr>
        <p:spPr>
          <a:xfrm>
            <a:off x="3132000" y="2708280"/>
            <a:ext cx="144720" cy="865080"/>
          </a:xfrm>
          <a:custGeom>
            <a:avLst/>
            <a:gdLst>
              <a:gd name="textAreaLeft" fmla="*/ 0 w 144720"/>
              <a:gd name="textAreaRight" fmla="*/ 52200 w 144720"/>
              <a:gd name="textAreaTop" fmla="*/ 3600 h 865080"/>
              <a:gd name="textAreaBottom" fmla="*/ 86148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1"/>
                  <a:pt x="10800" y="301"/>
                </a:cubicBezTo>
                <a:lnTo>
                  <a:pt x="10800" y="10499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1"/>
                  <a:pt x="10800" y="11101"/>
                </a:cubicBezTo>
                <a:lnTo>
                  <a:pt x="10800" y="21299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gradFill rotWithShape="0">
            <a:gsLst>
              <a:gs pos="0">
                <a:srgbClr val="da1f28"/>
              </a:gs>
              <a:gs pos="100000">
                <a:srgbClr val="dfeff6"/>
              </a:gs>
            </a:gsLst>
            <a:lin ang="16200000"/>
          </a:gradFill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9 Flecha derecha"/>
          <p:cNvSpPr/>
          <p:nvPr/>
        </p:nvSpPr>
        <p:spPr>
          <a:xfrm>
            <a:off x="4859280" y="4724280"/>
            <a:ext cx="433440" cy="46080"/>
          </a:xfrm>
          <a:prstGeom prst="rightArrow">
            <a:avLst>
              <a:gd name="adj1" fmla="val 50000"/>
              <a:gd name="adj2" fmla="val 49949"/>
            </a:avLst>
          </a:prstGeom>
          <a:gradFill rotWithShape="0">
            <a:gsLst>
              <a:gs pos="0">
                <a:srgbClr val="da1f28"/>
              </a:gs>
              <a:gs pos="100000">
                <a:srgbClr val="dfeff6"/>
              </a:gs>
            </a:gsLst>
            <a:lin ang="16200000"/>
          </a:gra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14" name="1 Título" descr=""/>
          <p:cNvPicPr/>
          <p:nvPr/>
        </p:nvPicPr>
        <p:blipFill>
          <a:blip r:embed="rId2"/>
          <a:stretch/>
        </p:blipFill>
        <p:spPr>
          <a:xfrm>
            <a:off x="426960" y="549360"/>
            <a:ext cx="8229600" cy="13651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642600" y="1785960"/>
            <a:ext cx="7929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Educación fisc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Información y asistencia al contribuy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- Envió de comunicados a colegios y cámar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- Realización de charlas y taller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- Pantallas interactiv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700" spc="-1" strike="noStrike">
                <a:solidFill>
                  <a:srgbClr val="000000"/>
                </a:solidFill>
                <a:latin typeface="Garamond"/>
              </a:rPr>
              <a:t>Administración de cana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spcBef>
                <a:spcPts val="601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35520" indent="-235080" algn="just">
              <a:spcBef>
                <a:spcPts val="601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Text Box 28"/>
          <p:cNvSpPr/>
          <p:nvPr/>
        </p:nvSpPr>
        <p:spPr>
          <a:xfrm>
            <a:off x="285840" y="642924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3" descr=""/>
          <p:cNvPicPr/>
          <p:nvPr/>
        </p:nvPicPr>
        <p:blipFill>
          <a:blip r:embed="rId1"/>
          <a:srcRect l="34621" t="56100" r="45606" b="14432"/>
          <a:stretch/>
        </p:blipFill>
        <p:spPr>
          <a:xfrm>
            <a:off x="8101080" y="5661000"/>
            <a:ext cx="780840" cy="855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610920" y="2021040"/>
            <a:ext cx="4824360" cy="4000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64646"/>
                </a:solidFill>
                <a:latin typeface="Garamond"/>
              </a:rPr>
              <a:t>Ventanilla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Tramites del Ru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Recepción de solicitudes de petició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Atención de consult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Entrega de estados de cuent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Entrega de programas de ayu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Entrega de material divulgativ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46"/>
                </a:solidFill>
                <a:latin typeface="Garamond"/>
              </a:rPr>
              <a:t>Constancias y certificacion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097280" indent="-219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1 Título" descr=""/>
          <p:cNvPicPr/>
          <p:nvPr/>
        </p:nvPicPr>
        <p:blipFill>
          <a:blip r:embed="rId2"/>
          <a:stretch/>
        </p:blipFill>
        <p:spPr>
          <a:xfrm>
            <a:off x="426960" y="480960"/>
            <a:ext cx="8229600" cy="14083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28"/>
          <p:cNvSpPr/>
          <p:nvPr/>
        </p:nvSpPr>
        <p:spPr>
          <a:xfrm>
            <a:off x="214200" y="6429240"/>
            <a:ext cx="235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900" spc="-1" strike="noStrike">
                <a:solidFill>
                  <a:srgbClr val="000000"/>
                </a:solidFill>
                <a:latin typeface="Comic Sans MS"/>
              </a:rPr>
              <a:t>Construyendo el futuro de mi paí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7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800840" y="189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C:\Users\Ana Lorena Avalos\Downloads\Plataforma de servicio San José.jpg"/>
          <p:cNvPicPr/>
          <p:nvPr/>
        </p:nvPicPr>
        <p:blipFill>
          <a:blip r:embed="rId4"/>
          <a:stretch/>
        </p:blipFill>
        <p:spPr>
          <a:xfrm>
            <a:off x="5911920" y="1940040"/>
            <a:ext cx="2560680" cy="19206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9" descr="C:\Users\Ana Lorena Avalos\Downloads\Area de servicios Zona Norte.JPG"/>
          <p:cNvPicPr/>
          <p:nvPr/>
        </p:nvPicPr>
        <p:blipFill>
          <a:blip r:embed="rId5"/>
          <a:stretch/>
        </p:blipFill>
        <p:spPr>
          <a:xfrm>
            <a:off x="5911920" y="4049640"/>
            <a:ext cx="2558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6840" y="1480680"/>
            <a:ext cx="447516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Garamond"/>
              </a:rPr>
              <a:t>Quioscos tributari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55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Garamond"/>
              </a:rPr>
              <a:t>Inscripción electrónic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Garamond"/>
              </a:rPr>
              <a:t>Presentación electrónica de declaraci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Garamond"/>
              </a:rPr>
              <a:t>Pago electrónico de declaraci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Garamond"/>
              </a:rPr>
              <a:t>Consulta del Sistema de Información Tributaria (SIC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2 Título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rcRect l="34621" t="56100" r="45606" b="14432"/>
          <a:stretch/>
        </p:blipFill>
        <p:spPr>
          <a:xfrm>
            <a:off x="7929720" y="142920"/>
            <a:ext cx="996840" cy="1071360"/>
          </a:xfrm>
          <a:prstGeom prst="rect">
            <a:avLst/>
          </a:prstGeom>
          <a:ln w="0">
            <a:noFill/>
          </a:ln>
        </p:spPr>
      </p:pic>
      <p:pic>
        <p:nvPicPr>
          <p:cNvPr id="428" name="8 Imagen" descr="logo final Ministerio de HAcienda-01"/>
          <p:cNvPicPr/>
          <p:nvPr/>
        </p:nvPicPr>
        <p:blipFill>
          <a:blip r:embed="rId3"/>
          <a:stretch/>
        </p:blipFill>
        <p:spPr>
          <a:xfrm>
            <a:off x="7667640" y="5877000"/>
            <a:ext cx="1343160" cy="771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C:\Users\Ana Lorena Avalos\Downloads\Quiosco Puntarenas.jpg"/>
          <p:cNvPicPr/>
          <p:nvPr/>
        </p:nvPicPr>
        <p:blipFill>
          <a:blip r:embed="rId4"/>
          <a:stretch/>
        </p:blipFill>
        <p:spPr>
          <a:xfrm>
            <a:off x="5724360" y="1916280"/>
            <a:ext cx="2592720" cy="1944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C:\Users\Ana Lorena Avalos\Downloads\Quiosco Zona Norte.jpg"/>
          <p:cNvPicPr/>
          <p:nvPr/>
        </p:nvPicPr>
        <p:blipFill>
          <a:blip r:embed="rId5"/>
          <a:stretch/>
        </p:blipFill>
        <p:spPr>
          <a:xfrm>
            <a:off x="5724360" y="4000680"/>
            <a:ext cx="26146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6:27:40Z</dcterms:created>
  <dc:creator>molinavca</dc:creator>
  <dc:description/>
  <dc:language>en-US</dc:language>
  <cp:lastModifiedBy> </cp:lastModifiedBy>
  <dcterms:modified xsi:type="dcterms:W3CDTF">2013-10-18T08:04:52Z</dcterms:modified>
  <cp:revision>238</cp:revision>
  <dc:subject/>
  <dc:title>Diapositiva 1</dc:title>
</cp:coreProperties>
</file>