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5.jpeg" ContentType="image/jpeg"/>
  <Override PartName="/ppt/media/image35.png" ContentType="image/png"/>
  <Override PartName="/ppt/media/image8.png" ContentType="image/png"/>
  <Override PartName="/ppt/media/image13.png" ContentType="image/png"/>
  <Override PartName="/ppt/media/image27.jpeg" ContentType="image/jpeg"/>
  <Override PartName="/ppt/media/image10.png" ContentType="image/png"/>
  <Override PartName="/ppt/media/image4.png" ContentType="image/png"/>
  <Override PartName="/ppt/media/image34.png" ContentType="image/png"/>
  <Override PartName="/ppt/media/image30.jpeg" ContentType="image/jpeg"/>
  <Override PartName="/ppt/media/image15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43C5-CCBE-42FE-A2BF-C515E3FCE33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2948-9633-4E91-AB68-4A8FAC822B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23A-4AC1-481E-ACF1-AF778602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887-266F-4BD7-BED7-9F09DAE0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0939-0F64-47E9-B001-0BF90104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9FF-342C-42BC-81BC-716A0C20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3B66-DF1A-4CB0-91FB-AEB2D5A1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EA97-519C-4289-A301-9E2655E6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6BF0-7035-4729-A1D1-B7875532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ECB6-7B98-4265-9DB7-24C6FD3E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5319-7A6E-4414-9F1E-C6F800B0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A23D-779E-4ECB-9436-130A40DB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E4CF-44D5-4B7B-82A9-8AEDB1A8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1735-1F66-40BF-B672-21C19190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BCE7-B3BA-4F29-BEA2-857F7390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7764-A324-414D-99D1-80A876D9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CAAB-C46D-42C2-A4A4-D537E668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76AB-B04D-45A4-89DF-65351AB8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0F46-7277-48BE-9ECD-2EDBEFD1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909DB-5613-4D9D-AABB-1FACCA63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38A3F-6092-4358-B7F9-A32486F0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03AB3-66BF-4236-9997-C80A305E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4542B-70EB-4F54-9842-75B74F92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DC964-E3DA-4788-AC23-BA4A7552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107-CCCC-481A-8650-3FE87A12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5D5F4-1CEC-4F7F-AAF7-59374FCD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D81A8-6544-427D-85AD-3B1029A1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F793F-F1EA-44A3-AE9F-0DAF8270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581E1-829D-4609-957D-C517AC08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F7305-0D96-4AB9-A566-DF719D7C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8BBEC-5E6E-40E5-9E36-69E49647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6DEED-E9FA-44D8-B0E3-B2671A8E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779BF-B3AC-489C-B827-F19304F2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6F0BC-BB19-4DE7-9F08-87934EF1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FE5F4-AC80-4A88-A39D-83ABF962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29E-64B8-4860-9A1A-C3C26D58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0AF87-BA94-4B23-A6A0-364DB3FA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BD620-9B7E-4253-B16D-245AF6E4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AAA2B-CFAB-4813-94FB-156A2287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4E8B8-7E12-42BE-950D-5D27CE3A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E4372-4583-4730-9F5D-720C3808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28B65-75D8-4485-B524-E8F94CAB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8C5DC-54C8-48AB-AA8F-6B89E1E5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A679E-C220-4C0E-869E-27E89858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0AA55-7F82-4FBE-AEDF-8A270D79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99F21-E048-4B99-9DDC-0F332A7C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447-4FF4-462B-83BE-9725AE5C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60A4E-91F1-4FC7-932A-4D3F7558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0F229-B1B4-4B4D-AD3B-92262DBF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B3839-E5D5-49DD-ABA7-AA955043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EE798-6124-45F0-9910-787724DC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65B74-35A6-49B2-A7DD-3B83412A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D4281-60FF-4555-87A4-CFA02A03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4EDD6-F8DF-4468-B7FE-8C095575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D7AF2-9040-4010-A581-81523CFE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7C793-E6B4-41C3-A8C3-305147DC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12439-EC97-492F-B81E-B9EE0501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038-A37E-4489-856A-DC19D278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44C70-6C91-4F11-81F1-54D0D0CD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39186-13B3-4344-9686-6259FE98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7A2F1-9840-4386-9D90-966668D5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9EAC0-0030-469E-B104-A5736496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C52B7-4F2F-4B7D-A4F3-8C1677AE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9AFAB-1E64-4B0E-BF2A-299CD2FC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C7CB3-0ACF-4AED-9138-D1020EEB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20334-E1C5-4ECA-83BF-21CC56F2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252A9-B14B-4543-B5BA-B12181D4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15AE4-FD51-4BE3-A5D9-C517CD1E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FCC3-9EF2-4FE3-A180-118C0E8D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97D20-3AC6-4190-89B6-DCD89DAC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FB50B-7E34-4DE8-972A-C49CCD7B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2297E-09EF-4128-8EB0-0A93A4A7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162AC-9272-4B4B-99A0-7B1F7A40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F0220-49B2-464A-804B-68F8BC04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97666-3505-42F4-8D57-E093FD65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57CB6-3083-47ED-8366-8AA71F74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516F9-9D68-49C6-8C86-51D71FCB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A371F-A235-4566-8035-FA0F99D9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F72D2-9449-4EA4-8336-9D1E0222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782-11B4-4E57-A51A-91E113D9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31747-7698-4931-BBC7-0743BC83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BE0A7-1DCB-4B2B-A521-D2D73BF4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D6D6A-FF3B-4A26-8480-21B39EED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86CAD-0663-4A55-A6C2-6B12A14F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83268-03C8-4A78-AB29-B6342641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9746A-15A9-4486-A951-40A00A24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536B0-5E15-49D8-857D-D2CB57CE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95844-4E11-4FCE-AC61-A84BCE86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509A7-87DB-4F80-B7BB-EE6C20AF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E61DF-53A0-4E51-A78E-4B5985E3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0B99-4086-48DC-B304-4398BD15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C99CE-001F-4D7F-8FDA-6BD67AFA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0A1B1-DCA3-48C6-8E95-A0E33CD0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E6EDC-1499-433E-9526-D16D6946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35BCF-EAE3-4BD8-9354-1260754C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5EE7D-8AB6-46A1-961A-1830EAE1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FC1B6-A7BF-46D7-A02B-E4764F59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1549C-12D4-4C10-AFBD-17F428C9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D712-4AA4-4EB3-AF98-139E0910C25C}" type="slidenum">
              <a:rPr b="0" lang="es-C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9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6 Forma libre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7 Forma libre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0 Forma libre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10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11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2473-266A-43C2-BAFA-6DBBB31B087C}" type="slidenum">
              <a:rPr b="0" lang="es-C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6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7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E999-2676-44B0-9BAD-94D82E9B1022}" type="slidenum">
              <a:rPr b="0" lang="es-C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3A89-D53E-4CDF-B918-7BDA136B810C}" type="slidenum">
              <a:rPr b="0" lang="es-C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7274-8983-42E0-8715-0B2F7CB51255}" type="slidenum">
              <a:rPr b="0" lang="es-C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7DDB-8144-4E5A-9138-247992A590B7}" type="slidenum">
              <a:rPr b="0" lang="es-C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9D09-90CF-4C8B-AC37-DBB6673FC384}" type="slidenum">
              <a:rPr b="0" lang="es-C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7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8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9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9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0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11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12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36E2-C208-43F5-9E64-037DAED5D8C0}" type="slidenum">
              <a:rPr b="0" lang="es-C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image" Target="../media/image11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499760" y="2214720"/>
            <a:ext cx="6529320" cy="25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464646"/>
                </a:solidFill>
                <a:latin typeface="Lucida Sans Unicode"/>
              </a:rPr>
              <a:t>Núcleos de Asistencia Fisc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3 Imagen" descr="logo-ef-crok-azul-3.gif"/>
          <p:cNvPicPr/>
          <p:nvPr/>
        </p:nvPicPr>
        <p:blipFill>
          <a:blip r:embed="rId1"/>
          <a:stretch/>
        </p:blipFill>
        <p:spPr>
          <a:xfrm>
            <a:off x="7286760" y="357120"/>
            <a:ext cx="1276200" cy="1093680"/>
          </a:xfrm>
          <a:prstGeom prst="rect">
            <a:avLst/>
          </a:prstGeom>
          <a:ln w="0">
            <a:noFill/>
          </a:ln>
        </p:spPr>
      </p:pic>
      <p:pic>
        <p:nvPicPr>
          <p:cNvPr id="379" name="7 Imagen" descr="Logo MEP.png"/>
          <p:cNvPicPr/>
          <p:nvPr/>
        </p:nvPicPr>
        <p:blipFill>
          <a:blip r:embed="rId2"/>
          <a:stretch/>
        </p:blipFill>
        <p:spPr>
          <a:xfrm>
            <a:off x="3059280" y="6000840"/>
            <a:ext cx="792000" cy="668160"/>
          </a:xfrm>
          <a:prstGeom prst="rect">
            <a:avLst/>
          </a:prstGeom>
          <a:ln w="0">
            <a:noFill/>
          </a:ln>
        </p:spPr>
      </p:pic>
      <p:sp>
        <p:nvSpPr>
          <p:cNvPr id="380" name="9 CuadroTexto"/>
          <p:cNvSpPr/>
          <p:nvPr/>
        </p:nvSpPr>
        <p:spPr>
          <a:xfrm>
            <a:off x="4786200" y="6072120"/>
            <a:ext cx="41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Lucida Sans Unicode"/>
              </a:rPr>
              <a:t>Antigua-Guatem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10 Grupo"/>
          <p:cNvGrpSpPr/>
          <p:nvPr/>
        </p:nvGrpSpPr>
        <p:grpSpPr>
          <a:xfrm>
            <a:off x="250920" y="5929200"/>
            <a:ext cx="2665440" cy="747720"/>
            <a:chOff x="250920" y="5929200"/>
            <a:chExt cx="2665440" cy="747720"/>
          </a:xfrm>
        </p:grpSpPr>
        <p:pic>
          <p:nvPicPr>
            <p:cNvPr id="382" name="0 Imagen" descr="Logo EUROsociAL jpg.JPG"/>
            <p:cNvPicPr/>
            <p:nvPr/>
          </p:nvPicPr>
          <p:blipFill>
            <a:blip r:embed="rId3"/>
            <a:stretch/>
          </p:blipFill>
          <p:spPr>
            <a:xfrm>
              <a:off x="250920" y="5929200"/>
              <a:ext cx="84168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1 Imagen" descr="Logo Sector Fiscalidad.bmp"/>
            <p:cNvPicPr/>
            <p:nvPr/>
          </p:nvPicPr>
          <p:blipFill>
            <a:blip r:embed="rId4"/>
            <a:stretch/>
          </p:blipFill>
          <p:spPr>
            <a:xfrm>
              <a:off x="1173600" y="5929200"/>
              <a:ext cx="1742760" cy="747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4" name="10 Imagen" descr="logo final Ministerio de HAcienda-01"/>
          <p:cNvPicPr/>
          <p:nvPr/>
        </p:nvPicPr>
        <p:blipFill>
          <a:blip r:embed="rId5"/>
          <a:stretch/>
        </p:blipFill>
        <p:spPr>
          <a:xfrm>
            <a:off x="539640" y="404640"/>
            <a:ext cx="210528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28760" y="1142640"/>
            <a:ext cx="82152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4646"/>
                </a:solidFill>
                <a:latin typeface="Garamond"/>
              </a:rPr>
              <a:t>Adicionalmente se cuenta con los CE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4646"/>
                </a:solidFill>
                <a:latin typeface="Garamond"/>
              </a:rPr>
              <a:t>Atención de consultas telefónicas. </a:t>
            </a:r>
            <a:r>
              <a:rPr b="0" lang="es-ES" sz="1600" spc="-1" strike="noStrike">
                <a:solidFill>
                  <a:srgbClr val="464646"/>
                </a:solidFill>
                <a:latin typeface="Garamond"/>
              </a:rPr>
              <a:t>http://196.40.56.21:8080/KB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4646"/>
                </a:solidFill>
                <a:latin typeface="Garamond"/>
              </a:rPr>
              <a:t>Atención de consultas escrita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4646"/>
                </a:solidFill>
                <a:latin typeface="Garamond"/>
              </a:rPr>
              <a:t>Tutoriales. </a:t>
            </a:r>
            <a:r>
              <a:rPr b="0" lang="es-ES" sz="1600" spc="-1" strike="noStrike">
                <a:solidFill>
                  <a:srgbClr val="464646"/>
                </a:solidFill>
                <a:latin typeface="Garamond"/>
              </a:rPr>
              <a:t>http://www.youtube.com/watch?v=9ggxIPWmpSk&amp;feature=youtu.b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4646"/>
                </a:solidFill>
                <a:latin typeface="Garamond"/>
              </a:rPr>
              <a:t>Guías </a:t>
            </a:r>
            <a:r>
              <a:rPr b="0" lang="es-ES" sz="1600" spc="-1" strike="noStrike">
                <a:solidFill>
                  <a:srgbClr val="464646"/>
                </a:solidFill>
                <a:latin typeface="Garamond"/>
              </a:rPr>
              <a:t>paso a paso. </a:t>
            </a:r>
            <a:r>
              <a:rPr b="0" lang="es-ES" sz="1600" spc="-1" strike="noStrike">
                <a:solidFill>
                  <a:srgbClr val="2b4a76"/>
                </a:solidFill>
                <a:latin typeface="Garamond"/>
              </a:rPr>
              <a:t>http://www.youtube.com/watch?v=_VVO04W2r54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2 Título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229600" cy="11412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2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34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sp>
        <p:nvSpPr>
          <p:cNvPr id="43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http://www.divorciosporinternet.com/images/stories/consultas-telefonicas.jpg"/>
          <p:cNvPicPr/>
          <p:nvPr/>
        </p:nvPicPr>
        <p:blipFill>
          <a:blip r:embed="rId4"/>
          <a:stretch/>
        </p:blipFill>
        <p:spPr>
          <a:xfrm>
            <a:off x="6715080" y="1571760"/>
            <a:ext cx="16812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Página Web de la DG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Portal de Tributación Direct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Portal de Tributación Digit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Portal de TRIBUNE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55600" algn="just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2 Título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" descr=""/>
          <p:cNvPicPr/>
          <p:nvPr/>
        </p:nvPicPr>
        <p:blipFill>
          <a:blip r:embed="rId2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40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"/>
          <p:cNvPicPr/>
          <p:nvPr/>
        </p:nvPicPr>
        <p:blipFill>
          <a:blip r:embed="rId4"/>
          <a:stretch/>
        </p:blipFill>
        <p:spPr>
          <a:xfrm>
            <a:off x="5000760" y="1928880"/>
            <a:ext cx="3647880" cy="20718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"/>
          <p:cNvPicPr/>
          <p:nvPr/>
        </p:nvPicPr>
        <p:blipFill>
          <a:blip r:embed="rId5"/>
          <a:stretch/>
        </p:blipFill>
        <p:spPr>
          <a:xfrm>
            <a:off x="5143680" y="4714920"/>
            <a:ext cx="175716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"/>
          <p:cNvPicPr/>
          <p:nvPr/>
        </p:nvPicPr>
        <p:blipFill>
          <a:blip r:embed="rId6"/>
          <a:srcRect l="10528" t="5339" r="10528" b="9626"/>
          <a:stretch/>
        </p:blipFill>
        <p:spPr>
          <a:xfrm>
            <a:off x="7215120" y="4357800"/>
            <a:ext cx="1214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481040"/>
            <a:ext cx="82296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Dirección de Grandes Contribuyent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Direcciones Regional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Resto de Contribuyent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55600" algn="just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5" name="2 Título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"/>
          <p:cNvPicPr/>
          <p:nvPr/>
        </p:nvPicPr>
        <p:blipFill>
          <a:blip r:embed="rId2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47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"/>
          <p:cNvPicPr/>
          <p:nvPr/>
        </p:nvPicPr>
        <p:blipFill>
          <a:blip r:embed="rId4"/>
          <a:stretch/>
        </p:blipFill>
        <p:spPr>
          <a:xfrm>
            <a:off x="4357800" y="3571920"/>
            <a:ext cx="4203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Rotación continua del personal de asistenci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Funcionarios hostil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Personal se limita únicamente a realizar el trámit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Falta de uniformidad en las respuestas a las consulta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Mala atención telefónic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32560" algn="just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2 Título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"/>
          <p:cNvPicPr/>
          <p:nvPr/>
        </p:nvPicPr>
        <p:blipFill>
          <a:blip r:embed="rId2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52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"/>
          <p:cNvPicPr/>
          <p:nvPr/>
        </p:nvPicPr>
        <p:blipFill>
          <a:blip r:embed="rId1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386" name="1 Título" descr=""/>
          <p:cNvPicPr/>
          <p:nvPr/>
        </p:nvPicPr>
        <p:blipFill>
          <a:blip r:embed="rId2"/>
          <a:stretch/>
        </p:blipFill>
        <p:spPr>
          <a:xfrm>
            <a:off x="426960" y="401760"/>
            <a:ext cx="8229600" cy="98892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28"/>
          <p:cNvSpPr/>
          <p:nvPr/>
        </p:nvSpPr>
        <p:spPr>
          <a:xfrm>
            <a:off x="285840" y="6429240"/>
            <a:ext cx="23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900" spc="-1" strike="noStrike">
                <a:solidFill>
                  <a:srgbClr val="000000"/>
                </a:solidFill>
                <a:latin typeface="Comic Sans MS"/>
              </a:rPr>
              <a:t>Construyendo el futuro de mi paí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4"/>
          <a:stretch/>
        </p:blipFill>
        <p:spPr>
          <a:xfrm>
            <a:off x="2000160" y="1643040"/>
            <a:ext cx="548496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"/>
          <p:cNvPicPr/>
          <p:nvPr/>
        </p:nvPicPr>
        <p:blipFill>
          <a:blip r:embed="rId1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391" name="1 Título" descr=""/>
          <p:cNvPicPr/>
          <p:nvPr/>
        </p:nvPicPr>
        <p:blipFill>
          <a:blip r:embed="rId2"/>
          <a:stretch/>
        </p:blipFill>
        <p:spPr>
          <a:xfrm>
            <a:off x="426960" y="401760"/>
            <a:ext cx="8229600" cy="98892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28"/>
          <p:cNvSpPr/>
          <p:nvPr/>
        </p:nvSpPr>
        <p:spPr>
          <a:xfrm>
            <a:off x="285840" y="6429240"/>
            <a:ext cx="23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900" spc="-1" strike="noStrike">
                <a:solidFill>
                  <a:srgbClr val="000000"/>
                </a:solidFill>
                <a:latin typeface="Comic Sans MS"/>
              </a:rPr>
              <a:t>Construyendo el futuro de mi paí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394" name="1 Título" descr=""/>
          <p:cNvPicPr/>
          <p:nvPr/>
        </p:nvPicPr>
        <p:blipFill>
          <a:blip r:embed="rId4"/>
          <a:stretch/>
        </p:blipFill>
        <p:spPr>
          <a:xfrm>
            <a:off x="500040" y="1285920"/>
            <a:ext cx="8229600" cy="981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"/>
          <p:cNvPicPr/>
          <p:nvPr/>
        </p:nvPicPr>
        <p:blipFill>
          <a:blip r:embed="rId5"/>
          <a:stretch/>
        </p:blipFill>
        <p:spPr>
          <a:xfrm>
            <a:off x="2143080" y="2571840"/>
            <a:ext cx="50007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3" descr=""/>
          <p:cNvPicPr/>
          <p:nvPr/>
        </p:nvPicPr>
        <p:blipFill>
          <a:blip r:embed="rId1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397" name="1 Título" descr=""/>
          <p:cNvPicPr/>
          <p:nvPr/>
        </p:nvPicPr>
        <p:blipFill>
          <a:blip r:embed="rId2"/>
          <a:stretch/>
        </p:blipFill>
        <p:spPr>
          <a:xfrm>
            <a:off x="426960" y="401760"/>
            <a:ext cx="8229600" cy="9889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28"/>
          <p:cNvSpPr/>
          <p:nvPr/>
        </p:nvSpPr>
        <p:spPr>
          <a:xfrm>
            <a:off x="285840" y="6429240"/>
            <a:ext cx="23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900" spc="-1" strike="noStrike">
                <a:solidFill>
                  <a:srgbClr val="000000"/>
                </a:solidFill>
                <a:latin typeface="Comic Sans MS"/>
              </a:rPr>
              <a:t>Construyendo el futuro de mi paí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4"/>
          <a:stretch/>
        </p:blipFill>
        <p:spPr>
          <a:xfrm>
            <a:off x="1176480" y="1290600"/>
            <a:ext cx="67910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"/>
          <p:cNvPicPr/>
          <p:nvPr/>
        </p:nvPicPr>
        <p:blipFill>
          <a:blip r:embed="rId1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02" name="1 Título" descr=""/>
          <p:cNvPicPr/>
          <p:nvPr/>
        </p:nvPicPr>
        <p:blipFill>
          <a:blip r:embed="rId2"/>
          <a:stretch/>
        </p:blipFill>
        <p:spPr>
          <a:xfrm>
            <a:off x="426960" y="401760"/>
            <a:ext cx="8229600" cy="98892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28"/>
          <p:cNvSpPr/>
          <p:nvPr/>
        </p:nvSpPr>
        <p:spPr>
          <a:xfrm>
            <a:off x="285840" y="6429240"/>
            <a:ext cx="23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900" spc="-1" strike="noStrike">
                <a:solidFill>
                  <a:srgbClr val="000000"/>
                </a:solidFill>
                <a:latin typeface="Comic Sans MS"/>
              </a:rPr>
              <a:t>Construyendo el futuro de mi paí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"/>
          <p:cNvPicPr/>
          <p:nvPr/>
        </p:nvPicPr>
        <p:blipFill>
          <a:blip r:embed="rId4"/>
          <a:stretch/>
        </p:blipFill>
        <p:spPr>
          <a:xfrm>
            <a:off x="1357200" y="1214280"/>
            <a:ext cx="658656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"/>
          <p:cNvPicPr/>
          <p:nvPr/>
        </p:nvPicPr>
        <p:blipFill>
          <a:blip r:embed="rId1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07" name="1 Título" descr=""/>
          <p:cNvPicPr/>
          <p:nvPr/>
        </p:nvPicPr>
        <p:blipFill>
          <a:blip r:embed="rId2"/>
          <a:stretch/>
        </p:blipFill>
        <p:spPr>
          <a:xfrm>
            <a:off x="426960" y="480960"/>
            <a:ext cx="8229600" cy="1408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642600" y="2060640"/>
            <a:ext cx="7929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14160" indent="-226080" algn="just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464646"/>
                </a:solidFill>
                <a:latin typeface="Garamond"/>
              </a:rPr>
              <a:t>Dirección funcion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100" spc="-1" strike="noStrike">
                <a:solidFill>
                  <a:srgbClr val="464646"/>
                </a:solidFill>
                <a:latin typeface="Garamond"/>
              </a:rPr>
              <a:t>Lineamientos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100" spc="-1" strike="noStrike">
                <a:solidFill>
                  <a:srgbClr val="464646"/>
                </a:solidFill>
                <a:latin typeface="Garamond"/>
              </a:rPr>
              <a:t>Directrices           A nivel naciona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100" spc="-1" strike="noStrike">
                <a:solidFill>
                  <a:srgbClr val="464646"/>
                </a:solidFill>
                <a:latin typeface="Garamond"/>
              </a:rPr>
              <a:t>Instrucciones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 algn="just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464646"/>
                </a:solidFill>
                <a:latin typeface="Garamond"/>
              </a:rPr>
              <a:t>Direcciones operativa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31480" indent="-22608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464646"/>
                </a:solidFill>
                <a:latin typeface="Garamond"/>
              </a:rPr>
              <a:t>Administraciones tributarias            atención de contribuyen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Text Box 28"/>
          <p:cNvSpPr/>
          <p:nvPr/>
        </p:nvSpPr>
        <p:spPr>
          <a:xfrm>
            <a:off x="285840" y="6429240"/>
            <a:ext cx="23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900" spc="-1" strike="noStrike">
                <a:solidFill>
                  <a:srgbClr val="000000"/>
                </a:solidFill>
                <a:latin typeface="Comic Sans MS"/>
              </a:rPr>
              <a:t>Construyendo el futuro de mi paí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sp>
        <p:nvSpPr>
          <p:cNvPr id="411" name="8 Cerrar llave"/>
          <p:cNvSpPr/>
          <p:nvPr/>
        </p:nvSpPr>
        <p:spPr>
          <a:xfrm>
            <a:off x="3132000" y="2708280"/>
            <a:ext cx="144720" cy="865080"/>
          </a:xfrm>
          <a:custGeom>
            <a:avLst/>
            <a:gdLst>
              <a:gd name="textAreaLeft" fmla="*/ 0 w 144720"/>
              <a:gd name="textAreaRight" fmla="*/ 52200 w 144720"/>
              <a:gd name="textAreaTop" fmla="*/ 3600 h 865080"/>
              <a:gd name="textAreaBottom" fmla="*/ 86148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1"/>
                  <a:pt x="10800" y="301"/>
                </a:cubicBezTo>
                <a:lnTo>
                  <a:pt x="10800" y="10499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1"/>
                  <a:pt x="10800" y="11101"/>
                </a:cubicBezTo>
                <a:lnTo>
                  <a:pt x="10800" y="21299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gradFill rotWithShape="0">
            <a:gsLst>
              <a:gs pos="0">
                <a:srgbClr val="da1f28"/>
              </a:gs>
              <a:gs pos="100000">
                <a:srgbClr val="dfeff6"/>
              </a:gs>
            </a:gsLst>
            <a:lin ang="16200000"/>
          </a:gradFill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9 Flecha derecha"/>
          <p:cNvSpPr/>
          <p:nvPr/>
        </p:nvSpPr>
        <p:spPr>
          <a:xfrm>
            <a:off x="4859280" y="4724280"/>
            <a:ext cx="433440" cy="46080"/>
          </a:xfrm>
          <a:prstGeom prst="rightArrow">
            <a:avLst>
              <a:gd name="adj1" fmla="val 50000"/>
              <a:gd name="adj2" fmla="val 49949"/>
            </a:avLst>
          </a:prstGeom>
          <a:gradFill rotWithShape="0">
            <a:gsLst>
              <a:gs pos="0">
                <a:srgbClr val="da1f28"/>
              </a:gs>
              <a:gs pos="100000">
                <a:srgbClr val="dfeff6"/>
              </a:gs>
            </a:gsLst>
            <a:lin ang="16200000"/>
          </a:gra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3" descr=""/>
          <p:cNvPicPr/>
          <p:nvPr/>
        </p:nvPicPr>
        <p:blipFill>
          <a:blip r:embed="rId1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14" name="1 Título" descr=""/>
          <p:cNvPicPr/>
          <p:nvPr/>
        </p:nvPicPr>
        <p:blipFill>
          <a:blip r:embed="rId2"/>
          <a:stretch/>
        </p:blipFill>
        <p:spPr>
          <a:xfrm>
            <a:off x="426960" y="549360"/>
            <a:ext cx="8229600" cy="13651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642600" y="1785960"/>
            <a:ext cx="7929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Educación fisc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Información y asistencia al contribuy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- Envió de comunicados a colegios y cámar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- Realización de charlas y taller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- Pantallas interactiv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Administración de cana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spcBef>
                <a:spcPts val="601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spcBef>
                <a:spcPts val="601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Text Box 28"/>
          <p:cNvSpPr/>
          <p:nvPr/>
        </p:nvSpPr>
        <p:spPr>
          <a:xfrm>
            <a:off x="285840" y="6429240"/>
            <a:ext cx="23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900" spc="-1" strike="noStrike">
                <a:solidFill>
                  <a:srgbClr val="000000"/>
                </a:solidFill>
                <a:latin typeface="Comic Sans MS"/>
              </a:rPr>
              <a:t>Construyendo el futuro de mi paí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3" descr=""/>
          <p:cNvPicPr/>
          <p:nvPr/>
        </p:nvPicPr>
        <p:blipFill>
          <a:blip r:embed="rId1"/>
          <a:srcRect l="34621" t="56100" r="45606" b="14432"/>
          <a:stretch/>
        </p:blipFill>
        <p:spPr>
          <a:xfrm>
            <a:off x="8101080" y="5661000"/>
            <a:ext cx="780840" cy="855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610920" y="2021040"/>
            <a:ext cx="4824360" cy="4000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64646"/>
                </a:solidFill>
                <a:latin typeface="Garamond"/>
              </a:rPr>
              <a:t>Ventanilla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46"/>
                </a:solidFill>
                <a:latin typeface="Garamond"/>
              </a:rPr>
              <a:t>Tramites del Ru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46"/>
                </a:solidFill>
                <a:latin typeface="Garamond"/>
              </a:rPr>
              <a:t>Recepción de solicitudes de petició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46"/>
                </a:solidFill>
                <a:latin typeface="Garamond"/>
              </a:rPr>
              <a:t>Atención de consult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46"/>
                </a:solidFill>
                <a:latin typeface="Garamond"/>
              </a:rPr>
              <a:t>Entrega de estados de cuent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46"/>
                </a:solidFill>
                <a:latin typeface="Garamond"/>
              </a:rPr>
              <a:t>Entrega de programas de ayu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46"/>
                </a:solidFill>
                <a:latin typeface="Garamond"/>
              </a:rPr>
              <a:t>Entrega de material divulgativ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46"/>
                </a:solidFill>
                <a:latin typeface="Garamond"/>
              </a:rPr>
              <a:t>Constancias y certificacion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1 Título" descr=""/>
          <p:cNvPicPr/>
          <p:nvPr/>
        </p:nvPicPr>
        <p:blipFill>
          <a:blip r:embed="rId2"/>
          <a:stretch/>
        </p:blipFill>
        <p:spPr>
          <a:xfrm>
            <a:off x="426960" y="480960"/>
            <a:ext cx="8229600" cy="14083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28"/>
          <p:cNvSpPr/>
          <p:nvPr/>
        </p:nvSpPr>
        <p:spPr>
          <a:xfrm>
            <a:off x="214200" y="6429240"/>
            <a:ext cx="235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900" spc="-1" strike="noStrike">
                <a:solidFill>
                  <a:srgbClr val="000000"/>
                </a:solidFill>
                <a:latin typeface="Comic Sans MS"/>
              </a:rPr>
              <a:t>Construyendo el futuro de mi paí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7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800840" y="189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8" descr="C:\Users\Ana Lorena Avalos\Downloads\Plataforma de servicio San José.jpg"/>
          <p:cNvPicPr/>
          <p:nvPr/>
        </p:nvPicPr>
        <p:blipFill>
          <a:blip r:embed="rId4"/>
          <a:stretch/>
        </p:blipFill>
        <p:spPr>
          <a:xfrm>
            <a:off x="5911920" y="1940040"/>
            <a:ext cx="2560680" cy="19206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9" descr="C:\Users\Ana Lorena Avalos\Downloads\Area de servicios Zona Norte.JPG"/>
          <p:cNvPicPr/>
          <p:nvPr/>
        </p:nvPicPr>
        <p:blipFill>
          <a:blip r:embed="rId5"/>
          <a:stretch/>
        </p:blipFill>
        <p:spPr>
          <a:xfrm>
            <a:off x="5911920" y="4049640"/>
            <a:ext cx="2558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6840" y="1480680"/>
            <a:ext cx="447516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Quioscos tributari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55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Garamond"/>
              </a:rPr>
              <a:t>Inscripción electrónic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Garamond"/>
              </a:rPr>
              <a:t>Presentación electrónica de declaraci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Garamond"/>
              </a:rPr>
              <a:t>Pago electrónico de declaraci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Garamond"/>
              </a:rPr>
              <a:t>Consulta del Sistema de Información Tributaria (SIC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2 Título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"/>
          <p:cNvPicPr/>
          <p:nvPr/>
        </p:nvPicPr>
        <p:blipFill>
          <a:blip r:embed="rId2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28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C:\Users\Ana Lorena Avalos\Downloads\Quiosco Puntarenas.jpg"/>
          <p:cNvPicPr/>
          <p:nvPr/>
        </p:nvPicPr>
        <p:blipFill>
          <a:blip r:embed="rId4"/>
          <a:stretch/>
        </p:blipFill>
        <p:spPr>
          <a:xfrm>
            <a:off x="5724360" y="1916280"/>
            <a:ext cx="2592720" cy="19443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C:\Users\Ana Lorena Avalos\Downloads\Quiosco Zona Norte.jpg"/>
          <p:cNvPicPr/>
          <p:nvPr/>
        </p:nvPicPr>
        <p:blipFill>
          <a:blip r:embed="rId5"/>
          <a:stretch/>
        </p:blipFill>
        <p:spPr>
          <a:xfrm>
            <a:off x="5724360" y="4000680"/>
            <a:ext cx="26146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6:27:40Z</dcterms:created>
  <dc:creator>molinavca</dc:creator>
  <dc:description/>
  <dc:language>en-US</dc:language>
  <cp:lastModifiedBy> </cp:lastModifiedBy>
  <dcterms:modified xsi:type="dcterms:W3CDTF">2013-10-18T08:04:52Z</dcterms:modified>
  <cp:revision>238</cp:revision>
  <dc:subject/>
  <dc:title>Diapositiva 1</dc:title>
</cp:coreProperties>
</file>